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64E2-9313-4087-A32F-0871F5677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F688-51AF-4977-9D93-05797981C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846C-4F96-4732-8FF5-214FC167A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5E5B-8A4C-4BED-80FA-B1F0D8D05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861-2AEF-4D5B-95B5-8C91290F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F18-F420-49B1-849B-153DC56D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720-063D-4FDD-AB0B-452574B3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694-E8E6-4BB5-BB3E-0CBD1B80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6AE-75B5-438E-BC4E-5FAC8E95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20D-FDCB-443A-80C3-9C0119EB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8E2-A228-43D6-85A4-704D176B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94C-72AB-488E-A934-98BC3917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456-D403-4041-B0D8-C5891371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9FB-DE08-4F5B-9034-3797145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556-D75B-4B54-91F1-15134147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179-9B59-435A-8DB0-1229DC06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10DF-C5C9-426A-9CA5-C6F46B5360D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DE3D-ED90-4005-8BD1-D86DCA04C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7.xml"/><Relationship Id="rId11" Type="http://schemas.openxmlformats.org/officeDocument/2006/relationships/slide" Target="slide15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6.xml"/><Relationship Id="rId21" Type="http://schemas.openxmlformats.org/officeDocument/2006/relationships/slide" Target="slide28.xml"/><Relationship Id="rId22" Type="http://schemas.openxmlformats.org/officeDocument/2006/relationships/slide" Target="slide30.xml"/><Relationship Id="rId23" Type="http://schemas.openxmlformats.org/officeDocument/2006/relationships/slide" Target="slide32.xml"/><Relationship Id="rId24" Type="http://schemas.openxmlformats.org/officeDocument/2006/relationships/slide" Target="slide33.xml"/><Relationship Id="rId25" Type="http://schemas.openxmlformats.org/officeDocument/2006/relationships/slide" Target="slide35.xml"/><Relationship Id="rId26" Type="http://schemas.openxmlformats.org/officeDocument/2006/relationships/slide" Target="slide36.xml"/><Relationship Id="rId27" Type="http://schemas.openxmlformats.org/officeDocument/2006/relationships/slide" Target="slide37.xml"/><Relationship Id="rId28" Type="http://schemas.openxmlformats.org/officeDocument/2006/relationships/slide" Target="slide38.xml"/><Relationship Id="rId29" Type="http://schemas.openxmlformats.org/officeDocument/2006/relationships/slide" Target="slide39.xml"/><Relationship Id="rId30" Type="http://schemas.openxmlformats.org/officeDocument/2006/relationships/slide" Target="slide40.xml"/><Relationship Id="rId31" Type="http://schemas.openxmlformats.org/officeDocument/2006/relationships/slide" Target="slide41.xml"/><Relationship Id="rId32" Type="http://schemas.openxmlformats.org/officeDocument/2006/relationships/slide" Target="slide42.xml"/><Relationship Id="rId33" Type="http://schemas.openxmlformats.org/officeDocument/2006/relationships/slide" Target="slide43.xml"/><Relationship Id="rId34" Type="http://schemas.openxmlformats.org/officeDocument/2006/relationships/slide" Target="slide45.xml"/><Relationship Id="rId35" Type="http://schemas.openxmlformats.org/officeDocument/2006/relationships/slide" Target="slide44.xml"/><Relationship Id="rId36" Type="http://schemas.openxmlformats.org/officeDocument/2006/relationships/slide" Target="slide46.xml"/><Relationship Id="rId37" Type="http://schemas.openxmlformats.org/officeDocument/2006/relationships/slide" Target="slide47.xml"/><Relationship Id="rId38" Type="http://schemas.openxmlformats.org/officeDocument/2006/relationships/slide" Target="slide48.xml"/><Relationship Id="rId39" Type="http://schemas.openxmlformats.org/officeDocument/2006/relationships/slide" Target="slide49.xml"/><Relationship Id="rId40" Type="http://schemas.openxmlformats.org/officeDocument/2006/relationships/slide" Target="slide50.xml"/><Relationship Id="rId41" Type="http://schemas.openxmlformats.org/officeDocument/2006/relationships/slide" Target="slide51.xml"/><Relationship Id="rId42" Type="http://schemas.openxmlformats.org/officeDocument/2006/relationships/slide" Target="slide53.xml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D140-FD14-4410-97E1-DA55FED2EAF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49" name="Picture 4" descr="портрет Ломоносова"/>
          <p:cNvPicPr/>
          <p:nvPr/>
        </p:nvPicPr>
        <p:blipFill>
          <a:blip r:embed="rId1"/>
          <a:stretch/>
        </p:blipFill>
        <p:spPr>
          <a:xfrm>
            <a:off x="0" y="189000"/>
            <a:ext cx="4857840" cy="58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MCj02900630000[1]"/>
          <p:cNvPicPr/>
          <p:nvPr/>
        </p:nvPicPr>
        <p:blipFill>
          <a:blip r:embed="rId2"/>
          <a:stretch/>
        </p:blipFill>
        <p:spPr>
          <a:xfrm>
            <a:off x="7061040" y="4194000"/>
            <a:ext cx="2082960" cy="2664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239720" y="765000"/>
            <a:ext cx="473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Юбилею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М.В.Ломоносова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посвящается …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786040" y="607212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empus Sans ITC"/>
              </a:rPr>
              <a:t>Подготовил  Канаев Семен Иванович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empus Sans ITC"/>
              </a:rPr>
              <a:t>МОУ ДХСОШ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9B1-7772-4CEF-9572-C50ECC5FA7C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84360" y="476280"/>
            <a:ext cx="7343640" cy="60256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ой  остров  холмогорской  дельты  считается  родиной  Ломоносова</a:t>
            </a: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9BF6-236F-46CC-A780-138A2523BF3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6" name="Picture 5" descr="slide0003_image008"/>
          <p:cNvPicPr/>
          <p:nvPr/>
        </p:nvPicPr>
        <p:blipFill>
          <a:blip r:embed="rId1"/>
          <a:stretch/>
        </p:blipFill>
        <p:spPr>
          <a:xfrm>
            <a:off x="179280" y="511200"/>
            <a:ext cx="8642520" cy="5565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1289160" y="544500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Деревня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ишанинская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Архангельской области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8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A466-3762-4F2E-8539-3240D24F37B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95280" y="285840"/>
            <a:ext cx="8424720" cy="5878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На берегу какой реки родился и вырос Михайло Ломоносов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3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8CC0-ACBD-479A-8A5C-64FFABBB403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260280"/>
            <a:ext cx="8569080" cy="48772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В 1765  году,  4  апреля  скончался  М.В. Ломоносов, где он был похоронен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9EBB-CAA1-4D34-A9C6-29F355BDBC7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35" name="Picture 4" descr="могила Ломоносова в Алекс"/>
          <p:cNvPicPr/>
          <p:nvPr/>
        </p:nvPicPr>
        <p:blipFill>
          <a:blip r:embed="rId1"/>
          <a:stretch/>
        </p:blipFill>
        <p:spPr>
          <a:xfrm>
            <a:off x="1979640" y="0"/>
            <a:ext cx="5111640" cy="666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0919-FEE6-45BB-A949-A75EEABFB2F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50920" y="620640"/>
            <a:ext cx="8640720" cy="5644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колько  лет  было  Ломоносову,  когда он  отправился  за  рыбным  обозом  учиться  в  Москву</a:t>
            </a: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Picture 11" descr="в москву"/>
          <p:cNvPicPr/>
          <p:nvPr/>
        </p:nvPicPr>
        <p:blipFill>
          <a:blip r:embed="rId3"/>
          <a:stretch/>
        </p:blipFill>
        <p:spPr>
          <a:xfrm>
            <a:off x="539640" y="189000"/>
            <a:ext cx="4032360" cy="5616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41" name="Picture 6" descr="путь в москву"/>
          <p:cNvPicPr/>
          <p:nvPr/>
        </p:nvPicPr>
        <p:blipFill>
          <a:blip r:embed="rId4"/>
          <a:stretch/>
        </p:blipFill>
        <p:spPr>
          <a:xfrm>
            <a:off x="4745160" y="189000"/>
            <a:ext cx="4217760" cy="5616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2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32DA-E65F-4524-91B1-B0EA57AD3F0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A7A6-C35C-4D60-AE3B-1CEFD3145EF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71640" y="981000"/>
            <a:ext cx="7343640" cy="56448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 -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ой  язык  во  времена  М.В.Ломоносова  считался  международным?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45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059C-10A3-4FD4-846D-31ACD260CE7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2920" y="115920"/>
            <a:ext cx="8820000" cy="45270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Сколько   языков  знал  Ломоносов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48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813F-ADCD-4077-806A-5BDF3A6B5EA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15920"/>
            <a:ext cx="7343640" cy="59587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Назовите императоров и императриц, которые возглавляли трон России в  период  жизни  Ломоносова.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5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воя игра загл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56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EEBC-444D-4A13-ADC4-1FA752A5300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F80B-CB44-49BB-AF01-845685944B1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0040"/>
            <a:ext cx="9144000" cy="47260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 - 5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Перечислите  почетные  звания  Ломоносова-ученого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5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8D45-958A-49EB-AFAA-A73DF729750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8360" y="907920"/>
            <a:ext cx="8353440" cy="41461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ое  древнее  искусство  возродил  Ломоносов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Рабочий  стол 007"/>
          <p:cNvPicPr/>
          <p:nvPr/>
        </p:nvPicPr>
        <p:blipFill>
          <a:blip r:embed="rId1"/>
          <a:stretch/>
        </p:blipFill>
        <p:spPr>
          <a:xfrm>
            <a:off x="4067280" y="333360"/>
            <a:ext cx="4662360" cy="58579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59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190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Picture 8" descr="спас2"/>
          <p:cNvPicPr/>
          <p:nvPr/>
        </p:nvPicPr>
        <p:blipFill>
          <a:blip r:embed="rId4"/>
          <a:stretch/>
        </p:blipFill>
        <p:spPr>
          <a:xfrm rot="21148200">
            <a:off x="468360" y="836640"/>
            <a:ext cx="3276720" cy="460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6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8AB9-0C15-4248-91EC-09F53B35D3E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1E10-2B2E-44DA-815C-92CF138AA79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4000" y="345960"/>
            <a:ext cx="8028000" cy="65206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Благодаря  своим  изобретениям  Ломоносов  стал помещиком  и фабрикантом.  Какую  фабрику  открыл  Ломоносов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6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64B1-BD3F-4F8F-B1B4-46372AE0AB1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348000" y="189000"/>
            <a:ext cx="5616720" cy="59706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 … -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В  какой  европейской  стране  Михаил  Васильевич   Ломоносов   закончил  «свои  университеты»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6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8" name="Picture 11" descr="slide0012_image024"/>
          <p:cNvPicPr/>
          <p:nvPr/>
        </p:nvPicPr>
        <p:blipFill>
          <a:blip r:embed="rId3"/>
          <a:stretch/>
        </p:blipFill>
        <p:spPr>
          <a:xfrm rot="21235800">
            <a:off x="323640" y="463320"/>
            <a:ext cx="30938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283B-E5ED-4A11-B5DB-339EA9B5E97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79280" y="260280"/>
            <a:ext cx="8785440" cy="55080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В  какой  армии   Михайло  Ломоносов  некоторое  время   был  солдатом</a:t>
            </a: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5426-0EB8-42C7-B44A-C905B7DBACD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24000" y="692280"/>
            <a:ext cx="8208720" cy="5608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 -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Чем, считал исследователь, можно отвратить электрическую грозовую силу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8B2-1866-4611-88CB-F657629FB4B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5280" y="549360"/>
            <a:ext cx="8280360" cy="55292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-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Ломоносов утверждал, что тела состоят из атомов и  корпускул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Как  сейчас называются эти частицы</a:t>
            </a:r>
            <a:r>
              <a:rPr b="1" i="1" lang="ru-RU" sz="44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9CA9-3E14-45B8-A77B-284E65BFFF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9640" y="260280"/>
            <a:ext cx="8425080" cy="56786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Какое  открытие  в  области  астрономии  сделал  Ломоносов,  наблюдая  прохождение  Венеры  по  диску  Солнца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2733-2924-47C2-821C-089768D6FCC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81" name="Picture 6" descr="lomonosov"/>
          <p:cNvPicPr/>
          <p:nvPr/>
        </p:nvPicPr>
        <p:blipFill>
          <a:blip r:embed="rId1"/>
          <a:stretch/>
        </p:blipFill>
        <p:spPr>
          <a:xfrm>
            <a:off x="1692360" y="0"/>
            <a:ext cx="482436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82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3463-D432-4341-A74F-F2E3065485E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4000" y="1700280"/>
            <a:ext cx="20160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24000" y="2637000"/>
            <a:ext cx="2016000" cy="7038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Это интересно…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50920" y="3429000"/>
            <a:ext cx="2124000" cy="862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Ломоносов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учёный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08000" y="4724280"/>
            <a:ext cx="22669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фористика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5661000"/>
            <a:ext cx="2087640" cy="3988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азное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27672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55600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99564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71636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43564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615636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687708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759636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831708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327672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255600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399564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471636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543564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615636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687708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9636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831708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20508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248436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392436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464508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536400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608472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680544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52472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824544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0" name="Text Box 41"/>
          <p:cNvSpPr/>
          <p:nvPr/>
        </p:nvSpPr>
        <p:spPr>
          <a:xfrm>
            <a:off x="392436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464508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2" name="Text Box 44"/>
          <p:cNvSpPr/>
          <p:nvPr/>
        </p:nvSpPr>
        <p:spPr>
          <a:xfrm>
            <a:off x="608472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680544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4" name="Text Box 46"/>
          <p:cNvSpPr/>
          <p:nvPr/>
        </p:nvSpPr>
        <p:spPr>
          <a:xfrm>
            <a:off x="752472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5" name="Text Box 47"/>
          <p:cNvSpPr/>
          <p:nvPr/>
        </p:nvSpPr>
        <p:spPr>
          <a:xfrm>
            <a:off x="824544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6" name="Text Box 48"/>
          <p:cNvSpPr/>
          <p:nvPr/>
        </p:nvSpPr>
        <p:spPr>
          <a:xfrm>
            <a:off x="320508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7" name="Text Box 49"/>
          <p:cNvSpPr/>
          <p:nvPr/>
        </p:nvSpPr>
        <p:spPr>
          <a:xfrm>
            <a:off x="248436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8" name="Text Box 50"/>
          <p:cNvSpPr/>
          <p:nvPr/>
        </p:nvSpPr>
        <p:spPr>
          <a:xfrm>
            <a:off x="392436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464508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536400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1" name="Text Box 53"/>
          <p:cNvSpPr/>
          <p:nvPr/>
        </p:nvSpPr>
        <p:spPr>
          <a:xfrm>
            <a:off x="608472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2" name="Text Box 54"/>
          <p:cNvSpPr/>
          <p:nvPr/>
        </p:nvSpPr>
        <p:spPr>
          <a:xfrm>
            <a:off x="680544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752472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4" name="Text Box 56"/>
          <p:cNvSpPr/>
          <p:nvPr/>
        </p:nvSpPr>
        <p:spPr>
          <a:xfrm>
            <a:off x="824544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BA1D-5646-4CC7-8817-4A155D378F5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68360" y="692280"/>
            <a:ext cx="8280360" cy="54205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–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Формулируя важнейший  закон  природы,  Ломоносов дал ему образное сравнение: «Сколько часов я затрачиваю на сон, столько же отнимаю у бодрствования». О каком законе идёт речь?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2930-8C22-4FCB-9574-27218CAED12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 сохранения массы веще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456000" cy="424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1006560" cy="134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4211640" y="4005360"/>
            <a:ext cx="973080" cy="1417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13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139392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14"/>
          <p:cNvSpPr/>
          <p:nvPr/>
        </p:nvSpPr>
        <p:spPr>
          <a:xfrm>
            <a:off x="0" y="13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4106880"/>
          <a:ext cx="2080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21"/>
          <p:cNvSpPr/>
          <p:nvPr/>
        </p:nvSpPr>
        <p:spPr>
          <a:xfrm>
            <a:off x="1800" y="4701240"/>
            <a:ext cx="183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0" lang="en-US" sz="1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95" name="Picture 22" descr=""/>
          <p:cNvPicPr/>
          <p:nvPr/>
        </p:nvPicPr>
        <p:blipFill>
          <a:blip r:embed="rId4"/>
          <a:stretch/>
        </p:blipFill>
        <p:spPr>
          <a:xfrm>
            <a:off x="324000" y="1700280"/>
            <a:ext cx="3367080" cy="419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4486-8739-4231-A227-FCE543B7B4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9640" y="189000"/>
            <a:ext cx="8280360" cy="58503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5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«Колумбы  русские,  презрев  угрюмый  рок,  меж  льдами  новый  путь  отворят  на  восток».  Какому  плану  посвящены  эти  строки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9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65FD-ABBD-4C9C-AA85-09B3869A9AD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928800" y="142920"/>
            <a:ext cx="7343640" cy="61714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О какой отрасли знаний М.В.Ломоносов сказал: "Почитаю за высшую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тепень человеческого познания…"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0F7-6A31-4A87-BF80-F871A96B4B3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03" name="Picture 4" descr="кабинет химика Ломон"/>
          <p:cNvPicPr/>
          <p:nvPr/>
        </p:nvPicPr>
        <p:blipFill>
          <a:blip r:embed="rId1"/>
          <a:stretch/>
        </p:blipFill>
        <p:spPr>
          <a:xfrm>
            <a:off x="1835280" y="0"/>
            <a:ext cx="590544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4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BD32-C007-4F7D-A967-D52C68BDCB2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85840" y="357120"/>
            <a:ext cx="8358120" cy="55519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Ломоносов дал определение металлам "Светлые тела, которые ковать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можно".  Какие  свойства  металлов  выделил  ученый,  и  какие  еще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войства  можно  назвать?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0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D98-CDF6-4E6D-AEBA-A9141ECF029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95280" y="476280"/>
            <a:ext cx="8424720" cy="58503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Во  время  совместных  опытов  по  изучению  атмосферных  явлений  погиб  профессор  Рихман. Что  изучал  в  это  время  Ломоносов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10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845E-468C-4484-B681-5E50B432A80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1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3" name="Picture 4" descr="350x280"/>
          <p:cNvPicPr/>
          <p:nvPr/>
        </p:nvPicPr>
        <p:blipFill>
          <a:blip r:embed="rId3"/>
          <a:stretch/>
        </p:blipFill>
        <p:spPr>
          <a:xfrm rot="369000">
            <a:off x="5506560" y="1277640"/>
            <a:ext cx="3384720" cy="39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Прямоугольник 6"/>
          <p:cNvSpPr/>
          <p:nvPr/>
        </p:nvSpPr>
        <p:spPr>
          <a:xfrm>
            <a:off x="0" y="357120"/>
            <a:ext cx="5286240" cy="4767480"/>
          </a:xfrm>
          <a:prstGeom prst="rect">
            <a:avLst/>
          </a:prstGeom>
          <a:solidFill>
            <a:srgbClr val="2f2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Какие приборы изобрел Ломоносов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673D-43FC-4132-832F-AEFEE72A5B4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24000" y="476280"/>
            <a:ext cx="8424720" cy="51422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"Истинный  химик  должен  быть  теоретиком  и …"  </a:t>
            </a: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1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F450-0701-46D7-BC38-51876A5FFCE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68360" y="260280"/>
            <a:ext cx="8351640" cy="45745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-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"Один … я  ставлю  выше,  чем  тысячу  мнений,  рожденных  только 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воображением" 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0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D45E-7347-4AF3-A7AC-C82156E12A8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76280"/>
            <a:ext cx="8280360" cy="4527000"/>
          </a:xfrm>
          <a:prstGeom prst="rect">
            <a:avLst/>
          </a:prstGeom>
          <a:solidFill>
            <a:srgbClr val="2f2fff">
              <a:alpha val="81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–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 звали родителей Ломоносова</a:t>
            </a: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07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18D2-B4A8-4910-A904-B8F3F28B17F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395280" y="333360"/>
            <a:ext cx="8461440" cy="35902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–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"Слеп физик без …, сухорук без химии"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CF5F-917F-468B-8A8A-B93331C4F43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0" y="333360"/>
            <a:ext cx="9144000" cy="51800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-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"Я  не  признаю  никакого  измышления  и  никакой  гипотезы,  какой  бы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вероятной она ни казалась, без точных …"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6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3AFE-E1BC-450F-BDDC-7A0FEA8EA29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50920" y="189000"/>
            <a:ext cx="8424720" cy="44964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–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"…  замечать  не  многого  стоит;  дать  нечто  лучшее – вот  что приличествует достойному человеку"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009C-8AD8-4FCC-A317-B36E58F8DF5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95280" y="260280"/>
            <a:ext cx="8280360" cy="47167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–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"…  поверхность  ныне  совсем  иной  вид  имеет,  нежели  какова  был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издревле"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F98A-71E3-4251-B6DF-FFAFDCC4898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95280" y="333360"/>
            <a:ext cx="8569440" cy="56030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–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Изобретя русскую мозаику, Ломоносов создал грандиозное мозаичное полотно, посвящённое победе Петра I над иноземными захватчиками. Какую битву изображает эта картина и как она называется?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CEAE-3E6C-49E6-B04B-0651BCAA076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08000" y="115920"/>
            <a:ext cx="8928000" cy="59997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 -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Где  в  Архангельске  стоит  памятник  Ломоносову,  выполненный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кульптором  Иваном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Мартосом  на   всенародно  собранные  средства.(1832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г.)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9" name="Picture 4" descr="Картинка 4 из 1808"/>
          <p:cNvPicPr/>
          <p:nvPr/>
        </p:nvPicPr>
        <p:blipFill>
          <a:blip r:embed="rId2"/>
          <a:stretch/>
        </p:blipFill>
        <p:spPr>
          <a:xfrm rot="270000">
            <a:off x="7164360" y="1267920"/>
            <a:ext cx="1720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AB01-A7AE-4EB1-B164-49EA3849275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214200" y="285840"/>
            <a:ext cx="8352000" cy="46090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Как геологи увековечили память о Ломоносове?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EC75-04AC-487B-813F-BE326B435D2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42920" y="285840"/>
            <a:ext cx="8677080" cy="79977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 -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О какой букве русского алфавита Ломоносов шутливо сказал, что она стоит «подпершись» и выглядит бодрее, чем ее тезка, которая не нужна русской речи, как и другая буква, — «немой место занял, подобно как пятое колесо»? Назовите эти буквы.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264F-917A-4D5F-901C-955A3027051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0" y="0"/>
            <a:ext cx="8786880" cy="7192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зное  - 500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ого поэт приветствовал следующими словами: «Науки, ныне торжествуйте: Взошла Минерва на престол»? И кто такая Минерва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77DA-3E64-42EB-BCC3-D40CBC41E3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0" y="333360"/>
            <a:ext cx="8643960" cy="59112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–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У каких наук призывал учиться Ломоносов, став профессором химии: «через ... вымеривать, через ... развешивать и через ... высматривать»?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7740720" y="6308640"/>
            <a:ext cx="79200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Rectangle 9"/>
          <p:cNvSpPr/>
          <p:nvPr/>
        </p:nvSpPr>
        <p:spPr>
          <a:xfrm>
            <a:off x="684360" y="1989000"/>
            <a:ext cx="45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2B3A-BC25-4208-BD93-C1AB06A3014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28760" y="214200"/>
            <a:ext cx="8423280" cy="50698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–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Кто  был  первым  учителем  Ломоносова? </a:t>
            </a: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0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4806-A42A-46F4-884C-FCC98FE1FE6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50920" y="333360"/>
            <a:ext cx="8642160" cy="63615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 -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Н. В. Гоголь сказал о Ломоносове: «Сила восторга превратила натуралиста в ...». В кого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F6DE-1DF5-428B-BB07-2906B483F27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24000" y="115920"/>
            <a:ext cx="8496000" cy="69379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-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Любимое детище Ломоносова,  ставшее всемирно  известным   памятником  великому  русскому учёному –поборнику  российского  просвещения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17F4-E80A-4AB5-868F-DB235F2654D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03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7FF2-4848-4C88-BBDB-A414DD2426F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9280" y="333360"/>
            <a:ext cx="5329440" cy="59706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–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Кому  и  за  какие  заслуги  присуждается  высшая  награда  РАН – золотая  медаль  им  М.В.Ломоносова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4" name="Picture 7" descr="Рабочий  стол 022"/>
          <p:cNvPicPr/>
          <p:nvPr/>
        </p:nvPicPr>
        <p:blipFill>
          <a:blip r:embed="rId2"/>
          <a:stretch/>
        </p:blipFill>
        <p:spPr>
          <a:xfrm rot="286800">
            <a:off x="5651640" y="836280"/>
            <a:ext cx="32162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omonosov.aonb.ru/assets/files/starh.pdf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arhcity.ru/data/632/Lomonosov%20ch1.pdf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sl.ru/datadocs/doc_4677je.pdf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6FC-A00B-40A0-A2D4-7F59E083973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214308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empus Sans ITC"/>
              </a:rPr>
              <a:t>Подготовил  Канаев Семен Иванович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empus Sans ITC"/>
              </a:rPr>
              <a:t>МОУ ДХСОШ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CF56-782C-424C-B534-B1837C46656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68360" y="333360"/>
            <a:ext cx="8136000" cy="31690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–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Где  и  когда  родился  М.В.Ломоносов?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F84A-FA26-4BC8-B422-82B546CE17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571680"/>
            <a:ext cx="8713800" cy="52581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ие   книги  Ломоносов называл «вратами своей учёности».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6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EC3A-7004-47C9-8459-7938822DF7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24000" y="214200"/>
            <a:ext cx="8496000" cy="51519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5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колько  лет  было  Ломоносову,  когда  ему  присвоили  звание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профессора?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D883-BD1C-4CDF-BE29-7698D7936E5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24000" y="285840"/>
            <a:ext cx="8964360" cy="48772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Почему Ломоносова не хотели принимать в Славяно-греко-латинскую академию</a:t>
            </a: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7:22:21Z</dcterms:created>
  <dc:creator>Канаев</dc:creator>
  <dc:description/>
  <dc:language>en-US</dc:language>
  <cp:lastModifiedBy>Николай</cp:lastModifiedBy>
  <dcterms:modified xsi:type="dcterms:W3CDTF">2013-08-01T11:14:18Z</dcterms:modified>
  <cp:revision>93</cp:revision>
  <dc:subject/>
  <dc:title>Слайд 1</dc:title>
</cp:coreProperties>
</file>