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975A-F7C0-46DA-9998-5011A6628A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3EC2-DA57-453E-AFE9-6A6927A6D2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4152-C7B7-4DFB-92BC-C05BE4FCB0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EB03-C682-4855-B04E-423B973A2A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056-D326-45F1-98D9-96BC12CC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058-2903-421C-9561-012094CE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4BC-84F2-4D10-8468-CA1287BF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5AD-F341-4F74-9620-C775ED51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A24-DE63-4015-BE5E-104E9F99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A27-F34B-4624-BF84-3A03EFC3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008-1CFC-4C4F-B999-97599229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019-E6BB-4D50-A173-5F37FEBE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744-3B12-480E-9E6F-AB3F0E6E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D11-44E8-4184-A6D9-0D0FF0DF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ACE-99BB-4B9D-8C08-15C5D37B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AEB-67A1-42E8-8F4B-2A947314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D2FD-0DC4-4B2D-9A7C-15311E0FF96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6BFC-A182-44EE-95BE-233716F69B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7.xml"/><Relationship Id="rId11" Type="http://schemas.openxmlformats.org/officeDocument/2006/relationships/slide" Target="slide15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7.xml"/><Relationship Id="rId20" Type="http://schemas.openxmlformats.org/officeDocument/2006/relationships/slide" Target="slide26.xml"/><Relationship Id="rId21" Type="http://schemas.openxmlformats.org/officeDocument/2006/relationships/slide" Target="slide28.xml"/><Relationship Id="rId22" Type="http://schemas.openxmlformats.org/officeDocument/2006/relationships/slide" Target="slide30.xml"/><Relationship Id="rId23" Type="http://schemas.openxmlformats.org/officeDocument/2006/relationships/slide" Target="slide32.xml"/><Relationship Id="rId24" Type="http://schemas.openxmlformats.org/officeDocument/2006/relationships/slide" Target="slide33.xml"/><Relationship Id="rId25" Type="http://schemas.openxmlformats.org/officeDocument/2006/relationships/slide" Target="slide35.xml"/><Relationship Id="rId26" Type="http://schemas.openxmlformats.org/officeDocument/2006/relationships/slide" Target="slide36.xml"/><Relationship Id="rId27" Type="http://schemas.openxmlformats.org/officeDocument/2006/relationships/slide" Target="slide37.xml"/><Relationship Id="rId28" Type="http://schemas.openxmlformats.org/officeDocument/2006/relationships/slide" Target="slide38.xml"/><Relationship Id="rId29" Type="http://schemas.openxmlformats.org/officeDocument/2006/relationships/slide" Target="slide39.xml"/><Relationship Id="rId30" Type="http://schemas.openxmlformats.org/officeDocument/2006/relationships/slide" Target="slide40.xml"/><Relationship Id="rId31" Type="http://schemas.openxmlformats.org/officeDocument/2006/relationships/slide" Target="slide41.xml"/><Relationship Id="rId32" Type="http://schemas.openxmlformats.org/officeDocument/2006/relationships/slide" Target="slide42.xml"/><Relationship Id="rId33" Type="http://schemas.openxmlformats.org/officeDocument/2006/relationships/slide" Target="slide43.xml"/><Relationship Id="rId34" Type="http://schemas.openxmlformats.org/officeDocument/2006/relationships/slide" Target="slide45.xml"/><Relationship Id="rId35" Type="http://schemas.openxmlformats.org/officeDocument/2006/relationships/slide" Target="slide44.xml"/><Relationship Id="rId36" Type="http://schemas.openxmlformats.org/officeDocument/2006/relationships/slide" Target="slide46.xml"/><Relationship Id="rId37" Type="http://schemas.openxmlformats.org/officeDocument/2006/relationships/slide" Target="slide47.xml"/><Relationship Id="rId38" Type="http://schemas.openxmlformats.org/officeDocument/2006/relationships/slide" Target="slide48.xml"/><Relationship Id="rId39" Type="http://schemas.openxmlformats.org/officeDocument/2006/relationships/slide" Target="slide49.xml"/><Relationship Id="rId40" Type="http://schemas.openxmlformats.org/officeDocument/2006/relationships/slide" Target="slide50.xml"/><Relationship Id="rId41" Type="http://schemas.openxmlformats.org/officeDocument/2006/relationships/slide" Target="slide51.xml"/><Relationship Id="rId42" Type="http://schemas.openxmlformats.org/officeDocument/2006/relationships/slide" Target="slide53.xml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" Target="slide3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494B-41AC-4ECC-B415-779582A9935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49" name="Picture 4" descr="портрет Ломоносова"/>
          <p:cNvPicPr/>
          <p:nvPr/>
        </p:nvPicPr>
        <p:blipFill>
          <a:blip r:embed="rId1"/>
          <a:stretch/>
        </p:blipFill>
        <p:spPr>
          <a:xfrm>
            <a:off x="0" y="189000"/>
            <a:ext cx="4857840" cy="588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MCj02900630000[1]"/>
          <p:cNvPicPr/>
          <p:nvPr/>
        </p:nvPicPr>
        <p:blipFill>
          <a:blip r:embed="rId2"/>
          <a:stretch/>
        </p:blipFill>
        <p:spPr>
          <a:xfrm>
            <a:off x="7061040" y="4194000"/>
            <a:ext cx="2082960" cy="2664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239720" y="765000"/>
            <a:ext cx="473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Bookman Old Style"/>
              </a:rPr>
              <a:t>Юбилею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Bookman Old Style"/>
              </a:rPr>
              <a:t>М.В.Ломоносова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Bookman Old Style"/>
              </a:rPr>
              <a:t>посвящается …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786040" y="607212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empus Sans ITC"/>
              </a:rPr>
              <a:t>Подготовил  Канаев Семен Иванович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empus Sans ITC"/>
              </a:rPr>
              <a:t>МОУ ДХСОШ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5E40-93E7-4E3A-A3C7-8848A93B644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684360" y="476280"/>
            <a:ext cx="7343640" cy="60256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 7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акой  остров  холмогорской  дельты  считается  родиной  Ломоносова</a:t>
            </a:r>
            <a:r>
              <a:rPr b="1" i="1" lang="ru-RU" sz="48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F674-02FB-4EEF-AF6C-ACB6154C0E9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26" name="Picture 5" descr="slide0003_image008"/>
          <p:cNvPicPr/>
          <p:nvPr/>
        </p:nvPicPr>
        <p:blipFill>
          <a:blip r:embed="rId1"/>
          <a:stretch/>
        </p:blipFill>
        <p:spPr>
          <a:xfrm>
            <a:off x="179280" y="511200"/>
            <a:ext cx="8642520" cy="5565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1289160" y="5445000"/>
            <a:ext cx="79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Деревня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ишанинская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 Архангельской области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28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F484-23FA-4A51-B905-E24BC18C998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95280" y="285840"/>
            <a:ext cx="8424720" cy="58784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 8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На берегу какой реки родился и вырос Михайло Ломоносов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31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163A-F353-413D-BDE5-EDC78631050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24000" y="260280"/>
            <a:ext cx="8569080" cy="48772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 9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В 1765  году,  4  апреля  скончался  М.В. Ломоносов, где он был похоронен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7F2E-B474-45ED-8A98-2658B9D032C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35" name="Picture 4" descr="могила Ломоносова в Алекс"/>
          <p:cNvPicPr/>
          <p:nvPr/>
        </p:nvPicPr>
        <p:blipFill>
          <a:blip r:embed="rId1"/>
          <a:stretch/>
        </p:blipFill>
        <p:spPr>
          <a:xfrm>
            <a:off x="1979640" y="0"/>
            <a:ext cx="5111640" cy="666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D6E2-B7DA-4F1B-805B-F7DB9A3AD26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50920" y="620640"/>
            <a:ext cx="8640720" cy="56444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1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Сколько  лет  было  Ломоносову,  когда он  отправился  за  рыбным  обозом  учиться  в  Москву</a:t>
            </a:r>
            <a:r>
              <a:rPr b="1" i="1" lang="ru-RU" sz="54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0" name="Picture 11" descr="в москву"/>
          <p:cNvPicPr/>
          <p:nvPr/>
        </p:nvPicPr>
        <p:blipFill>
          <a:blip r:embed="rId3"/>
          <a:stretch/>
        </p:blipFill>
        <p:spPr>
          <a:xfrm>
            <a:off x="539640" y="189000"/>
            <a:ext cx="4032360" cy="5616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41" name="Picture 6" descr="путь в москву"/>
          <p:cNvPicPr/>
          <p:nvPr/>
        </p:nvPicPr>
        <p:blipFill>
          <a:blip r:embed="rId4"/>
          <a:stretch/>
        </p:blipFill>
        <p:spPr>
          <a:xfrm>
            <a:off x="4745160" y="189000"/>
            <a:ext cx="4217760" cy="5616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42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F594-F36C-4AF8-9D18-8F1DC85AA52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DC19-6907-4AF6-94D9-593812A29F4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71640" y="981000"/>
            <a:ext cx="7343640" cy="56448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 - 2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акой  язык  во  времена  М.В.Ломоносова  считался  международным? 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45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E7C0-72AC-412B-9901-972039E0DC5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42920" y="115920"/>
            <a:ext cx="8820000" cy="45270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3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Сколько   языков  знал  Ломоносов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48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0836-B253-4169-8A79-C34CBB82210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4360" y="115920"/>
            <a:ext cx="7343640" cy="59587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4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Назовите императоров и императриц, которые возглавляли трон России в  период  жизни  Ломоносова.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51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своя игра загл"/>
          <p:cNvPicPr/>
          <p:nvPr/>
        </p:nvPicPr>
        <p:blipFill>
          <a:blip r:embed="rId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  <p:sp>
        <p:nvSpPr>
          <p:cNvPr id="56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27B1-F2FB-4471-A08E-3C5AF57E657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D9E5-6FF1-4290-970D-7F0F998EE89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500040"/>
            <a:ext cx="9144000" cy="47260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 - 5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Перечислите  почетные  звания  Ломоносова-ученого.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54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8A06-4379-4477-A8F4-487E3FE158B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68360" y="907920"/>
            <a:ext cx="8353440" cy="41461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6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акое  древнее  искусство  возродил  Ломоносов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Рабочий  стол 007"/>
          <p:cNvPicPr/>
          <p:nvPr/>
        </p:nvPicPr>
        <p:blipFill>
          <a:blip r:embed="rId1"/>
          <a:stretch/>
        </p:blipFill>
        <p:spPr>
          <a:xfrm>
            <a:off x="4067280" y="333360"/>
            <a:ext cx="4662360" cy="58579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59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237360"/>
            <a:ext cx="8190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0" name="Picture 8" descr="спас2"/>
          <p:cNvPicPr/>
          <p:nvPr/>
        </p:nvPicPr>
        <p:blipFill>
          <a:blip r:embed="rId4"/>
          <a:stretch/>
        </p:blipFill>
        <p:spPr>
          <a:xfrm rot="21148200">
            <a:off x="468360" y="836640"/>
            <a:ext cx="3276720" cy="4608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6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7631-2348-4343-B5D5-D64FE42402B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E4EE-F56B-4D19-BC80-4C5AE6783ED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24000" y="345960"/>
            <a:ext cx="8028000" cy="65206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7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Благодаря  своим  изобретениям  Ломоносов  стал помещиком  и фабрикантом.  Какую  фабрику  открыл  Ломоносов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64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4753-1E98-463E-8EDB-659E4BC4FF6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348000" y="189000"/>
            <a:ext cx="5616720" cy="59706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 … - 8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В  какой  европейской  стране  Михаил  Васильевич   Ломоносов   закончил  «свои  университеты»?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67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8" name="Picture 11" descr="slide0012_image024"/>
          <p:cNvPicPr/>
          <p:nvPr/>
        </p:nvPicPr>
        <p:blipFill>
          <a:blip r:embed="rId3"/>
          <a:stretch/>
        </p:blipFill>
        <p:spPr>
          <a:xfrm rot="21235800">
            <a:off x="323640" y="463320"/>
            <a:ext cx="30938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7CA9-2CAF-4A96-B8EF-C1FFD625F29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79280" y="260280"/>
            <a:ext cx="8785440" cy="55080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 интересно… - 9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Georgia"/>
              </a:rPr>
              <a:t>В  какой  армии   Михайло  Ломоносов  некоторое  время   был  солдатом</a:t>
            </a: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71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ED08-FD47-42BA-A369-07CA66C03A5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24000" y="692280"/>
            <a:ext cx="8208720" cy="56084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- учёный  - 1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Чем, считал исследователь, можно отвратить электрическую грозовую силу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74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1942-2870-49CF-8AB3-A0397A74BE5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95280" y="549360"/>
            <a:ext cx="8280360" cy="55292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- учёный - 2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Ломоносов утверждал, что тела состоят из атомов и  корпускул.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Как  сейчас называются эти частицы</a:t>
            </a:r>
            <a:r>
              <a:rPr b="1" i="1" lang="ru-RU" sz="44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77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E243-414A-4357-BA95-C67E2180AF9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39640" y="260280"/>
            <a:ext cx="8425080" cy="56786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- учёный - 3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Какое  открытие  в  области  астрономии  сделал  Ломоносов,  наблюдая  прохождение  Венеры  по  диску  Солнца?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2125-2D45-4BA6-801F-BA736A903EB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81" name="Picture 6" descr="lomonosov"/>
          <p:cNvPicPr/>
          <p:nvPr/>
        </p:nvPicPr>
        <p:blipFill>
          <a:blip r:embed="rId1"/>
          <a:stretch/>
        </p:blipFill>
        <p:spPr>
          <a:xfrm>
            <a:off x="1692360" y="0"/>
            <a:ext cx="4824360" cy="6858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82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6441-BECD-41C6-A37E-B942588C2E3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24000" y="1700280"/>
            <a:ext cx="2016000" cy="3988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Биография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24000" y="2637000"/>
            <a:ext cx="2016000" cy="7038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Это интересно…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50920" y="3429000"/>
            <a:ext cx="2124000" cy="8625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Ломоносов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учёный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108000" y="4724280"/>
            <a:ext cx="226692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фористика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50920" y="5661000"/>
            <a:ext cx="2087640" cy="3988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азное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3276720" y="170028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2556000" y="170028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3995640" y="170028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4716360" y="170028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435640" y="170028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6156360" y="170028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6877080" y="170028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7596360" y="170028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8317080" y="170028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3276720" y="263700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2556000" y="263700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3995640" y="2637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4716360" y="2637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5435640" y="2637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6156360" y="2637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6877080" y="2637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7596360" y="263700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8317080" y="2637000"/>
            <a:ext cx="576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320508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248436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392436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464508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5" name="Text Box 34"/>
          <p:cNvSpPr/>
          <p:nvPr/>
        </p:nvSpPr>
        <p:spPr>
          <a:xfrm>
            <a:off x="536400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6" name="Text Box 35"/>
          <p:cNvSpPr/>
          <p:nvPr/>
        </p:nvSpPr>
        <p:spPr>
          <a:xfrm>
            <a:off x="608472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680544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752472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9" name="Text Box 38"/>
          <p:cNvSpPr/>
          <p:nvPr/>
        </p:nvSpPr>
        <p:spPr>
          <a:xfrm>
            <a:off x="8245440" y="3645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0" name="Text Box 41"/>
          <p:cNvSpPr/>
          <p:nvPr/>
        </p:nvSpPr>
        <p:spPr>
          <a:xfrm>
            <a:off x="392436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1" name="Text Box 42"/>
          <p:cNvSpPr/>
          <p:nvPr/>
        </p:nvSpPr>
        <p:spPr>
          <a:xfrm>
            <a:off x="464508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2" name="Text Box 44"/>
          <p:cNvSpPr/>
          <p:nvPr/>
        </p:nvSpPr>
        <p:spPr>
          <a:xfrm>
            <a:off x="608472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3" name="Text Box 45"/>
          <p:cNvSpPr/>
          <p:nvPr/>
        </p:nvSpPr>
        <p:spPr>
          <a:xfrm>
            <a:off x="680544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4" name="Text Box 46"/>
          <p:cNvSpPr/>
          <p:nvPr/>
        </p:nvSpPr>
        <p:spPr>
          <a:xfrm>
            <a:off x="752472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5" name="Text Box 47"/>
          <p:cNvSpPr/>
          <p:nvPr/>
        </p:nvSpPr>
        <p:spPr>
          <a:xfrm>
            <a:off x="8245440" y="486900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6" name="Text Box 48"/>
          <p:cNvSpPr/>
          <p:nvPr/>
        </p:nvSpPr>
        <p:spPr>
          <a:xfrm>
            <a:off x="320508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7" name="Text Box 49"/>
          <p:cNvSpPr/>
          <p:nvPr/>
        </p:nvSpPr>
        <p:spPr>
          <a:xfrm>
            <a:off x="248436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8" name="Text Box 50"/>
          <p:cNvSpPr/>
          <p:nvPr/>
        </p:nvSpPr>
        <p:spPr>
          <a:xfrm>
            <a:off x="392436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9" name="Text Box 51"/>
          <p:cNvSpPr/>
          <p:nvPr/>
        </p:nvSpPr>
        <p:spPr>
          <a:xfrm>
            <a:off x="464508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0" name="Text Box 52"/>
          <p:cNvSpPr/>
          <p:nvPr/>
        </p:nvSpPr>
        <p:spPr>
          <a:xfrm>
            <a:off x="536400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1" name="Text Box 53"/>
          <p:cNvSpPr/>
          <p:nvPr/>
        </p:nvSpPr>
        <p:spPr>
          <a:xfrm>
            <a:off x="608472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2" name="Text Box 54"/>
          <p:cNvSpPr/>
          <p:nvPr/>
        </p:nvSpPr>
        <p:spPr>
          <a:xfrm>
            <a:off x="680544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3" name="Text Box 55"/>
          <p:cNvSpPr/>
          <p:nvPr/>
        </p:nvSpPr>
        <p:spPr>
          <a:xfrm>
            <a:off x="752472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4" name="Text Box 56"/>
          <p:cNvSpPr/>
          <p:nvPr/>
        </p:nvSpPr>
        <p:spPr>
          <a:xfrm>
            <a:off x="8245440" y="5805360"/>
            <a:ext cx="5763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1828-30AA-4BF0-BF80-DBC6649A122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68360" y="692280"/>
            <a:ext cx="8280360" cy="54205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- учёный – 4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Формулируя важнейший  закон  природы,  Ломоносов дал ему образное сравнение: «Сколько часов я затрачиваю на сон, столько же отнимаю у бодрствования». О каком законе идёт речь?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DEE4-5E6B-4069-8CF5-B1CC7834D33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он сохранения массы веще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456000" cy="4248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4211640" y="2492280"/>
            <a:ext cx="1006560" cy="1349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3"/>
          <a:stretch/>
        </p:blipFill>
        <p:spPr>
          <a:xfrm>
            <a:off x="4211640" y="4005360"/>
            <a:ext cx="973080" cy="1417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139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139392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Rectangle 14"/>
          <p:cNvSpPr/>
          <p:nvPr/>
        </p:nvSpPr>
        <p:spPr>
          <a:xfrm>
            <a:off x="0" y="139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4106880"/>
          <a:ext cx="20808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21"/>
          <p:cNvSpPr/>
          <p:nvPr/>
        </p:nvSpPr>
        <p:spPr>
          <a:xfrm>
            <a:off x="1800" y="4701240"/>
            <a:ext cx="183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endParaRPr b="0" lang="en-US" sz="1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95" name="Picture 22" descr=""/>
          <p:cNvPicPr/>
          <p:nvPr/>
        </p:nvPicPr>
        <p:blipFill>
          <a:blip r:embed="rId4"/>
          <a:stretch/>
        </p:blipFill>
        <p:spPr>
          <a:xfrm>
            <a:off x="324000" y="1700280"/>
            <a:ext cx="3367080" cy="4190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6B2F-AF3D-446B-AF07-6287803759C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39640" y="189000"/>
            <a:ext cx="8280360" cy="58503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– учёный  - 5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«Колумбы  русские,  презрев  угрюмый  рок,  меж  льдами  новый  путь  отворят  на  восток».  Какому  плану  посвящены  эти  строки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9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0947-9138-4D9A-BC68-79748D00677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928800" y="142920"/>
            <a:ext cx="7343640" cy="61714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– учёный  - 6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О какой отрасли знаний М.В.Ломоносов сказал: "Почитаю за высшую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степень человеческого познания…"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BE48-4165-478C-AB01-119080E33C0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03" name="Picture 4" descr="кабинет химика Ломон"/>
          <p:cNvPicPr/>
          <p:nvPr/>
        </p:nvPicPr>
        <p:blipFill>
          <a:blip r:embed="rId1"/>
          <a:stretch/>
        </p:blipFill>
        <p:spPr>
          <a:xfrm>
            <a:off x="1835280" y="0"/>
            <a:ext cx="5905440" cy="6858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04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EEF1-55C4-4E28-892A-6CC608791D5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85840" y="357120"/>
            <a:ext cx="8358120" cy="55519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– учёный  - 7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Ломоносов дал определение металлам "Светлые тела, которые ковать 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можно".  Какие  свойства  металлов  выделил  ученый,  и  какие  еще 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свойства  можно  назвать? 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07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67BC-8FA2-4BA7-9CD0-46E328609D6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95280" y="476280"/>
            <a:ext cx="8424720" cy="58503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моносов – учёный  - 8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Во  время  совместных  опытов  по  изучению  атмосферных  явлений  погиб  профессор  Рихман. Что  изучал  в  это  время  Ломоносов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10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4642-AF7B-4415-A29E-680FB3E19BA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12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3" name="Picture 4" descr="350x280"/>
          <p:cNvPicPr/>
          <p:nvPr/>
        </p:nvPicPr>
        <p:blipFill>
          <a:blip r:embed="rId3"/>
          <a:stretch/>
        </p:blipFill>
        <p:spPr>
          <a:xfrm rot="369000">
            <a:off x="5506560" y="1277640"/>
            <a:ext cx="3384720" cy="39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Прямоугольник 6"/>
          <p:cNvSpPr/>
          <p:nvPr/>
        </p:nvSpPr>
        <p:spPr>
          <a:xfrm>
            <a:off x="0" y="357120"/>
            <a:ext cx="5286240" cy="4767480"/>
          </a:xfrm>
          <a:prstGeom prst="rect">
            <a:avLst/>
          </a:prstGeom>
          <a:solidFill>
            <a:srgbClr val="2f2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омоносов – учёный  - 900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Какие приборы изобрел Ломоносов?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14B4-BA2F-437F-9D5C-1FE755C372C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324000" y="476280"/>
            <a:ext cx="8424720" cy="51422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- 3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ru-RU" sz="6000" spc="-1" strike="noStrike">
                <a:solidFill>
                  <a:srgbClr val="ffffff"/>
                </a:solidFill>
                <a:latin typeface="Georgia"/>
              </a:rPr>
              <a:t>"Истинный  химик  должен  быть  теоретиком  и …"  </a:t>
            </a:r>
            <a:endParaRPr b="0" lang="en-US" sz="6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1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9FEC-E867-42A4-A197-3DFD810F838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68360" y="260280"/>
            <a:ext cx="8351640" cy="45745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- 4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ru-RU" sz="5400" spc="-1" strike="noStrike">
                <a:solidFill>
                  <a:srgbClr val="ffffff"/>
                </a:solidFill>
                <a:latin typeface="Georgia"/>
              </a:rPr>
              <a:t>"Один … я  ставлю  выше,  чем  тысячу  мнений,  рожденных  только </a:t>
            </a: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Georgia"/>
              </a:rPr>
              <a:t>воображением" </a:t>
            </a: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20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2126-DC1C-454E-A087-22258C5F029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76280"/>
            <a:ext cx="8280360" cy="4527000"/>
          </a:xfrm>
          <a:prstGeom prst="rect">
            <a:avLst/>
          </a:prstGeom>
          <a:solidFill>
            <a:srgbClr val="2f2fff">
              <a:alpha val="81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– 1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ак звали родителей Ломоносова</a:t>
            </a:r>
            <a:r>
              <a:rPr b="1" i="1" lang="en-US" sz="48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07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F11E-C899-46E7-AE68-954F4CEBC7E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395280" y="333360"/>
            <a:ext cx="8461440" cy="35902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– 6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"Слеп физик без …, сухорук без химии" 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2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895A-5451-4893-9B69-190C3629012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0" y="333360"/>
            <a:ext cx="9144000" cy="51800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-7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"Я  не  признаю  никакого  измышления  и  никакой  гипотезы,  какой  бы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вероятной она ни казалась, без точных …"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26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406E-4CCA-48AE-BF7C-81935A6AF5A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250920" y="189000"/>
            <a:ext cx="8424720" cy="44964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– 8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"…  замечать  не  многого  стоит;  дать  нечто  лучшее – вот  что приличествует достойному человеку" 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2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DD67-413C-4D56-B26B-EC0043EC09F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95280" y="260280"/>
            <a:ext cx="8280360" cy="47167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фористика – 9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"…  поверхность  ныне  совсем  иной  вид  имеет,  нежели  какова  был</a:t>
            </a: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a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издревле"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DCDD-46BB-4872-ABC1-8218A194EA4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95280" y="333360"/>
            <a:ext cx="8569440" cy="56030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– 1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Изобретя русскую мозаику, Ломоносов создал грандиозное мозаичное полотно, посвящённое победе Петра I над иноземными захватчиками. Какую битву изображает эта картина и как она называется?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6BC4-F2B1-4B6C-A2F8-E6EADCDB207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08000" y="115920"/>
            <a:ext cx="8928000" cy="59997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 - 2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Где  в  Архангельске  стоит  памятник  Ломоносову,  выполненный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скульптором  Иваном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Мартосом  на   всенародно  собранные  средства.(1832</a:t>
            </a: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 г.)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9" name="Picture 4" descr="Картинка 4 из 1808"/>
          <p:cNvPicPr/>
          <p:nvPr/>
        </p:nvPicPr>
        <p:blipFill>
          <a:blip r:embed="rId2"/>
          <a:stretch/>
        </p:blipFill>
        <p:spPr>
          <a:xfrm rot="270000">
            <a:off x="7164360" y="1267920"/>
            <a:ext cx="1720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118D-F6D9-4330-9DF6-050B38379AC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214200" y="285840"/>
            <a:ext cx="8352000" cy="46090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- 3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Georgia"/>
              </a:rPr>
              <a:t>Как геологи увековечили память о Ломоносове?</a:t>
            </a: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E9A1-1453-4B4B-8A73-932973B285C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42920" y="285840"/>
            <a:ext cx="8677080" cy="79977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 - 4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О какой букве русского алфавита Ломоносов шутливо сказал, что она стоит «подпершись» и выглядит бодрее, чем ее тезка, которая не нужна русской речи, как и другая буква, — «немой место занял, подобно как пятое колесо»? Назовите эти буквы.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8973-4623-4E38-9FA0-23B8E0D4021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0" y="0"/>
            <a:ext cx="8786880" cy="719244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Разное  - 500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ого поэт приветствовал следующими словами: «Науки, ныне торжествуйте: Взошла Минерва на престол»? И кто такая Минерва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E094-2681-43BE-9814-49FF0BDC3D2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0" y="333360"/>
            <a:ext cx="8643960" cy="59112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– 6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У каких наук призывал учиться Ломоносов, став профессором химии: «через ... вымеривать, через ... развешивать и через ... высматривать»?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7740720" y="6308640"/>
            <a:ext cx="79200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2" name="Rectangle 9"/>
          <p:cNvSpPr/>
          <p:nvPr/>
        </p:nvSpPr>
        <p:spPr>
          <a:xfrm>
            <a:off x="684360" y="1989000"/>
            <a:ext cx="4572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588F-B999-4675-BC2A-2EABFE8B94B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28760" y="214200"/>
            <a:ext cx="8423280" cy="50698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– 2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ru-RU" sz="6000" spc="-1" strike="noStrike">
                <a:solidFill>
                  <a:srgbClr val="ffffff"/>
                </a:solidFill>
                <a:latin typeface="Georgia"/>
              </a:rPr>
              <a:t>Кто  был  первым  учителем  Ломоносова? </a:t>
            </a:r>
            <a:endParaRPr b="0" lang="en-US" sz="6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10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8FCC-1B98-44C6-9B58-782008AF7F9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50920" y="333360"/>
            <a:ext cx="8642160" cy="63615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 - 7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Н. В. Гоголь сказал о Ломоносове: «Сила восторга превратила натуралиста в ...». В кого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0F2E-2173-4BEF-85BA-D907D67C64C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24000" y="115920"/>
            <a:ext cx="8496000" cy="693792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- 8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Любимое детище Ломоносова,  ставшее всемирно  известным   памятником  великому  русскому учёному –поборнику  российского  просвещения.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EF3E-CFC9-4A2B-BAF5-0C020EECB14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03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064E-BB8D-462F-BFCE-5A90E59AAE0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79280" y="333360"/>
            <a:ext cx="5329440" cy="597060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ое – 9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Кому  и  за  какие  заслуги  присуждается  высшая  награда  РАН – золотая  медаль  им  М.В.Ломоносова?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4" name="Picture 7" descr="Рабочий  стол 022"/>
          <p:cNvPicPr/>
          <p:nvPr/>
        </p:nvPicPr>
        <p:blipFill>
          <a:blip r:embed="rId2"/>
          <a:stretch/>
        </p:blipFill>
        <p:spPr>
          <a:xfrm rot="286800">
            <a:off x="5651640" y="836280"/>
            <a:ext cx="32162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omonosov.aonb.ru/assets/files/starh.pdf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arhcity.ru/data/632/Lomonosov%20ch1.pdf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sl.ru/datadocs/doc_4677je.pdf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1D9B-98A2-45AE-842B-977184357E1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214308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empus Sans ITC"/>
              </a:rPr>
              <a:t>Подготовил  Канаев Семен Иванович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empus Sans ITC"/>
              </a:rPr>
              <a:t>МОУ ДХСОШ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8102-1879-4837-B59E-C959F2B0CBC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68360" y="333360"/>
            <a:ext cx="8136000" cy="31690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– 3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Где  и  когда  родился  М.В.Ломоносов?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13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F9E4-804F-49C8-8C54-6AD6F07C786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571680"/>
            <a:ext cx="8713800" cy="52581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 4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Какие   книги  Ломоносов называл «вратами своей учёности».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16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1D3D-74D9-417D-BE24-9A96BDEA16F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24000" y="214200"/>
            <a:ext cx="8496000" cy="515196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5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Сколько  лет  было  Ломоносову,  когда  ему  присвоили  звание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профессора? 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1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7E7F-6685-42AD-8326-A0B7DC8E748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24000" y="285840"/>
            <a:ext cx="8964360" cy="4877280"/>
          </a:xfrm>
          <a:prstGeom prst="rect">
            <a:avLst/>
          </a:prstGeom>
          <a:solidFill>
            <a:srgbClr val="0000ff">
              <a:alpha val="70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иография  – 600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Почему Ломоносова не хотели принимать в Славяно-греко-латинскую академию</a:t>
            </a:r>
            <a:r>
              <a:rPr b="1" i="1" lang="ru-RU" sz="48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22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237360"/>
            <a:ext cx="820800" cy="423720"/>
          </a:xfrm>
          <a:prstGeom prst="rect">
            <a:avLst/>
          </a:prstGeom>
          <a:ln w="255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07:22:21Z</dcterms:created>
  <dc:creator>Канаев</dc:creator>
  <dc:description/>
  <dc:language>en-US</dc:language>
  <cp:lastModifiedBy>Николай</cp:lastModifiedBy>
  <dcterms:modified xsi:type="dcterms:W3CDTF">2013-08-01T11:14:18Z</dcterms:modified>
  <cp:revision>93</cp:revision>
  <dc:subject/>
  <dc:title>Слайд 1</dc:title>
</cp:coreProperties>
</file>