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13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71ED-3A1D-479C-AA43-756B2F4D05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F76A-2AF6-4C6C-B9AA-8A13EF43CE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E330-B80B-46D7-A20E-643A92FF32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0B50-6BA6-4F21-93A9-DC92A4A4B2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58E-1328-4C6B-9CA9-6DE1B361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57D9-1D4B-44A0-A449-21D68FED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C46-E9C9-4815-9BBC-98DEBBB7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8492-E6DE-46C5-A434-F4089B18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857-554D-487E-A0E4-5E8FA292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132D-3645-411F-BA96-B4ECC79F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A96-4F0D-4A15-8C77-37526E2D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320F-5E9D-4699-BB0D-C56F27A8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AD4-05A3-4FD1-A2C9-488E7DB5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95A6-AF95-42CE-9946-3F38B3DC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E3E2-91C6-463D-8259-355F5DCE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C23-01A7-46F9-890B-D0A74480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625A-E8D8-42D1-BC5F-66334844C47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2333-6118-4181-AD8F-85F6099D7B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7.xml"/><Relationship Id="rId11" Type="http://schemas.openxmlformats.org/officeDocument/2006/relationships/slide" Target="slide15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7.xml"/><Relationship Id="rId20" Type="http://schemas.openxmlformats.org/officeDocument/2006/relationships/slide" Target="slide26.xml"/><Relationship Id="rId21" Type="http://schemas.openxmlformats.org/officeDocument/2006/relationships/slide" Target="slide28.xml"/><Relationship Id="rId22" Type="http://schemas.openxmlformats.org/officeDocument/2006/relationships/slide" Target="slide30.xml"/><Relationship Id="rId23" Type="http://schemas.openxmlformats.org/officeDocument/2006/relationships/slide" Target="slide32.xml"/><Relationship Id="rId24" Type="http://schemas.openxmlformats.org/officeDocument/2006/relationships/slide" Target="slide33.xml"/><Relationship Id="rId25" Type="http://schemas.openxmlformats.org/officeDocument/2006/relationships/slide" Target="slide35.xml"/><Relationship Id="rId26" Type="http://schemas.openxmlformats.org/officeDocument/2006/relationships/slide" Target="slide36.xml"/><Relationship Id="rId27" Type="http://schemas.openxmlformats.org/officeDocument/2006/relationships/slide" Target="slide37.xml"/><Relationship Id="rId28" Type="http://schemas.openxmlformats.org/officeDocument/2006/relationships/slide" Target="slide38.xml"/><Relationship Id="rId29" Type="http://schemas.openxmlformats.org/officeDocument/2006/relationships/slide" Target="slide39.xml"/><Relationship Id="rId30" Type="http://schemas.openxmlformats.org/officeDocument/2006/relationships/slide" Target="slide40.xml"/><Relationship Id="rId31" Type="http://schemas.openxmlformats.org/officeDocument/2006/relationships/slide" Target="slide41.xml"/><Relationship Id="rId32" Type="http://schemas.openxmlformats.org/officeDocument/2006/relationships/slide" Target="slide42.xml"/><Relationship Id="rId33" Type="http://schemas.openxmlformats.org/officeDocument/2006/relationships/slide" Target="slide43.xml"/><Relationship Id="rId34" Type="http://schemas.openxmlformats.org/officeDocument/2006/relationships/slide" Target="slide45.xml"/><Relationship Id="rId35" Type="http://schemas.openxmlformats.org/officeDocument/2006/relationships/slide" Target="slide44.xml"/><Relationship Id="rId36" Type="http://schemas.openxmlformats.org/officeDocument/2006/relationships/slide" Target="slide46.xml"/><Relationship Id="rId37" Type="http://schemas.openxmlformats.org/officeDocument/2006/relationships/slide" Target="slide47.xml"/><Relationship Id="rId38" Type="http://schemas.openxmlformats.org/officeDocument/2006/relationships/slide" Target="slide48.xml"/><Relationship Id="rId39" Type="http://schemas.openxmlformats.org/officeDocument/2006/relationships/slide" Target="slide49.xml"/><Relationship Id="rId40" Type="http://schemas.openxmlformats.org/officeDocument/2006/relationships/slide" Target="slide50.xml"/><Relationship Id="rId41" Type="http://schemas.openxmlformats.org/officeDocument/2006/relationships/slide" Target="slide51.xml"/><Relationship Id="rId42" Type="http://schemas.openxmlformats.org/officeDocument/2006/relationships/slide" Target="slide53.xml"/><Relationship Id="rId43" Type="http://schemas.openxmlformats.org/officeDocument/2006/relationships/slideLayout" Target="../slideLayouts/slideLayout1.xml"/><Relationship Id="rId4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" Target="slide3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0317-2385-4E00-BE87-CBD6A3AB2C5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49" name="Picture 4" descr="портрет Ломоносова"/>
          <p:cNvPicPr/>
          <p:nvPr/>
        </p:nvPicPr>
        <p:blipFill>
          <a:blip r:embed="rId1"/>
          <a:stretch/>
        </p:blipFill>
        <p:spPr>
          <a:xfrm>
            <a:off x="0" y="189000"/>
            <a:ext cx="4857840" cy="588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MCj02900630000[1]"/>
          <p:cNvPicPr/>
          <p:nvPr/>
        </p:nvPicPr>
        <p:blipFill>
          <a:blip r:embed="rId2"/>
          <a:stretch/>
        </p:blipFill>
        <p:spPr>
          <a:xfrm>
            <a:off x="7061040" y="4194000"/>
            <a:ext cx="2082960" cy="2664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239720" y="765000"/>
            <a:ext cx="473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Bookman Old Style"/>
              </a:rPr>
              <a:t>Юбилею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Bookman Old Style"/>
              </a:rPr>
              <a:t>М.В.Ломоносова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Bookman Old Style"/>
              </a:rPr>
              <a:t>посвящается …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786040" y="607212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empus Sans ITC"/>
              </a:rPr>
              <a:t>Подготовил  Канаев Семен Иванович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empus Sans ITC"/>
              </a:rPr>
              <a:t>МОУ ДХСОШ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DAAA-52E7-425C-B9EB-D286C9ABA18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684360" y="476280"/>
            <a:ext cx="7343640" cy="60256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 – 7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Какой  остров  холмогорской  дельты  считается  родиной  Ломоносова</a:t>
            </a:r>
            <a:r>
              <a:rPr b="1" i="1" lang="ru-RU" sz="48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1EE9-5DB8-479A-925A-7D97114F6AF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26" name="Picture 5" descr="slide0003_image008"/>
          <p:cNvPicPr/>
          <p:nvPr/>
        </p:nvPicPr>
        <p:blipFill>
          <a:blip r:embed="rId1"/>
          <a:stretch/>
        </p:blipFill>
        <p:spPr>
          <a:xfrm>
            <a:off x="179280" y="511200"/>
            <a:ext cx="8642520" cy="5565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8"/>
          <p:cNvSpPr/>
          <p:nvPr/>
        </p:nvSpPr>
        <p:spPr>
          <a:xfrm>
            <a:off x="1289160" y="5445000"/>
            <a:ext cx="79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Деревня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ишанинская</a:t>
            </a: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 Архангельской области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28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C7CA-C8E4-4AB2-971F-920A0A5207C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95280" y="285840"/>
            <a:ext cx="8424720" cy="58784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 – 8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На берегу какой реки родился и вырос Михайло Ломоносов?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31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2A5C-7D81-4704-876F-26E6559D811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24000" y="260280"/>
            <a:ext cx="8569080" cy="48772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 – 9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В 1765  году,  4  апреля  скончался  М.В. Ломоносов, где он был похоронен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E9F7-A0B0-43F6-9C1A-1012A3870D7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35" name="Picture 4" descr="могила Ломоносова в Алекс"/>
          <p:cNvPicPr/>
          <p:nvPr/>
        </p:nvPicPr>
        <p:blipFill>
          <a:blip r:embed="rId1"/>
          <a:stretch/>
        </p:blipFill>
        <p:spPr>
          <a:xfrm>
            <a:off x="1979640" y="0"/>
            <a:ext cx="5111640" cy="666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A3F0-0AA5-4F6F-8221-BA5632B91B2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50920" y="620640"/>
            <a:ext cx="8640720" cy="56444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- 1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Сколько  лет  было  Ломоносову,  когда он  отправился  за  рыбным  обозом  учиться  в  Москву</a:t>
            </a:r>
            <a:r>
              <a:rPr b="1" i="1" lang="ru-RU" sz="54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0" name="Picture 11" descr="в москву"/>
          <p:cNvPicPr/>
          <p:nvPr/>
        </p:nvPicPr>
        <p:blipFill>
          <a:blip r:embed="rId3"/>
          <a:stretch/>
        </p:blipFill>
        <p:spPr>
          <a:xfrm>
            <a:off x="539640" y="189000"/>
            <a:ext cx="4032360" cy="5616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41" name="Picture 6" descr="путь в москву"/>
          <p:cNvPicPr/>
          <p:nvPr/>
        </p:nvPicPr>
        <p:blipFill>
          <a:blip r:embed="rId4"/>
          <a:stretch/>
        </p:blipFill>
        <p:spPr>
          <a:xfrm>
            <a:off x="4745160" y="189000"/>
            <a:ext cx="4217760" cy="5616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42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3110-E564-40AD-BD67-8A5889F2253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BD08-215C-4766-B69E-58A8BAC6425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71640" y="981000"/>
            <a:ext cx="7343640" cy="564480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 - 2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Какой  язык  во  времена  М.В.Ломоносова  считался  международным? 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45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765A-20D0-4CEC-ACD9-93573A607B3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42920" y="115920"/>
            <a:ext cx="8820000" cy="452700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- 3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Сколько   языков  знал  Ломоносов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48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5A91-F743-446F-9DCD-05DD5C9F24E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4360" y="115920"/>
            <a:ext cx="7343640" cy="595872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- 4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Назовите императоров и императриц, которые возглавляли трон России в  период  жизни  Ломоносова.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51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своя игра загл"/>
          <p:cNvPicPr/>
          <p:nvPr/>
        </p:nvPicPr>
        <p:blipFill>
          <a:blip r:embed="rId1"/>
          <a:stretch/>
        </p:blipFill>
        <p:spPr>
          <a:xfrm>
            <a:off x="0" y="0"/>
            <a:ext cx="9144000" cy="7201080"/>
          </a:xfrm>
          <a:prstGeom prst="rect">
            <a:avLst/>
          </a:prstGeom>
          <a:ln w="0">
            <a:noFill/>
          </a:ln>
        </p:spPr>
      </p:pic>
      <p:sp>
        <p:nvSpPr>
          <p:cNvPr id="56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2CC6-CB8B-4D31-82D9-5A6ECE61DDA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5CA2-F631-44A2-8CAB-9955D6ED636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500040"/>
            <a:ext cx="9144000" cy="47260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 - 5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Перечислите  почетные  звания  Ломоносова-ученого.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54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8CB9-4342-436C-9926-BBA14B3F7C8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68360" y="907920"/>
            <a:ext cx="8353440" cy="414612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- 6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Какое  древнее  искусство  возродил  Ломоносов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Рабочий  стол 007"/>
          <p:cNvPicPr/>
          <p:nvPr/>
        </p:nvPicPr>
        <p:blipFill>
          <a:blip r:embed="rId1"/>
          <a:stretch/>
        </p:blipFill>
        <p:spPr>
          <a:xfrm>
            <a:off x="4067280" y="333360"/>
            <a:ext cx="4662360" cy="585792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59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237360"/>
            <a:ext cx="8190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0" name="Picture 8" descr="спас2"/>
          <p:cNvPicPr/>
          <p:nvPr/>
        </p:nvPicPr>
        <p:blipFill>
          <a:blip r:embed="rId4"/>
          <a:stretch/>
        </p:blipFill>
        <p:spPr>
          <a:xfrm rot="21148200">
            <a:off x="468360" y="836640"/>
            <a:ext cx="3276720" cy="4608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61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50D7-A408-4E71-ABED-232BBA6F6E5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C935-4CE0-44B3-BD07-7E35201C8BB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24000" y="345960"/>
            <a:ext cx="8028000" cy="65206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- 7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Благодаря  своим  изобретениям  Ломоносов  стал помещиком  и фабрикантом.  Какую  фабрику  открыл  Ломоносов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64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0CC1-286B-428C-8FF9-46C66B7737D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348000" y="189000"/>
            <a:ext cx="5616720" cy="597060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 … - 8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В  какой  европейской  стране  Михаил  Васильевич   Ломоносов   закончил  «свои  университеты»?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67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8" name="Picture 11" descr="slide0012_image024"/>
          <p:cNvPicPr/>
          <p:nvPr/>
        </p:nvPicPr>
        <p:blipFill>
          <a:blip r:embed="rId3"/>
          <a:stretch/>
        </p:blipFill>
        <p:spPr>
          <a:xfrm rot="21235800">
            <a:off x="323640" y="463320"/>
            <a:ext cx="30938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7C38-1E73-40A5-861F-F6C67D8CB28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79280" y="260280"/>
            <a:ext cx="8785440" cy="550800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- 9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Georgia"/>
              </a:rPr>
              <a:t>В  какой  армии   Михайло  Ломоносов  некоторое  время   был  солдатом</a:t>
            </a: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71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CB1B-13F2-4AE6-9ADB-CCE59348215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24000" y="692280"/>
            <a:ext cx="8208720" cy="56084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- учёный  - 1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Чем, считал исследователь, можно отвратить электрическую грозовую силу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74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AA0E-F37C-4336-8552-FB7E06944D2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95280" y="549360"/>
            <a:ext cx="8280360" cy="55292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- учёный - 2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Ломоносов утверждал, что тела состоят из атомов и  корпускул.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Как  сейчас называются эти частицы</a:t>
            </a:r>
            <a:r>
              <a:rPr b="1" i="1" lang="ru-RU" sz="44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77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995F-02A4-415A-8908-840E369DAF3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39640" y="260280"/>
            <a:ext cx="8425080" cy="56786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- учёный - 3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Какое  открытие  в  области  астрономии  сделал  Ломоносов,  наблюдая  прохождение  Венеры  по  диску  Солнца?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A4CC-6C02-4B51-864E-C61840C251E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81" name="Picture 6" descr="lomonosov"/>
          <p:cNvPicPr/>
          <p:nvPr/>
        </p:nvPicPr>
        <p:blipFill>
          <a:blip r:embed="rId1"/>
          <a:stretch/>
        </p:blipFill>
        <p:spPr>
          <a:xfrm>
            <a:off x="1692360" y="0"/>
            <a:ext cx="4824360" cy="6858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82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7ECE-75A2-4CD2-8252-0BD41EF7DC8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24000" y="1700280"/>
            <a:ext cx="2016000" cy="3988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Биография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24000" y="2637000"/>
            <a:ext cx="2016000" cy="70380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Это интересно…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50920" y="3429000"/>
            <a:ext cx="2124000" cy="86256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Ломоносов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учёный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108000" y="4724280"/>
            <a:ext cx="226692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фористика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50920" y="5661000"/>
            <a:ext cx="2087640" cy="3988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Разное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3276720" y="170028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2556000" y="170028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3995640" y="170028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4716360" y="170028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5435640" y="170028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6156360" y="170028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6877080" y="170028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7596360" y="170028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8317080" y="170028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3276720" y="263700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2556000" y="263700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3995640" y="2637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4716360" y="2637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5435640" y="2637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6156360" y="2637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6877080" y="2637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7596360" y="263700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8317080" y="263700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320508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2" name="Text Box 31"/>
          <p:cNvSpPr/>
          <p:nvPr/>
        </p:nvSpPr>
        <p:spPr>
          <a:xfrm>
            <a:off x="248436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3" name="Text Box 32"/>
          <p:cNvSpPr/>
          <p:nvPr/>
        </p:nvSpPr>
        <p:spPr>
          <a:xfrm>
            <a:off x="392436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4" name="Text Box 33"/>
          <p:cNvSpPr/>
          <p:nvPr/>
        </p:nvSpPr>
        <p:spPr>
          <a:xfrm>
            <a:off x="464508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5" name="Text Box 34"/>
          <p:cNvSpPr/>
          <p:nvPr/>
        </p:nvSpPr>
        <p:spPr>
          <a:xfrm>
            <a:off x="536400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6" name="Text Box 35"/>
          <p:cNvSpPr/>
          <p:nvPr/>
        </p:nvSpPr>
        <p:spPr>
          <a:xfrm>
            <a:off x="608472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7" name="Text Box 36"/>
          <p:cNvSpPr/>
          <p:nvPr/>
        </p:nvSpPr>
        <p:spPr>
          <a:xfrm>
            <a:off x="680544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752472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9" name="Text Box 38"/>
          <p:cNvSpPr/>
          <p:nvPr/>
        </p:nvSpPr>
        <p:spPr>
          <a:xfrm>
            <a:off x="824544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0" name="Text Box 41"/>
          <p:cNvSpPr/>
          <p:nvPr/>
        </p:nvSpPr>
        <p:spPr>
          <a:xfrm>
            <a:off x="3924360" y="4869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1" name="Text Box 42"/>
          <p:cNvSpPr/>
          <p:nvPr/>
        </p:nvSpPr>
        <p:spPr>
          <a:xfrm>
            <a:off x="4645080" y="4869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2" name="Text Box 44"/>
          <p:cNvSpPr/>
          <p:nvPr/>
        </p:nvSpPr>
        <p:spPr>
          <a:xfrm>
            <a:off x="6084720" y="4869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3" name="Text Box 45"/>
          <p:cNvSpPr/>
          <p:nvPr/>
        </p:nvSpPr>
        <p:spPr>
          <a:xfrm>
            <a:off x="6805440" y="4869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4" name="Text Box 46"/>
          <p:cNvSpPr/>
          <p:nvPr/>
        </p:nvSpPr>
        <p:spPr>
          <a:xfrm>
            <a:off x="7524720" y="4869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5" name="Text Box 47"/>
          <p:cNvSpPr/>
          <p:nvPr/>
        </p:nvSpPr>
        <p:spPr>
          <a:xfrm>
            <a:off x="8245440" y="4869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6" name="Text Box 48"/>
          <p:cNvSpPr/>
          <p:nvPr/>
        </p:nvSpPr>
        <p:spPr>
          <a:xfrm>
            <a:off x="320508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7" name="Text Box 49"/>
          <p:cNvSpPr/>
          <p:nvPr/>
        </p:nvSpPr>
        <p:spPr>
          <a:xfrm>
            <a:off x="248436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8" name="Text Box 50"/>
          <p:cNvSpPr/>
          <p:nvPr/>
        </p:nvSpPr>
        <p:spPr>
          <a:xfrm>
            <a:off x="392436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9" name="Text Box 51"/>
          <p:cNvSpPr/>
          <p:nvPr/>
        </p:nvSpPr>
        <p:spPr>
          <a:xfrm>
            <a:off x="464508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0" name="Text Box 52"/>
          <p:cNvSpPr/>
          <p:nvPr/>
        </p:nvSpPr>
        <p:spPr>
          <a:xfrm>
            <a:off x="536400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1" name="Text Box 53"/>
          <p:cNvSpPr/>
          <p:nvPr/>
        </p:nvSpPr>
        <p:spPr>
          <a:xfrm>
            <a:off x="608472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2" name="Text Box 54"/>
          <p:cNvSpPr/>
          <p:nvPr/>
        </p:nvSpPr>
        <p:spPr>
          <a:xfrm>
            <a:off x="680544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3" name="Text Box 55"/>
          <p:cNvSpPr/>
          <p:nvPr/>
        </p:nvSpPr>
        <p:spPr>
          <a:xfrm>
            <a:off x="752472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4" name="Text Box 56"/>
          <p:cNvSpPr/>
          <p:nvPr/>
        </p:nvSpPr>
        <p:spPr>
          <a:xfrm>
            <a:off x="824544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3DF5-4875-4DBB-B7EB-76D32098091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68360" y="692280"/>
            <a:ext cx="8280360" cy="542052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- учёный – 4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Формулируя важнейший  закон  природы,  Ломоносов дал ему образное сравнение: «Сколько часов я затрачиваю на сон, столько же отнимаю у бодрствования». О каком законе идёт речь?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7470-638D-463D-AB3D-5A49EFD8D77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он сохранения массы веще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3456000" cy="4248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4211640" y="2492280"/>
            <a:ext cx="1006560" cy="1349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3"/>
          <a:stretch/>
        </p:blipFill>
        <p:spPr>
          <a:xfrm>
            <a:off x="4211640" y="4005360"/>
            <a:ext cx="973080" cy="14176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139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139392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Rectangle 14"/>
          <p:cNvSpPr/>
          <p:nvPr/>
        </p:nvSpPr>
        <p:spPr>
          <a:xfrm>
            <a:off x="0" y="139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4106880"/>
          <a:ext cx="20808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21"/>
          <p:cNvSpPr/>
          <p:nvPr/>
        </p:nvSpPr>
        <p:spPr>
          <a:xfrm>
            <a:off x="1800" y="4701240"/>
            <a:ext cx="1836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endParaRPr b="0" lang="en-US" sz="1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95" name="Picture 22" descr=""/>
          <p:cNvPicPr/>
          <p:nvPr/>
        </p:nvPicPr>
        <p:blipFill>
          <a:blip r:embed="rId4"/>
          <a:stretch/>
        </p:blipFill>
        <p:spPr>
          <a:xfrm>
            <a:off x="324000" y="1700280"/>
            <a:ext cx="3367080" cy="4190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7C2B-FF1F-4C33-AD91-04F8508951E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39640" y="189000"/>
            <a:ext cx="8280360" cy="585036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– учёный  - 5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«Колумбы  русские,  презрев  угрюмый  рок,  меж  льдами  новый  путь  отворят  на  восток».  Какому  плану  посвящены  эти  строки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9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0CB8-2E75-474D-ACB7-6D2E08B2116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928800" y="142920"/>
            <a:ext cx="7343640" cy="61714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– учёный  - 6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О какой отрасли знаний М.В.Ломоносов сказал: "Почитаю за высшую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степень человеческого познания…"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ACA9-5E55-459A-A8D8-0A83743E747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03" name="Picture 4" descr="кабинет химика Ломон"/>
          <p:cNvPicPr/>
          <p:nvPr/>
        </p:nvPicPr>
        <p:blipFill>
          <a:blip r:embed="rId1"/>
          <a:stretch/>
        </p:blipFill>
        <p:spPr>
          <a:xfrm>
            <a:off x="1835280" y="0"/>
            <a:ext cx="5905440" cy="6858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204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FF7E-A79B-4A47-BE52-86847C24765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85840" y="357120"/>
            <a:ext cx="8358120" cy="555192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– учёный  - 7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Ломоносов дал определение металлам "Светлые тела, которые ковать 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можно".  Какие  свойства  металлов  выделил  ученый,  и  какие  еще 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свойства  можно  назвать? 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07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664F-7DBA-4ADF-A236-E29C63F7F48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95280" y="476280"/>
            <a:ext cx="8424720" cy="585036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– учёный  - 8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Во  время  совместных  опытов  по  изучению  атмосферных  явлений  погиб  профессор  Рихман. Что  изучал  в  это  время  Ломоносов?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10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75E3-512F-4DFF-8279-3E96FA1ED70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12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3" name="Picture 4" descr="350x280"/>
          <p:cNvPicPr/>
          <p:nvPr/>
        </p:nvPicPr>
        <p:blipFill>
          <a:blip r:embed="rId3"/>
          <a:stretch/>
        </p:blipFill>
        <p:spPr>
          <a:xfrm rot="369000">
            <a:off x="5506560" y="1277640"/>
            <a:ext cx="3384720" cy="39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Прямоугольник 6"/>
          <p:cNvSpPr/>
          <p:nvPr/>
        </p:nvSpPr>
        <p:spPr>
          <a:xfrm>
            <a:off x="0" y="357120"/>
            <a:ext cx="5286240" cy="4767480"/>
          </a:xfrm>
          <a:prstGeom prst="rect">
            <a:avLst/>
          </a:prstGeom>
          <a:solidFill>
            <a:srgbClr val="2f2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омоносов – учёный  - 9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Какие приборы изобрел Ломоносов?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D197-A560-4C8B-B309-E04FC29F814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324000" y="476280"/>
            <a:ext cx="8424720" cy="51422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фористика - 3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i="1" lang="ru-RU" sz="6000" spc="-1" strike="noStrike">
                <a:solidFill>
                  <a:srgbClr val="ffffff"/>
                </a:solidFill>
                <a:latin typeface="Georgia"/>
              </a:rPr>
              <a:t>"Истинный  химик  должен  быть  теоретиком  и …"  </a:t>
            </a:r>
            <a:endParaRPr b="0" lang="en-US" sz="6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17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65AF-0AAB-4D4F-949D-DD564B42968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68360" y="260280"/>
            <a:ext cx="8351640" cy="457452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фористика - 4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ru-RU" sz="5400" spc="-1" strike="noStrike">
                <a:solidFill>
                  <a:srgbClr val="ffffff"/>
                </a:solidFill>
                <a:latin typeface="Georgia"/>
              </a:rPr>
              <a:t>"Один … я  ставлю  выше,  чем  тысячу  мнений,  рожденных  только </a:t>
            </a:r>
            <a:endParaRPr b="0" lang="en-US" sz="5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Georgia"/>
              </a:rPr>
              <a:t>воображением" </a:t>
            </a:r>
            <a:endParaRPr b="0" lang="en-US" sz="5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20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D598-E699-4C25-9653-597B7895C8C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476280"/>
            <a:ext cx="8280360" cy="4527000"/>
          </a:xfrm>
          <a:prstGeom prst="rect">
            <a:avLst/>
          </a:prstGeom>
          <a:solidFill>
            <a:srgbClr val="2f2fff">
              <a:alpha val="81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– 1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Как звали родителей Ломоносова</a:t>
            </a:r>
            <a:r>
              <a:rPr b="1" i="1" lang="en-US" sz="48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07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E465-B2FF-471B-A09B-F051EDEFB2D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395280" y="333360"/>
            <a:ext cx="8461440" cy="35902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фористика – 6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"Слеп физик без …, сухорук без химии" 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23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BE9A-0991-4FF9-8F16-7F1C43A4D40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0" y="333360"/>
            <a:ext cx="9144000" cy="51800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фористика -7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"Я  не  признаю  никакого  измышления  и  никакой  гипотезы,  какой  бы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вероятной она ни казалась, без точных …"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26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CF80-B9D1-41D7-B476-C8BA4CC81DE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250920" y="189000"/>
            <a:ext cx="8424720" cy="449640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фористика – 8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"…  замечать  не  многого  стоит;  дать  нечто  лучшее – вот  что приличествует достойному человеку" 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29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FB76-2D5D-4620-BC3E-E159F9E9B73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95280" y="260280"/>
            <a:ext cx="8280360" cy="471672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фористика – 9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"…  поверхность  ныне  совсем  иной  вид  имеет,  нежели  какова  был</a:t>
            </a: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a</a:t>
            </a: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издревле"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91FD-BFDF-4723-95D7-5855E7ACE79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95280" y="333360"/>
            <a:ext cx="8569440" cy="56030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 – 1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Изобретя русскую мозаику, Ломоносов создал грандиозное мозаичное полотно, посвящённое победе Петра I над иноземными захватчиками. Какую битву изображает эта картина и как она называется?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980B-D512-4D8A-8C2F-9D40D900349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08000" y="115920"/>
            <a:ext cx="8928000" cy="599976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  - 2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Где  в  Архангельске  стоит  памятник  Ломоносову,  выполненный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скульптором  Иваном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Мартосом  на   всенародно  собранные  средства.(1832</a:t>
            </a: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 г.)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9" name="Picture 4" descr="Картинка 4 из 1808"/>
          <p:cNvPicPr/>
          <p:nvPr/>
        </p:nvPicPr>
        <p:blipFill>
          <a:blip r:embed="rId2"/>
          <a:stretch/>
        </p:blipFill>
        <p:spPr>
          <a:xfrm rot="270000">
            <a:off x="7164360" y="1267920"/>
            <a:ext cx="1720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21FD-5D65-40F3-90F5-317EC8D7647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214200" y="285840"/>
            <a:ext cx="8352000" cy="46090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- 3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Georgia"/>
              </a:rPr>
              <a:t>Как геологи увековечили память о Ломоносове?</a:t>
            </a:r>
            <a:endParaRPr b="0" lang="en-US" sz="5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3440-362D-4B9D-80C2-59D7A22AD47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42920" y="285840"/>
            <a:ext cx="8677080" cy="799776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  - 4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О какой букве русского алфавита Ломоносов шутливо сказал, что она стоит «подпершись» и выглядит бодрее, чем ее тезка, которая не нужна русской речи, как и другая буква, — «немой место занял, подобно как пятое колесо»? Назовите эти буквы.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7861-2117-43C2-ACB1-30568E03BCA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0" y="0"/>
            <a:ext cx="8786880" cy="71924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Разное  - 500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Кого поэт приветствовал следующими словами: «Науки, ныне торжествуйте: Взошла Минерва на престол»? И кто такая Минерва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FF95-D611-49FC-BCA6-6907B3CEC97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0" y="333360"/>
            <a:ext cx="8643960" cy="591120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 – 6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У каких наук призывал учиться Ломоносов, став профессором химии: «через ... вымеривать, через ... развешивать и через ... высматривать»?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7740720" y="6308640"/>
            <a:ext cx="79200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2" name="Rectangle 9"/>
          <p:cNvSpPr/>
          <p:nvPr/>
        </p:nvSpPr>
        <p:spPr>
          <a:xfrm>
            <a:off x="684360" y="1989000"/>
            <a:ext cx="457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50C4-8D6C-4F64-9409-59A95800A2F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28760" y="214200"/>
            <a:ext cx="8423280" cy="50698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– 2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i="1" lang="ru-RU" sz="6000" spc="-1" strike="noStrike">
                <a:solidFill>
                  <a:srgbClr val="ffffff"/>
                </a:solidFill>
                <a:latin typeface="Georgia"/>
              </a:rPr>
              <a:t>Кто  был  первым  учителем  Ломоносова? </a:t>
            </a:r>
            <a:endParaRPr b="0" lang="en-US" sz="6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10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EED6-839D-4FA4-8B01-A14F3A4B284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50920" y="333360"/>
            <a:ext cx="8642160" cy="636156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  - 7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Н. В. Гоголь сказал о Ломоносове: «Сила восторга превратила натуралиста в ...». В кого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7AF2-8F98-4259-A93C-BF559AAE44A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24000" y="115920"/>
            <a:ext cx="8496000" cy="693792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 - 8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Любимое детище Ломоносова,  ставшее всемирно  известным   памятником  великому  русскому учёному –поборнику  российского  просвещения.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ACFE-16B0-4657-9B20-2671B437F6A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59" name="Picture 6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03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4A08-01D0-4D94-9C89-F4E168F1E37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79280" y="333360"/>
            <a:ext cx="5329440" cy="597060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 – 9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Кому  и  за  какие  заслуги  присуждается  высшая  награда  РАН – золотая  медаль  им  М.В.Ломоносова?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4" name="Picture 7" descr="Рабочий  стол 022"/>
          <p:cNvPicPr/>
          <p:nvPr/>
        </p:nvPicPr>
        <p:blipFill>
          <a:blip r:embed="rId2"/>
          <a:stretch/>
        </p:blipFill>
        <p:spPr>
          <a:xfrm rot="286800">
            <a:off x="5651640" y="836280"/>
            <a:ext cx="32162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lomonosov.aonb.ru/assets/files/starh.pdf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arhcity.ru/data/632/Lomonosov%20ch1.pdf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sl.ru/datadocs/doc_4677je.pdf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53E6-8363-4877-8823-0236E80FFBE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2143080" y="600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empus Sans ITC"/>
              </a:rPr>
              <a:t>Подготовил  Канаев Семен Иванович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empus Sans ITC"/>
              </a:rPr>
              <a:t>МОУ ДХСОШ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FCDB-D96C-429A-BB42-00D98FB0EC9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68360" y="333360"/>
            <a:ext cx="8136000" cy="31690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– 3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Где  и  когда  родился  М.В.Ломоносов?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13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5D95-FE31-4E2A-8AE8-0616683EAEE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571680"/>
            <a:ext cx="8713800" cy="525816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 – 4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Какие   книги  Ломоносов называл «вратами своей учёности».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16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50C5-FC77-4F10-AD85-5059CCFAE60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24000" y="214200"/>
            <a:ext cx="8496000" cy="515196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 –5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Сколько  лет  было  Ломоносову,  когда  ему  присвоили  звание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профессора?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1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6791-FB38-44D1-BEB8-483D181F017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24000" y="285840"/>
            <a:ext cx="8964360" cy="48772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 – 6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Почему Ломоносова не хотели принимать в Славяно-греко-латинскую академию</a:t>
            </a:r>
            <a:r>
              <a:rPr b="1" i="1" lang="ru-RU" sz="48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22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07:22:21Z</dcterms:created>
  <dc:creator>Канаев</dc:creator>
  <dc:description/>
  <dc:language>en-US</dc:language>
  <cp:lastModifiedBy>Николай</cp:lastModifiedBy>
  <dcterms:modified xsi:type="dcterms:W3CDTF">2013-08-01T11:14:18Z</dcterms:modified>
  <cp:revision>93</cp:revision>
  <dc:subject/>
  <dc:title>Слайд 1</dc:title>
</cp:coreProperties>
</file>