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354-95F3-43C9-BF20-EC81DE87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B67-8EE8-46C1-9851-952BB710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6E9-1020-45ED-9C57-0AF7C624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B1B-422C-47B5-9B25-DC6BDAD4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083-F611-4B17-8124-1ED5F66E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AE8-1F81-4D2B-9953-4E04DD7D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4C9-C5A3-47F7-83EC-D2D0BEE6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D40-E965-440F-B8DA-A11CE759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080-2BD5-4551-B60F-574FA4B6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806-9D9A-4B7F-9C67-439A20F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A79-EBD4-48BD-BD26-C4A60320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66D-E714-4A62-87D2-D69846A2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E65A-1C35-4B71-AD64-2FF889C42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16.xml"/><Relationship Id="rId26" Type="http://schemas.openxmlformats.org/officeDocument/2006/relationships/slide" Target="slide15.xml"/><Relationship Id="rId2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matem.uspu.ru/2010-11-02-08-48-34/47-2011-01-24-09-09-13/199-2011-01-26-08-05-34" TargetMode="External"/><Relationship Id="rId4" Type="http://schemas.openxmlformats.org/officeDocument/2006/relationships/hyperlink" Target="http://matem.uspu.ru/2010-11-02-08-48-34/47-2011-01-24-09-09-13/199-2011-01-26-08-05-34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85ff8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85ff8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0" y="603576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МК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Kcy;&amp;acy;&amp;rcy;&amp;tcy;&amp;icy;&amp;ncy;&amp;kcy;&amp;acy; 27 &amp;icy;&amp;zcy; 36954"/>
          <p:cNvPicPr/>
          <p:nvPr/>
        </p:nvPicPr>
        <p:blipFill>
          <a:blip r:embed="rId1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-603360"/>
            <a:ext cx="6156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умма углов треуголь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шний угол треугольни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16360" y="5877000"/>
                <a:ext cx="52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724360" y="184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637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ьше внешнего угла, смежног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8388360" y="31399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4797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388360" y="5300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7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2852640"/>
            <a:ext cx="3743280" cy="2519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944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4809800">
            <a:off x="418788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8332800">
            <a:off x="3202920" y="47239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37372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716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о внеш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8388360" y="42195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59280" y="5899320"/>
                <a:ext cx="324144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100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7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189000"/>
            <a:ext cx="8064360" cy="1439640"/>
            <a:chOff x="755640" y="189000"/>
            <a:chExt cx="8064360" cy="1439640"/>
          </a:xfrm>
        </p:grpSpPr>
        <p:sp>
          <p:nvSpPr>
            <p:cNvPr id="235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489560" y="541440"/>
                  <a:ext cx="20984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324160" y="1081080"/>
                  <a:ext cx="156852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2100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24360" y="3645000"/>
            <a:ext cx="3095640" cy="71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8388360" y="3933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205000"/>
            <a:ext cx="4608360" cy="2592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3880" y="3265560"/>
            <a:ext cx="3236760" cy="1538280"/>
          </a:xfrm>
          <a:custGeom>
            <a:avLst/>
            <a:gdLst/>
            <a:ahLst/>
            <a:rect l="l" t="t" r="r" b="b"/>
            <a:pathLst>
              <a:path w="2039" h="969">
                <a:moveTo>
                  <a:pt x="0" y="969"/>
                </a:moveTo>
                <a:lnTo>
                  <a:pt x="203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344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5080" y="3213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441400">
            <a:off x="971280" y="4365360"/>
            <a:ext cx="14904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8441400">
            <a:off x="1042200" y="4581000"/>
            <a:ext cx="14940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51008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 action="ppaction://hlinksldjump"/>
          </p:cNvPr>
          <p:cNvSpPr/>
          <p:nvPr/>
        </p:nvSpPr>
        <p:spPr>
          <a:xfrm>
            <a:off x="8388360" y="48704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809800">
            <a:off x="2892240" y="1868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5445000"/>
            <a:ext cx="3095640" cy="505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809800">
            <a:off x="3612960" y="2660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5549E-006 L 0.03142 0.04208 E">
                                      <p:cBhvr>
                                        <p:cTn id="34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5516640"/>
                <a:ext cx="6156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06064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08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5640" y="189000"/>
            <a:ext cx="8064360" cy="1371600"/>
            <a:chOff x="755640" y="189000"/>
            <a:chExt cx="8064360" cy="1371600"/>
          </a:xfrm>
        </p:grpSpPr>
        <p:sp>
          <p:nvSpPr>
            <p:cNvPr id="264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E, DK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глы треугольни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E.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1763640" y="549360"/>
                  <a:ext cx="4824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D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K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724360" y="170028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2492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4" action="ppaction://hlinksldjump"/>
          </p:cNvPr>
          <p:cNvSpPr/>
          <p:nvPr/>
        </p:nvSpPr>
        <p:spPr>
          <a:xfrm>
            <a:off x="8388360" y="3068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3716280"/>
            <a:ext cx="3095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8388360" y="400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2060640"/>
            <a:ext cx="3816360" cy="3168720"/>
          </a:xfrm>
          <a:prstGeom prst="triangle">
            <a:avLst>
              <a:gd name="adj" fmla="val 26694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9000" y="2104920"/>
            <a:ext cx="768600" cy="3119400"/>
          </a:xfrm>
          <a:custGeom>
            <a:avLst/>
            <a:gdLst/>
            <a:ahLst/>
            <a:rect l="l" t="t" r="r" b="b"/>
            <a:pathLst>
              <a:path w="484" h="1965">
                <a:moveTo>
                  <a:pt x="0" y="0"/>
                </a:moveTo>
                <a:lnTo>
                  <a:pt x="484" y="1965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144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4581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8388360" y="4941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4809800">
            <a:off x="1163520" y="4532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61892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497000">
            <a:off x="1869120" y="2524680"/>
            <a:ext cx="2174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78000">
            <a:off x="2170440" y="2454840"/>
            <a:ext cx="20628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28640" y="292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2731400">
            <a:off x="4355640" y="4436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3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08360" y="5877000"/>
                <a:ext cx="3117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9372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108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, BM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M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886360" y="195120"/>
                <a:ext cx="1762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421000"/>
            <a:ext cx="309564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465300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8388360" y="5373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060640"/>
            <a:ext cx="4968720" cy="2952720"/>
          </a:xfrm>
          <a:prstGeom prst="triangle">
            <a:avLst>
              <a:gd name="adj" fmla="val 4838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01880" y="2060640"/>
            <a:ext cx="14400" cy="2932200"/>
          </a:xfrm>
          <a:custGeom>
            <a:avLst/>
            <a:gdLst/>
            <a:ahLst/>
            <a:rect l="l" t="t" r="r" b="b"/>
            <a:pathLst>
              <a:path w="9" h="1847">
                <a:moveTo>
                  <a:pt x="0" y="0"/>
                </a:moveTo>
                <a:lnTo>
                  <a:pt x="9" y="1847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616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3645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6" action="ppaction://hlinksldjump"/>
          </p:cNvPr>
          <p:cNvSpPr/>
          <p:nvPr/>
        </p:nvSpPr>
        <p:spPr>
          <a:xfrm>
            <a:off x="8388360" y="4076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2093600">
            <a:off x="4858920" y="4149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233964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5013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24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49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564000" y="5962680"/>
                <a:ext cx="2463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6064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80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544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55640" y="189000"/>
            <a:ext cx="8209080" cy="1368360"/>
            <a:chOff x="755640" y="189000"/>
            <a:chExt cx="8209080" cy="1368360"/>
          </a:xfrm>
        </p:grpSpPr>
        <p:sp>
          <p:nvSpPr>
            <p:cNvPr id="321" name=""/>
            <p:cNvSpPr/>
            <p:nvPr/>
          </p:nvSpPr>
          <p:spPr>
            <a:xfrm>
              <a:off x="755640" y="189000"/>
              <a:ext cx="8209080" cy="1368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5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835280" y="549360"/>
                  <a:ext cx="23763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D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771640" y="2276640"/>
                <a:ext cx="15685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24360" y="314172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4" action="ppaction://hlinksldjump"/>
          </p:cNvPr>
          <p:cNvSpPr/>
          <p:nvPr/>
        </p:nvSpPr>
        <p:spPr>
          <a:xfrm>
            <a:off x="8388360" y="379080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436572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8388360" y="465300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4517600">
            <a:off x="588600" y="41713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24360" y="2421000"/>
            <a:ext cx="3095640" cy="50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6" action="ppaction://hlinksldjump"/>
          </p:cNvPr>
          <p:cNvSpPr/>
          <p:nvPr/>
        </p:nvSpPr>
        <p:spPr>
          <a:xfrm>
            <a:off x="8388360" y="256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5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4941720"/>
            <a:ext cx="5181480" cy="180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7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1886000">
            <a:off x="3850920" y="414936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22936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4517600">
            <a:off x="2171520" y="1795320"/>
            <a:ext cx="44424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3988E-006 L -0.04792 0.00231 E">
                                      <p:cBhvr>
                                        <p:cTn id="520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476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готовым чертежа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16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4000" y="1916280"/>
            <a:ext cx="4968720" cy="266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bd97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 по рису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ать условие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ответить на постав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дачах под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190800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334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478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5" action="ppaction://hlinksldjump"/>
          </p:cNvPr>
          <p:cNvSpPr/>
          <p:nvPr/>
        </p:nvSpPr>
        <p:spPr>
          <a:xfrm>
            <a:off x="46836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6" action="ppaction://hlinksldjump"/>
          </p:cNvPr>
          <p:cNvSpPr/>
          <p:nvPr/>
        </p:nvSpPr>
        <p:spPr>
          <a:xfrm>
            <a:off x="622944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7" action="ppaction://hlinksldjump"/>
          </p:cNvPr>
          <p:cNvSpPr/>
          <p:nvPr/>
        </p:nvSpPr>
        <p:spPr>
          <a:xfrm>
            <a:off x="766908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8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&amp;Kcy;&amp;acy;&amp;rcy;&amp;tcy;&amp;icy;&amp;ncy;&amp;kcy;&amp;acy; 27 &amp;icy;&amp;zcy; 36954"/>
          <p:cNvPicPr/>
          <p:nvPr/>
        </p:nvPicPr>
        <p:blipFill>
          <a:blip r:embed="rId9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16360" y="5878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800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44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908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8620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2764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764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656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143240" y="5877000"/>
                <a:ext cx="224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573720" y="20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3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6920" y="189000"/>
            <a:ext cx="7993080" cy="658800"/>
            <a:chOff x="826920" y="189000"/>
            <a:chExt cx="7993080" cy="658800"/>
          </a:xfrm>
        </p:grpSpPr>
        <p:sp>
          <p:nvSpPr>
            <p:cNvPr id="376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340000" y="260280"/>
                  <a:ext cx="92232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0544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2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6400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64000" y="1341360"/>
            <a:ext cx="2520720" cy="36734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4778000">
            <a:off x="3651120" y="1772640"/>
            <a:ext cx="206280" cy="3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9272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924360" y="5084640"/>
                <a:ext cx="324000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294440" y="27813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14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3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340000" y="260280"/>
                  <a:ext cx="3384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4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1480000">
            <a:off x="4932000" y="278136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2074680" y="453600"/>
            <a:ext cx="2808360" cy="5158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71560" y="1611360"/>
            <a:ext cx="7967520" cy="2190600"/>
          </a:xfrm>
          <a:custGeom>
            <a:avLst/>
            <a:gdLst/>
            <a:ahLst/>
            <a:rect l="l" t="t" r="r" b="b"/>
            <a:pathLst>
              <a:path w="5019" h="1380">
                <a:moveTo>
                  <a:pt x="0" y="0"/>
                </a:moveTo>
                <a:lnTo>
                  <a:pt x="5019" y="138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46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6040" y="2108160"/>
            <a:ext cx="162000" cy="29232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213372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59280" y="3716280"/>
            <a:ext cx="11412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32000" y="3716280"/>
            <a:ext cx="11448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6000" y="3068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1700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3716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822840" y="5877000"/>
                <a:ext cx="2887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631044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5445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94160" y="522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5640" y="189000"/>
            <a:ext cx="8064360" cy="1079280"/>
            <a:chOff x="755640" y="189000"/>
            <a:chExt cx="8064360" cy="1079280"/>
          </a:xfrm>
        </p:grpSpPr>
        <p:sp>
          <p:nvSpPr>
            <p:cNvPr id="416" name=""/>
            <p:cNvSpPr/>
            <p:nvPr/>
          </p:nvSpPr>
          <p:spPr>
            <a:xfrm>
              <a:off x="755640" y="189000"/>
              <a:ext cx="8064360" cy="1079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= A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2411280" y="692280"/>
                  <a:ext cx="14446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18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570120" y="1785960"/>
            <a:ext cx="1800" cy="3686040"/>
          </a:xfrm>
          <a:custGeom>
            <a:avLst/>
            <a:gdLst/>
            <a:ahLst/>
            <a:rect l="l" t="t" r="r" b="b"/>
            <a:pathLst>
              <a:path w="1" h="2322">
                <a:moveTo>
                  <a:pt x="0" y="0"/>
                </a:moveTo>
                <a:lnTo>
                  <a:pt x="0" y="2322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0544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1200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64000" y="5229360"/>
            <a:ext cx="25380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6624600">
            <a:off x="3347640" y="1917360"/>
            <a:ext cx="3960720" cy="5256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1480000">
            <a:off x="6876720" y="494172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03640" y="5877000"/>
                <a:ext cx="446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997000" y="4292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94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3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411280" y="260280"/>
                  <a:ext cx="17719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796000" y="98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44000" y="508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682200">
            <a:off x="3567240" y="450504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1484280"/>
            <a:ext cx="446400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31840" y="5121360"/>
            <a:ext cx="7185240" cy="14040"/>
          </a:xfrm>
          <a:custGeom>
            <a:avLst/>
            <a:gdLst/>
            <a:ahLst/>
            <a:rect l="l" t="t" r="r" b="b"/>
            <a:pathLst>
              <a:path w="4526" h="9">
                <a:moveTo>
                  <a:pt x="0" y="9"/>
                </a:moveTo>
                <a:lnTo>
                  <a:pt x="4526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939640" y="1843560"/>
            <a:ext cx="2890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5976000" y="173592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05360" y="22035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1164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96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90800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34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8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622764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66764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190800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34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8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62294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76676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190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34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478620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622764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766764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6836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190800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334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478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622764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766764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 action="ppaction://hlinksldjump"/>
          </p:cNvPr>
          <p:cNvSpPr/>
          <p:nvPr/>
        </p:nvSpPr>
        <p:spPr>
          <a:xfrm>
            <a:off x="46656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 action="ppaction://hlinksldjump"/>
          </p:cNvPr>
          <p:cNvSpPr/>
          <p:nvPr/>
        </p:nvSpPr>
        <p:spPr>
          <a:xfrm>
            <a:off x="46656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 action="ppaction://hlinksldjump"/>
          </p:cNvPr>
          <p:cNvSpPr/>
          <p:nvPr/>
        </p:nvSpPr>
        <p:spPr>
          <a:xfrm>
            <a:off x="46836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65360"/>
            <a:ext cx="8424720" cy="2951280"/>
          </a:xfrm>
          <a:prstGeom prst="rect">
            <a:avLst/>
          </a:prstGeom>
          <a:noFill/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539640" y="2708280"/>
            <a:ext cx="5327640" cy="431640"/>
          </a:xfrm>
          <a:custGeom>
            <a:avLst/>
            <a:gdLst>
              <a:gd name="textAreaLeft" fmla="*/ 27720 w 5327640"/>
              <a:gd name="textAreaRight" fmla="*/ 5299920 w 532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6400" h="21600">
                <a:moveTo>
                  <a:pt x="0" y="0"/>
                </a:moveTo>
                <a:lnTo>
                  <a:pt x="266400" y="0"/>
                </a:lnTo>
                <a:lnTo>
                  <a:pt x="266400" y="21600"/>
                </a:lnTo>
                <a:lnTo>
                  <a:pt x="0" y="21600"/>
                </a:lnTo>
                <a:close/>
              </a:path>
              <a:path fill="lightenLess" w="266400" h="21600">
                <a:moveTo>
                  <a:pt x="0" y="0"/>
                </a:moveTo>
                <a:lnTo>
                  <a:pt x="266400" y="0"/>
                </a:lnTo>
                <a:lnTo>
                  <a:pt x="265000" y="1400"/>
                </a:lnTo>
                <a:lnTo>
                  <a:pt x="1400" y="1400"/>
                </a:lnTo>
                <a:close/>
              </a:path>
              <a:path fill="darken" w="266400" h="21600">
                <a:moveTo>
                  <a:pt x="266400" y="0"/>
                </a:moveTo>
                <a:lnTo>
                  <a:pt x="266400" y="21600"/>
                </a:lnTo>
                <a:lnTo>
                  <a:pt x="265000" y="20200"/>
                </a:lnTo>
                <a:lnTo>
                  <a:pt x="265000" y="1400"/>
                </a:lnTo>
                <a:close/>
              </a:path>
              <a:path fill="darkenLess" w="266400" h="21600">
                <a:moveTo>
                  <a:pt x="26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0" y="20200"/>
                </a:lnTo>
                <a:close/>
              </a:path>
              <a:path fill="lighten" w="26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готовым черт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276720" y="5805360"/>
                <a:ext cx="4176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5230800" y="4148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7816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5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2432160" y="260280"/>
                  <a:ext cx="1728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78800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6495600">
            <a:off x="5081040" y="443196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11240" y="5008680"/>
            <a:ext cx="6386760" cy="14040"/>
          </a:xfrm>
          <a:custGeom>
            <a:avLst/>
            <a:gdLst/>
            <a:ahLst/>
            <a:rect l="l" t="t" r="r" b="b"/>
            <a:pathLst>
              <a:path w="4023" h="9">
                <a:moveTo>
                  <a:pt x="0" y="9"/>
                </a:moveTo>
                <a:lnTo>
                  <a:pt x="402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8000" y="1052640"/>
            <a:ext cx="3168720" cy="396072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08000" y="4797360"/>
            <a:ext cx="25416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84720" y="4365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341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635280" y="5373720"/>
                <a:ext cx="3097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7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7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771640" y="83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4940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6812400">
            <a:off x="5150880" y="436068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87280" y="1339920"/>
            <a:ext cx="396108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79360" y="4976640"/>
            <a:ext cx="6705720" cy="17640"/>
          </a:xfrm>
          <a:custGeom>
            <a:avLst/>
            <a:gdLst/>
            <a:ahLst/>
            <a:rect l="l" t="t" r="r" b="b"/>
            <a:pathLst>
              <a:path w="4224" h="11">
                <a:moveTo>
                  <a:pt x="0" y="11"/>
                </a:moveTo>
                <a:lnTo>
                  <a:pt x="422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64040" y="3114720"/>
            <a:ext cx="16200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40360" y="3139920"/>
            <a:ext cx="156960" cy="27972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5092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2400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0328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8764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059280" y="539748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9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51280" y="17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767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6812400">
            <a:off x="5439960" y="443376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76480" y="987480"/>
            <a:ext cx="6748200" cy="4005360"/>
          </a:xfrm>
          <a:custGeom>
            <a:avLst/>
            <a:gdLst/>
            <a:ahLst/>
            <a:rect l="l" t="t" r="r" b="b"/>
            <a:pathLst>
              <a:path w="4251" h="2523">
                <a:moveTo>
                  <a:pt x="2898" y="0"/>
                </a:moveTo>
                <a:lnTo>
                  <a:pt x="0" y="2505"/>
                </a:lnTo>
                <a:lnTo>
                  <a:pt x="4251" y="252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4970000">
            <a:off x="1546920" y="2348640"/>
            <a:ext cx="288000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2247200">
            <a:off x="4453920" y="2068560"/>
            <a:ext cx="19836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2247200">
            <a:off x="4568760" y="1949040"/>
            <a:ext cx="28728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97360" y="2133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51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364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8800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717408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7816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1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8184000">
            <a:off x="6948000" y="4508640"/>
            <a:ext cx="346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8000" y="1335240"/>
            <a:ext cx="6878520" cy="4151160"/>
          </a:xfrm>
          <a:custGeom>
            <a:avLst/>
            <a:gdLst/>
            <a:ahLst/>
            <a:rect l="l" t="t" r="r" b="b"/>
            <a:pathLst>
              <a:path w="4333" h="2615">
                <a:moveTo>
                  <a:pt x="329" y="2615"/>
                </a:moveTo>
                <a:lnTo>
                  <a:pt x="4333" y="0"/>
                </a:lnTo>
                <a:lnTo>
                  <a:pt x="4032" y="2350"/>
                </a:lnTo>
                <a:lnTo>
                  <a:pt x="0" y="235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336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21480000">
            <a:off x="971640" y="5084280"/>
            <a:ext cx="144360" cy="2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81040" y="5065560"/>
            <a:ext cx="6994800" cy="14400"/>
          </a:xfrm>
          <a:custGeom>
            <a:avLst/>
            <a:gdLst/>
            <a:ahLst/>
            <a:rect l="l" t="t" r="r" b="b"/>
            <a:pathLst>
              <a:path w="4406" h="9">
                <a:moveTo>
                  <a:pt x="0" y="0"/>
                </a:moveTo>
                <a:lnTo>
                  <a:pt x="4406" y="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7706400">
            <a:off x="6907320" y="4667760"/>
            <a:ext cx="21564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2400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0400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72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1765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3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34800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661000" y="148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1480000">
            <a:off x="6297120" y="1411200"/>
            <a:ext cx="21924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05280" y="1465200"/>
            <a:ext cx="4267080" cy="1946160"/>
          </a:xfrm>
          <a:custGeom>
            <a:avLst/>
            <a:gdLst/>
            <a:ahLst/>
            <a:rect l="l" t="t" r="r" b="b"/>
            <a:pathLst>
              <a:path w="2688" h="1226">
                <a:moveTo>
                  <a:pt x="0" y="1226"/>
                </a:moveTo>
                <a:lnTo>
                  <a:pt x="2688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3983400">
            <a:off x="3096000" y="8280"/>
            <a:ext cx="4103640" cy="4753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9513800">
            <a:off x="6443640" y="1844280"/>
            <a:ext cx="20016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256536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56000" y="134136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48360" y="3564000"/>
            <a:ext cx="338040" cy="50760"/>
          </a:xfrm>
          <a:custGeom>
            <a:avLst/>
            <a:gdLst/>
            <a:ahLst/>
            <a:rect l="l" t="t" r="r" b="b"/>
            <a:pathLst>
              <a:path w="213" h="32">
                <a:moveTo>
                  <a:pt x="213" y="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27280" y="263700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5080" y="40784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414972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1413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126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7" name=""/>
          <p:cNvGrpSpPr/>
          <p:nvPr/>
        </p:nvGrpSpPr>
        <p:grpSpPr>
          <a:xfrm>
            <a:off x="826920" y="189000"/>
            <a:ext cx="7993080" cy="693720"/>
            <a:chOff x="826920" y="189000"/>
            <a:chExt cx="7993080" cy="693720"/>
          </a:xfrm>
        </p:grpSpPr>
        <p:sp>
          <p:nvSpPr>
            <p:cNvPr id="55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, если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|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9" name=""/>
                <p:cNvSpPr txBox="1"/>
                <p:nvPr/>
              </p:nvSpPr>
              <p:spPr>
                <a:xfrm>
                  <a:off x="2340000" y="189000"/>
                  <a:ext cx="2736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0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59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581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86440" y="364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7440" y="457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51280" y="1484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76720" y="4653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797800">
            <a:off x="5282640" y="4078080"/>
            <a:ext cx="287280" cy="4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11800" y="2249640"/>
            <a:ext cx="2830320" cy="2438280"/>
          </a:xfrm>
          <a:custGeom>
            <a:avLst/>
            <a:gdLst/>
            <a:ahLst/>
            <a:rect l="l" t="t" r="r" b="b"/>
            <a:pathLst>
              <a:path w="1783" h="1536">
                <a:moveTo>
                  <a:pt x="1783" y="0"/>
                </a:moveTo>
                <a:lnTo>
                  <a:pt x="0" y="1536"/>
                </a:lnTo>
                <a:lnTo>
                  <a:pt x="1609" y="150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4970000">
            <a:off x="1546560" y="2059200"/>
            <a:ext cx="287964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205400">
            <a:off x="5873400" y="4219560"/>
            <a:ext cx="21600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0234200">
            <a:off x="5994000" y="4082400"/>
            <a:ext cx="2160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37360" y="4076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95640" y="2060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19280" y="4076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4076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03640" y="5445000"/>
                <a:ext cx="5043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6805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8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2595600" y="260280"/>
                  <a:ext cx="25146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Е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F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8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320364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76360" y="4797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37000" y="414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3420000" y="1627920"/>
            <a:ext cx="216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30320" y="2700360"/>
            <a:ext cx="2844720" cy="2074680"/>
          </a:xfrm>
          <a:custGeom>
            <a:avLst/>
            <a:gdLst/>
            <a:ahLst/>
            <a:rect l="l" t="t" r="r" b="b"/>
            <a:pathLst>
              <a:path w="1792" h="1307">
                <a:moveTo>
                  <a:pt x="0" y="1307"/>
                </a:moveTo>
                <a:lnTo>
                  <a:pt x="1792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7794000">
            <a:off x="2278800" y="4066560"/>
            <a:ext cx="184320" cy="35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8000" y="1413000"/>
            <a:ext cx="4969080" cy="3384360"/>
          </a:xfrm>
          <a:prstGeom prst="triangle">
            <a:avLst>
              <a:gd name="adj" fmla="val 30991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1816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86080" y="198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9134400">
            <a:off x="2493720" y="4375080"/>
            <a:ext cx="21564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5577800">
            <a:off x="3431160" y="1658160"/>
            <a:ext cx="293760" cy="51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12000" y="4149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00720" y="270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211640" y="5734080"/>
                <a:ext cx="3048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12580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0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0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050920" y="51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16720" y="981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54200" y="1422360"/>
            <a:ext cx="1989360" cy="1871640"/>
          </a:xfrm>
          <a:custGeom>
            <a:avLst/>
            <a:gdLst/>
            <a:ahLst/>
            <a:rect l="l" t="t" r="r" b="b"/>
            <a:pathLst>
              <a:path w="1253" h="1179">
                <a:moveTo>
                  <a:pt x="0" y="0"/>
                </a:moveTo>
                <a:lnTo>
                  <a:pt x="1253" y="117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2555640" y="1412640"/>
            <a:ext cx="3887640" cy="38876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1080" y="2278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92360" y="2349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91280" y="234936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234936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6220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3528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3724400">
            <a:off x="2700720" y="1411920"/>
            <a:ext cx="35892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211640" y="5761080"/>
                <a:ext cx="3048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2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2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10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3778920" y="1845000"/>
            <a:ext cx="2905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67160" y="5776920"/>
                <a:ext cx="273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649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2340000" y="289080"/>
                  <a:ext cx="15397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B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51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8100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46136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08360" y="234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о сумм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лов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1989000"/>
            <a:ext cx="4248000" cy="3240360"/>
          </a:xfrm>
          <a:prstGeom prst="triangle">
            <a:avLst>
              <a:gd name="adj" fmla="val 72236"/>
            </a:avLst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2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5418000"/>
            <a:ext cx="7274160" cy="1440000"/>
            <a:chOff x="1042920" y="5418000"/>
            <a:chExt cx="7274160" cy="1440000"/>
          </a:xfrm>
        </p:grpSpPr>
        <p:sp>
          <p:nvSpPr>
            <p:cNvPr id="80" name=""/>
            <p:cNvSpPr/>
            <p:nvPr/>
          </p:nvSpPr>
          <p:spPr>
            <a:xfrm>
              <a:off x="5724360" y="573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2920" y="5418000"/>
              <a:ext cx="7274160" cy="1440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bd97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умма углов треугольника равна </a:t>
              </a:r>
              <a:r>
                <a:rPr b="1" lang="en-US" sz="3600" spc="-1" strike="noStrike">
                  <a:solidFill>
                    <a:srgbClr val="009900"/>
                  </a:solidFill>
                  <a:latin typeface="Times New Roman"/>
                </a:rPr>
                <a:t>180</a:t>
              </a:r>
              <a:r>
                <a:rPr b="1" lang="en-US" sz="3600" spc="-1" strike="noStrike" baseline="30000">
                  <a:solidFill>
                    <a:srgbClr val="0099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411280" y="6093000"/>
                  <a:ext cx="41990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627440" y="5516640"/>
                <a:ext cx="2946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16923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7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411280" y="260280"/>
                  <a:ext cx="1513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76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7" name=""/>
          <p:cNvSpPr/>
          <p:nvPr/>
        </p:nvSpPr>
        <p:spPr>
          <a:xfrm>
            <a:off x="7020000" y="105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469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0828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8915000">
            <a:off x="6227640" y="2133360"/>
            <a:ext cx="21132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3280" y="1579680"/>
            <a:ext cx="1814400" cy="3440160"/>
          </a:xfrm>
          <a:custGeom>
            <a:avLst/>
            <a:gdLst/>
            <a:ahLst/>
            <a:rect l="l" t="t" r="r" b="b"/>
            <a:pathLst>
              <a:path w="1143" h="2167">
                <a:moveTo>
                  <a:pt x="0" y="2167"/>
                </a:moveTo>
                <a:lnTo>
                  <a:pt x="114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6555200">
            <a:off x="6632640" y="2303280"/>
            <a:ext cx="21888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122560" y="1557360"/>
            <a:ext cx="4897440" cy="345600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804000" y="4797360"/>
            <a:ext cx="2160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32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0036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140360" y="5904000"/>
                <a:ext cx="2946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20527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9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2411280" y="266760"/>
                  <a:ext cx="15130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FE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95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"/>
          <p:cNvSpPr/>
          <p:nvPr/>
        </p:nvSpPr>
        <p:spPr>
          <a:xfrm>
            <a:off x="4572000" y="83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21000" y="1700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60640" y="4411800"/>
            <a:ext cx="3106800" cy="1046160"/>
          </a:xfrm>
          <a:custGeom>
            <a:avLst/>
            <a:gdLst/>
            <a:ahLst/>
            <a:rect l="l" t="t" r="r" b="b"/>
            <a:pathLst>
              <a:path w="1957" h="659">
                <a:moveTo>
                  <a:pt x="0" y="0"/>
                </a:moveTo>
                <a:lnTo>
                  <a:pt x="988" y="659"/>
                </a:lnTo>
                <a:lnTo>
                  <a:pt x="1957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4462200" y="1450800"/>
            <a:ext cx="1461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20041800">
            <a:off x="5795280" y="4220640"/>
            <a:ext cx="225360" cy="279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95640" y="3860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84360" y="1197000"/>
            <a:ext cx="4105440" cy="424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rot="7137000">
            <a:off x="2979000" y="4238640"/>
            <a:ext cx="295200" cy="288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5600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4160" y="29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92720" y="30686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227640" y="47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92360" y="292428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492360" y="299736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27280" y="47973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356000" y="472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89640" y="5904000"/>
                <a:ext cx="2047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1262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719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"/>
                <p:cNvSpPr txBox="1"/>
                <p:nvPr/>
              </p:nvSpPr>
              <p:spPr>
                <a:xfrm>
                  <a:off x="2759040" y="266760"/>
                  <a:ext cx="8175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21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"/>
          <p:cNvSpPr/>
          <p:nvPr/>
        </p:nvSpPr>
        <p:spPr>
          <a:xfrm>
            <a:off x="6732720" y="14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3272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34080" y="220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763640" y="1916280"/>
            <a:ext cx="5006880" cy="2671560"/>
          </a:xfrm>
          <a:custGeom>
            <a:avLst/>
            <a:gdLst/>
            <a:ahLst/>
            <a:rect l="l" t="t" r="r" b="b"/>
            <a:pathLst>
              <a:path w="3154" h="1683">
                <a:moveTo>
                  <a:pt x="0" y="1381"/>
                </a:moveTo>
                <a:lnTo>
                  <a:pt x="3154" y="0"/>
                </a:lnTo>
                <a:lnTo>
                  <a:pt x="2076" y="168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635280" y="26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141960" y="4510080"/>
            <a:ext cx="117720" cy="217440"/>
          </a:xfrm>
          <a:custGeom>
            <a:avLst/>
            <a:gdLst/>
            <a:ahLst/>
            <a:rect l="l" t="t" r="r" b="b"/>
            <a:pathLst>
              <a:path w="74" h="137">
                <a:moveTo>
                  <a:pt x="74" y="0"/>
                </a:moveTo>
                <a:lnTo>
                  <a:pt x="18" y="46"/>
                </a:lnTo>
                <a:lnTo>
                  <a:pt x="0" y="13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27640" y="2131920"/>
            <a:ext cx="287640" cy="144720"/>
          </a:xfrm>
          <a:custGeom>
            <a:avLst/>
            <a:gdLst/>
            <a:ahLst/>
            <a:rect l="l" t="t" r="r" b="b"/>
            <a:pathLst>
              <a:path w="181" h="91">
                <a:moveTo>
                  <a:pt x="0" y="0"/>
                </a:moveTo>
                <a:lnTo>
                  <a:pt x="83" y="63"/>
                </a:lnTo>
                <a:lnTo>
                  <a:pt x="181" y="9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35200" y="3106800"/>
            <a:ext cx="5065560" cy="1727280"/>
          </a:xfrm>
          <a:custGeom>
            <a:avLst/>
            <a:gdLst/>
            <a:ahLst/>
            <a:rect l="l" t="t" r="r" b="b"/>
            <a:pathLst>
              <a:path w="3191" h="1088">
                <a:moveTo>
                  <a:pt x="0" y="649"/>
                </a:moveTo>
                <a:lnTo>
                  <a:pt x="3191" y="1088"/>
                </a:lnTo>
                <a:lnTo>
                  <a:pt x="143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44500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227640" y="4568760"/>
            <a:ext cx="11772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74" y="0"/>
                </a:moveTo>
                <a:lnTo>
                  <a:pt x="19" y="36"/>
                </a:lnTo>
                <a:lnTo>
                  <a:pt x="0" y="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53000" y="378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364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708360" y="5781600"/>
                <a:ext cx="2928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C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9" name=""/>
          <p:cNvSpPr/>
          <p:nvPr/>
        </p:nvSpPr>
        <p:spPr>
          <a:xfrm>
            <a:off x="3781800" y="1125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74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340000" y="243000"/>
                  <a:ext cx="1584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C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4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82692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59280" y="198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59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2481120"/>
            <a:ext cx="3618000" cy="2576520"/>
          </a:xfrm>
          <a:custGeom>
            <a:avLst/>
            <a:gdLst/>
            <a:ahLst/>
            <a:rect l="l" t="t" r="r" b="b"/>
            <a:pathLst>
              <a:path w="2279" h="1623">
                <a:moveTo>
                  <a:pt x="0" y="1623"/>
                </a:moveTo>
                <a:lnTo>
                  <a:pt x="227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81360" y="278136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79640" y="378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7600800">
            <a:off x="2693520" y="2209680"/>
            <a:ext cx="4292640" cy="572148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 rot="12974400">
            <a:off x="3708000" y="1700280"/>
            <a:ext cx="281160" cy="3096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975040" y="1015920"/>
            <a:ext cx="5342040" cy="3962520"/>
          </a:xfrm>
          <a:custGeom>
            <a:avLst/>
            <a:gdLst/>
            <a:ahLst/>
            <a:rect l="l" t="t" r="r" b="b"/>
            <a:pathLst>
              <a:path w="3365" h="2496">
                <a:moveTo>
                  <a:pt x="0" y="0"/>
                </a:moveTo>
                <a:lnTo>
                  <a:pt x="3365" y="2496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4860000" y="2492640"/>
            <a:ext cx="14436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02520" y="3502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300720" y="3573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48000" y="34275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348000" y="3500280"/>
            <a:ext cx="28728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6360" y="1916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844640" y="191628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em.uspu.ru/2010-11-02-08-48-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7-2011-01-24-09-09-13/199-2011-01-26-08-05-3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ешний угол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о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7800" y="112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628640"/>
            <a:ext cx="3673440" cy="2808360"/>
          </a:xfrm>
          <a:prstGeom prst="triangle">
            <a:avLst>
              <a:gd name="adj" fmla="val 29523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7080" y="436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797360"/>
            <a:ext cx="727416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 равен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ух углов треугольника, не смежных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71640" y="6093000"/>
                <a:ext cx="361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00580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6240" y="444348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263600">
            <a:off x="3924000" y="3644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260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бедренного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2016000" cy="2952720"/>
          </a:xfrm>
          <a:prstGeom prst="triangle">
            <a:avLst>
              <a:gd name="adj" fmla="val 48741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700280"/>
            <a:ext cx="2016000" cy="2952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7080" y="1268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2160" y="458136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016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440" y="333072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35592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003000">
            <a:off x="4117680" y="2298240"/>
            <a:ext cx="1000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476000">
            <a:off x="578520" y="4153680"/>
            <a:ext cx="23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3172200">
            <a:off x="1878480" y="4150440"/>
            <a:ext cx="2239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229360"/>
            <a:ext cx="2449800" cy="792000"/>
          </a:xfrm>
          <a:custGeom>
            <a:avLst/>
            <a:gdLst>
              <a:gd name="textAreaLeft" fmla="*/ 51120 w 2449800"/>
              <a:gd name="textAreaRight" fmla="*/ 2398680 w 2449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66792" h="21600">
                <a:moveTo>
                  <a:pt x="0" y="0"/>
                </a:moveTo>
                <a:lnTo>
                  <a:pt x="66792" y="0"/>
                </a:lnTo>
                <a:lnTo>
                  <a:pt x="66792" y="21600"/>
                </a:lnTo>
                <a:lnTo>
                  <a:pt x="0" y="21600"/>
                </a:lnTo>
                <a:close/>
              </a:path>
              <a:path fill="lightenLess" w="66792" h="21600">
                <a:moveTo>
                  <a:pt x="0" y="0"/>
                </a:moveTo>
                <a:lnTo>
                  <a:pt x="66792" y="0"/>
                </a:lnTo>
                <a:lnTo>
                  <a:pt x="65392" y="1400"/>
                </a:lnTo>
                <a:lnTo>
                  <a:pt x="1400" y="1400"/>
                </a:lnTo>
                <a:close/>
              </a:path>
              <a:path fill="darken" w="66792" h="21600">
                <a:moveTo>
                  <a:pt x="66792" y="0"/>
                </a:moveTo>
                <a:lnTo>
                  <a:pt x="66792" y="21600"/>
                </a:lnTo>
                <a:lnTo>
                  <a:pt x="65392" y="20200"/>
                </a:lnTo>
                <a:lnTo>
                  <a:pt x="65392" y="1400"/>
                </a:lnTo>
                <a:close/>
              </a:path>
              <a:path fill="darkenLess" w="66792" h="21600">
                <a:moveTo>
                  <a:pt x="6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92" y="20200"/>
                </a:lnTo>
                <a:close/>
              </a:path>
              <a:path fill="lighten" w="6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4000" y="5229360"/>
            <a:ext cx="2592360" cy="792000"/>
          </a:xfrm>
          <a:custGeom>
            <a:avLst/>
            <a:gdLst>
              <a:gd name="textAreaLeft" fmla="*/ 51120 w 2592360"/>
              <a:gd name="textAreaRight" fmla="*/ 2541240 w 25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70678" h="21600">
                <a:moveTo>
                  <a:pt x="0" y="0"/>
                </a:moveTo>
                <a:lnTo>
                  <a:pt x="70678" y="0"/>
                </a:lnTo>
                <a:lnTo>
                  <a:pt x="70678" y="21600"/>
                </a:lnTo>
                <a:lnTo>
                  <a:pt x="0" y="21600"/>
                </a:lnTo>
                <a:close/>
              </a:path>
              <a:path fill="lightenLess" w="70678" h="21600">
                <a:moveTo>
                  <a:pt x="0" y="0"/>
                </a:moveTo>
                <a:lnTo>
                  <a:pt x="70678" y="0"/>
                </a:lnTo>
                <a:lnTo>
                  <a:pt x="69278" y="1400"/>
                </a:lnTo>
                <a:lnTo>
                  <a:pt x="1400" y="1400"/>
                </a:lnTo>
                <a:close/>
              </a:path>
              <a:path fill="darken" w="70678" h="21600">
                <a:moveTo>
                  <a:pt x="70678" y="0"/>
                </a:moveTo>
                <a:lnTo>
                  <a:pt x="70678" y="21600"/>
                </a:lnTo>
                <a:lnTo>
                  <a:pt x="69278" y="20200"/>
                </a:lnTo>
                <a:lnTo>
                  <a:pt x="69278" y="1400"/>
                </a:lnTo>
                <a:close/>
              </a:path>
              <a:path fill="darkenLess" w="70678" h="21600">
                <a:moveTo>
                  <a:pt x="7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78" y="20200"/>
                </a:lnTo>
                <a:close/>
              </a:path>
              <a:path fill="lighten" w="7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ана,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28464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328464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941720"/>
            <a:ext cx="345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3360"/>
            <a:ext cx="3780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-ке биссектри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нная к основа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ется медиа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1778040"/>
            <a:ext cx="1440" cy="2857320"/>
          </a:xfrm>
          <a:custGeom>
            <a:avLst/>
            <a:gdLst/>
            <a:ahLst/>
            <a:rect l="l" t="t" r="r" b="b"/>
            <a:pathLst>
              <a:path w="1" h="1800">
                <a:moveTo>
                  <a:pt x="0" y="0"/>
                </a:moveTo>
                <a:lnTo>
                  <a:pt x="0" y="1800"/>
                </a:ln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7236800">
            <a:off x="3906720" y="2293560"/>
            <a:ext cx="8604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09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511600">
            <a:off x="3779640" y="4365720"/>
            <a:ext cx="274320" cy="207720"/>
          </a:xfrm>
          <a:custGeom>
            <a:avLst/>
            <a:gdLst/>
            <a:ahLst/>
            <a:rect l="l" t="t" r="r" b="b"/>
            <a:pathLst>
              <a:path w="173" h="131">
                <a:moveTo>
                  <a:pt x="173" y="41"/>
                </a:moveTo>
                <a:lnTo>
                  <a:pt x="41" y="0"/>
                </a:lnTo>
                <a:lnTo>
                  <a:pt x="0" y="1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26028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дианы, биссектри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высоты треугольников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016000" cy="2952720"/>
          </a:xfrm>
          <a:prstGeom prst="triangle">
            <a:avLst>
              <a:gd name="adj" fmla="val 31102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773360"/>
            <a:ext cx="2592360" cy="2160360"/>
          </a:xfrm>
          <a:prstGeom prst="triangle">
            <a:avLst>
              <a:gd name="adj" fmla="val 81079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7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4160" y="14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6160" y="39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052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9840" y="6286680"/>
            <a:ext cx="25416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66244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910600">
            <a:off x="4420080" y="2277000"/>
            <a:ext cx="23832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5708000">
            <a:off x="4863240" y="2416680"/>
            <a:ext cx="21456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1994040"/>
            <a:ext cx="355680" cy="2933640"/>
          </a:xfrm>
          <a:custGeom>
            <a:avLst/>
            <a:gdLst/>
            <a:ahLst/>
            <a:rect l="l" t="t" r="r" b="b"/>
            <a:pathLst>
              <a:path w="224" h="1848">
                <a:moveTo>
                  <a:pt x="0" y="0"/>
                </a:moveTo>
                <a:lnTo>
                  <a:pt x="224" y="184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4788000"/>
            <a:ext cx="38160" cy="25380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4797360"/>
            <a:ext cx="38160" cy="25416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05240" y="1816200"/>
            <a:ext cx="622440" cy="2120760"/>
          </a:xfrm>
          <a:custGeom>
            <a:avLst/>
            <a:gdLst/>
            <a:ahLst/>
            <a:rect l="l" t="t" r="r" b="b"/>
            <a:pathLst>
              <a:path w="392" h="1336">
                <a:moveTo>
                  <a:pt x="392" y="0"/>
                </a:moveTo>
                <a:lnTo>
                  <a:pt x="0" y="1336"/>
                </a:lnTo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944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365720"/>
            <a:ext cx="2592360" cy="2160360"/>
          </a:xfrm>
          <a:prstGeom prst="triangle">
            <a:avLst>
              <a:gd name="adj" fmla="val 3502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2800" y="4368960"/>
            <a:ext cx="1440" cy="2146320"/>
          </a:xfrm>
          <a:custGeom>
            <a:avLst/>
            <a:gdLst/>
            <a:ahLst/>
            <a:rect l="l" t="t" r="r" b="b"/>
            <a:pathLst>
              <a:path w="1" h="1352">
                <a:moveTo>
                  <a:pt x="0" y="0"/>
                </a:moveTo>
                <a:lnTo>
                  <a:pt x="0" y="1352"/>
                </a:ln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80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416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416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080" y="6021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5229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73408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6237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52600" y="5335560"/>
                <a:ext cx="65293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ВО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умма смежных углов равна 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65800" y="14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4130640"/>
            <a:ext cx="438120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700280"/>
            <a:ext cx="144792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60280"/>
            <a:ext cx="7705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межные угл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620640"/>
            <a:ext cx="8642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сторонний треугольник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3500280"/>
            <a:ext cx="228600" cy="14472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661000"/>
            <a:ext cx="6769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сторонне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сторон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Ы и вс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1773360"/>
            <a:ext cx="4032000" cy="34876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500280"/>
            <a:ext cx="241200" cy="16524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8920" y="51213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8620200">
            <a:off x="2986920" y="458100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5905400">
            <a:off x="4410720" y="2149920"/>
            <a:ext cx="360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11200">
            <a:off x="5795640" y="458136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08360" y="5197320"/>
                <a:ext cx="33847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724360" y="1989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278136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е угла, противолежащего осн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388360" y="35002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414972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8388360" y="4797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5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205000"/>
            <a:ext cx="2376360" cy="316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938800">
            <a:off x="1596600" y="2228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7800" y="210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4809800">
            <a:off x="310824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809800">
            <a:off x="116352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944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Мама</cp:lastModifiedBy>
  <dcterms:modified xsi:type="dcterms:W3CDTF">2012-07-29T17:09:09Z</dcterms:modified>
  <cp:revision>151</cp:revision>
  <dc:subject/>
  <dc:title>Слайд 1</dc:title>
</cp:coreProperties>
</file>