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0B2-B48A-4B24-8BC2-A988E100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AA8-8471-4B9D-B601-60C0389C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D6E-B8B6-4D55-B1BC-2614AC31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B77-C6D2-48B6-9573-420B45E4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E49-29E2-4CE9-9C55-3455DAD9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0F9-24B9-44EB-9C4F-6AAC0E9B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A28-0CA7-4096-94BC-0D617B2A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CA4-5187-4719-B23C-D4C460E8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D62-2A8C-4802-B5E4-B1620919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C83-E6F0-4873-BF34-ADAD81F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122-D138-4FC3-9497-F4A60AF0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E35-95A1-473C-A047-A54FF137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64B6-E9A8-4EAA-BF88-D4004D80D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odersmal.net/ryska/index.php/laeromedel/-3-4" TargetMode="External"/><Relationship Id="rId2" Type="http://schemas.openxmlformats.org/officeDocument/2006/relationships/hyperlink" Target="http://prkas.ru/index.php?id=145" TargetMode="External"/><Relationship Id="rId3" Type="http://schemas.openxmlformats.org/officeDocument/2006/relationships/hyperlink" Target="http://www.photoforum.ru/photo/182993/index.ru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213012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колай  Сладков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«Снег и  Вет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6479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литературного чтения  2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ншиева Наталья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87480" cy="415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14800" y="457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зия № 227  Фрунзенского райо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нкт –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одобрать  эпите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Arial"/>
              </a:rPr>
              <a:t>Ручеёк  (какой?)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   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быстрый,  звонкий,  журчащий, холодный,  прозрач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бъясните значения 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тебе нет  лиц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сунулся –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скис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лякоть развёл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струился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бъясните значения 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тебе нет  лица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лохо  выгляд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унулся – похудет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скис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терять бодрость, стать вялым, апатичным, бездейственным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лякоть развёл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жидкая грязь на земле, на дорогах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струился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иться,  теч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7328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Меня  удивило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Я  почувствовал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Я  думаю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ь пересказ и чтение по ро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dersmal.net/ryska/index.php/laeromedel/-3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rkas.ru/index.php?id=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hotoforum.ru/photo/182993/index.ru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то хочет разговари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от должен вы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се правильно и в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тоб было всем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ы будем раз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 будем вы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ак правильно и в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тоб было всем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Скорогово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 нас на дворе, подворь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года размокропогодила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Николай  Слад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03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лай Иванович Сладков родился 5 января 1920 года в Москве, но всю жизнь прожил в Ленинграде. С детства он любил природу и интересовался ею. Со второго класса начал вести дневник, куда вписывал свои первые впечатления и наблюдения. В молодости увлекался охотой, однако впоследствии отказался от этого занятия, считая спортивную охоту варварством. Вместо неё стал заниматься фотоохотой, выдвинул призыв «Не бери в лес ружье, возьми в лес фоторужье». Во время войны добровольцем ушёл на фронт, стал военным топографом. В мирное время сохранил ту же специа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ую книгу «Серебряный хвост» написал в 1953 г. Всего написал более 60 книг. Вместе с Виталием Бианки выпускал радиопередачу «Вести из Леса». Много путешествовал, как правило в одиночку, эти путешествия отражены в книгах. Много писал о необходимости защиты природы, охраны исчезающих видов, воспитания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Незаметно зажглась и тихо начала разгораться алая полоск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371600" y="533520"/>
            <a:ext cx="6553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нег и  Вете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Курорт – место для  отдыха и ле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2212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Эпит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 образное  определение, которое даёт художественную характеристику явлению или  предмету. Эпитет представляет собой  сравнение и может быть выражен как  именем  прилагательным, так и существительным, глаголом или  наречием. Например,  золотая  осень,  синее  море,  белоснежная  зима, бархатная  кожа,  хрустальный  зв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6:44:25Z</dcterms:created>
  <dc:creator>Natalia</dc:creator>
  <dc:description/>
  <dc:language>en-US</dc:language>
  <cp:lastModifiedBy>Natalia</cp:lastModifiedBy>
  <dcterms:modified xsi:type="dcterms:W3CDTF">2012-06-09T10:07:5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