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D784-D279-4A56-B50A-6AC3B2E0A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13D2-C491-4AA0-B3E7-0BF6E156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2449-B7D2-4F81-9C19-0D88DE24E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7706-0F78-43B9-8EB2-7ADF77BF1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6C4A-AF80-471A-AC9C-891BA95B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0474-9D63-4B12-945A-74DA6BFE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3B46-A179-436D-B8B3-CE728CCA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6549-3F5A-4FFA-AA98-B4E9FD6F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99FF-996C-4E30-B575-79660F10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9CED-3DE4-4A72-99EB-E625178F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D9BD-D0CF-45E4-916A-9D3501F0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C345-B551-47A4-96B0-29D201BF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877F-A578-4942-82AF-13881399F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modersmal.net/ryska/index.php/laeromedel/-3-4" TargetMode="External"/><Relationship Id="rId2" Type="http://schemas.openxmlformats.org/officeDocument/2006/relationships/hyperlink" Target="http://prkas.ru/index.php?id=145" TargetMode="External"/><Relationship Id="rId3" Type="http://schemas.openxmlformats.org/officeDocument/2006/relationships/hyperlink" Target="http://www.photoforum.ru/photo/182993/index.ru.html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7400" y="2130120"/>
            <a:ext cx="6400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иколай  Сладков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«Снег и  Ветер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6520" y="4647960"/>
            <a:ext cx="7238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 литературного чтения  2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аншиева Наталья Алекс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787480" cy="4151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114800" y="45720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сударственное бюджетное  образовательное учреждение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имназия № 227  Фрунзенского район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нкт – 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Подобрать  эпитет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ff"/>
                </a:solidFill>
                <a:latin typeface="Arial"/>
              </a:rPr>
              <a:t>Ручеёк  (какой?)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     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быстрый,  звонкий,  журчащий, холодный,  прозрачны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Объясните значения  сл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На тебе нет  лиц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Осунулся –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Раскис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Слякоть развёл –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Заструился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Объясните значения  сл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На тебе нет  лица –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лохо  выгляде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Осунулся – похудеть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Раскис –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отерять бодрость, стать вялым, апатичным, бездейственным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Слякоть развёл –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жидкая грязь на земле, на дорогах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Заструился –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литься,  течь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673280"/>
            <a:ext cx="82296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6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Arial"/>
              </a:rPr>
              <a:t>Меня  удивило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6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Arial"/>
              </a:rPr>
              <a:t>Я  почувствовал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6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Arial"/>
              </a:rPr>
              <a:t>Я  думаю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Домашнее 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готовь пересказ и чтение по рол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odersmal.net/ryska/index.php/laeromedel/-3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rkas.ru/index.php?id=1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hotoforum.ru/photo/182993/index.ru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Кто хочет разговари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Тот должен выговари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Все правильно и внят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Чтоб было всем поня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Мы будем разговари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И будем выговари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Так правильно и внят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Чтоб было всем поня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Скороговор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У нас на дворе, подворье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погода размокропогодилас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743200" y="3505320"/>
            <a:ext cx="388620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Николай  Слад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43200" y="1371600"/>
            <a:ext cx="4038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колай Иванович Сладков родился 5 января 1920 года в Москве, но всю жизнь прожил в Ленинграде. С детства он любил природу и интересовался ею. Со второго класса начал вести дневник, куда вписывал свои первые впечатления и наблюдения. В молодости увлекался охотой, однако впоследствии отказался от этого занятия, считая спортивную охоту варварством. Вместо неё стал заниматься фотоохотой, выдвинул призыв «Не бери в лес ружье, возьми в лес фоторужье». Во время войны добровольцем ушёл на фронт, стал военным топографом. В мирное время сохранил ту же специа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вую книгу «Серебряный хвост» написал в 1953 г. Всего написал более 60 книг. Вместе с Виталием Бианки выпускал радиопередачу «Вести из Леса». Много путешествовал, как правило в одиночку, эти путешествия отражены в книгах. Много писал о необходимости защиты природы, охраны исчезающих видов, воспитания бережного отношения к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Незаметно зажглась и тихо начала разгораться алая полоска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229600" cy="6354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1371600" y="533520"/>
            <a:ext cx="65530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нег и  Ветер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Словарн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Курорт – место для  отдыха и леч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81480" y="2438280"/>
            <a:ext cx="322128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4582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Эпит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  образное  определение, которое даёт художественную характеристику явлению или  предмету. Эпитет представляет собой  сравнение и может быть выражен как  именем  прилагательным, так и существительным, глаголом или  наречием. Например,  золотая  осень,  синее  море,  белоснежная  зима, бархатная  кожа,  хрустальный  зв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06:44:25Z</dcterms:created>
  <dc:creator>Natalia</dc:creator>
  <dc:description/>
  <dc:language>en-US</dc:language>
  <cp:lastModifiedBy>Natalia</cp:lastModifiedBy>
  <dcterms:modified xsi:type="dcterms:W3CDTF">2012-06-09T10:07:50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