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E3E-B0A5-4E32-8E5E-B1505BF7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8F9-F572-499D-B054-2E9CCF17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F3E-953A-4CD4-89BF-1D20A9A4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0B7-CBB0-4B33-952A-17363A87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F070-7A4A-458A-93A2-E40B3D68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BA29-F329-4A9A-AAA0-6AF8E980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0460-F4DA-4544-91D4-CD53381A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4765-4253-472C-A156-2A04757D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9359-45C4-43B8-BE9D-1988DB3F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88BC-D719-4FDA-B369-2DD2EAF7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C3ED-E83E-4B39-9417-8AC2B48B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F3F-A313-458E-B41A-2D68A227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C764-FF36-4F0E-9882-E8439B9E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EA3C-84AB-4E83-B4E1-3E71FC6F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5E05-5278-4CD7-ABF2-5EAD1FFA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DBCF-0FF9-4665-9EFE-31BE2CA1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772D-1D01-4F28-BC43-0D29D3D2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234-77C4-420A-BE2C-E6C57A34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FF9-E8C1-42B4-BA0D-E1E21AA6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DE5-F68C-4D0C-930A-CD28EAC6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55D-3D43-41F0-8EA5-594ABE3B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4D6-0120-4F58-B35C-D18A7A62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F40-D696-4EF5-93BD-A74298D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32F-3577-40DE-9087-29AF4404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7A26-5F8F-4380-9A1E-2B267C83D3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1E38-DCE0-4FCA-BD16-9235F5976E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оссийская импер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Рисунок5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505320" y="2590920"/>
            <a:ext cx="2655720" cy="3581280"/>
          </a:xfrm>
          <a:prstGeom prst="rect">
            <a:avLst/>
          </a:prstGeom>
          <a:ln w="76320">
            <a:solidFill>
              <a:srgbClr val="86d1ec"/>
            </a:solidFill>
            <a:miter/>
          </a:ln>
        </p:spPr>
      </p:pic>
      <p:sp>
        <p:nvSpPr>
          <p:cNvPr id="164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73"/>
          </a:solidFill>
          <a:ln w="38160">
            <a:solidFill>
              <a:srgbClr val="d6e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666880" y="533520"/>
            <a:ext cx="3962520" cy="2286000"/>
          </a:xfrm>
          <a:prstGeom prst="foldedCorner">
            <a:avLst>
              <a:gd name="adj" fmla="val 37259"/>
            </a:avLst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сосло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4952880" y="3352680"/>
            <a:ext cx="3657600" cy="3200400"/>
          </a:xfrm>
          <a:prstGeom prst="foldedCorner">
            <a:avLst>
              <a:gd name="adj" fmla="val 38407"/>
            </a:avLst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Непривилегиров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(крестья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мещ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аз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упцы 3гильд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609480" y="3352680"/>
            <a:ext cx="3581640" cy="3200400"/>
          </a:xfrm>
          <a:prstGeom prst="foldedCorner">
            <a:avLst>
              <a:gd name="adj" fmla="val 37222"/>
            </a:avLst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Привилегиров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(дворя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духовен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упечество 1и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гильд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оссия в конце 18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ая отрасль экономики – с/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одально – крепостническая система землевлад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осподство натурального хозяй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46d0"/>
                </a:solidFill>
                <a:latin typeface="Arial"/>
              </a:rPr>
              <a:t>Отношения между помещиком и крестьянин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Крепостные крестьяне – собственность помещ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Помещик назначает виды и размер феодальных повинност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Всё имущество крестьянина – собственность помещ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Повинности крестьян – барщина и об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017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b46d0"/>
                </a:solidFill>
                <a:latin typeface="Arial"/>
              </a:rPr>
              <a:t>Особенности развития с/х в Росс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46d0"/>
                </a:solidFill>
                <a:latin typeface="Arial"/>
              </a:rPr>
              <a:t>Отсутствие прогресса в технике обработки земли и орудиях тру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46d0"/>
                </a:solidFill>
                <a:latin typeface="Arial"/>
              </a:rPr>
              <a:t>Экстенсивный путь развития (при котором земля обрабатывается хуже, поскольку нет достаточного количества рук и хороших орудий труд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0" y="142920"/>
            <a:ext cx="9144000" cy="5031360"/>
          </a:xfrm>
          <a:prstGeom prst="rect">
            <a:avLst/>
          </a:prstGeom>
          <a:noFill/>
          <a:ln w="936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первой половине XIX в. в России продолжался рост мелкотоварного ремесла, развитие крестьянских промыс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месло постепенно меняло свой характер. Теперь ремесленники были тесно связаны с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уфактурами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 поздн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 с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бри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то позволяет говорить о 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апиталистическом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харак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ПИТАЛИСТИЧЕСКОЕ ПРОИЗВОДСТВО В РОССИИ НЕ ВОЗНИКАЛО, ПОТОМУ ЧТО СУЩЕСТВОВАЛО КРЕПОСТНОЕ ПРАВО И НА МАНУФАКТУРАХ ПРИМЕНЯЛСЯ ПОДНЕВОЛЬНЫЙ ТРУД, КОТОРЫЙ НЕ БЫЛ ЭФФЕКТИВ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857680" y="4857840"/>
            <a:ext cx="36432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214200" y="214200"/>
            <a:ext cx="871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Arial"/>
              </a:rPr>
              <a:t>Особенности формирования российского пролетари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инство русских наемных рабочих оставались крепостными, ушедшими в города на заработки. Заработную плату предприниматель вынужден был устанавливать на таком уровне, чтобы она обеспечивала  выплату рабочими оброка помещику. Крестьянин-отходник с трудом превращался в кадрового рабочего, поневоле сохранял прочную связь с деревней, где оставалась его семья. Да и сам он в любой момент мог быть отозван помещиком. Приток рабочей силы на фабрики и мануфактуры был сезонным: во время массовых сельскохозяйственных работ многие возвращались в деревн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ресы развития российской промышленности требовали освобождения рабочей силы, то есть ликвидации крепостного права в 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0" y="214200"/>
            <a:ext cx="9144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Специфика рус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уржуаз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сийская буржуазия первой  XIXв.половины. формировалась из купцов и капиталистых крестьян. Крепостной предприниматель начинал с нескольких ткацких станков, на которых работал вместе с сыновьями. Затем после ряда удачных сделок нанимал первых рабочих из числа односельчан, постепенно расширяя производство. Однако несмотря на свое богатство они оставались крепостными и продолжали всецело зависеть от помещика, что нередко крайне затрудняло их предпринимательскую деятельность. Большинство помещиков предпочитали не отпускать крепостных богачей на волю даже за огромный выкуп, а ежегодно взимали с них многотысячный об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3577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343400" y="1066680"/>
            <a:ext cx="4495680" cy="2819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 н. 19 в. Россия оставалась самодержавной монарх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итический стр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411560" y="6019920"/>
            <a:ext cx="1410840" cy="520560"/>
          </a:xfrm>
          <a:prstGeom prst="rect">
            <a:avLst/>
          </a:prstGeom>
          <a:solidFill>
            <a:srgbClr val="ffccff"/>
          </a:solidFill>
          <a:ln w="7632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авел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Рисунок5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57200" y="990720"/>
            <a:ext cx="3638520" cy="4906800"/>
          </a:xfrm>
          <a:prstGeom prst="rect">
            <a:avLst/>
          </a:prstGeom>
          <a:ln w="76320">
            <a:solidFill>
              <a:srgbClr val="86d1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0" y="304920"/>
            <a:ext cx="4648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ы вла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04920" y="1143000"/>
            <a:ext cx="8839080" cy="825480"/>
          </a:xfrm>
          <a:prstGeom prst="rect">
            <a:avLst/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Император(носитель исполнительной, законодательной и судебной вла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 flipH="1">
            <a:off x="761760" y="190512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0" y="2811600"/>
            <a:ext cx="3048120" cy="1503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Колле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d1ec"/>
                </a:solidFill>
                <a:latin typeface="Arial"/>
              </a:rPr>
              <a:t>(исполнительные учрежд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343400" y="198108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09680" y="4411800"/>
            <a:ext cx="3657600" cy="119124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тельствующий Сенат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ысший судебный орг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7391520" y="1981080"/>
            <a:ext cx="3045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172200" y="3268800"/>
            <a:ext cx="2666880" cy="119124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b46d0"/>
                </a:solidFill>
                <a:latin typeface="Arial"/>
              </a:rPr>
              <a:t>Синод </a:t>
            </a:r>
            <a:r>
              <a:rPr b="0" lang="ru-RU" sz="2400" spc="-1" strike="noStrike">
                <a:solidFill>
                  <a:srgbClr val="7b46d0"/>
                </a:solidFill>
                <a:latin typeface="Arial"/>
              </a:rPr>
              <a:t>(высшее духовное учре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4114800" y="6019920"/>
            <a:ext cx="2214720" cy="428400"/>
          </a:xfrm>
          <a:prstGeom prst="rect">
            <a:avLst/>
          </a:prstGeom>
          <a:solidFill>
            <a:srgbClr val="000073"/>
          </a:solidFill>
          <a:ln w="38160">
            <a:solidFill>
              <a:srgbClr val="d6e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6d1ec"/>
                </a:solidFill>
                <a:latin typeface="Arial"/>
              </a:rPr>
              <a:t>Политический строй 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6d1ec"/>
                </a:solidFill>
                <a:latin typeface="Arial"/>
              </a:rPr>
              <a:t>система управления государств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5c984"/>
                </a:solidFill>
                <a:latin typeface="Arial"/>
              </a:rPr>
              <a:t>Социальный строй 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90720" y="2590920"/>
            <a:ext cx="71625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состав общества, система отношений внутри общест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b46d0"/>
                </a:solidFill>
                <a:latin typeface="Arial"/>
              </a:rPr>
              <a:t>Экономический строй 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81080" y="26668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46d0"/>
                </a:solidFill>
                <a:latin typeface="Arial"/>
              </a:rPr>
              <a:t>организация производства и торговли в стран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3200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Территории присоединённые к Российской империи в 18в.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войны со Швецией –выход к Балтийскому мор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раздела Речи Посполитой были присоединены – правобережная Украина, Белоруссия, Литва, часть Польш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ом русско-турецких войн –часть Черноморского побережья, Крым, Кубань, ряд северокавказских земел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мчатка, Приморье, Аляска, Алеутские острова, часть Северной Калифор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5486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6d1ec"/>
                </a:solidFill>
                <a:latin typeface="Arial"/>
              </a:rPr>
              <a:t>Российская импер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6d1ec"/>
                </a:solidFill>
                <a:latin typeface="Arial"/>
              </a:rPr>
              <a:t>Многонациональн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6d1ec"/>
                </a:solidFill>
                <a:latin typeface="Arial"/>
              </a:rPr>
              <a:t>Многоконфессиональная (государство, население которого исповедует различные религиозные учения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b46d0"/>
                </a:solidFill>
                <a:uFillTx/>
                <a:latin typeface="Arial"/>
              </a:rPr>
              <a:t>Административное де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Diagram 10"/>
          <p:cNvGrpSpPr/>
          <p:nvPr/>
        </p:nvGrpSpPr>
        <p:grpSpPr>
          <a:xfrm>
            <a:off x="1593720" y="918360"/>
            <a:ext cx="5574960" cy="5704920"/>
            <a:chOff x="1593720" y="918360"/>
            <a:chExt cx="5574960" cy="5704920"/>
          </a:xfrm>
        </p:grpSpPr>
        <p:sp>
          <p:nvSpPr>
            <p:cNvPr id="177" name="_s1028"/>
            <p:cNvSpPr/>
            <p:nvPr/>
          </p:nvSpPr>
          <p:spPr>
            <a:xfrm flipV="1">
              <a:off x="1593720" y="5195160"/>
              <a:ext cx="5574960" cy="1427400"/>
            </a:xfrm>
            <a:custGeom>
              <a:avLst/>
              <a:gdLst>
                <a:gd name="textAreaLeft" fmla="*/ 838800 w 5574960"/>
                <a:gd name="textAreaRight" fmla="*/ 4736160 w 5574960"/>
                <a:gd name="textAreaTop" fmla="*/ 214560 h 1427400"/>
                <a:gd name="textAreaBottom" fmla="*/ 1212840 h 14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олос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029"/>
            <p:cNvSpPr/>
            <p:nvPr/>
          </p:nvSpPr>
          <p:spPr>
            <a:xfrm flipV="1">
              <a:off x="2289960" y="3771000"/>
              <a:ext cx="4181760" cy="1424520"/>
            </a:xfrm>
            <a:custGeom>
              <a:avLst/>
              <a:gdLst>
                <a:gd name="textAreaLeft" fmla="*/ 725760 w 4181760"/>
                <a:gd name="textAreaRight" fmla="*/ 3456000 w 4181760"/>
                <a:gd name="textAreaTop" fmla="*/ 247320 h 1424520"/>
                <a:gd name="textAreaBottom" fmla="*/ 1177200 h 142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уезд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1030"/>
            <p:cNvSpPr/>
            <p:nvPr/>
          </p:nvSpPr>
          <p:spPr>
            <a:xfrm flipV="1">
              <a:off x="2988720" y="2342880"/>
              <a:ext cx="2784960" cy="1427400"/>
            </a:xfrm>
            <a:custGeom>
              <a:avLst/>
              <a:gdLst>
                <a:gd name="textAreaLeft" fmla="*/ 612360 w 2784960"/>
                <a:gd name="textAreaRight" fmla="*/ 2172600 w 2784960"/>
                <a:gd name="textAreaTop" fmla="*/ 313920 h 1427400"/>
                <a:gd name="textAreaBottom" fmla="*/ 1113480 h 14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уберни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1031"/>
            <p:cNvSpPr/>
            <p:nvPr/>
          </p:nvSpPr>
          <p:spPr>
            <a:xfrm flipV="1">
              <a:off x="3684600" y="917640"/>
              <a:ext cx="1392840" cy="1425240"/>
            </a:xfrm>
            <a:custGeom>
              <a:avLst/>
              <a:gdLst>
                <a:gd name="textAreaLeft" fmla="*/ 499680 w 1392840"/>
                <a:gd name="textAreaRight" fmla="*/ 893160 w 1392840"/>
                <a:gd name="textAreaTop" fmla="*/ 511200 h 1425240"/>
                <a:gd name="textAreaBottom" fmla="*/ 914040 h 142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импер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520" y="4571640"/>
            <a:ext cx="8610840" cy="213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арактерной чертой российского общество было сохранение разветвленного сослов-ного строя.Основными сословиями Рос-сийской империи бы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80880" y="720720"/>
            <a:ext cx="8591760" cy="3851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ословный стр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5c984"/>
                </a:solidFill>
                <a:latin typeface="Arial"/>
              </a:rPr>
              <a:t>Сословия российской импе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838080"/>
          <a:ext cx="9144000" cy="20043720"/>
        </p:xfrm>
        <a:graphic>
          <a:graphicData uri="http://schemas.openxmlformats.org/drawingml/2006/table">
            <a:tbl>
              <a:tblPr/>
              <a:tblGrid>
                <a:gridCol w="1828800"/>
                <a:gridCol w="1676520"/>
                <a:gridCol w="5638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лов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-т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 и обяза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ян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владение землёй, крепостными; сословное самоуправление; освобождение от налогов, рекрутской повинности и телесных наказа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ен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владение землёй, крепостными; сословное самоуправление; освобождение от налогов, рекрутской повинности и телесных наказа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пе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 1гильдии: ведение торговли, освобождение от нек.налогов, рекрутской повинности и телесных наказаний, сословное самоуправлен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2-3гильдии обязанности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ща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занятие городским промыслом и мелкой торговлей, сословное самоуправлен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епостные кресть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-4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 как собственности дворян: барщина, оброк и др.повин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 как подданных государства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ые кресть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-4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общинное владение землёй, общинное самоуправ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владение землёй, освобождение от подат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: воинская служба со своим снаряжени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кина</dc:creator>
  <dc:description/>
  <dc:language>en-US</dc:language>
  <cp:lastModifiedBy>Admin</cp:lastModifiedBy>
  <dcterms:modified xsi:type="dcterms:W3CDTF">2012-06-27T21:29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40000000000010250300207f7000400038000</vt:lpwstr>
  </property>
  <property fmtid="{D5CDD505-2E9C-101B-9397-08002B2CF9AE}" pid="3" name="Version">
    <vt:r8>1</vt:r8>
  </property>
</Properties>
</file>