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507-95A2-4A3F-AA30-0601BB50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6E7-670F-4B8B-8A81-E5670C9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69D-5567-4779-AC8E-3907132C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61B-D7A0-4483-8E8A-F97A84B0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A553-9823-4A5C-B4BB-13D923EC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ACC4-0338-416F-840D-AAD31C2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5A1-10E4-4E96-85AC-90850979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6ED2-11B6-4595-A698-F22488D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F2BB-30FF-4BFA-BFB5-623A393D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3249-BAFF-4B6A-8743-8A83ED2E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C5FE-5A5A-4AC9-965C-D908B74A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9CA-C0D2-49C7-9326-28EB9E9F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9FC-C00D-434E-BDF3-AF15051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3B0B-5AEE-4568-AC16-66EDFE5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2EC7-98F2-46FF-9F6D-47CFD9B8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15E-0B8E-4F1C-929F-1902C222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4C5C-A699-4A72-9F18-306C86F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B99-E35F-45F6-9930-56A32F3A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1E0-0F9A-41E9-B545-7359E5D3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B37-C856-44C0-BB6A-43F564BD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2F2-5C5B-47AD-869F-E918A44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557-8936-480D-BECC-E9913E5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68-9485-4DDD-A016-FCB598F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A59-831D-4544-A6C0-FB4DA49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9AE-49EF-4AF0-A4FB-FE47271A7E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BF8A-7689-48BA-AA77-1AD28B2711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оссийская импер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Рисунок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505320" y="2590920"/>
            <a:ext cx="2655720" cy="358128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  <p:sp>
        <p:nvSpPr>
          <p:cNvPr id="16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666880" y="533520"/>
            <a:ext cx="3962520" cy="2286000"/>
          </a:xfrm>
          <a:prstGeom prst="foldedCorner">
            <a:avLst>
              <a:gd name="adj" fmla="val 37259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сосло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952880" y="3352680"/>
            <a:ext cx="3657600" cy="3200400"/>
          </a:xfrm>
          <a:prstGeom prst="foldedCorner">
            <a:avLst>
              <a:gd name="adj" fmla="val 38407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Не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кресть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ещ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аз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цы 3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09480" y="3352680"/>
            <a:ext cx="3581640" cy="3200400"/>
          </a:xfrm>
          <a:prstGeom prst="foldedCorner">
            <a:avLst>
              <a:gd name="adj" fmla="val 37222"/>
            </a:avLst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ивилегиров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двор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духове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упечество 1и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гильд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ссия в конце 18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отрасль экономики – с/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одально – крепостническая система землевлад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сподство натурального хозя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46d0"/>
                </a:solidFill>
                <a:latin typeface="Arial"/>
              </a:rPr>
              <a:t>Отношения между помещиком и крестьян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Крепостные крестьяне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мещик назначает виды и размер феодальных повинност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Всё имущество крестьянина – собственность помещ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c984"/>
                </a:solidFill>
                <a:latin typeface="Arial"/>
              </a:rPr>
              <a:t>Повинности крестьян – барщина и об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01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46d0"/>
                </a:solidFill>
                <a:latin typeface="Arial"/>
              </a:rPr>
              <a:t>Особенности развития с/х в Росс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Отсутствие прогресса в технике обработки земли и орудиях тру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46d0"/>
                </a:solidFill>
                <a:latin typeface="Arial"/>
              </a:rPr>
              <a:t>Экстенсивный путь развития (при котором земля обрабатывается хуже, поскольку нет достаточного количества рук и хороших орудий труд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142920"/>
            <a:ext cx="9144000" cy="5031360"/>
          </a:xfrm>
          <a:prstGeom prst="rect">
            <a:avLst/>
          </a:prstGeom>
          <a:noFill/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ервой половине XIX в. в России продолжался рост мелкотоварного ремесла, развитие крестьянских промы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месло постепенно меняло свой характер. Теперь ремесленники были тесно связаны 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уфактурами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 позд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 с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бри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позволяет говорить о 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питалистическо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харак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ПИТАЛИСТИЧЕСКОЕ ПРОИЗВОДСТВО В РОССИИ НЕ ВОЗНИКАЛО, ПОТОМУ ЧТО СУЩЕСТВОВАЛО КРЕПОСТНОЕ ПРАВО И НА МАНУФАКТУРАХ ПРИМЕНЯЛСЯ ПОДНЕВОЛЬНЫЙ ТРУД, КОТОРЫЙ НЕ БЫЛ ЭФФЕКТИВ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57680" y="4857840"/>
            <a:ext cx="3643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214200" y="214200"/>
            <a:ext cx="871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Arial"/>
              </a:rPr>
              <a:t>Особенности формирования российского пролетари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русских наемных рабочих оставались крепостными, ушедшими в города на заработки. Заработную плату предприниматель вынужден был устанавливать на таком уровне, чтобы она обеспечивала  выплату рабочими оброка помещику. Крестьянин-отходник с трудом превращался в кадрового рабочего, поневоле сохранял прочную связь с деревней, где оставалась его семья. Да и сам он в любой момент мог быть отозван помещиком. Приток рабочей силы на фабрики и мануфактуры был сезонным: во время массовых сельскохозяйственных работ многие возвращались в деревн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есы развития российской промышленности требовали освобождения рабочей силы, то есть ликвидации крепостного права в 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21420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Специфика рус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уржуаз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йская буржуазия первой  XIXв.половины. формировалась из купцов и капиталистых крестьян. Крепостной предприниматель начинал с нескольких ткацких станков, на которых работал вместе с сыновьями. Затем после ряда удачных сделок нанимал первых рабочих из числа односельчан, постепенно расширяя производство. Однако несмотря на свое богатство они оставались крепостными и продолжали всецело зависеть от помещика, что нередко крайне затрудняло их предпринимательскую деятельность. Большинство помещиков предпочитали не отпускать крепостных богачей на волю даже за огромный выкуп, а ежегодно взимали с них многотысячный об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43400" y="1066680"/>
            <a:ext cx="4495680" cy="281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 н. 19 в. Россия оставалась самодержавной монарх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итически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11560" y="6019920"/>
            <a:ext cx="1410840" cy="520560"/>
          </a:xfrm>
          <a:prstGeom prst="rect">
            <a:avLst/>
          </a:prstGeom>
          <a:solidFill>
            <a:srgbClr val="ffccff"/>
          </a:solidFill>
          <a:ln w="7632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авел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Рисунок5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" y="990720"/>
            <a:ext cx="3638520" cy="4906800"/>
          </a:xfrm>
          <a:prstGeom prst="rect">
            <a:avLst/>
          </a:prstGeom>
          <a:ln w="76320">
            <a:solidFill>
              <a:srgbClr val="86d1e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0" y="304920"/>
            <a:ext cx="4648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ы вла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4920" y="1143000"/>
            <a:ext cx="8839080" cy="825480"/>
          </a:xfrm>
          <a:prstGeom prst="rect">
            <a:avLst/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Император(носитель исполнительной, законодательной и судебной вла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 flipH="1">
            <a:off x="761760" y="19051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2811600"/>
            <a:ext cx="3048120" cy="1503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Колле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d1ec"/>
                </a:solidFill>
                <a:latin typeface="Arial"/>
              </a:rPr>
              <a:t>(исполнительные учрежд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343400" y="198108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09680" y="4411800"/>
            <a:ext cx="3657600" cy="119124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ующий Сена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сший судебный орг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7391520" y="1981080"/>
            <a:ext cx="304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172200" y="3268800"/>
            <a:ext cx="2666880" cy="119124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46d0"/>
                </a:solidFill>
                <a:latin typeface="Arial"/>
              </a:rPr>
              <a:t>Синод </a:t>
            </a:r>
            <a:r>
              <a:rPr b="0" lang="ru-RU" sz="2400" spc="-1" strike="noStrike">
                <a:solidFill>
                  <a:srgbClr val="7b46d0"/>
                </a:solidFill>
                <a:latin typeface="Arial"/>
              </a:rPr>
              <a:t>(высшее духовное учре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4114800" y="6019920"/>
            <a:ext cx="2214720" cy="428400"/>
          </a:xfrm>
          <a:prstGeom prst="rect">
            <a:avLst/>
          </a:prstGeom>
          <a:solidFill>
            <a:srgbClr val="000073"/>
          </a:solidFill>
          <a:ln w="38160">
            <a:solidFill>
              <a:srgbClr val="d6e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6d1ec"/>
                </a:solidFill>
                <a:latin typeface="Arial"/>
              </a:rPr>
              <a:t>Политически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система управления государств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5c984"/>
                </a:solidFill>
                <a:latin typeface="Arial"/>
              </a:rPr>
              <a:t>Социальный строй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c984"/>
                </a:solidFill>
                <a:latin typeface="Arial"/>
              </a:rPr>
              <a:t>состав общества, система отношений внутри об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b46d0"/>
                </a:solidFill>
                <a:latin typeface="Arial"/>
              </a:rPr>
              <a:t>Экономический строй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810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46d0"/>
                </a:solidFill>
                <a:latin typeface="Arial"/>
              </a:rPr>
              <a:t>организация производства и торговли в стра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3200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рритории присоединённые к Российской империи в 18в.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войны со Швецией –выход к Балтийскому мор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раздела Речи Посполитой были присоединены – правобережная Украина, Белоруссия, Литва, часть Польш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ом русско-турецких войн –часть Черноморского побережья, Крым, Кубань, ряд северокавказских зем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чатка, Приморье, Аляска, Алеутские острова, часть Северной Калифор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5486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d1ec"/>
                </a:solidFill>
                <a:latin typeface="Arial"/>
              </a:rPr>
              <a:t>Российская импер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националь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6d1ec"/>
                </a:solidFill>
                <a:latin typeface="Arial"/>
              </a:rPr>
              <a:t>Многоконфессиональная (государство, население которого исповедует различные религиозные учени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b46d0"/>
                </a:solidFill>
                <a:uFillTx/>
                <a:latin typeface="Arial"/>
              </a:rPr>
              <a:t>Административное д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Diagram 10"/>
          <p:cNvGrpSpPr/>
          <p:nvPr/>
        </p:nvGrpSpPr>
        <p:grpSpPr>
          <a:xfrm>
            <a:off x="1593720" y="918360"/>
            <a:ext cx="5574960" cy="5704920"/>
            <a:chOff x="1593720" y="918360"/>
            <a:chExt cx="5574960" cy="5704920"/>
          </a:xfrm>
        </p:grpSpPr>
        <p:sp>
          <p:nvSpPr>
            <p:cNvPr id="177" name="_s1028"/>
            <p:cNvSpPr/>
            <p:nvPr/>
          </p:nvSpPr>
          <p:spPr>
            <a:xfrm flipV="1">
              <a:off x="1593720" y="5195160"/>
              <a:ext cx="5574960" cy="1427400"/>
            </a:xfrm>
            <a:custGeom>
              <a:avLst/>
              <a:gdLst>
                <a:gd name="textAreaLeft" fmla="*/ 838800 w 5574960"/>
                <a:gd name="textAreaRight" fmla="*/ 4736160 w 5574960"/>
                <a:gd name="textAreaTop" fmla="*/ 214560 h 1427400"/>
                <a:gd name="textAreaBottom" fmla="*/ 121284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ол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29"/>
            <p:cNvSpPr/>
            <p:nvPr/>
          </p:nvSpPr>
          <p:spPr>
            <a:xfrm flipV="1">
              <a:off x="2289960" y="3771000"/>
              <a:ext cx="4181760" cy="1424520"/>
            </a:xfrm>
            <a:custGeom>
              <a:avLst/>
              <a:gdLst>
                <a:gd name="textAreaLeft" fmla="*/ 725760 w 4181760"/>
                <a:gd name="textAreaRight" fmla="*/ 3456000 w 4181760"/>
                <a:gd name="textAreaTop" fmla="*/ 247320 h 1424520"/>
                <a:gd name="textAreaBottom" fmla="*/ 1177200 h 142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ез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030"/>
            <p:cNvSpPr/>
            <p:nvPr/>
          </p:nvSpPr>
          <p:spPr>
            <a:xfrm flipV="1">
              <a:off x="2988720" y="2342880"/>
              <a:ext cx="2784960" cy="1427400"/>
            </a:xfrm>
            <a:custGeom>
              <a:avLst/>
              <a:gdLst>
                <a:gd name="textAreaLeft" fmla="*/ 612360 w 2784960"/>
                <a:gd name="textAreaRight" fmla="*/ 2172600 w 2784960"/>
                <a:gd name="textAreaTop" fmla="*/ 313920 h 1427400"/>
                <a:gd name="textAreaBottom" fmla="*/ 1113480 h 14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уберн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031"/>
            <p:cNvSpPr/>
            <p:nvPr/>
          </p:nvSpPr>
          <p:spPr>
            <a:xfrm flipV="1">
              <a:off x="3684600" y="917640"/>
              <a:ext cx="1392840" cy="1425240"/>
            </a:xfrm>
            <a:custGeom>
              <a:avLst/>
              <a:gdLst>
                <a:gd name="textAreaLeft" fmla="*/ 499680 w 1392840"/>
                <a:gd name="textAreaRight" fmla="*/ 893160 w 1392840"/>
                <a:gd name="textAreaTop" fmla="*/ 511200 h 1425240"/>
                <a:gd name="textAreaBottom" fmla="*/ 914040 h 14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мпер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4571640"/>
            <a:ext cx="8610840" cy="213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арактерной чертой российского общество было сохранение разветвленного сослов-ного строя.Основными сословиями Рос-сийской империи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80880" y="720720"/>
            <a:ext cx="8591760" cy="385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словный стр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c984"/>
                </a:solidFill>
                <a:latin typeface="Arial"/>
              </a:rPr>
              <a:t>Сословия российской имп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20043720"/>
        </p:xfrm>
        <a:graphic>
          <a:graphicData uri="http://schemas.openxmlformats.org/drawingml/2006/table">
            <a:tbl>
              <a:tblPr/>
              <a:tblGrid>
                <a:gridCol w="1828800"/>
                <a:gridCol w="167652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ло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-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и обяза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я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крепостными; сословное самоуправление; освобождение от налогов, рекрутской повинности и телесных наказ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пе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 1гильдии: ведение торговли, освобождение от нек.налогов, рекрутской повинности и телесных наказани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2-3гильдии 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ща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занятие городским промыслом и мелкой торговлей, сословное самоуправл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епост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собственности дворян: барщина, оброк и др.пови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 как подданных государства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ые 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общинное владение землёй, общинное самоупра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рекрутская повинность, уплата налог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: владение землёй, освобождение от подат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язанности: воинская служба со своим снаряжени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кина</dc:creator>
  <dc:description/>
  <dc:language>en-US</dc:language>
  <cp:lastModifiedBy>Admin</cp:lastModifiedBy>
  <dcterms:modified xsi:type="dcterms:W3CDTF">2012-06-27T21:2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40000000000010250300207f7000400038000</vt:lpwstr>
  </property>
  <property fmtid="{D5CDD505-2E9C-101B-9397-08002B2CF9AE}" pid="3" name="Version">
    <vt:r8>1</vt:r8>
  </property>
</Properties>
</file>