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29E-4442-4A79-BA63-647DDE4E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FA9-5D4F-487C-9E20-2BC390CD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1E0-4198-4969-9A1C-51457182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9A3-EA6F-4E03-BF4A-A840625B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892-D4DD-4302-9206-EF7D18C1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E08-8942-4F21-8494-BD1B3003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116-09F5-4B05-9DA9-13BA1D08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28E-C1AA-4C71-ABC1-8324AEFB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661-6842-47EC-9261-95104813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187-74D8-4135-92CB-D90363B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7E0-4E30-4777-BAF6-8FD25976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CED-CD8C-4529-A35B-F6252930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329-5F8D-4794-81FC-990D518AC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1" TargetMode="External"/><Relationship Id="rId2" Type="http://schemas.openxmlformats.org/officeDocument/2006/relationships/hyperlink" Target="http://ru.wikipedia.org/wiki/2009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6_&#1086;&#1082;&#1090;&#1103;&#1073;&#1088;&#1103;" TargetMode="External"/><Relationship Id="rId2" Type="http://schemas.openxmlformats.org/officeDocument/2006/relationships/hyperlink" Target="http://ru.wikipedia.org/wiki/1931_&#1075;&#1086;&#1076;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ман Семёнович Сеф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3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009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s9041063.jpg"/>
          <p:cNvPicPr/>
          <p:nvPr/>
        </p:nvPicPr>
        <p:blipFill>
          <a:blip r:embed="rId3"/>
          <a:stretch/>
        </p:blipFill>
        <p:spPr>
          <a:xfrm>
            <a:off x="1763640" y="1790640"/>
            <a:ext cx="56167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9" descr="5"/>
          <p:cNvPicPr/>
          <p:nvPr/>
        </p:nvPicPr>
        <p:blipFill>
          <a:blip r:embed="rId1"/>
          <a:stretch/>
        </p:blipFill>
        <p:spPr>
          <a:xfrm>
            <a:off x="684360" y="404640"/>
            <a:ext cx="3816360" cy="590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7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003640" y="404640"/>
            <a:ext cx="360072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6"/>
          <p:cNvPicPr/>
          <p:nvPr/>
        </p:nvPicPr>
        <p:blipFill>
          <a:blip r:embed="rId1"/>
          <a:stretch/>
        </p:blipFill>
        <p:spPr>
          <a:xfrm>
            <a:off x="611280" y="333360"/>
            <a:ext cx="3025800" cy="28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8"/>
          <p:cNvPicPr/>
          <p:nvPr/>
        </p:nvPicPr>
        <p:blipFill>
          <a:blip r:embed="rId2"/>
          <a:stretch/>
        </p:blipFill>
        <p:spPr>
          <a:xfrm>
            <a:off x="684360" y="3500280"/>
            <a:ext cx="3063600" cy="295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Рита\Desktop\Р.Сеф\0_55fb6_146ccd8c_L.jpg"/>
          <p:cNvPicPr/>
          <p:nvPr/>
        </p:nvPicPr>
        <p:blipFill>
          <a:blip r:embed="rId3"/>
          <a:stretch/>
        </p:blipFill>
        <p:spPr>
          <a:xfrm>
            <a:off x="4067280" y="260280"/>
            <a:ext cx="4889520" cy="635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4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10"/>
          <p:cNvPicPr/>
          <p:nvPr/>
        </p:nvPicPr>
        <p:blipFill>
          <a:blip r:embed="rId1"/>
          <a:stretch/>
        </p:blipFill>
        <p:spPr>
          <a:xfrm>
            <a:off x="755640" y="404640"/>
            <a:ext cx="3743280" cy="590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11"/>
          <p:cNvPicPr/>
          <p:nvPr/>
        </p:nvPicPr>
        <p:blipFill>
          <a:blip r:embed="rId2"/>
          <a:stretch/>
        </p:blipFill>
        <p:spPr>
          <a:xfrm>
            <a:off x="5148360" y="476280"/>
            <a:ext cx="352728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post-3-13071802811245.jpg"/>
          <p:cNvPicPr/>
          <p:nvPr/>
        </p:nvPicPr>
        <p:blipFill>
          <a:blip r:embed="rId1"/>
          <a:stretch/>
        </p:blipFill>
        <p:spPr>
          <a:xfrm>
            <a:off x="755640" y="1042920"/>
            <a:ext cx="7345440" cy="5508720"/>
          </a:xfrm>
          <a:prstGeom prst="rect">
            <a:avLst/>
          </a:prstGeom>
          <a:ln w="0">
            <a:noFill/>
          </a:ln>
        </p:spPr>
      </p:pic>
      <p:pic>
        <p:nvPicPr>
          <p:cNvPr id="72" name="Сеф Чудо.mp3" descr=""/>
          <p:cNvPicPr/>
          <p:nvPr/>
        </p:nvPicPr>
        <p:blipFill>
          <a:blip r:embed="rId2"/>
          <a:stretch/>
        </p:blipFill>
        <p:spPr>
          <a:xfrm>
            <a:off x="7956720" y="5732640"/>
            <a:ext cx="591840" cy="59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«Чу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673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инофильмы и мультфильмы, созданные по сценариям Р.Се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ругленькие и длинненькие» (м\ф, 1993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удесный возраст» (к\ф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агадочная планета» (м\ф, 19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иключения Мюнхгаузена» (м\ф, 5 серий, 1973-1995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Голубой метеорит» (м\ф, 197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зентацию выполнила Шумова М.А. учитель начальных классов г. 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зентация опубликована на сайте - viki.rdf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6 октябр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1 год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ихи начал сочинять </a:t>
            </a:r>
            <a:r>
              <a:rPr b="0" lang="ru-RU" sz="3000" spc="-1" strike="noStrike">
                <a:solidFill>
                  <a:srgbClr val="0000cc"/>
                </a:solidFill>
                <a:latin typeface="Calibri"/>
              </a:rPr>
              <a:t>в четыре го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ман Сеф прожил трудную жизнь. С 1936 по 1946 годы его воспитывала бабушка,  так как родителей рядом не было. Потом с мамой уехал жить в город Малоярославец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ле окончания школы перепробовал множество професси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ять лет жил на поселении в Караганде. Здесь выучил английский язык и начал заниматься стихотворным и прозаическим перевод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ился на факультете журналистик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Г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6" descr="6245004.jpg"/>
          <p:cNvPicPr/>
          <p:nvPr/>
        </p:nvPicPr>
        <p:blipFill>
          <a:blip r:embed="rId1"/>
          <a:stretch/>
        </p:blipFill>
        <p:spPr>
          <a:xfrm>
            <a:off x="324000" y="620640"/>
            <a:ext cx="4225680" cy="580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71600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962 году был принят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оюз театральных деятеле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в 1966 году в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оюз писателей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img00208.jpg"/>
          <p:cNvPicPr/>
          <p:nvPr/>
        </p:nvPicPr>
        <p:blipFill>
          <a:blip r:embed="rId1"/>
          <a:stretch/>
        </p:blipFill>
        <p:spPr>
          <a:xfrm>
            <a:off x="324000" y="404640"/>
            <a:ext cx="4574880" cy="6067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3280" y="476280"/>
            <a:ext cx="4176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60 году были опубликованы два сборника переводов Сеф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– «В эту минуту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Бабочка и пчела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 1962 году вышел сборник его собственных стихов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Шагают великаны»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орый высокой оценил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. И. Чуков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932360" y="259920"/>
            <a:ext cx="396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 Се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исал пьесы для детского театра, сочинял стихи и прозу не только для детей, но и для взрослых. В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987 год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 Се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лучил первую премию на Всесоюзном конкурсе детской книги з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тихотворение «Я сделал крылья  и летал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91 году он стал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ауреатом Государственной премии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 в 2004 году был удостоен почетного звания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Заслуженный деятель искусств Российской Федераци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8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47466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4" descr="sef-nik.jpg"/>
          <p:cNvPicPr/>
          <p:nvPr/>
        </p:nvPicPr>
        <p:blipFill>
          <a:blip r:embed="rId1"/>
          <a:stretch/>
        </p:blipFill>
        <p:spPr>
          <a:xfrm>
            <a:off x="1476360" y="2349360"/>
            <a:ext cx="6454800" cy="409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11280" y="333000"/>
            <a:ext cx="8146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91 году он стал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ауреатом Государственной премии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 в 2004 году был удостоен почетного звани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Заслуженный деятель искусств Российской Федераци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187280" y="404640"/>
            <a:ext cx="734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042920" y="37476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го весёлые стихи печатают-ся в детских журналах и кни-г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портрет"/>
          <p:cNvPicPr/>
          <p:nvPr/>
        </p:nvPicPr>
        <p:blipFill>
          <a:blip r:embed="rId1"/>
          <a:stretch/>
        </p:blipFill>
        <p:spPr>
          <a:xfrm>
            <a:off x="1835280" y="2421000"/>
            <a:ext cx="60958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9" descr="2"/>
          <p:cNvPicPr/>
          <p:nvPr/>
        </p:nvPicPr>
        <p:blipFill>
          <a:blip r:embed="rId1"/>
          <a:stretch/>
        </p:blipFill>
        <p:spPr>
          <a:xfrm>
            <a:off x="4932360" y="692280"/>
            <a:ext cx="3743280" cy="561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13"/>
          <p:cNvPicPr/>
          <p:nvPr/>
        </p:nvPicPr>
        <p:blipFill>
          <a:blip r:embed="rId2"/>
          <a:stretch/>
        </p:blipFill>
        <p:spPr>
          <a:xfrm>
            <a:off x="826920" y="549360"/>
            <a:ext cx="374364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3" descr="3"/>
          <p:cNvPicPr/>
          <p:nvPr/>
        </p:nvPicPr>
        <p:blipFill>
          <a:blip r:embed="rId1"/>
          <a:stretch/>
        </p:blipFill>
        <p:spPr>
          <a:xfrm>
            <a:off x="684360" y="476280"/>
            <a:ext cx="3671640" cy="590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4"/>
          <p:cNvPicPr/>
          <p:nvPr/>
        </p:nvPicPr>
        <p:blipFill>
          <a:blip r:embed="rId2"/>
          <a:stretch/>
        </p:blipFill>
        <p:spPr>
          <a:xfrm>
            <a:off x="4932360" y="476280"/>
            <a:ext cx="3672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0:01:15Z</dcterms:created>
  <dc:creator>Рита</dc:creator>
  <dc:description/>
  <dc:language>en-US</dc:language>
  <cp:lastModifiedBy>Your User Name</cp:lastModifiedBy>
  <dcterms:modified xsi:type="dcterms:W3CDTF">2014-04-25T16:06:19Z</dcterms:modified>
  <cp:revision>8</cp:revision>
  <dc:subject/>
  <dc:title>Роман Семёнович Сеф  (1931—2009)</dc:title>
</cp:coreProperties>
</file>