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5FC-BB4F-43D0-AD80-80F52E1E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881-7D45-48A3-B7A2-E023823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C22-9869-47F6-A46B-58F69013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25F-DF00-423D-BF8F-D122F0FD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05B-F4FB-4E3C-B40E-11884E4E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390-BB56-45FA-86BB-32712BF8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00F-785D-4227-908B-EF864F7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52D-6191-4D0C-993A-535B33A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016-F5A0-4F72-BC99-ADD8DF31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90B-C264-4AFC-B720-AB91839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2C1-3864-4A1F-A855-B50E8C9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9CC-FE92-4A89-A7E3-06CE186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9FB-4180-4B71-8E29-1F5A69C02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1" TargetMode="External"/><Relationship Id="rId2" Type="http://schemas.openxmlformats.org/officeDocument/2006/relationships/hyperlink" Target="http://ru.wikipedia.org/wiki/2009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6_&#1086;&#1082;&#1090;&#1103;&#1073;&#1088;&#1103;" TargetMode="External"/><Relationship Id="rId2" Type="http://schemas.openxmlformats.org/officeDocument/2006/relationships/hyperlink" Target="http://ru.wikipedia.org/wiki/1931_&#1075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ман Семёнович Сеф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3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00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s9041063.jpg"/>
          <p:cNvPicPr/>
          <p:nvPr/>
        </p:nvPicPr>
        <p:blipFill>
          <a:blip r:embed="rId3"/>
          <a:stretch/>
        </p:blipFill>
        <p:spPr>
          <a:xfrm>
            <a:off x="1763640" y="1790640"/>
            <a:ext cx="56167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5"/>
          <p:cNvPicPr/>
          <p:nvPr/>
        </p:nvPicPr>
        <p:blipFill>
          <a:blip r:embed="rId1"/>
          <a:stretch/>
        </p:blipFill>
        <p:spPr>
          <a:xfrm>
            <a:off x="684360" y="404640"/>
            <a:ext cx="3816360" cy="590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7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003640" y="404640"/>
            <a:ext cx="360072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6"/>
          <p:cNvPicPr/>
          <p:nvPr/>
        </p:nvPicPr>
        <p:blipFill>
          <a:blip r:embed="rId1"/>
          <a:stretch/>
        </p:blipFill>
        <p:spPr>
          <a:xfrm>
            <a:off x="611280" y="333360"/>
            <a:ext cx="302580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8"/>
          <p:cNvPicPr/>
          <p:nvPr/>
        </p:nvPicPr>
        <p:blipFill>
          <a:blip r:embed="rId2"/>
          <a:stretch/>
        </p:blipFill>
        <p:spPr>
          <a:xfrm>
            <a:off x="684360" y="3500280"/>
            <a:ext cx="3063600" cy="295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Рита\Desktop\Р.Сеф\0_55fb6_146ccd8c_L.jpg"/>
          <p:cNvPicPr/>
          <p:nvPr/>
        </p:nvPicPr>
        <p:blipFill>
          <a:blip r:embed="rId3"/>
          <a:stretch/>
        </p:blipFill>
        <p:spPr>
          <a:xfrm>
            <a:off x="4067280" y="260280"/>
            <a:ext cx="488952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4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0"/>
          <p:cNvPicPr/>
          <p:nvPr/>
        </p:nvPicPr>
        <p:blipFill>
          <a:blip r:embed="rId1"/>
          <a:stretch/>
        </p:blipFill>
        <p:spPr>
          <a:xfrm>
            <a:off x="755640" y="404640"/>
            <a:ext cx="374328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11"/>
          <p:cNvPicPr/>
          <p:nvPr/>
        </p:nvPicPr>
        <p:blipFill>
          <a:blip r:embed="rId2"/>
          <a:stretch/>
        </p:blipFill>
        <p:spPr>
          <a:xfrm>
            <a:off x="5148360" y="476280"/>
            <a:ext cx="352728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post-3-13071802811245.jpg"/>
          <p:cNvPicPr/>
          <p:nvPr/>
        </p:nvPicPr>
        <p:blipFill>
          <a:blip r:embed="rId1"/>
          <a:stretch/>
        </p:blipFill>
        <p:spPr>
          <a:xfrm>
            <a:off x="755640" y="1042920"/>
            <a:ext cx="7345440" cy="5508720"/>
          </a:xfrm>
          <a:prstGeom prst="rect">
            <a:avLst/>
          </a:prstGeom>
          <a:ln w="0">
            <a:noFill/>
          </a:ln>
        </p:spPr>
      </p:pic>
      <p:pic>
        <p:nvPicPr>
          <p:cNvPr id="72" name="Сеф Чудо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591840" cy="59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Чу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67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нофильмы и мультфильмы, созданные по сценариям Р.Се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угленькие и длинненькие» (м\ф, 1993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удесный возраст» (к\ф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гадочная планета» (м\ф, 19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иключения Мюнхгаузена» (м\ф, 5 серий, 1973-1995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убой метеорит» (м\ф, 197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ю выполнила Шумова М.А. учитель начальных классов г. 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6 октябр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1 год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хи начал сочинять </a:t>
            </a:r>
            <a:r>
              <a:rPr b="0" lang="ru-RU" sz="3000" spc="-1" strike="noStrike">
                <a:solidFill>
                  <a:srgbClr val="0000cc"/>
                </a:solidFill>
                <a:latin typeface="Calibri"/>
              </a:rPr>
              <a:t>в четыре г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Сеф прожил трудную жизнь. С 1936 по 1946 годы его воспитывала бабушка,  так как родителей рядом не было. Потом с мамой уехал жить в город Малоярослав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ле окончания школы перепробовал множество професс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ять лет жил на поселении в Караганде. Здесь выучил английский язык и начал заниматься стихотворным и прозаическим перево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ился на факультете журналистик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Г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6" descr="6245004.jpg"/>
          <p:cNvPicPr/>
          <p:nvPr/>
        </p:nvPicPr>
        <p:blipFill>
          <a:blip r:embed="rId1"/>
          <a:stretch/>
        </p:blipFill>
        <p:spPr>
          <a:xfrm>
            <a:off x="324000" y="620640"/>
            <a:ext cx="4225680" cy="580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1600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62 году был принят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юз театральных дея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в 1966 году в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юз писателей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img00208.jpg"/>
          <p:cNvPicPr/>
          <p:nvPr/>
        </p:nvPicPr>
        <p:blipFill>
          <a:blip r:embed="rId1"/>
          <a:stretch/>
        </p:blipFill>
        <p:spPr>
          <a:xfrm>
            <a:off x="324000" y="404640"/>
            <a:ext cx="4574880" cy="606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3280" y="476280"/>
            <a:ext cx="4176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60 году были опубликованы два сборника переводов Сеф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– «В эту минуту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Бабочка и пчела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 1962 году вышел сборник его собственных стихов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Шагают великаны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ый высокой оцени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. И. Чуков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932360" y="259920"/>
            <a:ext cx="396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исал пьесы для детского театра, сочинял стихи и прозу не только для детей, но и для взрослых. В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987 год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лучил первую премию на Всесоюзном конкурсе детской книги з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ихотворение «Я сделал крылья  и летал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8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7466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sef-nik.jpg"/>
          <p:cNvPicPr/>
          <p:nvPr/>
        </p:nvPicPr>
        <p:blipFill>
          <a:blip r:embed="rId1"/>
          <a:stretch/>
        </p:blipFill>
        <p:spPr>
          <a:xfrm>
            <a:off x="1476360" y="2349360"/>
            <a:ext cx="6454800" cy="409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11280" y="333000"/>
            <a:ext cx="8146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187280" y="404640"/>
            <a:ext cx="734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42920" y="37476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го весёлые стихи печатают-ся в детских журналах и кни-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портрет"/>
          <p:cNvPicPr/>
          <p:nvPr/>
        </p:nvPicPr>
        <p:blipFill>
          <a:blip r:embed="rId1"/>
          <a:stretch/>
        </p:blipFill>
        <p:spPr>
          <a:xfrm>
            <a:off x="1835280" y="2421000"/>
            <a:ext cx="60958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9" descr="2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6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"/>
          <p:cNvPicPr/>
          <p:nvPr/>
        </p:nvPicPr>
        <p:blipFill>
          <a:blip r:embed="rId2"/>
          <a:stretch/>
        </p:blipFill>
        <p:spPr>
          <a:xfrm>
            <a:off x="826920" y="549360"/>
            <a:ext cx="374364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3"/>
          <p:cNvPicPr/>
          <p:nvPr/>
        </p:nvPicPr>
        <p:blipFill>
          <a:blip r:embed="rId1"/>
          <a:stretch/>
        </p:blipFill>
        <p:spPr>
          <a:xfrm>
            <a:off x="684360" y="476280"/>
            <a:ext cx="3671640" cy="59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4"/>
          <p:cNvPicPr/>
          <p:nvPr/>
        </p:nvPicPr>
        <p:blipFill>
          <a:blip r:embed="rId2"/>
          <a:stretch/>
        </p:blipFill>
        <p:spPr>
          <a:xfrm>
            <a:off x="4932360" y="476280"/>
            <a:ext cx="3672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0:01:15Z</dcterms:created>
  <dc:creator>Рита</dc:creator>
  <dc:description/>
  <dc:language>en-US</dc:language>
  <cp:lastModifiedBy>Your User Name</cp:lastModifiedBy>
  <dcterms:modified xsi:type="dcterms:W3CDTF">2014-04-25T16:06:19Z</dcterms:modified>
  <cp:revision>8</cp:revision>
  <dc:subject/>
  <dc:title>Роман Семёнович Сеф  (1931—2009)</dc:title>
</cp:coreProperties>
</file>