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3E2-9917-45AE-9ABE-842FAE3D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66F-DD03-427F-A329-38893212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A38-9223-42A4-A439-079848A9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42E-90CB-41E0-961A-98306AF5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F2E8-E42E-49A5-B5AD-7B955180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4ED6-CE8A-4C60-99EB-2356C3B9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6B91-0B18-434E-80B5-D4FCD2F7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B842-20DC-4FD8-B241-65467B6A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7222-79CC-4274-A5F3-53E3A76F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22520" y="1820160"/>
            <a:ext cx="77720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3FD3-970A-4FDB-B2B3-5935B507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2F64-E5EB-43E7-97BF-C7B1F61A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DC5-2ED1-4F73-A84E-7E8073D0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7D3-515A-4A3F-A31F-B7FC380F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D84B-53DE-4B68-A846-C76C8B0E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90D8-FA77-4999-8CA2-D817C884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2FCC-3E0C-496A-8266-660B9E24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C4D1-3C7C-4C81-B652-4B4259E0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419-E49E-4D1F-ABAF-3365784A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236-7E28-410F-B0EB-975ED8EF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0D5-4D95-482C-ACC4-8193400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2520" y="1820160"/>
            <a:ext cx="77720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3C5-ACED-4ECD-AF84-05BA5123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B40-43C3-45CC-9C7B-E79A71EA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173-020E-4496-BAC3-E0F0A60F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431-82DF-456A-92B1-294A879E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3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5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A137B2-DD4F-4D3E-A60D-D28E43E8F75A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001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10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100000"/>
              </a:lnSpc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537451-046A-4391-91C9-78454B40B6E8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>
              <a:buNone/>
            </a:pPr>
            <a:endParaRPr b="1" lang="ru-RU" sz="45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pic>
        <p:nvPicPr>
          <p:cNvPr id="90" name="Picture 2" descr="C:\Documents and Settings\друг\Рабочий стол\Рисунки\Рисунки\Новая папка\vetton_ru_285.jpg"/>
          <p:cNvPicPr/>
          <p:nvPr/>
        </p:nvPicPr>
        <p:blipFill>
          <a:blip r:embed="rId1"/>
          <a:stretch/>
        </p:blipFill>
        <p:spPr>
          <a:xfrm>
            <a:off x="-357120" y="0"/>
            <a:ext cx="9753120" cy="731484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4"/>
          <p:cNvSpPr/>
          <p:nvPr/>
        </p:nvSpPr>
        <p:spPr>
          <a:xfrm>
            <a:off x="857160" y="1643040"/>
            <a:ext cx="79293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262626"/>
                </a:solidFill>
                <a:latin typeface="Verdana"/>
              </a:rPr>
              <a:t>РОДНАЯ ПРИРОДА В СТИХОТВОРЕНИЯХ РУССКИХ ПОЭТОВ 19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Звук с компакт-диска 6" descr=""/>
          <p:cNvPicPr/>
          <p:nvPr/>
        </p:nvPicPr>
        <p:blipFill>
          <a:blip r:embed="rId2"/>
          <a:stretch/>
        </p:blipFill>
        <p:spPr>
          <a:xfrm>
            <a:off x="0" y="6357960"/>
            <a:ext cx="304560" cy="30456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286000" y="571680"/>
            <a:ext cx="5500440" cy="474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горам две хмурых тучи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нойным вечером блуж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на грудь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ночи медленно сполз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 сошлись – не уступ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й скалы друг другу да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пустыню огла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ркой молнии уда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янул гром – по дебрям вла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хо резко засмеяло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скала таким протя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оном жалобным сказа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ак вздохнула, что не см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вторить удара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у ног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леглись и обомл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авая фигурная скобка 9"/>
          <p:cNvSpPr/>
          <p:nvPr/>
        </p:nvSpPr>
        <p:spPr>
          <a:xfrm>
            <a:off x="6500880" y="785880"/>
            <a:ext cx="35676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авая фигурная скобка 12"/>
          <p:cNvSpPr/>
          <p:nvPr/>
        </p:nvSpPr>
        <p:spPr>
          <a:xfrm>
            <a:off x="6715080" y="1000080"/>
            <a:ext cx="356760" cy="571320"/>
          </a:xfrm>
          <a:prstGeom prst="rightBrace">
            <a:avLst>
              <a:gd name="adj1" fmla="val 8333"/>
              <a:gd name="adj2" fmla="val 55714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авая фигурная скобка 14"/>
          <p:cNvSpPr/>
          <p:nvPr/>
        </p:nvSpPr>
        <p:spPr>
          <a:xfrm>
            <a:off x="6429240" y="2000160"/>
            <a:ext cx="21384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авая фигурная скобка 15"/>
          <p:cNvSpPr/>
          <p:nvPr/>
        </p:nvSpPr>
        <p:spPr>
          <a:xfrm>
            <a:off x="6643800" y="2214720"/>
            <a:ext cx="21384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авая фигурная скобка 16"/>
          <p:cNvSpPr/>
          <p:nvPr/>
        </p:nvSpPr>
        <p:spPr>
          <a:xfrm>
            <a:off x="6786720" y="3429000"/>
            <a:ext cx="28548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авая фигурная скобка 17"/>
          <p:cNvSpPr/>
          <p:nvPr/>
        </p:nvSpPr>
        <p:spPr>
          <a:xfrm>
            <a:off x="7429680" y="3214800"/>
            <a:ext cx="285480" cy="49968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авая фигурная скобка 18"/>
          <p:cNvSpPr/>
          <p:nvPr/>
        </p:nvSpPr>
        <p:spPr>
          <a:xfrm>
            <a:off x="6715080" y="4429080"/>
            <a:ext cx="285480" cy="7855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авая фигурная скобка 19"/>
          <p:cNvSpPr/>
          <p:nvPr/>
        </p:nvSpPr>
        <p:spPr>
          <a:xfrm>
            <a:off x="6072120" y="4643280"/>
            <a:ext cx="142560" cy="35676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горам две хмурых туч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нойным вечером блуждали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на грудь скалы горючей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 ночи медленно сползали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вусложный размер стиха, хорей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1" name="Прямая соединительная линия 7"/>
          <p:cNvCxnSpPr/>
          <p:nvPr/>
        </p:nvCxnSpPr>
        <p:spPr>
          <a:xfrm flipH="1">
            <a:off x="2786040" y="571320"/>
            <a:ext cx="142920" cy="28620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2" name="Прямая соединительная линия 13"/>
          <p:cNvCxnSpPr/>
          <p:nvPr/>
        </p:nvCxnSpPr>
        <p:spPr>
          <a:xfrm flipV="1">
            <a:off x="3500280" y="571320"/>
            <a:ext cx="143280" cy="28620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3" name="Прямая соединительная линия 15"/>
          <p:cNvCxnSpPr/>
          <p:nvPr/>
        </p:nvCxnSpPr>
        <p:spPr>
          <a:xfrm flipV="1">
            <a:off x="5000400" y="500040"/>
            <a:ext cx="143280" cy="25740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4" name="Прямая соединительная линия 22"/>
          <p:cNvCxnSpPr/>
          <p:nvPr/>
        </p:nvCxnSpPr>
        <p:spPr>
          <a:xfrm flipV="1">
            <a:off x="6000480" y="57132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5" name="Прямая соединительная линия 24"/>
          <p:cNvCxnSpPr/>
          <p:nvPr/>
        </p:nvCxnSpPr>
        <p:spPr>
          <a:xfrm flipV="1">
            <a:off x="2928600" y="100008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6" name="Прямая соединительная линия 26"/>
          <p:cNvCxnSpPr/>
          <p:nvPr/>
        </p:nvCxnSpPr>
        <p:spPr>
          <a:xfrm flipV="1">
            <a:off x="4214520" y="100008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7" name="Прямая соединительная линия 30"/>
          <p:cNvCxnSpPr/>
          <p:nvPr/>
        </p:nvCxnSpPr>
        <p:spPr>
          <a:xfrm flipV="1">
            <a:off x="4929120" y="928440"/>
            <a:ext cx="7164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8" name="Прямая соединительная линия 32"/>
          <p:cNvCxnSpPr/>
          <p:nvPr/>
        </p:nvCxnSpPr>
        <p:spPr>
          <a:xfrm flipV="1">
            <a:off x="6357600" y="92844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9" name="Прямая соединительная линия 34"/>
          <p:cNvCxnSpPr/>
          <p:nvPr/>
        </p:nvCxnSpPr>
        <p:spPr>
          <a:xfrm flipV="1">
            <a:off x="2643120" y="1357200"/>
            <a:ext cx="7164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0" name="Прямая соединительная линия 36"/>
          <p:cNvCxnSpPr/>
          <p:nvPr/>
        </p:nvCxnSpPr>
        <p:spPr>
          <a:xfrm flipV="1">
            <a:off x="3714480" y="135720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1" name="Прямая соединительная линия 38"/>
          <p:cNvCxnSpPr/>
          <p:nvPr/>
        </p:nvCxnSpPr>
        <p:spPr>
          <a:xfrm flipV="1">
            <a:off x="5000400" y="135720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2" name="Прямая соединительная линия 40"/>
          <p:cNvCxnSpPr/>
          <p:nvPr/>
        </p:nvCxnSpPr>
        <p:spPr>
          <a:xfrm flipV="1">
            <a:off x="5786280" y="1357200"/>
            <a:ext cx="7164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3" name="Прямая соединительная линия 42"/>
          <p:cNvCxnSpPr/>
          <p:nvPr/>
        </p:nvCxnSpPr>
        <p:spPr>
          <a:xfrm flipV="1">
            <a:off x="3071520" y="171432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4" name="Прямая соединительная линия 44"/>
          <p:cNvCxnSpPr/>
          <p:nvPr/>
        </p:nvCxnSpPr>
        <p:spPr>
          <a:xfrm flipV="1">
            <a:off x="3929040" y="1643040"/>
            <a:ext cx="7164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5" name="Прямая соединительная линия 46"/>
          <p:cNvCxnSpPr/>
          <p:nvPr/>
        </p:nvCxnSpPr>
        <p:spPr>
          <a:xfrm flipV="1">
            <a:off x="5000400" y="171432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6" name="Прямая соединительная линия 48"/>
          <p:cNvCxnSpPr/>
          <p:nvPr/>
        </p:nvCxnSpPr>
        <p:spPr>
          <a:xfrm flipV="1">
            <a:off x="6072120" y="1714320"/>
            <a:ext cx="7164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</p:spTree>
  </p:cSld>
  <p:transition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Федор Иванович Тютчев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друг\Рабочий стол\tutchev.jpg.jpg"/>
          <p:cNvPicPr/>
          <p:nvPr/>
        </p:nvPicPr>
        <p:blipFill>
          <a:blip r:embed="rId1"/>
          <a:stretch/>
        </p:blipFill>
        <p:spPr>
          <a:xfrm>
            <a:off x="3205080" y="719280"/>
            <a:ext cx="2781000" cy="380952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40" name="Picture 2" descr="C:\Documents and Settings\друг\Рабочий стол\Рисунки\0022.jpg"/>
          <p:cNvPicPr/>
          <p:nvPr/>
        </p:nvPicPr>
        <p:blipFill>
          <a:blip r:embed="rId1"/>
          <a:stretch/>
        </p:blipFill>
        <p:spPr>
          <a:xfrm>
            <a:off x="0" y="0"/>
            <a:ext cx="8913600" cy="6538680"/>
          </a:xfrm>
          <a:prstGeom prst="rect">
            <a:avLst/>
          </a:prstGeom>
          <a:ln w="9525">
            <a:noFill/>
          </a:ln>
        </p:spPr>
      </p:pic>
      <p:sp>
        <p:nvSpPr>
          <p:cNvPr id="141" name="TextBox 4"/>
          <p:cNvSpPr/>
          <p:nvPr/>
        </p:nvSpPr>
        <p:spPr>
          <a:xfrm>
            <a:off x="3143160" y="571680"/>
            <a:ext cx="514332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Неохотно и несм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Солнце смотрит на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Чу, за тучей прогрем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Принахмурилась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етра теплого порыв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Дальний гром и дождь пор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Зеленеющие н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Зеленее под гроз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от пробилась из-за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Синей молнии стру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Пламень белый и летуч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Окаймил её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Чаще капли дождевы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ихрем пыль летит с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И раскаты гром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сё сердитей и см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Солнце раз ещё взгляну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Исподлобья на пол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И в сиянье потон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ся сметенна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лицетворения 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лнце «смотрит на поля» «неохотно и несмело», «взглянуло //Исподлобья на поля»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емля «принахмурилась», «в сиянье потонула вся смятенная земля»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286000" y="1857240"/>
            <a:ext cx="4571640" cy="15526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хотно и несм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лнце смотрит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у, за тучей прогреме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ахмурилась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единительная линия 5"/>
          <p:cNvCxnSpPr/>
          <p:nvPr/>
        </p:nvCxnSpPr>
        <p:spPr>
          <a:xfrm flipV="1">
            <a:off x="2714400" y="1714320"/>
            <a:ext cx="72000" cy="2862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146" name="Прямая соединительная линия 7"/>
          <p:cNvCxnSpPr/>
          <p:nvPr/>
        </p:nvCxnSpPr>
        <p:spPr>
          <a:xfrm flipV="1">
            <a:off x="3286080" y="1714320"/>
            <a:ext cx="143280" cy="28620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47" name="Прямая соединительная линия 9"/>
          <p:cNvCxnSpPr/>
          <p:nvPr/>
        </p:nvCxnSpPr>
        <p:spPr>
          <a:xfrm flipV="1">
            <a:off x="4071600" y="1785600"/>
            <a:ext cx="7200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48" name="Прямая соединительная линия 11"/>
          <p:cNvCxnSpPr/>
          <p:nvPr/>
        </p:nvCxnSpPr>
        <p:spPr>
          <a:xfrm flipV="1">
            <a:off x="5143320" y="1785600"/>
            <a:ext cx="7164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49" name="Прямая соединительная линия 13"/>
          <p:cNvCxnSpPr/>
          <p:nvPr/>
        </p:nvCxnSpPr>
        <p:spPr>
          <a:xfrm flipV="1">
            <a:off x="2643120" y="2143080"/>
            <a:ext cx="7164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0" name="Прямая соединительная линия 15"/>
          <p:cNvCxnSpPr/>
          <p:nvPr/>
        </p:nvCxnSpPr>
        <p:spPr>
          <a:xfrm flipV="1">
            <a:off x="4143240" y="2214360"/>
            <a:ext cx="7164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1" name="Прямая соединительная линия 17"/>
          <p:cNvCxnSpPr/>
          <p:nvPr/>
        </p:nvCxnSpPr>
        <p:spPr>
          <a:xfrm flipV="1">
            <a:off x="5286240" y="2214360"/>
            <a:ext cx="7164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2" name="Прямая соединительная линия 19"/>
          <p:cNvCxnSpPr/>
          <p:nvPr/>
        </p:nvCxnSpPr>
        <p:spPr>
          <a:xfrm flipV="1">
            <a:off x="6143400" y="2143080"/>
            <a:ext cx="7200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3" name="Прямая соединительная линия 21"/>
          <p:cNvCxnSpPr/>
          <p:nvPr/>
        </p:nvCxnSpPr>
        <p:spPr>
          <a:xfrm flipV="1">
            <a:off x="2643120" y="2643120"/>
            <a:ext cx="71640" cy="14328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4" name="Прямая соединительная линия 23"/>
          <p:cNvCxnSpPr/>
          <p:nvPr/>
        </p:nvCxnSpPr>
        <p:spPr>
          <a:xfrm flipV="1">
            <a:off x="3643200" y="2643120"/>
            <a:ext cx="71640" cy="14328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5" name="Прямая соединительная линия 25"/>
          <p:cNvCxnSpPr/>
          <p:nvPr/>
        </p:nvCxnSpPr>
        <p:spPr>
          <a:xfrm flipV="1">
            <a:off x="4857480" y="2571480"/>
            <a:ext cx="7200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6" name="Прямая соединительная линия 27"/>
          <p:cNvCxnSpPr/>
          <p:nvPr/>
        </p:nvCxnSpPr>
        <p:spPr>
          <a:xfrm flipV="1">
            <a:off x="5786280" y="2571480"/>
            <a:ext cx="7164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7" name="Прямая соединительная линия 29"/>
          <p:cNvCxnSpPr/>
          <p:nvPr/>
        </p:nvCxnSpPr>
        <p:spPr>
          <a:xfrm flipV="1">
            <a:off x="2857320" y="2928600"/>
            <a:ext cx="14328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8" name="Прямая соединительная линия 31"/>
          <p:cNvCxnSpPr/>
          <p:nvPr/>
        </p:nvCxnSpPr>
        <p:spPr>
          <a:xfrm flipV="1">
            <a:off x="3857400" y="2928600"/>
            <a:ext cx="7200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9" name="Прямая соединительная линия 33"/>
          <p:cNvCxnSpPr/>
          <p:nvPr/>
        </p:nvCxnSpPr>
        <p:spPr>
          <a:xfrm flipV="1">
            <a:off x="4572000" y="2928600"/>
            <a:ext cx="7164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60" name="Прямая соединительная линия 35"/>
          <p:cNvCxnSpPr/>
          <p:nvPr/>
        </p:nvCxnSpPr>
        <p:spPr>
          <a:xfrm flipV="1">
            <a:off x="6000480" y="3000240"/>
            <a:ext cx="72000" cy="14328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sp>
        <p:nvSpPr>
          <p:cNvPr id="161" name="TextBox 24"/>
          <p:cNvSpPr/>
          <p:nvPr/>
        </p:nvSpPr>
        <p:spPr>
          <a:xfrm>
            <a:off x="1000080" y="4000680"/>
            <a:ext cx="71434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усложный размер стиха, хо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Аллитерация </a:t>
            </a:r>
            <a:r>
              <a:rPr b="1" lang="ru-RU" sz="2000" spc="-1" strike="noStrike">
                <a:solidFill>
                  <a:srgbClr val="ff9257"/>
                </a:solidFill>
                <a:latin typeface="Verdana"/>
              </a:rPr>
              <a:t>– повторение согласных звуков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Чу, за тучей прог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емело, 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П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инахму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илась земля.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Вет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 теплого по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ывы, 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Дальний г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м и дождь по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й…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642960" y="26431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скаты г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м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Всё се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дитей и см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6"/>
          <p:cNvSpPr/>
          <p:nvPr/>
        </p:nvSpPr>
        <p:spPr>
          <a:xfrm>
            <a:off x="4857840" y="428760"/>
            <a:ext cx="39286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Неохотно и несм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Солнце смотрит на п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Чу, за тучей прогремел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Принахмурилась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етра теплого порыв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Дальний гром и дождь поро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Зеленеющие н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Зеленее под гроз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от пробилась из-за ту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Синей молнии струя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Пламень белый и лету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Окаймил её кр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Чаще капли дождев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ихрем пыль летит с пол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И раскаты гром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сё сердитей и см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Солнце раз ещё взгляну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Исподлобья на поля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И в сиянье потон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ся сметенная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357120" y="571680"/>
            <a:ext cx="457164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По горам две хмурых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Знойным вечером блуж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И на грудь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К ночи медленно сполз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Но сошлись – не уступ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Той скалы друг другу да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И пустыню огла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Яркой молнии уда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Грянул гром – по дебрям вла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Эхо резко засмеяло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А скала таким протя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Стоном жалобным сказа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Так вздохнула, что не см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Повторить удара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И у ног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Улеглись и обомл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>
              <a:buNone/>
            </a:pPr>
            <a:endParaRPr b="1" lang="ru-RU" sz="45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pic>
        <p:nvPicPr>
          <p:cNvPr id="169" name="Picture 2" descr="C:\Documents and Settings\друг\Рабочий стол\Рисунки\Рисунки\Новая папка\vetton_ru_28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120" cy="7314840"/>
          </a:xfrm>
          <a:prstGeom prst="rect">
            <a:avLst/>
          </a:prstGeom>
          <a:ln w="9525">
            <a:noFill/>
          </a:ln>
        </p:spPr>
      </p:pic>
      <p:sp>
        <p:nvSpPr>
          <p:cNvPr id="170" name="TextBox 4"/>
          <p:cNvSpPr/>
          <p:nvPr/>
        </p:nvSpPr>
        <p:spPr>
          <a:xfrm>
            <a:off x="857160" y="1643040"/>
            <a:ext cx="79293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262626"/>
                </a:solidFill>
                <a:latin typeface="Verdana"/>
              </a:rPr>
              <a:t>РОДНАЯ ПРИРОДА В СТИХОТВОРЕНИЯХ РУССКИХ ПОЭТОВ 19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Звук с компакт-диска 5" descr=""/>
          <p:cNvPicPr/>
          <p:nvPr/>
        </p:nvPicPr>
        <p:blipFill>
          <a:blip r:embed="rId2"/>
          <a:stretch/>
        </p:blipFill>
        <p:spPr>
          <a:xfrm>
            <a:off x="214200" y="7072200"/>
            <a:ext cx="304560" cy="30456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4" name="Picture 2" descr="C:\Documents and Settings\друг\Рабочий стол\Рисунки\189_102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6" name="Picture 2" descr="C:\Documents and Settings\друг\Рабочий стол\135_1024.jpg"/>
          <p:cNvPicPr/>
          <p:nvPr/>
        </p:nvPicPr>
        <p:blipFill>
          <a:blip r:embed="rId1"/>
          <a:stretch/>
        </p:blipFill>
        <p:spPr>
          <a:xfrm>
            <a:off x="142920" y="214200"/>
            <a:ext cx="8700840" cy="652572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8" name="Picture 2" descr="C:\Documents and Settings\друг\Рабочий стол\143b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2880" cy="418752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3" descr="C:\Documents and Settings\друг\Рабочий стол\143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120" cy="731484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01" name="Picture 2" descr="C:\Documents and Settings\друг\Рабочий стол\Рисунки\u9_55.jpg"/>
          <p:cNvPicPr/>
          <p:nvPr/>
        </p:nvPicPr>
        <p:blipFill>
          <a:blip r:embed="rId1"/>
          <a:stretch/>
        </p:blipFill>
        <p:spPr>
          <a:xfrm>
            <a:off x="142920" y="79200"/>
            <a:ext cx="8786520" cy="658944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03" name="Picture 2" descr="C:\Documents and Settings\друг\Рабочий стол\boris_0104.jpg"/>
          <p:cNvPicPr/>
          <p:nvPr/>
        </p:nvPicPr>
        <p:blipFill>
          <a:blip r:embed="rId1"/>
          <a:stretch/>
        </p:blipFill>
        <p:spPr>
          <a:xfrm>
            <a:off x="142920" y="185760"/>
            <a:ext cx="8643600" cy="648288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Яков Петрович Полонский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друг\Рабочий стол\polonsk1.jpg.jpg"/>
          <p:cNvPicPr/>
          <p:nvPr/>
        </p:nvPicPr>
        <p:blipFill>
          <a:blip r:embed="rId1"/>
          <a:stretch/>
        </p:blipFill>
        <p:spPr>
          <a:xfrm>
            <a:off x="3166920" y="719280"/>
            <a:ext cx="2857320" cy="380952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07" name="Picture 2" descr="C:\Documents and Settings\друг\Рабочий стол\Рисунки\u2_3705.jpg"/>
          <p:cNvPicPr/>
          <p:nvPr/>
        </p:nvPicPr>
        <p:blipFill>
          <a:blip r:embed="rId1"/>
          <a:stretch/>
        </p:blipFill>
        <p:spPr>
          <a:xfrm>
            <a:off x="27000" y="142920"/>
            <a:ext cx="9116640" cy="6714720"/>
          </a:xfrm>
          <a:prstGeom prst="rect">
            <a:avLst/>
          </a:prstGeom>
          <a:ln w="9525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286000" y="928800"/>
            <a:ext cx="650052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 горам две хмурых тучи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нойным вечером блужд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на грудь скалы горю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 ночи медленно сполз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 сошлись – не уступ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ой скалы друг другу д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пустыню оглас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Яркой молнии уда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рянул гром – по дебрям вла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хо резко засмея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скала таким протя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оном жалобным сказа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ак вздохнула, что не см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вторить удара т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 ног скалы горю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леглись и обомл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лицетвор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ередача свойств живого существа неживому предмету):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учи «блуждали», «сползали», «не уступили», «огласили», «не смели повторить», «улеглись», «обомлели»; 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эхо «засмеялось»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кала «вздохнула»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  <Words>393</Words>
  <Paragraphs>1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0-03-10T07:37:47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