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6651-AB5D-48E6-A296-9EA67242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4E2A-ADB4-41ED-9F98-D3478CF4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98A1-9097-47F7-A1C6-CF89E473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6060-8B98-4F6B-88A4-0C3919AF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6448-8196-4A10-8CA9-491CF040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A192-6543-4163-B4BC-8A36CB2D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F038-25DB-4C1C-A83F-6400E48A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DC57-D76C-44CB-8EA2-59DD55B1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2067-BAD6-4BED-ABA5-3CB74EC6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FF9F-4C2E-4582-B24A-A945F50B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FA24-0F23-406A-9C19-EF560448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4E60-5893-46C7-867F-70731D12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3F8E-111A-4A4C-B7CB-574CB450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9C5D-318D-4F0A-BDAE-94986043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8793-EDA6-4CA1-BBAE-D423E1CA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CB2F-01FE-44BC-B3A9-7E7752DB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F641-2B91-440D-A59C-37004083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F92E-2167-42DE-A383-ED5DA749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A9A2-1AF4-40E7-A8E1-DC3987F4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D780-B430-4A12-A6CD-F6D90D7F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8AB5-1780-4448-83E7-7F65D9F2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3CEF-F573-4C45-8435-CF66F38E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178A-242C-4457-A8C1-858D8B53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22F9-C383-4D4C-AAC1-F7570AE5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94D5-68DF-4759-B252-79057D8F3C1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D4B5-5BA9-465A-BBC1-DA9766DC78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67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Развитие Критического Мышления через Чтение и Письмо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Работа над сочинением–эссе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 О чем текст?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(Узнаешь тему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  Какие вопросы рассматривает автор?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(Увидишь проблемы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. Над каким вопросом автор размышляет больше всего?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(Увидишь основную проблему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.   Зачем автор написал текст?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(Определишь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цель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.  Как автору удалось помочь тебе определить цель?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(Увидишь роль языковых средств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6. Почему были использованы именно эти языковые средства?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(Увидишь уместность их и особенности авторского стиля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7. Как сам автор отвечает на поставленный им вопрос?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(Увидишь авторскую позицию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Омонимия производных предлогов и форм самостоятельных частей речи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Verdana"/>
              </a:rPr>
              <a:t>Цели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 отрабатывать навык определения части речи внешне сходных слов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 развивать умение правильного письма омонимичных слов разных частей реч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ХОД УРОКА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Начало урок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ТАДИЯ ВЫЗОВ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Прием «Отсроченная отгадка»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-  Как называется животное, которое меняет свою окраску в зависимости от внешней среды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- Может ли быть что-то общее между хамелеоном и некоторыми языковыми явлениями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СТАДИЯ ОСМЫСЛЕНИЯ.</a:t>
            </a:r>
            <a:br>
              <a:rPr sz="2800"/>
            </a:b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Прочитайте текст, определите, есть ли в нем слова-хамелеоны.</a:t>
            </a:r>
            <a:br>
              <a:rPr sz="1800"/>
            </a:b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Могут ли стареть реки? Несмотря на разницу мнений, мы вынуждены ответить: «Да». Обидно, что в списке стареющих есть также и кубанские реки. Это Ея, Челбас, Кирпили и Понура. В продолжение многих веков происходили постепенные изменения в течении рек. Долины их неглубокие, зато широкие вследствие большой полноводности в былые времена. Сейчас эти реки маловодны. В течение лета и осени они местами пересыхают. Их можно перейти по этому мелководью, не смотря под ноги. И так из года в год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Чем это объясняется? Проведем небольшое следствие. Будем помнить, что источником питания степных рек являются атмосферные осадки и грунтовые воды. Вместо естественной защиты, вроде девственных степей и приречных лесов, теперь наблюдаем распаханные площади и вырубленные массивы. Вследствие этого реки стали заиливаться. Трудно в наши дни попасть в место первозданной красоты, какое помнят старожилы в старинном роде кубанских казаков. В следствии нет ошибки. Реки стареют и угасают. Но их можно омолодить! Поэтому мы все заинтересованы в продолжении следствия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Могут ли стареть реки?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Несмотря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а разницу мнений, мы вынуждены ответить: «Да». Обидно, что в списке стареющих есть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также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 кубанские реки. Это Ея, Челбас, Кирпили и Понура.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 продолжение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многих веков происходили постепенные изменения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 течении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ек. Долины их неглубокие,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зато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широкие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следствие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большой полноводнос-ти в былые времена. Сейчас эти реки маловодны.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 течение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лета и осени они местами пересыхают. Их можно перейти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по этому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мелководью,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не смотря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од ноги. И так из года в год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Чем это объясняется? Проведем небольшое следствие. Будем помнить, что источником питания степных рек являются атмосферные осадки и грунтовые воды.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место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естественной защиты, вроде девственных степей и приречных лесов, теперь наблюдаем распаханные площади и вырубленные массивы.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следствие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этого реки стали заиливаться. Трудно в наши дни попасть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 место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ервозданной красоты, какое помнят старожилы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таринном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роде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кубанских казаков. В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следствии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ет ошибки. Реки стареют и угасают. Но их можно омолодить!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Поэтому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мы все заинтересованы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 продолжении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ледствия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СТАДИЯ РЕФЛЕКСИИ.</a:t>
            </a:r>
            <a:br>
              <a:rPr sz="1800"/>
            </a:b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могли ли вы найти слова-хамелеоны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ерите название для слов-хамелеонов из предложенных лингвистических терминов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синонимы, омонимы, антони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ак чем же похожи хамелеоны и омонимы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овместное определение темы и целей уро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формулируйте тему нашего урока. Какие задачи мы перед собой постави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ктуализация имеющихся знаний.</a:t>
            </a:r>
            <a:br>
              <a:rPr sz="32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Прием «Кластер»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2276640"/>
            <a:ext cx="187164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Рой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пчел -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рой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я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92360" y="3573360"/>
            <a:ext cx="1366920" cy="719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Омограф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«одинако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ишутс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47640" y="4941720"/>
            <a:ext cx="1729080" cy="64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Дорога – доро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лачу, да плач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08360" y="1844640"/>
            <a:ext cx="2448000" cy="1584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моформы - слова раз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частей реч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динаковые по звуч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 напис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некотор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рамматических форм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24360" y="4508640"/>
            <a:ext cx="1873080" cy="865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Явление омоним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ОМОНИМ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«одинаковое им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20000" y="2276640"/>
            <a:ext cx="165564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Новая 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пил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пил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ф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43640" y="3573360"/>
            <a:ext cx="2016000" cy="649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Омоф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«одинаково звуча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56360" y="5013360"/>
            <a:ext cx="2592360" cy="863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Verdana"/>
              </a:rPr>
              <a:t>Мал. </a:t>
            </a:r>
            <a:r>
              <a:rPr b="1" i="1" lang="ru-RU" sz="1000" spc="-1" strike="noStrike">
                <a:solidFill>
                  <a:srgbClr val="000000"/>
                </a:solidFill>
                <a:latin typeface="Verdana"/>
              </a:rPr>
              <a:t>зато</a:t>
            </a:r>
            <a:r>
              <a:rPr b="0" i="1" lang="ru-RU" sz="1000" spc="-1" strike="noStrike">
                <a:solidFill>
                  <a:srgbClr val="000000"/>
                </a:solidFill>
                <a:latin typeface="Verdana"/>
              </a:rPr>
              <a:t> дорог - </a:t>
            </a:r>
            <a:r>
              <a:rPr b="1" i="1" lang="ru-RU" sz="1000" spc="-1" strike="noStrike">
                <a:solidFill>
                  <a:srgbClr val="000000"/>
                </a:solidFill>
                <a:latin typeface="Verdana"/>
              </a:rPr>
              <a:t>за то</a:t>
            </a:r>
            <a:r>
              <a:rPr b="0" i="1" lang="ru-RU" sz="1000" spc="-1" strike="noStrike">
                <a:solidFill>
                  <a:srgbClr val="000000"/>
                </a:solidFill>
                <a:latin typeface="Verdana"/>
              </a:rPr>
              <a:t> дерев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Verdana"/>
              </a:rPr>
              <a:t>В течение</a:t>
            </a:r>
            <a:r>
              <a:rPr b="0" i="1" lang="ru-RU" sz="1000" spc="-1" strike="noStrike">
                <a:solidFill>
                  <a:srgbClr val="000000"/>
                </a:solidFill>
                <a:latin typeface="Verdana"/>
              </a:rPr>
              <a:t> месяца- </a:t>
            </a:r>
            <a:r>
              <a:rPr b="1" i="1" lang="ru-RU" sz="1000" spc="-1" strike="noStrike">
                <a:solidFill>
                  <a:srgbClr val="000000"/>
                </a:solidFill>
                <a:latin typeface="Verdana"/>
              </a:rPr>
              <a:t>в течении</a:t>
            </a:r>
            <a:r>
              <a:rPr b="0" i="1" lang="ru-RU" sz="1000" spc="-1" strike="noStrike">
                <a:solidFill>
                  <a:srgbClr val="000000"/>
                </a:solidFill>
                <a:latin typeface="Verdana"/>
              </a:rPr>
              <a:t> ре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Verdana"/>
              </a:rPr>
              <a:t>Лет </a:t>
            </a:r>
            <a:r>
              <a:rPr b="1" i="1" lang="ru-RU" sz="1000" spc="-1" strike="noStrike">
                <a:solidFill>
                  <a:srgbClr val="000000"/>
                </a:solidFill>
                <a:latin typeface="Verdana"/>
              </a:rPr>
              <a:t>до ста расти</a:t>
            </a:r>
            <a:r>
              <a:rPr b="0" i="1" lang="ru-RU" sz="1000" spc="-1" strike="noStrike">
                <a:solidFill>
                  <a:srgbClr val="000000"/>
                </a:solidFill>
                <a:latin typeface="Verdana"/>
              </a:rPr>
              <a:t> нам без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Verdana"/>
              </a:rPr>
              <a:t>стар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987640" y="2492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2492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40000" y="4365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51640" y="4221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ая часть урока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31640" y="1773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Как определить часть речи внешне сходных слов?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Зависит ли написание слова от его принадлежности к той или иной части речи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332000" y="2921040"/>
            <a:ext cx="691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Задание.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Выпишите из текста любое предложение со словами-хамелеонами. Определите их как часть 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Найдите в тексте или придумайте предложение с омонимом к данному слову и запишите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зовите предложения, в которых употреблены производные предлоги, и докажите, что это предл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Как пишутся эти предлоги? Какие предлоги пишутся раздельно? Какие - слитн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403280" y="1052640"/>
            <a:ext cx="6980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ритика - изучение или обсуждение чего-либо с целью поиска недостатков.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.И.Ожег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3284640"/>
            <a:ext cx="69804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ритическое мышлени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 умение занять свою      позицию по обсуждаемому вопросу и умение             обосновать ее, способность выслушать собеседника, тщательно обдумать аргументы и проанализировать их лог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Базовая учебная модель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31640" y="206064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ызов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Осмысл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Рефлекс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иемы РКМЧП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Класте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051440" y="2607480"/>
            <a:ext cx="2056680" cy="465480"/>
            <a:chOff x="4051440" y="2607480"/>
            <a:chExt cx="2056680" cy="465480"/>
          </a:xfrm>
        </p:grpSpPr>
        <p:sp>
          <p:nvSpPr>
            <p:cNvPr id="98" name=""/>
            <p:cNvSpPr/>
            <p:nvPr/>
          </p:nvSpPr>
          <p:spPr>
            <a:xfrm flipV="1">
              <a:off x="4051440" y="2840400"/>
              <a:ext cx="17146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66120" y="2607480"/>
              <a:ext cx="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66120" y="2607480"/>
              <a:ext cx="34200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766120" y="2840400"/>
              <a:ext cx="34200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94440" y="2607480"/>
              <a:ext cx="22860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36880" y="2607480"/>
              <a:ext cx="22860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279680" y="2607480"/>
              <a:ext cx="22860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194080" y="2840400"/>
              <a:ext cx="22860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736520" y="2840400"/>
              <a:ext cx="22860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279680" y="2840400"/>
              <a:ext cx="22860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7134120" y="1989000"/>
            <a:ext cx="915120" cy="1601640"/>
            <a:chOff x="7134120" y="1989000"/>
            <a:chExt cx="915120" cy="1601640"/>
          </a:xfrm>
        </p:grpSpPr>
        <p:sp>
          <p:nvSpPr>
            <p:cNvPr id="109" name=""/>
            <p:cNvSpPr/>
            <p:nvPr/>
          </p:nvSpPr>
          <p:spPr>
            <a:xfrm flipH="1">
              <a:off x="7590960" y="1990440"/>
              <a:ext cx="7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90960" y="1989720"/>
              <a:ext cx="45756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90960" y="2332080"/>
              <a:ext cx="45828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90960" y="2675160"/>
              <a:ext cx="45756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7134120" y="1989000"/>
              <a:ext cx="45648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7134120" y="2331000"/>
              <a:ext cx="45648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134120" y="2674440"/>
              <a:ext cx="45648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248600" y="3017520"/>
              <a:ext cx="34200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90960" y="3017520"/>
              <a:ext cx="34308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332000" y="3429000"/>
            <a:ext cx="2519280" cy="1655640"/>
            <a:chOff x="1332000" y="3429000"/>
            <a:chExt cx="2519280" cy="1655640"/>
          </a:xfrm>
        </p:grpSpPr>
        <p:sp>
          <p:nvSpPr>
            <p:cNvPr id="119" name=""/>
            <p:cNvSpPr/>
            <p:nvPr/>
          </p:nvSpPr>
          <p:spPr>
            <a:xfrm>
              <a:off x="1332000" y="3500280"/>
              <a:ext cx="647640" cy="576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40000" y="3645000"/>
              <a:ext cx="647640" cy="5760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03640" y="3429000"/>
              <a:ext cx="647640" cy="576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76360" y="4365720"/>
              <a:ext cx="647640" cy="5760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56000" y="4508640"/>
              <a:ext cx="647640" cy="5760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03640" y="4076640"/>
              <a:ext cx="647640" cy="576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92360" y="4076640"/>
              <a:ext cx="71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79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987640" y="378900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87640" y="4076640"/>
              <a:ext cx="2890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71640" y="4221000"/>
              <a:ext cx="7164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435640" y="4221000"/>
            <a:ext cx="129528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76720" y="4581360"/>
            <a:ext cx="935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458136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059280" y="5013360"/>
            <a:ext cx="5832360" cy="1297080"/>
            <a:chOff x="3059280" y="5013360"/>
            <a:chExt cx="5832360" cy="1297080"/>
          </a:xfrm>
        </p:grpSpPr>
        <p:sp>
          <p:nvSpPr>
            <p:cNvPr id="134" name=""/>
            <p:cNvSpPr/>
            <p:nvPr/>
          </p:nvSpPr>
          <p:spPr>
            <a:xfrm>
              <a:off x="6732720" y="5013360"/>
              <a:ext cx="1295280" cy="3603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84720" y="5013360"/>
              <a:ext cx="1295280" cy="3603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96360" y="5661000"/>
              <a:ext cx="1295280" cy="3603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7280" y="5661000"/>
              <a:ext cx="1295640" cy="3603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59280" y="5950080"/>
              <a:ext cx="1295280" cy="3603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6659280" y="5373720"/>
              <a:ext cx="649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96360" y="5373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780000" y="5373720"/>
              <a:ext cx="100800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«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Чередование гласных в корне слова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ора, загар, загорать, коснулся, косит, касается, изложение, излагать, ложны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1619280" y="2924280"/>
            <a:ext cx="1297080" cy="720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Черед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в кор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2924280"/>
            <a:ext cx="1008000" cy="649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с-к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80000" y="2997360"/>
            <a:ext cx="936720" cy="502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коснул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64000" y="4292640"/>
            <a:ext cx="1079280" cy="649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г-ло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63640" y="4292640"/>
            <a:ext cx="1008000" cy="649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ар-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16360" y="5013360"/>
            <a:ext cx="1295640" cy="503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изло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1280" y="5229360"/>
            <a:ext cx="865440" cy="504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аго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16000" y="5229360"/>
            <a:ext cx="576360" cy="503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аг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59280" y="3933720"/>
            <a:ext cx="936720" cy="503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излаг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71640" y="3284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95640" y="3573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3500280"/>
            <a:ext cx="143964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43280" y="321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572000" y="429228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00720" y="4869000"/>
            <a:ext cx="3585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547280" y="4869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486900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иемы РКМЧП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32000" y="1827360"/>
            <a:ext cx="223200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Инсер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708280"/>
            <a:ext cx="735156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87280" y="2997360"/>
            <a:ext cx="76327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» - информация мне известн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«+» - узнал что-то ново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«--» - противоречит тому, что знаю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е согласе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«?» -  хочу узнать подробне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03280" y="105264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Verdana"/>
              </a:rPr>
              <a:t>«Инсерт» - системная размет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Глагол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— это самостоятельная часть речи, которая обозначает действие и отвечает па вопросы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что делать? что сделать?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Глагол из­меняется по временам, лицам, числам и родам. В предложении обычно бывает сказуемы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Причастие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— это особая форма глагола, кото­рая обозначает признак предмета по действию и отвечает на вопросы прилагательного: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какой? какая? какое? какие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Имя прилагательное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— это самостоятельная часть речи, которая обозначает признак пред­мета и отвечает на вопросы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какой? чей?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Имена прилагательные изменяются породам, падежам, числам. Могут иметь краткую форму. В предло­жении прилагательные бывают определениями и сказуемым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Причастие имеет признаки глагола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вид </a:t>
            </a: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- совершенный (что сделавший?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решив­ший)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несовершенный (что делавший?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решавший)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время </a:t>
            </a: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- настоящее (что делающий?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засыпа­ющий)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прошедшее (что сделавший?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заснувший)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возвратность - возвратное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(обидевшийся)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невозвратное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(обидевший)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признаки прилагательного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род - ж.р. бегущая, м.р. бегущий, </a:t>
            </a: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ср.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бегу­щее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число 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ед.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ч. рисующий, </a:t>
            </a: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мн.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ч. рисующие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падеж - и.п. живущий, р.п. живущего, д.п. живущему, в.п. живущего, т.п. живущим, п.п. </a:t>
            </a: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о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живущем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может иметь 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краткую форму - построен, нарисована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Verdana"/>
              </a:rPr>
              <a:t>В предложении причастие является определением или сказуемым</a:t>
            </a: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Задание. Отметьте знаком «+» причастия в следующем ряду: красный, краснеет, краснею­щий, танцующие, танцуют, работа закончена, законченный, закончить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иемы РКМЧП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«Синквейн» - стихотворение, состоящее из 5 строк, каждая из которых имеет своё содержание и  определённую фор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 строка-1 существительное (тем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 строка-2 прилагательных (раскрывающие тему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 строка- 3 глагола (описывающие действия по теме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 строка- предложение (отношение  к теме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 строка- 1 слово-резюме (синоним тем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Счасть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Хрупкое, нежно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Ищет, находит, уходи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Оно у каждого своё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Где его найти, не знает никто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Ирина Д., 7-й класс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люшки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купой, жадный, пусто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Всё копит, но не для себ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Когда-то был живой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А теперь «мертвая душа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Учащиеся 9 класс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0:36:56Z</dcterms:created>
  <dc:creator>Alina</dc:creator>
  <dc:description/>
  <dc:language>en-US</dc:language>
  <cp:lastModifiedBy>учитель информатики</cp:lastModifiedBy>
  <dcterms:modified xsi:type="dcterms:W3CDTF">2009-08-31T05:58:39Z</dcterms:modified>
  <cp:revision>13</cp:revision>
  <dc:subject/>
  <dc:title>Развитие Критического Мышления через Чтение и Письмо</dc:title>
</cp:coreProperties>
</file>