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433-2FEF-416B-B45A-FEF0745D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1AD-3A49-49F0-91BD-8A9B8B8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774-F323-478C-A41D-0B44BB42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B60-F35F-4ABD-A404-8EF387C4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5981-A404-4FD3-BD15-B28E7C1A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7C29-D047-4B0C-A386-3958C49A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F90-4642-4D8D-A160-4B72212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0B5-6F3A-4590-87D2-B88CA647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2A90-36C5-4194-A7DC-C358E80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1ECA-B1D1-41D4-A903-90AD898B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64E-49AD-4894-A5AF-2B3859C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E29-3721-4FB8-9B55-35CEE98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DA8D-D924-4FB6-A47F-078E7FD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1CA-08C7-452C-9061-DAE1456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4EC9-2E63-4E3B-8F0A-5A6857F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63E7-124F-4698-92C6-0F4EB5F1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FBE8-0240-4AF3-94DB-AEFE5E0C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A90-4202-4377-8A95-86BDB7C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A24-BA79-4BA0-BCEE-86671C60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C70-995D-410D-B3D4-A574B14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D19-1137-49EC-98AC-6274B78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C59-2C0B-497C-874E-5F0BE7A7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437-95B7-4E59-8639-E4A01BE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371-4A5A-4A3C-B246-130F32E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5C99-751E-4C9A-B6AD-34D8356033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6F25-B546-46B4-8204-8FA488A621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7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бота над сочинением–эсс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О чем текст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знаешь тем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Какие вопросы рассматривает автор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проблем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 Над каким вопросом автор размышляет больше всего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основную проблем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   Зачем автор написал текст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Определиш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цель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.  Как автору удалось помочь тебе определить цель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роль языковых средст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. Почему были использованы именно эти языковые средства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уместность их и особенности авторского стил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7. Как сам автор отвечает на поставленный им вопрос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авторскую позицию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монимия производных предлогов и форм самостоятельных частей реч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отрабатывать навык определения части речи внешне сходных сл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развивать умение правильного письма омонимичных слов разных частей реч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ХОД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чало уро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АДИЯ ВЫЗО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ием «Отсроченная отгадка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 Как называется животное, которое меняет свою окраску в зависимости от внешней сред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Может ли быть что-то общее между хамелеоном и некоторыми языковыми явлениям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ТАДИЯ ОСМЫСЛЕНИЯ.</a:t>
            </a:r>
            <a:br>
              <a:rPr sz="2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читайте текст, определите, есть ли в нем слова-хамелеоны.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гут ли стареть реки? Несмотря на разницу мнений, мы вынуждены ответить: «Да». Обидно, что в списке стареющих есть также и кубанские реки. Это Ея, Челбас, Кирпили и Понура. В продолжение многих веков происходили постепенные изменения в течении рек. Долины их неглубокие, зато широкие вследствие большой полноводности в былые времена. Сейчас эти реки маловодны. В течение лета и осени они местами пересыхают. Их можно перейти по этому мелководью, не смотря под ноги. И так из года в год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это объясняется? Проведем небольшое следствие. Будем помнить, что источником питания степных рек являются атмосферные осадки и грунтовые воды. Вместо естественной защиты, вроде девственных степей и приречных лесов, теперь наблюдаем распаханные площади и вырубленные массивы. Вследствие этого реки стали заиливаться. Трудно в наши дни попасть в место первозданной красоты, какое помнят старожилы в старинном роде кубанских казаков. В следствии нет ошибки. Реки стареют и угасают. Но их можно омолодить! Поэтому мы все заинтересованы в продолжении следств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гут ли стареть реки?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смотря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 разницу мнений, мы вынуждены ответить: «Да». Обидно, что в списке стареющих есть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такж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кубанские реки. Это Ея, Челбас, Кирпили и Понура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продолжен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ногих веков происходили постепенные изменения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течен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к. Долины их неглубокие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за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широкие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ледств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ой полноводнос-ти в былые времена. Сейчас эти реки маловодн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течен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ета и осени они местами пересыхают. Их можно перейти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 этому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елководью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 смотря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д ноги. И так из года в год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это объясняется? Проведем небольшое следствие. Будем помнить, что источником питания степных рек являются атмосферные осадки и грунтовые вод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мес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стественной защиты, вроде девственных степей и приречных лесов, теперь наблюдаем распаханные площади и вырубленные массив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ледств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этого реки стали заиливаться. Трудно в наши дни попасть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мес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возданной красоты, какое помнят старожилы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таринном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од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убанских казаков. В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следств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ет ошибки. Реки стареют и угасают. Но их можно омолодить!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этому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ы все заинтересованы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продолжен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ледств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ТАДИЯ РЕФЛЕКСИИ.</a:t>
            </a:r>
            <a:br>
              <a:rPr sz="1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могли ли вы найти слова-хамелео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ерите название для слов-хамелеонов из предложенных лингвистических терминов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инонимы, омонимы, антони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к чем же похожи хамелеоны и омоним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вместное определение темы и целей уро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формулируйте тему нашего урока. Какие задачи мы перед собой постави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ктуализация имеющихся знаний.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ием «Кластер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276640"/>
            <a:ext cx="187164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ой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пчел -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ой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я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3573360"/>
            <a:ext cx="136692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гра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ишут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941720"/>
            <a:ext cx="1729080" cy="6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Дорога – до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лачу, да пл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844640"/>
            <a:ext cx="244800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моформы - слова раз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астей реч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динаковые по звуч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напис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некотор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амматических форм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4508640"/>
            <a:ext cx="187308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вление омони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НИМ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е им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2276640"/>
            <a:ext cx="16556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Новая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п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п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3573360"/>
            <a:ext cx="201600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ф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 звуча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013360"/>
            <a:ext cx="259236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Мал.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зато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дорог -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за то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дере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В течение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месяца-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в течении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ре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Лет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до ста расти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нам без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стар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98764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422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часть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Как определить часть речи внешне сходных слов?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Зависит ли написание слова от его принадлежности к той или иной части реч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9210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адание.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пишите из текста любое предложение со словами-хамелеонами. Определите их как часть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Найдите в тексте или придумайте предложение с омонимом к данному слову и запишите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зовите предложения, в которых употреблены производные предлоги, и докажите, что это пред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Как пишутся эти предлоги? Какие предлоги пишутся раздельно? Какие - слит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1052640"/>
            <a:ext cx="698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итика - изучение или обсуждение чего-либо с целью поиска недостатков.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.И.Ожег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284640"/>
            <a:ext cx="6980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ическое мышл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умение занять свою      позицию по обсуждаемому вопросу и умение             обосновать ее, способность выслушать собеседника, тщательно обдумать аргументы и проанализировать их лог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азовая учебная модель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з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смысл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ласте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51440" y="2607480"/>
            <a:ext cx="2056680" cy="465480"/>
            <a:chOff x="4051440" y="2607480"/>
            <a:chExt cx="2056680" cy="465480"/>
          </a:xfrm>
        </p:grpSpPr>
        <p:sp>
          <p:nvSpPr>
            <p:cNvPr id="98" name=""/>
            <p:cNvSpPr/>
            <p:nvPr/>
          </p:nvSpPr>
          <p:spPr>
            <a:xfrm flipV="1">
              <a:off x="4051440" y="2840400"/>
              <a:ext cx="17146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66120" y="260748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66120" y="2607480"/>
              <a:ext cx="3420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66120" y="2840400"/>
              <a:ext cx="3420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9444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688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27968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9408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73652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27968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134120" y="1989000"/>
            <a:ext cx="915120" cy="1601640"/>
            <a:chOff x="7134120" y="1989000"/>
            <a:chExt cx="915120" cy="1601640"/>
          </a:xfrm>
        </p:grpSpPr>
        <p:sp>
          <p:nvSpPr>
            <p:cNvPr id="109" name=""/>
            <p:cNvSpPr/>
            <p:nvPr/>
          </p:nvSpPr>
          <p:spPr>
            <a:xfrm flipH="1">
              <a:off x="7590960" y="1990440"/>
              <a:ext cx="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90960" y="1989720"/>
              <a:ext cx="457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90960" y="2332080"/>
              <a:ext cx="4582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90960" y="2675160"/>
              <a:ext cx="457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134120" y="198900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134120" y="233100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34120" y="267444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248600" y="3017520"/>
              <a:ext cx="34200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90960" y="3017520"/>
              <a:ext cx="34308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332000" y="3429000"/>
            <a:ext cx="2519280" cy="1655640"/>
            <a:chOff x="1332000" y="3429000"/>
            <a:chExt cx="2519280" cy="1655640"/>
          </a:xfrm>
        </p:grpSpPr>
        <p:sp>
          <p:nvSpPr>
            <p:cNvPr id="119" name=""/>
            <p:cNvSpPr/>
            <p:nvPr/>
          </p:nvSpPr>
          <p:spPr>
            <a:xfrm>
              <a:off x="1332000" y="350028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40000" y="364500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3640" y="342900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6360" y="436572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450864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3640" y="407664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2360" y="4076640"/>
              <a:ext cx="71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987640" y="378900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87640" y="4076640"/>
              <a:ext cx="289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1640" y="4221000"/>
              <a:ext cx="71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35640" y="4221000"/>
            <a:ext cx="1295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76720" y="4581360"/>
            <a:ext cx="935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58136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59280" y="5013360"/>
            <a:ext cx="5832360" cy="1297080"/>
            <a:chOff x="3059280" y="5013360"/>
            <a:chExt cx="5832360" cy="1297080"/>
          </a:xfrm>
        </p:grpSpPr>
        <p:sp>
          <p:nvSpPr>
            <p:cNvPr id="134" name=""/>
            <p:cNvSpPr/>
            <p:nvPr/>
          </p:nvSpPr>
          <p:spPr>
            <a:xfrm>
              <a:off x="6732720" y="501336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84720" y="501336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6360" y="566100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5661000"/>
              <a:ext cx="129564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59280" y="595008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659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96360" y="537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780000" y="53737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Чередование гласных в корне слов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а, загар, загорать, коснулся, косит, касается, изложение, излагать, лож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2924280"/>
            <a:ext cx="129708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Чере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кор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924280"/>
            <a:ext cx="100800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-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2997360"/>
            <a:ext cx="936720" cy="50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сну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4292640"/>
            <a:ext cx="107928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г-л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4292640"/>
            <a:ext cx="100800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р-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5013360"/>
            <a:ext cx="129564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229360"/>
            <a:ext cx="865440" cy="50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о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229360"/>
            <a:ext cx="57636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3933720"/>
            <a:ext cx="93672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лаг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500280"/>
            <a:ext cx="1439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4292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4869000"/>
            <a:ext cx="3585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47280" y="4869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869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22320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нсе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708280"/>
            <a:ext cx="7351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2997360"/>
            <a:ext cx="7632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» - информация мне извест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+» - узнал что-то нов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--» - противоречит тому, что зна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согласе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?» -  хочу узнать подробн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3280" y="1052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Verdana"/>
              </a:rPr>
              <a:t>«Инсерт» - системная разм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самостоятельная часть речи, которая обозначает действие и отвечает па вопросы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что делать? что сделать?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Глагол из­меняется по временам, лицам, числам и родам. В предложении обычно бывает сказуем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Причастие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особая форма глагола, кото­рая обозначает признак предмета по действию и отвечает на вопросы прилагательного: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какой? какая? какое? каки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Имя прилагательное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самостоятельная часть речи, которая обозначает признак пред­мета и отвечает на вопросы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какой? чей?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Имена прилагательные изменяются породам, падежам, числам. Могут иметь краткую форму. В предло­жении прилагательные бывают определениями и сказуемы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ричастие имеет признаки глагола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вид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- совершенный (что с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ешив­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несовершенный (что 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еша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время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- настоящее (что делающ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засыпа­ющ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прошедшее (что с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засну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возвратность - возвратное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(обидевшийся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невозвратное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(обиде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ризнаки прилагательного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од - ж.р. бегущая, м.р. бегущий,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ср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бегу­щее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ед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. рисующий,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мн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. рисующие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адеж - и.п. живущий, р.п. живущего, д.п. живущему, в.п. живущего, т.п. живущим, п.п.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о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живущем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может иметь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краткую форму - построен, нарисована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В предложении причастие является определением или сказуемым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дание. Отметьте знаком «+» причастия в следующем ряду: красный, краснеет, краснею­щий, танцующие, танцуют, работа закончена, законченный, закончить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«Синквейн» - стихотворение, состоящее из 5 строк, каждая из которых имеет своё содержание и  определённую фор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 строка-1 существительное (те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строка-2 прилагательных (раскрывающие тем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строка- 3 глагола (описывающие действия по тем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 строка- предложение (отношение  к тем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 строка- 1 слово-резюме (синоним тем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часть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Хрупкое, нежно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щет, находит, уходи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но у каждого своё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Где его найти, не знает ник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рина Д., 7-й клас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люшки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купой, жадный, пусто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сё копит, но не для себ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гда-то был живо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теперь «мертвая душ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чащиеся 9 класс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0:36:56Z</dcterms:created>
  <dc:creator>Alina</dc:creator>
  <dc:description/>
  <dc:language>en-US</dc:language>
  <cp:lastModifiedBy>учитель информатики</cp:lastModifiedBy>
  <dcterms:modified xsi:type="dcterms:W3CDTF">2009-08-31T05:58:39Z</dcterms:modified>
  <cp:revision>13</cp:revision>
  <dc:subject/>
  <dc:title>Развитие Критического Мышления через Чтение и Письмо</dc:title>
</cp:coreProperties>
</file>