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AF2-7243-40FF-B974-0BFE3E71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F0E-2416-4F40-B06A-F9821ED2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E09-6C7E-40C1-839F-5633443B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630-01E8-4EC2-8625-FB9664B0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45DB-3AD3-4797-8B36-FADB5349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08D0-98F5-47CC-AAF5-186FEE94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B47C-3126-4A14-9016-E34E36B3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C370-B31D-4578-8698-E09055CB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956D-798E-411F-AB5F-DA690E1E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E0FE-55CF-4DF9-98F7-A60FF8C9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9B41-4478-4C9B-9D8B-B3115B6A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322-E9F7-42D2-BF27-DC849A63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3DDB-ADF2-4EFB-9B48-20EA1542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F804-1D62-4E2D-985E-E8DB6444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A475-31D2-48AE-BB52-A454E7CC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B0CB-71C3-4C5B-8ACE-38397249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7D58-D114-481B-95F3-CBD1FABC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23D-B558-4A15-A048-F38D6345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180-1253-4AFE-9933-99CC0BE0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888-3DFD-4B70-BE07-976C2365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A73-1BC4-4A0B-A489-8AECE2CC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4CB-BDF9-43F8-BE06-FF0C8C4C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686-C0D6-425A-A7DC-FF2B335F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E31-177E-4F93-913F-0E3A9BD8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82F3-983F-4DD3-A687-F1F6DC684F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9CC1-B6BE-41F1-A9E8-7F58FD323B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67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Развитие Критического Мышления через Чтение и Письм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Работа над сочинением–эсс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 О чем текст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знаешь тему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  Какие вопросы рассматривает автор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видишь проблемы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 Над каким вопросом автор размышляет больше всего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видишь основную проблему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   Зачем автор написал текст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Определиш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цель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.  Как автору удалось помочь тебе определить цель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видишь роль языковых средств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. Почему были использованы именно эти языковые средства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видишь уместность их и особенности авторского стиля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7. Как сам автор отвечает на поставленный им вопрос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видишь авторскую позицию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Омонимия производных предлогов и форм самостоятельных частей речи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Цели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отрабатывать навык определения части речи внешне сходных сло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развивать умение правильного письма омонимичных слов разных частей реч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ХОД УРО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ачало урок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ТАДИЯ ВЫЗОВ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ием «Отсроченная отгадка»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 Как называется животное, которое меняет свою окраску в зависимости от внешней среды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Может ли быть что-то общее между хамелеоном и некоторыми языковыми явлениям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ТАДИЯ ОСМЫСЛЕНИЯ.</a:t>
            </a:r>
            <a:br>
              <a:rPr sz="2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очитайте текст, определите, есть ли в нем слова-хамелеоны.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огут ли стареть реки? Несмотря на разницу мнений, мы вынуждены ответить: «Да». Обидно, что в списке стареющих есть также и кубанские реки. Это Ея, Челбас, Кирпили и Понура. В продолжение многих веков происходили постепенные изменения в течении рек. Долины их неглубокие, зато широкие вследствие большой полноводности в былые времена. Сейчас эти реки маловодны. В течение лета и осени они местами пересыхают. Их можно перейти по этому мелководью, не смотря под ноги. И так из года в год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Чем это объясняется? Проведем небольшое следствие. Будем помнить, что источником питания степных рек являются атмосферные осадки и грунтовые воды. Вместо естественной защиты, вроде девственных степей и приречных лесов, теперь наблюдаем распаханные площади и вырубленные массивы. Вследствие этого реки стали заиливаться. Трудно в наши дни попасть в место первозданной красоты, какое помнят старожилы в старинном роде кубанских казаков. В следствии нет ошибки. Реки стареют и угасают. Но их можно омолодить! Поэтому мы все заинтересованы в продолжении следстви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огут ли стареть реки?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Несмотря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 разницу мнений, мы вынуждены ответить: «Да». Обидно, что в списке стареющих есть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такж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 кубанские реки. Это Ея, Челбас, Кирпили и Понура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продолжени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ногих веков происходили постепенные изменения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течении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ек. Долины их неглубокие,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зато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широкие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следстви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ольшой полноводнос-ти в былые времена. Сейчас эти реки маловодны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течени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лета и осени они местами пересыхают. Их можно перейти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о этому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елководью,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не смотря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д ноги. И так из года в год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Чем это объясняется? Проведем небольшое следствие. Будем помнить, что источником питания степных рек являются атмосферные осадки и грунтовые воды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место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естественной защиты, вроде девственных степей и приречных лесов, теперь наблюдаем распаханные площади и вырубленные массивы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следстви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этого реки стали заиливаться. Трудно в наши дни попасть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место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ервозданной красоты, какое помнят старожилы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таринном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род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кубанских казаков. В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следствии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ет ошибки. Реки стареют и угасают. Но их можно омолодить!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оэтому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ы все заинтересованы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продолжении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ледстви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ТАДИЯ РЕФЛЕКСИИ.</a:t>
            </a:r>
            <a:br>
              <a:rPr sz="1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могли ли вы найти слова-хамелеон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ерите название для слов-хамелеонов из предложенных лингвистических терминов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синонимы, омонимы, антони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ак чем же похожи хамелеоны и омоним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овместное определение темы и целей уро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формулируйте тему нашего урока. Какие задачи мы перед собой постави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ктуализация имеющихся знаний.</a:t>
            </a:r>
            <a:br>
              <a:rPr sz="32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Прием «Кластер»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2276640"/>
            <a:ext cx="187164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Рой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пчел -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рой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я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3573360"/>
            <a:ext cx="1366920" cy="719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мограф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«одинако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ишутс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4941720"/>
            <a:ext cx="1729080" cy="64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Дорога – дор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лачу, да плач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1844640"/>
            <a:ext cx="2448000" cy="158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моформы - слова раз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частей реч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динаковые по звуч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 напис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некотор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амматических форм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4508640"/>
            <a:ext cx="1873080" cy="86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Явление омоним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МОНИМ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«одинаковое им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2276640"/>
            <a:ext cx="165564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Новая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пил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пил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ф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43640" y="3573360"/>
            <a:ext cx="2016000" cy="649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моф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«одинаково звуча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5013360"/>
            <a:ext cx="2592360" cy="863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Мал.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зато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дорог -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за то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дере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В течение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месяца-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в течении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ре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Лет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до ста расти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нам без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стар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987640" y="2492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2492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4000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51640" y="422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ая часть уро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Как определить часть речи внешне сходных слов?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Зависит ли написание слова от его принадлежности к той или иной части речи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29210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адание.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пишите из текста любое предложение со словами-хамелеонами. Определите их как часть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Найдите в тексте или придумайте предложение с омонимом к данному слову и запишите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зовите предложения, в которых употреблены производные предлоги, и докажите, что это предл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Как пишутся эти предлоги? Какие предлоги пишутся раздельно? Какие - слит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03280" y="1052640"/>
            <a:ext cx="698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ритика - изучение или обсуждение чего-либо с целью поиска недостатков.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.И.Ожег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3284640"/>
            <a:ext cx="6980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итическое мышле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умение занять свою      позицию по обсуждаемому вопросу и умение             обосновать ее, способность выслушать собеседника, тщательно обдумать аргументы и проанализировать их лог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Базовая учебная модель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31640" y="2060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ызов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смысл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ефлекс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емы РКМЧП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ласте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051440" y="2607480"/>
            <a:ext cx="2056680" cy="465480"/>
            <a:chOff x="4051440" y="2607480"/>
            <a:chExt cx="2056680" cy="465480"/>
          </a:xfrm>
        </p:grpSpPr>
        <p:sp>
          <p:nvSpPr>
            <p:cNvPr id="98" name=""/>
            <p:cNvSpPr/>
            <p:nvPr/>
          </p:nvSpPr>
          <p:spPr>
            <a:xfrm flipV="1">
              <a:off x="4051440" y="2840400"/>
              <a:ext cx="17146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66120" y="260748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66120" y="2607480"/>
              <a:ext cx="3420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766120" y="2840400"/>
              <a:ext cx="3420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94440" y="260748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36880" y="260748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279680" y="260748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94080" y="284040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736520" y="284040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279680" y="284040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134120" y="1989000"/>
            <a:ext cx="915120" cy="1601640"/>
            <a:chOff x="7134120" y="1989000"/>
            <a:chExt cx="915120" cy="1601640"/>
          </a:xfrm>
        </p:grpSpPr>
        <p:sp>
          <p:nvSpPr>
            <p:cNvPr id="109" name=""/>
            <p:cNvSpPr/>
            <p:nvPr/>
          </p:nvSpPr>
          <p:spPr>
            <a:xfrm flipH="1">
              <a:off x="7590960" y="1990440"/>
              <a:ext cx="7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90960" y="1989720"/>
              <a:ext cx="45756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90960" y="2332080"/>
              <a:ext cx="4582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90960" y="2675160"/>
              <a:ext cx="45756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134120" y="1989000"/>
              <a:ext cx="4564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134120" y="2331000"/>
              <a:ext cx="4564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134120" y="2674440"/>
              <a:ext cx="4564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248600" y="3017520"/>
              <a:ext cx="34200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90960" y="3017520"/>
              <a:ext cx="34308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332000" y="3429000"/>
            <a:ext cx="2519280" cy="1655640"/>
            <a:chOff x="1332000" y="3429000"/>
            <a:chExt cx="2519280" cy="1655640"/>
          </a:xfrm>
        </p:grpSpPr>
        <p:sp>
          <p:nvSpPr>
            <p:cNvPr id="119" name=""/>
            <p:cNvSpPr/>
            <p:nvPr/>
          </p:nvSpPr>
          <p:spPr>
            <a:xfrm>
              <a:off x="1332000" y="3500280"/>
              <a:ext cx="647640" cy="576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40000" y="3645000"/>
              <a:ext cx="647640" cy="576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3640" y="3429000"/>
              <a:ext cx="647640" cy="576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76360" y="4365720"/>
              <a:ext cx="647640" cy="576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56000" y="4508640"/>
              <a:ext cx="647640" cy="576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3640" y="4076640"/>
              <a:ext cx="647640" cy="576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92360" y="4076640"/>
              <a:ext cx="71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79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987640" y="378900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87640" y="4076640"/>
              <a:ext cx="289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71640" y="4221000"/>
              <a:ext cx="7164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35640" y="4221000"/>
            <a:ext cx="12952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76720" y="4581360"/>
            <a:ext cx="935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458136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059280" y="5013360"/>
            <a:ext cx="5832360" cy="1297080"/>
            <a:chOff x="3059280" y="5013360"/>
            <a:chExt cx="5832360" cy="1297080"/>
          </a:xfrm>
        </p:grpSpPr>
        <p:sp>
          <p:nvSpPr>
            <p:cNvPr id="134" name=""/>
            <p:cNvSpPr/>
            <p:nvPr/>
          </p:nvSpPr>
          <p:spPr>
            <a:xfrm>
              <a:off x="6732720" y="5013360"/>
              <a:ext cx="1295280" cy="360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84720" y="5013360"/>
              <a:ext cx="1295280" cy="360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6360" y="5661000"/>
              <a:ext cx="1295280" cy="360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5661000"/>
              <a:ext cx="1295640" cy="360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59280" y="5950080"/>
              <a:ext cx="1295280" cy="360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659280" y="5373720"/>
              <a:ext cx="649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96360" y="5373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780000" y="53737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Чередование гласных в корне слова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а, загар, загорать, коснулся, косит, касается, изложение, излагать, ложны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2924280"/>
            <a:ext cx="1297080" cy="720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Черед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 кор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2924280"/>
            <a:ext cx="1008000" cy="649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с-к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2997360"/>
            <a:ext cx="936720" cy="50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оснул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64000" y="4292640"/>
            <a:ext cx="1079280" cy="649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г-л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63640" y="4292640"/>
            <a:ext cx="1008000" cy="649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ар-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16360" y="5013360"/>
            <a:ext cx="1295640" cy="50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зло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5229360"/>
            <a:ext cx="865440" cy="504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го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5229360"/>
            <a:ext cx="576360" cy="50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г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59280" y="3933720"/>
            <a:ext cx="936720" cy="50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злаг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3284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3573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3500280"/>
            <a:ext cx="143964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321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572000" y="429228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4869000"/>
            <a:ext cx="3585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547280" y="4869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486900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емы РКМЧП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32000" y="1827360"/>
            <a:ext cx="22320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нсер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708280"/>
            <a:ext cx="73515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2997360"/>
            <a:ext cx="7632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» - информация мне известн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+» - узнал что-то ново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--» - противоречит тому, что зна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е согласе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?» -  хочу узнать подробне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03280" y="10526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Verdana"/>
              </a:rPr>
              <a:t>«Инсерт» - системная разме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— это самостоятельная часть речи, которая обозначает действие и отвечает па вопросы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что делать? что сделать?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Глагол из­меняется по временам, лицам, числам и родам. В предложении обычно бывает сказуемы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Причастие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— это особая форма глагола, кото­рая обозначает признак предмета по действию и отвечает на вопросы прилагательного: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какой? какая? какое? какие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Имя прилагательное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— это самостоятельная часть речи, которая обозначает признак пред­мета и отвечает на вопросы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какой? чей?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Имена прилагательные изменяются породам, падежам, числам. Могут иметь краткую форму. В предло­жении прилагательные бывают определениями и сказуемы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Причастие имеет признаки глагола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вид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- совершенный (что сделавший?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решив­ший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несовершенный (что делавший?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решавший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время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- настоящее (что делающий?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засыпа­ющий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прошедшее (что сделавший?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заснувший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возвратность - возвратное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(обидевшийся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невозвратное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(обидевший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признаки прилагательного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род - ж.р. бегущая, м.р. бегущий,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ср.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бегу­щее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ед.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ч. рисующий,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мн.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ч. рисующие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падеж - и.п. живущий, р.п. живущего, д.п. живущему, в.п. живущего, т.п. живущим, п.п.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о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живущем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может иметь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краткую форму - построен, нарисована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В предложении причастие является определением или сказуемым</a:t>
            </a: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Задание. Отметьте знаком «+» причастия в следующем ряду: красный, краснеет, краснею­щий, танцующие, танцуют, работа закончена, законченный, закончить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емы РКМЧП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«Синквейн» - стихотворение, состоящее из 5 строк, каждая из которых имеет своё содержание и  определённую фор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 строка-1 существительное (тем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 строка-2 прилагательных (раскрывающие тему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 строка- 3 глагола (описывающие действия по тем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 строка- предложение (отношение  к тем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 строка- 1 слово-резюме (синоним тем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часть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Хрупкое, нежно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щет, находит, уходи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но у каждого своё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Где его найти, не знает никт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рина Д., 7-й клас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люшки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купой, жадный, пусто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сё копит, но не для себ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огда-то был живой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А теперь «мертвая душа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Учащиеся 9 класс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0:36:56Z</dcterms:created>
  <dc:creator>Alina</dc:creator>
  <dc:description/>
  <dc:language>en-US</dc:language>
  <cp:lastModifiedBy>учитель информатики</cp:lastModifiedBy>
  <dcterms:modified xsi:type="dcterms:W3CDTF">2009-08-31T05:58:39Z</dcterms:modified>
  <cp:revision>13</cp:revision>
  <dc:subject/>
  <dc:title>Развитие Критического Мышления через Чтение и Письмо</dc:title>
</cp:coreProperties>
</file>