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8E1-5B1B-4007-8812-70A7AECA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F18-7980-4A29-B731-DA5E4815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636-435C-4A7C-8791-32B57E3C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6A9-834C-4509-9044-0F817FF1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6AD-C014-40E7-BFE0-1BA1D02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058-9B03-41C6-8CF4-0A39337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821-27DA-4CAA-9BA2-8B581B0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D1B-8D89-41CF-906D-52C1875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75D-93DE-472A-9CCA-8D44889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6F5-8288-42B1-A7B0-EA8FFD7A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BDF-85ED-4908-9043-B3961BD7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AFC-AFE2-451B-8756-814F8B8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1168-9492-4EF7-8E2B-8D514D3C5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57160" y="85716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«Признаки параллельных прямых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428920" y="4786200"/>
            <a:ext cx="6481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дготовила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БОУ гимназии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евшина Мар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68640" y="287280"/>
            <a:ext cx="17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"/>
          <p:cNvSpPr/>
          <p:nvPr/>
        </p:nvSpPr>
        <p:spPr>
          <a:xfrm>
            <a:off x="5572080" y="3929040"/>
            <a:ext cx="31431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"/>
          <p:cNvSpPr/>
          <p:nvPr/>
        </p:nvSpPr>
        <p:spPr>
          <a:xfrm>
            <a:off x="5643720" y="5143680"/>
            <a:ext cx="30002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"/>
          <p:cNvSpPr/>
          <p:nvPr/>
        </p:nvSpPr>
        <p:spPr>
          <a:xfrm flipH="1">
            <a:off x="6071760" y="3286080"/>
            <a:ext cx="2143080" cy="257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643720" y="35002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7150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858080" y="314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92972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57216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143840" y="4000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929280" y="4786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3"/>
          <p:cNvSpPr/>
          <p:nvPr/>
        </p:nvSpPr>
        <p:spPr>
          <a:xfrm flipH="1">
            <a:off x="7143840" y="2928960"/>
            <a:ext cx="1440" cy="314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786720" y="35719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7152840" y="52149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714384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85840" y="523440"/>
            <a:ext cx="528624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а О – середина отрезка АВ, то есть АО = 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точки О проведем перпендикуляр ОН к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ямо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 точки В отложим отрезок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= 2 по усло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м точки О 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О = ∆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по двум сторонам (АО=ВО,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) и углу между ними (1=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АОН и В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пункта 6 следует, что точк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О и Н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90°, так как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– прямой по постро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чаем, что а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пендикулярны Н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По теореме о двух прямых, перпендикулярных третьей,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|| 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28760" y="1026360"/>
            <a:ext cx="742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сумма односторонних углов равна 180°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прямых секущей соответственны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доказательства самостоятельно д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28760" y="57852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2.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6649200" y="392904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5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6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428920" y="4857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ая соединительная линия 1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14308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000680" y="35719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9"/>
          <p:cNvSpPr/>
          <p:nvPr/>
        </p:nvSpPr>
        <p:spPr>
          <a:xfrm>
            <a:off x="376560" y="1714680"/>
            <a:ext cx="66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07120" y="2074320"/>
            <a:ext cx="371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187, № 1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01760" y="3864600"/>
            <a:ext cx="78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§1, вопросы 1-6.№188, №19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85840" y="166356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знания учащимися видов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нных в результате пересечения двух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ущей; изучить признаки параллельности прям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анализировать изученный матери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авыков применения его для решения задач; 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мость изучаемых понятий; закрепить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я задач на применение признаков паралл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активности и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ения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интереса к предмету, самостоятельност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2151000"/>
            <a:ext cx="790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е прямые параллельны, если они не пересек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4400" y="491760"/>
            <a:ext cx="236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2071800" y="4429080"/>
            <a:ext cx="2143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3357720" y="4143240"/>
            <a:ext cx="20714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2071800" y="4143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4367160" y="4012200"/>
            <a:ext cx="443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рест лежащ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505400" y="4012200"/>
            <a:ext cx="409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торонн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4438080" y="4012200"/>
            <a:ext cx="433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ветственны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5840" y="741600"/>
            <a:ext cx="5214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1.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соответственных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6000120" y="2571840"/>
            <a:ext cx="14292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7"/>
          <p:cNvSpPr/>
          <p:nvPr/>
        </p:nvSpPr>
        <p:spPr>
          <a:xfrm flipV="1">
            <a:off x="5357880" y="39286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 flipH="1">
            <a:off x="7643880" y="2643120"/>
            <a:ext cx="64296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643720" y="2643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643720" y="3643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71500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858080" y="2571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771516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7286760" y="5357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493092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29484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накрест лежащи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786200" y="2707200"/>
            <a:ext cx="400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ямые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- секущая                                                                  1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13200" y="55018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714240" y="3857760"/>
            <a:ext cx="31435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>
            <a:off x="785880" y="5072040"/>
            <a:ext cx="30002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0"/>
          <p:cNvSpPr/>
          <p:nvPr/>
        </p:nvSpPr>
        <p:spPr>
          <a:xfrm flipH="1">
            <a:off x="1214280" y="3214800"/>
            <a:ext cx="2143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785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857160" y="4643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000240" y="3071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307188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1714680" y="52149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2286000" y="39290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20718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14200" y="51156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ельство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ол 1 и 2 по 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ореме о двух прямых, перпендикулярных третьей, 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‖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"/>
          <p:cNvSpPr/>
          <p:nvPr/>
        </p:nvSpPr>
        <p:spPr>
          <a:xfrm flipV="1">
            <a:off x="1357200" y="4285800"/>
            <a:ext cx="52866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"/>
          <p:cNvSpPr/>
          <p:nvPr/>
        </p:nvSpPr>
        <p:spPr>
          <a:xfrm flipV="1">
            <a:off x="1357200" y="5643720"/>
            <a:ext cx="52866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>
            <a:off x="3785400" y="3430440"/>
            <a:ext cx="71640" cy="285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57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42884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3857760" y="39290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3857760" y="5715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3500280" y="43578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3929040" y="5214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мария</cp:lastModifiedBy>
  <dcterms:modified xsi:type="dcterms:W3CDTF">2012-12-11T18:16:29Z</dcterms:modified>
  <cp:revision>16</cp:revision>
  <dc:subject/>
  <dc:title>Слайд 1</dc:title>
</cp:coreProperties>
</file>