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8A4-57D6-415C-BF88-F16E5835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9E7-CBB6-4228-A791-917D250C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609-4BDD-4CC0-87C6-DCC09A5E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EDD-0ABC-4777-9881-6CFEEA1A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EE7-531F-4F39-BE4A-51D396E6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F87-24A8-4120-8641-B1856A8B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416-9B69-4B63-9A23-87DAE8F0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0BC-9A30-4E48-A47D-7B19E800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83D-2CC0-4A26-918B-E422C723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7D3-6181-4502-99C3-D31E6A5F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3CA-A87D-4298-8088-42619A34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0CB-BCEB-419E-B9C1-712A0D2D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4DBB-AB64-4F8C-A252-C6C25266C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57160" y="85716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Arial"/>
              </a:rPr>
              <a:t>«Признаки параллельных прямых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428920" y="4786200"/>
            <a:ext cx="6481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дготовила 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БОУ гимназии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Левшина Мария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68640" y="287280"/>
            <a:ext cx="17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учай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"/>
          <p:cNvSpPr/>
          <p:nvPr/>
        </p:nvSpPr>
        <p:spPr>
          <a:xfrm>
            <a:off x="5572080" y="3929040"/>
            <a:ext cx="31431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"/>
          <p:cNvSpPr/>
          <p:nvPr/>
        </p:nvSpPr>
        <p:spPr>
          <a:xfrm>
            <a:off x="5643720" y="5143680"/>
            <a:ext cx="30002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"/>
          <p:cNvSpPr/>
          <p:nvPr/>
        </p:nvSpPr>
        <p:spPr>
          <a:xfrm flipH="1">
            <a:off x="6071760" y="3286080"/>
            <a:ext cx="2143080" cy="257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643720" y="35002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71500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858080" y="3143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7929720" y="3643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657216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143840" y="4000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6929280" y="47862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3"/>
          <p:cNvSpPr/>
          <p:nvPr/>
        </p:nvSpPr>
        <p:spPr>
          <a:xfrm flipH="1">
            <a:off x="7143840" y="2928960"/>
            <a:ext cx="1440" cy="314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6786720" y="35719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0"/>
          <p:cNvSpPr/>
          <p:nvPr/>
        </p:nvSpPr>
        <p:spPr>
          <a:xfrm>
            <a:off x="7152840" y="52149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714384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85840" y="523440"/>
            <a:ext cx="528624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ка О – середина отрезка АВ, то есть АО = 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точки О проведем перпендикуляр ОН к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рямо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от точки В отложим отрезок В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= 2 по усло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единим точки О и 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О = ∆В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 по двум сторонам (АО=ВО, В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АН) и углу между ними (1=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равенства треугольников следует, что углы АОН и В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пункта 6 следует, что точки 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О и Н лежат на одн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равенства треугольников следует, что углы 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= 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= 90°, так как О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– прямой по постро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чаем, что а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ерпендикулярны НН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По теореме о двух прямых, перпендикулярных третьей, 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|| 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428760" y="1026360"/>
            <a:ext cx="742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и пересечении двух прямых секущей сумма односторонних углов равна 180°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и пересечении прямых секущей соответственные 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доказательства самостоятельно до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28760" y="57852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 2.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жите, ч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6649200" y="392904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5"/>
          <p:cNvSpPr/>
          <p:nvPr/>
        </p:nvSpPr>
        <p:spPr>
          <a:xfrm>
            <a:off x="2428920" y="350028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6"/>
          <p:cNvSpPr/>
          <p:nvPr/>
        </p:nvSpPr>
        <p:spPr>
          <a:xfrm>
            <a:off x="2000160" y="478620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7"/>
          <p:cNvSpPr/>
          <p:nvPr/>
        </p:nvSpPr>
        <p:spPr>
          <a:xfrm flipV="1">
            <a:off x="2428920" y="2786040"/>
            <a:ext cx="2357280" cy="26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221472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200016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2428920" y="4857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4429080" y="3143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ая соединительная линия 1"/>
          <p:cNvSpPr/>
          <p:nvPr/>
        </p:nvSpPr>
        <p:spPr>
          <a:xfrm>
            <a:off x="2428920" y="350028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"/>
          <p:cNvSpPr/>
          <p:nvPr/>
        </p:nvSpPr>
        <p:spPr>
          <a:xfrm>
            <a:off x="2000160" y="478620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3"/>
          <p:cNvSpPr/>
          <p:nvPr/>
        </p:nvSpPr>
        <p:spPr>
          <a:xfrm flipV="1">
            <a:off x="2428920" y="2786040"/>
            <a:ext cx="2357280" cy="26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221472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00016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2143080" y="4857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4429080" y="3143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4000680" y="35719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9"/>
          <p:cNvSpPr/>
          <p:nvPr/>
        </p:nvSpPr>
        <p:spPr>
          <a:xfrm>
            <a:off x="376560" y="1714680"/>
            <a:ext cx="66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жите, ч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807120" y="2074320"/>
            <a:ext cx="371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187, № 1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01760" y="3864600"/>
            <a:ext cx="780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машнее зад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§1, вопросы 1-6.№188, №19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85840" y="166356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ить знания учащимися видов угл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нных в результате пересечения двух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ущей; изучить признаки параллельности прям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й анализировать изученный матери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навыков применения его для решения задач; по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имость изучаемых понятий; закрепить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я задач на применение признаков паралл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активности и самосто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ения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интереса к предмету, самостоятельност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57120" y="2151000"/>
            <a:ext cx="790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е прямые параллельны, если они не пересек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4400" y="491760"/>
            <a:ext cx="236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2071800" y="4429080"/>
            <a:ext cx="2143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3357720" y="4143240"/>
            <a:ext cx="20714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2071800" y="4143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3929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ая соединительная линия 2"/>
          <p:cNvSpPr/>
          <p:nvPr/>
        </p:nvSpPr>
        <p:spPr>
          <a:xfrm>
            <a:off x="642960" y="1500120"/>
            <a:ext cx="30002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>
            <a:off x="2643120" y="428760"/>
            <a:ext cx="335772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1"/>
          <p:cNvSpPr/>
          <p:nvPr/>
        </p:nvSpPr>
        <p:spPr>
          <a:xfrm flipV="1">
            <a:off x="214200" y="1356840"/>
            <a:ext cx="54295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786040" y="214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64296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28616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457200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857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214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07180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2428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1643040" y="2857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0001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28584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3"/>
          <p:cNvSpPr/>
          <p:nvPr/>
        </p:nvSpPr>
        <p:spPr>
          <a:xfrm>
            <a:off x="6654960" y="27147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секу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4367160" y="4012200"/>
            <a:ext cx="443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рест лежащие уг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и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ая соединительная линия 2"/>
          <p:cNvSpPr/>
          <p:nvPr/>
        </p:nvSpPr>
        <p:spPr>
          <a:xfrm>
            <a:off x="642960" y="1500120"/>
            <a:ext cx="30002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6"/>
          <p:cNvSpPr/>
          <p:nvPr/>
        </p:nvSpPr>
        <p:spPr>
          <a:xfrm>
            <a:off x="2643120" y="428760"/>
            <a:ext cx="335772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1"/>
          <p:cNvSpPr/>
          <p:nvPr/>
        </p:nvSpPr>
        <p:spPr>
          <a:xfrm flipV="1">
            <a:off x="214200" y="1356840"/>
            <a:ext cx="54295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786040" y="214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4296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428616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457200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3857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4214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207180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2428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1643040" y="2857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20001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28584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3"/>
          <p:cNvSpPr/>
          <p:nvPr/>
        </p:nvSpPr>
        <p:spPr>
          <a:xfrm>
            <a:off x="6654960" y="27147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секу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505400" y="4012200"/>
            <a:ext cx="409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осторонние уг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и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2"/>
          <p:cNvSpPr/>
          <p:nvPr/>
        </p:nvSpPr>
        <p:spPr>
          <a:xfrm>
            <a:off x="642960" y="1500120"/>
            <a:ext cx="30002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6"/>
          <p:cNvSpPr/>
          <p:nvPr/>
        </p:nvSpPr>
        <p:spPr>
          <a:xfrm>
            <a:off x="2643120" y="428760"/>
            <a:ext cx="335772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1"/>
          <p:cNvSpPr/>
          <p:nvPr/>
        </p:nvSpPr>
        <p:spPr>
          <a:xfrm flipV="1">
            <a:off x="214200" y="1356840"/>
            <a:ext cx="542952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2786040" y="214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64296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428616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457200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3857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214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207180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242892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1643040" y="2857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20001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28584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6654960" y="27147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секу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4438080" y="4012200"/>
            <a:ext cx="433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тветственные уг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и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85840" y="741600"/>
            <a:ext cx="5214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 1.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пару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угол, который образует с углом САВ пару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пару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угол, который образует с углом САВ пару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овите пару соответственных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>
            <a:off x="6000120" y="2571840"/>
            <a:ext cx="142920" cy="31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7"/>
          <p:cNvSpPr/>
          <p:nvPr/>
        </p:nvSpPr>
        <p:spPr>
          <a:xfrm flipV="1">
            <a:off x="5357880" y="3928680"/>
            <a:ext cx="3286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 flipH="1">
            <a:off x="7643880" y="2643120"/>
            <a:ext cx="64296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5643720" y="26431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5643720" y="3643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571500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7858080" y="2571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7715160" y="3571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7286760" y="5357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493092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294840"/>
            <a:ext cx="65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и пересечении двух прямых секущей накрест лежащие 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786200" y="2707200"/>
            <a:ext cx="4000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а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прямые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- секущая                                                                  1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813200" y="55018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зат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||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3"/>
          <p:cNvSpPr/>
          <p:nvPr/>
        </p:nvSpPr>
        <p:spPr>
          <a:xfrm>
            <a:off x="714240" y="3857760"/>
            <a:ext cx="31435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5"/>
          <p:cNvSpPr/>
          <p:nvPr/>
        </p:nvSpPr>
        <p:spPr>
          <a:xfrm>
            <a:off x="785880" y="5072040"/>
            <a:ext cx="30002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20"/>
          <p:cNvSpPr/>
          <p:nvPr/>
        </p:nvSpPr>
        <p:spPr>
          <a:xfrm flipH="1">
            <a:off x="1214280" y="3214800"/>
            <a:ext cx="214344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78588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857160" y="4643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3000240" y="3071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3071880" y="3571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1714680" y="52149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2286000" y="39290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207180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214200" y="51156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азательство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учай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ол 1 и 2 по 9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теореме о двух прямых, перпендикулярных третьей, 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||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‖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5"/>
          <p:cNvSpPr/>
          <p:nvPr/>
        </p:nvSpPr>
        <p:spPr>
          <a:xfrm flipV="1">
            <a:off x="1357200" y="4285800"/>
            <a:ext cx="52866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0"/>
          <p:cNvSpPr/>
          <p:nvPr/>
        </p:nvSpPr>
        <p:spPr>
          <a:xfrm flipV="1">
            <a:off x="1357200" y="5643720"/>
            <a:ext cx="52866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2"/>
          <p:cNvSpPr/>
          <p:nvPr/>
        </p:nvSpPr>
        <p:spPr>
          <a:xfrm>
            <a:off x="3785400" y="3430440"/>
            <a:ext cx="71640" cy="285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1357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142884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35772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3857760" y="39290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3857760" y="5715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3500280" y="43578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3929040" y="5214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мария</cp:lastModifiedBy>
  <dcterms:modified xsi:type="dcterms:W3CDTF">2012-12-11T18:16:29Z</dcterms:modified>
  <cp:revision>16</cp:revision>
  <dc:subject/>
  <dc:title>Слайд 1</dc:title>
</cp:coreProperties>
</file>