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13.wmf" ContentType="image/x-wmf"/>
  <Override PartName="/ppt/media/image8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15.wmf" ContentType="image/x-wmf"/>
  <Override PartName="/ppt/media/image10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13C-6EF1-447F-BEAE-F565947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72C-581E-4A4F-92CD-63FFFF3F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70C-E11A-4363-9110-ECBE8CC3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E19-8BD4-453B-AE07-F73D3859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078-5A8E-4D8B-8E71-E9A2B886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531E-2A13-4791-88FB-66544032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745-91A2-4A1C-BDD4-F22D34D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5CF-95F9-497B-A571-6E62998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521-0512-408F-9BEE-B58D443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FAC2-2E38-483E-9954-A181715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4E7-7C01-4E15-8311-5AF9BE61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E73-500E-41F7-ADE6-BBDBA26D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FF8B-E576-43E7-9B5E-68DB8A5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6AFC-D5CA-4566-A002-712A170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330-AB96-4153-82C8-F799D79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F42-F7C4-4269-8E8E-C80E205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B8A2-C8AE-4518-A1BA-066B9943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A90-F709-451B-86F6-44F7551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A65-299B-447D-BC2A-AC4CF746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882-56F8-42CD-9882-2B63E1CD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DE8-1417-4700-8670-82CEED4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833-3B8B-4949-A6D8-6311E49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BA5-0EED-4B2F-901C-A99F2F3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798-9FDA-4CAF-860D-256C9F9C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0BF-D03B-4610-95FC-8728F7A7F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C53B-BF3A-4547-99AB-DAFB3F7EF8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days.peoples.ru/2608.html" TargetMode="External"/><Relationship Id="rId4" Type="http://schemas.openxmlformats.org/officeDocument/2006/relationships/hyperlink" Target="http://days.peoples.ru/0521.html" TargetMode="External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71640" y="333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одростки и курение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0"/>
            <a:ext cx="79200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курение вредно, почему же все таки, многие подростки начинают курить? Причины могут быть самые различ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ос мнения подростков о причинах начала табако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причину начала табакокурения у подростков. В результате проведенного исследования были получены следующие данные(см. диаграмму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844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015320" cy="417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0920" y="213372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49 кур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424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ете ли вы , что курение вредит вашему здоровь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степень осведомленности о вреде табакокурения у подрос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езультате проведенного исследования были получены следующие данные ( см.диаграмму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рамм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700280"/>
          <a:ext cx="8540640" cy="48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540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51640" cy="3567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08360" y="3529080"/>
            <a:ext cx="5435640" cy="332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43640" y="189000"/>
            <a:ext cx="37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тест против курения глазам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60640"/>
            <a:ext cx="36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573360"/>
            <a:ext cx="18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 Веселов Макси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734080"/>
            <a:ext cx="2016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 Буторин Сергей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745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51280" y="3203640"/>
            <a:ext cx="5292720" cy="365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80000" y="404640"/>
            <a:ext cx="2448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олов Кирил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373720"/>
            <a:ext cx="1942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урить- не только себе вреди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ыденко Са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46920" y="4149720"/>
            <a:ext cx="30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63640" y="0"/>
            <a:ext cx="60501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котин - это яд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1844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836640"/>
            <a:ext cx="360036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рганизм вместе со слюной попадают ядовитые вещества которые содержатся в ды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иводит к болям в желудке: гастритам, к язве желудка. Постоянное курение сопровождается бронхитом, в итоги снижается сопротивляемость лёгких к инфекционным заболеваниям, к туберкулезу. 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81360" cy="2016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765000"/>
            <a:ext cx="284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не курящего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1871640" cy="2276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3284640"/>
            <a:ext cx="298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дце н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851120" cy="1944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88000" y="765000"/>
            <a:ext cx="27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ёгки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164360" y="3645000"/>
            <a:ext cx="1835280" cy="223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43640" y="314172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ердце куряще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21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включается в процессы обмена, происходящие в организме человека, и становится 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5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260280"/>
            <a:ext cx="302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анные опросы позволяют сделать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подростки не осознают всей опасности, которую таит в себе курение. 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 Девушки должны осознавать все последствия табако курения  потому, что они подвержены большему числу опасных последствий курения, нежели мужчины. Если курят девушки, страдают ещё не родившиеся дети, а затем и родившие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962440" cy="396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8000" y="549360"/>
            <a:ext cx="29430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765000"/>
            <a:ext cx="360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емьях, где курят, у детей, особенно в раннем возрасте наблюдаются частые острые пневмонии и острые респираторные заболевания. В семьях, где не было курящих, дети были практически здоро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детей, матери которых курили во время беременности, имеется предрасположенность к истерическим припадкам, понижен иммунитет организма. 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Появился даже специальный термин - «пассивное» кур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58160" y="115920"/>
            <a:ext cx="1912680" cy="3241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05272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894200" cy="648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03640" y="0"/>
            <a:ext cx="3962520" cy="70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в России умирает около миллиона человек от болезней, вызванных курением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к легког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самое распространенное заболевание в результате курения. У  95% людей ухудшается здоровье от того, что они курят. А каждый день 10 000 человек на Земле погибают, затягиваясь сигаретой. Не случайно, Международный раковый союз на конференции в Мадриде, еще в 1970 г., признал табакокурение одной из самых серьезных проблем человечества, и обратился ко всем государствам принять меры по борьбе с кур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 всем мире 31 мая отмечается -  День без таб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курения страдают не только курильщики, но и  те, кто их окружает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томству курильщиков грозят такие болезни, как бронхиальная астма, воспаление легких, болезни сердца и многие друг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 курящих людей продолжительность жизни на 5 – 7 лет меньше, а смертность в двое выше, чем не у куря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человека, который курит, притупляется память, он теряет красоту, становится неряшливым. Невольно возникает вопрос: а стоит ли курить? В конце концов, человек оказывается перед выбором — курить или 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 мы ответ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2042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20600"/>
            <a:ext cx="719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1181"/>
                </a:solidFill>
                <a:latin typeface="Arial"/>
              </a:rPr>
              <a:t>МУНИЦИПАЛЬНОЕ ОБРАЗОВАТЕЛЬНОЕ УЧРЕЖДЕНИЕ ДОПОЛНИТЕЛЬНОГО ОБРАЗОВАНИЯ ДЕТЕЙ                              «ЦЕНТР ДЕТСКОГО ТВОРЧ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341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1181"/>
                </a:solidFill>
                <a:latin typeface="Arial"/>
              </a:rPr>
              <a:t>Творчески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8000" y="1889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413000"/>
            <a:ext cx="597672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2e1181"/>
                </a:solidFill>
                <a:latin typeface="Arial"/>
              </a:rPr>
              <a:t>«Подростки и кур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2852640"/>
            <a:ext cx="309564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6093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181"/>
                </a:solidFill>
                <a:latin typeface="Arial"/>
              </a:rPr>
              <a:t>Междуреченск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00280"/>
            <a:ext cx="529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Автор: Веселов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1181"/>
                </a:solidFill>
                <a:latin typeface="Arial"/>
              </a:rPr>
              <a:t>Руководитель: Латина Юлия Николаевна,                педагог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981600" cy="468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67280" y="393840"/>
            <a:ext cx="4752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15 марта 1493 года в Европе никто не курил. Именно в этот день в Португальском порту причалил маленький корабль «Нинь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борту корабля 2-ой экспедиции Христофора Колумба была привезена трава для курения из провинции Тобаго, в честь которой она и была названа европейцами «табак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годня в России курят 73% взрослого мужского населения и 40% женского (в этих подсчетах учтены и подрост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404640"/>
            <a:ext cx="5271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курен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877000"/>
            <a:ext cx="33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3"/>
              </a:rPr>
              <a:t>26 авгу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451 года - </a:t>
            </a:r>
            <a:r>
              <a:rPr b="0" lang="ru-RU" sz="1600" spc="-1" strike="noStrike" u="sng">
                <a:solidFill>
                  <a:srgbClr val="008000"/>
                </a:solidFill>
                <a:uFillTx/>
                <a:latin typeface="Times New Roman"/>
                <a:hlinkClick r:id="rId4"/>
              </a:rPr>
              <a:t>21 м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5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flot" descr=""/>
          <p:cNvPicPr/>
          <p:nvPr/>
        </p:nvPicPr>
        <p:blipFill>
          <a:blip r:embed="rId5"/>
          <a:stretch/>
        </p:blipFill>
        <p:spPr>
          <a:xfrm>
            <a:off x="5676840" y="4205160"/>
            <a:ext cx="34671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9672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620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1700280"/>
            <a:ext cx="3670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почти 1200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824360" cy="4200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3356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ицинский аспект курения подростк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052640"/>
            <a:ext cx="85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3214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115920"/>
            <a:ext cx="388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ащивают табак в основном в азиатских странах, США, Болгарии и др.; в России — в южных районах. В сухих листьях табака содерж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1-1,37% эфирных мас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-7% смо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0012 г синильной кисл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18 г никот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64 г (0.843 л) аммиа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.92 г (0.738 л) оксида углер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 г  дегтя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3716280"/>
            <a:ext cx="3816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торые курильщики полагают, что сигаретные фильтры, освобождая дым от содержащихся в нем частиц, делают его безвредным. К сожалению, это не так. Предлагаемые поглотители не достигают желаемой цели. Наиболее часто употребляемые фильтры задерживают не более 20% содержащихся в дыме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818160" cy="354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364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33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765000"/>
            <a:ext cx="482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15920"/>
            <a:ext cx="388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ые выяснили, что курение в ДВА раза опаснее для растущего организма, чем для взрослого. 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495600" cy="511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67280" y="2852640"/>
            <a:ext cx="493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и даже зарегистрированы случаи смерти подростков от подряд выкуренных сигарет, в результате которого наступала остановка сердца и прекращалось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Франции, в итоге конкурса «Кто больше выкурит» двое «победителей», выкурив по 60 сигарет, умерли, а остальные участники с тяжелым отравлением попали в больн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Англии зарегистрирован случай, когда длительно курящий 40 - летний мужчина ночью, во время трудной работы, выкурил 14 сигар и 40 сигарет. Утром ему сделалось плохо, и, несмотря на оказанную медицинскую помощь, он у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литературе описан случай, когда в комнату, где лежал табак в связках в порошке, положили спать девочку, и она через несколько часов умер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90792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а любой табачной компании состоит в том, чтобы сделать свою продукцию, наиболее привлекательной и доступной для потребителя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043160" cy="4681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68360" y="189000"/>
            <a:ext cx="52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3689280"/>
            <a:ext cx="446400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91628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90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0"/>
            <a:ext cx="878544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ос клуба «Пламя» ЦД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ая идея исследования – узнать количествово  курящих и не курящих подростков. В исследовании участвовали 103 учащихся клуба «Пламя» Центра детского творчества. В результате произведённого исследования были получены следующие данные (см диаграмму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грамма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19280" y="2111400"/>
            <a:ext cx="5905440" cy="464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1989000"/>
            <a:ext cx="49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них:  54 не курящих и 49 курящих подрос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67120" y="2440080"/>
            <a:ext cx="61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9000"/>
            <a:ext cx="882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1916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836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0464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0"/>
            <a:ext cx="8569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рь мы выясним количество опрошенных мальчиков и дев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рамма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1197000"/>
            <a:ext cx="59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103 опрошенных подростков :  57 мальчиков, 46 дев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35280" y="1782720"/>
          <a:ext cx="5689440" cy="410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82720"/>
                    <a:ext cx="568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9:34:56Z</dcterms:created>
  <dc:creator>User</dc:creator>
  <dc:description/>
  <dc:language>en-US</dc:language>
  <cp:lastModifiedBy>Пользователь</cp:lastModifiedBy>
  <dcterms:modified xsi:type="dcterms:W3CDTF">2007-01-26T13:41:1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