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13.wmf" ContentType="image/x-wmf"/>
  <Override PartName="/ppt/media/image8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1.jpeg" ContentType="image/jpeg"/>
  <Override PartName="/ppt/media/image15.wmf" ContentType="image/x-wmf"/>
  <Override PartName="/ppt/media/image10.jpeg" ContentType="image/jpeg"/>
  <Override PartName="/ppt/media/image14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EEE-D0C0-47A3-8C43-50153777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F4D-576D-413C-B331-A6ABA6B8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4CF-A9BA-4DE6-A2C1-2217FAA0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BBE-96D8-413A-B364-D2C579E0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E7ED-8398-41DE-A64B-8B519956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1FAE-A542-48CC-A1D8-4AF4C88B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3B95-324E-4B03-B2CC-09DF35D6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E62E-CA3C-4B31-A8B6-0595A97B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2CD0-21A2-40B7-9034-D5FB7786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1E28-5B5F-4FE2-A689-7CB6068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B5A9-6AF8-4A81-8BBF-2219D08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316-10C3-4F88-B11A-FF8FEFFB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21A2-FE89-4766-A9E2-CE59038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D441-C8FD-4DEA-B1EF-00F77CFF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4DCF-65F4-4C58-B4F8-ED337CB1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37A7-4D9A-4FD4-BC8D-0876952B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72BA-61DB-4EBF-90C9-19379DFC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478-9118-41EE-80E3-008E94E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FD5-6004-4102-B000-F977F23D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A57-E470-4BE2-B737-42347E51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2E1-7486-4449-8B28-5AF5E10A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FD3-C302-4013-9AA0-88779326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6FB-03CF-4887-887C-D8AFB433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0EC-A075-452C-8A54-AD38BCD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5CCF-89A4-4BAA-83BE-A6F8453641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A309-2E09-457B-A31B-825C5F9D62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days.peoples.ru/2608.html" TargetMode="External"/><Relationship Id="rId4" Type="http://schemas.openxmlformats.org/officeDocument/2006/relationships/hyperlink" Target="http://days.peoples.ru/0521.html" TargetMode="External"/><Relationship Id="rId5" Type="http://schemas.openxmlformats.org/officeDocument/2006/relationships/image" Target="../media/image4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71640" y="33336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Подростки и курение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0"/>
            <a:ext cx="79200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курение вредно, почему же все таки, многие подростки начинают курить? Причины могут быть самые различны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ос мнения подростков о причинах начала табакоку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ая идея исследования – узнать причину начала табакокурения у подростков. В результате проведенного исследования были получены следующие данные(см. диаграмму 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84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рамм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7015320" cy="4172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50920" y="2133720"/>
            <a:ext cx="54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49 куря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89000"/>
            <a:ext cx="84247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ете ли вы , что курение вредит вашему здоровь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ая идея исследования – узнать степень осведомленности о вреде табакокурения у подрост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результате проведенного исследования были получены следующие данные ( см.диаграмму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рамма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700280"/>
          <a:ext cx="8540640" cy="48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00280"/>
                    <a:ext cx="8540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  <p:sndAc>
      <p:stSnd>
        <p:snd r:embed="rId4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51640" cy="3567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708360" y="3529080"/>
            <a:ext cx="5435640" cy="332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443640" y="189000"/>
            <a:ext cx="378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тест против курения глазам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60640"/>
            <a:ext cx="363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3573360"/>
            <a:ext cx="1871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  Веселов Макси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5734080"/>
            <a:ext cx="2016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 Буторин Сергей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3745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851280" y="3203640"/>
            <a:ext cx="5292720" cy="3654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580000" y="404640"/>
            <a:ext cx="2448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олов Кирил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5373720"/>
            <a:ext cx="19429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ыденко Саш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46920" y="4149720"/>
            <a:ext cx="30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63640" y="0"/>
            <a:ext cx="60501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котин - это яд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184464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836640"/>
            <a:ext cx="360036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рганизм вместе со слюной попадают ядовитые вещества которые содержатся в ды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приводит к болям в желудке: гастритам, к язве желудка. Постоянное курение сопровождается бронхитом, в итоги снижается сопротивляемость лёгких к инфекционным заболеваниям, к туберкулезу. 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881360" cy="2016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765000"/>
            <a:ext cx="284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Лёгкие не курящего чел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1871640" cy="2276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3284640"/>
            <a:ext cx="2987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дце не куряще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164360" y="1125360"/>
            <a:ext cx="1851120" cy="1944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88000" y="765000"/>
            <a:ext cx="27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Лёгкие куряще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164360" y="3645000"/>
            <a:ext cx="1835280" cy="2232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43640" y="3141720"/>
            <a:ext cx="27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ердце куряще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02136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тин включается в процессы обмена, происходящие в организме человека, и становится 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500"/>
                            </p:stCondLst>
                            <p:childTnLst>
                              <p:par>
                                <p:cTn id="4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260280"/>
            <a:ext cx="3024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анные опросы позволяют сделать следующие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подростки не осознают всей опасности, которую таит в себе курение. 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 Девушки должны осознавать все последствия табако курения  потому, что они подвержены большему числу опасных последствий курения, нежели мужчины. Если курят девушки, страдают ещё не родившиеся дети, а затем и родившие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84720" y="2492280"/>
            <a:ext cx="2962440" cy="3961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08000" y="549360"/>
            <a:ext cx="294300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765000"/>
            <a:ext cx="3600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емьях, где курят, у детей, особенно в раннем возрасте наблюдаются частые острые пневмонии и острые респираторные заболевания. В семьях, где не было курящих, дети были практически здоро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детей, матери которых курили во время беременности, имеется предрасположенность к истерическим припадкам, понижен иммунитет организма. При курении в организм человека проникает 20-25% ядовитых веществ, а 50% вместе с выдыхаемым дымом поступают в воздух. А им дышат окружающие. Получается, что не курящие «курят». Появился даже специальный термин - «пассивное» кур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58160" y="115920"/>
            <a:ext cx="1912680" cy="3241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052720" cy="309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894200" cy="6480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003640" y="0"/>
            <a:ext cx="3962520" cy="70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в России умирает около миллиона человек от болезней, вызванных курением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к легк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самое распространенное заболевание в результате курения. У  95% людей ухудшается здоровье от того, что они курят. А каждый день 10 000 человек на Земле погибают, затягиваясь сигаретой. Не случайно, Международный раковый союз на конференции в Мадриде, еще в 1970 г., признал табакокурение одной из самых серьезных проблем человечества, и обратился ко всем государствам принять меры по борьбе с курени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 всем мире 31 мая отмечается -  День без таб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 курения страдают не только курильщики, но и  те, кто их окружает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томству курильщиков грозят такие болезни, как бронхиальная астма, воспаление легких, болезни сердца и многие друг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 курящих людей продолжительность жизни на 5 – 7 лет меньше, а смертность в двое выше, чем не у куря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человека, который курит, притупляется память, он теряет красоту, становится неряшливым. Невольно возникает вопрос: а стоит ли курить? В конце концов, человек оказывается перед выбором — курить или ж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то мы ответ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20425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120600"/>
            <a:ext cx="7199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1181"/>
                </a:solidFill>
                <a:latin typeface="Arial"/>
              </a:rPr>
              <a:t>МУНИЦИПАЛЬНОЕ ОБРАЗОВАТЕЛЬНОЕ УЧРЕЖДЕНИЕ ДОПОЛНИТЕЛЬНОГО ОБРАЗОВАНИЯ ДЕТЕЙ                              «ЦЕНТР ДЕТСКОГО ТВОРЧЕ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1341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1181"/>
                </a:solidFill>
                <a:latin typeface="Arial"/>
              </a:rPr>
              <a:t>Творчески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58000" y="18892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1413000"/>
            <a:ext cx="597672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2e1181"/>
                </a:solidFill>
                <a:latin typeface="Arial"/>
              </a:rPr>
              <a:t>«Подростки и кур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2852640"/>
            <a:ext cx="309564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118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6093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181"/>
                </a:solidFill>
                <a:latin typeface="Arial"/>
              </a:rPr>
              <a:t>Междуреченск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500280"/>
            <a:ext cx="5292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1181"/>
                </a:solidFill>
                <a:latin typeface="Arial"/>
              </a:rPr>
              <a:t>Автор: Веселов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1181"/>
                </a:solidFill>
                <a:latin typeface="Arial"/>
              </a:rPr>
              <a:t>Руководитель: Латина Юлия Николаевна,                педагог дополните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981600" cy="468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67280" y="393840"/>
            <a:ext cx="47527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 15 марта 1493 года в Европе никто не курил. Именно в этот день в Португальском порту причалил маленький корабль «Нинь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борту корабля 2-ой экспедиции Христофора Колумба была привезена трава для курения из провинции Тобаго, в честь которой она и была названа европейцами «табак»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годня в России курят 73% взрослого мужского населения и 40% женского (в этих подсчетах учтены и подрост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95640" y="404640"/>
            <a:ext cx="5271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курени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877000"/>
            <a:ext cx="338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 u="sng">
                <a:solidFill>
                  <a:srgbClr val="008000"/>
                </a:solidFill>
                <a:uFillTx/>
                <a:latin typeface="Times New Roman"/>
                <a:hlinkClick r:id="rId3"/>
              </a:rPr>
              <a:t>26 авгус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1451 года - </a:t>
            </a:r>
            <a:r>
              <a:rPr b="0" lang="ru-RU" sz="1600" spc="-1" strike="noStrike" u="sng">
                <a:solidFill>
                  <a:srgbClr val="008000"/>
                </a:solidFill>
                <a:uFillTx/>
                <a:latin typeface="Times New Roman"/>
                <a:hlinkClick r:id="rId4"/>
              </a:rPr>
              <a:t>21 ма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15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flot" descr=""/>
          <p:cNvPicPr/>
          <p:nvPr/>
        </p:nvPicPr>
        <p:blipFill>
          <a:blip r:embed="rId5"/>
          <a:stretch/>
        </p:blipFill>
        <p:spPr>
          <a:xfrm>
            <a:off x="5676840" y="4205160"/>
            <a:ext cx="3467160" cy="2652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6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33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96720" y="26028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620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1700280"/>
            <a:ext cx="3670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почти 1200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824360" cy="4200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3356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дицинский аспект курения подростк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052640"/>
            <a:ext cx="85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4321440" cy="403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115920"/>
            <a:ext cx="388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ращивают табак в основном в азиатских странах, США, Болгарии и др.; в России — в южных районах. В сухих листьях табака содерж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,1-1,37% эфирных масе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4-7% смо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0012 г синильной кисл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18 г никоти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64 г (0.843 л) аммиа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92 г (0.738 л) оксида углер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 г  дегтя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3716280"/>
            <a:ext cx="38163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торые курильщики полагают, что сигаретные фильтры, освобождая дым от содержащихся в нем частиц, делают его безвредным. К сожалению, это не так. Предлагаемые поглотители не достигают желаемой цели. Наиболее часто употребляемые фильтры задерживают не более 20% содержащихся в дыме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818160" cy="354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0364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33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765000"/>
            <a:ext cx="482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3816360" cy="3673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115920"/>
            <a:ext cx="388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ные выяснили, что курение в ДВА раза опаснее для растущего организма, чем для взрослого. Смертельная доза для взрослого человека содержится в одной пачке сигарет, если ее выкурить сразу, а для подростков полпа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3495600" cy="5111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67280" y="2852640"/>
            <a:ext cx="49323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и даже зарегистрированы случаи смерти подростков от подряд выкуренных сигарет, в результате которого наступала остановка сердца и прекращалось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Франции, в итоге конкурса «Кто больше выкурит» двое «победителей», выкурив по 60 сигарет, умерли, а остальные участники с тяжелым отравлением попали в больн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Англии зарегистрирован случай, когда длительно курящий 40 - летний мужчина ночью, во время трудной работы, выкурил 14 сигар и 40 сигарет. Утром ему сделалось плохо, и, несмотря на оказанную медицинскую помощь, он у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литературе описан случай, когда в комнату, где лежал табак в связках в порошке, положили спать девочку, и она через несколько часов умер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90792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а любой табачной компании состоит в том, чтобы сделать свою продукцию, наиболее привлекательной и доступной для потребителя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043160" cy="4681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268360" y="189000"/>
            <a:ext cx="52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3689280"/>
            <a:ext cx="446400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0"/>
            <a:ext cx="8785440" cy="18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ос клуба «Пламя» ЦД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ая идея исследования – узнать количествово  курящих и не курящих подростков. В исследовании участвовали 103 учащихся клуба «Пламя» Центра детского творчества. В результате произведённого исследования были получены следующие данные (см диаграмму 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грамма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29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619280" y="2111400"/>
            <a:ext cx="5905440" cy="4645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8000" y="1989000"/>
            <a:ext cx="49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них:  54 не курящих и 49 курящих подрос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89000"/>
            <a:ext cx="882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191628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836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0"/>
            <a:ext cx="85694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ерь мы выясним количество опрошенных мальчиков и дев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аграмма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1197000"/>
            <a:ext cx="59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103 опрошенных подростков :  57 мальчиков, 46 дев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98900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35280" y="1782720"/>
          <a:ext cx="5689440" cy="4102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782720"/>
                    <a:ext cx="568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  <p:sndAc>
      <p:stSnd>
        <p:snd r:embed="rId4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9:34:56Z</dcterms:created>
  <dc:creator>User</dc:creator>
  <dc:description/>
  <dc:language>en-US</dc:language>
  <cp:lastModifiedBy>Пользователь</cp:lastModifiedBy>
  <dcterms:modified xsi:type="dcterms:W3CDTF">2007-01-26T13:41:18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