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9909-8B94-4C47-9E40-70608DFF19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41DC-8BE0-4146-9851-7D93D234C2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6258-D019-4BD3-B39E-FEC988F44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7DF5D-CFBB-40CF-9795-833630BDD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6464F-BFF1-4CED-9B53-F65000AB2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ED6B4-6B2D-451F-8013-09D53F82D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04383-7E7B-43F0-98B2-5A45D3332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DFE69-03A9-436C-BA99-E56CF88F1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C7F00-14AD-4685-AC50-D0F8F9EFC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1D6B5-74F9-46F7-A244-5C21122D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3EB5A-050C-4F83-ABA5-76BC850DD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C53E-3596-4EA8-8D13-D7DE82E8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F9E8-37FB-4EC8-AD7A-37F71DA1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5DD0-2870-48ED-A848-A3F04E483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B587-265F-40AA-B9DA-EA1A696D81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pic>
        <p:nvPicPr>
          <p:cNvPr id="49" name="ПМП.ppt" descr=""/>
          <p:cNvPicPr/>
          <p:nvPr/>
        </p:nvPicPr>
        <p:blipFill>
          <a:blip r:embed="rId1"/>
          <a:stretch/>
        </p:blipFill>
        <p:spPr>
          <a:xfrm>
            <a:off x="324000" y="33336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327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2"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3"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5"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6"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7"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89"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90"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1"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2"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8"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1"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2"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5"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6"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1"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2"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7"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19"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1"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2"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5"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8"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29"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3"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5"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8" name="Picture 6" descr="Ожог первой степени"/>
          <p:cNvPicPr/>
          <p:nvPr/>
        </p:nvPicPr>
        <p:blipFill>
          <a:blip r:embed="rId1"/>
          <a:stretch/>
        </p:blipFill>
        <p:spPr>
          <a:xfrm>
            <a:off x="6588000" y="0"/>
            <a:ext cx="2076480" cy="2152800"/>
          </a:xfrm>
          <a:prstGeom prst="rect">
            <a:avLst/>
          </a:prstGeom>
          <a:ln w="0">
            <a:noFill/>
          </a:ln>
        </p:spPr>
      </p:pic>
      <p:pic>
        <p:nvPicPr>
          <p:cNvPr id="139"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40"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4"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3"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4"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5"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7"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9"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50"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1"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4"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5"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6"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59"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1"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3" name=""/>
          <p:cNvGraphicFramePr/>
          <p:nvPr/>
        </p:nvGraphicFramePr>
        <p:xfrm>
          <a:off x="4464000" y="1557360"/>
          <a:ext cx="4680000" cy="1249200"/>
        </p:xfrm>
        <a:graphic>
          <a:graphicData uri="http://schemas.openxmlformats.org/drawingml/2006/table">
            <a:tbl>
              <a:tblPr/>
              <a:tblGrid>
                <a:gridCol w="1557360"/>
                <a:gridCol w="1554120"/>
                <a:gridCol w="1568520"/>
              </a:tblGrid>
              <a:tr h="52020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9"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70"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3"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4"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7"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79"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80"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1"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2"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3"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4"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5"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0"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3"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5"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6"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7"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8"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2"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3"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1"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7"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8"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5"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4"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6"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8"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2"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4"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6"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7"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Николай</cp:lastModifiedBy>
  <dcterms:modified xsi:type="dcterms:W3CDTF">2013-04-29T10:08:31Z</dcterms:modified>
  <cp:revision>13</cp:revision>
  <dc:subject/>
  <dc:title>Первая  Медицинская Помощь</dc:title>
</cp:coreProperties>
</file>