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4F80-D4E8-4856-A836-E4E132B1FD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2E72-2F0E-48E4-B16B-DE98CDA2684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B1BE-2253-4ABF-B594-80D8844DB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0531-09C1-475A-BF3D-03A94F24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7763-923D-479D-9CB1-D7F15F8C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CA701-7235-4FC7-9CBE-96CBA14F3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9FFF-4EA7-479F-A07C-D971CC37E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7E6C-500D-44D9-A660-C3539F755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FAC1-E0FD-484E-A509-E9C9604C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4C23A-F669-4C2F-953B-B9DD337F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936F-3797-482D-AA6F-4F946250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CFC1-555D-4CDA-BA8D-31701E3E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495F-EDAC-4C57-9217-21C85A07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7B52-6441-44DE-A918-8B50D0183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DF98-AB86-4F4C-BC44-B30CD28312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2"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3"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5"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6"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7"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89"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0"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1"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2"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8"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1"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2"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5"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6"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1"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2"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7"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19"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1"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2"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5"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8"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29"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3"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5"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8" name="Picture 6" descr="Ожог первой степени"/>
          <p:cNvPicPr/>
          <p:nvPr/>
        </p:nvPicPr>
        <p:blipFill>
          <a:blip r:embed="rId1"/>
          <a:stretch/>
        </p:blipFill>
        <p:spPr>
          <a:xfrm>
            <a:off x="6588000" y="0"/>
            <a:ext cx="2076480" cy="2152800"/>
          </a:xfrm>
          <a:prstGeom prst="rect">
            <a:avLst/>
          </a:prstGeom>
          <a:ln w="0">
            <a:noFill/>
          </a:ln>
        </p:spPr>
      </p:pic>
      <p:pic>
        <p:nvPicPr>
          <p:cNvPr id="139"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0"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4"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3"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4"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5"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7"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9"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0"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1"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4"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5"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6"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59"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1"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3"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0"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3"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4"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7"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79"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0"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1"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2"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3"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4"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5"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0"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3"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5"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6"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7"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8"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2"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3"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1"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7"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8"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5"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4"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6"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8"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2"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4"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6"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7"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Николай</cp:lastModifiedBy>
  <dcterms:modified xsi:type="dcterms:W3CDTF">2013-04-29T10:08:31Z</dcterms:modified>
  <cp:revision>13</cp:revision>
  <dc:subject/>
  <dc:title>Первая  Медицинская Помощь</dc:title>
</cp:coreProperties>
</file>