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AE57-B65E-4FD6-9166-46EA670F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4582-AF9D-4896-93B9-C1C79AC9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D82C-8D14-4644-ABF1-C450C0E0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4603-86D1-44AF-9F04-CBBE7333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2983-3DF2-4A0D-90E5-A37DCDC8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5EB9-0511-4EA6-8735-81B1DB2A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59A3-0174-4EC3-A5C9-6C0FC62B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158D-7900-448B-9848-0F249CBA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A57B-2A30-4BDE-B1DE-0140043B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7FEA-04C3-4D71-B336-46346262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4A7E-F2A7-46BE-861C-621D0FAD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8634-7653-40D0-9543-0191798D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C983-5DCB-4A64-8547-4B58A65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9C88-1D70-46AC-AC41-D67EF72D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DBB9-0F29-4845-823D-F648F3D9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25EB-BEDC-4FC8-913C-D922A19C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395A-3A96-41A4-8324-C2804A33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B942-741E-426D-AFC3-D789CF47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28F3-17C9-40AF-A87F-49B505EB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255B-CB6D-4A10-A03E-1E90ECF0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9E29-CDBE-433B-8E19-557F78DE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7469-93DB-40C4-9349-672261CB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8CC3-0EC7-4552-8C69-FD2CBECB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27E6-4F45-46A2-B9E4-08912B28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8FD6-9AEE-4175-B922-2A82E59BEF8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0DD4-FF54-4D32-8024-D9660753965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Owner</cp:lastModifiedBy>
  <dcterms:modified xsi:type="dcterms:W3CDTF">2012-05-28T17:54:27Z</dcterms:modified>
  <cp:revision>4</cp:revision>
  <dc:subject/>
  <dc:title>Оды Михаила Васильевича Ломоносова</dc:title>
</cp:coreProperties>
</file>