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9376C-D0FB-4D17-92D3-988486409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C2FCB-E337-4B40-87AB-921EA7CA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7F21A-730A-4C93-A71E-2F263B0D9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309A8-0F15-4052-A260-756108FFB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26B2-2B89-4347-BDC9-B7381325E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7545-03B6-4911-B441-0344DAFD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3179F-6C7E-44D0-9ED0-D35D03D3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67427-C71B-4D68-8FF5-3D8C64A4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73E8-F4F3-4AD6-AEEA-6B780A35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D331-DA19-4256-9957-5CF6C93F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7722-6802-4712-9CA5-66DFF7A0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86A89-0865-4F79-9518-61601C72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6221-D4B0-4F33-B633-9B15B917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B7B5-78E1-4624-BD7F-07C2445F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300D-3338-4D42-B585-A6D5452D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C769-B682-4082-9102-345427E50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3322-F209-4F3D-A430-A3BBB6961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636AA-379E-4014-91C1-AE8D6DF0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D8D8D-26E4-42EF-8312-7FDC71FC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E6142-0EE7-4101-ABCD-8602C7BD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A0E38-B620-4E72-9B1F-FF6A0AA4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334C7-D471-4A90-B6C2-361CACF6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75FD6-105F-4C4C-A2D5-A044359A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AF90E-B6C5-42F8-B0B7-DAA154A0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81A6-B9EA-417F-89BE-0F938E0C965D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C205-E5A3-4E94-B8EC-766050BB6BDE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612720"/>
            <a:ext cx="8229600" cy="1123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ffff"/>
                </a:solidFill>
                <a:latin typeface="Tahoma"/>
              </a:rPr>
              <a:t>Оды Михаила Васильевича Ломоносов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0" y="3832200"/>
            <a:ext cx="64008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1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9" descr="ломоносов"/>
          <p:cNvPicPr/>
          <p:nvPr/>
        </p:nvPicPr>
        <p:blipFill>
          <a:blip r:embed="rId1"/>
          <a:stretch/>
        </p:blipFill>
        <p:spPr>
          <a:xfrm>
            <a:off x="2916360" y="2387520"/>
            <a:ext cx="3173400" cy="4084560"/>
          </a:xfrm>
          <a:prstGeom prst="rect">
            <a:avLst/>
          </a:prstGeom>
          <a:ln w="0">
            <a:noFill/>
          </a:ln>
        </p:spPr>
      </p:pic>
      <p:sp>
        <p:nvSpPr>
          <p:cNvPr id="129" name="Скругленный прямоугольник 6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ff33"/>
                </a:solidFill>
                <a:latin typeface="Tahoma"/>
              </a:rPr>
              <a:t>Ода 1750 г. посвящена точным наукам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Пройдите землю и пучину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И степи, и глубокий лес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И нутр Рифейский, и вершину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И саму высоту небес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Везде исследуйте всечасно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Что есть велико и прекрасно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Чего еще не видел свет…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Большое количество од Ломоносов посвятил Елизавете Петровне: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932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…Какую радость ощущаю?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уда я ныне восхищен?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бесну пищу я вкушаю,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верьх Олимпа вознесен!»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9" descr="петровна"/>
          <p:cNvPicPr/>
          <p:nvPr/>
        </p:nvPicPr>
        <p:blipFill>
          <a:blip r:embed="rId1"/>
          <a:stretch/>
        </p:blipFill>
        <p:spPr>
          <a:xfrm>
            <a:off x="4932360" y="1700280"/>
            <a:ext cx="364968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01"/>
                </a:solidFill>
                <a:latin typeface="Tahoma"/>
              </a:rPr>
              <a:t>Важное место отводит поэт так называемым украшениям: олицетворениям, метафорам, аллегориям и гиперболам: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Тогда божественны науки  чрез горы, реки и моря  в Россию простирали руки»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Или я ныне позабылась  и с одного пути склонилась,  которым прежде я текла?»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В полях кровавых Марс страшился, свой меч в Петровых зря руках,  и с трепетом Нептун чудился,  взирая на российский флаг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 XVIII в. кроме Ломоносова духовные оды писали Тредиаковский, Сумароков,Державин, Херасков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6" name="Picture 9" descr="тре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116000" y="1700280"/>
            <a:ext cx="2336760" cy="2549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сумjpg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643280" y="1700280"/>
            <a:ext cx="2314800" cy="2448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дерjpg"/>
          <p:cNvPicPr/>
          <p:nvPr/>
        </p:nvPicPr>
        <p:blipFill>
          <a:blip r:embed="rId3"/>
          <a:stretch/>
        </p:blipFill>
        <p:spPr>
          <a:xfrm>
            <a:off x="1835280" y="3860640"/>
            <a:ext cx="2079360" cy="2621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херасковjpg"/>
          <p:cNvPicPr/>
          <p:nvPr/>
        </p:nvPicPr>
        <p:blipFill>
          <a:blip r:embed="rId4"/>
          <a:stretch/>
        </p:blipFill>
        <p:spPr>
          <a:xfrm>
            <a:off x="4716360" y="3860640"/>
            <a:ext cx="223056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964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духовных одах  Ломоносова отчетливо прослеживаются две темы: восхищение гармонией, красотой мироздания и гневное обличение гонителей, недоброжелателей поэта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зык духовных од лаконичен и лишен всякого рода "украшений".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которые из духовных од Ломоносова стали «кантами».Особенно был известен 145-й псалом, начинавшийся словами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"Никто не уповай вовеки на тщетну     власть князей земных"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989840" cy="287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ff"/>
                </a:solidFill>
                <a:latin typeface="Tahoma"/>
              </a:rPr>
              <a:t>Спасибо за внимание!!!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549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01"/>
                </a:solidFill>
                <a:latin typeface="Tahoma"/>
              </a:rPr>
              <a:t>Ода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лирический жанр, пришедший в европейскую литературу из античной поэз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2800" spc="-1" strike="noStrike">
                <a:solidFill>
                  <a:srgbClr val="ffccff"/>
                </a:solidFill>
                <a:latin typeface="Tahoma"/>
              </a:rPr>
              <a:t>Вид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победно-патриотическа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похвальна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философска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духовна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анакреонтическа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Первая ода Ломоносова – «Ода на взятие Хотина»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3" name="Picture 5" descr="хотинj"/>
          <p:cNvPicPr/>
          <p:nvPr/>
        </p:nvPicPr>
        <p:blipFill>
          <a:blip r:embed="rId1"/>
          <a:stretch/>
        </p:blipFill>
        <p:spPr>
          <a:xfrm>
            <a:off x="1692360" y="1708200"/>
            <a:ext cx="584208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01"/>
                </a:solidFill>
                <a:latin typeface="Tahoma"/>
              </a:rPr>
              <a:t>В оде Ломоносова выделяется три основные части: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ступле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ображение военных действ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славление победителе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821844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ccff"/>
                </a:solidFill>
                <a:latin typeface="Tahoma"/>
              </a:rPr>
              <a:t>О подвиге безымянного героя Ломоносов пишет с восхищением: </a:t>
            </a: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…Крепит отечества любовь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ынов российских дух и руку: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Желает всяк пролить всю кровь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От грозного бодрится звуку…»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ebf25a"/>
                </a:solidFill>
                <a:latin typeface="Tahoma"/>
              </a:rPr>
              <a:t>Большая часть од Ломоносова была написана по случаю дней восшествия на престол монархов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не Иоанновн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оанну Антоновичу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лизавете Петровне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тру III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катерине II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4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4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4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4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4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4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4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4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4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425592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ставниками и помощниками царей должны быть не льстивые царедворцы, а люди, бескорыстно служащие истине, - ученые и писател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9" descr="vgjpg"/>
          <p:cNvPicPr/>
          <p:nvPr/>
        </p:nvPicPr>
        <p:blipFill>
          <a:blip r:embed="rId1"/>
          <a:stretch/>
        </p:blipFill>
        <p:spPr>
          <a:xfrm>
            <a:off x="4932360" y="1052640"/>
            <a:ext cx="35733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Оды Ломоносова отражают многие события того времени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4" name="Picture 11" descr="война1jpg"/>
          <p:cNvPicPr/>
          <p:nvPr/>
        </p:nvPicPr>
        <p:blipFill>
          <a:blip r:embed="rId1"/>
          <a:stretch/>
        </p:blipFill>
        <p:spPr>
          <a:xfrm>
            <a:off x="468360" y="1557360"/>
            <a:ext cx="3957480" cy="45306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2" descr="война2"/>
          <p:cNvPicPr/>
          <p:nvPr/>
        </p:nvPicPr>
        <p:blipFill>
          <a:blip r:embed="rId2"/>
          <a:stretch/>
        </p:blipFill>
        <p:spPr>
          <a:xfrm>
            <a:off x="4643280" y="1557360"/>
            <a:ext cx="40388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141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Главной задачей Ломоносов считал распространение наук, которые помогут овладеть природным богатством России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7" name="Picture 6" descr="наука"/>
          <p:cNvPicPr/>
          <p:nvPr/>
        </p:nvPicPr>
        <p:blipFill>
          <a:blip r:embed="rId1"/>
          <a:stretch/>
        </p:blipFill>
        <p:spPr>
          <a:xfrm>
            <a:off x="2484360" y="2637000"/>
            <a:ext cx="3759120" cy="40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17:14:42Z</dcterms:created>
  <dc:creator>BenQ CUSTOMER</dc:creator>
  <dc:description/>
  <dc:language>en-US</dc:language>
  <cp:lastModifiedBy>Owner</cp:lastModifiedBy>
  <dcterms:modified xsi:type="dcterms:W3CDTF">2012-05-28T17:54:27Z</dcterms:modified>
  <cp:revision>4</cp:revision>
  <dc:subject/>
  <dc:title>Оды Михаила Васильевича Ломоносова</dc:title>
</cp:coreProperties>
</file>