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81D1E-554C-43C5-ADD1-FFBD3BB2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4DFA3-9CD7-4BCB-9278-A9AEA86A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3DD3A-0A43-484E-9820-C654969B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C8B6C-FA8B-49A8-8DF0-E2B68FFC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7449-08D0-43EA-B8D6-99DF3A04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F8E3-97E8-47EE-A06E-C160FC2D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B429-96B2-47B1-9067-19720F80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C9A6-3EFE-49AF-B22E-0E7EFB55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B496-DAD8-41ED-8F8E-4CE6D078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435F-8D3D-47B7-952C-65E8623E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2001-DC64-440D-B863-7082E855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B2FD6-5024-4A6E-99C1-F304FAF1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1263-DD07-4BC5-9A83-FAD67A1D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2954-AD2E-48F6-8982-3F4FBA4D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1B84-26D7-4845-A9A2-1BB89CF3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DFA7-8BA7-433D-BCDF-158492DC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F161-8E0B-42D6-A6E1-A31E654C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CD0CA-BFB9-4097-A858-55677523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7C6F7-65D0-4485-875D-83DCFAF5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7958C-03EC-4CB9-9FEA-5CC1AA4E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05A35-88ED-479B-8F37-38B1381A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418A-3B83-406E-8282-9982C30B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1C541-A243-4B5E-B236-CEA56F0D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62C58-FB7B-4DC2-B8AE-4751CD9C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A4B3-334C-470C-A434-2F811F8D70B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20EE-7501-4D57-A3BE-829E72E0B3E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61272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Tahoma"/>
              </a:rPr>
              <a:t>Оды Михаила Васильевича Ломоносов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0" y="383220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1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9" descr="ломоносов"/>
          <p:cNvPicPr/>
          <p:nvPr/>
        </p:nvPicPr>
        <p:blipFill>
          <a:blip r:embed="rId1"/>
          <a:stretch/>
        </p:blipFill>
        <p:spPr>
          <a:xfrm>
            <a:off x="2916360" y="2387520"/>
            <a:ext cx="3173400" cy="408456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ff33"/>
                </a:solidFill>
                <a:latin typeface="Tahoma"/>
              </a:rPr>
              <a:t>Ода 1750 г. посвящена точным наукам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ройдите землю и пуч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тепи, и глубокий лес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нутр Рифейский, и верш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аму высоту небес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Везде исследуйте всеч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то есть велико и прекр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его еще не видел свет…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Большое количество од Ломоносов посвятил Елизавете Петровне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…Какую радость ощущаю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да я ныне восхищен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есну пищу я вкушаю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верьх Олимпа вознесен!»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9" descr="петровна"/>
          <p:cNvPicPr/>
          <p:nvPr/>
        </p:nvPicPr>
        <p:blipFill>
          <a:blip r:embed="rId1"/>
          <a:stretch/>
        </p:blipFill>
        <p:spPr>
          <a:xfrm>
            <a:off x="4932360" y="1700280"/>
            <a:ext cx="36496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01"/>
                </a:solidFill>
                <a:latin typeface="Tahoma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Тогда божественны науки  чрез горы, реки и моря  в Россию простирали руки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Или я ныне позабылась  и с одного пути склонилась,  которым прежде я текла?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9" descr="тре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16000" y="1700280"/>
            <a:ext cx="2336760" cy="2549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сум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3280" y="1700280"/>
            <a:ext cx="2314800" cy="244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дерjpg"/>
          <p:cNvPicPr/>
          <p:nvPr/>
        </p:nvPicPr>
        <p:blipFill>
          <a:blip r:embed="rId3"/>
          <a:stretch/>
        </p:blipFill>
        <p:spPr>
          <a:xfrm>
            <a:off x="1835280" y="3860640"/>
            <a:ext cx="2079360" cy="2621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херасковjpg"/>
          <p:cNvPicPr/>
          <p:nvPr/>
        </p:nvPicPr>
        <p:blipFill>
          <a:blip r:embed="rId4"/>
          <a:stretch/>
        </p:blipFill>
        <p:spPr>
          <a:xfrm>
            <a:off x="4716360" y="3860640"/>
            <a:ext cx="22305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зык духовных од лаконичен и лишен всякого рода "украшений"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"Никто не уповай вовеки на тщетну     власть князей земных"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989840" cy="28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ff"/>
                </a:solidFill>
                <a:latin typeface="Tahoma"/>
              </a:rPr>
              <a:t>Спасибо за внимание!!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1"/>
                </a:solidFill>
                <a:latin typeface="Tahoma"/>
              </a:rPr>
              <a:t>Од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лирический жанр, пришедший в европейскую литературу из античной поэ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ccff"/>
                </a:solidFill>
                <a:latin typeface="Tahoma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бедно-патриотиче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хваль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философ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духовн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анакреонтическ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Первая ода Ломоносова – «Ода на взятие Хотина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Picture 5" descr="хотинj"/>
          <p:cNvPicPr/>
          <p:nvPr/>
        </p:nvPicPr>
        <p:blipFill>
          <a:blip r:embed="rId1"/>
          <a:stretch/>
        </p:blipFill>
        <p:spPr>
          <a:xfrm>
            <a:off x="1692360" y="1708200"/>
            <a:ext cx="584208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01"/>
                </a:solidFill>
                <a:latin typeface="Tahoma"/>
              </a:rPr>
              <a:t>В оде Ломоносова выделяется три основные части: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тупл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ображение военных действ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славление победител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2184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cff"/>
                </a:solidFill>
                <a:latin typeface="Tahoma"/>
              </a:rPr>
              <a:t>О подвиге безымянного героя Ломоносов пишет с восхищением: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…Крепит отечества любовь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ынов российских дух и руку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Желает всяк пролить всю кровь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От грозного бодрится звуку…»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не Иоанновн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оанну Антоновичу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лизавете Петровн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тру III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атерине I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25592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9" descr="vgjpg"/>
          <p:cNvPicPr/>
          <p:nvPr/>
        </p:nvPicPr>
        <p:blipFill>
          <a:blip r:embed="rId1"/>
          <a:stretch/>
        </p:blipFill>
        <p:spPr>
          <a:xfrm>
            <a:off x="4932360" y="1052640"/>
            <a:ext cx="3573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Оды Ломоносова отражают многие события того времен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Picture 11" descr="война1jpg"/>
          <p:cNvPicPr/>
          <p:nvPr/>
        </p:nvPicPr>
        <p:blipFill>
          <a:blip r:embed="rId1"/>
          <a:stretch/>
        </p:blipFill>
        <p:spPr>
          <a:xfrm>
            <a:off x="468360" y="1557360"/>
            <a:ext cx="3957480" cy="4530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война2"/>
          <p:cNvPicPr/>
          <p:nvPr/>
        </p:nvPicPr>
        <p:blipFill>
          <a:blip r:embed="rId2"/>
          <a:stretch/>
        </p:blipFill>
        <p:spPr>
          <a:xfrm>
            <a:off x="4643280" y="1557360"/>
            <a:ext cx="4038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6" descr="наука"/>
          <p:cNvPicPr/>
          <p:nvPr/>
        </p:nvPicPr>
        <p:blipFill>
          <a:blip r:embed="rId1"/>
          <a:stretch/>
        </p:blipFill>
        <p:spPr>
          <a:xfrm>
            <a:off x="2484360" y="2637000"/>
            <a:ext cx="37591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7:14:42Z</dcterms:created>
  <dc:creator>BenQ CUSTOMER</dc:creator>
  <dc:description/>
  <dc:language>en-US</dc:language>
  <cp:lastModifiedBy>Owner</cp:lastModifiedBy>
  <dcterms:modified xsi:type="dcterms:W3CDTF">2012-05-28T17:54:27Z</dcterms:modified>
  <cp:revision>4</cp:revision>
  <dc:subject/>
  <dc:title>Оды Михаила Васильевича Ломоносова</dc:title>
</cp:coreProperties>
</file>