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6.png" ContentType="image/png"/>
  <Override PartName="/ppt/media/image1.jpeg" ContentType="image/jpe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png" ContentType="image/png"/>
  <Override PartName="/ppt/media/image18.jpeg" ContentType="image/jpeg"/>
  <Override PartName="/ppt/media/image15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17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D02A-47CA-4B7D-9DA2-49868AEB0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C9AD-1A07-4FFF-A836-20773D41F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D414-03ED-4930-AA1E-2F66D0664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D167-702B-43D4-B5E9-5FE5257AC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D6673-57C2-442C-80E6-058FB023B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A6D89-2993-4060-A32B-586385B9B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E42E5-4DAD-469D-8870-7C33BEF9F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714F9-0A90-4691-B830-14E2747C5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3FF0B-B3C1-4D27-9A43-B87AEAEAF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26886-D384-4B0D-85A4-719BF9CB1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B1216-9EA9-40F2-9C2A-7ACE265D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9C23-8A7D-4A6B-8E9B-76D5591EC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C78E1-D16C-4780-84B4-1E812508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4D95F-310B-4B65-90FD-272A789E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1C440-40FE-490E-88FE-C27B8B07A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BCC5E-0B05-4927-A3B9-32B01E2C9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8F94B-B5B7-40FA-80F6-F6DE564C0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B8175-4AA5-4C38-A88B-34F743DE9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82C2A-27EA-4DA6-A97E-5BCEC0D2D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91E02-9D0B-402D-BF30-F1B6DFB21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75981-E448-4BAF-AF02-DB36AD462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D3A78-4D6C-4BCA-9181-65ACDE5DD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CAAB-4DF1-4415-A59C-2738BD3BE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ED072-E14A-47F4-9D32-FB771C1EE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89AAA-3B7E-4578-8DEF-9ACA4BE7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E1920-8A95-4CFD-938C-F1B7114B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D7919-9BB5-463E-9DCA-D48CE461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B9D2B-421D-4452-BDE7-905F69036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84F9B-F361-4A9A-A17E-3D7A06BF2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AAE95-0B99-4C04-B58A-2E71DFE79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197F5-E9E1-4327-8289-8D130ADC9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F06CF-4FFD-453E-9C48-CBE131362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85472-5F41-402C-B5C9-FC509172B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67D8-8CB4-41F5-B296-73F1F1692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1733E-EF6D-44E1-BDD2-BD46D0DD0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4F0F2-406A-457A-840F-EF5A86D27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15933-FF6E-444E-B0A4-58565D00C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68DEA-A75F-4510-906C-B668BF17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ACA70-5141-4377-A85C-335C5FD1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09893-B766-4316-9CDE-36392730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DF452-ADC6-408C-BEE3-84764CE09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498D0-E0EE-41A5-A8F7-D33C87177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38DA4-50CB-4017-8229-82B0E60C5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C9C0-C7C7-431E-B09C-3DE8445C2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A2B5-5E6E-45DB-9C2C-8BFDDF31A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AF24-FCE3-4991-8DB2-E9045429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5DE5-290B-4D68-8F3D-F3927A5F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BCF8-DB36-4E8A-A651-2B54F58B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6D788-7964-4170-86D1-E0C321B14059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20F1F-3670-4558-815B-973DF01BE262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7C4D3-C121-4ACF-B5A8-AF3911A18C75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096C6-81E5-4245-911C-8CED39DC59A8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to-name.ru/primeti/07/28.ht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Прямоугольник 3" descr=""/>
          <p:cNvPicPr/>
          <p:nvPr/>
        </p:nvPicPr>
        <p:blipFill>
          <a:blip r:embed="rId1"/>
          <a:stretch/>
        </p:blipFill>
        <p:spPr>
          <a:xfrm>
            <a:off x="4248000" y="1096920"/>
            <a:ext cx="5220000" cy="2779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Картинка 1 из 6052"/>
          <p:cNvPicPr/>
          <p:nvPr/>
        </p:nvPicPr>
        <p:blipFill>
          <a:blip r:embed="rId2"/>
          <a:stretch/>
        </p:blipFill>
        <p:spPr>
          <a:xfrm>
            <a:off x="785880" y="1143000"/>
            <a:ext cx="341928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Прямоугольник 1"/>
          <p:cNvSpPr/>
          <p:nvPr/>
        </p:nvSpPr>
        <p:spPr>
          <a:xfrm>
            <a:off x="214200" y="928800"/>
            <a:ext cx="8715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А во дворе мальчишки играли в футбол. Мальчишки эти, обыкновенно, задевали Андрюшу.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И он их боялся как огня. И всегда от них убегал. Но сегодня он не убежал. Он крикнул им: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— Эй вы, мальчишки! Сегодня я не боюсь вас! Мальчишки удивились, что Андрюша так смело им крикнул. И даже сами немножко испугались. И даже один из них — Санька Палочкин — сказал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2" descr="Самое главное"/>
          <p:cNvPicPr/>
          <p:nvPr/>
        </p:nvPicPr>
        <p:blipFill>
          <a:blip r:embed="rId1"/>
          <a:stretch/>
        </p:blipFill>
        <p:spPr>
          <a:xfrm>
            <a:off x="2286000" y="4214880"/>
            <a:ext cx="4292640" cy="2423880"/>
          </a:xfrm>
          <a:prstGeom prst="rect">
            <a:avLst/>
          </a:prstGeom>
          <a:ln w="0">
            <a:noFill/>
          </a:ln>
        </p:spPr>
      </p:pic>
      <p:pic>
        <p:nvPicPr>
          <p:cNvPr id="212" name="Прямоугольник 3" descr=""/>
          <p:cNvPicPr/>
          <p:nvPr/>
        </p:nvPicPr>
        <p:blipFill>
          <a:blip r:embed="rId2"/>
          <a:stretch/>
        </p:blipFill>
        <p:spPr>
          <a:xfrm>
            <a:off x="1974960" y="-55440"/>
            <a:ext cx="12808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Прямоугольник 1"/>
          <p:cNvSpPr/>
          <p:nvPr/>
        </p:nvSpPr>
        <p:spPr>
          <a:xfrm>
            <a:off x="357120" y="928800"/>
            <a:ext cx="8501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—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егодня Андрюшка Рыженький что-то задумал против нас. Давайте лучше уйдём, а то нам, пожалуй, попадёт от него.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о мальчики не ушли. Один дёрнул Андрюшу за нос. Другой сбил ему кепку с головы. Третий мальчик ткнул Андрюшу кулаком. Короче говоря — они немножко побили Андрюшу. И тот с рёвом вернулся домой.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И дома, утирая слёзы, Андрюша сказал маме: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— Мама, я сегодня был храбрый, но из этого ничего хорошего не получилось.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Мама сказала: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— Глупый мальчик. Недостаточно быть только храбрым, надо быть ещё сильным. Одной храбростью ничего нельзя сделать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1"/>
          <p:cNvSpPr/>
          <p:nvPr/>
        </p:nvSpPr>
        <p:spPr>
          <a:xfrm>
            <a:off x="357120" y="1071720"/>
            <a:ext cx="8358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И тогда Андрюша незаметно от мамы взял бабушкину палку и с этой палкой пошёл во двор. Подумал: „Вот теперь я буду сильней, чем обычно. Теперь я разгоню мальчишек в разные стороны, если они на меня нападут».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Андрюша вышел с палкой на двор. А на дворе мальчишек уже не было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Прямоугольник 2" descr=""/>
          <p:cNvPicPr/>
          <p:nvPr/>
        </p:nvPicPr>
        <p:blipFill>
          <a:blip r:embed="rId1"/>
          <a:stretch/>
        </p:blipFill>
        <p:spPr>
          <a:xfrm>
            <a:off x="3541680" y="304920"/>
            <a:ext cx="12621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Самое главное"/>
          <p:cNvPicPr/>
          <p:nvPr/>
        </p:nvPicPr>
        <p:blipFill>
          <a:blip r:embed="rId1"/>
          <a:stretch/>
        </p:blipFill>
        <p:spPr>
          <a:xfrm>
            <a:off x="5667480" y="2943360"/>
            <a:ext cx="3476520" cy="3914640"/>
          </a:xfrm>
          <a:prstGeom prst="rect">
            <a:avLst/>
          </a:prstGeom>
          <a:ln w="0">
            <a:noFill/>
          </a:ln>
        </p:spPr>
      </p:pic>
      <p:sp>
        <p:nvSpPr>
          <p:cNvPr id="217" name="Прямоугольник 2"/>
          <p:cNvSpPr/>
          <p:nvPr/>
        </p:nvSpPr>
        <p:spPr>
          <a:xfrm>
            <a:off x="357120" y="928800"/>
            <a:ext cx="57866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Там гуляла чёрная собака, которой Андрюша всегда боялся.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Размахивая палкой, Андрюша сказал этой собаке: — Попробуй только залай на меня — получишь по заслугам. Узнаешь, что такое палка, когда она прогуляется по твоей голове.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обака начала лаять и бросаться на Андрюшу. Размахивая палкой, Андрюша раза два ударил собаку по голове, но та забежала сзади и немного порвала Андрю-шины штаны.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1"/>
          <p:cNvSpPr/>
          <p:nvPr/>
        </p:nvSpPr>
        <p:spPr>
          <a:xfrm>
            <a:off x="285840" y="857160"/>
            <a:ext cx="8572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И Андрюша с рёвом побежал домой. А дома, утирая слёзы, он сказал своей маме: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— Мама, как же это так? Я сегодня был сильный и храбрый, но из этого ничего хорошего не получилось. Собака разорвала мои штаны и чуть не укусила меня.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Мама сказала: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Прямоугольник 2"/>
          <p:cNvSpPr/>
          <p:nvPr/>
        </p:nvSpPr>
        <p:spPr>
          <a:xfrm>
            <a:off x="357120" y="3143160"/>
            <a:ext cx="6715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—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Ах ты, глупый мальчонка! Недостаточно быть храбрым и сильным. Надо ещё иметь смекалку. Надо думать и соображать. А ты поступил глупо. Ты размахивал палкой и этим рассердил собаку. Вот за это она и порвала твои штаны. Ты сам виноват.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2" descr="Самое главное"/>
          <p:cNvPicPr/>
          <p:nvPr/>
        </p:nvPicPr>
        <p:blipFill>
          <a:blip r:embed="rId1"/>
          <a:stretch/>
        </p:blipFill>
        <p:spPr>
          <a:xfrm>
            <a:off x="7143840" y="3357720"/>
            <a:ext cx="1590480" cy="291456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4"/>
          <p:cNvSpPr/>
          <p:nvPr/>
        </p:nvSpPr>
        <p:spPr>
          <a:xfrm>
            <a:off x="428760" y="5429160"/>
            <a:ext cx="700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Андрюша сказал своей маме: — С этих пор я буду всякий раз думать, когда что-нибудь случитс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ольник 1"/>
          <p:cNvSpPr/>
          <p:nvPr/>
        </p:nvSpPr>
        <p:spPr>
          <a:xfrm>
            <a:off x="285840" y="1285920"/>
            <a:ext cx="8572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И вот Андрюша Рыженький в третий раз вышел погулять. Но во дворе уже не было собаки. И мальчишек тоже не было.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Тогда Андрюша Рыженький вышел на улицу, чтобы посмотреть, где мальчишки.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А мальчишки купались в реке. И Андрюша стал смотреть, как они купаются.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И в этот момент один мальчишка, Санька Палочкин, захлебнулся в воде и стал кричать: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— Ой, спасите, тону!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А мальчишки испугались, что он тонет, и побежали звать взрослых, чтобы те спасли Саньку.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Андрюша Рыженький крикнул Саньке: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— Погоди тонуть! Я тебя сейчас спасу.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Прямоугольник 2" descr=""/>
          <p:cNvPicPr/>
          <p:nvPr/>
        </p:nvPicPr>
        <p:blipFill>
          <a:blip r:embed="rId1"/>
          <a:stretch/>
        </p:blipFill>
        <p:spPr>
          <a:xfrm>
            <a:off x="2189160" y="85680"/>
            <a:ext cx="13032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Прямоугольник 1"/>
          <p:cNvSpPr/>
          <p:nvPr/>
        </p:nvSpPr>
        <p:spPr>
          <a:xfrm>
            <a:off x="285840" y="785880"/>
            <a:ext cx="8572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Андрюша хотел броситься в воду, но потом подумал: «Ой, я плохо плаваю, и у меня не хватит силы спасти Саньку. Я поступлю умней: я сяду в лодку и на лодке подплыву к Саньке».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А у самого берега стояла рыбацкая лодка. Андрюша оттолкнул эту лодку от берега и сам вскочил в неё.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А в лодке лежали вёсла. Андрюша стал бить этими вёслами по воде. Но у него ничего не вышло: он не умел грести. И течение отнесло рыбацкую лодку на середину реки. И Андрюша от страха стал кричать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Picture 2" descr="Самое главное"/>
          <p:cNvPicPr/>
          <p:nvPr/>
        </p:nvPicPr>
        <p:blipFill>
          <a:blip r:embed="rId1"/>
          <a:stretch/>
        </p:blipFill>
        <p:spPr>
          <a:xfrm>
            <a:off x="5286240" y="4676760"/>
            <a:ext cx="342900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1"/>
          <p:cNvSpPr/>
          <p:nvPr/>
        </p:nvSpPr>
        <p:spPr>
          <a:xfrm>
            <a:off x="357120" y="642960"/>
            <a:ext cx="842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А в этот момент по реке плыла другая лодка. И в этой лодке сидели люди.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Эти люди спасли Саню Палочкина. И, кроме того, эти люди догнали рыбацкую лодку, взяли её на буксир и доставили к берегу.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Самое главное"/>
          <p:cNvPicPr/>
          <p:nvPr/>
        </p:nvPicPr>
        <p:blipFill>
          <a:blip r:embed="rId1"/>
          <a:stretch/>
        </p:blipFill>
        <p:spPr>
          <a:xfrm>
            <a:off x="7095960" y="3438360"/>
            <a:ext cx="2048040" cy="3419640"/>
          </a:xfrm>
          <a:prstGeom prst="rect">
            <a:avLst/>
          </a:prstGeom>
          <a:ln w="0">
            <a:noFill/>
          </a:ln>
        </p:spPr>
      </p:pic>
      <p:sp>
        <p:nvSpPr>
          <p:cNvPr id="228" name="Прямоугольник 2"/>
          <p:cNvSpPr/>
          <p:nvPr/>
        </p:nvSpPr>
        <p:spPr>
          <a:xfrm>
            <a:off x="285840" y="714240"/>
            <a:ext cx="70722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Андрюша пошёл домой и дома, утирая слёзы, сказал своей маме: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— Мама, я сегодня был храбрый, я хотел спасти мальчика. Я сегодня был умный, потому что не бросился в воду, а поплыл в лодке. Я сегодня был сильный, потому что оттолкнул тяжёлую лодку от берега и тяжёлыми вёслами колотил по воде. Но у меня ничего не вышло.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Мама сказала: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— Глупый мальчик! Я забыла тебе сказать самое главное. Недостаточно быть храбрым, умным и сильным. Это слишком мало. Надо ещё иметь знания. Надо уметь грести, уметь плавать, ездить верхом на лошади, летать на самолёте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Прямоугольник 3" descr=""/>
          <p:cNvPicPr/>
          <p:nvPr/>
        </p:nvPicPr>
        <p:blipFill>
          <a:blip r:embed="rId2"/>
          <a:stretch/>
        </p:blipFill>
        <p:spPr>
          <a:xfrm>
            <a:off x="7334280" y="804960"/>
            <a:ext cx="126684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1"/>
          <p:cNvSpPr/>
          <p:nvPr/>
        </p:nvSpPr>
        <p:spPr>
          <a:xfrm>
            <a:off x="428760" y="928800"/>
            <a:ext cx="8429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адо многое знать. Надо знать арифметику и алгебру, химию и геометрию. А для того чтобы это всё знать, надо учиться. Кто учится, тот бывает умным. А кто умный, тот должен быть храбрым. А храбрых и умных все любят, потому что они побеждают врагов, тушат пожары, спасают людей и летают на самолётах.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Андрюша сказал: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— С этих пор я буду всему учиться.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И мама сказала: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— Вот и хорошо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Прямоугольник 1"/>
          <p:cNvSpPr/>
          <p:nvPr/>
        </p:nvSpPr>
        <p:spPr>
          <a:xfrm>
            <a:off x="285840" y="857160"/>
            <a:ext cx="8501040" cy="40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Михаил Зощенко родился </a:t>
            </a:r>
            <a:r>
              <a:rPr b="0" lang="ru-RU" sz="32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28 июля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  1894 года, в Петербурге  в небогатой интеллигентной семье (отец — художник-передвижник, мать — писательница; обремененная семьей, где было восемь детей, она иногда печатала свои рассказы в газете «Копейка»)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1"/>
          <p:cNvSpPr/>
          <p:nvPr/>
        </p:nvSpPr>
        <p:spPr>
          <a:xfrm>
            <a:off x="357120" y="857160"/>
            <a:ext cx="84297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В 1894 году, в возрасте 20 лет, прервав учебу в университете, Зощенко ушел на фронт, где был командиром взвода. За личную храбрость был награжден пятью орденами. Тогда же был ранен, отравлен газами, получил порок сердца. После Февральской революции работал начальником почты и телеграфа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Прямоугольник 1"/>
          <p:cNvSpPr/>
          <p:nvPr/>
        </p:nvSpPr>
        <p:spPr>
          <a:xfrm>
            <a:off x="285840" y="714240"/>
            <a:ext cx="85010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Зощенко зарабатывал на жизнь разными профессиями: сапожника, столяра, плотника, актера, он служил в милиции, был секретарем суда, а затем начал службу следователем в Уголовном надзоре. Сам Зощенко писал позднее, что "переменил десять или двенадцать профессий, прежде чем добраться до своей теперешней профессии"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оугольник 1"/>
          <p:cNvSpPr/>
          <p:nvPr/>
        </p:nvSpPr>
        <p:spPr>
          <a:xfrm>
            <a:off x="428760" y="857160"/>
            <a:ext cx="84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умер в Ленинграде 22 июля 1958 года в 0 часов 45 минут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Picture 2" descr="Картинка 17 из 6052"/>
          <p:cNvPicPr/>
          <p:nvPr/>
        </p:nvPicPr>
        <p:blipFill>
          <a:blip r:embed="rId1"/>
          <a:stretch/>
        </p:blipFill>
        <p:spPr>
          <a:xfrm>
            <a:off x="5072040" y="1785960"/>
            <a:ext cx="35719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Картинка 48 из 6052"/>
          <p:cNvPicPr/>
          <p:nvPr/>
        </p:nvPicPr>
        <p:blipFill>
          <a:blip r:embed="rId1"/>
          <a:stretch/>
        </p:blipFill>
        <p:spPr>
          <a:xfrm>
            <a:off x="2714760" y="714240"/>
            <a:ext cx="4038480" cy="57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Прямоугольник 2" descr=""/>
          <p:cNvPicPr/>
          <p:nvPr/>
        </p:nvPicPr>
        <p:blipFill>
          <a:blip r:embed="rId1"/>
          <a:stretch/>
        </p:blipFill>
        <p:spPr>
          <a:xfrm>
            <a:off x="4638600" y="944640"/>
            <a:ext cx="4151520" cy="19746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Картинка 2 из 325"/>
          <p:cNvPicPr/>
          <p:nvPr/>
        </p:nvPicPr>
        <p:blipFill>
          <a:blip r:embed="rId2"/>
          <a:stretch/>
        </p:blipFill>
        <p:spPr>
          <a:xfrm>
            <a:off x="357120" y="714240"/>
            <a:ext cx="4429080" cy="590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Самое главное"/>
          <p:cNvPicPr/>
          <p:nvPr/>
        </p:nvPicPr>
        <p:blipFill>
          <a:blip r:embed="rId1"/>
          <a:stretch/>
        </p:blipFill>
        <p:spPr>
          <a:xfrm>
            <a:off x="0" y="1500120"/>
            <a:ext cx="1484280" cy="2500560"/>
          </a:xfrm>
          <a:prstGeom prst="rect">
            <a:avLst/>
          </a:prstGeom>
          <a:ln w="0">
            <a:noFill/>
          </a:ln>
        </p:spPr>
      </p:pic>
      <p:sp>
        <p:nvSpPr>
          <p:cNvPr id="206" name="Прямоугольник 2"/>
          <p:cNvSpPr/>
          <p:nvPr/>
        </p:nvSpPr>
        <p:spPr>
          <a:xfrm>
            <a:off x="1714680" y="1571760"/>
            <a:ext cx="7072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Жил на свете мальчик Андрюша Рыженький. Это был трусливый мальчик. Он всего боялся. Он боялся собак, коров, гусей, мышей, пауков и даже петухов.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о наибольше всего он боялся чужих мальчишек.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И мама этого мальчика очень и очень грустила, что у неё такой трусливый сынок.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 одно прекрасное утро мама этого мальчика сказала ему: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Прямоугольник 3" descr=""/>
          <p:cNvPicPr/>
          <p:nvPr/>
        </p:nvPicPr>
        <p:blipFill>
          <a:blip r:embed="rId2"/>
          <a:stretch/>
        </p:blipFill>
        <p:spPr>
          <a:xfrm>
            <a:off x="3902040" y="444600"/>
            <a:ext cx="11937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1"/>
          <p:cNvSpPr/>
          <p:nvPr/>
        </p:nvSpPr>
        <p:spPr>
          <a:xfrm>
            <a:off x="357120" y="3786120"/>
            <a:ext cx="835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Мальчик Андрюша так ответил своей маме: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— С этих пор, мама, я решил быть храбрым человеком. И с этими словами Андрюша пошёл во двор погулять.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Прямоугольник 2"/>
          <p:cNvSpPr/>
          <p:nvPr/>
        </p:nvSpPr>
        <p:spPr>
          <a:xfrm>
            <a:off x="357120" y="642960"/>
            <a:ext cx="8501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—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Ах, как плохо, что ты всего боишься! Только храбрые люди хорошо живут на свете. Только они побеждают врагов, тушат пожары и отважно летают на самолётах. И за это все любят храбрых людей. И все их уважают. Дарят им подарки и дают ордена и медали. А трусливых никто не любит. Над ними смеются и потешаются. И от этого у них жизнь бывает плохая, скучная и неинтересна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3T12:35:28Z</dcterms:created>
  <dc:creator>Ира</dc:creator>
  <dc:description/>
  <dc:language>en-US</dc:language>
  <cp:lastModifiedBy>Ира</cp:lastModifiedBy>
  <dcterms:modified xsi:type="dcterms:W3CDTF">2012-06-23T13:23:18Z</dcterms:modified>
  <cp:revision>5</cp:revision>
  <dc:subject/>
  <dc:title>Слайд 1</dc:title>
</cp:coreProperties>
</file>