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6.png" ContentType="image/pn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0135-A9F1-44B3-8BBF-3564D9243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B527-AAB4-4EB4-BA49-A6308E8B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F7D6-8548-4839-A28A-F061AF94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970D-396D-4B9D-9C52-17231805D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17F1-E19D-4586-A6FA-43A19777B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5C87-8979-4C88-9F29-CBB65640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780D-B51A-4E32-B7F8-017EFAC4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C7A0-DF7E-47E8-9B82-00AB933F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CB53-556E-4429-BE53-91C9ACC5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F938-643A-43D8-868A-1EDCFA89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0352-4BE5-4BB2-952C-6A16416D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80A1-057C-44DA-8D9A-865BD8C7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6854-031D-4C7C-BBCA-C0BC68E5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92B7-C95A-443C-AD01-90913AE7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C2D5-7FAD-4D51-8FB0-ACB7E5B9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9C22-B394-4354-9683-D48C250D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C26B-3266-4787-9F6B-25C4B658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D15D9-83DF-47B5-8ED3-3F90ABD2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4F5D2-BD5D-4B93-8B9B-8D10EF2F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DA5FB-4C11-4949-B048-9BA79418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A8781-7A5B-4FF4-BB92-9D4620D7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3FA1B-7308-4CAF-8432-F78CB934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EAA0-8AFC-494B-958A-2DCF0359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46981-DA27-495B-823D-56DD5FA5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EDA03-2E5A-48ED-B182-D5D4075E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223CB-9D71-4AB7-832F-4EC092E1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615B6-2AB6-4629-90A4-33725FF5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AECFC-578B-47CB-B248-FFFA4907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5F09C-29FF-4B17-BEE0-A2F23107A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FE416-3408-42EB-9ACD-D9281DA01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622D5-D762-466B-A311-DC753ABF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DA422-680D-4D2F-9AB4-4314510A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25338-7FFB-4DF3-8F2C-E227A542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D50B-A9F8-42FD-9ACA-77ADE78E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6C929-9BD2-4E36-8E07-A11D4287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BD121-7891-4F9B-ADEC-B29958AB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E3140-515E-48BC-8FEC-A46845E6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FAC25-BA31-4CBD-BEB5-A4238D0B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81018-E85B-48F9-A5E1-0E0E1AB5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8FD0E-7836-4A9C-9296-5879EBAA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FDFFF-285D-4E6C-8025-6C36FA28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D4546-C4A1-4894-80E3-DD959E47C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37872-2C26-4CDD-8D3F-FEA704940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C3C7-4613-468F-B90A-ACCBAF0E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658C-7A58-4EC6-A87F-9B1D8E9B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9A5D-85C4-4E69-9C72-78B65640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7571-5BE7-42BB-A055-B52A5325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5826-CC54-47F2-B744-C3574DF4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9219-1BB4-4BBB-A5B0-9764DA209CB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48EA-76DA-43C2-9E0E-39A3CF3FB60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B3E7-EC14-49E8-950D-BE728F75CE5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0BD7-6FAD-4E3D-BCFC-EA8079FC010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o-name.ru/primeti/07/28.ht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Прямоугольник 3" descr=""/>
          <p:cNvPicPr/>
          <p:nvPr/>
        </p:nvPicPr>
        <p:blipFill>
          <a:blip r:embed="rId1"/>
          <a:stretch/>
        </p:blipFill>
        <p:spPr>
          <a:xfrm>
            <a:off x="4248000" y="1096920"/>
            <a:ext cx="5220000" cy="2779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Картинка 1 из 6052"/>
          <p:cNvPicPr/>
          <p:nvPr/>
        </p:nvPicPr>
        <p:blipFill>
          <a:blip r:embed="rId2"/>
          <a:stretch/>
        </p:blipFill>
        <p:spPr>
          <a:xfrm>
            <a:off x="785880" y="1143000"/>
            <a:ext cx="341928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1"/>
          <p:cNvSpPr/>
          <p:nvPr/>
        </p:nvSpPr>
        <p:spPr>
          <a:xfrm>
            <a:off x="214200" y="928800"/>
            <a:ext cx="8715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 во дворе мальчишки играли в футбол. Мальчишки эти, обыкновенно, задевали Андрюшу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 он их боялся как огня. И всегда от них убегал. Но сегодня он не убежал. Он крикнул им: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— Эй вы, мальчишки! Сегодня я не боюсь вас! Мальчишки удивились, что Андрюша так смело им крикнул. И даже сами немножко испугались. И даже один из них — Санька Палочкин — сказал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2" descr="Самое главное"/>
          <p:cNvPicPr/>
          <p:nvPr/>
        </p:nvPicPr>
        <p:blipFill>
          <a:blip r:embed="rId1"/>
          <a:stretch/>
        </p:blipFill>
        <p:spPr>
          <a:xfrm>
            <a:off x="2286000" y="4214880"/>
            <a:ext cx="4292640" cy="2423880"/>
          </a:xfrm>
          <a:prstGeom prst="rect">
            <a:avLst/>
          </a:prstGeom>
          <a:ln w="0">
            <a:noFill/>
          </a:ln>
        </p:spPr>
      </p:pic>
      <p:pic>
        <p:nvPicPr>
          <p:cNvPr id="212" name="Прямоугольник 3" descr=""/>
          <p:cNvPicPr/>
          <p:nvPr/>
        </p:nvPicPr>
        <p:blipFill>
          <a:blip r:embed="rId2"/>
          <a:stretch/>
        </p:blipFill>
        <p:spPr>
          <a:xfrm>
            <a:off x="1974960" y="-55440"/>
            <a:ext cx="12808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1"/>
          <p:cNvSpPr/>
          <p:nvPr/>
        </p:nvSpPr>
        <p:spPr>
          <a:xfrm>
            <a:off x="357120" y="928800"/>
            <a:ext cx="8501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егодня Андрюшка Рыженький что-то задумал против нас. Давайте лучше уйдём, а то нам, пожалуй, попадёт от него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о мальчики не ушли. Один дёрнул Андрюшу за нос. Другой сбил ему кепку с головы. Третий мальчик ткнул Андрюшу кулаком. Короче говоря — они немножко побили Андрюшу. И тот с рёвом вернулся домой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 дома, утирая слёзы, Андрюша сказал маме: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— Мама, я сегодня был храбрый, но из этого ничего хорошего не получилось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ама сказала: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— Глупый мальчик. Недостаточно быть только храбрым, надо быть ещё сильным. Одной храбростью ничего нельзя сдела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1"/>
          <p:cNvSpPr/>
          <p:nvPr/>
        </p:nvSpPr>
        <p:spPr>
          <a:xfrm>
            <a:off x="357120" y="1071720"/>
            <a:ext cx="8358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 тогда Андрюша незаметно от мамы взял бабушкину палку и с этой палкой пошёл во двор. Подумал: „Вот теперь я буду сильней, чем обычно. Теперь я разгоню мальчишек в разные стороны, если они на меня нападут»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ндрюша вышел с палкой на двор. А на дворе мальчишек уже не был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Прямоугольник 2" descr=""/>
          <p:cNvPicPr/>
          <p:nvPr/>
        </p:nvPicPr>
        <p:blipFill>
          <a:blip r:embed="rId1"/>
          <a:stretch/>
        </p:blipFill>
        <p:spPr>
          <a:xfrm>
            <a:off x="3541680" y="304920"/>
            <a:ext cx="12621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Самое главное"/>
          <p:cNvPicPr/>
          <p:nvPr/>
        </p:nvPicPr>
        <p:blipFill>
          <a:blip r:embed="rId1"/>
          <a:stretch/>
        </p:blipFill>
        <p:spPr>
          <a:xfrm>
            <a:off x="5667480" y="2943360"/>
            <a:ext cx="3476520" cy="391464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2"/>
          <p:cNvSpPr/>
          <p:nvPr/>
        </p:nvSpPr>
        <p:spPr>
          <a:xfrm>
            <a:off x="357120" y="928800"/>
            <a:ext cx="5786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Там гуляла чёрная собака, которой Андрюша всегда боялся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азмахивая палкой, Андрюша сказал этой собаке: — Попробуй только залай на меня — получишь по заслугам. Узнаешь, что такое палка, когда она прогуляется по твоей голове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обака начала лаять и бросаться на Андрюшу. Размахивая палкой, Андрюша раза два ударил собаку по голове, но та забежала сзади и немного порвала Андрю-шины штаны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285840" y="85716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 Андрюша с рёвом побежал домой. А дома, утирая слёзы, он сказал своей маме: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— Мама, как же это так? Я сегодня был сильный и храбрый, но из этого ничего хорошего не получилось. Собака разорвала мои штаны и чуть не укусила меня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ама сказала: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Прямоугольник 2"/>
          <p:cNvSpPr/>
          <p:nvPr/>
        </p:nvSpPr>
        <p:spPr>
          <a:xfrm>
            <a:off x="357120" y="3143160"/>
            <a:ext cx="671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х ты, глупый мальчонка! Недостаточно быть храбрым и сильным. Надо ещё иметь смекалку. Надо думать и соображать. А ты поступил глупо. Ты размахивал палкой и этим рассердил собаку. Вот за это она и порвала твои штаны. Ты сам виноват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Самое главное"/>
          <p:cNvPicPr/>
          <p:nvPr/>
        </p:nvPicPr>
        <p:blipFill>
          <a:blip r:embed="rId1"/>
          <a:stretch/>
        </p:blipFill>
        <p:spPr>
          <a:xfrm>
            <a:off x="7143840" y="3357720"/>
            <a:ext cx="1590480" cy="29145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4"/>
          <p:cNvSpPr/>
          <p:nvPr/>
        </p:nvSpPr>
        <p:spPr>
          <a:xfrm>
            <a:off x="428760" y="542916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ндрюша сказал своей маме: — С этих пор я буду всякий раз думать, когда что-нибудь случитс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285840" y="1285920"/>
            <a:ext cx="8572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 вот Андрюша Рыженький в третий раз вышел погулять. Но во дворе уже не было собаки. И мальчишек тоже не было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Тогда Андрюша Рыженький вышел на улицу, чтобы посмотреть, где мальчишки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 мальчишки купались в реке. И Андрюша стал смотреть, как они купаются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 в этот момент один мальчишка, Санька Палочкин, захлебнулся в воде и стал кричать: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— Ой, спасите, тону!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 мальчишки испугались, что он тонет, и побежали звать взрослых, чтобы те спасли Саньку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ндрюша Рыженький крикнул Саньке: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— Погоди тонуть! Я тебя сейчас спасу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Прямоугольник 2" descr=""/>
          <p:cNvPicPr/>
          <p:nvPr/>
        </p:nvPicPr>
        <p:blipFill>
          <a:blip r:embed="rId1"/>
          <a:stretch/>
        </p:blipFill>
        <p:spPr>
          <a:xfrm>
            <a:off x="2189160" y="85680"/>
            <a:ext cx="13032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1"/>
          <p:cNvSpPr/>
          <p:nvPr/>
        </p:nvSpPr>
        <p:spPr>
          <a:xfrm>
            <a:off x="285840" y="785880"/>
            <a:ext cx="8572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ндрюша хотел броситься в воду, но потом подумал: «Ой, я плохо плаваю, и у меня не хватит силы спасти Саньку. Я поступлю умней: я сяду в лодку и на лодке подплыву к Саньке»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 у самого берега стояла рыбацкая лодка. Андрюша оттолкнул эту лодку от берега и сам вскочил в неё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 в лодке лежали вёсла. Андрюша стал бить этими вёслами по воде. Но у него ничего не вышло: он не умел грести. И течение отнесло рыбацкую лодку на середину реки. И Андрюша от страха стал крича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2" descr="Самое главное"/>
          <p:cNvPicPr/>
          <p:nvPr/>
        </p:nvPicPr>
        <p:blipFill>
          <a:blip r:embed="rId1"/>
          <a:stretch/>
        </p:blipFill>
        <p:spPr>
          <a:xfrm>
            <a:off x="5286240" y="4676760"/>
            <a:ext cx="34290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357120" y="642960"/>
            <a:ext cx="842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 в этот момент по реке плыла другая лодка. И в этой лодке сидели люди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Эти люди спасли Саню Палочкина. И, кроме того, эти люди догнали рыбацкую лодку, взяли её на буксир и доставили к берегу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Самое главное"/>
          <p:cNvPicPr/>
          <p:nvPr/>
        </p:nvPicPr>
        <p:blipFill>
          <a:blip r:embed="rId1"/>
          <a:stretch/>
        </p:blipFill>
        <p:spPr>
          <a:xfrm>
            <a:off x="7095960" y="3438360"/>
            <a:ext cx="2048040" cy="341964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2"/>
          <p:cNvSpPr/>
          <p:nvPr/>
        </p:nvSpPr>
        <p:spPr>
          <a:xfrm>
            <a:off x="285840" y="714240"/>
            <a:ext cx="7072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ндрюша пошёл домой и дома, утирая слёзы, сказал своей маме: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— Мама, я сегодня был храбрый, я хотел спасти мальчика. Я сегодня был умный, потому что не бросился в воду, а поплыл в лодке. Я сегодня был сильный, потому что оттолкнул тяжёлую лодку от берега и тяжёлыми вёслами колотил по воде. Но у меня ничего не вышло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ама сказала: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— Глупый мальчик! Я забыла тебе сказать самое главное. Недостаточно быть храбрым, умным и сильным. Это слишком мало. Надо ещё иметь знания. Надо уметь грести, уметь плавать, ездить верхом на лошади, летать на самолёте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Прямоугольник 3" descr=""/>
          <p:cNvPicPr/>
          <p:nvPr/>
        </p:nvPicPr>
        <p:blipFill>
          <a:blip r:embed="rId2"/>
          <a:stretch/>
        </p:blipFill>
        <p:spPr>
          <a:xfrm>
            <a:off x="7334280" y="804960"/>
            <a:ext cx="12668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428760" y="928800"/>
            <a:ext cx="8429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до многое знать. Надо знать арифметику и алгебру, химию и геометрию. А для того чтобы это всё знать, надо учиться. Кто учится, тот бывает умным. А кто умный, тот должен быть храбрым. А храбрых и умных все любят, потому что они побеждают врагов, тушат пожары, спасают людей и летают на самолётах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ндрюша сказал: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— С этих пор я буду всему учиться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 мама сказала: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— Вот и хорош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1"/>
          <p:cNvSpPr/>
          <p:nvPr/>
        </p:nvSpPr>
        <p:spPr>
          <a:xfrm>
            <a:off x="285840" y="857160"/>
            <a:ext cx="850104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Михаил Зощенко родился </a:t>
            </a:r>
            <a:r>
              <a:rPr b="0" lang="ru-RU" sz="32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28 июля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  1894 года, в Петербурге  в небогатой интеллигентной семье (отец — художник-передвижник, мать — писательница; обремененная семьей, где было восемь детей, она иногда печатала свои рассказы в газете «Копейка»)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357120" y="857160"/>
            <a:ext cx="8429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 1894 году, в возрасте 20 лет, прервав учебу в университете, Зощенко ушел на фронт, где был командиром взвода. За личную храбрость был награжден пятью орденами. Тогда же был ранен, отравлен газами, получил порок сердца. После Февральской революции работал начальником почты и телеграф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"/>
          <p:cNvSpPr/>
          <p:nvPr/>
        </p:nvSpPr>
        <p:spPr>
          <a:xfrm>
            <a:off x="285840" y="714240"/>
            <a:ext cx="85010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Зощенко зарабатывал на жизнь разными профессиями: сапожника, столяра, плотника, актера, он служил в милиции, был секретарем суда, а затем начал службу следователем в Уголовном надзоре. Сам Зощенко писал позднее, что "переменил десять или двенадцать профессий, прежде чем добраться до своей теперешней профессии"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1"/>
          <p:cNvSpPr/>
          <p:nvPr/>
        </p:nvSpPr>
        <p:spPr>
          <a:xfrm>
            <a:off x="428760" y="857160"/>
            <a:ext cx="84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мер в Ленинграде 22 июля 1958 года в 0 часов 45 минут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2" descr="Картинка 17 из 6052"/>
          <p:cNvPicPr/>
          <p:nvPr/>
        </p:nvPicPr>
        <p:blipFill>
          <a:blip r:embed="rId1"/>
          <a:stretch/>
        </p:blipFill>
        <p:spPr>
          <a:xfrm>
            <a:off x="5072040" y="1785960"/>
            <a:ext cx="35719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Картинка 48 из 6052"/>
          <p:cNvPicPr/>
          <p:nvPr/>
        </p:nvPicPr>
        <p:blipFill>
          <a:blip r:embed="rId1"/>
          <a:stretch/>
        </p:blipFill>
        <p:spPr>
          <a:xfrm>
            <a:off x="2714760" y="714240"/>
            <a:ext cx="403848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Прямоугольник 2" descr=""/>
          <p:cNvPicPr/>
          <p:nvPr/>
        </p:nvPicPr>
        <p:blipFill>
          <a:blip r:embed="rId1"/>
          <a:stretch/>
        </p:blipFill>
        <p:spPr>
          <a:xfrm>
            <a:off x="4638600" y="944640"/>
            <a:ext cx="4151520" cy="1974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Картинка 2 из 325"/>
          <p:cNvPicPr/>
          <p:nvPr/>
        </p:nvPicPr>
        <p:blipFill>
          <a:blip r:embed="rId2"/>
          <a:stretch/>
        </p:blipFill>
        <p:spPr>
          <a:xfrm>
            <a:off x="357120" y="714240"/>
            <a:ext cx="4429080" cy="59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Самое главное"/>
          <p:cNvPicPr/>
          <p:nvPr/>
        </p:nvPicPr>
        <p:blipFill>
          <a:blip r:embed="rId1"/>
          <a:stretch/>
        </p:blipFill>
        <p:spPr>
          <a:xfrm>
            <a:off x="0" y="1500120"/>
            <a:ext cx="1484280" cy="250056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2"/>
          <p:cNvSpPr/>
          <p:nvPr/>
        </p:nvSpPr>
        <p:spPr>
          <a:xfrm>
            <a:off x="1714680" y="1571760"/>
            <a:ext cx="7072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Жил на свете мальчик Андрюша Рыженький. Это был трусливый мальчик. Он всего боялся. Он боялся собак, коров, гусей, мышей, пауков и даже петухов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о наибольше всего он боялся чужих мальчишек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 мама этого мальчика очень и очень грустила, что у неё такой трусливый сынок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одно прекрасное утро мама этого мальчика сказала ему: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Прямоугольник 3" descr=""/>
          <p:cNvPicPr/>
          <p:nvPr/>
        </p:nvPicPr>
        <p:blipFill>
          <a:blip r:embed="rId2"/>
          <a:stretch/>
        </p:blipFill>
        <p:spPr>
          <a:xfrm>
            <a:off x="3902040" y="444600"/>
            <a:ext cx="11937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357120" y="378612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альчик Андрюша так ответил своей маме: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— С этих пор, мама, я решил быть храбрым человеком. И с этими словами Андрюша пошёл во двор погулять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Прямоугольник 2"/>
          <p:cNvSpPr/>
          <p:nvPr/>
        </p:nvSpPr>
        <p:spPr>
          <a:xfrm>
            <a:off x="357120" y="642960"/>
            <a:ext cx="850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х, как плохо, что ты всего боишься! Только храбрые люди хорошо живут на свете. Только они побеждают врагов, тушат пожары и отважно летают на самолётах. И за это все любят храбрых людей. И все их уважают. Дарят им подарки и дают ордена и медали. А трусливых никто не любит. Над ними смеются и потешаются. И от этого у них жизнь бывает плохая, скучная и неинтересна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3T12:35:28Z</dcterms:created>
  <dc:creator>Ира</dc:creator>
  <dc:description/>
  <dc:language>en-US</dc:language>
  <cp:lastModifiedBy>Ира</cp:lastModifiedBy>
  <dcterms:modified xsi:type="dcterms:W3CDTF">2012-06-23T13:23:18Z</dcterms:modified>
  <cp:revision>5</cp:revision>
  <dc:subject/>
  <dc:title>Слайд 1</dc:title>
</cp:coreProperties>
</file>