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4D0-789B-4F7E-910D-4F35550B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839-88E6-4350-BEDC-1251C7B0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C3F-7F58-4E3A-8DA5-91F0E085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7A1-62D4-4301-8997-98F31A56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373-31D0-4068-A963-3D20A181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DCF6-45A4-4E1B-8D28-0FC1D3F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489D-BB49-4599-AD34-ADFF4010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FF4C-DB54-4967-8DA9-051EB81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B54-B5FE-4CBB-A60D-68ABFE18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180C-BCD1-46B7-B212-E37E9DC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B8C9-159C-45F8-AC2B-462FFC8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731-0B69-46FE-BCA1-FCEB579B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61A-AE1D-4F82-B84C-E989428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01A5-4E4E-4E86-B1D6-D0A1391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C98D-1966-4832-90E1-9A47C20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DB6B-234C-4126-85B7-78BCBEE5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BDBB-9FAA-432B-A559-A469B0A8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0F49-6E11-4472-8CD1-3922A87E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579B-9E01-45CC-90FE-F6985283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5640-6276-46D8-AF4F-AB945576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3391-96F4-4F88-BB09-4D64B78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5297-5B54-46CD-84FC-25348750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5EB-28C3-485E-92F6-045CD5AE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A7C7-DCF8-484B-9E74-BBE0C22D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1FFD-314B-48E7-8634-9B85658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A66C-06D4-4BD1-B384-188ED07B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CA94-30C9-4FA9-8F37-75E1C9B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ED37-0222-4CD5-B83B-2F9CA5F4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0C19-79E5-4771-A4AB-355E3E9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509B-31AB-4011-B91E-03A69E1F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A6AC-71AC-4CF4-997E-2AE8FB7D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FD55-94FA-4FD9-B65B-D9EF0CF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1410-9B39-4995-BC53-129C4E9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07C-9EA0-47C8-A8F4-8BA76F9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9777-D3D4-4D4F-B498-3FEF2C8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87B3-4C3B-49A7-9605-E7D3131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74A6-EAE6-45F5-BA4D-EC051C2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0E53-0264-4112-B325-41F4D06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0392-98CA-41DC-B858-8911A67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8EEB-50EE-40D5-B8D2-938AC64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5E6E-1175-4BC9-95E5-983AEDB9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A785-8257-4630-83AA-623F729E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94A5-5DD4-41A2-8F42-4E1B59DF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6CC-04EC-4071-8A1B-440B83A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7B1-B6ED-49C5-9D4C-838D4523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154-04B7-43E6-A533-B17F9E74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D77-149E-42EE-B5AE-4886CA3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1D4-1982-4EE2-ABAA-9CAFF12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3AAE-33C9-42E4-AC15-8FACE41369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A22A-9279-4DA3-9909-9B64D8DA12D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804E-FC01-4FB0-8B72-0FE8168428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3CBD-3959-4AFB-800B-3C5BA6E451D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-name.ru/primeti/07/28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4248000" y="1096920"/>
            <a:ext cx="5220000" cy="2779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Картинка 1 из 6052"/>
          <p:cNvPicPr/>
          <p:nvPr/>
        </p:nvPicPr>
        <p:blipFill>
          <a:blip r:embed="rId2"/>
          <a:stretch/>
        </p:blipFill>
        <p:spPr>
          <a:xfrm>
            <a:off x="785880" y="1143000"/>
            <a:ext cx="34192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214200" y="92880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о дворе мальчишки играли в футбол. Мальчишки эти, обыкновенно, задевали Андрюшу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он их боялся как огня. И всегда от них убегал. Но сегодня он не убежал. Он крикнул им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Эй вы, мальчишки! Сегодня я не боюсь вас! Мальчишки удивились, что Андрюша так смело им крикнул. И даже сами немножко испугались. И даже один из них — Санька Палочкин — сказал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Самое главное"/>
          <p:cNvPicPr/>
          <p:nvPr/>
        </p:nvPicPr>
        <p:blipFill>
          <a:blip r:embed="rId1"/>
          <a:stretch/>
        </p:blipFill>
        <p:spPr>
          <a:xfrm>
            <a:off x="2286000" y="4214880"/>
            <a:ext cx="4292640" cy="24238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3" descr=""/>
          <p:cNvPicPr/>
          <p:nvPr/>
        </p:nvPicPr>
        <p:blipFill>
          <a:blip r:embed="rId2"/>
          <a:stretch/>
        </p:blipFill>
        <p:spPr>
          <a:xfrm>
            <a:off x="1974960" y="-55440"/>
            <a:ext cx="1280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57120" y="92880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годня Андрюшка Рыженький что-то задумал против нас. Давайте лучше уйдём, а то нам, пожалуй, попадёт от него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мальчики не ушли. Один дёрнул Андрюшу за нос. Другой сбил ему кепку с головы. Третий мальчик ткнул Андрюшу кулаком. Короче говоря — они немножко побили Андрюшу. И тот с рёвом вернулся домой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дома, утирая слёзы, Андрюша сказал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я сегодня был храбрый, но из этого ничего хорошего не получилось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Глупый мальчик. Недостаточно быть только храбрым, надо быть ещё сильным. Одной храбростью ничего нельзя сдел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107172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тогда Андрюша незаметно от мамы взял бабушкину палку и с этой палкой пошёл во двор. Подумал: „Вот теперь я буду сильней, чем обычно. Теперь я разгоню мальчишек в разные стороны, если они на меня нападут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вышел с палкой на двор. А на дворе мальчишек уже не бы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Прямоугольник 2" descr=""/>
          <p:cNvPicPr/>
          <p:nvPr/>
        </p:nvPicPr>
        <p:blipFill>
          <a:blip r:embed="rId1"/>
          <a:stretch/>
        </p:blipFill>
        <p:spPr>
          <a:xfrm>
            <a:off x="3541680" y="304920"/>
            <a:ext cx="1262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Самое главное"/>
          <p:cNvPicPr/>
          <p:nvPr/>
        </p:nvPicPr>
        <p:blipFill>
          <a:blip r:embed="rId1"/>
          <a:stretch/>
        </p:blipFill>
        <p:spPr>
          <a:xfrm>
            <a:off x="5667480" y="2943360"/>
            <a:ext cx="3476520" cy="39146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357120" y="928800"/>
            <a:ext cx="5786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ам гуляла чёрная собака, которой Андрюша всегда боял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махивая палкой, Андрюша сказал этой собаке: — Попробуй только залай на меня — получишь по заслугам. Узнаешь, что такое палка, когда она прогуляется по твоей голове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бака начала лаять и бросаться на Андрюшу. Размахивая палкой, Андрюша раза два ударил собаку по голове, но та забежала сзади и немного порвала Андрю-шины штаны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85840" y="8571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Андрюша с рёвом побежал домой. А дома, утирая слёзы, он сказа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как же это так? Я сегодня был сильный и храбрый, но из этого ничего хорошего не получилось. Собака разорвала мои штаны и чуть не укусила мен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357120" y="3143160"/>
            <a:ext cx="671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х ты, глупый мальчонка! Недостаточно быть храбрым и сильным. Надо ещё иметь смекалку. Надо думать и соображать. А ты поступил глупо. Ты размахивал палкой и этим рассердил собаку. Вот за это она и порвала твои штаны. Ты сам виноват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Самое главное"/>
          <p:cNvPicPr/>
          <p:nvPr/>
        </p:nvPicPr>
        <p:blipFill>
          <a:blip r:embed="rId1"/>
          <a:stretch/>
        </p:blipFill>
        <p:spPr>
          <a:xfrm>
            <a:off x="7143840" y="3357720"/>
            <a:ext cx="1590480" cy="2914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428760" y="54291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сказал своей маме: — С этих пор я буду всякий раз думать, когда что-нибудь случи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85840" y="128592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от Андрюша Рыженький в третий раз вышел погулять. Но во дворе уже не было собаки. И мальчишек тоже не было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огда Андрюша Рыженький вышел на улицу, чтобы посмотреть, где мальчишк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мальчишки купались в реке. И Андрюша стал смотреть, как они купают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 этот момент один мальчишка, Санька Палочкин, захлебнулся в воде и стал кричать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Ой, спасите, тону!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мальчишки испугались, что он тонет, и побежали звать взрослых, чтобы те спасли Саньку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Рыженький крикнул Саньк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Погоди тонуть! Я тебя сейчас спасу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85680"/>
            <a:ext cx="1303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85840" y="785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хотел броситься в воду, но потом подумал: «Ой, я плохо плаваю, и у меня не хватит силы спасти Саньку. Я поступлю умней: я сяду в лодку и на лодке подплыву к Саньке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у самого берега стояла рыбацкая лодка. Андрюша оттолкнул эту лодку от берега и сам вскочил в неё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 лодке лежали вёсла. Андрюша стал бить этими вёслами по воде. Но у него ничего не вышло: он не умел грести. И течение отнесло рыбацкую лодку на середину реки. И Андрюша от страха стал крич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Самое главное"/>
          <p:cNvPicPr/>
          <p:nvPr/>
        </p:nvPicPr>
        <p:blipFill>
          <a:blip r:embed="rId1"/>
          <a:stretch/>
        </p:blipFill>
        <p:spPr>
          <a:xfrm>
            <a:off x="5286240" y="4676760"/>
            <a:ext cx="3429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57120" y="64296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 этот момент по реке плыла другая лодка. И в этой лодке сидели люд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и люди спасли Саню Палочкина. И, кроме того, эти люди догнали рыбацкую лодку, взяли её на буксир и доставили к берег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Самое главное"/>
          <p:cNvPicPr/>
          <p:nvPr/>
        </p:nvPicPr>
        <p:blipFill>
          <a:blip r:embed="rId1"/>
          <a:stretch/>
        </p:blipFill>
        <p:spPr>
          <a:xfrm>
            <a:off x="7095960" y="3438360"/>
            <a:ext cx="2048040" cy="34196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85840" y="714240"/>
            <a:ext cx="7072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пошёл домой и дома, утирая слёзы, сказа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я сегодня был храбрый, я хотел спасти мальчика. Я сегодня был умный, потому что не бросился в воду, а поплыл в лодке. Я сегодня был сильный, потому что оттолкнул тяжёлую лодку от берега и тяжёлыми вёслами колотил по воде. Но у меня ничего не вышло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Глупый мальчик! Я забыла тебе сказать самое главное. Недостаточно быть храбрым, умным и сильным. Это слишком мало. Надо ещё иметь знания. Надо уметь грести, уметь плавать, ездить верхом на лошади, летать на самолёт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7334280" y="804960"/>
            <a:ext cx="126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8760" y="9288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до многое знать. Надо знать арифметику и алгебру, химию и геометрию. А для того чтобы это всё знать, надо учиться. Кто учится, тот бывает умным. А кто умный, тот должен быть храбрым. А храбрых и умных все любят, потому что они побеждают врагов, тушат пожары, спасают людей и летают на самолётах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сказал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С этих пор я буду всему учить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Вот и хорош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285840" y="857160"/>
            <a:ext cx="85010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ихаил Зощенко родился 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28 июл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 1894 года, в Петербурге  в небогатой интеллигентной семье (отец — художник-передвижник, мать — писательница; обремененная семьей, где было восемь детей, она иногда печатала свои рассказы в газете «Копейка»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357120" y="857160"/>
            <a:ext cx="84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1894 году, в возрасте 20 лет, прервав учебу в университете, Зощенко ушел на фронт, где был командиром взвода. За личную храбрость был награжден пятью орденами. Тогда же был ранен, отравлен газами, получил порок сердца. После Февральской революции работал начальником почты и телеграф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285840" y="7142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ощенко зарабатывал на жизнь разными профессиями: сапожника, столяра, плотника, актера, он служил в милиции, был секретарем суда, а затем начал службу следователем в Уголовном надзоре. Сам Зощенко писал позднее, что "переменил десять или двенадцать профессий, прежде чем добраться до своей теперешней профессии"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428760" y="8571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р в Ленинграде 22 июля 1958 года в 0 часов 45 мину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Картинка 17 из 6052"/>
          <p:cNvPicPr/>
          <p:nvPr/>
        </p:nvPicPr>
        <p:blipFill>
          <a:blip r:embed="rId1"/>
          <a:stretch/>
        </p:blipFill>
        <p:spPr>
          <a:xfrm>
            <a:off x="5072040" y="17859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а 48 из 6052"/>
          <p:cNvPicPr/>
          <p:nvPr/>
        </p:nvPicPr>
        <p:blipFill>
          <a:blip r:embed="rId1"/>
          <a:stretch/>
        </p:blipFill>
        <p:spPr>
          <a:xfrm>
            <a:off x="2714760" y="714240"/>
            <a:ext cx="40384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4638600" y="944640"/>
            <a:ext cx="4151520" cy="197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Картинка 2 из 325"/>
          <p:cNvPicPr/>
          <p:nvPr/>
        </p:nvPicPr>
        <p:blipFill>
          <a:blip r:embed="rId2"/>
          <a:stretch/>
        </p:blipFill>
        <p:spPr>
          <a:xfrm>
            <a:off x="357120" y="714240"/>
            <a:ext cx="44290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Самое главное"/>
          <p:cNvPicPr/>
          <p:nvPr/>
        </p:nvPicPr>
        <p:blipFill>
          <a:blip r:embed="rId1"/>
          <a:stretch/>
        </p:blipFill>
        <p:spPr>
          <a:xfrm>
            <a:off x="0" y="1500120"/>
            <a:ext cx="1484280" cy="25005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1714680" y="1571760"/>
            <a:ext cx="70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ил на свете мальчик Андрюша Рыженький. Это был трусливый мальчик. Он всего боялся. Он боялся собак, коров, гусей, мышей, пауков и даже петухов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наибольше всего он боялся чужих мальчишек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мама этого мальчика очень и очень грустила, что у неё такой трусливый сынок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одно прекрасное утро мама этого мальчика сказала ему: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3902040" y="444600"/>
            <a:ext cx="1193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57120" y="37861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льчик Андрюша так ответи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С этих пор, мама, я решил быть храбрым человеком. И с этими словами Андрюша пошёл во двор погулять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57120" y="6429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х, как плохо, что ты всего боишься! Только храбрые люди хорошо живут на свете. Только они побеждают врагов, тушат пожары и отважно летают на самолётах. И за это все любят храбрых людей. И все их уважают. Дарят им подарки и дают ордена и медали. А трусливых никто не любит. Над ними смеются и потешаются. И от этого у них жизнь бывает плохая, скучная и неинтересн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2:35:28Z</dcterms:created>
  <dc:creator>Ира</dc:creator>
  <dc:description/>
  <dc:language>en-US</dc:language>
  <cp:lastModifiedBy>Ира</cp:lastModifiedBy>
  <dcterms:modified xsi:type="dcterms:W3CDTF">2012-06-23T13:23:18Z</dcterms:modified>
  <cp:revision>5</cp:revision>
  <dc:subject/>
  <dc:title>Слайд 1</dc:title>
</cp:coreProperties>
</file>