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B7D-7184-4884-9379-0F3BED58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E91-E098-42CB-9C87-4DC516E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1D5-BF39-431C-9CC7-17DA7548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1BB-A27A-4049-A4F8-4E6A42A2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021-93FB-4113-B2FD-6C5EA36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9D3-C02B-44F9-939A-2CC79965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A82-313C-4CA0-9E10-1C929416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B54-FF71-4ABB-A461-954701D7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57E-5DE4-4349-83A0-09AF4687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073-765B-4807-9ED6-B6E1928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40F-8E50-4A4E-BD2C-4B6FA22D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0FE-C70F-49D8-A098-B1029D1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3C0E-1B89-42AE-B276-2C9E1FCC9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Литературное чт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Подвиги бога Нинур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kikopensato.files.wordpress.com/2011/04/ninurta-e-martuk.jpg"/>
          <p:cNvPicPr/>
          <p:nvPr/>
        </p:nvPicPr>
        <p:blipFill>
          <a:blip r:embed="rId1"/>
          <a:srcRect l="0" t="0" r="63235" b="0"/>
          <a:stretch/>
        </p:blipFill>
        <p:spPr>
          <a:xfrm>
            <a:off x="2987640" y="1413000"/>
            <a:ext cx="25210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img.narodna.pravda.com.ua/images/doc/7/d/7da33-babstab.jpg"/>
          <p:cNvPicPr/>
          <p:nvPr/>
        </p:nvPicPr>
        <p:blipFill>
          <a:blip r:embed="rId1"/>
          <a:stretch/>
        </p:blipFill>
        <p:spPr>
          <a:xfrm>
            <a:off x="2916360" y="404640"/>
            <a:ext cx="3628800" cy="4462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84360" y="515772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Нинурта сражается с драконом Ас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ловарная разми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68000" y="1484280"/>
            <a:ext cx="496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реисподня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божествен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роизраст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орош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нагромаждён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черт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Речевая размин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02920" y="1484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В поле Поля-полюшка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полет поле-полюшко.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орняков не будет в поле,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если полет Поля поле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Отгадайте зага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640" y="2276640"/>
            <a:ext cx="748800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Кормишь - живёт, поишь - умрёт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1042920" y="2492280"/>
            <a:ext cx="67802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Что за кузнецы в лесу ку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1187280" y="2492280"/>
            <a:ext cx="67788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В воде родится, воды бои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9 из 136000"/>
          <p:cNvPicPr/>
          <p:nvPr/>
        </p:nvPicPr>
        <p:blipFill>
          <a:blip r:embed="rId1"/>
          <a:stretch/>
        </p:blipFill>
        <p:spPr>
          <a:xfrm>
            <a:off x="1042920" y="1557360"/>
            <a:ext cx="2376720" cy="1892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419640" y="620640"/>
            <a:ext cx="57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708360" y="62064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Картинка 10 из 136000"/>
          <p:cNvPicPr/>
          <p:nvPr/>
        </p:nvPicPr>
        <p:blipFill>
          <a:blip r:embed="rId2"/>
          <a:stretch/>
        </p:blipFill>
        <p:spPr>
          <a:xfrm rot="658800">
            <a:off x="5005080" y="2873520"/>
            <a:ext cx="3492360" cy="2614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 rot="10800000">
            <a:off x="4716000" y="214488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 rot="10800000">
            <a:off x="5148360" y="2144880"/>
            <a:ext cx="57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 rot="10800000">
            <a:off x="4355640" y="214488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Миф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9640" y="17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Егип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9564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148360" y="35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Слявян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050920" y="4292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Древнего Р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proza.ru/pics/2009/06/07/200.jpg"/>
          <p:cNvPicPr/>
          <p:nvPr/>
        </p:nvPicPr>
        <p:blipFill>
          <a:blip r:embed="rId1"/>
          <a:srcRect l="7491" t="0" r="0" b="21238"/>
          <a:stretch/>
        </p:blipFill>
        <p:spPr>
          <a:xfrm>
            <a:off x="1763640" y="1197000"/>
            <a:ext cx="584532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Файл:Cuneiform script2.jpg"/>
          <p:cNvPicPr/>
          <p:nvPr/>
        </p:nvPicPr>
        <p:blipFill>
          <a:blip r:embed="rId1"/>
          <a:stretch/>
        </p:blipFill>
        <p:spPr>
          <a:xfrm>
            <a:off x="5580000" y="1052640"/>
            <a:ext cx="2917800" cy="4848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4356000" y="58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Шумерская клин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Файл:Fragment Bau Louvre AO4572.jpg"/>
          <p:cNvPicPr/>
          <p:nvPr/>
        </p:nvPicPr>
        <p:blipFill>
          <a:blip r:embed="rId2"/>
          <a:stretch/>
        </p:blipFill>
        <p:spPr>
          <a:xfrm>
            <a:off x="826920" y="1268280"/>
            <a:ext cx="450072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1042920" y="4869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Шумер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ские миф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his.1september.ru/2009/02/42-1.jpg"/>
          <p:cNvPicPr/>
          <p:nvPr/>
        </p:nvPicPr>
        <p:blipFill>
          <a:blip r:embed="rId1"/>
          <a:stretch/>
        </p:blipFill>
        <p:spPr>
          <a:xfrm>
            <a:off x="395280" y="1197000"/>
            <a:ext cx="378144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2484360" y="515772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Гильгамеш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царь города У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theatron.byzantion.ru/uploads/att-4679ed45a04ea0015.jpg"/>
          <p:cNvPicPr/>
          <p:nvPr/>
        </p:nvPicPr>
        <p:blipFill>
          <a:blip r:embed="rId2"/>
          <a:stretch/>
        </p:blipFill>
        <p:spPr>
          <a:xfrm>
            <a:off x="5364000" y="1628640"/>
            <a:ext cx="27720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умерские миф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a48.ac-images.myspacecdn.com/images01/55/l_9720d764c527f6d38d86c61226183a27.jpg"/>
          <p:cNvPicPr/>
          <p:nvPr/>
        </p:nvPicPr>
        <p:blipFill>
          <a:blip r:embed="rId1"/>
          <a:stretch/>
        </p:blipFill>
        <p:spPr>
          <a:xfrm>
            <a:off x="1692360" y="1413000"/>
            <a:ext cx="5634000" cy="331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484360" y="5157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Гильгамеш и Энк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9:02:13Z</dcterms:created>
  <dc:creator>User</dc:creator>
  <dc:description/>
  <dc:language>en-US</dc:language>
  <cp:lastModifiedBy>User</cp:lastModifiedBy>
  <dcterms:modified xsi:type="dcterms:W3CDTF">2011-09-01T19:57:48Z</dcterms:modified>
  <cp:revision>7</cp:revision>
  <dc:subject/>
  <dc:title>Литературное чтение</dc:title>
</cp:coreProperties>
</file>