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98F-B46F-4BD0-AEF3-217D1566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68D-45D1-4614-A405-76674A6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FCF-170A-4998-89CA-16F8BEB1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C4C-1695-45B3-BDB6-BD026FA8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F00-F36A-4231-B7C2-B306B00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8F4-5731-469A-B727-A8503ED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3D3-6D80-4B4D-A1B4-B5E773A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607-539B-4DFE-85FC-99A83D9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F95-0D34-4769-A6C9-C3F5EE78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748-B32E-4176-8A5E-1057991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69B-5E2A-4705-8F70-A6A4F7C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C6C-0050-416B-A41B-5615287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B97C-E62A-452B-8A6A-1B3328FD1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Литературное чт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одвиги бога Нинур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kikopensato.files.wordpress.com/2011/04/ninurta-e-martuk.jpg"/>
          <p:cNvPicPr/>
          <p:nvPr/>
        </p:nvPicPr>
        <p:blipFill>
          <a:blip r:embed="rId1"/>
          <a:srcRect l="0" t="0" r="63235" b="0"/>
          <a:stretch/>
        </p:blipFill>
        <p:spPr>
          <a:xfrm>
            <a:off x="2987640" y="1413000"/>
            <a:ext cx="2521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img.narodna.pravda.com.ua/images/doc/7/d/7da33-babstab.jpg"/>
          <p:cNvPicPr/>
          <p:nvPr/>
        </p:nvPicPr>
        <p:blipFill>
          <a:blip r:embed="rId1"/>
          <a:stretch/>
        </p:blipFill>
        <p:spPr>
          <a:xfrm>
            <a:off x="2916360" y="404640"/>
            <a:ext cx="3628800" cy="4462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Нинурта сражается с драконом Ас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ловарная разм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000" y="1484280"/>
            <a:ext cx="49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еисподня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божестве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оизраст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орош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нагромаждё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черт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Речевая разми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2920" y="1484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В поле Поля-полюшка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олет поле-полюшко.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орняков не будет в поле,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если полет Поля поле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тгадайте 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2276640"/>
            <a:ext cx="748800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Кормишь - живёт, поишь - умрёт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1042920" y="2492280"/>
            <a:ext cx="67802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Что за кузнецы в лесу ку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1187280" y="2492280"/>
            <a:ext cx="6778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В воде родится, воды бо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9 из 136000"/>
          <p:cNvPicPr/>
          <p:nvPr/>
        </p:nvPicPr>
        <p:blipFill>
          <a:blip r:embed="rId1"/>
          <a:stretch/>
        </p:blipFill>
        <p:spPr>
          <a:xfrm>
            <a:off x="1042920" y="1557360"/>
            <a:ext cx="237672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419640" y="62064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708360" y="62064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Картинка 10 из 136000"/>
          <p:cNvPicPr/>
          <p:nvPr/>
        </p:nvPicPr>
        <p:blipFill>
          <a:blip r:embed="rId2"/>
          <a:stretch/>
        </p:blipFill>
        <p:spPr>
          <a:xfrm rot="658800">
            <a:off x="5005080" y="2873520"/>
            <a:ext cx="3492360" cy="2614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 rot="10800000">
            <a:off x="471600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 rot="10800000">
            <a:off x="5148360" y="214488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rot="10800000">
            <a:off x="435564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Миф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964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Еги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9564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148360" y="35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лявян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0920" y="429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Древнего Р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proza.ru/pics/2009/06/07/200.jpg"/>
          <p:cNvPicPr/>
          <p:nvPr/>
        </p:nvPicPr>
        <p:blipFill>
          <a:blip r:embed="rId1"/>
          <a:srcRect l="7491" t="0" r="0" b="21238"/>
          <a:stretch/>
        </p:blipFill>
        <p:spPr>
          <a:xfrm>
            <a:off x="1763640" y="1197000"/>
            <a:ext cx="58453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Файл:Cuneiform script2.jpg"/>
          <p:cNvPicPr/>
          <p:nvPr/>
        </p:nvPicPr>
        <p:blipFill>
          <a:blip r:embed="rId1"/>
          <a:stretch/>
        </p:blipFill>
        <p:spPr>
          <a:xfrm>
            <a:off x="5580000" y="1052640"/>
            <a:ext cx="2917800" cy="4848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356000" y="58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клин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Файл:Fragment Bau Louvre AO4572.jpg"/>
          <p:cNvPicPr/>
          <p:nvPr/>
        </p:nvPicPr>
        <p:blipFill>
          <a:blip r:embed="rId2"/>
          <a:stretch/>
        </p:blipFill>
        <p:spPr>
          <a:xfrm>
            <a:off x="826920" y="1268280"/>
            <a:ext cx="450072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042920" y="4869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his.1september.ru/2009/02/42-1.jpg"/>
          <p:cNvPicPr/>
          <p:nvPr/>
        </p:nvPicPr>
        <p:blipFill>
          <a:blip r:embed="rId1"/>
          <a:stretch/>
        </p:blipFill>
        <p:spPr>
          <a:xfrm>
            <a:off x="395280" y="1197000"/>
            <a:ext cx="378144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царь города У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theatron.byzantion.ru/uploads/att-4679ed45a04ea0015.jpg"/>
          <p:cNvPicPr/>
          <p:nvPr/>
        </p:nvPicPr>
        <p:blipFill>
          <a:blip r:embed="rId2"/>
          <a:stretch/>
        </p:blipFill>
        <p:spPr>
          <a:xfrm>
            <a:off x="5364000" y="1628640"/>
            <a:ext cx="27720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a48.ac-images.myspacecdn.com/images01/55/l_9720d764c527f6d38d86c61226183a27.jpg"/>
          <p:cNvPicPr/>
          <p:nvPr/>
        </p:nvPicPr>
        <p:blipFill>
          <a:blip r:embed="rId1"/>
          <a:stretch/>
        </p:blipFill>
        <p:spPr>
          <a:xfrm>
            <a:off x="1692360" y="1413000"/>
            <a:ext cx="5634000" cy="331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484360" y="5157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 и Энк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9:02:13Z</dcterms:created>
  <dc:creator>User</dc:creator>
  <dc:description/>
  <dc:language>en-US</dc:language>
  <cp:lastModifiedBy>User</cp:lastModifiedBy>
  <dcterms:modified xsi:type="dcterms:W3CDTF">2011-09-01T19:57:48Z</dcterms:modified>
  <cp:revision>7</cp:revision>
  <dc:subject/>
  <dc:title>Литературное чтение</dc:title>
</cp:coreProperties>
</file>