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454B-6456-474D-9EA3-DBBE01C3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502-B63E-452F-8191-0AC751BB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16E-54C0-4830-921F-AE986CDC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874D-D282-48C6-B009-14182155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5A7-1108-4FB8-93A6-EAE98959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4B4-1FD8-4BC5-AC34-FE7E0FB1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362C-A09F-4411-8438-BD73849A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BC75-A2B6-43A6-BD20-9C611582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6C64-B118-4B1F-89AC-BF8E9278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233-859C-4860-91E7-75EC4D4D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7068-3423-420A-AB1B-0C2C916C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F37C-3F0A-4F80-A863-C8F0F78B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BF3B-BCCB-4178-820D-28250D2750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Литературное чте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Подвиги бога Нинур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kikopensato.files.wordpress.com/2011/04/ninurta-e-martuk.jpg"/>
          <p:cNvPicPr/>
          <p:nvPr/>
        </p:nvPicPr>
        <p:blipFill>
          <a:blip r:embed="rId1"/>
          <a:srcRect l="0" t="0" r="63235" b="0"/>
          <a:stretch/>
        </p:blipFill>
        <p:spPr>
          <a:xfrm>
            <a:off x="2987640" y="1413000"/>
            <a:ext cx="25210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http://img.narodna.pravda.com.ua/images/doc/7/d/7da33-babstab.jpg"/>
          <p:cNvPicPr/>
          <p:nvPr/>
        </p:nvPicPr>
        <p:blipFill>
          <a:blip r:embed="rId1"/>
          <a:stretch/>
        </p:blipFill>
        <p:spPr>
          <a:xfrm>
            <a:off x="2916360" y="404640"/>
            <a:ext cx="3628800" cy="4462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484360" y="515772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Нинурта сражается с драконом Ас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Словарная разми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68000" y="1484280"/>
            <a:ext cx="4967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преисподня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божествен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произраст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орош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нагромаждён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черто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Речевая размин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02920" y="1484280"/>
            <a:ext cx="685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В поле Поля-полюшка</a:t>
            </a:r>
            <a:br>
              <a:rPr sz="4400"/>
            </a:b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полет поле-полюшко.</a:t>
            </a:r>
            <a:br>
              <a:rPr sz="4400"/>
            </a:b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Сорняков не будет в поле,</a:t>
            </a:r>
            <a:br>
              <a:rPr sz="4400"/>
            </a:b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если полет Поля поле.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Отгадайте загад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71640" y="2276640"/>
            <a:ext cx="7488000" cy="8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Кормишь - живёт, поишь - умрёт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1042920" y="2492280"/>
            <a:ext cx="678024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Что за кузнецы в лесу кую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одержимое 2"/>
          <p:cNvSpPr/>
          <p:nvPr/>
        </p:nvSpPr>
        <p:spPr>
          <a:xfrm>
            <a:off x="1187280" y="2492280"/>
            <a:ext cx="67788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В воде родится, воды боит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Картинка 9 из 136000"/>
          <p:cNvPicPr/>
          <p:nvPr/>
        </p:nvPicPr>
        <p:blipFill>
          <a:blip r:embed="rId1"/>
          <a:stretch/>
        </p:blipFill>
        <p:spPr>
          <a:xfrm>
            <a:off x="1042920" y="1557360"/>
            <a:ext cx="2376720" cy="1892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3419640" y="620640"/>
            <a:ext cx="57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3708360" y="620640"/>
            <a:ext cx="5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Картинка 10 из 136000"/>
          <p:cNvPicPr/>
          <p:nvPr/>
        </p:nvPicPr>
        <p:blipFill>
          <a:blip r:embed="rId2"/>
          <a:stretch/>
        </p:blipFill>
        <p:spPr>
          <a:xfrm rot="658800">
            <a:off x="5005080" y="2873520"/>
            <a:ext cx="3492360" cy="2614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 rot="10800000">
            <a:off x="4716000" y="2144880"/>
            <a:ext cx="5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 rot="10800000">
            <a:off x="5148360" y="2144880"/>
            <a:ext cx="57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 rot="10800000">
            <a:off x="4355640" y="2144880"/>
            <a:ext cx="5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Миф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539640" y="1773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Егип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195640" y="2781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Гре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5148360" y="3500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Слявян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2050920" y="4292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Древнего Р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Шуме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proza.ru/pics/2009/06/07/200.jpg"/>
          <p:cNvPicPr/>
          <p:nvPr/>
        </p:nvPicPr>
        <p:blipFill>
          <a:blip r:embed="rId1"/>
          <a:srcRect l="7491" t="0" r="0" b="21238"/>
          <a:stretch/>
        </p:blipFill>
        <p:spPr>
          <a:xfrm>
            <a:off x="1763640" y="1197000"/>
            <a:ext cx="584532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Шуме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Файл:Cuneiform script2.jpg"/>
          <p:cNvPicPr/>
          <p:nvPr/>
        </p:nvPicPr>
        <p:blipFill>
          <a:blip r:embed="rId1"/>
          <a:stretch/>
        </p:blipFill>
        <p:spPr>
          <a:xfrm>
            <a:off x="5580000" y="1052640"/>
            <a:ext cx="2917800" cy="484812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4356000" y="5805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alibri"/>
              </a:rPr>
              <a:t>Шумерская клин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Файл:Fragment Bau Louvre AO4572.jpg"/>
          <p:cNvPicPr/>
          <p:nvPr/>
        </p:nvPicPr>
        <p:blipFill>
          <a:blip r:embed="rId2"/>
          <a:stretch/>
        </p:blipFill>
        <p:spPr>
          <a:xfrm>
            <a:off x="826920" y="1268280"/>
            <a:ext cx="4500720" cy="3600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1042920" y="486900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alibri"/>
              </a:rPr>
              <a:t>Шумерская боги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Шумерские миф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his.1september.ru/2009/02/42-1.jpg"/>
          <p:cNvPicPr/>
          <p:nvPr/>
        </p:nvPicPr>
        <p:blipFill>
          <a:blip r:embed="rId1"/>
          <a:stretch/>
        </p:blipFill>
        <p:spPr>
          <a:xfrm>
            <a:off x="395280" y="1197000"/>
            <a:ext cx="3781440" cy="3095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2484360" y="515772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Гильгамеш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царь города Ур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ttp://theatron.byzantion.ru/uploads/att-4679ed45a04ea0015.jpg"/>
          <p:cNvPicPr/>
          <p:nvPr/>
        </p:nvPicPr>
        <p:blipFill>
          <a:blip r:embed="rId2"/>
          <a:stretch/>
        </p:blipFill>
        <p:spPr>
          <a:xfrm>
            <a:off x="5364000" y="1628640"/>
            <a:ext cx="277200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Шумерские миф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a48.ac-images.myspacecdn.com/images01/55/l_9720d764c527f6d38d86c61226183a27.jpg"/>
          <p:cNvPicPr/>
          <p:nvPr/>
        </p:nvPicPr>
        <p:blipFill>
          <a:blip r:embed="rId1"/>
          <a:stretch/>
        </p:blipFill>
        <p:spPr>
          <a:xfrm>
            <a:off x="1692360" y="1413000"/>
            <a:ext cx="5634000" cy="33130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2484360" y="515772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Гильгамеш и Энк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9:02:13Z</dcterms:created>
  <dc:creator>User</dc:creator>
  <dc:description/>
  <dc:language>en-US</dc:language>
  <cp:lastModifiedBy>User</cp:lastModifiedBy>
  <dcterms:modified xsi:type="dcterms:W3CDTF">2011-09-01T19:57:48Z</dcterms:modified>
  <cp:revision>7</cp:revision>
  <dc:subject/>
  <dc:title>Литературное чтение</dc:title>
</cp:coreProperties>
</file>