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602-7FEB-48DA-B9F4-A24FD0BE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2CA-514A-40D2-8B37-C99CFD4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472-79BD-4515-B741-D1F4BEF0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8FC-5D17-4D1E-AF09-DBC823F2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3998-C548-4E65-960B-47EC7F2E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8326-243B-4CE9-84A8-AC424E90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5D9D-7910-4153-A671-E6827744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09F7-68AB-46E1-B740-5304DCE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8D02-28E9-409F-816D-4F87DFEE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1B54-19D9-42E7-AA5C-FB2D6595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3780-F39C-4848-94B9-D7EDA61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FAC-F579-4B01-B88B-19006F29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F89E-38EA-4E97-ADDE-E32869AA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BBF4-A7EB-48F9-AF73-3556DD85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80AC-1BEC-4D9B-9117-0DE289F9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307B-07A9-471C-9CB2-23B3BD32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6E96-0CDE-4639-8D8C-5859C630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D61-A6F8-41E4-BDD2-E943C60B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38E-906A-498C-BF3B-770A0984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9DC-7DBD-4A93-86EF-CC4330F2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9F5-21DF-44AD-A032-F035AB52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E71-5D57-4438-902C-331B71CD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A22-AFF3-4828-BBB6-81CA3F68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F55-82BA-4FB6-B72D-E84F27C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757-EA97-416C-B4F9-8A0755DAD5D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FF50-CF67-4F21-82A8-FD687902266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итературный герой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Любое действующее лицо литературного произведения является литературным герое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5834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помогает увидеть не только внешность персонажа, но и понять его мысли, переживания, особенности характера. Кроме того, часто в описании проявляется и отношение автора к своему герою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7129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" descr="Константин Паустовский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"Желание необыкновенного преследовало меня с детства. Мое состояние можно было определить двумя словами: восхищение перед воображаемым миром и - тоска из-за невозможности увидеть его. Эти два чувства преобладали в моих юношеских стихах и первой незрелой прозе"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Старик в станционном буфете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Маленькая история, случившаяся на станции Майори на Рижском взморье.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ерои рассказ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3311640" cy="3888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648320" y="2421000"/>
            <a:ext cx="3809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85800" y="907920"/>
            <a:ext cx="3809880" cy="5400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8102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417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Тема рассказа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Разговор идёт о взаимопонимании, милосердии, совести, о гордости и человеческом достоинстве.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ложительные качества важны или отрицательные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Значения не имеет, положительный или отрицательный это геро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527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помогло писателю вызвать бурю негодования в ответ на слова молодых людей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чему мы прониклись такой любовью и состраданием к маленькой собачке и старику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Мастерство писателя, а именно умелое использование деталей позволило создать такое пронзительное произведение. Если бы не ряд подробностей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(красные затылки молодых людей, передние лапки собачки, которые касались мокрого живота, когда они опускались от усталости, мусор, прилипший к мелким монетам, а самое главное - когда Пети подошла к старику и села, поджав хвост, даже не взглянув на колбасу),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рассказ не имел бы такой резонанс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обачка несколько раз быстро мотнула хвостом, как бы давая понять старику, что она его слышит и извиняется, но ничего с собой поделать не может. На старика она не взглянула и даже отвела глаза совсем в другую сторону. Она как бы говорила: "Я сама знаю, что это нехорошо. Но ты же не можешь купить мне такой бутерброд"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Берите! - тихо сказала продавщица. - Я на вас не разорюсь..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старик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собачк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молодых людей. Пейзаж в рассказ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дин вопрос к текст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Человек – это сложный характе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321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Характер геро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роявляется в поступках, в его поведении, симпатии и антипатии по отношению к другим персонажа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163520" y="2203560"/>
            <a:ext cx="34736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увидеть литературного героя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исатель должен так рассказать о литературном герое, чтобы мы могли его «увидеть». Для этого автор создаёт его портре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093000" y="359568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ортрет геро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ртрет складывается из описа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нешно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ими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жест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анеры говорит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дежд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ход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033560" y="2138400"/>
            <a:ext cx="3144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Всё это сообщается автором не сразу, не всегда при первом появлении героя и не обязательно в одном месте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Так рождаются словесные портреты герое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читайте весь текс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ужно внимательно прочитать весь текст художественного произведения, чтобы составить словесный портрет героя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788000" y="1981080"/>
            <a:ext cx="28717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43:11Z</dcterms:created>
  <dc:creator>www.PHILka.RU</dc:creator>
  <dc:description/>
  <dc:language>en-US</dc:language>
  <cp:lastModifiedBy>www.PHILka.RU</cp:lastModifiedBy>
  <dcterms:modified xsi:type="dcterms:W3CDTF">2010-11-23T15:06:49Z</dcterms:modified>
  <cp:revision>3</cp:revision>
  <dc:subject/>
  <dc:title>Литературный герой.</dc:title>
</cp:coreProperties>
</file>