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9F4C-03EB-4AAC-B037-4CA1F88A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E22-12BB-4D4C-86D3-35892F39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1218-EDE3-4EBA-AB51-4366F814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664-F9FE-4096-92C2-2950FFBB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A806-1251-42D5-B25C-ACA4201D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B137-7E9A-4D72-AFBB-5BCE9E54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1A10-B90A-4EE5-B44F-7C4CF9FE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8798-1F94-4A92-B02B-03F12FB5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EDAD-8F3A-425A-8C01-39974A6C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F889-0ABB-4A13-A6AB-571A5745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6E08-DB42-47F7-B351-AA0FA1A0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F6D4-94A0-485F-BD42-34075108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C1C2-A7E0-4357-80E8-A76E7163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BF8E-9C77-4240-A77A-C8110827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A576-6614-46E8-9D5A-7F0E25D7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BD30-AE67-4CFA-AAF6-55D40F5E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F2E9-92C1-45AB-B439-96BBA06D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FB14-E7F3-4364-8F2F-6CFD947B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9E06-6C83-4755-BB8B-E6D30226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E4C-E31B-461C-AEB7-D0769F2E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E6D2-706A-4AFC-811C-849C77EF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2E69-B7C6-43E5-8C2D-54E70CA1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CEC7-053B-4AEB-B666-FAC1023D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D22-E82F-4DF2-9F63-8E08C280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641D-590C-41F8-A853-F8637934CFD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0EB1-9328-4136-BB7D-96C8122EB5E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Литературный герой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Любое действующее лицо литературного произведения является литературным героем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5834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ртрет помогает увидеть не только внешность персонажа, но и понять его мысли, переживания, особенности характера. Кроме того, часто в описании проявляется и отношение автора к своему герою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7129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то это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" descr="Константин Паустовский"/>
          <p:cNvPicPr/>
          <p:nvPr/>
        </p:nvPicPr>
        <p:blipFill>
          <a:blip r:embed="rId1"/>
          <a:stretch/>
        </p:blipFill>
        <p:spPr>
          <a:xfrm>
            <a:off x="826920" y="1557360"/>
            <a:ext cx="7705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"Желание необыкновенного преследовало меня с детства. Мое состояние можно было определить двумя словами: восхищение перед воображаемым миром и - тоска из-за невозможности увидеть его. Эти два чувства преобладали в моих юношеских стихах и первой незрелой прозе"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«Старик в станционном буфете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Маленькая история, случившаяся на станции Майори на Рижском взморье.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Герои рассказ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3311640" cy="3888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4648320" y="2421000"/>
            <a:ext cx="38098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685800" y="907920"/>
            <a:ext cx="3809880" cy="54007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716360" y="907920"/>
            <a:ext cx="38102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417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Тема рассказа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Разговор идёт о взаимопонимании, милосердии, совести, о гордости и человеческом достоинстве.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Положительные качества важны или отрицательные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Значения не имеет, положительный или отрицательный это герой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932360" y="1341360"/>
            <a:ext cx="3527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Что помогло писателю вызвать бурю негодования в ответ на слова молодых людей?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чему мы прониклись такой любовью и состраданием к маленькой собачке и старику?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Мастерство писателя, а именно умелое использование деталей позволило создать такое пронзительное произведение. Если бы не ряд подробностей </a:t>
            </a: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(красные затылки молодых людей, передние лапки собачки, которые касались мокрого живота, когда они опускались от усталости, мусор, прилипший к мелким монетам, а самое главное - когда Пети подошла к старику и села, поджав хвост, даже не взглянув на колбасу),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рассказ не имел бы такой резонанс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Собачка несколько раз быстро мотнула хвостом, как бы давая понять старику, что она его слышит и извиняется, но ничего с собой поделать не может. На старика она не взглянула и даже отвела глаза совсем в другую сторону. Она как бы говорила: "Я сама знаю, что это нехорошо. Но ты же не можешь купить мне такой бутерброд"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Берите! - тихо сказала продавщица. - Я на вас не разорюсь..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ртрет старика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ртрет собачк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ртрет молодых людей. Пейзаж в рассказ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Один вопрос к тексту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Человек – это сложный характер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4321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Характер геро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Проявляется в поступках, в его поведении, симпатии и антипатии по отношению к другим персонажам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163520" y="2203560"/>
            <a:ext cx="347364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ак увидеть литературного героя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Писатель должен так рассказать о литературном герое, чтобы мы могли его «увидеть». Для этого автор создаёт его портрет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6093000" y="3595680"/>
            <a:ext cx="9190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ортрет геро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ортрет складывается из описани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внешност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мимик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жестов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манеры говорит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дежды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оходк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033560" y="2138400"/>
            <a:ext cx="3144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Всё это сообщается автором не сразу, не всегда при первом появлении героя и не обязательно в одном месте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Так рождаются словесные портреты героев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рочитайте весь текс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Нужно внимательно прочитать весь текст художественного произведения, чтобы составить словесный портрет героя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788000" y="1981080"/>
            <a:ext cx="287172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43:11Z</dcterms:created>
  <dc:creator>www.PHILka.RU</dc:creator>
  <dc:description/>
  <dc:language>en-US</dc:language>
  <cp:lastModifiedBy>www.PHILka.RU</cp:lastModifiedBy>
  <dcterms:modified xsi:type="dcterms:W3CDTF">2010-11-23T15:06:49Z</dcterms:modified>
  <cp:revision>3</cp:revision>
  <dc:subject/>
  <dc:title>Литературный герой.</dc:title>
</cp:coreProperties>
</file>