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2D3-9FEA-40D7-98C6-0541611A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CB7-F6AF-407D-A089-DE9DF821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35C-8856-48C9-8C4B-9CC77B46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11F-6EAD-4B8D-9049-F6D614D9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4F10-2B03-4A9E-9D8F-4494BE44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FABA-C130-493F-ABC1-329CF71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3F7A-0806-4BC5-BEC0-49E2CDE7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E211-DE37-4BA2-880A-168425B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9E51-837A-4F13-9F23-C29B585C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D2C4-98F2-48F3-A48B-B62FAEB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04C-49C0-4EA5-A040-C0F88FA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09-5921-40D7-930E-A18126D8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D75-4FBA-465A-BB5D-C847DF9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5CFE-8296-4AD3-A42A-7958B46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171-36AE-40BC-BFC7-06FD741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881-1184-44CE-B82C-859D252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B20D-71C2-4BB5-9BDF-CCB11CDB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84A-150A-4CFA-9FD0-817C2206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39F-4001-4861-9BA1-123EFEE1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768-6CC8-4602-82C9-D0ED7D59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DA6-87A3-4188-A791-B0B920E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647-A7D8-4994-9A37-53158FE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FC5-A8C3-4183-ADAB-27BDF65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11E-025D-498F-ACD8-791B1F8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FAF-3321-46D1-BF7E-7046AB71799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22C-19B2-4143-9751-9765C481365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итературный геро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юбое действующее лицо литературного произведения является литературным геро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583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помогает увидеть не только внешность персонажа, но и понять его мысли, переживания, особенности характера. Кроме того, часто в описании проявляется и отношение автора к своему геро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129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Константин Паустовский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"Желание необыкновенного преследовало меня с детства. Мое состояние можно было определить двумя словами: восхищение перед воображаемым миром и - тоска из-за невозможности увидеть его. Эти два чувства преобладали в моих юношеских стихах и первой незрелой прозе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Старик в станционном буфете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Маленькая история, случившаяся на станции Майори на Рижском взморь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ои рассказ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311640" cy="388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3809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85800" y="907920"/>
            <a:ext cx="3809880" cy="540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8102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ема рассказ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Разговор идёт о взаимопонимании, милосердии, совести, о гордости и человеческом достоинств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ложительные качества важны или отрицательные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начения не имеет, положительный или отрицательный это ге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52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помогло писателю вызвать бурю негодования в ответ на слова молодых людей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чему мы прониклись такой любовью и состраданием к маленькой собачке и старику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астерство писателя, а именно умелое использование деталей позволило создать такое пронзительное произведение. Если бы не ряд подробностей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(красные затылки молодых людей, передние лапки собачки, которые касались мокрого живота, когда они опускались от усталости, мусор, прилипший к мелким монетам, а самое главное - когда Пети подошла к старику и села, поджав хвост, даже не взглянув на колбасу),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ассказ не имел бы такой резонанс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обачка несколько раз быстро мотнула хвостом, как бы давая понять старику, что она его слышит и извиняется, но ничего с собой поделать не может. На старика она не взглянула и даже отвела глаза совсем в другую сторону. Она как бы говорила: "Я сама знаю, что это нехорошо. Но ты же не можешь купить мне такой бутерброд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Берите! - тихо сказала продавщица. - Я на вас не разорюсь..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тари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обач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молодых людей. Пейзаж в рассказ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ин вопрос к текст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еловек – это сложный характе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32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Характер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оявляется в поступках, в его поведении, симпатии и антипатии по отношению к другим персонажа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63520" y="2203560"/>
            <a:ext cx="34736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увидеть литературного героя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исатель должен так рассказать о литературном герое, чтобы мы могли его «увидеть». Для этого автор создаёт его портре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093000" y="35956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ртрет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ртрет складывается из опис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неш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ими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жес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анеры говорит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деж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ход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033560" y="2138400"/>
            <a:ext cx="3144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Всё это сообщается автором не сразу, не всегда при первом появлении героя и не обязательно в одном месте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Так рождаются словесные портреты герое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читайте весь текс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ужно внимательно прочитать весь текст художественного произведения, чтобы составить словесный портрет геро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871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43:11Z</dcterms:created>
  <dc:creator>www.PHILka.RU</dc:creator>
  <dc:description/>
  <dc:language>en-US</dc:language>
  <cp:lastModifiedBy>www.PHILka.RU</cp:lastModifiedBy>
  <dcterms:modified xsi:type="dcterms:W3CDTF">2010-11-23T15:06:49Z</dcterms:modified>
  <cp:revision>3</cp:revision>
  <dc:subject/>
  <dc:title>Литературный герой.</dc:title>
</cp:coreProperties>
</file>