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E74150-21F6-47D5-8A9B-AE6371420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0E28E8-74C4-49F2-8BB3-C14BB663E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AC103A-E66D-471C-9BE7-A7AE73322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E21347-2D3D-4232-A900-7B0936560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C6123-1DC9-49AE-ADB8-EF42703D9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8B0C2-8E38-4E88-9DAD-FFB44A970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5D412-7086-4533-930C-40D0DB8DB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F2FE5-87F3-44BC-A6B0-5ECE2E1ED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E3D67-0397-40A1-8660-CF19B1249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BEBB9-2A71-42BA-995B-86DC82F52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5048B-92EF-4028-914F-AE098D7C0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2159C8-8997-43C3-AB1D-176131204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EFB59-6024-4554-81DB-77C4614A9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35D9C-506E-4F55-BBD1-FEBD9A1AC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33285-2C1A-4658-AECD-32E45BB86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EBCF1-4359-4F55-84C4-F0ADFFAEC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BECEE-9204-486B-8846-E532FC729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1AFFA6-EF04-4711-AECE-7754618A2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5772EA-C17B-4D8C-8C90-B242F5A0A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BE0A46-C28F-44E1-A8D2-4081E3949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5BC2BE-DDD0-430A-A202-CE0F93F55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4B23D6-6E2D-4BF0-B689-A8D4BA6E9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44A70E-D0FC-4D3F-8C54-7B8CA227B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FF7578-388D-42AA-9CBD-871E529C8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b3b095"/>
                </a:gs>
                <a:gs pos="100000">
                  <a:srgbClr val="b0ac9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dddc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dddc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dddc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dddcc5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dddcc5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50000">
                  <a:srgbClr val="a9a78b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9d9b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dddcc5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dddc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c9c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c9c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50000">
                  <a:srgbClr val="c1bf9f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b0ac90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50000">
                  <a:srgbClr val="dddcc5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dddc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50000">
                  <a:srgbClr val="c1bf9f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dddcc5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dddc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b0ac9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b0ac90"/>
                </a:gs>
                <a:gs pos="50000">
                  <a:srgbClr val="b1ad92"/>
                </a:gs>
                <a:gs pos="100000">
                  <a:srgbClr val="b0ac9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905c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CFE21-366F-4995-A1E4-A7778D2292F8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b3b095"/>
                </a:gs>
                <a:gs pos="100000">
                  <a:srgbClr val="b0ac9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dddc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dddc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dddc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dddcc5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dddcc5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50000">
                  <a:srgbClr val="a9a78b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9d9b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dddcc5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dddc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c9c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c9c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50000">
                  <a:srgbClr val="c1bf9f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b0ac90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50000">
                  <a:srgbClr val="dddcc5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dddc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50000">
                  <a:srgbClr val="c1bf9f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dddcc5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dddc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b0ac9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b0ac90"/>
                </a:gs>
                <a:gs pos="50000">
                  <a:srgbClr val="b1ad92"/>
                </a:gs>
                <a:gs pos="100000">
                  <a:srgbClr val="b0ac9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748D9-1DFF-418B-9264-DE83EE6677FA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umniki.3dn.ru/publ/nash_kosmos/planeta_zemlja/planeta_zemlja/27-1-0-23" TargetMode="External"/><Relationship Id="rId2" Type="http://schemas.openxmlformats.org/officeDocument/2006/relationships/hyperlink" Target="http://modernbiology.ru/uch7.htm" TargetMode="External"/><Relationship Id="rId3" Type="http://schemas.openxmlformats.org/officeDocument/2006/relationships/hyperlink" Target="http://therochesterian.com/2012/02/08/crow-support-group-forms/" TargetMode="External"/><Relationship Id="rId4" Type="http://schemas.openxmlformats.org/officeDocument/2006/relationships/hyperlink" Target="http://upload.wikimedia.org/wikipedia/commons/4/42/Sroka_Pica_Pica_II.jpg" TargetMode="External"/><Relationship Id="rId5" Type="http://schemas.openxmlformats.org/officeDocument/2006/relationships/hyperlink" Target="http://biglux.ru/category/zhivotnye" TargetMode="External"/><Relationship Id="rId6" Type="http://schemas.openxmlformats.org/officeDocument/2006/relationships/hyperlink" Target="http://commons.wikimedia.org/wiki/File:Cleaned-Illustration_Trifolium_pratense.jpg?uselang=ru" TargetMode="External"/><Relationship Id="rId7" Type="http://schemas.openxmlformats.org/officeDocument/2006/relationships/hyperlink" Target="http://upload.wikimedia.org/wikipedia/commons/7/75/Trifolium_alpestre.jpg" TargetMode="External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png"/><Relationship Id="rId7" Type="http://schemas.openxmlformats.org/officeDocument/2006/relationships/image" Target="../media/image15.jpe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Picture 3" descr="D:\Галина Документы\!!! СКАНЕР\сканер 9-11 класс - общая биология\сканер- биогеоценоз\33217.jpg"/>
          <p:cNvPicPr/>
          <p:nvPr/>
        </p:nvPicPr>
        <p:blipFill>
          <a:blip r:embed="rId1"/>
          <a:stretch/>
        </p:blipFill>
        <p:spPr>
          <a:xfrm>
            <a:off x="0" y="0"/>
            <a:ext cx="9118440" cy="6858000"/>
          </a:xfrm>
          <a:prstGeom prst="rect">
            <a:avLst/>
          </a:prstGeom>
          <a:ln w="9360">
            <a:solidFill>
              <a:srgbClr val="c0c0c0"/>
            </a:solidFill>
            <a:miter/>
          </a:ln>
        </p:spPr>
      </p:pic>
      <p:sp>
        <p:nvSpPr>
          <p:cNvPr id="128" name=""/>
          <p:cNvSpPr/>
          <p:nvPr/>
        </p:nvSpPr>
        <p:spPr>
          <a:xfrm>
            <a:off x="684360" y="1125360"/>
            <a:ext cx="7848360" cy="7700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6600"/>
                </a:solidFill>
                <a:uFillTx/>
                <a:latin typeface="Tahoma"/>
              </a:rPr>
              <a:t>КАК КЛАССИФИЦИРУЮТ ЖИВЫЕ ОРГАНИЗ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419640" y="5373720"/>
            <a:ext cx="5724360" cy="1484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Tahoma"/>
              </a:rPr>
              <a:t>УЧИТЕЛЬ БИОЛОГИИ МОАУ СОШ № 2 г. ЯС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Tahoma"/>
              </a:rPr>
              <a:t>ТИТОВА МАРИНА СЕРГЕ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Phaseolus vulgaris"/>
          <p:cNvPicPr/>
          <p:nvPr/>
        </p:nvPicPr>
        <p:blipFill>
          <a:blip r:embed="rId1"/>
          <a:stretch/>
        </p:blipFill>
        <p:spPr>
          <a:xfrm>
            <a:off x="1116000" y="1628640"/>
            <a:ext cx="2523960" cy="336240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Crataegus sp Sturm3.jpg"/>
          <p:cNvPicPr/>
          <p:nvPr/>
        </p:nvPicPr>
        <p:blipFill>
          <a:blip r:embed="rId2"/>
          <a:stretch/>
        </p:blipFill>
        <p:spPr>
          <a:xfrm>
            <a:off x="5796000" y="1628640"/>
            <a:ext cx="2523960" cy="36673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755640" y="333360"/>
            <a:ext cx="331164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Tahoma"/>
              </a:rPr>
              <a:t>ПОРЯДОК БОБОВ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716360" y="260280"/>
            <a:ext cx="417672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Tahoma"/>
              </a:rPr>
              <a:t>ПОРЯДОК РОЗОЦВЕТ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547640" y="5373720"/>
            <a:ext cx="6769440" cy="1123920"/>
          </a:xfrm>
          <a:custGeom>
            <a:avLst/>
            <a:gdLst>
              <a:gd name="textAreaLeft" fmla="*/ 0 w 6769440"/>
              <a:gd name="textAreaRight" fmla="*/ 6769800 w 6769440"/>
              <a:gd name="textAreaTop" fmla="*/ 145440 h 1123920"/>
              <a:gd name="textAreaBottom" fmla="*/ 978480 h 112392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Tahoma"/>
              </a:rPr>
              <a:t>КЛАСС ДВУДОЛЬ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24000" y="981000"/>
            <a:ext cx="4174920" cy="352908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4643280" y="981000"/>
            <a:ext cx="4227840" cy="360036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395280" y="0"/>
            <a:ext cx="403236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Tahoma"/>
              </a:rPr>
              <a:t>КЛАСС ДВУДОЛЬ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643280" y="0"/>
            <a:ext cx="417672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Tahoma"/>
              </a:rPr>
              <a:t>КЛАСС ОДНОДОЛЬ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332000" y="5084640"/>
            <a:ext cx="6697440" cy="1152720"/>
          </a:xfrm>
          <a:custGeom>
            <a:avLst/>
            <a:gdLst>
              <a:gd name="textAreaLeft" fmla="*/ 0 w 6697440"/>
              <a:gd name="textAreaRight" fmla="*/ 6697800 w 6697440"/>
              <a:gd name="textAreaTop" fmla="*/ 149400 h 1152720"/>
              <a:gd name="textAreaBottom" fmla="*/ 1003320 h 115272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Tahoma"/>
              </a:rPr>
              <a:t>ОТДЕЛ ЦВЕТКОВ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971640" y="18900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692360" y="6093000"/>
            <a:ext cx="6481800" cy="765000"/>
          </a:xfrm>
          <a:custGeom>
            <a:avLst/>
            <a:gdLst>
              <a:gd name="textAreaLeft" fmla="*/ 0 w 6481800"/>
              <a:gd name="textAreaRight" fmla="*/ 6482160 w 6481800"/>
              <a:gd name="textAreaTop" fmla="*/ 99000 h 765000"/>
              <a:gd name="textAreaBottom" fmla="*/ 666000 h 7650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Tahoma"/>
              </a:rPr>
              <a:t>ЦАРСТВО РАСТ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6600"/>
                </a:solidFill>
                <a:latin typeface="Tahoma"/>
              </a:rPr>
              <a:t>литература</a:t>
            </a: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Рабочая программа к учебнику Э. Л. Введенского, А. А. Плешакова. «Биология. Введение в биологию» 5 класс. Линия «Вектор»- М. : ООО «Русское слово – учебник», 2012. – 32 с. – ФГОС. Инновационная школа)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Учебник Э. Л. Введенский, А. А. Плешаков. «Биология. Введение в биологию» 5 класс. Линия «Вектор»- М. : ООО «Русское слово – учебник», 2012. ФГОС. Инновационная школа)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666699"/>
                </a:solidFill>
                <a:uFillTx/>
                <a:latin typeface="Tahoma"/>
                <a:hlinkClick r:id="rId1"/>
              </a:rPr>
              <a:t>http://umniki.3dn.ru/publ/nash_kosmos/planeta_zemlja/planeta_zemlja/27-1-0-23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666699"/>
                </a:solidFill>
                <a:uFillTx/>
                <a:latin typeface="Tahoma"/>
                <a:hlinkClick r:id="rId2"/>
              </a:rPr>
              <a:t>http://modernbiology.ru/uch7.ht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666699"/>
                </a:solidFill>
                <a:uFillTx/>
                <a:latin typeface="Tahoma"/>
                <a:hlinkClick r:id="rId3"/>
              </a:rPr>
              <a:t>http://therochesterian.com/2012/02/08/crow-support-group-forms/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666699"/>
                </a:solidFill>
                <a:uFillTx/>
                <a:latin typeface="Tahoma"/>
                <a:hlinkClick r:id="rId4"/>
              </a:rPr>
              <a:t>http://upload.wikimedia.org/wikipedia/commons/4/42/Sroka_Pica_Pica_II.jp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666699"/>
                </a:solidFill>
                <a:uFillTx/>
                <a:latin typeface="Tahoma"/>
                <a:hlinkClick r:id="rId5"/>
              </a:rPr>
              <a:t>http://biglux.ru/category/zhivotny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666699"/>
                </a:solidFill>
                <a:uFillTx/>
                <a:latin typeface="Tahoma"/>
                <a:hlinkClick r:id="rId6"/>
              </a:rPr>
              <a:t>http://commons.wikimedia.org/wiki/File:Cleaned-Illustration_Trifolium_pratense.jpg?uselang=ru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666699"/>
                </a:solidFill>
                <a:uFillTx/>
                <a:latin typeface="Tahoma"/>
                <a:hlinkClick r:id="rId7"/>
              </a:rPr>
              <a:t>http://upload.wikimedia.org/wikipedia/commons/7/75/Trifolium_alpestre.jp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http://commons.wikimedia.org/wiki/File:Snijboon_peulen_Phaseolus_vulgaris.jpg?uselang=ru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http://www.ecosystema.ru/04materials/karm/birds.ht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http://commons.wikimedia.org/wiki/File:Magnolia.jpg?uselang=ru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http://ecoportal.su/news.php?id=46878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File:Carl von Linné.jpg"/>
          <p:cNvPicPr/>
          <p:nvPr/>
        </p:nvPicPr>
        <p:blipFill>
          <a:blip r:embed="rId1"/>
          <a:stretch/>
        </p:blipFill>
        <p:spPr>
          <a:xfrm>
            <a:off x="395280" y="476280"/>
            <a:ext cx="4724280" cy="570528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5435640" y="1916280"/>
            <a:ext cx="3384360" cy="29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68360" y="549360"/>
            <a:ext cx="4033800" cy="460836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5292720" y="476280"/>
            <a:ext cx="3456000" cy="45370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468360" y="5661000"/>
            <a:ext cx="381636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724360" y="5445000"/>
            <a:ext cx="3240360" cy="981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СОРО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645200" y="5950080"/>
            <a:ext cx="126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ВОР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88000" cy="359100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2771640" y="3789360"/>
            <a:ext cx="3419640" cy="302580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4792680" y="0"/>
            <a:ext cx="435132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057400" y="277920"/>
            <a:ext cx="5562720" cy="1093680"/>
          </a:xfrm>
          <a:prstGeom prst="rect">
            <a:avLst/>
          </a:prstGeom>
          <a:solidFill>
            <a:srgbClr val="dddcc5"/>
          </a:solidFill>
          <a:ln cap="rnd" w="25560">
            <a:solidFill>
              <a:srgbClr val="b0a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ahoma"/>
              </a:rPr>
              <a:t>Царства живой природы</a:t>
            </a: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Скругленный прямоугольник 3"/>
          <p:cNvSpPr/>
          <p:nvPr/>
        </p:nvSpPr>
        <p:spPr>
          <a:xfrm>
            <a:off x="304920" y="1600200"/>
            <a:ext cx="175248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cap="rnd"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Царство Бакте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Скругленный прямоугольник 4"/>
          <p:cNvSpPr/>
          <p:nvPr/>
        </p:nvSpPr>
        <p:spPr>
          <a:xfrm>
            <a:off x="2438280" y="1600200"/>
            <a:ext cx="175284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cap="rnd"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Царств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Гриб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Скругленный прямоугольник 5"/>
          <p:cNvSpPr/>
          <p:nvPr/>
        </p:nvSpPr>
        <p:spPr>
          <a:xfrm>
            <a:off x="4419720" y="1600200"/>
            <a:ext cx="175248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cap="rnd"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Царство раст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Скругленный прямоугольник 6"/>
          <p:cNvSpPr/>
          <p:nvPr/>
        </p:nvSpPr>
        <p:spPr>
          <a:xfrm>
            <a:off x="6934320" y="1676520"/>
            <a:ext cx="1981080" cy="761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cap="rnd"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Царство Живот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2" descr="D:\Галина Документы\!!! СКАНЕР\сканер 5 класс природоведение\сканер 5 класс-природоведение\разнообразие живого\img078.jpg"/>
          <p:cNvPicPr/>
          <p:nvPr/>
        </p:nvPicPr>
        <p:blipFill>
          <a:blip r:embed="rId1"/>
          <a:stretch/>
        </p:blipFill>
        <p:spPr>
          <a:xfrm>
            <a:off x="457200" y="2592360"/>
            <a:ext cx="1219320" cy="19764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2" descr="D:\Галина Документы\6 класс- разработки\грибы- фото из леса\DSC00081.JPG"/>
          <p:cNvPicPr/>
          <p:nvPr/>
        </p:nvPicPr>
        <p:blipFill>
          <a:blip r:embed="rId2"/>
          <a:stretch/>
        </p:blipFill>
        <p:spPr>
          <a:xfrm>
            <a:off x="2209680" y="2514600"/>
            <a:ext cx="1657440" cy="22096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3" descr="D:\Галина Документы\семья\фото\Мама фото\DSC00210.JPG"/>
          <p:cNvPicPr/>
          <p:nvPr/>
        </p:nvPicPr>
        <p:blipFill>
          <a:blip r:embed="rId3"/>
          <a:stretch/>
        </p:blipFill>
        <p:spPr>
          <a:xfrm>
            <a:off x="4038480" y="2590920"/>
            <a:ext cx="2743200" cy="20574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4" descr="D:\Галина Документы\семья\фото\Мама фото\DSC00245.JPG"/>
          <p:cNvPicPr/>
          <p:nvPr/>
        </p:nvPicPr>
        <p:blipFill>
          <a:blip r:embed="rId4"/>
          <a:stretch/>
        </p:blipFill>
        <p:spPr>
          <a:xfrm>
            <a:off x="3962520" y="4724280"/>
            <a:ext cx="2844720" cy="21337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5" descr="D:\Галина Документы\семья\фото\Мама фото\DSC00254.JPG"/>
          <p:cNvPicPr/>
          <p:nvPr/>
        </p:nvPicPr>
        <p:blipFill>
          <a:blip r:embed="rId5"/>
          <a:stretch/>
        </p:blipFill>
        <p:spPr>
          <a:xfrm>
            <a:off x="2133720" y="4800600"/>
            <a:ext cx="1726920" cy="1295280"/>
          </a:xfrm>
          <a:prstGeom prst="rect">
            <a:avLst/>
          </a:prstGeom>
          <a:ln w="0">
            <a:noFill/>
          </a:ln>
        </p:spPr>
      </p:pic>
      <p:pic>
        <p:nvPicPr>
          <p:cNvPr id="150" name="Рисунок 12" descr=""/>
          <p:cNvPicPr/>
          <p:nvPr/>
        </p:nvPicPr>
        <p:blipFill>
          <a:blip r:embed="rId6"/>
          <a:stretch/>
        </p:blipFill>
        <p:spPr>
          <a:xfrm>
            <a:off x="7238880" y="2666880"/>
            <a:ext cx="1657440" cy="1800360"/>
          </a:xfrm>
          <a:prstGeom prst="rect">
            <a:avLst/>
          </a:prstGeom>
          <a:ln w="0">
            <a:noFill/>
          </a:ln>
        </p:spPr>
      </p:pic>
      <p:pic>
        <p:nvPicPr>
          <p:cNvPr id="151" name="Рисунок 13" descr="D:\Галина Документы\!!! СКАНЕР\сканер 7 класс зоология\сканер- млекопитающие\ЖИВОТНЫЕ\DSC00989.JPG"/>
          <p:cNvPicPr/>
          <p:nvPr/>
        </p:nvPicPr>
        <p:blipFill>
          <a:blip r:embed="rId7"/>
          <a:stretch/>
        </p:blipFill>
        <p:spPr>
          <a:xfrm>
            <a:off x="7162920" y="472428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9900"/>
                </a:solidFill>
                <a:latin typeface="Tahoma"/>
              </a:rPr>
              <a:t>РОДСТВЕННЫЕ ВИДЫ</a:t>
            </a: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3" name="" descr="Cleaned-Illustration Trifolium pratense.jpg"/>
          <p:cNvPicPr/>
          <p:nvPr/>
        </p:nvPicPr>
        <p:blipFill>
          <a:blip r:embed="rId1"/>
          <a:stretch/>
        </p:blipFill>
        <p:spPr>
          <a:xfrm>
            <a:off x="395280" y="1844640"/>
            <a:ext cx="2881440" cy="410364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395280" y="1052640"/>
            <a:ext cx="2860560" cy="620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92120" y="1125360"/>
            <a:ext cx="250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Tahoma"/>
              </a:rPr>
              <a:t>КЛЕВЕР ЛУГОВ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File:Illustration Trifolium repens1.jpg"/>
          <p:cNvPicPr/>
          <p:nvPr/>
        </p:nvPicPr>
        <p:blipFill>
          <a:blip r:embed="rId2"/>
          <a:stretch/>
        </p:blipFill>
        <p:spPr>
          <a:xfrm>
            <a:off x="6012000" y="1700280"/>
            <a:ext cx="2649240" cy="424980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5867280" y="1052640"/>
            <a:ext cx="2737080" cy="552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Tahoma"/>
              </a:rPr>
              <a:t>КЛЕВЕР ПОЛЗУЧ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87280" y="6165720"/>
            <a:ext cx="7056720" cy="692280"/>
          </a:xfrm>
          <a:custGeom>
            <a:avLst/>
            <a:gdLst>
              <a:gd name="textAreaLeft" fmla="*/ 0 w 7056720"/>
              <a:gd name="textAreaRight" fmla="*/ 7057080 w 7056720"/>
              <a:gd name="textAreaTop" fmla="*/ 89640 h 692280"/>
              <a:gd name="textAreaBottom" fmla="*/ 602640 h 69228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Tahoma"/>
              </a:rPr>
              <a:t>РОД КЛЕВ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File:Trifolium alpestre.jpg"/>
          <p:cNvPicPr/>
          <p:nvPr/>
        </p:nvPicPr>
        <p:blipFill>
          <a:blip r:embed="rId1"/>
          <a:stretch/>
        </p:blipFill>
        <p:spPr>
          <a:xfrm>
            <a:off x="250920" y="765000"/>
            <a:ext cx="3665520" cy="307188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250920" y="260280"/>
            <a:ext cx="367344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Tahoma"/>
              </a:rPr>
              <a:t>РОД КЛЕВЕ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Illustration Pisum sativum0 clean.jpg"/>
          <p:cNvPicPr/>
          <p:nvPr/>
        </p:nvPicPr>
        <p:blipFill>
          <a:blip r:embed="rId2"/>
          <a:stretch/>
        </p:blipFill>
        <p:spPr>
          <a:xfrm>
            <a:off x="3708360" y="1125360"/>
            <a:ext cx="2524320" cy="401004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Phaseolus vulgaris"/>
          <p:cNvPicPr/>
          <p:nvPr/>
        </p:nvPicPr>
        <p:blipFill>
          <a:blip r:embed="rId3"/>
          <a:stretch/>
        </p:blipFill>
        <p:spPr>
          <a:xfrm>
            <a:off x="6156360" y="2349360"/>
            <a:ext cx="2619360" cy="349596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3708360" y="549360"/>
            <a:ext cx="2376360" cy="504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Tahoma"/>
              </a:rPr>
              <a:t>РОД ГОРО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156360" y="1844640"/>
            <a:ext cx="2592360" cy="4334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Tahoma"/>
              </a:rPr>
              <a:t>РОД ФАСО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39640" y="5950080"/>
            <a:ext cx="8425080" cy="647640"/>
          </a:xfrm>
          <a:custGeom>
            <a:avLst/>
            <a:gdLst>
              <a:gd name="textAreaLeft" fmla="*/ 2106360 w 8425080"/>
              <a:gd name="textAreaRight" fmla="*/ 6319080 w 8425080"/>
              <a:gd name="textAreaTop" fmla="*/ 162000 h 647640"/>
              <a:gd name="textAreaBottom" fmla="*/ 628560 h 64764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963880" y="6093000"/>
            <a:ext cx="367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Tahoma"/>
              </a:rPr>
              <a:t>СЕМЕЙСТВО БОБОВ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&amp;Icy;&amp;scy;&amp;tcy;&amp;ocy;&amp;dcy;&amp;ocy;&amp;vcy;&amp;ycy;&amp;iecy;"/>
          <p:cNvPicPr/>
          <p:nvPr/>
        </p:nvPicPr>
        <p:blipFill>
          <a:blip r:embed="rId1"/>
          <a:stretch/>
        </p:blipFill>
        <p:spPr>
          <a:xfrm>
            <a:off x="5364000" y="1197000"/>
            <a:ext cx="3313440" cy="31050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5364000" y="692280"/>
            <a:ext cx="3457800" cy="3585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СЕМЕЙСТВО ИСТОДОВ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Phaseolus vulgaris"/>
          <p:cNvPicPr/>
          <p:nvPr/>
        </p:nvPicPr>
        <p:blipFill>
          <a:blip r:embed="rId2"/>
          <a:stretch/>
        </p:blipFill>
        <p:spPr>
          <a:xfrm>
            <a:off x="611280" y="981000"/>
            <a:ext cx="2811240" cy="336240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539640" y="620640"/>
            <a:ext cx="2951280" cy="2890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СЕМЕЙСТВО БОБОВ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547640" y="5229360"/>
            <a:ext cx="6409080" cy="1224000"/>
          </a:xfrm>
          <a:custGeom>
            <a:avLst/>
            <a:gdLst>
              <a:gd name="textAreaLeft" fmla="*/ 0 w 6409080"/>
              <a:gd name="textAreaRight" fmla="*/ 6409440 w 6409080"/>
              <a:gd name="textAreaTop" fmla="*/ 158400 h 1224000"/>
              <a:gd name="textAreaBottom" fmla="*/ 1065600 h 12240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Tahoma"/>
              </a:rPr>
              <a:t>ПОРЯДОК БОБОВ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0" y="1628640"/>
            <a:ext cx="4572000" cy="304812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0" y="333360"/>
            <a:ext cx="460836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Tahoma"/>
              </a:rPr>
              <a:t>СЕМЕЙСТВО СИНИЦИЕВ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&amp;Lcy;&amp;acy;&amp;scy;&amp;tcy;&amp;ocy;&amp;chcy;&amp;kcy;&amp;ocy;&amp;vcy;&amp;ycy;&amp;iecy;"/>
          <p:cNvPicPr/>
          <p:nvPr/>
        </p:nvPicPr>
        <p:blipFill>
          <a:blip r:embed="rId2"/>
          <a:stretch/>
        </p:blipFill>
        <p:spPr>
          <a:xfrm>
            <a:off x="6156360" y="1052640"/>
            <a:ext cx="2619360" cy="39337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148360" y="189000"/>
            <a:ext cx="3995640" cy="863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Tahoma"/>
              </a:rPr>
              <a:t>СЕМЕЙСТВО ЛАСТОЧКОВ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900000" y="5516640"/>
            <a:ext cx="7417080" cy="1081080"/>
          </a:xfrm>
          <a:custGeom>
            <a:avLst/>
            <a:gdLst>
              <a:gd name="textAreaLeft" fmla="*/ 0 w 7417080"/>
              <a:gd name="textAreaRight" fmla="*/ 7417440 w 7417080"/>
              <a:gd name="textAreaTop" fmla="*/ 140040 h 1081080"/>
              <a:gd name="textAreaBottom" fmla="*/ 94104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Tahoma"/>
              </a:rPr>
              <a:t>ОТРЯД ВОРОБЬИ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9T14:10:09Z</dcterms:created>
  <dc:creator>User</dc:creator>
  <dc:description/>
  <dc:language>en-US</dc:language>
  <cp:lastModifiedBy>User</cp:lastModifiedBy>
  <dcterms:modified xsi:type="dcterms:W3CDTF">2012-10-13T06:01:56Z</dcterms:modified>
  <cp:revision>4</cp:revision>
  <dc:subject/>
  <dc:title>Слайд 1</dc:title>
</cp:coreProperties>
</file>