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8B7B-1F88-4742-8B9C-018C94E6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038A-EDDE-4E40-A434-0A5A183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4BF2-577F-4FA3-B65C-F28E0889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2C39-6CCD-4DA5-A7DA-E4156F39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FE23-9D5E-4D3C-AF18-145097F5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76D-D5A5-41FA-8D4D-086D979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E01-0813-434E-8C4C-1185A08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696-0C91-4362-B990-A6AB70C0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DDB1-D347-4056-A5C0-453CAD3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705-7C50-49D8-9A84-2491BA88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9ACD-0D05-4182-B9BA-9B6EB06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F7B9-B387-4448-AA0E-7F6130F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F96-B74E-4AB6-924F-C2AC7C3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999C-48FB-4159-9C4C-974E3AE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4D4-086F-4A3B-8B43-AFB0D66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ECB-3995-47F8-960C-A125FF3D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D7F5-4E7F-47DD-8E64-E37EA340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6C04-6748-48C6-9F1E-2436D9B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4712-5F09-4FAA-AA87-A9ED9A4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E429-0C83-4DA1-8613-99A65C3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F463-B0E6-4CB6-9DAE-A1F709F1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0BB5-0875-4A5D-9228-FA9AC98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E209-2181-4566-96B9-7EEF242B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528D-5C4F-489C-BD70-1B5C943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5406-9B52-4270-B48E-1E3CFC2BD6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02F-E26B-40BB-8592-FF95EB23EB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mniki.3dn.ru/publ/nash_kosmos/planeta_zemlja/planeta_zemlja/27-1-0-23" TargetMode="External"/><Relationship Id="rId2" Type="http://schemas.openxmlformats.org/officeDocument/2006/relationships/hyperlink" Target="http://modernbiology.ru/uch7.htm" TargetMode="External"/><Relationship Id="rId3" Type="http://schemas.openxmlformats.org/officeDocument/2006/relationships/hyperlink" Target="http://therochesterian.com/2012/02/08/crow-support-group-forms/" TargetMode="External"/><Relationship Id="rId4" Type="http://schemas.openxmlformats.org/officeDocument/2006/relationships/hyperlink" Target="http://upload.wikimedia.org/wikipedia/commons/4/42/Sroka_Pica_Pica_II.jpg" TargetMode="External"/><Relationship Id="rId5" Type="http://schemas.openxmlformats.org/officeDocument/2006/relationships/hyperlink" Target="http://biglux.ru/category/zhivotnye" TargetMode="External"/><Relationship Id="rId6" Type="http://schemas.openxmlformats.org/officeDocument/2006/relationships/hyperlink" Target="http://commons.wikimedia.org/wiki/File:Cleaned-Illustration_Trifolium_pratense.jpg?uselang=ru" TargetMode="External"/><Relationship Id="rId7" Type="http://schemas.openxmlformats.org/officeDocument/2006/relationships/hyperlink" Target="http://upload.wikimedia.org/wikipedia/commons/7/75/Trifolium_alpestre.jpg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3" descr="D:\Галина Документы\!!! СКАНЕР\сканер 9-11 класс - общая биология\сканер- биогеоценоз\33217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1125360"/>
            <a:ext cx="7848360" cy="770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КАК КЛАССИФИЦИРУЮТ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5373720"/>
            <a:ext cx="5724360" cy="148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УЧИТЕЛЬ БИОЛОГИИ МОАУ СОШ № 2 г. Я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Phaseolus vulgaris"/>
          <p:cNvPicPr/>
          <p:nvPr/>
        </p:nvPicPr>
        <p:blipFill>
          <a:blip r:embed="rId1"/>
          <a:stretch/>
        </p:blipFill>
        <p:spPr>
          <a:xfrm>
            <a:off x="1116000" y="1628640"/>
            <a:ext cx="2523960" cy="3362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rataegus sp Sturm3.jpg"/>
          <p:cNvPicPr/>
          <p:nvPr/>
        </p:nvPicPr>
        <p:blipFill>
          <a:blip r:embed="rId2"/>
          <a:stretch/>
        </p:blipFill>
        <p:spPr>
          <a:xfrm>
            <a:off x="5796000" y="1628640"/>
            <a:ext cx="2523960" cy="366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333360"/>
            <a:ext cx="3311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26028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РОЗО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5373720"/>
            <a:ext cx="6769440" cy="1123920"/>
          </a:xfrm>
          <a:custGeom>
            <a:avLst/>
            <a:gdLst>
              <a:gd name="textAreaLeft" fmla="*/ 0 w 6769440"/>
              <a:gd name="textAreaRight" fmla="*/ 6769800 w 6769440"/>
              <a:gd name="textAreaTop" fmla="*/ 145440 h 1123920"/>
              <a:gd name="textAreaBottom" fmla="*/ 9784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74920" cy="3529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27840" cy="360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0"/>
            <a:ext cx="4032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ОДН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084640"/>
            <a:ext cx="6697440" cy="1152720"/>
          </a:xfrm>
          <a:custGeom>
            <a:avLst/>
            <a:gdLst>
              <a:gd name="textAreaLeft" fmla="*/ 0 w 6697440"/>
              <a:gd name="textAreaRight" fmla="*/ 6697800 w 669744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ДЕЛ ЦВЕТ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2360" y="6093000"/>
            <a:ext cx="6481800" cy="765000"/>
          </a:xfrm>
          <a:custGeom>
            <a:avLst/>
            <a:gdLst>
              <a:gd name="textAreaLeft" fmla="*/ 0 w 6481800"/>
              <a:gd name="textAreaRight" fmla="*/ 6482160 w 6481800"/>
              <a:gd name="textAreaTop" fmla="*/ 99000 h 765000"/>
              <a:gd name="textAreaBottom" fmla="*/ 666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ЦАРСТВ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umniki.3dn.ru/publ/nash_kosmos/planeta_zemlja/planeta_zemlja/27-1-0-2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http://modernbiology.ru/uch7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http://therochesterian.com/2012/02/08/crow-support-group-form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http://upload.wikimedia.org/wikipedia/commons/4/42/Sroka_Pica_Pica_II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http://biglux.ru/category/zhivotny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http://commons.wikimedia.org/wiki/File:Cleaned-Illustration_Trifolium_pratense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http://upload.wikimedia.org/wikipedia/commons/7/75/Trifolium_alpestre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Snijboon_peulen_Phaseolus_vulgaris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ecosystema.ru/04materials/karm/birds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Magnolia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ecoportal.su/news.php?id=4687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File:Carl von Linné.jpg"/>
          <p:cNvPicPr/>
          <p:nvPr/>
        </p:nvPicPr>
        <p:blipFill>
          <a:blip r:embed="rId1"/>
          <a:stretch/>
        </p:blipFill>
        <p:spPr>
          <a:xfrm>
            <a:off x="395280" y="476280"/>
            <a:ext cx="4724280" cy="570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3843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3800" cy="46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456000" cy="453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5661000"/>
            <a:ext cx="3816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5445000"/>
            <a:ext cx="3240360" cy="98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5200" y="59500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3419640" cy="302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92680" y="0"/>
            <a:ext cx="43513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277920"/>
            <a:ext cx="5562720" cy="1093680"/>
          </a:xfrm>
          <a:prstGeom prst="rect">
            <a:avLst/>
          </a:prstGeom>
          <a:solidFill>
            <a:srgbClr val="dddcc5"/>
          </a:solidFill>
          <a:ln cap="rnd" w="25560">
            <a:solidFill>
              <a:srgbClr val="b0a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Царства живой природы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049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2438280" y="1600200"/>
            <a:ext cx="17528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44197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6934320" y="1676520"/>
            <a:ext cx="19810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D:\Галина Документы\!!! СКАНЕР\сканер 5 класс природоведение\сканер 5 класс-природоведение\разнообразие живого\img078.jpg"/>
          <p:cNvPicPr/>
          <p:nvPr/>
        </p:nvPicPr>
        <p:blipFill>
          <a:blip r:embed="rId1"/>
          <a:stretch/>
        </p:blipFill>
        <p:spPr>
          <a:xfrm>
            <a:off x="457200" y="2592360"/>
            <a:ext cx="1219320" cy="19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Галина Документы\6 класс- разработки\грибы- фото из леса\DSC00081.JPG"/>
          <p:cNvPicPr/>
          <p:nvPr/>
        </p:nvPicPr>
        <p:blipFill>
          <a:blip r:embed="rId2"/>
          <a:stretch/>
        </p:blipFill>
        <p:spPr>
          <a:xfrm>
            <a:off x="2209680" y="251460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Галина Документы\семья\фото\Мама фото\DSC00210.JPG"/>
          <p:cNvPicPr/>
          <p:nvPr/>
        </p:nvPicPr>
        <p:blipFill>
          <a:blip r:embed="rId3"/>
          <a:stretch/>
        </p:blipFill>
        <p:spPr>
          <a:xfrm>
            <a:off x="4038480" y="2590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Галина Документы\семья\фото\Мама фото\DSC00245.JPG"/>
          <p:cNvPicPr/>
          <p:nvPr/>
        </p:nvPicPr>
        <p:blipFill>
          <a:blip r:embed="rId4"/>
          <a:stretch/>
        </p:blipFill>
        <p:spPr>
          <a:xfrm>
            <a:off x="3962520" y="47242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Галина Документы\семья\фото\Мама фото\DSC00254.JPG"/>
          <p:cNvPicPr/>
          <p:nvPr/>
        </p:nvPicPr>
        <p:blipFill>
          <a:blip r:embed="rId5"/>
          <a:stretch/>
        </p:blipFill>
        <p:spPr>
          <a:xfrm>
            <a:off x="2133720" y="48006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2" descr=""/>
          <p:cNvPicPr/>
          <p:nvPr/>
        </p:nvPicPr>
        <p:blipFill>
          <a:blip r:embed="rId6"/>
          <a:stretch/>
        </p:blipFill>
        <p:spPr>
          <a:xfrm>
            <a:off x="7238880" y="266688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D:\Галина Документы\!!! СКАНЕР\сканер 7 класс зоология\сканер- млекопитающие\ЖИВОТНЫЕ\DSC00989.JPG"/>
          <p:cNvPicPr/>
          <p:nvPr/>
        </p:nvPicPr>
        <p:blipFill>
          <a:blip r:embed="rId7"/>
          <a:stretch/>
        </p:blipFill>
        <p:spPr>
          <a:xfrm>
            <a:off x="71629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Tahoma"/>
              </a:rPr>
              <a:t>РОДСТВЕННЫЕ ВИД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Cleaned-Illustration Trifolium pratense.jpg"/>
          <p:cNvPicPr/>
          <p:nvPr/>
        </p:nvPicPr>
        <p:blipFill>
          <a:blip r:embed="rId1"/>
          <a:stretch/>
        </p:blipFill>
        <p:spPr>
          <a:xfrm>
            <a:off x="395280" y="1844640"/>
            <a:ext cx="2881440" cy="410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1052640"/>
            <a:ext cx="286056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120" y="11253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ЛУГ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File:Illustration Trifolium repens1.jpg"/>
          <p:cNvPicPr/>
          <p:nvPr/>
        </p:nvPicPr>
        <p:blipFill>
          <a:blip r:embed="rId2"/>
          <a:stretch/>
        </p:blipFill>
        <p:spPr>
          <a:xfrm>
            <a:off x="6012000" y="1700280"/>
            <a:ext cx="2649240" cy="4249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867280" y="1052640"/>
            <a:ext cx="273708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ПОЛЗ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6165720"/>
            <a:ext cx="7056720" cy="692280"/>
          </a:xfrm>
          <a:custGeom>
            <a:avLst/>
            <a:gdLst>
              <a:gd name="textAreaLeft" fmla="*/ 0 w 7056720"/>
              <a:gd name="textAreaRight" fmla="*/ 7057080 w 7056720"/>
              <a:gd name="textAreaTop" fmla="*/ 89640 h 692280"/>
              <a:gd name="textAreaBottom" fmla="*/ 60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File:Trifolium alpestre.jpg"/>
          <p:cNvPicPr/>
          <p:nvPr/>
        </p:nvPicPr>
        <p:blipFill>
          <a:blip r:embed="rId1"/>
          <a:stretch/>
        </p:blipFill>
        <p:spPr>
          <a:xfrm>
            <a:off x="250920" y="765000"/>
            <a:ext cx="3665520" cy="307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260280"/>
            <a:ext cx="367344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Illustration Pisum sativum0 clean.jpg"/>
          <p:cNvPicPr/>
          <p:nvPr/>
        </p:nvPicPr>
        <p:blipFill>
          <a:blip r:embed="rId2"/>
          <a:stretch/>
        </p:blipFill>
        <p:spPr>
          <a:xfrm>
            <a:off x="3708360" y="1125360"/>
            <a:ext cx="2524320" cy="4010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Phaseolus vulgaris"/>
          <p:cNvPicPr/>
          <p:nvPr/>
        </p:nvPicPr>
        <p:blipFill>
          <a:blip r:embed="rId3"/>
          <a:stretch/>
        </p:blipFill>
        <p:spPr>
          <a:xfrm>
            <a:off x="6156360" y="2349360"/>
            <a:ext cx="2619360" cy="3495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08360" y="549360"/>
            <a:ext cx="2376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ГОР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1844640"/>
            <a:ext cx="2592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ФА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950080"/>
            <a:ext cx="8425080" cy="647640"/>
          </a:xfrm>
          <a:custGeom>
            <a:avLst/>
            <a:gdLst>
              <a:gd name="textAreaLeft" fmla="*/ 2106360 w 8425080"/>
              <a:gd name="textAreaRight" fmla="*/ 6319080 w 842508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63880" y="60930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&amp;Icy;&amp;scy;&amp;tcy;&amp;ocy;&amp;dcy;&amp;ocy;&amp;vcy;&amp;ycy;&amp;iecy;"/>
          <p:cNvPicPr/>
          <p:nvPr/>
        </p:nvPicPr>
        <p:blipFill>
          <a:blip r:embed="rId1"/>
          <a:stretch/>
        </p:blipFill>
        <p:spPr>
          <a:xfrm>
            <a:off x="5364000" y="1197000"/>
            <a:ext cx="3313440" cy="310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64000" y="692280"/>
            <a:ext cx="3457800" cy="35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ИСТОД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Phaseolus vulgaris"/>
          <p:cNvPicPr/>
          <p:nvPr/>
        </p:nvPicPr>
        <p:blipFill>
          <a:blip r:embed="rId2"/>
          <a:stretch/>
        </p:blipFill>
        <p:spPr>
          <a:xfrm>
            <a:off x="611280" y="981000"/>
            <a:ext cx="2811240" cy="336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9640" y="620640"/>
            <a:ext cx="295128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БО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229360"/>
            <a:ext cx="6409080" cy="1224000"/>
          </a:xfrm>
          <a:custGeom>
            <a:avLst/>
            <a:gdLst>
              <a:gd name="textAreaLeft" fmla="*/ 0 w 6409080"/>
              <a:gd name="textAreaRight" fmla="*/ 6409440 w 640908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3360"/>
            <a:ext cx="4608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СИНИЦИ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&amp;Lcy;&amp;acy;&amp;scy;&amp;tcy;&amp;ocy;&amp;chcy;&amp;kcy;&amp;ocy;&amp;vcy;&amp;ycy;&amp;iecy;"/>
          <p:cNvPicPr/>
          <p:nvPr/>
        </p:nvPicPr>
        <p:blipFill>
          <a:blip r:embed="rId2"/>
          <a:stretch/>
        </p:blipFill>
        <p:spPr>
          <a:xfrm>
            <a:off x="6156360" y="1052640"/>
            <a:ext cx="2619360" cy="39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189000"/>
            <a:ext cx="399564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ЕМЕЙСТВО ЛАСТО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5516640"/>
            <a:ext cx="7417080" cy="1081080"/>
          </a:xfrm>
          <a:custGeom>
            <a:avLst/>
            <a:gdLst>
              <a:gd name="textAreaLeft" fmla="*/ 0 w 7417080"/>
              <a:gd name="textAreaRight" fmla="*/ 7417440 w 741708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РЯД ВОРОБЬ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4:10:09Z</dcterms:created>
  <dc:creator>User</dc:creator>
  <dc:description/>
  <dc:language>en-US</dc:language>
  <cp:lastModifiedBy>User</cp:lastModifiedBy>
  <dcterms:modified xsi:type="dcterms:W3CDTF">2012-10-13T06:01:56Z</dcterms:modified>
  <cp:revision>4</cp:revision>
  <dc:subject/>
  <dc:title>Слайд 1</dc:title>
</cp:coreProperties>
</file>