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BA0-9769-4622-81B5-CCC9AAB7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679-0C7A-4B1D-A47D-3B43E910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A7F-D115-4150-A3B4-8DEC7265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6F0-D8DF-4243-A79F-8AD28D94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4BF4-AC1D-4EE6-AF04-453DE2AF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67BBF-43C8-4B09-B441-D92B45E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A028A-F0D1-4038-9B90-8626D75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23D80-6948-4895-A374-91802993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CEE49-4BC6-4026-AB9A-F94D594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8DFB2-9F6D-4142-929E-C76EB37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96735-F6F1-4CDB-961B-850D11F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E06-F13F-4FDC-AE23-C062850B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8F48-9C3D-4E2F-8D8B-F1585CC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A338E-583B-4E4B-B816-CD31BE4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9BA4-60B1-431E-8468-5F80A61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B9877-72A9-4120-A854-6C0DDAE7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1ADE-DD14-49E7-A69B-96B05D25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1D3-7578-44DF-BD66-9AE16AF5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CF6-3C2A-4F1E-9CAB-6E8286F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FC9-48B1-4FF2-8FB7-5C2E92D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EEA-4ECB-4AD7-ABC5-1F412B4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B80-48A2-4797-9D1E-E0F555C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DD2-A3CB-44C4-86A6-9BC6A3A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CB9-18CE-4CDC-AD2F-B481ECF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98EB-769F-4083-8D46-1D3F9FBB68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7C3-6698-44DD-AC76-14B5174930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7"/>
          <p:cNvSpPr/>
          <p:nvPr/>
        </p:nvSpPr>
        <p:spPr>
          <a:xfrm>
            <a:off x="35812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3581280" y="2438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3276720" y="2819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35812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3886200" y="2819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42670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276720" y="3200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35812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3886200" y="32004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42670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3276720" y="3581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581280" y="3581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86200" y="3581280"/>
            <a:ext cx="380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7"/>
          <p:cNvSpPr/>
          <p:nvPr/>
        </p:nvSpPr>
        <p:spPr>
          <a:xfrm>
            <a:off x="4273560" y="3581280"/>
            <a:ext cx="29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3581280" y="3962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3887640" y="3962520"/>
            <a:ext cx="37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4296600" y="3962520"/>
            <a:ext cx="26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1"/>
          <p:cNvSpPr/>
          <p:nvPr/>
        </p:nvSpPr>
        <p:spPr>
          <a:xfrm>
            <a:off x="4572000" y="3962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2673360" y="4343400"/>
            <a:ext cx="29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2971800" y="4343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4"/>
          <p:cNvSpPr/>
          <p:nvPr/>
        </p:nvSpPr>
        <p:spPr>
          <a:xfrm>
            <a:off x="3276720" y="4343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589560" y="43434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6"/>
          <p:cNvSpPr/>
          <p:nvPr/>
        </p:nvSpPr>
        <p:spPr>
          <a:xfrm>
            <a:off x="3276720" y="4724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7"/>
          <p:cNvSpPr/>
          <p:nvPr/>
        </p:nvSpPr>
        <p:spPr>
          <a:xfrm>
            <a:off x="3581280" y="4724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8"/>
          <p:cNvSpPr/>
          <p:nvPr/>
        </p:nvSpPr>
        <p:spPr>
          <a:xfrm>
            <a:off x="3907440" y="4724280"/>
            <a:ext cx="28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9"/>
          <p:cNvSpPr/>
          <p:nvPr/>
        </p:nvSpPr>
        <p:spPr>
          <a:xfrm>
            <a:off x="3276720" y="5105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0"/>
          <p:cNvSpPr/>
          <p:nvPr/>
        </p:nvSpPr>
        <p:spPr>
          <a:xfrm>
            <a:off x="3581280" y="5105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1"/>
          <p:cNvSpPr/>
          <p:nvPr/>
        </p:nvSpPr>
        <p:spPr>
          <a:xfrm>
            <a:off x="388620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2"/>
          <p:cNvSpPr/>
          <p:nvPr/>
        </p:nvSpPr>
        <p:spPr>
          <a:xfrm>
            <a:off x="426708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580280" y="51055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4"/>
          <p:cNvSpPr/>
          <p:nvPr/>
        </p:nvSpPr>
        <p:spPr>
          <a:xfrm>
            <a:off x="487692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25780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авайте разгадаем кроссворд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Творческое задание №2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Спасибо Лев Николаевич Толстой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6" name="Rectangle 2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МОЛОДЦЫ!!!</a:t>
            </a:r>
            <a:endParaRPr b="0" lang="en-US" sz="66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собака"/>
          <p:cNvPicPr/>
          <p:nvPr/>
        </p:nvPicPr>
        <p:blipFill>
          <a:blip r:embed="rId1"/>
          <a:stretch/>
        </p:blipFill>
        <p:spPr>
          <a:xfrm>
            <a:off x="1981080" y="1828800"/>
            <a:ext cx="4648320" cy="3998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Times New Roman"/>
              </a:rPr>
              <a:t>Стихотворен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Жила – была соб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кличке Чебурашка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чавенькая спинка,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бавная мордашка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зяйка к ней нас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яза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рынке покуп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иную печё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о и то ж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мила собачо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та жила в дово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Бедная собачка – бросили е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дная собачка – где её жильё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лой хозяин, вредный, выгнал за п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д нею, бедной, нет уже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лев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Льва Николаевича Толстого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12"/>
          <p:cNvPicPr/>
          <p:nvPr/>
        </p:nvPicPr>
        <p:blipFill>
          <a:blip r:embed="rId1"/>
          <a:stretch/>
        </p:blipFill>
        <p:spPr>
          <a:xfrm>
            <a:off x="2362320" y="3200400"/>
            <a:ext cx="4114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400" y="53352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стой Лев Николаевич (28 августа 1828 года, усадьба Ясная Поляна Тульской губернии - 7 ноября 1910 года, станция Астапово (ныне станция Лев Толстой) Рязано-Уральской ж. д.) - граф, русский писатель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аристократической графской семье. Получил домашнее образование и воспитание. В 1844 году поступает в Казанский университет на факультет восточных языков, затем учится на юридическом факультете. В 1847, не окончив курс, уходит из университета и приезжает в Ясную Поляну, полученную им в собственность по разделу отцовского наследст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ь «Лев и собачка» написана Толстым в 1880году на основе французского моралистического рассказа. В подлиннике и лев и собачка наделены человеческими чувствами. У Толстого же лев и собачка изображены с присущими этим животным чертами и повадками. В противоположность французскому рассказу с моралистической концовкой о значении дружбы Толстой не делает никаких выводов. Тема дружбы понятна и без разъяснен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7"/>
          <p:cNvPicPr/>
          <p:nvPr/>
        </p:nvPicPr>
        <p:blipFill>
          <a:blip r:embed="rId1"/>
          <a:stretch/>
        </p:blipFill>
        <p:spPr>
          <a:xfrm>
            <a:off x="304920" y="22860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Рабочий стол\1259332784_levisobachka_1981_page_01.jpg"/>
          <p:cNvPicPr/>
          <p:nvPr/>
        </p:nvPicPr>
        <p:blipFill>
          <a:blip r:embed="rId2"/>
          <a:stretch/>
        </p:blipFill>
        <p:spPr>
          <a:xfrm>
            <a:off x="304920" y="3505320"/>
            <a:ext cx="289548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ругие произведения Л.Н.Толстого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1" name="Picture 5" descr="1"/>
          <p:cNvPicPr/>
          <p:nvPr/>
        </p:nvPicPr>
        <p:blipFill>
          <a:blip r:embed="rId1"/>
          <a:stretch/>
        </p:blipFill>
        <p:spPr>
          <a:xfrm rot="21006600">
            <a:off x="229680" y="1536840"/>
            <a:ext cx="1428840" cy="21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2"/>
          <p:cNvPicPr/>
          <p:nvPr/>
        </p:nvPicPr>
        <p:blipFill>
          <a:blip r:embed="rId2"/>
          <a:stretch/>
        </p:blipFill>
        <p:spPr>
          <a:xfrm>
            <a:off x="7391520" y="4267080"/>
            <a:ext cx="140472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3"/>
          <p:cNvPicPr/>
          <p:nvPr/>
        </p:nvPicPr>
        <p:blipFill>
          <a:blip r:embed="rId3"/>
          <a:stretch/>
        </p:blipFill>
        <p:spPr>
          <a:xfrm rot="204600">
            <a:off x="7534080" y="1494000"/>
            <a:ext cx="1492200" cy="246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4"/>
          <p:cNvPicPr/>
          <p:nvPr/>
        </p:nvPicPr>
        <p:blipFill>
          <a:blip r:embed="rId4"/>
          <a:stretch/>
        </p:blipFill>
        <p:spPr>
          <a:xfrm>
            <a:off x="387360" y="3962520"/>
            <a:ext cx="1344600" cy="247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5"/>
          <p:cNvPicPr/>
          <p:nvPr/>
        </p:nvPicPr>
        <p:blipFill>
          <a:blip r:embed="rId5"/>
          <a:stretch/>
        </p:blipFill>
        <p:spPr>
          <a:xfrm>
            <a:off x="5410080" y="3429000"/>
            <a:ext cx="149076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6"/>
          <p:cNvPicPr/>
          <p:nvPr/>
        </p:nvPicPr>
        <p:blipFill>
          <a:blip r:embed="rId6"/>
          <a:stretch/>
        </p:blipFill>
        <p:spPr>
          <a:xfrm>
            <a:off x="2286000" y="3429000"/>
            <a:ext cx="1598760" cy="263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13"/>
          <p:cNvPicPr/>
          <p:nvPr/>
        </p:nvPicPr>
        <p:blipFill>
          <a:blip r:embed="rId7"/>
          <a:stretch/>
        </p:blipFill>
        <p:spPr>
          <a:xfrm>
            <a:off x="3886200" y="1676520"/>
            <a:ext cx="13860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Вопросы по произведению</a:t>
            </a:r>
            <a:br>
              <a:rPr sz="4000"/>
            </a:b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“</a:t>
            </a: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 ,почему лев не тронул собач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знакомство льва и собаки переросло у них в чувства дружбы и привязанности друг к дру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проявилась забота льва по отношению к соба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гда они так счастливо жили, что же произош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вел себя лев после смерти соба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лев воспринял смерть собачки? Зачитай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ми словами писатель передал недоумение льва, а потом нарастание его гор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выразились любовь и преданность льва после смерти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смерть друга повлияла на ль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ворческое задание №1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руппа. Рассмотреть иллюстрацию. К какому моменту она относится? Рассказать, озаглави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Найдите в рассказе завязку, кульминацию, развяз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руппа. Викторина. Как называются эти рассказы Л.Толстого?   Что из них мы узнал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и 5 группы. Сочинить четверостишье про животных по рассказ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1" descr="11"/>
          <p:cNvPicPr/>
          <p:nvPr/>
        </p:nvPicPr>
        <p:blipFill>
          <a:blip r:embed="rId1"/>
          <a:stretch/>
        </p:blipFill>
        <p:spPr>
          <a:xfrm>
            <a:off x="7678800" y="4718160"/>
            <a:ext cx="14652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3T15:29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