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CE2-469F-4353-BA0D-21782D6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171-02BA-4CF3-BA1E-CA3EF7D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6EE-21EC-486B-98E1-14DF104E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81C-6B50-4B88-8B02-85A88DB0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8E7B-7685-4D6F-9FAE-A4FB92A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6F43B-F9F5-426A-B514-238220A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F3FC-AFE5-4785-BFD1-2A4415E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E2DB-3A27-48E6-AFD0-920719F5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B21F-5464-44AD-B542-9CBAF7C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4629-FD32-47D8-B11B-312F4E8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B817-0B8D-428F-A31A-5F692DB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EDC-D3C3-4D67-B26F-DF4EC1A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7CFDB-BEF1-4384-B291-842906D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54FF-3CC2-4A38-98E5-1926604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CDB1-F31C-4F20-8295-A5B310FF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ADFC4-207C-4C3B-9C7D-E656EDE8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BC86-04BA-4914-9A60-045668D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15D-4258-4CD9-93D7-7041332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21-1C98-4625-B366-9F3805D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67A-15B3-4FFD-8C7C-190B30B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331-EC3F-4981-8112-DCB7AF8A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39D-4421-4853-B577-423F10C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BF3-073B-4EED-BB9D-9BAFFDA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177-2186-44F4-89BC-01AA9FB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A2F-DC4A-4D26-A90A-B4B91FF60B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3F7B-4DB5-416A-A1C2-61884DB190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7"/>
          <p:cNvSpPr/>
          <p:nvPr/>
        </p:nvSpPr>
        <p:spPr>
          <a:xfrm>
            <a:off x="35812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3581280" y="2438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3276720" y="2819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35812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3886200" y="2819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42670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276720" y="3200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3581280" y="3200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3886200" y="32004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4267080" y="2819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3276720" y="3581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581280" y="3581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86200" y="3581280"/>
            <a:ext cx="380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7"/>
          <p:cNvSpPr/>
          <p:nvPr/>
        </p:nvSpPr>
        <p:spPr>
          <a:xfrm>
            <a:off x="4273560" y="3581280"/>
            <a:ext cx="29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3581280" y="3962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3887640" y="3962520"/>
            <a:ext cx="37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4296600" y="3962520"/>
            <a:ext cx="26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1"/>
          <p:cNvSpPr/>
          <p:nvPr/>
        </p:nvSpPr>
        <p:spPr>
          <a:xfrm>
            <a:off x="4572000" y="3962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2673360" y="4343400"/>
            <a:ext cx="29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2971800" y="434340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4"/>
          <p:cNvSpPr/>
          <p:nvPr/>
        </p:nvSpPr>
        <p:spPr>
          <a:xfrm>
            <a:off x="3276720" y="434340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589560" y="43434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6"/>
          <p:cNvSpPr/>
          <p:nvPr/>
        </p:nvSpPr>
        <p:spPr>
          <a:xfrm>
            <a:off x="3276720" y="472428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7"/>
          <p:cNvSpPr/>
          <p:nvPr/>
        </p:nvSpPr>
        <p:spPr>
          <a:xfrm>
            <a:off x="3581280" y="472428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8"/>
          <p:cNvSpPr/>
          <p:nvPr/>
        </p:nvSpPr>
        <p:spPr>
          <a:xfrm>
            <a:off x="3907440" y="4724280"/>
            <a:ext cx="28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9"/>
          <p:cNvSpPr/>
          <p:nvPr/>
        </p:nvSpPr>
        <p:spPr>
          <a:xfrm>
            <a:off x="3276720" y="5105520"/>
            <a:ext cx="304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0"/>
          <p:cNvSpPr/>
          <p:nvPr/>
        </p:nvSpPr>
        <p:spPr>
          <a:xfrm>
            <a:off x="3581280" y="5105520"/>
            <a:ext cx="30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1"/>
          <p:cNvSpPr/>
          <p:nvPr/>
        </p:nvSpPr>
        <p:spPr>
          <a:xfrm>
            <a:off x="388620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2"/>
          <p:cNvSpPr/>
          <p:nvPr/>
        </p:nvSpPr>
        <p:spPr>
          <a:xfrm>
            <a:off x="426708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580280" y="51055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4"/>
          <p:cNvSpPr/>
          <p:nvPr/>
        </p:nvSpPr>
        <p:spPr>
          <a:xfrm>
            <a:off x="4876920" y="51055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257800" y="5105520"/>
            <a:ext cx="3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авайте разгадаем кроссворд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1,-49,87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Творческое задание №2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</a:rPr>
              <a:t>Спасибо Лев Николаевич Толстой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6" name="Rectangle 2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МОЛОДЦЫ!!!</a:t>
            </a:r>
            <a:endParaRPr b="0" lang="en-US" sz="66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собака"/>
          <p:cNvPicPr/>
          <p:nvPr/>
        </p:nvPicPr>
        <p:blipFill>
          <a:blip r:embed="rId1"/>
          <a:stretch/>
        </p:blipFill>
        <p:spPr>
          <a:xfrm>
            <a:off x="1981080" y="1828800"/>
            <a:ext cx="4648320" cy="3998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Times New Roman"/>
              </a:rPr>
              <a:t>Стихотворения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Жила – была соб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кличке Чебурашка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чавенькая спинка,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бавная мордашка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зяйка к ней нас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яза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рынке покуп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иную печё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о и то ж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мила собачо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та жила в дово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Бедная собачка – бросили е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дная собачка – где её жильё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лой хозяин, вредный, выгнал за п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д нею, бедной, нет уже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лев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Льва Николаевича Толстого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12"/>
          <p:cNvPicPr/>
          <p:nvPr/>
        </p:nvPicPr>
        <p:blipFill>
          <a:blip r:embed="rId1"/>
          <a:stretch/>
        </p:blipFill>
        <p:spPr>
          <a:xfrm>
            <a:off x="2362320" y="3200400"/>
            <a:ext cx="41148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400" y="53352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стой Лев Николаевич (28 августа 1828 года, усадьба Ясная Поляна Тульской губернии - 7 ноября 1910 года, станция Астапово (ныне станция Лев Толстой) Рязано-Уральской ж. д.) - граф, русский писатель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аристократической графской семье. Получил домашнее образование и воспитание. В 1844 году поступает в Казанский университет на факультет восточных языков, затем учится на юридическом факультете. В 1847, не окончив курс, уходит из университета и приезжает в Ясную Поляну, полученную им в собственность по разделу отцовского наследст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ь «Лев и собачка» написана Толстым в 1880году на основе французского моралистического рассказа. В подлиннике и лев и собачка наделены человеческими чувствами. У Толстого же лев и собачка изображены с присущими этим животным чертами и повадками. В противоположность французскому рассказу с моралистической концовкой о значении дружбы Толстой не делает никаких выводов. Тема дружбы понятна и без разъяснен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7"/>
          <p:cNvPicPr/>
          <p:nvPr/>
        </p:nvPicPr>
        <p:blipFill>
          <a:blip r:embed="rId1"/>
          <a:stretch/>
        </p:blipFill>
        <p:spPr>
          <a:xfrm>
            <a:off x="304920" y="22860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Рабочий стол\1259332784_levisobachka_1981_page_01.jpg"/>
          <p:cNvPicPr/>
          <p:nvPr/>
        </p:nvPicPr>
        <p:blipFill>
          <a:blip r:embed="rId2"/>
          <a:stretch/>
        </p:blipFill>
        <p:spPr>
          <a:xfrm>
            <a:off x="304920" y="3505320"/>
            <a:ext cx="289548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Другие произведения Л.Н.Толстого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1" name="Picture 5" descr="1"/>
          <p:cNvPicPr/>
          <p:nvPr/>
        </p:nvPicPr>
        <p:blipFill>
          <a:blip r:embed="rId1"/>
          <a:stretch/>
        </p:blipFill>
        <p:spPr>
          <a:xfrm rot="21006600">
            <a:off x="229680" y="1536840"/>
            <a:ext cx="1428840" cy="21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2"/>
          <p:cNvPicPr/>
          <p:nvPr/>
        </p:nvPicPr>
        <p:blipFill>
          <a:blip r:embed="rId2"/>
          <a:stretch/>
        </p:blipFill>
        <p:spPr>
          <a:xfrm>
            <a:off x="7391520" y="4267080"/>
            <a:ext cx="140472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3"/>
          <p:cNvPicPr/>
          <p:nvPr/>
        </p:nvPicPr>
        <p:blipFill>
          <a:blip r:embed="rId3"/>
          <a:stretch/>
        </p:blipFill>
        <p:spPr>
          <a:xfrm rot="204600">
            <a:off x="7534080" y="1494000"/>
            <a:ext cx="1492200" cy="246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4"/>
          <p:cNvPicPr/>
          <p:nvPr/>
        </p:nvPicPr>
        <p:blipFill>
          <a:blip r:embed="rId4"/>
          <a:stretch/>
        </p:blipFill>
        <p:spPr>
          <a:xfrm>
            <a:off x="387360" y="3962520"/>
            <a:ext cx="1344600" cy="247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5"/>
          <p:cNvPicPr/>
          <p:nvPr/>
        </p:nvPicPr>
        <p:blipFill>
          <a:blip r:embed="rId5"/>
          <a:stretch/>
        </p:blipFill>
        <p:spPr>
          <a:xfrm>
            <a:off x="5410080" y="3429000"/>
            <a:ext cx="149076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6"/>
          <p:cNvPicPr/>
          <p:nvPr/>
        </p:nvPicPr>
        <p:blipFill>
          <a:blip r:embed="rId6"/>
          <a:stretch/>
        </p:blipFill>
        <p:spPr>
          <a:xfrm>
            <a:off x="2286000" y="3429000"/>
            <a:ext cx="1598760" cy="263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13"/>
          <p:cNvPicPr/>
          <p:nvPr/>
        </p:nvPicPr>
        <p:blipFill>
          <a:blip r:embed="rId7"/>
          <a:stretch/>
        </p:blipFill>
        <p:spPr>
          <a:xfrm>
            <a:off x="3886200" y="1676520"/>
            <a:ext cx="13860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Вопросы по произведению</a:t>
            </a:r>
            <a:br>
              <a:rPr sz="4000"/>
            </a:b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“</a:t>
            </a: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Лев и собачка</a:t>
            </a: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 ,почему лев не тронул собач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знакомство льва и собаки переросло у них в чувства дружбы и привязанности друг к дру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проявилась забота льва по отношению к соба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гда они так счастливо жили, что же произош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вел себя лев после смерти соба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лев воспринял смерть собачки? Зачитай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ми словами писатель передал недоумение льва, а потом нарастание его гор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 чем выразились любовь и преданность льва после смерти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смерть друга повлияла на ль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Творческое задание №1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руппа. Рассмотреть иллюстрацию. К какому моменту она относится? Рассказать, озаглави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Найдите в рассказе завязку, кульминацию, развяз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руппа. Викторина. Как называются эти рассказы Л.Толстого?   Что из них мы узнал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и 5 группы. Сочинить четверостишье про животных по рассказ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1" descr="11"/>
          <p:cNvPicPr/>
          <p:nvPr/>
        </p:nvPicPr>
        <p:blipFill>
          <a:blip r:embed="rId1"/>
          <a:stretch/>
        </p:blipFill>
        <p:spPr>
          <a:xfrm>
            <a:off x="7678800" y="4718160"/>
            <a:ext cx="14652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3T15:29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