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2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66F9-1404-444A-B1AD-B2FE504667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9B72-4E3D-48E4-9461-E0A9C5EF8F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180C-C9B9-49D9-9B5B-C5BE4ADCE5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19AA-8AA0-48A4-AEE6-212A033B3F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6630-51EE-4447-8CD3-3258932D20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E71C-FD26-45B3-AEDE-D6EB32AD24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A40F-C92E-42BC-9B8B-F0AA2A03B0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A5EE-F1B3-43BE-9844-5AF78C290D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F975-14B1-46F7-8995-A104E88C5E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0373-366B-4227-B451-91439E1ECF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B790-8A35-4D85-B48B-4E4846C981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DFE7-F8BB-4058-B1DE-ACA261C95D8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AEC2-B448-4CBC-9D3B-51BDF4E59C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0BA5-442B-41C1-8C4B-E6A55AFD1F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6250-D10B-4888-86F8-EB4FDAA08E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4F2F-E73B-4EAE-A6A0-1361FE6F52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206B-D4A2-4C04-AF6B-8D8EDEDD3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B3D5-EAF1-4EBE-B689-F0FA67F3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8F1C-2800-4190-8FAE-636747685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1D7D-9016-4877-8364-0195E2AF2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1AB0A-C85F-47F2-9198-5D5AEBAF4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AFC5-5F19-44C9-86F6-7A07F469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8A2D-E8FF-4961-83E7-C3A08EA0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C018E-B20A-4B3C-87AD-771C47EE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956F-2571-4E73-A2A5-EA02646B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DC60-935D-4B8D-B8E8-87183404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92F2-ACDF-4936-BE2C-79FB62B7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9260-7AEE-4B88-81A5-5D3D158F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AA1E-8DB2-432F-AE7A-F9DA27CF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FAC5-C7A3-444E-AB31-3890C95B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F0FDC-BD67-4C9E-96BB-D8CEEE82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282E-AAF1-4526-8EEF-2C20F6D18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F361-F2F1-4FB0-B9C6-486530184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D1DA8-4B2D-4796-8F26-683A0EE29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178AD-3141-42B0-AE60-31D32907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68DC5-EF9B-4BA0-8AFC-4CFFCF79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3265B-24A9-405F-8525-47DCF597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25D2F-2D0B-412A-9463-7518A7D5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66A1-C553-42D4-9C53-E52C1B5B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06602-8ECA-449D-A6E0-EF721F3B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703C2-5F6F-4FE5-8700-CF2FC028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EF308-F254-409D-91D2-C93FF9B9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ED201-E0F6-489B-A2F5-CB5440FF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FBE84-4F5D-452B-8A7B-F50EB335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25591-CBE6-439A-8C94-13FD42DA3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79C9C-5B4F-475D-B1C2-6DCFD174B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1733D-DDE4-48B1-983A-0E7E1F04A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A0009-AD0C-4CF8-B82B-74963628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E9AFF-6DAA-45CB-8254-9E82A182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F16C-A86E-46B3-ABED-17B58A3B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C35B2-59A5-4154-932A-62EC9CED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41E74-52F6-4531-A4B4-8887C9801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FAA40-0DCA-4FCD-8BAE-15E6DEFB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CB2A9-BD5A-4B15-94C9-5F2FEE56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8C891-76FD-43A6-A4E6-97AC764B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95361-B35E-4ED3-81DE-F401CB10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E6CAC-0C5C-48E6-A106-77AAF0CB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AD75C-08DE-49D3-BE88-CC6F06ECD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D5033-4027-48BC-A656-2959F8F5F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DFF3A-1C03-4152-8AEE-0C166B11C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6206-3BA7-408E-A55E-04A7E348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F92B1-FBC5-46D4-B33D-7E6AA689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AE3E7-5B28-4997-B370-80F1A3A5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9842A-519A-4810-9654-3B1418D4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60A1C-6A23-4834-83F7-55D6D6B9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A8407-3C9D-4EE7-9CD7-56A35828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C1545-9EE7-45D8-A24D-D01F2910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AB87F-A8C6-4E16-B7AB-DD4B7BD3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94866-B2AD-48F9-B667-5B9B9715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65306-EBFA-430B-A7A5-88F5CCD7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F2183-5A26-4C1F-BFC2-098BFA589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39BB-F2B6-4D64-ADAD-CB42E309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DCF7F-74A0-488D-BAC0-BA5FEA59C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154B-DFA4-4CE0-A0FD-F2D65CF9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E3FF-B41A-400E-BAE3-15361C59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7E5E-4D55-4E94-9D4C-2E1A5DB4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ED57-A534-4889-94CB-61D8AA58EA8B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4F1A-3791-4624-A542-75A8ABBF5AD4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703A-6227-46D1-9E24-8C3366B0FC33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357F-F0FB-483A-89B8-F3B088A7310A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7AA3-4840-4CFA-8083-879AB26E391E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e84"/>
            </a:gs>
            <a:gs pos="100000">
              <a:srgbClr val="ffe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Губки.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9766f"/>
                </a:solidFill>
                <a:latin typeface="Verdana"/>
              </a:rPr>
              <a:t>Тупиковая</a:t>
            </a:r>
            <a:r>
              <a:rPr b="1" lang="en-US" sz="2400" spc="-1" strike="noStrike">
                <a:solidFill>
                  <a:srgbClr val="79766f"/>
                </a:solidFill>
                <a:latin typeface="Verdana"/>
              </a:rPr>
              <a:t> ветвь эволюц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Подзаголовок 2"/>
          <p:cNvSpPr/>
          <p:nvPr/>
        </p:nvSpPr>
        <p:spPr>
          <a:xfrm>
            <a:off x="357120" y="5786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9766f"/>
                </a:solidFill>
                <a:latin typeface="Verdana"/>
              </a:rPr>
              <a:t>Учитель высшей категории МОУ СОШ №11 г. Калинингра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9766f"/>
                </a:solidFill>
                <a:latin typeface="Verdana"/>
              </a:rPr>
              <a:t>Дельмухаметова Л.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357120" y="1571760"/>
            <a:ext cx="3219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03280" y="529920"/>
            <a:ext cx="8183520" cy="4398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Это интересн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келе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Обычен скелет , состоящий из роговых волокон, известковых или кремневых иг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тдельные иглы могут соединяться между собой, а могут оставаться свободны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«Греческая губка», используемая в гигиенических целях, на самом деле,  является скелетом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остоящим из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эластичного бел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У большинства губ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порная систем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жесткая и колюча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4121280" y="2981160"/>
            <a:ext cx="4674960" cy="3059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2408400" y="4767120"/>
            <a:ext cx="212076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Жизнедеятельнос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итание и пищевар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убки - фильтраторы. Вода поступает сквозь отверстия в стенках, процеживается и выбрасывается фонтаном сверх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3650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268200" y="3340080"/>
            <a:ext cx="864396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Это интересно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Клетки - поры похожи   на бублик с дыркой - каналом посередине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павшие в губку пищевые частицы захватываются псевдоподиями клеток и перевариваются в их цитоплазме (внутриклеточное пищеварение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Это интересно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Небольшая губка домункула пропускает через себя 200 литров воды в час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3650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Дыхание 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клетки попадает растворенный в воде кислород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азмножение и развити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Гермафродиты и раздельнополые. Половое и бесполое размножение - почкованием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ловые клетки образуются из амебоцитов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Губка-это организм вывернутый наизнанку! У двухслойного зародыша (бластулы) происходит перераспределение   клеток. Эктодермальные клетки оказываются во внутреннем слое, а  энтодермальные-снаруж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асселение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 Из зиготы развиваетс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крытая ресничками личинк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8" name="Picture 8" descr="Картинка 14 из 1921"/>
          <p:cNvPicPr/>
          <p:nvPr/>
        </p:nvPicPr>
        <p:blipFill>
          <a:blip r:embed="rId1"/>
          <a:stretch/>
        </p:blipFill>
        <p:spPr>
          <a:xfrm>
            <a:off x="6143760" y="3571920"/>
            <a:ext cx="264312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Регенерац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Если протереть губку через мелкоячеистое сито, то масса отдельных клеток слипнется и через несколько дней превратиться в маленькую губку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формулируйте определение регенераци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Значение в природе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Врагов в природе у губок нет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ильтратор воды. «Многоквартирный Дом» для многих морских организмов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3650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5592600" y="4357800"/>
            <a:ext cx="314676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Задача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Губки живут только в чистой воде? Почему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дноклеточность- эволюционный тупик, т.к. совершенствование организмов в рамках одной клетки имеет пределы, как и размеры самой клет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ведите несколько фактов, ограничивающих увеличение размеров клет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сказка. С увеличением размеров тела, его объем возрастает в кубе, а площадь поверхности в квадрат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никновение многоклеточности -важный этап развития животного мир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357120" y="2357280"/>
            <a:ext cx="499104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Многоклеточ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571680" y="3429000"/>
          <a:ext cx="8143560" cy="2133720"/>
        </p:xfrm>
        <a:graphic>
          <a:graphicData uri="http://schemas.openxmlformats.org/drawingml/2006/table">
            <a:tbl>
              <a:tblPr/>
              <a:tblGrid>
                <a:gridCol w="4071600"/>
                <a:gridCol w="407196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митив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стоящие многоклеточ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нервной системы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сть нервная систем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Штриховая стрелка вправо 4"/>
          <p:cNvSpPr/>
          <p:nvPr/>
        </p:nvSpPr>
        <p:spPr>
          <a:xfrm rot="8124600">
            <a:off x="2539440" y="2557440"/>
            <a:ext cx="1616040" cy="571680"/>
          </a:xfrm>
          <a:prstGeom prst="pie">
            <a:avLst/>
          </a:prstGeom>
          <a:solidFill>
            <a:srgbClr val="f9b268"/>
          </a:solidFill>
          <a:ln w="42480">
            <a:solidFill>
              <a:srgbClr val="783f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Штриховая стрелка вправо 5"/>
          <p:cNvSpPr/>
          <p:nvPr/>
        </p:nvSpPr>
        <p:spPr>
          <a:xfrm rot="2523000">
            <a:off x="4770000" y="2539800"/>
            <a:ext cx="1616040" cy="571320"/>
          </a:xfrm>
          <a:prstGeom prst="pie">
            <a:avLst/>
          </a:prstGeom>
          <a:solidFill>
            <a:srgbClr val="f9b268"/>
          </a:solidFill>
          <a:ln w="42480">
            <a:solidFill>
              <a:srgbClr val="783f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К какой группе многоклеточных относятся губк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очему ты так думаешь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407880" y="3687840"/>
            <a:ext cx="83646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ете ли вы, что губки были признаны животными только в 1825 год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 этого их относили к зоофитам- животнорастения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собенности организаци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: одиночные, часто живут колония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407880" y="3767040"/>
            <a:ext cx="83217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реда обитани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: обитают в моря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ключение- пресноводная губка бодяга (водяга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мметрия тела : тело ассиметрично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Picture 5" descr="Spongillidae"/>
          <p:cNvPicPr/>
          <p:nvPr/>
        </p:nvPicPr>
        <p:blipFill>
          <a:blip r:embed="rId1"/>
          <a:stretch/>
        </p:blipFill>
        <p:spPr>
          <a:xfrm>
            <a:off x="428760" y="3071880"/>
            <a:ext cx="4190760" cy="31431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Картинка 20 из 1921"/>
          <p:cNvPicPr/>
          <p:nvPr/>
        </p:nvPicPr>
        <p:blipFill>
          <a:blip r:embed="rId2"/>
          <a:stretch/>
        </p:blipFill>
        <p:spPr>
          <a:xfrm>
            <a:off x="3143160" y="4357800"/>
            <a:ext cx="3095640" cy="2066760"/>
          </a:xfrm>
          <a:prstGeom prst="rect">
            <a:avLst/>
          </a:prstGeom>
          <a:ln w="25560">
            <a:solidFill>
              <a:srgbClr val="b26b02"/>
            </a:solidFill>
            <a:miter/>
          </a:ln>
        </p:spPr>
      </p:pic>
      <p:pic>
        <p:nvPicPr>
          <p:cNvPr id="250" name="Picture 4" descr="Картинка 18 из 1953"/>
          <p:cNvPicPr/>
          <p:nvPr/>
        </p:nvPicPr>
        <p:blipFill>
          <a:blip r:embed="rId3"/>
          <a:stretch/>
        </p:blipFill>
        <p:spPr>
          <a:xfrm>
            <a:off x="6296040" y="2786040"/>
            <a:ext cx="2847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Размеры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большие и маленьки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 Тихом океане обитает губка «Кубок Нептуна», имеющая вид громадного кубка 1,5 м высотой и 0, 75 м в поперечник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ынутая из воды губка напоминает кусок сырой печени  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неважно пахне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5143680" y="3786120"/>
            <a:ext cx="36194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03280" y="530280"/>
            <a:ext cx="4068720" cy="5827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собенности строени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Губка напоминает пористую ваз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ело образовано 2 слоями клеток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аружный- ЭКТОДЕРМ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нутренний- МЕЗОДЕРМ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каней не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ежду ними находится студенистое вещество- мезогле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мезоглее есть особые клетки-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амебоциты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ни выделяют  вещество мезоглеи , из них образуются половые клетки и клетки  образующие скелет животного. Иглы растут в этих клетках, как снежинки на мороз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4586400" y="285840"/>
            <a:ext cx="44146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18:46:27Z</dcterms:created>
  <dc:creator>Archie</dc:creator>
  <dc:description/>
  <dc:language>en-US</dc:language>
  <cp:lastModifiedBy>КарМаН</cp:lastModifiedBy>
  <dcterms:modified xsi:type="dcterms:W3CDTF">2012-04-25T08:17:18Z</dcterms:modified>
  <cp:revision>26</cp:revision>
  <dc:subject/>
  <dc:title>Слайд 1</dc:title>
</cp:coreProperties>
</file>