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60C-7005-4AC1-B747-D666C9E2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9C4-C4AB-46D2-9D1D-4FD7D8E3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4F07C-9C59-49E9-95AA-99204E07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D973E-8A40-4A6A-BAB4-73FD184A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30EFD-68B1-42CA-AE98-5CBA4E27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822CB-8671-4414-9098-026E0886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3D4CA-3D50-480D-BF94-C7BE14E8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604D2-4643-4FA4-9E75-125099F4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C9441-99A1-4D3D-AE34-1271EAB3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0FFBD-B6FD-4FCA-9E4F-75928327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09939-2A83-436D-A3E5-4771EBCE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C3DE2-5533-45B1-9F95-90194B09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C13-2E0E-44CB-B32D-5BA3122B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B960A-2A2F-4B66-A519-C1458CEC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F4114-8B52-4089-B4E1-93983C29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ED95D-E531-43C3-B537-B872FEB9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F2329-19EB-4401-A1AA-252A8740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EDAF9-A858-4ADF-AD6F-4EDC3528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E11CB-E9AC-4824-9928-1C1378E5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5597B-7547-4A41-966B-8DC9C52B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D56D0-4641-4083-ADAD-40AC8A46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4BE16-E7B0-4108-9E41-412211BE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EB564-B41A-480C-B7DB-82EA16DF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5AD-7124-47DA-B64F-2BA4254B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BC8FB-E413-4DDC-BE0B-5B269944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31540-498D-4A40-879B-9C486035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2B600-11FE-4EF9-9ED4-17C48941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A2D9C-93EC-407E-A64C-2DAB8F89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CB530-D91A-455B-B74B-BD6340E9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922E4-98DA-46C1-B01E-C60B75F4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4434E-1C61-44AE-B250-B9777346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6B20B-6B4C-4F08-A7F5-465E722A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40A0C-C792-4A05-B089-54C43330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3C061-8096-4B75-8B88-527697DF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5949F-24B2-4B9E-850B-B4319B89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37CF9-160F-4D0A-9562-02DB26AE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2F9EE-060B-450F-AECB-EF5FFBC7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73E99-AA16-4FBD-90F0-7EC00904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5A45E-B918-4B86-BBA3-5DBD6830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357E7-3031-4AED-B4B9-E40F7D58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42EB6-E560-4070-9889-429CD81B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061BE-0A17-498F-B258-F5B551B5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B3881-3BD9-417B-B242-15964EF2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A8FA5-42C9-4FFE-B22A-C22F53CF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FED8F-E3E9-402E-9704-79EEFC7F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02DBB-FD03-445A-A69E-3898B14B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B0A01-2BA2-4FF7-81D1-172C2804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1DB28-627D-4C62-9DF3-568233E5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8CFAD-E411-4407-B493-D89BB9C3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D9E9C-86CD-4D46-9AF2-BE3E66B6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1F83C-B701-409A-B216-D0C18A43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BBB19-A570-4215-AA66-97DAECC0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2EE4B-8491-405F-9659-367B9DFF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F2349-8CB9-49BB-BA67-5C6EE95C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C6E26-601F-4C6E-813E-6BDE7DE8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17B48-88D9-4FD1-9041-4C06C4EE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50ADA-BF64-42C5-ABF2-E5054E3F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220F5-D925-495C-A1A5-92FDCB1A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52DBA-010A-49EE-8C55-2D248740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0B861-F488-4D87-A449-FC884206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B0069-64D8-4BD6-9377-B1C4FEB6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A266E-7708-4F78-8A67-FE518C06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3BD76-141D-46B9-BAF7-E3026C8E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82B75-E664-49D5-9B25-D82DB90E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8E436-E2BA-4004-A42A-EE1429C6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D2957-8F5D-41F2-9ABA-B4D4A228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A325F-CC45-4A38-8CC2-2920C739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F26E3-AB18-4283-937D-0096E41C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85F-5CF6-4F22-A48A-E4A64948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DCAB8-9728-49DA-AE8A-2B5F63DF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8D1C7-3137-4089-A202-C9412B15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7D672-26BB-491F-9F40-9755F060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18A51-1106-4299-BA07-7808BAF7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30ABF-B64F-4891-8747-0F08F7F7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39B1-3504-42FF-9A3B-3E28B2C9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9E4B3-6027-4F4C-A2A6-247D77F5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A4B0-8C98-468D-A07E-650F9307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0C91-618F-4A26-BC77-04D8B80D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6F5D-23F5-49C3-9A18-5BDC2F62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2D9-5C34-488D-860A-7A64F8E2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8B774-BC2D-4B77-81AB-B6958FFB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5851C-1518-4596-BE78-F7CDDD9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1290-B6A0-4003-8D8A-12D5C73B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6D10-2BD2-42EC-B908-7F035433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5F90F-319B-416A-876C-513462B7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07C82-400F-4E5A-A12E-17ED42CB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B4F6-873C-4CA4-A9B6-8BDA8422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CDD4B-4AB4-4913-A370-F67A2740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7E030-54DF-4B53-A1BC-79C7ECB9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BF1BD-FE62-4DE4-82E3-D67B4B17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4E0-0362-4D02-A2D3-EC222D05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AC4C-A6D2-42AA-BAFC-B6DC027E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98BB7-6ECF-49DA-B055-ACD36194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486B6-5E2E-49D6-9057-5101E85D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75315-69CA-4F92-9BE8-30BA69F8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6A12B-B3FE-4ED5-AE82-1925E9F0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1AA39-A9FD-423C-B785-24BE6074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A4993-FAFA-43E1-ACF5-5D5D9C80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61130-2E6F-4443-8CB3-69EEA979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8268-597C-423A-A140-8D8FE2DC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18E5D-A6B8-4F69-ABA9-81561756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02A-1056-48FB-A871-E54080E9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9F0D2-76CE-4681-87A9-F659EA25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88E51-3D6E-4C6E-9BF5-E846335B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4014F-1881-4229-B257-5C9EA0B8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E7664-BE32-4A7A-9B42-0935D871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A1C51-D53E-439D-8AE4-12C55AED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D4AEB-E89A-45F5-8506-259C87D1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89ACC-CB6F-41DB-AAFC-51BBB798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F7B51-7D9C-41F1-9940-ECD86B29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BEE84-415E-41A7-B273-8023AB9D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6C270-B7BC-4AF1-BC62-0B406C79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0DA-6538-4E70-94AB-ADCF0672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4646-74D6-4593-AD5E-6BFA9F85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4187B-A228-49B7-9DC2-4B70739E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EC997-0F1A-4FA3-8C05-CB1D5ECA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6F58D-6D02-4DDE-A89B-4C02F9BB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8A6D9-0D2A-45A2-A29F-0E1CA5A8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209DB-02FF-4C12-A356-AB59F027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241B8-6398-499B-9327-275A6E7D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9002A-2386-4948-8F83-3FEAA4C0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9F4E7-3CC1-4F93-A85A-C5D0C910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225E6-E546-44B4-B988-2FA725AD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46B-5732-4D4C-9909-A2AA3A59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89E61-DCD1-4A2C-BD45-2705DEDC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D56A2-ED20-4C34-AC49-1D9F91F6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9404C-5405-4DB9-9C4B-47C1EEB2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BB699-402F-427D-83F1-9430ACC7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47333-0F2B-436D-8071-49563566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2735B-D7E3-4867-9017-B195526D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4E6CC-44E1-4391-8C72-D28CA9A9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960B8-645B-4716-9FE6-431EB920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3557D-3863-4D95-A810-66E06940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3F956-DEDA-4D53-AC23-946DFEA1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966-BC77-4B96-8999-5435088B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3776C-ADBF-4F4E-8C04-6B07A85E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9D578-5505-4B16-A7A3-AEB1F473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AD0FB-C9D6-4179-9421-0509C469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A091B-CBFF-420D-9141-C78DF83A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52AF3-69BC-46D2-98C3-76059948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2CCDE-F3F0-4BF5-9D1E-DBE5BCC5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74A40-04DC-4283-9C2F-A10EBD84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E918B-37CB-4DED-A880-EED94666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4996E-DE24-4520-85A5-7DBA2A13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32B87-7084-4256-A73B-01E56677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87E-A439-4E03-9669-FE6B860C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6C9E2-EA6B-4A1C-9486-0E642148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BDC2A-3101-46EC-8C31-3A75FBEF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0F2B6-6719-44CD-9C50-6E4A52C8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52C5C-D9D7-4F68-BC72-C29390C2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F22B5-98A4-4D07-BD0B-EC3065CF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E1788-125C-4A5E-86A0-7DC62183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D44C5-3E80-4BE1-A645-211A2DD9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925AB-BF45-4BF5-9E7A-0B505440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728A1-8185-43A4-8635-4161CACE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76BF6-9A67-4B5A-A1FC-ABCC0AE1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E5B0-F65C-487B-9795-462C3AAAD36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E155-572A-4C7F-96AB-ECD69A90E64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5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F7E5-040B-48D6-9AFF-46E173B17A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0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1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72BE-FB95-402C-9CA0-280BC4AB738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8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8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8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5ACC-062B-44FB-B443-A2DD9E5CEF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E166-6647-43E9-A0BE-AB192B67BC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F14D-5680-4739-B54D-FD9CB6BBA68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A44A-F373-400F-B5EC-BEC0021EBC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2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2D0F-DEED-405D-B2E0-1CE68A1833B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2225-D988-46CC-A34C-32F08C35C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95C9-DFE3-4010-A02F-F9A88CB4A1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1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3B8D-64B5-4920-937A-B55BC1578EA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D942-F6BB-49AD-87EE-EF2AC77E51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DejaVu Serif"/>
              </a:rPr>
              <a:t>урок математики в 4 класс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DejaVu Serif"/>
              </a:rPr>
              <a:t>Тема</a:t>
            </a:r>
            <a:r>
              <a:rPr b="0" lang="ru-RU" sz="4800" spc="-1" strike="noStrike">
                <a:solidFill>
                  <a:srgbClr val="703dff"/>
                </a:solidFill>
                <a:latin typeface="DejaVu Serif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DejaVu Serif"/>
              </a:rPr>
              <a:t>«График движения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учитель высшей квалификационной категории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19"/>
          <p:cNvSpPr/>
          <p:nvPr/>
        </p:nvSpPr>
        <p:spPr>
          <a:xfrm>
            <a:off x="609480" y="137160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669960" y="4572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1371600" y="341280"/>
            <a:ext cx="312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00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Line 4"/>
          <p:cNvSpPr/>
          <p:nvPr/>
        </p:nvSpPr>
        <p:spPr>
          <a:xfrm>
            <a:off x="1447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Line 5"/>
          <p:cNvSpPr/>
          <p:nvPr/>
        </p:nvSpPr>
        <p:spPr>
          <a:xfrm>
            <a:off x="2209680" y="60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Line 6"/>
          <p:cNvSpPr/>
          <p:nvPr/>
        </p:nvSpPr>
        <p:spPr>
          <a:xfrm>
            <a:off x="220968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685800" y="1411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1660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685800" y="2249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Text Box 10"/>
          <p:cNvSpPr/>
          <p:nvPr/>
        </p:nvSpPr>
        <p:spPr>
          <a:xfrm>
            <a:off x="1509120" y="22464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Line 11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12"/>
          <p:cNvSpPr/>
          <p:nvPr/>
        </p:nvSpPr>
        <p:spPr>
          <a:xfrm>
            <a:off x="4876920" y="205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2666880" y="457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2 – 5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14"/>
          <p:cNvSpPr/>
          <p:nvPr/>
        </p:nvSpPr>
        <p:spPr>
          <a:xfrm>
            <a:off x="1600200" y="68580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Text Box 15"/>
          <p:cNvSpPr/>
          <p:nvPr/>
        </p:nvSpPr>
        <p:spPr>
          <a:xfrm>
            <a:off x="121932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+ 54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Line 16"/>
          <p:cNvSpPr/>
          <p:nvPr/>
        </p:nvSpPr>
        <p:spPr>
          <a:xfrm>
            <a:off x="19810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Line 17"/>
          <p:cNvSpPr/>
          <p:nvPr/>
        </p:nvSpPr>
        <p:spPr>
          <a:xfrm>
            <a:off x="19810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18"/>
          <p:cNvSpPr/>
          <p:nvPr/>
        </p:nvSpPr>
        <p:spPr>
          <a:xfrm>
            <a:off x="24404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– 4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19"/>
          <p:cNvSpPr/>
          <p:nvPr/>
        </p:nvSpPr>
        <p:spPr>
          <a:xfrm>
            <a:off x="685800" y="308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Text Box 20"/>
          <p:cNvSpPr/>
          <p:nvPr/>
        </p:nvSpPr>
        <p:spPr>
          <a:xfrm>
            <a:off x="1356480" y="3160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7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21"/>
          <p:cNvSpPr/>
          <p:nvPr/>
        </p:nvSpPr>
        <p:spPr>
          <a:xfrm>
            <a:off x="685800" y="3809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22"/>
          <p:cNvSpPr/>
          <p:nvPr/>
        </p:nvSpPr>
        <p:spPr>
          <a:xfrm>
            <a:off x="1355760" y="3886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0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7 + 195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23"/>
          <p:cNvSpPr/>
          <p:nvPr/>
        </p:nvSpPr>
        <p:spPr>
          <a:xfrm>
            <a:off x="7621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24"/>
          <p:cNvSpPr/>
          <p:nvPr/>
        </p:nvSpPr>
        <p:spPr>
          <a:xfrm>
            <a:off x="1508040" y="46483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 – 2) ∙ 30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1143000" y="5257800"/>
          <a:ext cx="6781680" cy="1050840"/>
        </p:xfrm>
        <a:graphic>
          <a:graphicData uri="http://schemas.openxmlformats.org/drawingml/2006/table">
            <a:tbl>
              <a:tblPr/>
              <a:tblGrid>
                <a:gridCol w="847800"/>
                <a:gridCol w="847800"/>
                <a:gridCol w="847440"/>
                <a:gridCol w="847800"/>
                <a:gridCol w="847800"/>
                <a:gridCol w="847800"/>
                <a:gridCol w="847800"/>
                <a:gridCol w="84744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9" name="Text Box 54"/>
          <p:cNvSpPr/>
          <p:nvPr/>
        </p:nvSpPr>
        <p:spPr>
          <a:xfrm>
            <a:off x="4938480" y="493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= 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55"/>
          <p:cNvSpPr/>
          <p:nvPr/>
        </p:nvSpPr>
        <p:spPr>
          <a:xfrm>
            <a:off x="4938840" y="13320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 15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56"/>
          <p:cNvSpPr/>
          <p:nvPr/>
        </p:nvSpPr>
        <p:spPr>
          <a:xfrm>
            <a:off x="4952880" y="224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 1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57"/>
          <p:cNvSpPr/>
          <p:nvPr/>
        </p:nvSpPr>
        <p:spPr>
          <a:xfrm>
            <a:off x="5090400" y="316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58"/>
          <p:cNvSpPr/>
          <p:nvPr/>
        </p:nvSpPr>
        <p:spPr>
          <a:xfrm>
            <a:off x="5089680" y="3922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59"/>
          <p:cNvSpPr/>
          <p:nvPr/>
        </p:nvSpPr>
        <p:spPr>
          <a:xfrm>
            <a:off x="5181480" y="4608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=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60"/>
          <p:cNvSpPr/>
          <p:nvPr/>
        </p:nvSpPr>
        <p:spPr>
          <a:xfrm>
            <a:off x="2500200" y="1484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 Box 61"/>
          <p:cNvSpPr/>
          <p:nvPr/>
        </p:nvSpPr>
        <p:spPr>
          <a:xfrm>
            <a:off x="24382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3 -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Text Box 62"/>
          <p:cNvSpPr/>
          <p:nvPr/>
        </p:nvSpPr>
        <p:spPr>
          <a:xfrm>
            <a:off x="3581280" y="380988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∙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Text Box 63"/>
          <p:cNvSpPr/>
          <p:nvPr/>
        </p:nvSpPr>
        <p:spPr>
          <a:xfrm>
            <a:off x="3659400" y="46483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∙ 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64"/>
          <p:cNvSpPr/>
          <p:nvPr/>
        </p:nvSpPr>
        <p:spPr>
          <a:xfrm>
            <a:off x="274320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65"/>
          <p:cNvSpPr/>
          <p:nvPr/>
        </p:nvSpPr>
        <p:spPr>
          <a:xfrm>
            <a:off x="2517120" y="1523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66"/>
          <p:cNvSpPr/>
          <p:nvPr/>
        </p:nvSpPr>
        <p:spPr>
          <a:xfrm>
            <a:off x="2593080" y="243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67"/>
          <p:cNvSpPr/>
          <p:nvPr/>
        </p:nvSpPr>
        <p:spPr>
          <a:xfrm>
            <a:off x="2593080" y="3124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68"/>
          <p:cNvSpPr/>
          <p:nvPr/>
        </p:nvSpPr>
        <p:spPr>
          <a:xfrm>
            <a:off x="3660120" y="38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69"/>
          <p:cNvSpPr/>
          <p:nvPr/>
        </p:nvSpPr>
        <p:spPr>
          <a:xfrm>
            <a:off x="3736440" y="46483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Rectangle 70"/>
          <p:cNvSpPr/>
          <p:nvPr/>
        </p:nvSpPr>
        <p:spPr>
          <a:xfrm>
            <a:off x="1373400" y="586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Rectangle 71"/>
          <p:cNvSpPr/>
          <p:nvPr/>
        </p:nvSpPr>
        <p:spPr>
          <a:xfrm>
            <a:off x="2211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Rectangle 72"/>
          <p:cNvSpPr/>
          <p:nvPr/>
        </p:nvSpPr>
        <p:spPr>
          <a:xfrm>
            <a:off x="3049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Rectangle 73"/>
          <p:cNvSpPr/>
          <p:nvPr/>
        </p:nvSpPr>
        <p:spPr>
          <a:xfrm>
            <a:off x="3886200" y="58672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Rectangle 74"/>
          <p:cNvSpPr/>
          <p:nvPr/>
        </p:nvSpPr>
        <p:spPr>
          <a:xfrm>
            <a:off x="72406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Rectangle 75"/>
          <p:cNvSpPr/>
          <p:nvPr/>
        </p:nvSpPr>
        <p:spPr>
          <a:xfrm>
            <a:off x="5640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Rectangle 76"/>
          <p:cNvSpPr/>
          <p:nvPr/>
        </p:nvSpPr>
        <p:spPr>
          <a:xfrm>
            <a:off x="6477120" y="5867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Rectangle 77"/>
          <p:cNvSpPr/>
          <p:nvPr/>
        </p:nvSpPr>
        <p:spPr>
          <a:xfrm>
            <a:off x="47260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4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4"/>
          <p:cNvSpPr/>
          <p:nvPr/>
        </p:nvSpPr>
        <p:spPr>
          <a:xfrm>
            <a:off x="2666880" y="30492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60120" y="1179360"/>
            <a:ext cx="877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5" name="Picture 7" descr="AG00165_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«Блиц-турнир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(168 – 36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4)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8 + 4 = 7 (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600 – (70 + 80)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3 = 150 (к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100 ∙ 24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3 = 8 (км/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4"/>
          <p:cNvSpPr/>
          <p:nvPr/>
        </p:nvSpPr>
        <p:spPr>
          <a:xfrm>
            <a:off x="517680" y="420840"/>
            <a:ext cx="66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круче вверх поднимается график, т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4816440" y="1170000"/>
            <a:ext cx="35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е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кор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745200" y="2935440"/>
            <a:ext cx="63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ый график движения - э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57800" y="380988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сутствие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2" name="Picture 8" descr="AG00120_"/>
          <p:cNvPicPr/>
          <p:nvPr/>
        </p:nvPicPr>
        <p:blipFill>
          <a:blip r:embed="rId1"/>
          <a:stretch/>
        </p:blipFill>
        <p:spPr>
          <a:xfrm>
            <a:off x="1676520" y="137160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" descr="CAEIZNLK"/>
          <p:cNvPicPr/>
          <p:nvPr/>
        </p:nvPicPr>
        <p:blipFill>
          <a:blip r:embed="rId2"/>
          <a:stretch/>
        </p:blipFill>
        <p:spPr>
          <a:xfrm flipH="1" rot="21570600">
            <a:off x="2819160" y="4800240"/>
            <a:ext cx="1293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4" descr=""/>
          <p:cNvPicPr/>
          <p:nvPr/>
        </p:nvPicPr>
        <p:blipFill>
          <a:blip r:embed="rId1"/>
          <a:stretch/>
        </p:blipFill>
        <p:spPr>
          <a:xfrm>
            <a:off x="30240" y="225360"/>
            <a:ext cx="908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4"/>
          <p:cNvSpPr/>
          <p:nvPr/>
        </p:nvSpPr>
        <p:spPr>
          <a:xfrm>
            <a:off x="2666880" y="38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6" name="Picture 5" descr=""/>
          <p:cNvPicPr/>
          <p:nvPr/>
        </p:nvPicPr>
        <p:blipFill>
          <a:blip r:embed="rId1"/>
          <a:stretch/>
        </p:blipFill>
        <p:spPr>
          <a:xfrm>
            <a:off x="1371600" y="1039680"/>
            <a:ext cx="685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4"/>
          <p:cNvSpPr/>
          <p:nvPr/>
        </p:nvSpPr>
        <p:spPr>
          <a:xfrm>
            <a:off x="947880" y="19224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8" name="Picture 5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076960" cy="469872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6"/>
          <p:cNvSpPr/>
          <p:nvPr/>
        </p:nvSpPr>
        <p:spPr>
          <a:xfrm>
            <a:off x="54864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8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29T11:10:1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