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C93-D33C-46AF-96D9-71A8D327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BF6-F319-4CF2-B050-4A81213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64E-5874-4AB2-B9F7-4F387344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E18-8720-4D68-AD04-B4D697C2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900-19E0-480C-BA51-105A03B0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D76-134F-4615-9FF6-A392CA8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988E-70E1-4E62-ADAA-57C8A41B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8B46-6DD5-44E6-B046-85E2C7AF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3E2-6DD5-4B5B-9257-F300D94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15F-7A18-4192-88A6-406664B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966-8B6C-4884-B4CE-D6E3B77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ADB-7E5B-49BA-A41B-50CD64A0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C1D-EAAB-4F09-A131-DABFFBD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DB3-4725-4637-BCEF-B377733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27BC-FA14-4250-8E77-BFCA33F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D8A2-6EEE-497E-BEB3-1BB6EA02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84E-0719-4484-A95C-2BB296CE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E12-778B-433C-987A-1B5C119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9BD-2C38-44B4-A7DA-D829FFC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DC-6C19-4B75-A46D-C774697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A0D-1F22-4F24-939E-C7586DE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1BB-557D-4F78-B376-C0A84E0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96E-D580-41E3-9BF0-DB552AD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BE9-AF88-4FF7-9A07-8E4A679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932F-BE19-422A-91FE-FD8E6FAAD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6CA5-3423-434E-952F-1B52917DE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чевая   размин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тя  драться  любит  оч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  ним  играть  никто  не  хоч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  друзей  не   дуйся,  брат,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ам  ты   в   этом   виноват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рачунов  и   ныти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усть   исправи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рити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ог  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В  чём   основная   мысль   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Что  бы   вы   посоветовали   этом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альчику?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Что   хотел   сказать    автор    своим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итателям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Что   вы   узнали   об   авторе   этого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ссказ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Виктор   Владимирович Голявкин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«Никакой  я  горчицы  не  ел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9 – 2001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7381" t="38376" r="59595" b="15650"/>
          <a:stretch/>
        </p:blipFill>
        <p:spPr>
          <a:xfrm>
            <a:off x="2987640" y="1125360"/>
            <a:ext cx="3714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 В. Голявкин   родился  31 августа  1929 г.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е  Баку.  Родители   мечтали  видеть  сы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нтом, но он выбрал живопись. Сначала 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ончил  художественное  училище с  отличи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 поступил  в Институт  живописи  в го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инграде  и окончил его в 1960 году  с  дипл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  театрального   художника. Первые  его  рас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ы  были  написаны   для  взрослых,  но  б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  всего  он  писал  для   де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   своих    детских    книже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  Владимирович   оформил  сам.  В  1973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л  принят  в  члены  Союза  художников  ССС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 картины  выставлялись  на  выставках, а  пер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я  персональная   выставка  прошла  в 1990 г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 Ленинграде. Две  живописные  работы  ранн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а   были   приобретены    Государствен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м    музе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мер  Голявкин  в  Петербурге  27 июля 2001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ассказы В. В. Голявкин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Ты приходи к нам, приход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Этот  мальч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Мой  добрый   пап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Как  решался  сложный  вопрос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олосы   на  окнах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утешественни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ловарная  рабо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чица –  травянистое   растение   с   жёлт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ками,  семена   которого  испол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ются  в пищевой промышленнос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едицине. Острая приправа  к пи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 семян   этого   рас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ент  –    документ,   дающий    изобретателю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ительное   право   на   изобре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пект –большая   широкая   и  прямая  улица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опрос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От   чьего   имени   ведётся   рассказ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ое   время   года  описывается  в   рассказ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очему   мальчик   не   пошёл   в   школ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Кто   встретился    первым   мальчик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Какое   незнакомое   слово   он   подслуша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С   кем   ещё   встретился   мальч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Понравился  ли  вам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«герой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этого  рассказ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Кто  из   вас  хочет   быть   похожим   на  эт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ьчика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словиц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  работы    день    годом    стан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чил    дело  –  гуляй    смел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 дела  жить – только  небо  копти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13:14Z</dcterms:created>
  <dc:creator>Андрей</dc:creator>
  <dc:description/>
  <dc:language>en-US</dc:language>
  <cp:lastModifiedBy>Андрей</cp:lastModifiedBy>
  <dcterms:modified xsi:type="dcterms:W3CDTF">2009-02-28T18:06:59Z</dcterms:modified>
  <cp:revision>6</cp:revision>
  <dc:subject/>
  <dc:title>Виктор Владимирович Голявк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