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7E4-FC23-453E-AA1D-B80716F8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88D-43B9-4DFC-AA53-6EE722BF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1ED-4C01-4A45-A9EA-B7E3DE15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71B-02C6-4C64-B5F4-052E9C61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C5BC-DFFD-45EF-A5BF-A2F36162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4D5D-ABC6-4382-9CAD-DC061653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68C-7A59-4356-82CE-44B96E77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D316-ED70-47F4-AB8F-6B0E1A97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DE91-E4D6-451F-968F-B6CF1D28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45A-C9BC-420D-992B-5EF9200F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20CF-7609-40EB-880B-1D6DDA22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FF7-085F-4DD3-A753-A3C654FC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CA8A-005D-4631-A801-36884A1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C2F9-74FB-424B-9EC7-07C22C2A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DF77-8DED-4061-8C47-FFDAD5A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F8E-BB95-496F-B0D5-0D024C90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18CB-9ED9-467A-BF5C-2468BDD4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7C5-12AF-46EF-84D9-C72EF9CC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754-AD49-4A53-8E00-9436C3A7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367-96E2-48A7-8D56-811864F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65E-51EF-428F-9674-04EE140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AEC-C6AA-4BE5-B947-D660DD1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385-975D-495D-A239-8A518E4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2ED-C0E3-4BA0-B0D5-6125E5B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442-FA68-49BC-AEAD-5C339EBA8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71E-0C47-4D43-93C5-A12B54F6F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чевая   размин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тя  драться  любит  оч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  ним  играть  никто  не  хоч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а  друзей  не   дуйся,  брат,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ам  ты   в   этом   виноват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рачунов  и   ныти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усть   исправи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рити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ог  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В  чём   основная   мысль   рассказ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Что  бы   вы   посоветовали   этом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мальчику?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Что   хотел   сказать    автор    своим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итателям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Что   вы   узнали   об   авторе   этого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ссказ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Виктор   Владимирович Голявкин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«Никакой  я  горчицы  не  ел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9 – 2001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7381" t="38376" r="59595" b="15650"/>
          <a:stretch/>
        </p:blipFill>
        <p:spPr>
          <a:xfrm>
            <a:off x="2987640" y="1125360"/>
            <a:ext cx="3714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 В. Голявкин   родился  31 августа  1929 г. 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е  Баку.  Родители   мечтали  видеть  сы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зыкантом, но он выбрал живопись. Сначала 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ончил  художественное  училище с  отличи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ем  поступил  в Институт  живописи  в гор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инграде  и окончил его в 1960 году  с  дипл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м  театрального   художника. Первые  его  рас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ы  были  написаны   для  взрослых,  но  бол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е  всего  он  писал  для  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   своих    детских    книже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  Владимирович   оформил  сам.  В  1973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л  принят  в  члены  Союза  художников  ССС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го  картины  выставлялись  на  выставках, а  пер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я  персональная   выставка  прошла  в 1990 г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 Ленинграде. Две  живописные  работы  ранн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иода   были   приобретены    Государствен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м    музе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мер  Голявкин  в  Петербурге  27 июля 2001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ассказы В. В. Голявкин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Ты приходи к нам, прихо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Этот  мальчи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Мой  добрый   пап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Как  решался  сложный  вопрос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олосы   на  окнах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утешественни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ловарная  рабо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чица –  травянистое   растение   с   жёлт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ками,  семена   которого  испол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уются  в пищевой промышленнос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едицине. Острая приправа  к пищ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 семян   этого   рас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ент  –    документ,   дающий    изобретателю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ительное   право   на   изобре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пект –большая   широкая   и  прямая  улица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Вопрос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От   чьего   имени   ведётся   рассказ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Какое   время   года  описывается  в   рассказ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очему   мальчик   не   пошёл   в   школ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Кто   встретился    первым   мальчик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Какое   незнакомое   слово   он   подслуша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С   кем   ещё   встретился   мальч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Понравился  ли  вам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«герой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этого  рассказ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Кто  из   вас  хочет   быть   похожим   на  эт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ьчика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словиц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   работы    день    годом    стан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чил    дело  –  гуляй    смел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 дела  жить – только  небо  коптит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13:14Z</dcterms:created>
  <dc:creator>Андрей</dc:creator>
  <dc:description/>
  <dc:language>en-US</dc:language>
  <cp:lastModifiedBy>Андрей</cp:lastModifiedBy>
  <dcterms:modified xsi:type="dcterms:W3CDTF">2009-02-28T18:06:59Z</dcterms:modified>
  <cp:revision>6</cp:revision>
  <dc:subject/>
  <dc:title>Виктор Владимирович Голявк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