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F18-30D2-4645-8B11-B9294B96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5AC-9D5E-4049-AB06-996FB409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68A-E15E-4EF3-946B-1A8FAD12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7C6-69A7-4DB6-A41B-FD444D8E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D3F7-2149-4BE3-B9E4-E9B87590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C0BF-26ED-427C-90BD-97590F31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7EBA-A70A-41B7-88C7-FCDC12B2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196B-78D7-417B-8EED-77ABD4A6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C935-A54B-4541-A5E5-947B6CC6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9A9E-0955-40CD-B65E-0F2240E8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7F82-A999-4ABC-B2D0-7FA546EC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C89D-5237-4C4A-92E2-BF12B039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C1BA-462C-4ACA-A3EF-9D485988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AD39-B86F-4537-B93F-91C8C579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D4DC-1B16-4DEA-92B2-D327DE6D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380D-B472-43F8-96D4-4A91C1C4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6AAF-96C5-439A-8DBE-A5D7F6F9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B0A-F9E6-45CA-9AD2-DAB4C8D2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A12-2C5B-4376-9136-E3E0246D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C38-BE17-4222-981E-A959B57B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9CC-1EA3-49E3-803E-331E4927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828-359B-4878-A42D-F6A737B8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63C4-5170-4C70-9551-F5787DE5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1570-B825-4363-966E-35F76B3B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1F62-791B-4A0D-A317-1CF4374D6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E813-3FC8-480F-9753-F332A8940D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ечевая   размин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етя  драться  любит  очень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  ним  играть  никто  не  хоч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На  друзей  не   дуйся,  брат,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ам  ты   в   этом   виноват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Драчунов  и   ныти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усть   исправи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Критик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тог   уро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. В  чём   основная   мысль   рассказа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 Что  бы   вы   посоветовали   этому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мальчику?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 Что   хотел   сказать    автор    своим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читателям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. Что   вы   узнали   об   авторе   этого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рассказа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13800" cy="23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Виктор   Владимирович Голявкин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96472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«Никакой  я  горчицы  не  ел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23640" y="1052280"/>
            <a:ext cx="8351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9 – 2001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7381" t="38376" r="59595" b="15650"/>
          <a:stretch/>
        </p:blipFill>
        <p:spPr>
          <a:xfrm>
            <a:off x="2987640" y="1125360"/>
            <a:ext cx="3714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Биография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850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. В. Голявкин   родился  31 августа  1929 г. 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роде  Баку.  Родители   мечтали  видеть  сы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узыкантом, но он выбрал живопись. Сначала о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ончил  художественное  училище с  отличие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тем  поступил  в Институт  живописи  в город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нинграде  и окончил его в 1960 году  с  дипло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м  театрального   художника. Первые  его  рас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азы  были  написаны   для  взрослых,  но  боль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ше  всего  он  писал  для   дет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Биография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ьшинство    своих    детских    книжек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ктор  Владимирович   оформил  сам.  В  1973 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ыл  принят  в  члены  Союза  художников  ССС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го  картины  выставлялись  на  выставках, а  пер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ая  персональная   выставка  прошла  в 1990 год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 Ленинграде. Две  живописные  работы  ранне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иода   были   приобретены    Государственны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сским    музе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мер  Голявкин  в  Петербурге  27 июля 2001 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ассказы В. В. Голявкин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Ты приходи к нам, приходи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Этот  мальчик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Мой  добрый   пап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Как  решался  сложный  вопрос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Полосы   на  окнах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Путешественник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ловарная  работ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рчица –  травянистое   растение   с   жёлт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ветками,  семена   которого  исполь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уются  в пищевой промышленност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медицине. Острая приправа  к пищ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 семян   этого   раст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тент  –    документ,   дающий    изобретателю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ключительное   право   на   изобре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спект –большая   широкая   и  прямая  улица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Вопросы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От   чьего   имени   ведётся   рассказ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Какое   время   года  описывается  в   рассказ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Почему   мальчик   не   пошёл   в   школу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Кто   встретился    первым   мальчику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Какое   незнакомое   слово   он   подслуша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С   кем   ещё   встретился   мальчик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 Понравился  ли  вам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«герой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этого  рассказа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 Кто  из   вас  хочет   быть   похожим   на  это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альчика?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ословиц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ез    работы    день    годом    стане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ончил    дело  –  гуляй    смело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ез  дела  жить – только  небо  коптить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5:13:14Z</dcterms:created>
  <dc:creator>Андрей</dc:creator>
  <dc:description/>
  <dc:language>en-US</dc:language>
  <cp:lastModifiedBy>Андрей</cp:lastModifiedBy>
  <dcterms:modified xsi:type="dcterms:W3CDTF">2009-02-28T18:06:59Z</dcterms:modified>
  <cp:revision>6</cp:revision>
  <dc:subject/>
  <dc:title>Виктор Владимирович Голявки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