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9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4C1-E711-4901-A9BB-E467BD4B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E17-E118-44EE-A765-B2F99AF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F67-EA31-48E5-9D4B-73910373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A22-80BC-4604-B13A-BD1898DF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2A75-B94F-460F-A521-C0EF8BA1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8ABB-CD06-42BC-A8FF-288B694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39C-3EC3-405A-AAA9-FA1DF61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052D-5AAD-43BB-88F6-64B7EB01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AE0E-B2C6-4A5E-A063-5C504CA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4FE-396F-4BB7-81FA-8A81F1E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5FE9-083F-4CA5-B384-87D97E3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B56-6EBD-4A35-988C-92A09E86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5A5A-A04B-4CF0-83CD-4FF5EDA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DF19-15D5-4551-8224-A83D4FA4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4913-5891-4A07-AB0B-42025F5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A542-48C6-4BDA-AA77-24D27B5F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0791-5053-454D-BA33-328D241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17B-8B50-410A-B1B8-A4DC003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1D4-216C-4C6A-9E8F-4E8641DB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D92-F63A-402F-BC0A-2A03D1A7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4D3-6B44-46B0-A614-EA0C627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6C6-18EE-4902-9A8D-172DF8D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425-B086-4062-A7EA-7BD97B2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67F-E56A-4AED-AC68-2A2F8D3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F58B-E857-4C64-9A4B-06F2D2D112C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875-2FCA-4EC1-82DC-F3BF354F317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9640" y="2602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Глаз как орган зрения и оптическая систем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981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Аккомода́ц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(от лат.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accommodatio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— приспособление, приноровление) — приспособление органа либо организма в целом к изменению внешних услов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00" y="16596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Терми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99736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Дальтони́з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 цветовая слепота — наследственная, реже приобретённая особенность зрения человека и приматов, выражающаяся в неспособности различать один или несколько цветов.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роводниковое звено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зрительный нер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343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Центральное звен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затылочная доля коры больших полушари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34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057800" cy="5722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60" y="259560"/>
            <a:ext cx="874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Работа зрительного анализатор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4964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6680" y="165960"/>
            <a:ext cx="69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Оптическая система глаз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0480" y="61920"/>
            <a:ext cx="792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Механизм работы оптическо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системы глаз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484280"/>
            <a:ext cx="40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траженные от предмета лучи света проходят через оптическую систему глаза и создают обратное и уменьшенное изображение 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етчатке (мозг«переворачивает» обратное изображение, и оно воспринимается как прямое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184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9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Зрение и оптическая система гла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0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normal"/>
          <p:cNvPicPr/>
          <p:nvPr/>
        </p:nvPicPr>
        <p:blipFill>
          <a:blip r:embed="rId1"/>
          <a:stretch/>
        </p:blipFill>
        <p:spPr>
          <a:xfrm>
            <a:off x="304920" y="1371600"/>
            <a:ext cx="4114800" cy="19494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http://www.optilex.ru/img/glaz/emetropiya.gif"/>
          <p:cNvPicPr/>
          <p:nvPr/>
        </p:nvPicPr>
        <p:blipFill>
          <a:blip r:embed="rId2"/>
          <a:stretch/>
        </p:blipFill>
        <p:spPr>
          <a:xfrm>
            <a:off x="2590920" y="3048120"/>
            <a:ext cx="1828800" cy="87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blizorukost"/>
          <p:cNvPicPr/>
          <p:nvPr/>
        </p:nvPicPr>
        <p:blipFill>
          <a:blip r:embed="rId3"/>
          <a:stretch/>
        </p:blipFill>
        <p:spPr>
          <a:xfrm>
            <a:off x="4648320" y="1371600"/>
            <a:ext cx="4343400" cy="2060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9" descr="http://www.optilex.ru/img/glaz/miopiya.gif"/>
          <p:cNvPicPr/>
          <p:nvPr/>
        </p:nvPicPr>
        <p:blipFill>
          <a:blip r:embed="rId4"/>
          <a:stretch/>
        </p:blipFill>
        <p:spPr>
          <a:xfrm>
            <a:off x="7086600" y="3048120"/>
            <a:ext cx="1905120" cy="912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0"/>
          <p:cNvSpPr/>
          <p:nvPr/>
        </p:nvSpPr>
        <p:spPr>
          <a:xfrm>
            <a:off x="20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Picture 11" descr="dalnozorkost"/>
          <p:cNvPicPr/>
          <p:nvPr/>
        </p:nvPicPr>
        <p:blipFill>
          <a:blip r:embed="rId5"/>
          <a:stretch/>
        </p:blipFill>
        <p:spPr>
          <a:xfrm>
            <a:off x="2514600" y="4114800"/>
            <a:ext cx="4191120" cy="19861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2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Picture 13" descr="http://www.optilex.ru/img/glaz/gipermetrop.gif"/>
          <p:cNvPicPr/>
          <p:nvPr/>
        </p:nvPicPr>
        <p:blipFill>
          <a:blip r:embed="rId6"/>
          <a:stretch/>
        </p:blipFill>
        <p:spPr>
          <a:xfrm>
            <a:off x="4724280" y="5908680"/>
            <a:ext cx="19814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Коррекция з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531720" y="1901880"/>
            <a:ext cx="7748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50920" y="88488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§52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ыполнить практическую работу на странице 2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79280" y="4410000"/>
            <a:ext cx="2962440" cy="244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276720" y="2708280"/>
            <a:ext cx="316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0920" y="349200"/>
            <a:ext cx="8280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ышкин. Физика 8. – М. : Просвещение, 200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атуев А.С. Биология. Человек. – М.: Дрофа, 1999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лесский М. Занимательная анатомия. – М.: Росмен, 200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ебник. Д.В. Колесов, Р.Д. Маш. И.Н. Беляев Биология. Человек. 8 класс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офа, Москва. 2009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агомилов А.Г. , Маш Р.Д. Биология: Человек: Учебник для учащихся 8 класса общеобразовательных учреждений. – М.: Вентана-Граф, 2011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формировать новые анатомо-физиологические понятия о строении и функциях зрительного анализато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3148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0" b="10291"/>
          <a:stretch/>
        </p:blipFill>
        <p:spPr>
          <a:xfrm>
            <a:off x="4211640" y="692280"/>
            <a:ext cx="47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248520" y="15228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3200400" y="2809800"/>
            <a:ext cx="3019320" cy="4048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3124080" y="0"/>
            <a:ext cx="25225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1295280" y="213372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7"/>
          <a:stretch/>
        </p:blipFill>
        <p:spPr>
          <a:xfrm>
            <a:off x="5486400" y="1981080"/>
            <a:ext cx="1428840" cy="188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8"/>
          <a:stretch/>
        </p:blipFill>
        <p:spPr>
          <a:xfrm>
            <a:off x="1905120" y="41911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9"/>
          <a:stretch/>
        </p:blipFill>
        <p:spPr>
          <a:xfrm>
            <a:off x="5029200" y="0"/>
            <a:ext cx="2705040" cy="203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2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13" descr=""/>
          <p:cNvPicPr/>
          <p:nvPr/>
        </p:nvPicPr>
        <p:blipFill>
          <a:blip r:embed="rId10"/>
          <a:stretch/>
        </p:blipFill>
        <p:spPr>
          <a:xfrm>
            <a:off x="5638680" y="4214880"/>
            <a:ext cx="3505320" cy="264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11"/>
          <a:stretch/>
        </p:blipFill>
        <p:spPr>
          <a:xfrm>
            <a:off x="6858000" y="29718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"/>
          <p:cNvPicPr/>
          <p:nvPr/>
        </p:nvPicPr>
        <p:blipFill>
          <a:blip r:embed="rId12"/>
          <a:stretch/>
        </p:blipFill>
        <p:spPr>
          <a:xfrm>
            <a:off x="0" y="1447920"/>
            <a:ext cx="1457280" cy="33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13"/>
          <a:stretch/>
        </p:blipFill>
        <p:spPr>
          <a:xfrm>
            <a:off x="6172200" y="3809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зодвигательный аппа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77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езный аппа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95280" y="1322280"/>
            <a:ext cx="8748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3640" y="1712520"/>
            <a:ext cx="594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Состав слезной жидкост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97,8% - вод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1,4% - органические веществ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0,8% - минеральные сол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397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197280"/>
            <a:ext cx="82965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Функции слезной жидкост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влажняет конъюнктиву (тонкая прозрачная мембрана, выстилающая внутреннюю поверхность век и внешнюю поверхность глазного яблока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ействует как мягкий антисепт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мывает пыль и мелкие частич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423040" y="3273480"/>
            <a:ext cx="37209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559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Периферическое звено: глаз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глазное яблок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елочная оболочка – склера; роговица, сосудистая оболочка; радужка, зрачок,сетчат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цепторы: колбочки, палочки;                                          стекловидное тело, хрусталик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55640" y="1598760"/>
            <a:ext cx="432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вспомогательный аппара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ки, ресницы, слезный аппарат , глазодвигательные мыш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9:11:26Z</dcterms:created>
  <dc:creator>Demo</dc:creator>
  <dc:description/>
  <dc:language>en-US</dc:language>
  <cp:lastModifiedBy>User</cp:lastModifiedBy>
  <dcterms:modified xsi:type="dcterms:W3CDTF">2013-12-09T18:58:57Z</dcterms:modified>
  <cp:revision>13</cp:revision>
  <dc:subject/>
  <dc:title>Глаз как орган зрения и оптическая система</dc:title>
</cp:coreProperties>
</file>