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6.jpeg" ContentType="image/jpeg"/>
  <Override PartName="/ppt/media/image5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33.png" ContentType="image/png"/>
  <Override PartName="/ppt/media/image9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png" ContentType="image/png"/>
  <Override PartName="/ppt/media/image13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6.jpeg" ContentType="image/jpeg"/>
  <Override PartName="/ppt/media/image17.png" ContentType="image/pn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A2F3-C7BB-4EC5-BEBA-E2ED1660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CDE9-2222-4150-A308-1813E76D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9954-6E16-4B82-8EE9-608E0833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144B-0B09-4B64-BAE1-4F0A6115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3A9A-C9ED-45BE-BE6F-334C2516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C032-91AF-4625-941A-7E7FBED5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0860-8F11-4765-B299-C5B43AC4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EFF5-1CEB-4FFE-81AF-AF013A0C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1488-60EF-4AFD-92BF-300EF0BA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8AB6-05F0-4F40-B63E-D36E102B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97F0-85C2-40D7-8519-901973D7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F0E7-9F0C-49BD-8759-09827D46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9F37-8909-447A-B712-8D5ECD99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CDA7-9092-42F8-A3B0-86986548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C062-F065-4C90-AA7C-B390FF05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C42E-FC9D-4DB1-9259-11FCE3CF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97A3-1A66-4846-8C9C-B359EFA9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C5C1-3BB6-4F3E-AAE7-8CE3C9CF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3ADC-F572-46E3-B4BB-41A99047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6B2-F2EB-4E13-97FA-E28B106D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4011-D068-4B8E-BAFD-1BAA2C2D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6A76-9D17-4AB1-9926-D03A5BC2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CAA5-316F-4B29-83C7-F755A95D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F099-980A-4DA4-A534-E4877DB4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D3BF-6F80-4BEA-AC24-6A1D223D0E64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E34F-514F-453E-8777-DECC21151C5F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39640" y="260280"/>
            <a:ext cx="80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Глаз как орган зрения и оптическая систем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68360" y="98100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Аккомода́ц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 (от лат.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accommodatio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 — приспособление, приноровление) — приспособление органа либо организма в целом к изменению внешних условий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1600" y="165960"/>
            <a:ext cx="25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Термины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8360" y="2997360"/>
            <a:ext cx="77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Дальтони́з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, цветовая слепота — наследственная, реже приобретённая особенность зрения человека и приматов, выражающаяся в неспособности различать один или несколько цветов. 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Проводниковое звено</a:t>
            </a: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Arial"/>
              </a:rPr>
              <a:t>зрительный нерв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73436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Центральное звено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затылочная доля коры больших полушарий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7345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7057800" cy="5722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960" y="259560"/>
            <a:ext cx="874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Работа зрительного анализатора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7775640" cy="49644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56680" y="165960"/>
            <a:ext cx="697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Оптическая система глаза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30480" y="61920"/>
            <a:ext cx="792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Механизм работы оптической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системы глаза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1484280"/>
            <a:ext cx="403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Отраженные от предмета лучи света проходят через оптическую систему глаза и создают обратное и уменьшенное изображение н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сетчатке (мозг«переворачивает» обратное изображение, и оно воспринимается как прямое)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780000" y="1773360"/>
            <a:ext cx="518472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893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Зрение и оптическая система глаз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202896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5" name="Picture 4" descr="normal"/>
          <p:cNvPicPr/>
          <p:nvPr/>
        </p:nvPicPr>
        <p:blipFill>
          <a:blip r:embed="rId1"/>
          <a:stretch/>
        </p:blipFill>
        <p:spPr>
          <a:xfrm>
            <a:off x="304920" y="1371600"/>
            <a:ext cx="4114800" cy="19494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5"/>
          <p:cNvSpPr/>
          <p:nvPr/>
        </p:nvSpPr>
        <p:spPr>
          <a:xfrm>
            <a:off x="342900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6" descr="http://www.optilex.ru/img/glaz/emetropiya.gif"/>
          <p:cNvPicPr/>
          <p:nvPr/>
        </p:nvPicPr>
        <p:blipFill>
          <a:blip r:embed="rId2"/>
          <a:stretch/>
        </p:blipFill>
        <p:spPr>
          <a:xfrm>
            <a:off x="2590920" y="3048120"/>
            <a:ext cx="1828800" cy="8762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blizorukost"/>
          <p:cNvPicPr/>
          <p:nvPr/>
        </p:nvPicPr>
        <p:blipFill>
          <a:blip r:embed="rId3"/>
          <a:stretch/>
        </p:blipFill>
        <p:spPr>
          <a:xfrm>
            <a:off x="4648320" y="1371600"/>
            <a:ext cx="4343400" cy="20606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8"/>
          <p:cNvSpPr/>
          <p:nvPr/>
        </p:nvSpPr>
        <p:spPr>
          <a:xfrm>
            <a:off x="342900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0" name="Picture 9" descr="http://www.optilex.ru/img/glaz/miopiya.gif"/>
          <p:cNvPicPr/>
          <p:nvPr/>
        </p:nvPicPr>
        <p:blipFill>
          <a:blip r:embed="rId4"/>
          <a:stretch/>
        </p:blipFill>
        <p:spPr>
          <a:xfrm>
            <a:off x="7086600" y="3048120"/>
            <a:ext cx="1905120" cy="912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0"/>
          <p:cNvSpPr/>
          <p:nvPr/>
        </p:nvSpPr>
        <p:spPr>
          <a:xfrm>
            <a:off x="202896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2" name="Picture 11" descr="dalnozorkost"/>
          <p:cNvPicPr/>
          <p:nvPr/>
        </p:nvPicPr>
        <p:blipFill>
          <a:blip r:embed="rId5"/>
          <a:stretch/>
        </p:blipFill>
        <p:spPr>
          <a:xfrm>
            <a:off x="2514600" y="4114800"/>
            <a:ext cx="4191120" cy="198612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2"/>
          <p:cNvSpPr/>
          <p:nvPr/>
        </p:nvSpPr>
        <p:spPr>
          <a:xfrm>
            <a:off x="342900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4" name="Picture 13" descr="http://www.optilex.ru/img/glaz/gipermetrop.gif"/>
          <p:cNvPicPr/>
          <p:nvPr/>
        </p:nvPicPr>
        <p:blipFill>
          <a:blip r:embed="rId6"/>
          <a:stretch/>
        </p:blipFill>
        <p:spPr>
          <a:xfrm>
            <a:off x="4724280" y="5908680"/>
            <a:ext cx="19814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Коррекция зр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531720" y="1901880"/>
            <a:ext cx="77486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50920" y="884880"/>
            <a:ext cx="648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Домашнее задани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§52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Выполнить практическую работу на странице 2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508720" y="189000"/>
            <a:ext cx="3456000" cy="2448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79280" y="4410000"/>
            <a:ext cx="2962440" cy="2448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3276720" y="2708280"/>
            <a:ext cx="31622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50920" y="349200"/>
            <a:ext cx="828036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Литература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ышкин. Физика 8. – М. : Просвещение, 2002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атуев А.С. Биология. Человек. – М.: Дрофа, 1999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лесский М. Занимательная анатомия. – М.: Росмен, 2000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чебник. Д.В. Колесов, Р.Д. Маш. И.Н. Беляев Биология. Человек. 8 класс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рофа, Москва. 2009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рагомилов А.Г. , Маш Р.Д. Биология: Человек: Учебник для учащихся 8 класса общеобразовательных учреждений. – М.: Вентана-Граф, 2011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541440" y="259920"/>
            <a:ext cx="511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Цель урок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Сформировать новые анатомо-физиологические понятия о строении и функциях зрительного анализатор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31488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0" t="0" r="0" b="10291"/>
          <a:stretch/>
        </p:blipFill>
        <p:spPr>
          <a:xfrm>
            <a:off x="4211640" y="692280"/>
            <a:ext cx="4753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0" y="43434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3"/>
          <a:stretch/>
        </p:blipFill>
        <p:spPr>
          <a:xfrm>
            <a:off x="6248520" y="152280"/>
            <a:ext cx="2754360" cy="3505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4"/>
          <a:stretch/>
        </p:blipFill>
        <p:spPr>
          <a:xfrm>
            <a:off x="3200400" y="2809800"/>
            <a:ext cx="3019320" cy="4048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5"/>
          <a:stretch/>
        </p:blipFill>
        <p:spPr>
          <a:xfrm>
            <a:off x="3124080" y="0"/>
            <a:ext cx="2522520" cy="2819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6"/>
          <a:stretch/>
        </p:blipFill>
        <p:spPr>
          <a:xfrm>
            <a:off x="1295280" y="2133720"/>
            <a:ext cx="2229120" cy="2228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"/>
          <p:cNvPicPr/>
          <p:nvPr/>
        </p:nvPicPr>
        <p:blipFill>
          <a:blip r:embed="rId7"/>
          <a:stretch/>
        </p:blipFill>
        <p:spPr>
          <a:xfrm>
            <a:off x="5486400" y="1981080"/>
            <a:ext cx="1428840" cy="1886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"/>
          <p:cNvPicPr/>
          <p:nvPr/>
        </p:nvPicPr>
        <p:blipFill>
          <a:blip r:embed="rId8"/>
          <a:stretch/>
        </p:blipFill>
        <p:spPr>
          <a:xfrm>
            <a:off x="1905120" y="4191120"/>
            <a:ext cx="2057400" cy="26668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0"/>
          <p:cNvSpPr/>
          <p:nvPr/>
        </p:nvSpPr>
        <p:spPr>
          <a:xfrm>
            <a:off x="291456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Picture 11" descr=""/>
          <p:cNvPicPr/>
          <p:nvPr/>
        </p:nvPicPr>
        <p:blipFill>
          <a:blip r:embed="rId9"/>
          <a:stretch/>
        </p:blipFill>
        <p:spPr>
          <a:xfrm>
            <a:off x="5029200" y="0"/>
            <a:ext cx="2705040" cy="20368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2"/>
          <p:cNvSpPr/>
          <p:nvPr/>
        </p:nvSpPr>
        <p:spPr>
          <a:xfrm>
            <a:off x="337176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13" descr=""/>
          <p:cNvPicPr/>
          <p:nvPr/>
        </p:nvPicPr>
        <p:blipFill>
          <a:blip r:embed="rId10"/>
          <a:stretch/>
        </p:blipFill>
        <p:spPr>
          <a:xfrm>
            <a:off x="5638680" y="4214880"/>
            <a:ext cx="3505320" cy="2643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"/>
          <p:cNvPicPr/>
          <p:nvPr/>
        </p:nvPicPr>
        <p:blipFill>
          <a:blip r:embed="rId11"/>
          <a:stretch/>
        </p:blipFill>
        <p:spPr>
          <a:xfrm>
            <a:off x="6858000" y="2971800"/>
            <a:ext cx="2286000" cy="1371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5" descr=""/>
          <p:cNvPicPr/>
          <p:nvPr/>
        </p:nvPicPr>
        <p:blipFill>
          <a:blip r:embed="rId12"/>
          <a:stretch/>
        </p:blipFill>
        <p:spPr>
          <a:xfrm>
            <a:off x="0" y="1447920"/>
            <a:ext cx="1457280" cy="3352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6" descr=""/>
          <p:cNvPicPr/>
          <p:nvPr/>
        </p:nvPicPr>
        <p:blipFill>
          <a:blip r:embed="rId13"/>
          <a:stretch/>
        </p:blipFill>
        <p:spPr>
          <a:xfrm>
            <a:off x="6172200" y="3809880"/>
            <a:ext cx="104760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лазодвигательный аппара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777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лезный аппара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95280" y="1322280"/>
            <a:ext cx="874872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3640" y="1712520"/>
            <a:ext cx="5940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Состав слезной жидкости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97,8% - вод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1,4% - органические веществ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0,8% - минеральные сол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23972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79280" y="197280"/>
            <a:ext cx="82965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Функции слезной жидкости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Увлажняет конъюнктиву (тонкая прозрачная мембрана, выстилающая внутреннюю поверхность век и внешнюю поверхность глазного яблока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Действует как мягкий антисептик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ымывает пыль и мелкие частичк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423040" y="3273480"/>
            <a:ext cx="372096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Строение глаз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755964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Периферическое звено: глаз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глазное яблоко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елочная оболочка – склера; роговица, сосудистая оболочка; радужка, зрачок,сетчатка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ецепторы: колбочки, палочки;                                          стекловидное тело, хрусталик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355640" y="1598760"/>
            <a:ext cx="4326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вспомогательный аппарат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еки, ресницы, слезный аппарат , глазодвигательные мышц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9:11:26Z</dcterms:created>
  <dc:creator>Demo</dc:creator>
  <dc:description/>
  <dc:language>en-US</dc:language>
  <cp:lastModifiedBy>User</cp:lastModifiedBy>
  <dcterms:modified xsi:type="dcterms:W3CDTF">2013-12-09T18:58:57Z</dcterms:modified>
  <cp:revision>13</cp:revision>
  <dc:subject/>
  <dc:title>Глаз как орган зрения и оптическая система</dc:title>
</cp:coreProperties>
</file>