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955-A602-487D-BF3B-0FEB9357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176-7E45-4286-BABD-09358D2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9A7-1FA1-4A91-816A-FBA6AAD3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C3B-9843-48E5-B6C0-531A3C0C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0597-7390-4A16-A593-2DF10B02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8A96-02AF-4050-90C8-8629C27D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D90E-6B34-4064-BBB4-90F866D8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EE3F-3638-4A19-9955-68A00EF3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BC45-0207-408D-A948-ECF6BEA1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2BFC-0C9E-430A-BBC2-CCB8070E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C19B-3EE2-4910-828D-1F25A5F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A66-F6F0-42F0-B0F9-1194C8B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0EBA-9BDE-4EEC-ACC0-76AE583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2F77-7556-4273-A8DC-E2CB94C1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B63D-2162-4942-955E-270AC8EF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8017-03C5-4626-B73F-B44ABED1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7E3E-EAE8-4564-8A6E-BF5AF609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BD6-FC0B-4413-AB8E-961B1F99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986-4C81-46FA-8623-4C062850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885-3B5E-46B1-B8E7-DF91AD51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49D-11B6-415C-9566-CD2957FE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2DF-5E11-4F6C-B3A7-283812CA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51A-7F6F-43DA-BE62-12D1787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113-5112-44D6-BCA7-7C646A3C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C5BD-1C82-42A3-9FE8-BAC020CD9D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4E44-5E29-4A1C-91DC-4E5E7236DD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5A6E-7341-49E0-AD55-08D05B8978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A4AA-2FC7-4FC2-8F96-E38A992345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8C24-7429-4FCD-9E37-ED67BF9210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8B2A-9CCC-41F0-B491-58E845CBDC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4DD3-653C-4F7A-A7E7-DDA60AEED4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E969-1AF1-4D7F-B31B-47F78D1790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2C19-4FA9-4BC7-BD78-692281478B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A439-B6A3-4432-A744-4A05B14624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0EF-931C-42DE-B75A-89C4EDF4CD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9E52-EAAE-4C5B-B314-292D42AD59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Admin</cp:lastModifiedBy>
  <dcterms:modified xsi:type="dcterms:W3CDTF">2012-12-23T19:22:44Z</dcterms:modified>
  <cp:revision>53</cp:revision>
  <dc:subject/>
  <dc:title>Урок-обобщение по экономике для 6 классов</dc:title>
</cp:coreProperties>
</file>