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AD2-5506-46EB-9997-A1E5A539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117-FCAC-4F4C-8E59-42894A6F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150-7FBB-44B8-B90F-B201F9B3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45B-F054-4EAA-A41C-1FBCC1A3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C610-C60A-48C5-A5A9-7B094153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B39A-C7FD-466C-9553-9CDCF408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EC0A-3914-44F4-83A6-51E6259F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0AF5-0C38-4D51-9B2B-3408AF08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241F-AB33-42B5-8C1A-BE61BE4E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6553-10BD-42A9-85E0-50670CCB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4CEF-16E7-432D-8489-86F5379B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620-3CCD-4E0E-A3C4-280EFDA0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5495-62A5-40D7-8412-5879E112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D485-F562-401E-ADF3-6B0651BC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BEE4-5C60-4A3B-AE73-233E3392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4C03-1D17-4DE0-B6CF-4EDE93DC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B31E-ACBE-45F3-B620-7717C905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E6E-CED1-45A9-846C-45764EF7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371-4348-4DB9-B792-A41A37A5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BF0-E993-4C25-8108-1499C078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988-335E-456B-857E-1FD4EB3D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293-0AFC-44B2-B84E-469C5B58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B83-7B81-44CF-B476-D4506FC8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173-1955-49D0-B611-D6740A9C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4123-C220-412E-A4A5-CEE42CC54A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BB1D-5BBF-4BD7-814B-E469FC188E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143000"/>
            <a:ext cx="8362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Драма «Гроза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lit17-18p"/>
          <p:cNvPicPr/>
          <p:nvPr/>
        </p:nvPicPr>
        <p:blipFill>
          <a:blip r:embed="rId1"/>
          <a:stretch/>
        </p:blipFill>
        <p:spPr>
          <a:xfrm>
            <a:off x="0" y="0"/>
            <a:ext cx="327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FEE3-5264-4D12-9F75-C40328D259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FB97-B14C-4D9A-8F46-B89BA03559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36_2_25"/>
          <p:cNvPicPr/>
          <p:nvPr/>
        </p:nvPicPr>
        <p:blipFill>
          <a:blip r:embed="rId1"/>
          <a:stretch/>
        </p:blipFill>
        <p:spPr>
          <a:xfrm>
            <a:off x="4284720" y="2349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36_2_53"/>
          <p:cNvPicPr/>
          <p:nvPr/>
        </p:nvPicPr>
        <p:blipFill>
          <a:blip r:embed="rId2"/>
          <a:stretch/>
        </p:blipFill>
        <p:spPr>
          <a:xfrm>
            <a:off x="4500720" y="5300640"/>
            <a:ext cx="952200" cy="771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6FF1-E1E9-43E3-B814-E78369BB77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311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Урок литературы 10 класс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«Катерина в борьбе за свои человеческие права»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407664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4973-7AA5-4F68-B906-D376F41136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 уро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55E8-9EA6-4092-A305-6887A97185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lit17-10"/>
          <p:cNvPicPr/>
          <p:nvPr/>
        </p:nvPicPr>
        <p:blipFill>
          <a:blip r:embed="rId1"/>
          <a:stretch/>
        </p:blipFill>
        <p:spPr>
          <a:xfrm>
            <a:off x="1042920" y="549360"/>
            <a:ext cx="6553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1C50-F442-4DB4-9DDE-B2682CD284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lit17-13p"/>
          <p:cNvPicPr/>
          <p:nvPr/>
        </p:nvPicPr>
        <p:blipFill>
          <a:blip r:embed="rId1"/>
          <a:stretch/>
        </p:blipFill>
        <p:spPr>
          <a:xfrm>
            <a:off x="4309920" y="2060640"/>
            <a:ext cx="350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F535-060D-4DB2-8F83-2D5DE06A1D3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. Жизнь Катерины в родительском доме.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61D5-6CEC-47BD-93B3-0D68B85E4D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Жизнь Катерины в доме Кабаново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8261-3CF6-4ED2-888F-C603651B46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черты характер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8093-D936-473B-89C8-A231294E19C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3:31:57Z</dcterms:created>
  <dc:creator>Ewgeniy</dc:creator>
  <dc:description/>
  <dc:language>en-US</dc:language>
  <cp:lastModifiedBy>Admin</cp:lastModifiedBy>
  <dcterms:modified xsi:type="dcterms:W3CDTF">2012-12-23T19:22:44Z</dcterms:modified>
  <cp:revision>53</cp:revision>
  <dc:subject/>
  <dc:title>Урок-обобщение по экономике для 6 классов</dc:title>
</cp:coreProperties>
</file>