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D4E-7151-4FF5-B3A7-1A4CB256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0B0-91EA-4870-9317-B39315F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D3F-D71E-44AF-A6C0-450FD803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6B8-5F38-48B1-985C-B78D8270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336-A916-40A1-A649-123921A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85AA-47B0-4128-AC14-9E7C1D4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CCC4-7D0D-4829-9C1B-C9CD4D2B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BCD1-0C46-4106-87D7-5A8EF3F3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A7B7-A75F-45B8-A12F-752779A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5BF5-A317-48D2-BF7A-3A561011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9E8C-DD83-4EEC-B0FD-CB5C1D4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48A-D533-40EE-96CB-5CF11B6E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831-3D92-43F1-AE4C-4A985EE5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E6D3-185C-4769-86F9-17BCE473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B90C-D7B0-4F39-8E64-D00233DC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7C3F-CCD7-4F80-823F-88A51782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8A79-A91F-4BE5-91CB-E2DF03A9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574-E051-4E9A-9827-C870880A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F35-110D-483B-855D-72EF1FF6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3D4-E03A-4FA1-9ED4-7E23DA5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8EB-ACEE-4596-AAC4-E470F497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B50-2314-41AF-BE1C-C8C0906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B42-8210-4324-8C5F-6D530BD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130-5DFB-48CC-8776-EC3EE7D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43E-7F69-4C23-8E46-023A05720E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DBF2-8874-47F8-90F2-0647397334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DDBA-E972-4F13-A56C-FD2D50AB43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6F6-8897-402D-BDE5-02956FCB99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BDA-BFFE-4129-98F5-168668147B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EABD-A3F0-482D-B15D-616F05E42C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95C6-1E2F-40AB-8285-E3AA351FB2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0372-21D0-4EDA-965D-48DAA252E7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753C-D7A0-45E2-8BEB-94D03A340B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5B0F-F1DA-4887-A314-A74DF7441D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D3F6-530D-4D61-B2AC-F0653A9C7F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39FD-8838-45D4-8749-6D0E09160A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Admin</cp:lastModifiedBy>
  <dcterms:modified xsi:type="dcterms:W3CDTF">2012-12-23T19:22:44Z</dcterms:modified>
  <cp:revision>53</cp:revision>
  <dc:subject/>
  <dc:title>Урок-обобщение по экономике для 6 классов</dc:title>
</cp:coreProperties>
</file>