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49B-7252-4C81-8390-58CD1CF9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AE0-1855-4374-AD48-48B54EA7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9F7-A0B3-48B6-9DC1-1160020D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AD3-71BE-4A35-82F1-D5EB122F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7FA-CF33-41BA-9C9A-46A9A336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83E-DC3F-42DC-8264-EA93592F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935-FD77-4E00-B476-7BACEE05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18F-029A-4D02-AF0B-B9AABE93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C6D-4BA7-4DC7-9A53-526789A3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6B2-4AF5-4C1E-B55C-1FACE86B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8B9-2413-4316-8B79-1D2A4997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574-CE99-441F-9CF0-BCBFE654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шакова Людмила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FF07-1B57-41FA-8990-4A9A3A5327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2133720"/>
            <a:ext cx="8208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187280" y="404640"/>
            <a:ext cx="70772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дратий Федорович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леев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3132000" y="5732640"/>
            <a:ext cx="306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1795 — 1826)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Рисунок 8" descr="untitled.bmp"/>
          <p:cNvPicPr/>
          <p:nvPr/>
        </p:nvPicPr>
        <p:blipFill>
          <a:blip r:embed="rId2"/>
          <a:stretch/>
        </p:blipFill>
        <p:spPr>
          <a:xfrm>
            <a:off x="3348000" y="2044800"/>
            <a:ext cx="27226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Из приговора по делу декабрис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Рылеев был признан виновным в том, что "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умышлял на цареубийство, назначал к совершению оного лица, умышлял на лишение свободы, на изгнание и на истребление Императорской фамилии и приготовлял к тому средства, усилил деятельность Северного общества, управлял оным, приуготовлял способы к бунту, составлял планы, заставлял сочинить манифест о разрушении правительства, сам сочинял и распространял возмутительные песни и стихи и принимал членов, приуготовлял главные средства к мятежу и начальствовал в оных, возбуждал к мятежу нижних чинов чрез их начальников посредством разных обольщений и во время мятежа сам приходил на площадь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w4"/>
          <p:cNvPicPr/>
          <p:nvPr/>
        </p:nvPicPr>
        <p:blipFill>
          <a:blip r:embed="rId1"/>
          <a:stretch/>
        </p:blipFill>
        <p:spPr>
          <a:xfrm>
            <a:off x="857160" y="714240"/>
            <a:ext cx="5832720" cy="432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ekab11"/>
          <p:cNvPicPr/>
          <p:nvPr/>
        </p:nvPicPr>
        <p:blipFill>
          <a:blip r:embed="rId2"/>
          <a:stretch/>
        </p:blipFill>
        <p:spPr>
          <a:xfrm>
            <a:off x="1979640" y="1989000"/>
            <a:ext cx="63784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Перед самой казнью Рылеев написал жене письмо, полное удивительного спокойствия и благодарного чувства за то счастье, которое она ему дарила в течение всей их супружеской жизни.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13-го июля, на рассвете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, казнь совершилась. Казнимые были в оковах выведены из своих келий и приведены к эшафоту. Когда приговор был им прочитан и они услышали слова: "за такие злодеяния повесить!" — Рылеев бодро обратился к товарищам: "Господа, надо отдать последний долг", и все они упали на колена, и, обращая взоры к небу, крестились. Рылеев молился вслух о благоденствии России. … «Вследствие дурного устройства эшафота, Рылеев выскользнул из петли и больно расшибся; то же случилось с Пестелем и Каховским. Их немедленно подняли, взяли другие веревки и повесили.» Где покоится прах Рылеева, в точности не изве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fivepush"/>
          <p:cNvPicPr/>
          <p:nvPr/>
        </p:nvPicPr>
        <p:blipFill>
          <a:blip r:embed="rId1"/>
          <a:stretch/>
        </p:blipFill>
        <p:spPr>
          <a:xfrm>
            <a:off x="539640" y="404640"/>
            <a:ext cx="3178440" cy="475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x1-Z5_094"/>
          <p:cNvPicPr/>
          <p:nvPr/>
        </p:nvPicPr>
        <p:blipFill>
          <a:blip r:embed="rId2"/>
          <a:stretch/>
        </p:blipFill>
        <p:spPr>
          <a:xfrm>
            <a:off x="2124000" y="1844640"/>
            <a:ext cx="67280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427640" y="260280"/>
            <a:ext cx="4402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Среди наших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гражданских поэтов Рылееву принадлежит первое место.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Нравственная чистота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"Рыцаря Полярной Звезды",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обаяние, которое он производил на окружающих, глубокая гражданская скорбь, жажда борьбы делают его одной из самых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ривлекательных, светлых личностей нашей культурной исто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entury Schoolbook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Century Schoolbook"/>
              </a:rPr>
              <a:t>"Я не поэт, а гражданин"-  говорил о себе Рылеев, но он был и гражданином, и поэтом,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и если применить к его произведениям то художественное мерило, которого он сам чуждался, придется заключить, что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в нем угасло большое художественное да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zinnm_34"/>
          <p:cNvPicPr/>
          <p:nvPr/>
        </p:nvPicPr>
        <p:blipFill>
          <a:blip r:embed="rId1"/>
          <a:stretch/>
        </p:blipFill>
        <p:spPr>
          <a:xfrm>
            <a:off x="179280" y="260280"/>
            <a:ext cx="4602240" cy="1765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20030510220858"/>
          <p:cNvPicPr/>
          <p:nvPr/>
        </p:nvPicPr>
        <p:blipFill>
          <a:blip r:embed="rId2"/>
          <a:stretch/>
        </p:blipFill>
        <p:spPr>
          <a:xfrm>
            <a:off x="1979640" y="4734000"/>
            <a:ext cx="2832120" cy="212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064"/>
          <p:cNvPicPr/>
          <p:nvPr/>
        </p:nvPicPr>
        <p:blipFill>
          <a:blip r:embed="rId3"/>
          <a:stretch/>
        </p:blipFill>
        <p:spPr>
          <a:xfrm>
            <a:off x="324000" y="1413000"/>
            <a:ext cx="31748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423-2"/>
          <p:cNvPicPr/>
          <p:nvPr/>
        </p:nvPicPr>
        <p:blipFill>
          <a:blip r:embed="rId1"/>
          <a:stretch/>
        </p:blipFill>
        <p:spPr>
          <a:xfrm>
            <a:off x="6659640" y="189000"/>
            <a:ext cx="2324160" cy="3240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Кондратий Федорович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             Рылее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19280" y="3213000"/>
            <a:ext cx="540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оэт, декабрист, член Северного об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один из руководителей восстания 14 декабря 1825. Создатель альманаха "Полярная звезд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064"/>
          <p:cNvPicPr/>
          <p:nvPr/>
        </p:nvPicPr>
        <p:blipFill>
          <a:blip r:embed="rId2"/>
          <a:stretch/>
        </p:blipFill>
        <p:spPr>
          <a:xfrm>
            <a:off x="179280" y="2205000"/>
            <a:ext cx="3175200" cy="428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i"/>
          <p:cNvPicPr/>
          <p:nvPr/>
        </p:nvPicPr>
        <p:blipFill>
          <a:blip r:embed="rId3"/>
          <a:stretch/>
        </p:blipFill>
        <p:spPr>
          <a:xfrm>
            <a:off x="4140360" y="981000"/>
            <a:ext cx="170640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 Narrow"/>
              </a:rPr>
              <a:t>Воспитание и 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Родился 18 сентября в имении Батово Петербургской губернии в семье армейского офицера, небогатого помещика.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Получил образование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 Кадетском корпусе (1801 — 1814) в Петербурге,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ыпущен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прапорщиком в артиллерию и направлен в армию, находившуюся в заграничном походе.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ебывание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в Германии, в Швейцарии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собенно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во Франци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е прошло бесследно для молодого офицера. «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Грандиозный пример обаяния Наполеон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на массы внушил ему мысль, что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и его личность сможет влиять так же сильно на окружающих;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он видел разницу между просвещенным западом и своей бедной родиной; он привык задумываться об историческом ходе развития общества, и в нем, еще незаметно для него самого,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начинало прозябать революционное семя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беда над Наполеоном побудила его взяться за перо, появились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оды: "Любовь к Отчизне" (1813), "Князю Смоленскому" (18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 1817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, переведенный в Россию, Рылеев служил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 Воронежской губерни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Как и другие передовые офицеры, он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тяготился аракчеевскими порядками в арми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, поэтому в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1818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ушел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 отставку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и переехал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 Петербург (18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7" descr="imagesCA2MJGSG.jpg"/>
          <p:cNvPicPr/>
          <p:nvPr/>
        </p:nvPicPr>
        <p:blipFill>
          <a:blip r:embed="rId1"/>
          <a:stretch/>
        </p:blipFill>
        <p:spPr>
          <a:xfrm>
            <a:off x="6659640" y="414972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imagesCA8ZHFGC.jpg"/>
          <p:cNvPicPr/>
          <p:nvPr/>
        </p:nvPicPr>
        <p:blipFill>
          <a:blip r:embed="rId2"/>
          <a:stretch/>
        </p:blipFill>
        <p:spPr>
          <a:xfrm>
            <a:off x="826920" y="4559400"/>
            <a:ext cx="1800360" cy="18334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imagesCA1431WT.jpg"/>
          <p:cNvPicPr/>
          <p:nvPr/>
        </p:nvPicPr>
        <p:blipFill>
          <a:blip r:embed="rId3"/>
          <a:stretch/>
        </p:blipFill>
        <p:spPr>
          <a:xfrm>
            <a:off x="3635280" y="4581360"/>
            <a:ext cx="2409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6" descr="imagesCA0R4VJT.jpg"/>
          <p:cNvPicPr/>
          <p:nvPr/>
        </p:nvPicPr>
        <p:blipFill>
          <a:blip r:embed="rId1"/>
          <a:stretch/>
        </p:blipFill>
        <p:spPr>
          <a:xfrm>
            <a:off x="7164360" y="1197000"/>
            <a:ext cx="1730520" cy="2300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 Narrow"/>
              </a:rPr>
              <a:t>Петербург. Северное тайное обществ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В Петербурге К. Рылеев сблизился со столичными  литераторами, стал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членом "Вольного общества  любителей российской словесности".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Особое место в творчестве поэта занимает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оэтический цикл "Думы" (1821 — 1823),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целью которых было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"напоминать юношеству о подвигах предков, знакомить его со светлейшими эпохами народной истории...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Романтическая направленность поэзии Ры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«Любовь к общественному благу» - основной импульс декабристской поэзии. Жизнь – подвиг, жертвоприношение себя на алтарь своб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ылеев презирает в своем поколении равнодушие к «бедствиям отчизны», к «угнетенной свободе челове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се высокое, прекрасное для поэта связано с движением: «кипящая душа», «бурный мятеж»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асширение художественного времени и социального пространства в стихотворении «Я ль буду в роковое время…»(1824 г.) дает возможность романтическому герою от оппозиции обществу перейти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к вере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, рождает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надежду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 справедливый ход времени, спасает от отчая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Эти направления в поэзии Рылеева окажутся близки А.С. Пушк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PR20051025150351"/>
          <p:cNvPicPr/>
          <p:nvPr/>
        </p:nvPicPr>
        <p:blipFill>
          <a:blip r:embed="rId1"/>
          <a:stretch/>
        </p:blipFill>
        <p:spPr>
          <a:xfrm>
            <a:off x="5583240" y="3860640"/>
            <a:ext cx="3560760" cy="2670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6443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В 1823 он был принят в члены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Северного тайного общества, вскоре став одним из его руководителей.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 В дни перед восстанием проявил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исключительную энергию, став душой предстоящего переворота, настаивал на необходимости решительных действий.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 В 1825 написал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поэму "Войнаровский",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 содержащую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пропаганду политических идей декабристов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; в ней выражено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кредо Рылеева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"Я не поэт, а гражданин".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 В этом же году им написана историческая поэма "Наливайко", политическая элегия "Гражданин"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9" descr="64089244_614.jpg"/>
          <p:cNvPicPr/>
          <p:nvPr/>
        </p:nvPicPr>
        <p:blipFill>
          <a:blip r:embed="rId2"/>
          <a:stretch/>
        </p:blipFill>
        <p:spPr>
          <a:xfrm>
            <a:off x="6084720" y="333360"/>
            <a:ext cx="2884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Попытка государственного перевор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, когда назначено было принесение войсками присяги Николаю Павловичу, бы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ковым днем для Северного общ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, в частности, для Рылеева. Многие из заговорщиков изменили данному слову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явили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енатскую площадь, где стояла сбитая с толку горсть солдат. Избранный 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диктаторы" князь Трубецкой не явился на площад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ылеев недолго был там и, видя полный неуспех задуманного дела, "увидал безначалие и неустройство", как показал он впоследствии своим судьям, и мрачный и опечаленный вернулся домой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дежда на успех вооруженного восстания разлетела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— и Рылеев сидел дома, погруженный в апатию, ничего не предпринимая. Ночью он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ыл арестован и отвезен во дворе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заговорщиков допрашивал сам государь. Оттуда его свез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Петропавловскую крепость, и он был заключен в каземат № 17 Алексеевского равели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государя он произвел, по-видимому, довольно выгодное впечатление, потому что он разрешил ему переписываться с женою и оказал ей значительное денежное пособие. Рылеева, как одного из самых важных деятелей заговора, часто вызывали в Следственную комиссию для дачи показаний и очных ставок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казания Рылеева отличались откровенностью, прямотою и спокойств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а товарищей своих он стоял горой и всячески старался своими показаниями облегчить их участь. Он осуждал себя и своих товарищей за их отчаянную попытку, упрекал себя в неумении взвешивать обстоятельства и оценивать реальные силы, но напоминал судьям, чт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дух времени — такая сила, перед которою они не в состоянии были устоять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684360" y="907920"/>
            <a:ext cx="345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-е декабря 1825 г.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" name="Picture 6" descr="078569"/>
          <p:cNvPicPr/>
          <p:nvPr/>
        </p:nvPicPr>
        <p:blipFill>
          <a:blip r:embed="rId1"/>
          <a:stretch/>
        </p:blipFill>
        <p:spPr>
          <a:xfrm>
            <a:off x="2268360" y="907920"/>
            <a:ext cx="5559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7:15:35Z</dcterms:created>
  <dc:creator>Elenlion</dc:creator>
  <dc:description/>
  <dc:language>en-US</dc:language>
  <cp:lastModifiedBy>Николай</cp:lastModifiedBy>
  <dcterms:modified xsi:type="dcterms:W3CDTF">2015-11-03T08:29:22Z</dcterms:modified>
  <cp:revision>19</cp:revision>
  <dc:subject/>
  <dc:title>Слайд 1</dc:title>
</cp:coreProperties>
</file>