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19C-7A24-4CD4-805F-BAE8D4EC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443-D88F-48BB-B217-BB22BC4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B0B-F53D-4351-8C95-EE6FC337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4B7-7E04-4F31-8616-DBCDE29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751-959B-4276-8F91-23C3C43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415-D104-42DC-AB08-B58A256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62F-C9B5-4E87-AE14-6A52228E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5A8-C065-46AD-865C-0556AF8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CA5-272B-42E6-8C85-781CCF6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1B-E2E8-4CD1-AF56-DC3B02C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B98-3562-4747-9FA8-EF59D8E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C4C-1110-4583-B472-42A3A49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7475-ECBA-47F1-91FB-326CBCDEB3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vidania.ru/temple/temple_moscow/moskovskii_kreml_borovizkaya_bashnya.html" TargetMode="External"/><Relationship Id="rId3" Type="http://schemas.openxmlformats.org/officeDocument/2006/relationships/hyperlink" Target="http://www.vidania.ru/temple/temple_moscow/moskovskii_kreml_komendantskaya_bashnya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temple/temple_moscow/moskovskii_kreml_kutafya_bashnya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56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vidania.ru/temple/temple_moscow/moskovskii_kreml_troizkaya_bashnya.html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3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04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303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hyperlink" Target="http://www.vidania.ru/temple/temple_moscow/moskovskii_kreml_spasskaya_bashnya.html" TargetMode="External"/><Relationship Id="rId6" Type="http://schemas.openxmlformats.org/officeDocument/2006/relationships/hyperlink" Target="http://www.vidania.ru/citymoscow.html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96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8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personnel/p_mihail_fedorovich_krotkii.html" TargetMode="External"/><Relationship Id="rId5" Type="http://schemas.openxmlformats.org/officeDocument/2006/relationships/hyperlink" Target="http://www.vidania.ru/temple/temple_moscow/moskovskii_kreml_nikolskaya_bashnya.html" TargetMode="External"/><Relationship Id="rId6" Type="http://schemas.openxmlformats.org/officeDocument/2006/relationships/hyperlink" Target="http://www.vidania.ru/temple/temple_moscow/moskovskii_kreml_troizkaya_bashnya.html" TargetMode="External"/><Relationship Id="rId7" Type="http://schemas.openxmlformats.org/officeDocument/2006/relationships/hyperlink" Target="http://www.vidania.ru/temple/temple_moscow/moskovskii_kreml_borovizkaya_bashnya.html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7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vidania.ru/temple/temple_moscow/hram_sobor_vasiliya_blazennog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p_vasilyivanovich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6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idania.ru/temple/temple_moscow/moskovskii_kreml_beklemishevskaya_bashnya.html" TargetMode="External"/><Relationship Id="rId4" Type="http://schemas.openxmlformats.org/officeDocument/2006/relationships/hyperlink" Target="http://www.vidania.ru/dmitrydonskoy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70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vidania.ru/ivangrozny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50;&#1088;&#1072;&#1089;&#1085;&#1072;&#1103;_&#1087;&#1083;&#1086;&#1097;&#1072;&#1076;&#1100;" TargetMode="External"/><Relationship Id="rId3" Type="http://schemas.openxmlformats.org/officeDocument/2006/relationships/hyperlink" Target="http://ru.wikipedia.org/wiki/&#1062;&#1077;&#1088;&#1082;&#1086;&#1074;&#1085;&#1086;&#1089;&#1083;&#1072;&#1074;&#1103;&#1085;&#1089;&#1082;&#1080;&#1081;_&#1103;&#1079;&#1099;&#1082;" TargetMode="External"/><Relationship Id="rId4" Type="http://schemas.openxmlformats.org/officeDocument/2006/relationships/hyperlink" Target="http://ru.wikipedia.org/wiki/&#1043;&#1088;&#1077;&#1095;&#1077;&#1089;&#1082;&#1080;&#1081;_&#1103;&#1079;&#1099;&#1082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3;&#1086;&#1083;&#1075;&#1086;&#1092;&#1072;" TargetMode="External"/><Relationship Id="rId7" Type="http://schemas.openxmlformats.org/officeDocument/2006/relationships/hyperlink" Target="http://ru.wikipedia.org/wiki/&#1055;&#1083;&#1086;&#1097;&#1072;&#1076;&#1100;_&#1042;&#1072;&#1089;&#1080;&#1083;&#1100;&#1077;&#1074;&#1089;&#1082;&#1086;&#1075;&#1086;_&#1057;&#1087;&#1091;&#1089;&#1082;&#1072;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05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vidania.ru/personnel/p_anna_ioannovna_romanova.html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vidania.ru/temple/temple_moscow/moskovskii_kreml_beklemishevskaya_bashnya.html" TargetMode="External"/><Relationship Id="rId3" Type="http://schemas.openxmlformats.org/officeDocument/2006/relationships/hyperlink" Target="http://www.vidania.ru/temple/temple_moscow/moskovskii_kreml_petrovskaya_bashny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vidania.ru/temple/temple_moscow/moskovskii_kreml_pervaya_bezyimyannaya_bashnya.html" TargetMode="External"/><Relationship Id="rId3" Type="http://schemas.openxmlformats.org/officeDocument/2006/relationships/hyperlink" Target="http://www.vidania.ru/citymoscow.html" TargetMode="External"/><Relationship Id="rId4" Type="http://schemas.openxmlformats.org/officeDocument/2006/relationships/hyperlink" Target="http://www.vidania.ru/temple/temple_moscow/moskovskii_kreml_tainizkaya_bashnya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vidania.ru/temple/temple_moscow/moskovskii_kreml_vtoraya_bezyimyannaya_bashnya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vidania.ru/temple/temple_moscow/moskovskii_kreml_tainizkaya_bashnya.html" TargetMode="External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citymoscow.html" TargetMode="External"/><Relationship Id="rId5" Type="http://schemas.openxmlformats.org/officeDocument/2006/relationships/hyperlink" Target="http://www.vidania.ru/personnel/p_ivan_3_vasilevich.html" TargetMode="External"/><Relationship Id="rId6" Type="http://schemas.openxmlformats.org/officeDocument/2006/relationships/hyperlink" Target="http://www.vidania.ru/temple/temple_moscow/moskovskii_kreml.html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hyperlink" Target="http://www.vidania.ru/dmitrydonskoy.html" TargetMode="External"/><Relationship Id="rId4" Type="http://schemas.openxmlformats.org/officeDocument/2006/relationships/hyperlink" Target="http://www.vidania.ru/p_vasilyivanovich.html" TargetMode="External"/><Relationship Id="rId5" Type="http://schemas.openxmlformats.org/officeDocument/2006/relationships/hyperlink" Target="http://www.vidania.ru/citymoscow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42920" y="404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Australia\Desktop\Новая папка\k01412.bmp"/>
          <p:cNvPicPr/>
          <p:nvPr/>
        </p:nvPicPr>
        <p:blipFill>
          <a:blip r:embed="rId1"/>
          <a:stretch/>
        </p:blipFill>
        <p:spPr>
          <a:xfrm>
            <a:off x="324000" y="1268280"/>
            <a:ext cx="49449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Рисунок4"/>
          <p:cNvPicPr/>
          <p:nvPr/>
        </p:nvPicPr>
        <p:blipFill>
          <a:blip r:embed="rId1"/>
          <a:stretch/>
        </p:blipFill>
        <p:spPr>
          <a:xfrm>
            <a:off x="250920" y="907920"/>
            <a:ext cx="3956040" cy="5767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427640" y="838800"/>
            <a:ext cx="370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ена межд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ровиц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ендантс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ашнями на северо-западной стороне кремлевской стены, сегодня протянувшейся вдоль Александровского сада. В начале XVII века она имела проездные ворота к Конюшенному двору в Кремле. Отсюда ее древнее наз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шня была выстроена в 1493-1495 годах. Не исключено, что в ее строительстве принимал участие итальянский архитектор Алевиз Фрязин (Старый). В 1676-1686 годах башня была надстроена шатровым верхом и по сегодняшний день хорошо сохранила свои средневековы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184040" y="-7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ужейная (Конюшен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Рисунок5"/>
          <p:cNvPicPr/>
          <p:nvPr/>
        </p:nvPicPr>
        <p:blipFill>
          <a:blip r:embed="rId1"/>
          <a:stretch/>
        </p:blipFill>
        <p:spPr>
          <a:xfrm>
            <a:off x="324000" y="836640"/>
            <a:ext cx="3876480" cy="5705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572000" y="983160"/>
            <a:ext cx="421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(Глухая, Колымажная)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северо-западной стороне кремлевской стены, сегодня протянувшейся вдоль Александровского сада. Называлась прежде Колымажной по располагавшемуся вблизи нее Колымажному двору в Кремле.В XIX веке башня получила название “Комендантская”, когда рядом в Кремле, в Потешном дворце XVII века поселился комендан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41,25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ыла построена в 1495 году итальянцем Алевизом Фрязином. В 1676—1686 годах эту башню, как и все остальные, надстроили декоративным шатровым верх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0960" y="-720"/>
            <a:ext cx="77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ендантская (Колымаж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Рисунок6"/>
          <p:cNvPicPr/>
          <p:nvPr/>
        </p:nvPicPr>
        <p:blipFill>
          <a:blip r:embed="rId1"/>
          <a:stretch/>
        </p:blipFill>
        <p:spPr>
          <a:xfrm>
            <a:off x="179280" y="907920"/>
            <a:ext cx="3787920" cy="5545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103640" y="1077120"/>
            <a:ext cx="4500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ранее — Ризоположенская, Знаменская, Каретная) — башня с воротами посередине северо-западной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бращена к Александровскому са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амая высокая башня Кремля. Высота башни в настоящее время вместе со звездой со стороны Александровского сада составляет 8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воротам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едёт Троицкий мост, защищаемы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утафьей башней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рота башни служат главным входом для посетителей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зируется Президентский оркестр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5—1499 гг. итальянским архитектором Алевизом Фрязиным Миланцем (итал. Aloisio da Milano). Башня называлась по-разному: Ризоположенская, Знаменская и Каретная. Своё нынешнее название получила в 1658 году по имени Троицкого подворья Кремля. В двухэтажном основании башни в XVI—XVII веках размещалась тюрьма. С 1585 по 1812 год на башне находились час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195640" y="18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Кутафья и Троицкая башни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5148360" cy="4584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219640" y="273600"/>
            <a:ext cx="3745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тафья (Предмостная)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башня напроти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роиц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нце Троицкого моста. Является барбака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13,5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сооружена в 1516 году под руководством миланского архитектора Алевиза Фрязина. Невысокая, окруженная рвом и рекой Неглинной, с единственными воротами, которые в минуты опасности наглухо закрывались подъемной частью моста, башня была грозной преградой для осаждавших крепость. Она имела бойницы подошвенного боя и машикули. В XVI—XVII веках уровень воды в реке Неглинной был высоко поднят плотинами, так что вода окружала башню со всех сторон. Первоначальная высота ее над уровнем земли равнялась 18 метр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ъехать в башню со стороны города можно было лишь по наклонному мо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969120" y="403920"/>
            <a:ext cx="34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тафь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Средняя Арсенальная (Гранёная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836640"/>
            <a:ext cx="432144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400" y="-720"/>
            <a:ext cx="75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яя Арсенальная (Гранёная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0" y="1047240"/>
            <a:ext cx="475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яя Арсенальная баш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башн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асположенная на северо-западной стороне Кремлёвской стены, протянувшейся вдоль Александровского с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шня построена в 1493-1495 годах на северо-западной стороне кремлевской стены, на месте угловой башни времени Дмитрия До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— от здания Арсе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Угловая Арсенальная (Собакина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4716360" y="704160"/>
            <a:ext cx="3888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ая Арсенальн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обакина) – самая мощная башн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на завершала оборонную линию со стороны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контролировала переправу через реку Неглинн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ведена в 1492 году Пьетро Антонио Солари (около 1450—1493) — итальянским зодч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шлом она выполняла не только оборонные функции. В башне был выкопан колодец, которым в случае осады мог пользоваться гарнизон крепости. Из Угловой Арсенальной башни шел тайный ход к реке Неглинной. В XV—XVI веках башню укрепили дополнительной стеной, огибающей ее полукругом. В 1672—1686 годах над ней возвели восьмигранный шатер, который заканчивался ажурным восьмериком с шатриком и флюг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77040" y="-7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овая Арсенальная (Собакина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Николь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472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4535640" y="940320"/>
            <a:ext cx="460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одна из баше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ыходящая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ую площадь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1 году по проекту итальянского архитектора Пьетро Антонио Солари. Названа по иконе святого Николая Чудотворца, размещавшейся над проездными воротами отводной стрельниц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: до звезды — 67,1 м, со звездой — 70,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12 году именно через ворот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пас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ен народное ополчение во главе с князем Дмитрием Пожарским и Кузьмой Мининым 1 ноября торжественно вступило в Кремль. Москвичи и жители окрестных селений с ликованием встречали победителей. (27 октября был подписан договор о капитуляции польского гарнизон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06 году башня была капитально перестроена архитектором А. И. Руска: прежняя надстройка была заменена готическим верхом с ажурными украшениями. Эти украшения, а также четыре башенки по углам нижнего четверика, являются главными отличиями Никольской башни от других башен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12 году взорвана отступающими из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в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французами, восстановлена в 1816 году архитектором Осипом Ивановичем Бо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905120" y="81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ль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Сенат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836640"/>
            <a:ext cx="4321080" cy="576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859280" y="119880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а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строена в 1491 году архитектором Пьетро Антонио Сол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вание башня получила после окончания строительства на территории Кремля в 1787 году Сенатского дворца. До этого времени особого названия не имела. В 1680 году над башней был надстроен каменный шатёр, завершающийся золотым флюге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34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башня имеет три яруса сводчатых поме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башней расположен Мавзолей Ленина.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690920" y="8172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ат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Спасская башня Московского Кремля. Вид от Исторического музе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4322880" cy="5761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210200" y="869040"/>
            <a:ext cx="493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башне расположены главные ворота Кремля — Спасские, в шатре башни установлены знаменитые часы — куран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до звезды — 67,3 м, со звездой — 71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ашня была сооружена в 1491 году в период княж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архитектором Пьетро Антонио Солари, о чём свидетельствуют белокаменные плиты с памятными надписями, установленные на самой баш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постройке башня была приблизительно вдвое ниже. В 1624-1625 годах английский архитектор Христофор Галовей при участии русского мастера Бажена Огурцова возвели над башней многоярусный верх в готическом стиле (в пятом ярусе имеются аркбутаны) с элементами маньеризма (несохранившиеся обнаженные статуи-«болваны»), образное решение которого восходит к башни ратуши в Брюсселе (окончена в 1455 г.), заканчивающийся каменным шатром. Фантастические фигурки — элемент декора — при царе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ихаиле Федорович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готу которых стыдливо прикрыли специально сшитыми одеждами. В середине XVII века на главную башню Кремля водрузили первого двуглавого орла, являвшегося гербом Российского государства. Впоследствии двуглавые орлы появились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Тро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Боров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н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263960" y="256320"/>
            <a:ext cx="56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ская (Фроловская)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Набатн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4083120" cy="5445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0" y="902160"/>
            <a:ext cx="37688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а на склоне кремлёвского холма напроти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храма Василия Блаженного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звание происходит от висевшего на ней Спасского набатного колокола, служившего для пожарной сигн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а сохранившая старинные формы башня была построена в 1495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ной четверик завершается машикулями с парапетом. Его внутренность состоит из двух ярусов: нижнего с плоским перекрытием и многочисленными помещениями, с лестницами и проёмами, обеспечивающими выход на стены, и верхнего с сомкнутым свод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38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80 году на башне был надстроен верхний арочный четверик и шатёр со смотровой вышкой. Четверик открыт в полость шатра. Детали и отделка верхнего четверика и шатра (кирпичные полуколонки четверика и смотровой вышки с белокаменными капителями и поясками) напоминают завершение Арсенальной баш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193840" y="18792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атная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ов"/>
          <p:cNvPicPr/>
          <p:nvPr/>
        </p:nvPicPr>
        <p:blipFill>
          <a:blip r:embed="rId1"/>
          <a:stretch/>
        </p:blipFill>
        <p:spPr>
          <a:xfrm>
            <a:off x="250920" y="549360"/>
            <a:ext cx="4140000" cy="6092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859280" y="377280"/>
            <a:ext cx="4105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также известна как Москворецкая) — башня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строена в 1487—1488 годах по проекту итальянского архитектора Марко Руффо. Основной цилиндр расположен на белокаменном цоколе с полукруглым валиком в месте сочленения. Башня имеет четыре яруса с возможностью кругового обстрела: три яруса круглых сводчатых помещений и верхний ярус, где расположены машикули и боевая площадка. В башне был устроен колодец и тайник-слух для предотвращения подкопа. В 1680 году над основным цилиндром был надстроен восьмерик с узким шатром и двумя рядами слухов. Шатёр башни не имеет внутренних перекрытий. Расположена в юго-восточном углу кремлёвского треугольника, около Москвы-реки и Москворецкого моста. Название происходит от двора боярина И.Н. Беклемишева, который был расположен внутри Кремля поблизости от башни. После казни Беклемишев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асилием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вор вместе с башней использовался как тюрьма для опальных боя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46,7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ная возле соединения Москвы-реки со рвом, башня выполняла важную оборонительную функцию, прикрывая, среди прочего, брод и переправу через Москву-реку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55640" y="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онстантино-Еленинская (Тимофеевская)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421308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4176720" y="848520"/>
            <a:ext cx="4967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на восточной стороне Кремля, выш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Беклемишевской башн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90 году итальянским архитектором Пьетро Антонио Солари (Петром Фрязиным) на месте Тимофеевских ворот белокаменного Кремл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Дмитрия Донского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овременное название башня получила после постройки неподалёку в Кремле в XVII веке церкви Константина и Елены (церковь была разрушена в 1928 год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36,8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редназначена для защиты подъездов к пристани на Москве-реке и близлежащих улиц Великого посада, идущих в сторону Зарядья: Всехсвятской (ныне Варварка) и Великой (позднее ставшей Мокринским переулком, а ныне и вовсе исчезнувшей). Первоначально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тантино-Еленинск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ыла проездной, с подъёмным мостом через ров и отводной стрельницей (дополнительной башней, соединённой с основной мостом). После 1508 года была достроена вторая отводная стрель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00360" y="141840"/>
            <a:ext cx="76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-Еленинская (Тимофеев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Цар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265640" cy="5688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918720"/>
            <a:ext cx="36720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самая молодая и самая маленькая башня сооружена в 1680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ого говоря, это не башня, а каменный терем, шатер, поставленный на стене. Когда-то здесь была небольшая деревянная башенка, с которой, по легенде, цар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V (Грозный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юбил наблюдать за событиями, происходившими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– отсюда и название баш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16,7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каменные пояски на столбах, высокие пирамидки по углам с позолоченными флажками, шатер, завершающийся золочёным изящным флюгером, – все это придаёт башне вид сказочного тер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546200" y="153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397480" y="830520"/>
            <a:ext cx="3746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бное место— памятник древнерусской архитектуры, находящийся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Москв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расной площад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Представляет собой возвышение, окружённое каменной огра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оводу этимологии названия существуют самые различные версии. Под одним из них, например, утверждается, что название Лобного места возникло оттого, что на этом месте «рубили лбы» или «складывали лбы». В других источниках утверждается, что «Лобное место» являетс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лавянски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ереводом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грече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Краниево место» или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еврей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Голгоф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 (такое название холм Голгофа получил из-за того, что верхняя его часть представляла собой голую скалу, отдаленно напоминавшую человеческий череп). На самом деле слово «лобное» означает всего лишь расположение: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Васильевский Спу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 начале которого находится Лобное место, в Средние века назывался «лбом» (распространённое название крутых спусков к реке в средневековой Росс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8"/>
          <p:cNvPicPr/>
          <p:nvPr/>
        </p:nvPicPr>
        <p:blipFill>
          <a:blip r:embed="rId8"/>
          <a:stretch/>
        </p:blipFill>
        <p:spPr>
          <a:xfrm>
            <a:off x="395280" y="1773360"/>
            <a:ext cx="4870440" cy="3597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55280" y="297720"/>
            <a:ext cx="31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бное м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Царь-колоко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0028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580000" y="1046880"/>
            <a:ext cx="316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уникального памятника художественного литья - Царь-колокола относится к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30 г. императриц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нна Ивановн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указала перелить разбитый колокол Григорьева с добавлением металла и довести вес колокола до 10 тыс. пуд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ыну фельдмаршала Миниха было поручено для отлидки колокола отыскать в Париже искусного мастера. Миних предложил выполнить эту сложную работу королевскому механику Жерменю, но тот принял за шутку требование вылить колокол такой велич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ить колокол, разбившийся при пожаре 1701 г., и установить его на колокольне Ивана Великого подрядился колокольного дела мастер Иван Федорович Моторин, без сомнения являвшийся самым выдающимся литейщиком своего врем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29080" y="41220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ь-колок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Царь-пушка"/>
          <p:cNvPicPr/>
          <p:nvPr/>
        </p:nvPicPr>
        <p:blipFill>
          <a:blip r:embed="rId1"/>
          <a:stretch/>
        </p:blipFill>
        <p:spPr>
          <a:xfrm>
            <a:off x="250920" y="836640"/>
            <a:ext cx="4157640" cy="5545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4643280" y="704520"/>
            <a:ext cx="3961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им из замечательных памятников военной техники и литейного искусства XVI—XIX вв. является Царь-пушка — самое большое по калибру орудие в мире. Она стоит у здания, построенного в 1810 г. архитектором И. В. Еготовым для Оружейной пал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арь-пушка отлита Андреем Чеховым в 1586 г. в Москве, на Пушечном дворе на берегу реки Неглинной (современный Театральный проезд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ина пушки — 5,34 м, наружный диаметр ствола — 120 см, диаметр узорного пояса у дула — 134 см, калибр 890 мм, масса — 39,31 т (2400 пудов). Украшена поясами рельефов, на правой стороне дульной части — изображение царя Фёдора Ивановича (в короне и со скипетром в руке) верхом на коне. На стволе с каждой стороны размещаются по четыре скобы, предназначенные для крепления канатов при перемещении пу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56000" y="-734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рь-пуш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Памятник Минину и Пожарскому"/>
          <p:cNvPicPr/>
          <p:nvPr/>
        </p:nvPicPr>
        <p:blipFill>
          <a:blip r:embed="rId1"/>
          <a:stretch/>
        </p:blipFill>
        <p:spPr>
          <a:xfrm>
            <a:off x="324000" y="1844640"/>
            <a:ext cx="504000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5724360" y="164520"/>
            <a:ext cx="280836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ие памятника Минину и Пожарскому скульптора Ивана Петровича Мартоса состоялось 20 февраля 1818 г. в присутствии императора, императрицы, «при бесчисленном скоплении народ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сскому скульптору Ивану Петровичу Мартосу (1754-1835 гг.). Первоначально монумент предназначался для Нижнего Новгорода, но по настоянию Мартоса, был поставлен в Москве. Хотели установить на Страстной площади, затем выбрали место перед зданием Верхних торговых рядов на Красной площади, где он и был установл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. П. Мартос изображает момент, когда Минин (фигура слева) обращается к раненому князю Пожарскому с призывом возглавить русское войско и изгнать поляков из Москвы. Стоя, он одной рукой вручает Пожарскому меч, а другой показывает ему на Кремль, призывая встать на защиту Отеч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2560" y="4035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Минину и Пожарско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Australia\Desktop\Новая папка\isi121a.bmp"/>
          <p:cNvPicPr/>
          <p:nvPr/>
        </p:nvPicPr>
        <p:blipFill>
          <a:blip r:embed="rId1"/>
          <a:stretch/>
        </p:blipFill>
        <p:spPr>
          <a:xfrm>
            <a:off x="2143080" y="285840"/>
            <a:ext cx="48578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Australia\Desktop\Новая папка\05nil003.bmp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Australia\Desktop\Новая папка\k_606.bmp"/>
          <p:cNvPicPr/>
          <p:nvPr/>
        </p:nvPicPr>
        <p:blipFill>
          <a:blip r:embed="rId1"/>
          <a:stretch/>
        </p:blipFill>
        <p:spPr>
          <a:xfrm>
            <a:off x="285840" y="285840"/>
            <a:ext cx="86374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324000" y="981000"/>
            <a:ext cx="3822480" cy="558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643280" y="910800"/>
            <a:ext cx="392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в части кремлёвской стены, проходящей вдоль Москвы-реки, рядом с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еклемишевской башней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подворья Угрешского монастыря с церковью Петра Митрополита, которое с XV по XVII век было расположено внутри Кремля поблизости от башни. В 1771 году для освобождения места под постройку Большого Кремлёвского дворца, подворье монастыря было разруш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27,1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башня, внешне сильно отличающаяся от соседних башен, отстраивалась заново много раз. Время первого строительства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ровс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чно неизвестно, предполагается, что её возвели вместе с другими башнями южной стены в 1480-х годах (некоторые источники указывают 1485—1487 го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33200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етровская (Угрешская) баш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Рисунок3"/>
          <p:cNvPicPr/>
          <p:nvPr/>
        </p:nvPicPr>
        <p:blipFill>
          <a:blip r:embed="rId1"/>
          <a:stretch/>
        </p:blipFill>
        <p:spPr>
          <a:xfrm>
            <a:off x="250920" y="907920"/>
            <a:ext cx="3840120" cy="5668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0" y="17715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ервая Безымянн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00720" y="1278000"/>
            <a:ext cx="410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простая в архитектурном отношении башня отстраивалась заново много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раз её возвели в 1480-х годах. В 1547 году башня разрушилась во время пожар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в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 взрыва устроенного в ней порохового склада; в XVII веке была возведена заново, причём на основном четверике был надстроен второй шатровый ярус. Башня была разобрана в 1770 году при подготовке постройки Баженовского Большого Кремлёвского дворца; после прекращения его строительства отстроена на новом месте, ближе 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Тайницкой баш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1783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812 году башня была взорвана отступавшими французами; в 1816—1835 годах была восстановлена архитектором О.И.Бо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/>
          <a:stretch/>
        </p:blipFill>
        <p:spPr>
          <a:xfrm>
            <a:off x="324000" y="1125360"/>
            <a:ext cx="3754440" cy="5505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торая Безымянная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11640" y="1423080"/>
            <a:ext cx="4603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80-х годах; в 1680-х годах над основным четвериком надстроен четырехгранный шатёр с дозорной вышкой. В начале XVIII века в башне были заложенные позже ворота. Как и многие другие башни южной стены, Вторая Безымянная башня была разобрана в 1771 году при подготовке постройки Баженовского Большого Кремлёвского дворца и после прекращения строительства дворца отстроена зан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- 3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д верхним четвериком вышки расположен восьмигранный шатёр с флюгером; верхний четверик открыт внутрь шатра. Внутренняя часть башни включает два уровня помещений; нижний ярус имеет цилиндрический свод, а верхний — сомкнут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Рисунок4"/>
          <p:cNvPicPr/>
          <p:nvPr/>
        </p:nvPicPr>
        <p:blipFill>
          <a:blip r:embed="rId1"/>
          <a:stretch/>
        </p:blipFill>
        <p:spPr>
          <a:xfrm>
            <a:off x="468360" y="1052640"/>
            <a:ext cx="3770280" cy="5516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53964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Тайн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643280" y="-48600"/>
            <a:ext cx="36705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оследние годы XV ве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задумал великую перестройку башен и стен Кремля. Начало этого строительства тесно связано с именем зодчего с итальянскими корнями (Антона Фрязина). Итальянский архитектор прибыл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 1469 году в составе свиты польского кардинала Виссариона для подготовки бра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Софьи Палеолог. Антон Фрязин в 1485 году заложил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ремля и впервые использовал для крепостного строительства кирпич. Этим нововведением было положено начало всеобщего обновл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70 — 1680 годах над четвериком башни русские мастера возвели каменный верх — открытый арочный четверик, завершённый четырехгранным шатром со смотровой выш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38,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XVIII века на Москве-реке, напротив Тайницких ворот устраивалась иордань в праздник Богоявления. Царский выход на иордань был одной из самых пышных церемо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70 — 1771 годах в связи со строительством Кремлевского дворца по проекту В. И. Баженов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разобрали, но потом восстанов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692280"/>
            <a:ext cx="399096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622880" y="-7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вещенска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788000" y="632880"/>
            <a:ext cx="3995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ранее существовавшей на башне иконы «Благовещение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32,4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предположительно в 1487-1488 годах; в 1680-х годах над основным четвериком надстроен каменный четырехгранный шатёр с декоративной дозорной выш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жний четверик башни завершается машикулями, площадкой для обороны и парапетом. Внутреннее пространство нижнего четверика имеет форму неправильного четырёхугольника и перекрыто сомкнутым сводом. Средний арочный четверик с широкими окнами отделён от шатра плоским перекрыт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ие же плоские перекрытия разделяют ярусы внутри шатра. В старину в башне существовал также подземный этаж, ныне полузасыпан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2"/>
          <p:cNvPicPr/>
          <p:nvPr/>
        </p:nvPicPr>
        <p:blipFill>
          <a:blip r:embed="rId1"/>
          <a:stretch/>
        </p:blipFill>
        <p:spPr>
          <a:xfrm>
            <a:off x="179280" y="907920"/>
            <a:ext cx="3900600" cy="5732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906560" y="188280"/>
            <a:ext cx="455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взводная башня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356000" y="1063800"/>
            <a:ext cx="4319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агается на углу Кремлёвской набережной и Александровского сада, на берегу Москва-реки. Возведена в 1488 году итальянским архитектором Антоном Фрязиным (Антонио Джиларди). Название Свиблова башня происходит от боярской фамилии Свибловы, двор которых примыкал к башне со стороны Крем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1,2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 из красивейших построек Кремля. Современное название получила в 1633 году после установки в ней водоподъемной машины, изготовленной под руководством Христофора Галовея, для подачи воды из Москвы-реки в Крем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юда и современное имя — Водовзводная. Это был первый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одопровод из баков, поставленных в верхних ее ярусах. Вода из нее была проведена «в государев Сытный и Кормовой дворец», а потом и в са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324000" y="1125360"/>
            <a:ext cx="378432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284720" y="1468080"/>
            <a:ext cx="4319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ходит к Александровскому саду и Боровицкой площади, располагаясь рядом с Большим Каменным мостом. Название башни, по легенде, происходит от древнего бора, покрывавшего когда-то один из семи холмов, на которых стоит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а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другой легенде, башня получила своё название от строителей белокаменного Кремля пр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Дмитрии Донск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троили эту часть жители Боров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5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постройки современной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 её месте существовала другая, имевшая то же название. Об этом свидетельствует запись о постройке в 1461 г. церкви Иоанна Предтечи «на бору», где было написано, что эта церковь стояла у «Боровитских вра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ва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ыла построена итальянским архитектором Пьетро Антонио Солари во время ремонта Кремля в 1490 году, по приказу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силия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архитектор в 1490 году прибыл из Милана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325880" y="15300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вицкая (Предтечен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42:21Z</dcterms:created>
  <dc:creator>Australia</dc:creator>
  <dc:description/>
  <dc:language>en-US</dc:language>
  <cp:lastModifiedBy>Garik</cp:lastModifiedBy>
  <dcterms:modified xsi:type="dcterms:W3CDTF">2013-12-05T17:07:51Z</dcterms:modified>
  <cp:revision>3</cp:revision>
  <dc:subject/>
  <dc:title>Слайд 1</dc:title>
</cp:coreProperties>
</file>