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5B7E-20FF-4F50-AFD1-BA7CE3C3B2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7319-A0FD-4242-8170-390B48C8B5A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424-3266-4569-95C6-0B6FDF20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14D-B714-4EAB-A307-D62D8E4C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86A-A2B0-4120-9292-A67C0E44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1D1-2BA3-4AEA-A6FA-035EDFDE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EDE9-369C-4E44-929D-B385964B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67E8-4439-4BDE-A70F-AABF0B21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9869-CE09-4BC3-91BD-C692E8CB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AFB4-5565-4298-A4C9-B149B4D8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85C4-3C27-4739-B744-316E134E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F98A-49A7-4749-AE1C-C7E336A0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1AB7-1A27-42DD-9421-53B3C22E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EF9-EB3A-4DFA-B0B9-ECE3E347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3E99-24F1-4B24-A7E9-BF0F24D1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1501-4FFE-4B89-BC03-61B65461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B001-B185-4F56-BA01-9BDCAF2D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E527-C367-493F-8BBB-5E46DA53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F0CF-F8B4-481A-8FAF-E55D06DE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DE3-EEBB-48ED-A630-D22E36E6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147-0DE4-4A9D-8852-381B57D4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64E-F9B7-4ECE-A4E9-FEAC8541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BD8-59B5-469A-80E2-AD434E6E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6DA-80B7-4CFE-B84E-6E6CBC21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8ED-5DB7-47C4-BBCA-6135779C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8E6-4D2F-448D-A97D-B6ACBD13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368F-E739-477B-8447-CDBB48D9F1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8527-D92B-4668-AB40-576C64848E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cc960"/>
                </a:solidFill>
                <a:latin typeface="Arial Black"/>
              </a:rPr>
              <a:t>АЗЕРБАЙДЖАН</a:t>
            </a:r>
            <a:endParaRPr b="0" lang="en-US" sz="7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C:\Users\эв\Desktop\z_45632113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5076720" y="105264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ймур Абба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484280"/>
            <a:ext cx="89647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з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, которая стремительно развивается в последние годы. Особенно интенсивно развивается лечебный туризм. Каждый год в Азербайджан приезжает в качестве туристов около полутора миллионов челове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ую очередь это связано с тем, что страна находится между  Европой и Азией. Также это связано с тем что, из 11 существующих климатических зон планеты, 9 представлены на территории страны, начиная от субтропиков и заканчивая высокогорными альпийскими луг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24000" y="981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C:\Users\эв\Desktop\Азербайджан - презентация\x_ca8e24f2.jpg"/>
          <p:cNvPicPr/>
          <p:nvPr/>
        </p:nvPicPr>
        <p:blipFill>
          <a:blip r:embed="rId1"/>
          <a:stretch/>
        </p:blipFill>
        <p:spPr>
          <a:xfrm>
            <a:off x="0" y="3933720"/>
            <a:ext cx="2266920" cy="292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эв\Desktop\Азербайджан - презентация\x_5acf1e0cc2.jpg"/>
          <p:cNvPicPr/>
          <p:nvPr/>
        </p:nvPicPr>
        <p:blipFill>
          <a:blip r:embed="rId2"/>
          <a:stretch/>
        </p:blipFill>
        <p:spPr>
          <a:xfrm>
            <a:off x="2268360" y="3933720"/>
            <a:ext cx="2124360" cy="292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:\Users\эв\Desktop\Азербайджан - презентация\z_a0e8b1ea.jpg"/>
          <p:cNvPicPr/>
          <p:nvPr/>
        </p:nvPicPr>
        <p:blipFill>
          <a:blip r:embed="rId3"/>
          <a:stretch/>
        </p:blipFill>
        <p:spPr>
          <a:xfrm>
            <a:off x="6659640" y="3933720"/>
            <a:ext cx="2484360" cy="292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:\Users\эв\Desktop\Азербайджан - презентация\z_3fc46cb6.jpg"/>
          <p:cNvPicPr/>
          <p:nvPr/>
        </p:nvPicPr>
        <p:blipFill>
          <a:blip r:embed="rId4"/>
          <a:stretch/>
        </p:blipFill>
        <p:spPr>
          <a:xfrm>
            <a:off x="4356000" y="3933720"/>
            <a:ext cx="237816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Баку, Девичья Башн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6" name="Picture 5" descr="C:\Users\эв\Desktop\Азербайджан - презентация\y_a8048384.jpg"/>
          <p:cNvPicPr/>
          <p:nvPr/>
        </p:nvPicPr>
        <p:blipFill>
          <a:blip r:embed="rId1"/>
          <a:stretch/>
        </p:blipFill>
        <p:spPr>
          <a:xfrm>
            <a:off x="250920" y="1484280"/>
            <a:ext cx="4392360" cy="537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Users\эв\Desktop\Азербайджан - презентация\y_0afb5efe.jpg"/>
          <p:cNvPicPr/>
          <p:nvPr/>
        </p:nvPicPr>
        <p:blipFill>
          <a:blip r:embed="rId2"/>
          <a:stretch/>
        </p:blipFill>
        <p:spPr>
          <a:xfrm>
            <a:off x="4643280" y="1484280"/>
            <a:ext cx="450072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олитическое устройств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560" y="836640"/>
            <a:ext cx="4033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яя поли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й государства является президент. Азербайджан — президентская республика. Президент избирается всенародным голосованием на 5 лет и назначает всех правительственных чиновник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ий законодательный орган Азербайджана — однопалатное Национальное Собрание (125 депутатов), избираемое всенародным голосованием на пятилетний срок по одномандатным округ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140000" y="764640"/>
            <a:ext cx="5003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яя политика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дипломатические отношения Азербайджан поддерживает с Израилем, Ираном, Казахстаном, США, Россией, Турцией, Италией. Азербайджан участвует во многих мировых и региональных международных организациях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Н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Г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неприсоедин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ЭС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черноморского экономического сотрудничеств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сламская конферен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юркский сов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 НАТО Партнёрство во имя ми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C:\Users\эв\Desktop\Азербайджан - презентация\Azerbaijan_Armed_Forces.png"/>
          <p:cNvPicPr/>
          <p:nvPr/>
        </p:nvPicPr>
        <p:blipFill>
          <a:blip r:embed="rId1"/>
          <a:stretch/>
        </p:blipFill>
        <p:spPr>
          <a:xfrm>
            <a:off x="250920" y="0"/>
            <a:ext cx="2340000" cy="981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Вооружённые силы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армия Азербайджа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НАА) — государственная военная организация, предназначенная для вооружённой защиты свободы, независимости и территориальной целостности Азербайджанской Республики. Состоит из сухопутных войск, военно-воздушных сил, войск противовоздушной обороны и военно-морских с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Азербайджанской армии считается 26 июня 1918, года однако современные вооружённые силы появились в годы Карабахской войны на основе объединения местных городских ополчений «отрядов самообороны». 9 октября 1991 года был издан указ о создании армии в трёхмесячный срок, однако реально армия была создана лишь к концу 1993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омента создания армия Азербайджана тесно сотрудничает с Вооружёнными силами Турции в сфере поставок оружия. Также НАА сотрудничает с ВС Израиля, Украины, США, Пакиста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4" descr="C:\Users\эв\Desktop\Азербайджан - презентация\Azerbaijan_Armed_Forces.png"/>
          <p:cNvPicPr/>
          <p:nvPr/>
        </p:nvPicPr>
        <p:blipFill>
          <a:blip r:embed="rId2"/>
          <a:stretch/>
        </p:blipFill>
        <p:spPr>
          <a:xfrm>
            <a:off x="6588000" y="0"/>
            <a:ext cx="234000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C:\Users\эв\Desktop\Азербайджан - презентация\Azerbaijan_Armed_Forces.png"/>
          <p:cNvPicPr/>
          <p:nvPr/>
        </p:nvPicPr>
        <p:blipFill>
          <a:blip r:embed="rId1"/>
          <a:stretch/>
        </p:blipFill>
        <p:spPr>
          <a:xfrm>
            <a:off x="250920" y="0"/>
            <a:ext cx="2340000" cy="981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Вооружённые силы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7" name="Picture 4" descr="C:\Users\эв\Desktop\Азербайджан - презентация\Azerbaijan_Armed_Forces.png"/>
          <p:cNvPicPr/>
          <p:nvPr/>
        </p:nvPicPr>
        <p:blipFill>
          <a:blip r:embed="rId2"/>
          <a:stretch/>
        </p:blipFill>
        <p:spPr>
          <a:xfrm>
            <a:off x="6588000" y="0"/>
            <a:ext cx="2340000" cy="9810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6" descr="800px-Special_forces_azerbaijan (1).png"/>
          <p:cNvPicPr/>
          <p:nvPr/>
        </p:nvPicPr>
        <p:blipFill>
          <a:blip r:embed="rId3"/>
          <a:stretch/>
        </p:blipFill>
        <p:spPr>
          <a:xfrm>
            <a:off x="684360" y="1557360"/>
            <a:ext cx="7991280" cy="514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ЕНОЦИД В ХОДЖАЛЫ - одно из самых чудовищных преступлений ХХ век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05520" y="1599840"/>
            <a:ext cx="40384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результат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то 613 человек, из них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- 63; женщин - 106, пожилых - 70 челов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семей уничтожены полность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детей потеряли обоих родителе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детей потеряли одного родите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но - 487 человека, из них, детей - 76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побывавшие в заложниках - 1275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ло без вести - 150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599840"/>
            <a:ext cx="4825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чь с 25 февраля на 26-е 1992 года армянские вооруженные формирования при поддержке тяжелой техники и личного состава 366-го мотострелкового полка бывшего СССР, расквартированного в городе Ханкенди осуществили захват города Ходжал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рму города предшествовал массированный обстрел из артиллерийских орудий, тяжелой военной техники, начатый еще вечером 25 феврал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этого, несмотря на то, что город уже был объят пламенем ,вооруженные формирования с особой жестокостью учинили расправу над мирным населением го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ЕНОЦИД В ХОДЖАЛЫ - одно из самых чудовищных преступлений ХХ век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484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ыглядываю в круглое окошко (вертолёта) и буквально отшатываюсь от неправдоподобно страшной картины. На жёлтой траве предгорья, где в тени ещё дотаивают серые лепёшки снега, остатки зимних сугробов, лежат мёртвые люди. Вся эта громадная площадь до близкого горизонта усеяна трупами женщин, стариков, старух, мальчиков и девочек всех возрастов, от грудного младенца до подростка.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 вырывает из месива тел две фигурки — бабушки и маленькой девочки. Бабушка, с седой непокрытой головой, лежит лицом вниз рядом с крошечной девочкой в голубой курточке с капюшоном. Ноги у них почему-то связаны колючей проволокой, а у бабушки связаны ещё и руки. Обе застрелены в голову. Последним жестом маленькая, лет четырёх, девочка протягивает руки к убитой бабушке. Ошеломлённый, я даже не сразу вспоминаю о камер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й телерепортёр Юрий Романов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C:\Users\эв\Desktop\Азербайджан - презентация\447.jpg"/>
          <p:cNvPicPr/>
          <p:nvPr/>
        </p:nvPicPr>
        <p:blipFill>
          <a:blip r:embed="rId1"/>
          <a:stretch/>
        </p:blipFill>
        <p:spPr>
          <a:xfrm>
            <a:off x="5219640" y="4869000"/>
            <a:ext cx="1882800" cy="198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эв\Desktop\Азербайджан - презентация\444.jpg"/>
          <p:cNvPicPr/>
          <p:nvPr/>
        </p:nvPicPr>
        <p:blipFill>
          <a:blip r:embed="rId2"/>
          <a:stretch/>
        </p:blipFill>
        <p:spPr>
          <a:xfrm>
            <a:off x="7093080" y="4869000"/>
            <a:ext cx="2050920" cy="198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Users\эв\Desktop\Азербайджан - презентация\xocali-3.jpg"/>
          <p:cNvPicPr/>
          <p:nvPr/>
        </p:nvPicPr>
        <p:blipFill>
          <a:blip r:embed="rId3"/>
          <a:stretch/>
        </p:blipFill>
        <p:spPr>
          <a:xfrm>
            <a:off x="3348000" y="4869000"/>
            <a:ext cx="1871640" cy="198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C:\Users\эв\Desktop\Азербайджан - презентация\events_03_1.jpg"/>
          <p:cNvPicPr/>
          <p:nvPr/>
        </p:nvPicPr>
        <p:blipFill>
          <a:blip r:embed="rId4"/>
          <a:stretch/>
        </p:blipFill>
        <p:spPr>
          <a:xfrm>
            <a:off x="1908000" y="4869000"/>
            <a:ext cx="1511640" cy="198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эв\Desktop\Азербайджан - презентация\1298607480_xocali-8.jpg"/>
          <p:cNvPicPr/>
          <p:nvPr/>
        </p:nvPicPr>
        <p:blipFill>
          <a:blip r:embed="rId5"/>
          <a:stretch/>
        </p:blipFill>
        <p:spPr>
          <a:xfrm>
            <a:off x="250920" y="4869000"/>
            <a:ext cx="172872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6"/>
          <p:cNvSpPr/>
          <p:nvPr/>
        </p:nvSpPr>
        <p:spPr>
          <a:xfrm>
            <a:off x="6875640" y="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79280" y="519588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ЗЕРБАЙДЖА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зерб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ərbaycan Respublikas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— государство в юго- западной части Азии.  Дата независимости 28 мая 1918 (от СССР: 18 октября 199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ит с Россией и Грузией на севере, Арменией на западе ,Ираном на юге и Турцией на западе. Нахичеванская Автономна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 — эксклав Азербайджан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Азербайджана - 86,6 тыс. кв. к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амая крупная из республик Закавказ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C:\Users\эв\Desktop\800px-Un-azerbaijan.png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5157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ГЕРБ И ФЛАГ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Содержимое 7" descr="800px-Flag_of_Azerbaijan.svg.png"/>
          <p:cNvPicPr/>
          <p:nvPr/>
        </p:nvPicPr>
        <p:blipFill>
          <a:blip r:embed="rId1"/>
          <a:stretch/>
        </p:blipFill>
        <p:spPr>
          <a:xfrm>
            <a:off x="468360" y="1557360"/>
            <a:ext cx="3809880" cy="367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эв\Desktop\Азербайджан - презентация\275px-Coat_of_arms_of_Azerbaijan.svg.png"/>
          <p:cNvPicPr/>
          <p:nvPr/>
        </p:nvPicPr>
        <p:blipFill>
          <a:blip r:embed="rId2"/>
          <a:stretch/>
        </p:blipFill>
        <p:spPr>
          <a:xfrm>
            <a:off x="4859280" y="155736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2"/>
          <p:cNvSpPr/>
          <p:nvPr/>
        </p:nvSpPr>
        <p:spPr>
          <a:xfrm>
            <a:off x="250920" y="53802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лаг и Герб был утверждён 1918 года в качестве государственного флага Азербайджанской Демократической Республики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обретения независимости в 1991 году флаг 5 февраля был утверждён в качестве государственного флага Азербайджанской Республи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акт ве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сентября 1994 года во дворце «Гюлистан», в Баку было заключено соглашение, которое ввиду его огромной значимости получило название «Контракт века». «Контракт Века» вошёл в список самых крупных соглашений как по количеству углеводородных запасов, так и по общему объёму предполагаемых инвестиций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«Контракта века» 80 % от общей чистой прибыли достается Азербайджану, а оставшиеся 20 % — инвестиционным компания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C:\Users\эв\Desktop\Азербайджан - презентация\Esrin_Mugavilesi.jpg"/>
          <p:cNvPicPr/>
          <p:nvPr/>
        </p:nvPicPr>
        <p:blipFill>
          <a:blip r:embed="rId1"/>
          <a:stretch/>
        </p:blipFill>
        <p:spPr>
          <a:xfrm>
            <a:off x="611280" y="3860640"/>
            <a:ext cx="792144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Столица государства – Ба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ально-аграрная страна с высокоразвитой промышленностью и многоотраслевым сельским хозяйством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ее место в хозяйстве Азербайджана занимают  нефте- и газодобывающая, нефтеперерабатывающая, химическая,машиностроительная, горнорудная промышленность (добыча железной руды и алунита) и цветная металлургия, разнообразные отрасли пищевой (консервная, чайная, табачная, винодельческая) и лёгкой (хлопкоочистительная, хлопчатобумажная, шёлковая, шерстяная, ковроткацкая) промышлен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 в последние годы лидирует среди стран СНГ по темпам экономического рост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3—2008 годах ВВП Азербайджана вырос в 2,6 раза; уровень бедности в государстве, с 2003 года, снизился с 45 до 11 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й рост продолжается непрерывно с 1996 года; в течение десяти лет экономика Азербайджана в среднем прибавляла по 13,6 % ежегодно (по сравнению с 1995 годом размер ВВП увеличился в 8,4 раза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09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Экономика. </a:t>
            </a:r>
            <a:br>
              <a:rPr sz="3200"/>
            </a:br>
            <a:r>
              <a:rPr b="0" i="1" lang="ru-RU" sz="3200" spc="-1" strike="noStrike">
                <a:solidFill>
                  <a:srgbClr val="999900"/>
                </a:solidFill>
                <a:latin typeface="Garamond"/>
              </a:rPr>
              <a:t>Национальный Банк Азербайджан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C:\Users\эв\Desktop\Азербайджан - презентация\Azeri_Square.JPG"/>
          <p:cNvPicPr/>
          <p:nvPr/>
        </p:nvPicPr>
        <p:blipFill>
          <a:blip r:embed="rId1"/>
          <a:stretch/>
        </p:blipFill>
        <p:spPr>
          <a:xfrm>
            <a:off x="1116000" y="1484280"/>
            <a:ext cx="626436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Содержимое 7" descr="800px-1-manat_front.jpg"/>
          <p:cNvPicPr/>
          <p:nvPr/>
        </p:nvPicPr>
        <p:blipFill>
          <a:blip r:embed="rId1"/>
          <a:stretch/>
        </p:blipFill>
        <p:spPr>
          <a:xfrm>
            <a:off x="395280" y="1916280"/>
            <a:ext cx="6624720" cy="2879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8"/>
          <p:cNvSpPr/>
          <p:nvPr/>
        </p:nvSpPr>
        <p:spPr>
          <a:xfrm>
            <a:off x="179280" y="482616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на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(азерб. 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Manat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 — официальная денежная единица Азербайджанской Республики, равный 100 гяпикам (азерб. 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qəpik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зербайджанский манат дважды подвергался деноминации — в 1992-м и 2006-м годах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ин азербайджанский манат равен примерно одному евр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395280" y="1484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Валю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560" y="1412640"/>
            <a:ext cx="8893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 поставляет в другие страны продукцию химической и топливной промышленности, цветной и чёрной металлургии, лёгкой промышленности . Из других стран в Азербайджан ввозится в основном готовая продукция: станки, различные сельскохозяйственные машины, автомобили, одежда, продовольственные товары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ВВП Азербайджана по большей части обеспечивается за счёт увеличения добычи и экспорта углеводородного сырь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95280" y="1052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Промышл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" descr="C:\Users\эв\Desktop\Азербайджан - презентация\800px-Oil_Rocks_near_Baku.jpg"/>
          <p:cNvPicPr/>
          <p:nvPr/>
        </p:nvPicPr>
        <p:blipFill>
          <a:blip r:embed="rId1"/>
          <a:stretch/>
        </p:blipFill>
        <p:spPr>
          <a:xfrm>
            <a:off x="250920" y="3645000"/>
            <a:ext cx="889308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560" y="191592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е хозяйство специализируется, в основном, на виноградарстве, садоводстве, табаководстве, овощеводстве, животноводстве и шелководстве. Главные технические культуры — хлопчатник, табак, чай. Развито раннее овощеводство, субтропическое плодоводство. Главные отрасли животноводства — овцеводство, молочно-мясное скотоводство, птицеводство, шелководств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68360" y="1557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Сельск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" descr="C:\Users\эв\Desktop\Азербайджан - презентация\z_40036692.jpg"/>
          <p:cNvPicPr/>
          <p:nvPr/>
        </p:nvPicPr>
        <p:blipFill>
          <a:blip r:embed="rId1"/>
          <a:stretch/>
        </p:blipFill>
        <p:spPr>
          <a:xfrm>
            <a:off x="684360" y="3789360"/>
            <a:ext cx="7920000" cy="2889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4:13:04Z</dcterms:created>
  <dc:creator>Teymur</dc:creator>
  <dc:description/>
  <dc:language>en-US</dc:language>
  <cp:lastModifiedBy>эв</cp:lastModifiedBy>
  <dcterms:modified xsi:type="dcterms:W3CDTF">2012-02-20T09:30:27Z</dcterms:modified>
  <cp:revision>61</cp:revision>
  <dc:subject/>
  <dc:title>Азербайджан</dc:title>
</cp:coreProperties>
</file>