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9A60-9005-4DEA-B82C-A1CCCDC8D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32FC-6C51-4E13-8D37-948C62B06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4B63-FF88-4385-B0C8-5F78C93BF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38E-A46A-4042-962F-C7FC90EE7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43E-F2D5-4953-BA9D-A6A062067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91FF-6185-4C97-AE83-033AC3E7B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DF57-AABB-478B-9916-866B0FDE3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04E7-B906-4F44-8224-1CCC0E02A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18E-D9D6-4A53-BACB-ADD3C70CA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085-2ADD-43B4-A2A6-900B189D6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85F-88B1-46B6-93EB-18C48E57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B97-E9C8-43C2-868C-AB81E15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B16-33AD-469D-AC56-0B418FF2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07A-FD15-40CB-895F-8742108D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DAF-6B39-4DA5-8F47-2C0A8E0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83D-02CB-4084-AB8A-6BC793A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654-E31B-41DE-BBB2-46B7676E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93F-5628-4242-BCE5-3B26D5E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41C-A11F-4B76-A4A7-4A37573B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247-BDF0-4FE0-852F-2486AF0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35A-AC3C-430D-9AE8-62D2E62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5E8-3F77-44B8-A151-8BE9827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F16-EEE2-4F8C-977B-F290EE0EF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9a8d46e23fe6a5356c9e43ffe4ad7a0_full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4800" spc="-1" strike="noStrike">
                <a:solidFill>
                  <a:srgbClr val="000066"/>
                </a:solidFill>
                <a:latin typeface="Flash"/>
              </a:rPr>
              <a:t>Литература </a:t>
            </a: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ХХ век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В.П. Астафьев. Рассказ «Конь с розовой гривой 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Текст Михаил Нем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Оформление Юрий Ря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O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321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В этом произведении рассказывается о деревенском мальчике- сироте, которому бабушка пообещала привезти «Пряник конём» за то, что тот соберёт ягод , а бабушка их продаст. Об этом прянике мечтали все деревенские мальчишки.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Пряник этот : «белый-белый ; А грива у него розовая, хвост розовый , глаза розовые , копыта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тоже розовые .»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Если у кого-то появлялся такой пряник , то остальные сразу начинали уважать , подлизываться, почести оказывать , чтобы только им позволили откусить от пряника кусочек или хотя бы лизну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0" descr="0_1497c_aeb1b8c_L"/>
          <p:cNvPicPr/>
          <p:nvPr/>
        </p:nvPicPr>
        <p:blipFill>
          <a:blip r:embed="rId2"/>
          <a:stretch/>
        </p:blipFill>
        <p:spPr>
          <a:xfrm>
            <a:off x="4500720" y="765000"/>
            <a:ext cx="453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3" descr="peiz_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bat"/>
              </a:rPr>
              <a:t>Один из друзей мальчика, Санька, давал дурные советы и побуждал на дурные поступки. Сначала Санька на спор заставил мальчика выбросить из туеска, наполненного наполовину, ягоды. Мальчик так и поступил . Потом посоветовал заполнить опустевший туесок травой , а сверху присыпать ягодами ; мальчик опять последовал со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53810_1600_1200"/>
          <p:cNvPicPr/>
          <p:nvPr/>
        </p:nvPicPr>
        <p:blipFill>
          <a:blip r:embed="rId2"/>
          <a:stretch/>
        </p:blipFill>
        <p:spPr>
          <a:xfrm>
            <a:off x="5651640" y="2565360"/>
            <a:ext cx="3176280" cy="3529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1" descr="Latgalsk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808200" y="1936800"/>
            <a:ext cx="41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 flipV="1" rot="21480000">
            <a:off x="620640" y="25956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4695840" y="128916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635280" y="1844640"/>
            <a:ext cx="96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408560" y="47628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03380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От радости бабушка не стала проверять ягоды, похвалила за работу и легла спать 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Ночью паренёк не мог заснуть. Он размышлял о том, что с ним будет и решил наутро признаться во всем бабу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2" descr="i_astafev-det_1"/>
          <p:cNvPicPr/>
          <p:nvPr/>
        </p:nvPicPr>
        <p:blipFill>
          <a:blip r:embed="rId2"/>
          <a:stretch/>
        </p:blipFill>
        <p:spPr>
          <a:xfrm>
            <a:off x="4932360" y="404640"/>
            <a:ext cx="3830760" cy="583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7" descr="Vesenn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4140000" cy="48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Наутро, когда мальчик проснулся, бабушки уже не было дома (уехала в город). Мальчишка очень расстроился. Он пошёл с друзьями порыбачить на озеро. По вечер  увидел плывущую с другого берега на лодке бабушку. Он побежал к дому, но ,когда увидел идущую от лодки бабушку, решил убежать подальше оттуда 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Мальчик ещё долго слышал бабушку, кричавшую вслед , но вскоре крик затих. Он бежал так долго, что и сам не заметил, как оказался на верхнем конце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0" descr="i_astafev-det_2"/>
          <p:cNvPicPr/>
          <p:nvPr/>
        </p:nvPicPr>
        <p:blipFill>
          <a:blip r:embed="rId2"/>
          <a:stretch/>
        </p:blipFill>
        <p:spPr>
          <a:xfrm>
            <a:off x="5219640" y="620640"/>
            <a:ext cx="3456000" cy="4321080"/>
          </a:xfrm>
          <a:prstGeom prst="rect">
            <a:avLst/>
          </a:prstGeom>
          <a:ln w="889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ole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Паренек вспомнил , что именно там живёт его двоюродный братишка Кеша. Тётя Феня – Кешина мама, накормила мальчика, но на ночь остаться не разрешила. Тётя отвела его к бабушке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Бабушка очень ругалась и сердилась, поэтому мальчик быстро забрался в кладовку .А бабушка ещё долго разговаривала с тётей Феней.</a:t>
            </a:r>
            <a:r>
              <a:rPr b="0" lang="ru-RU" sz="4000" spc="-1" strike="noStrike">
                <a:solidFill>
                  <a:srgbClr val="cc0000"/>
                </a:solidFill>
                <a:latin typeface="Arba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russian-village"/>
          <p:cNvPicPr/>
          <p:nvPr/>
        </p:nvPicPr>
        <p:blipFill>
          <a:blip r:embed="rId2"/>
          <a:stretch/>
        </p:blipFill>
        <p:spPr>
          <a:xfrm>
            <a:off x="1258920" y="3057480"/>
            <a:ext cx="6191280" cy="38005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v066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Наутро, когда проснулся, он обнаружил, что приехал дедушка. Мальчик долго страшился выйти, но вошёл дедушка, они поговорили и дедушка придал юноше уверенность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Мальчишка вышел из кладовки; бабушка всё еще злилась. Он сел за стол и стал есть приготовленную ему еду. Бабушка ещё долго ворчала и ругалась .Он не спорил, потому что знал, что будет хуже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Парнишка не надеялся ни на какое прощение или снисходительность, Но в самом конце бабушка со словами: «Бери, бери, чего смотришь? Глядишь, зато ещё когда обманешь бабушку…» - протянула внуку коня с розовой г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3901189_1157101974_1310693"/>
          <p:cNvPicPr/>
          <p:nvPr/>
        </p:nvPicPr>
        <p:blipFill>
          <a:blip r:embed="rId2"/>
          <a:stretch/>
        </p:blipFill>
        <p:spPr>
          <a:xfrm>
            <a:off x="2411280" y="333360"/>
            <a:ext cx="4265640" cy="30909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peiz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***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bat"/>
              </a:rPr>
              <a:t>Произведение Астафьева очень поучительное,т.к. в нем описываются как плохие черты характера: обман, мошенничество; так и хорошие черты: доброта, доверчивость,снисход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73e6"/>
          <p:cNvPicPr/>
          <p:nvPr/>
        </p:nvPicPr>
        <p:blipFill>
          <a:blip r:embed="rId2"/>
          <a:stretch/>
        </p:blipFill>
        <p:spPr>
          <a:xfrm>
            <a:off x="2556000" y="2205000"/>
            <a:ext cx="1234800" cy="1871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7" name="Picture 10" descr="1000198404"/>
          <p:cNvPicPr/>
          <p:nvPr/>
        </p:nvPicPr>
        <p:blipFill>
          <a:blip r:embed="rId3"/>
          <a:stretch/>
        </p:blipFill>
        <p:spPr>
          <a:xfrm>
            <a:off x="5148360" y="2205000"/>
            <a:ext cx="1218960" cy="1944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8" name="Picture 11" descr="1000465211"/>
          <p:cNvPicPr/>
          <p:nvPr/>
        </p:nvPicPr>
        <p:blipFill>
          <a:blip r:embed="rId4"/>
          <a:stretch/>
        </p:blipFill>
        <p:spPr>
          <a:xfrm>
            <a:off x="5148360" y="4437000"/>
            <a:ext cx="1295280" cy="2087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9" name="Picture 12" descr="bd135"/>
          <p:cNvPicPr/>
          <p:nvPr/>
        </p:nvPicPr>
        <p:blipFill>
          <a:blip r:embed="rId5"/>
          <a:stretch/>
        </p:blipFill>
        <p:spPr>
          <a:xfrm>
            <a:off x="2484360" y="4437000"/>
            <a:ext cx="1368360" cy="2102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деревня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bat"/>
              </a:rPr>
              <a:t>Конец</a:t>
            </a:r>
            <a:r>
              <a:rPr b="1" i="1" lang="en-US" sz="9600" spc="-1" strike="noStrike" u="sng">
                <a:solidFill>
                  <a:srgbClr val="ff0000"/>
                </a:solidFill>
                <a:uFillTx/>
                <a:latin typeface="Arbat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56:38Z</dcterms:created>
  <dc:creator>Vadis</dc:creator>
  <dc:description/>
  <dc:language>en-US</dc:language>
  <cp:lastModifiedBy>Оля</cp:lastModifiedBy>
  <dcterms:modified xsi:type="dcterms:W3CDTF">2013-10-29T07:50:05Z</dcterms:modified>
  <cp:revision>12</cp:revision>
  <dc:subject/>
  <dc:title>Слайд 1</dc:title>
</cp:coreProperties>
</file>