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C076-3A37-41D2-AED4-C42C491EAF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A02A-3D68-4209-B9F3-89AC94CD4A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9B28-3010-471C-AF51-579CACD0EE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11C0-C0B7-464B-A55F-D2721F61F7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8682-F22D-435A-8B8D-74DAB3DA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F058-5697-42A0-B30A-208C6AF1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745F-2607-47FC-9055-263AE802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7EF5-B6ED-46B3-B02A-AA01150B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CBA1-C5CB-40DF-ABBE-9749F774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686C-8DAC-4324-A90C-9AC21400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7F12-0C57-4FB9-A418-F9CCE94D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0FF6-3BEF-4AD6-ABB6-3B6A1555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0616-8310-4340-8EF3-3962E642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61D8-2364-40A7-BAA9-B413AD6E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3D57-8271-4629-9331-13AC2C8F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B296-3460-4AFE-8387-55ED21FB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AFDF-A221-4177-AEDE-D487D6A525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857240" y="2565360"/>
            <a:ext cx="71438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АРИФМЕТИЧЕСКИЕ  ДЕЙСТВ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ДВОИЧНОЙ СИСТЕМЕ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ЧИСЛЕНИЯ»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28760" y="2786040"/>
          <a:ext cx="8501040" cy="3786120"/>
        </p:xfrm>
        <a:graphic>
          <a:graphicData uri="http://schemas.openxmlformats.org/drawingml/2006/table">
            <a:tbl>
              <a:tblPr/>
              <a:tblGrid>
                <a:gridCol w="8501040"/>
              </a:tblGrid>
              <a:tr h="1262160">
                <a:tc>
                  <a:txBody>
                    <a:bodyPr lIns="63000" rIns="630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2673"/>
                          </a:solidFill>
                          <a:latin typeface="Calibri"/>
                          <a:ea typeface="Times New Roman"/>
                        </a:rPr>
                        <a:t>Заданы двоичные числа X и Y. Вычислите X+Y и X–Y, если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2673"/>
                          </a:solidFill>
                          <a:latin typeface="Calibri"/>
                          <a:ea typeface="Times New Roman"/>
                        </a:rPr>
                        <a:t>а) X=1000111, Y=11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2673"/>
                          </a:solidFill>
                          <a:latin typeface="Calibri"/>
                          <a:ea typeface="Times New Roman"/>
                        </a:rPr>
                        <a:t>б) X=100111, Y=1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1262160">
                <a:tc>
                  <a:txBody>
                    <a:bodyPr lIns="63000" rIns="630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2673"/>
                          </a:solidFill>
                          <a:latin typeface="Calibri"/>
                          <a:ea typeface="Times New Roman"/>
                        </a:rPr>
                        <a:t>Заданы двоичные числа X и Y. Вычислите X+Y–1001101, если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2673"/>
                          </a:solidFill>
                          <a:latin typeface="Calibri"/>
                          <a:ea typeface="Times New Roman"/>
                        </a:rPr>
                        <a:t>а) X=1010100, Y=110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2673"/>
                          </a:solidFill>
                          <a:latin typeface="Calibri"/>
                          <a:ea typeface="Times New Roman"/>
                        </a:rPr>
                        <a:t>б) X=100111, Y=1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1261800">
                <a:tc>
                  <a:txBody>
                    <a:bodyPr lIns="63000" rIns="630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2673"/>
                          </a:solidFill>
                          <a:latin typeface="Calibri"/>
                          <a:ea typeface="Times New Roman"/>
                        </a:rPr>
                        <a:t>Заданы двоичные числа X и Y. Вычислите X*Y и X:Y, если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2673"/>
                          </a:solidFill>
                          <a:latin typeface="Calibri"/>
                          <a:ea typeface="Times New Roman"/>
                        </a:rPr>
                        <a:t>а) X=11001, Y=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2673"/>
                          </a:solidFill>
                          <a:latin typeface="Calibri"/>
                          <a:ea typeface="Times New Roman"/>
                        </a:rPr>
                        <a:t>б) X=100111, Y=1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15" name="Rectangle 4"/>
          <p:cNvSpPr/>
          <p:nvPr/>
        </p:nvSpPr>
        <p:spPr>
          <a:xfrm>
            <a:off x="357120" y="1078200"/>
            <a:ext cx="857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  <a:ea typeface="Times New Roman"/>
              </a:rPr>
              <a:t>1) Выучить правила выполнения арифметических действий в двоичной системе счисления, выучить таблицы сложения, вычитания, умн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  <a:ea typeface="Times New Roman"/>
              </a:rPr>
              <a:t>2) Выполнить зад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357120" y="1167840"/>
            <a:ext cx="8786880" cy="52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: - )   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-  радостное лиц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: - (   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-  грустное лиц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; - )   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-  подмигивающая улыб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: 0 )   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-  клоу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8:-)    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- маленькая девоч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Прямоугольник 2" descr=""/>
          <p:cNvPicPr/>
          <p:nvPr/>
        </p:nvPicPr>
        <p:blipFill>
          <a:blip r:embed="rId1"/>
          <a:stretch/>
        </p:blipFill>
        <p:spPr>
          <a:xfrm>
            <a:off x="2054160" y="19080"/>
            <a:ext cx="5261040" cy="1150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Rectangle 1" descr=""/>
          <p:cNvPicPr/>
          <p:nvPr/>
        </p:nvPicPr>
        <p:blipFill>
          <a:blip r:embed="rId1"/>
          <a:stretch/>
        </p:blipFill>
        <p:spPr>
          <a:xfrm>
            <a:off x="85680" y="-30240"/>
            <a:ext cx="8966160" cy="610236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2" descr=""/>
          <p:cNvPicPr/>
          <p:nvPr/>
        </p:nvPicPr>
        <p:blipFill>
          <a:blip r:embed="rId2"/>
          <a:stretch/>
        </p:blipFill>
        <p:spPr>
          <a:xfrm>
            <a:off x="3670200" y="901800"/>
            <a:ext cx="1968480" cy="109836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3" descr=""/>
          <p:cNvPicPr/>
          <p:nvPr/>
        </p:nvPicPr>
        <p:blipFill>
          <a:blip r:embed="rId3"/>
          <a:stretch/>
        </p:blipFill>
        <p:spPr>
          <a:xfrm>
            <a:off x="5956200" y="2114640"/>
            <a:ext cx="1755720" cy="109836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4" descr=""/>
          <p:cNvPicPr/>
          <p:nvPr/>
        </p:nvPicPr>
        <p:blipFill>
          <a:blip r:embed="rId4"/>
          <a:stretch/>
        </p:blipFill>
        <p:spPr>
          <a:xfrm>
            <a:off x="5389560" y="3621240"/>
            <a:ext cx="1882800" cy="109692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5" descr=""/>
          <p:cNvPicPr/>
          <p:nvPr/>
        </p:nvPicPr>
        <p:blipFill>
          <a:blip r:embed="rId5"/>
          <a:stretch/>
        </p:blipFill>
        <p:spPr>
          <a:xfrm>
            <a:off x="7675560" y="5187960"/>
            <a:ext cx="1754280" cy="109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837360" y="214200"/>
            <a:ext cx="74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ЗАДАНИЕ «ТЕЗИСЫ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2714760" y="1143000"/>
            <a:ext cx="6072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Верно ли каждое из следующих утвержден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Если «Да», то записывайте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Если «Нет», то записывайте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В результате должно получиться двоичное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2500560" cy="319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500040" y="1000080"/>
            <a:ext cx="835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  <a:ea typeface="Times New Roman"/>
              </a:rPr>
              <a:t>Система счисления – это знаковая система, в которой числа записываются по определенным правилам с помощью символов некоторого алфавита, называемых цифр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3017520" y="0"/>
            <a:ext cx="314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ТЕЗИ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228120" y="500076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1 или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6006240" y="457200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262673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6"/>
          <p:cNvSpPr/>
          <p:nvPr/>
        </p:nvSpPr>
        <p:spPr>
          <a:xfrm>
            <a:off x="2148480" y="464328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262673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571680" y="114300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  <a:ea typeface="Times New Roman"/>
              </a:rPr>
              <a:t>Все системы счисления делятся на три большие группы: позиционные, непозиционные и полупозицион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723960" y="129528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  <a:ea typeface="Times New Roman"/>
              </a:rPr>
              <a:t>В позиционных системах счисления количественное значение цифры зависит от ее позиции в чис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0"/>
          <p:cNvSpPr/>
          <p:nvPr/>
        </p:nvSpPr>
        <p:spPr>
          <a:xfrm>
            <a:off x="571680" y="142884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Основанием двоичной системы счисления является число </a:t>
            </a:r>
            <a:r>
              <a:rPr b="1" lang="en-US" sz="3600" spc="-1" strike="noStrike">
                <a:solidFill>
                  <a:srgbClr val="262673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1"/>
          <p:cNvSpPr/>
          <p:nvPr/>
        </p:nvSpPr>
        <p:spPr>
          <a:xfrm>
            <a:off x="876240" y="144792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А21С</a:t>
            </a:r>
            <a:r>
              <a:rPr b="1" lang="en-US" sz="3600" spc="-1" strike="noStrike">
                <a:solidFill>
                  <a:srgbClr val="262673"/>
                </a:solidFill>
                <a:latin typeface="Arial"/>
              </a:rPr>
              <a:t>FD4</a:t>
            </a: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  записано в шестнадцатиричной  системе счис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2"/>
          <p:cNvSpPr/>
          <p:nvPr/>
        </p:nvSpPr>
        <p:spPr>
          <a:xfrm>
            <a:off x="876240" y="1447920"/>
            <a:ext cx="83581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156</a:t>
            </a:r>
            <a:r>
              <a:rPr b="1" lang="ru-RU" sz="3600" spc="-1" strike="noStrike" baseline="-30000">
                <a:solidFill>
                  <a:srgbClr val="262673"/>
                </a:solidFill>
                <a:latin typeface="Arial"/>
              </a:rPr>
              <a:t>7 </a:t>
            </a: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записано с ошибк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3"/>
          <p:cNvSpPr/>
          <p:nvPr/>
        </p:nvSpPr>
        <p:spPr>
          <a:xfrm>
            <a:off x="876240" y="144792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10, записанное в десятичной системе счисления, в двоичной системе счисления записывается как 1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4"/>
          <p:cNvSpPr/>
          <p:nvPr/>
        </p:nvSpPr>
        <p:spPr>
          <a:xfrm>
            <a:off x="785880" y="157176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10, записанное в десятичной системе счисления, меньше числа 10, записанного в восьмеричной системе счис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5"/>
          <p:cNvSpPr/>
          <p:nvPr/>
        </p:nvSpPr>
        <p:spPr>
          <a:xfrm>
            <a:off x="500040" y="1571760"/>
            <a:ext cx="83581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3005,23</a:t>
            </a:r>
            <a:r>
              <a:rPr b="1" lang="ru-RU" sz="3600" spc="-1" strike="noStrike" baseline="-30000">
                <a:solidFill>
                  <a:srgbClr val="262673"/>
                </a:solidFill>
                <a:latin typeface="Arial"/>
              </a:rPr>
              <a:t>4 </a:t>
            </a: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записано с ошибк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6"/>
          <p:cNvSpPr/>
          <p:nvPr/>
        </p:nvSpPr>
        <p:spPr>
          <a:xfrm>
            <a:off x="500040" y="157176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</a:t>
            </a:r>
            <a:r>
              <a:rPr b="1" lang="en-US" sz="3600" spc="-1" strike="noStrike">
                <a:solidFill>
                  <a:srgbClr val="262673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398 записано в восьмеричной системе счис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7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2"/>
          <p:cNvSpPr/>
          <p:nvPr/>
        </p:nvSpPr>
        <p:spPr>
          <a:xfrm>
            <a:off x="2857680" y="1143000"/>
            <a:ext cx="607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Полученное двоичное число переведите в десятичную, восьмеричную и шестнадцатиричную системы счис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2523960" cy="354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500040" y="1000080"/>
            <a:ext cx="835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  <a:ea typeface="Times New Roman"/>
              </a:rPr>
              <a:t>Система счисления – это знаковая система, в которой числа записываются по определенным правилам с помощью символов некоторого алфавита, называемых цифр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3017520" y="0"/>
            <a:ext cx="314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ТЕЗИ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2861640" y="4929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571680" y="114300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  <a:ea typeface="Times New Roman"/>
              </a:rPr>
              <a:t>Все системы счисления делятся на три большие группы: позиционные, непозиционные и полупозицион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723960" y="129528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  <a:ea typeface="Times New Roman"/>
              </a:rPr>
              <a:t>В позиционных системах счисления количественное значение цифры зависит от ее позиции в чис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"/>
          <p:cNvSpPr/>
          <p:nvPr/>
        </p:nvSpPr>
        <p:spPr>
          <a:xfrm>
            <a:off x="571680" y="142884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Основанием двоичной системы счисления является число </a:t>
            </a:r>
            <a:r>
              <a:rPr b="1" lang="en-US" sz="3600" spc="-1" strike="noStrike">
                <a:solidFill>
                  <a:srgbClr val="262673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1"/>
          <p:cNvSpPr/>
          <p:nvPr/>
        </p:nvSpPr>
        <p:spPr>
          <a:xfrm>
            <a:off x="876240" y="144792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А21С</a:t>
            </a:r>
            <a:r>
              <a:rPr b="1" lang="en-US" sz="3600" spc="-1" strike="noStrike">
                <a:solidFill>
                  <a:srgbClr val="262673"/>
                </a:solidFill>
                <a:latin typeface="Arial"/>
              </a:rPr>
              <a:t>FD4</a:t>
            </a: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  записано в шестнадцатиричной  системе счис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2"/>
          <p:cNvSpPr/>
          <p:nvPr/>
        </p:nvSpPr>
        <p:spPr>
          <a:xfrm>
            <a:off x="876240" y="1447920"/>
            <a:ext cx="83581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156</a:t>
            </a:r>
            <a:r>
              <a:rPr b="1" lang="ru-RU" sz="3600" spc="-1" strike="noStrike" baseline="-30000">
                <a:solidFill>
                  <a:srgbClr val="262673"/>
                </a:solidFill>
                <a:latin typeface="Arial"/>
              </a:rPr>
              <a:t>7 </a:t>
            </a: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записано с ошибк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3"/>
          <p:cNvSpPr/>
          <p:nvPr/>
        </p:nvSpPr>
        <p:spPr>
          <a:xfrm>
            <a:off x="876240" y="144792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10, записанное в десятичной системе счисления, в двоичной системе счисления записывается как 1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4"/>
          <p:cNvSpPr/>
          <p:nvPr/>
        </p:nvSpPr>
        <p:spPr>
          <a:xfrm>
            <a:off x="785880" y="157176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10, записанное в десятичной системе счисления, меньше числа 10, записанного в восьмеричной системе счис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5"/>
          <p:cNvSpPr/>
          <p:nvPr/>
        </p:nvSpPr>
        <p:spPr>
          <a:xfrm>
            <a:off x="500040" y="1571760"/>
            <a:ext cx="83581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3005,23</a:t>
            </a:r>
            <a:r>
              <a:rPr b="1" lang="ru-RU" sz="3600" spc="-1" strike="noStrike" baseline="-30000">
                <a:solidFill>
                  <a:srgbClr val="262673"/>
                </a:solidFill>
                <a:latin typeface="Arial"/>
              </a:rPr>
              <a:t>4 </a:t>
            </a: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записано с ошибк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6"/>
          <p:cNvSpPr/>
          <p:nvPr/>
        </p:nvSpPr>
        <p:spPr>
          <a:xfrm>
            <a:off x="500040" y="157176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</a:t>
            </a:r>
            <a:r>
              <a:rPr b="1" lang="en-US" sz="3600" spc="-1" strike="noStrike">
                <a:solidFill>
                  <a:srgbClr val="262673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398 записано в восьмеричной системе счис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7"/>
          <p:cNvSpPr/>
          <p:nvPr/>
        </p:nvSpPr>
        <p:spPr>
          <a:xfrm>
            <a:off x="3504600" y="4929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8"/>
          <p:cNvSpPr/>
          <p:nvPr/>
        </p:nvSpPr>
        <p:spPr>
          <a:xfrm>
            <a:off x="4075920" y="4929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9"/>
          <p:cNvSpPr/>
          <p:nvPr/>
        </p:nvSpPr>
        <p:spPr>
          <a:xfrm>
            <a:off x="4575960" y="4929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0"/>
          <p:cNvSpPr/>
          <p:nvPr/>
        </p:nvSpPr>
        <p:spPr>
          <a:xfrm>
            <a:off x="5147640" y="4929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1"/>
          <p:cNvSpPr/>
          <p:nvPr/>
        </p:nvSpPr>
        <p:spPr>
          <a:xfrm>
            <a:off x="5647680" y="4929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2"/>
          <p:cNvSpPr/>
          <p:nvPr/>
        </p:nvSpPr>
        <p:spPr>
          <a:xfrm>
            <a:off x="6719040" y="4929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3"/>
          <p:cNvSpPr/>
          <p:nvPr/>
        </p:nvSpPr>
        <p:spPr>
          <a:xfrm>
            <a:off x="6219000" y="4929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4"/>
          <p:cNvSpPr/>
          <p:nvPr/>
        </p:nvSpPr>
        <p:spPr>
          <a:xfrm>
            <a:off x="7219080" y="4929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5"/>
          <p:cNvSpPr/>
          <p:nvPr/>
        </p:nvSpPr>
        <p:spPr>
          <a:xfrm>
            <a:off x="7719120" y="4929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57120" y="3886200"/>
            <a:ext cx="2081160" cy="2971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3002040" cy="47149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3786120" y="1357200"/>
            <a:ext cx="4857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1010100010</a:t>
            </a:r>
            <a:r>
              <a:rPr b="1" lang="ru-RU" sz="36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 = 674</a:t>
            </a:r>
            <a:r>
              <a:rPr b="1" lang="ru-RU" sz="3600" spc="-1" strike="noStrike" baseline="-25000">
                <a:solidFill>
                  <a:srgbClr val="a50021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3857760" y="2428920"/>
            <a:ext cx="4857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1010100010</a:t>
            </a:r>
            <a:r>
              <a:rPr b="1" lang="ru-RU" sz="36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 = 1242</a:t>
            </a:r>
            <a:r>
              <a:rPr b="1" lang="ru-RU" sz="3600" spc="-1" strike="noStrike" baseline="-25000">
                <a:solidFill>
                  <a:srgbClr val="a50021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3857760" y="3500280"/>
            <a:ext cx="4857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1010100010</a:t>
            </a:r>
            <a:r>
              <a:rPr b="1" lang="ru-RU" sz="36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 = 2А2</a:t>
            </a:r>
            <a:r>
              <a:rPr b="1" lang="ru-RU" sz="3600" spc="-1" strike="noStrike" baseline="-25000">
                <a:solidFill>
                  <a:srgbClr val="a50021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Лаплас"/>
          <p:cNvPicPr/>
          <p:nvPr/>
        </p:nvPicPr>
        <p:blipFill>
          <a:blip r:embed="rId2"/>
          <a:stretch/>
        </p:blipFill>
        <p:spPr>
          <a:xfrm>
            <a:off x="214200" y="571680"/>
            <a:ext cx="2859120" cy="3816000"/>
          </a:xfrm>
          <a:prstGeom prst="rect">
            <a:avLst/>
          </a:prstGeom>
          <a:ln w="28440">
            <a:solidFill>
              <a:srgbClr val="99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5" name="Text Box 3"/>
          <p:cNvSpPr/>
          <p:nvPr/>
        </p:nvSpPr>
        <p:spPr>
          <a:xfrm>
            <a:off x="-214200" y="442908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Пьер Симон Лапл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французский астроном, математик и физ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(1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7</a:t>
            </a: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49 – 18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27 г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429000" y="3714840"/>
            <a:ext cx="5500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73"/>
                </a:solidFill>
                <a:latin typeface="Comic Sans MS"/>
              </a:rPr>
              <a:t>«Мысль – выражать  все числа немногими знаками, придавая им значение по форме, её значение по месту, настолько проста, что именно из-за этой простоты трудно оценить, насколько она удивительна …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214200" y="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Пьер Симон </a:t>
            </a: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Лаплас о своем отношении к двоич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                         </a:t>
            </a: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(бинарной)  системе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0" y="585792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Эти слова подчеркивают универсальность алфавита, состоящего из двух симво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Рисунок1"/>
          <p:cNvPicPr/>
          <p:nvPr/>
        </p:nvPicPr>
        <p:blipFill>
          <a:blip r:embed="rId3"/>
          <a:stretch/>
        </p:blipFill>
        <p:spPr>
          <a:xfrm>
            <a:off x="8058240" y="5429160"/>
            <a:ext cx="1085760" cy="142884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7"/>
          <p:cNvSpPr/>
          <p:nvPr/>
        </p:nvSpPr>
        <p:spPr>
          <a:xfrm>
            <a:off x="3357720" y="714240"/>
            <a:ext cx="5572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73"/>
                </a:solidFill>
                <a:latin typeface="Comic Sans MS"/>
              </a:rPr>
              <a:t>«В своей бинарной арифметике Лейбниц видел прообраз творения. Ему представлялось, что единица представляет божественное начало, а нуль – небытие и что высшее существо создает все из небытия точно таким же образом, как единица и нуль в его системе выражают все числа…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6"/>
          <p:cNvSpPr/>
          <p:nvPr/>
        </p:nvSpPr>
        <p:spPr>
          <a:xfrm>
            <a:off x="428760" y="2071800"/>
            <a:ext cx="8072280" cy="3286080"/>
          </a:xfrm>
          <a:prstGeom prst="rect">
            <a:avLst/>
          </a:prstGeom>
          <a:noFill/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68360" y="115920"/>
            <a:ext cx="846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        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Все позиционные системы счисления «одинаковы», а именно, во всех них выполняются  арифметические операции по одним и тем же правил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28760" y="1571760"/>
            <a:ext cx="8280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справедливы одни и те же законы арифме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-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коммутативный</a:t>
            </a: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п</a:t>
            </a: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ереместительный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+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=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+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                                                                        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·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=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·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ассоциативный</a:t>
            </a: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 (сочетатель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                              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(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+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) +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=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+ (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+ 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) =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+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+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                              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·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) ·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=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· (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· 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) =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·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·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дистрибутивный</a:t>
            </a: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 (распределительны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                    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(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+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) ·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=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· 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+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· 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71680" y="52862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справедливы правила сложения, вычитания, умножения и деления столбиком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500040" y="60278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правила выполнения арифметических операций опираются на таблицы сложения и умн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071440"/>
            <a:ext cx="392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С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43280" y="1143000"/>
          <a:ext cx="4500720" cy="3000240"/>
        </p:xfrm>
        <a:graphic>
          <a:graphicData uri="http://schemas.openxmlformats.org/drawingml/2006/table">
            <a:tbl>
              <a:tblPr/>
              <a:tblGrid>
                <a:gridCol w="1441440"/>
                <a:gridCol w="1311480"/>
                <a:gridCol w="1747800"/>
              </a:tblGrid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50000">
                          <a:srgbClr val="ffffff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ffff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ffff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</a:tr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ffff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50000">
                          <a:srgbClr val="ffffff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50000">
                          <a:srgbClr val="ffffff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ffff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50000">
                          <a:srgbClr val="ffffff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50000">
                          <a:srgbClr val="ffffff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08" name="Прямоугольник 3"/>
          <p:cNvSpPr/>
          <p:nvPr/>
        </p:nvSpPr>
        <p:spPr>
          <a:xfrm>
            <a:off x="5321880" y="5072040"/>
            <a:ext cx="366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У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4143240"/>
          <a:ext cx="4643280" cy="2714760"/>
        </p:xfrm>
        <a:graphic>
          <a:graphicData uri="http://schemas.openxmlformats.org/drawingml/2006/table">
            <a:tbl>
              <a:tblPr/>
              <a:tblGrid>
                <a:gridCol w="1487520"/>
                <a:gridCol w="1352520"/>
                <a:gridCol w="18032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×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50000">
                          <a:srgbClr val="ffffff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ffff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ffff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ffff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ffff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10" name="TextBox 5"/>
          <p:cNvSpPr/>
          <p:nvPr/>
        </p:nvSpPr>
        <p:spPr>
          <a:xfrm>
            <a:off x="1125000" y="428760"/>
            <a:ext cx="797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ТАБЛИЦЫ ОСНОВНЫХ АРИФМЕТИЧЕС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       </a:t>
            </a: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трелка вправо 6"/>
          <p:cNvSpPr/>
          <p:nvPr/>
        </p:nvSpPr>
        <p:spPr>
          <a:xfrm>
            <a:off x="3857760" y="2428920"/>
            <a:ext cx="714240" cy="42876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a50021"/>
          </a:solidFill>
          <a:ln w="9360">
            <a:solidFill>
              <a:srgbClr val="2626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лево 7"/>
          <p:cNvSpPr/>
          <p:nvPr/>
        </p:nvSpPr>
        <p:spPr>
          <a:xfrm>
            <a:off x="4714920" y="5286240"/>
            <a:ext cx="714240" cy="428760"/>
          </a:xfrm>
          <a:prstGeom prst="leftArrow">
            <a:avLst>
              <a:gd name="adj1" fmla="val 50000"/>
              <a:gd name="adj2" fmla="val 49975"/>
            </a:avLst>
          </a:prstGeom>
          <a:solidFill>
            <a:srgbClr val="a50021"/>
          </a:solidFill>
          <a:ln w="9360">
            <a:solidFill>
              <a:srgbClr val="2626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11:24:03Z</dcterms:created>
  <dc:creator>1</dc:creator>
  <dc:description/>
  <dc:language>en-US</dc:language>
  <cp:lastModifiedBy>USER</cp:lastModifiedBy>
  <dcterms:modified xsi:type="dcterms:W3CDTF">2010-12-19T14:34:31Z</dcterms:modified>
  <cp:revision>47</cp:revision>
  <dc:subject/>
  <dc:title>Тезисы</dc:title>
</cp:coreProperties>
</file>