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5FB8-463D-4CA3-9427-F7184C624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0A2D-0741-4AA6-9662-1C05C2696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18FF-83C6-4275-B042-B1991C2570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E250-F882-491A-9E9D-DCB3B65FB0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B97-727C-40DB-855D-8B5452A8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55F-CFBE-473E-8247-CDED0EC6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860-B5AB-48A5-84ED-91DF84B3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D12-DF90-40EA-80D8-EFEC0225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B1F-22D1-435B-A4F6-27C3F9D4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D94-A347-409D-9228-38D3E9D3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46A-3477-4141-B323-7FC456DF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886-71A9-4594-BF2B-E3874ACA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4E1-4DAC-4251-9D6F-8AB93083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406-E284-40C6-BFE6-4450D86C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BE3-68E8-4A3C-826C-DD1A025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A84-B1BC-420F-8BE7-CDEDA4B3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AA61-BB11-433A-8292-C877739AF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857240" y="2565360"/>
            <a:ext cx="71438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АРИФМЕТИЧЕСКИЕ  ДЕЙСТВ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ДВОИЧНОЙ СИСТЕМ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ЧИСЛЕНИЯ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2786040"/>
          <a:ext cx="8501040" cy="378612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1262160">
                <a:tc>
                  <a:txBody>
                    <a:bodyPr lIns="63000" rIns="630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Заданы двоичные числа X и Y. Вычислите X+Y и X–Y, есл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а) X=1000111, Y=11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б) X=100111, Y=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262160">
                <a:tc>
                  <a:txBody>
                    <a:bodyPr lIns="63000" rIns="630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Заданы двоичные числа X и Y. Вычислите X+Y–1001101, есл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а) X=1010100, Y=110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б) X=100111, Y=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261800">
                <a:tc>
                  <a:txBody>
                    <a:bodyPr lIns="63000" rIns="630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Заданы двоичные числа X и Y. Вычислите X*Y и X:Y, есл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а) X=11001, Y=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б) X=100111, Y=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5" name="Rectangle 4"/>
          <p:cNvSpPr/>
          <p:nvPr/>
        </p:nvSpPr>
        <p:spPr>
          <a:xfrm>
            <a:off x="357120" y="107820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  <a:ea typeface="Times New Roman"/>
              </a:rPr>
              <a:t>1) Выучить правила выполнения арифметических действий в двоичной системе счисления, выучить таблицы сложения, вычитания, умн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  <a:ea typeface="Times New Roman"/>
              </a:rPr>
              <a:t>2) Выполнить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57120" y="1167840"/>
            <a:ext cx="878688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: - )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радостное лиц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: - (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грустное лиц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; - )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подмигивающая улыб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: 0 )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кло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8:-) 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маленькая дево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2" descr=""/>
          <p:cNvPicPr/>
          <p:nvPr/>
        </p:nvPicPr>
        <p:blipFill>
          <a:blip r:embed="rId1"/>
          <a:stretch/>
        </p:blipFill>
        <p:spPr>
          <a:xfrm>
            <a:off x="2054160" y="19080"/>
            <a:ext cx="5261040" cy="115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1" descr=""/>
          <p:cNvPicPr/>
          <p:nvPr/>
        </p:nvPicPr>
        <p:blipFill>
          <a:blip r:embed="rId1"/>
          <a:stretch/>
        </p:blipFill>
        <p:spPr>
          <a:xfrm>
            <a:off x="85680" y="-30240"/>
            <a:ext cx="8966160" cy="610236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2" descr=""/>
          <p:cNvPicPr/>
          <p:nvPr/>
        </p:nvPicPr>
        <p:blipFill>
          <a:blip r:embed="rId2"/>
          <a:stretch/>
        </p:blipFill>
        <p:spPr>
          <a:xfrm>
            <a:off x="3670200" y="901800"/>
            <a:ext cx="1968480" cy="109836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3" descr=""/>
          <p:cNvPicPr/>
          <p:nvPr/>
        </p:nvPicPr>
        <p:blipFill>
          <a:blip r:embed="rId3"/>
          <a:stretch/>
        </p:blipFill>
        <p:spPr>
          <a:xfrm>
            <a:off x="5956200" y="2114640"/>
            <a:ext cx="1755720" cy="109836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" descr=""/>
          <p:cNvPicPr/>
          <p:nvPr/>
        </p:nvPicPr>
        <p:blipFill>
          <a:blip r:embed="rId4"/>
          <a:stretch/>
        </p:blipFill>
        <p:spPr>
          <a:xfrm>
            <a:off x="5389560" y="3621240"/>
            <a:ext cx="1882800" cy="109692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5" descr=""/>
          <p:cNvPicPr/>
          <p:nvPr/>
        </p:nvPicPr>
        <p:blipFill>
          <a:blip r:embed="rId5"/>
          <a:stretch/>
        </p:blipFill>
        <p:spPr>
          <a:xfrm>
            <a:off x="7675560" y="5187960"/>
            <a:ext cx="1754280" cy="109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837360" y="214200"/>
            <a:ext cx="74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ЗАДАНИЕ «ТЕЗИС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2714760" y="1143000"/>
            <a:ext cx="6072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ерно ли каждое из следующих утвержде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Если «Да», то записывайт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Если «Нет», то записывайте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 результате должно получиться двоич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2500560" cy="319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500040" y="10000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Система счисления – это знаковая система, в которой числа записываются по определенным правилам с помощью символов некоторого алфавита, называемых цифр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017520" y="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ТЕЗИ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228120" y="500076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 или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6006240" y="4572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62673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2148480" y="4643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62673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571680" y="11430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се системы счисления делятся на три большие группы: позиционные, непозиционные и полупозицио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723960" y="129528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 позиционных системах счисления количественное значение цифры зависит от ее позиции в чис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57168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Основанием двоичной системы счисления является 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А21С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FD4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  записано в шестнадцатиричной 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876240" y="144792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56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7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в двоичной системе счисления записывается как 1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785880" y="1571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меньше числа 10, записанног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500040" y="157176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3005,23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6"/>
          <p:cNvSpPr/>
          <p:nvPr/>
        </p:nvSpPr>
        <p:spPr>
          <a:xfrm>
            <a:off x="500040" y="15717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398 записан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2857680" y="1143000"/>
            <a:ext cx="60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Полученное двоичное число переведите в десятичную, восьмеричную и шестнадцатиричную системы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2523960" cy="35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500040" y="10000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Система счисления – это знаковая система, в которой числа записываются по определенным правилам с помощью символов некоторого алфавита, называемых цифр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017520" y="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ТЕЗИ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86164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71680" y="11430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се системы счисления делятся на три большие группы: позиционные, непозиционные и полупозицио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723960" y="129528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 позиционных системах счисления количественное значение цифры зависит от ее позиции в чис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57168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Основанием двоичной системы счисления является 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А21С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FD4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  записано в шестнадцатиричной 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876240" y="144792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56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7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в двоичной системе счисления записывается как 1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4"/>
          <p:cNvSpPr/>
          <p:nvPr/>
        </p:nvSpPr>
        <p:spPr>
          <a:xfrm>
            <a:off x="785880" y="1571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меньше числа 10, записанног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5"/>
          <p:cNvSpPr/>
          <p:nvPr/>
        </p:nvSpPr>
        <p:spPr>
          <a:xfrm>
            <a:off x="500040" y="157176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3005,23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6"/>
          <p:cNvSpPr/>
          <p:nvPr/>
        </p:nvSpPr>
        <p:spPr>
          <a:xfrm>
            <a:off x="500040" y="15717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398 записан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350460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407592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457596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514764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564768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671904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621900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721908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71912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7120" y="3886200"/>
            <a:ext cx="2081160" cy="29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3002040" cy="47149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3786120" y="1357200"/>
            <a:ext cx="4857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010100010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= 674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857760" y="2428920"/>
            <a:ext cx="48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010100010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= 1242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3857760" y="3500280"/>
            <a:ext cx="48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010100010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= 2А2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Лаплас"/>
          <p:cNvPicPr/>
          <p:nvPr/>
        </p:nvPicPr>
        <p:blipFill>
          <a:blip r:embed="rId2"/>
          <a:stretch/>
        </p:blipFill>
        <p:spPr>
          <a:xfrm>
            <a:off x="214200" y="571680"/>
            <a:ext cx="2859120" cy="3816000"/>
          </a:xfrm>
          <a:prstGeom prst="rect">
            <a:avLst/>
          </a:prstGeom>
          <a:ln w="2844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Text Box 3"/>
          <p:cNvSpPr/>
          <p:nvPr/>
        </p:nvSpPr>
        <p:spPr>
          <a:xfrm>
            <a:off x="-214200" y="44290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Пьер Симон Лапл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французский астроном, математик и физ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(1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7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49 – 18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27 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429000" y="3714840"/>
            <a:ext cx="5500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Comic Sans MS"/>
              </a:rPr>
              <a:t>«Мысль – выражать  все числа немногими знаками, придавая им значение по форме, её значение по месту, настолько проста, что именно из-за этой простоты трудно оценить, насколько она удивительна …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1420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ьер Симон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Лаплас о своем отношении к двои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                        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(бинарной)  системе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0" y="5857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Эти слова подчеркивают универсальность алфавита, состоящего из двух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Рисунок1"/>
          <p:cNvPicPr/>
          <p:nvPr/>
        </p:nvPicPr>
        <p:blipFill>
          <a:blip r:embed="rId3"/>
          <a:stretch/>
        </p:blipFill>
        <p:spPr>
          <a:xfrm>
            <a:off x="8058240" y="5429160"/>
            <a:ext cx="108576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7"/>
          <p:cNvSpPr/>
          <p:nvPr/>
        </p:nvSpPr>
        <p:spPr>
          <a:xfrm>
            <a:off x="3357720" y="714240"/>
            <a:ext cx="5572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Comic Sans MS"/>
              </a:rPr>
              <a:t>«В своей бинарной арифметике Лейбниц видел прообраз творения. Ему представлялось, что единица представляет божественное начало, а нуль – небытие и что высшее существо создает все из небытия точно таким же образом, как единица и нуль в его системе выражают все числа…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6"/>
          <p:cNvSpPr/>
          <p:nvPr/>
        </p:nvSpPr>
        <p:spPr>
          <a:xfrm>
            <a:off x="428760" y="2071800"/>
            <a:ext cx="8072280" cy="3286080"/>
          </a:xfrm>
          <a:prstGeom prst="rect">
            <a:avLst/>
          </a:pr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115920"/>
            <a:ext cx="84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Все позиционные системы счисления «одинаковы», а именно, во всех них выполняются  арифметические операции по одним и тем же прави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28760" y="1571760"/>
            <a:ext cx="8280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справедливы одни и те же законы арифме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коммутативный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ереместительны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ассоциативный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(сочетате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дистрибутивный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(распределитель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71680" y="52862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справедливы правила сложения, вычитания, умножения и деления столбико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00040" y="60278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правила выполнения арифметических операций опираются на таблицы сложения и 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07144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С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3280" y="1143000"/>
          <a:ext cx="4500720" cy="3000240"/>
        </p:xfrm>
        <a:graphic>
          <a:graphicData uri="http://schemas.openxmlformats.org/drawingml/2006/table">
            <a:tbl>
              <a:tblPr/>
              <a:tblGrid>
                <a:gridCol w="1441440"/>
                <a:gridCol w="1311480"/>
                <a:gridCol w="174780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8" name="Прямоугольник 3"/>
          <p:cNvSpPr/>
          <p:nvPr/>
        </p:nvSpPr>
        <p:spPr>
          <a:xfrm>
            <a:off x="5321880" y="5072040"/>
            <a:ext cx="36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У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4143240"/>
          <a:ext cx="4643280" cy="2714760"/>
        </p:xfrm>
        <a:graphic>
          <a:graphicData uri="http://schemas.openxmlformats.org/drawingml/2006/table">
            <a:tbl>
              <a:tblPr/>
              <a:tblGrid>
                <a:gridCol w="1487520"/>
                <a:gridCol w="1352520"/>
                <a:gridCol w="18032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0" name="TextBox 5"/>
          <p:cNvSpPr/>
          <p:nvPr/>
        </p:nvSpPr>
        <p:spPr>
          <a:xfrm>
            <a:off x="1125000" y="428760"/>
            <a:ext cx="797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ТАБЛИЦЫ ОСНОВНЫХ АРИФМЕТ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       </a:t>
            </a: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право 6"/>
          <p:cNvSpPr/>
          <p:nvPr/>
        </p:nvSpPr>
        <p:spPr>
          <a:xfrm>
            <a:off x="3857760" y="242892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0021"/>
          </a:solidFill>
          <a:ln w="936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7"/>
          <p:cNvSpPr/>
          <p:nvPr/>
        </p:nvSpPr>
        <p:spPr>
          <a:xfrm>
            <a:off x="4714920" y="5286240"/>
            <a:ext cx="714240" cy="42876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a50021"/>
          </a:solidFill>
          <a:ln w="936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1:24:03Z</dcterms:created>
  <dc:creator>1</dc:creator>
  <dc:description/>
  <dc:language>en-US</dc:language>
  <cp:lastModifiedBy>USER</cp:lastModifiedBy>
  <dcterms:modified xsi:type="dcterms:W3CDTF">2010-12-19T14:34:31Z</dcterms:modified>
  <cp:revision>47</cp:revision>
  <dc:subject/>
  <dc:title>Тезисы</dc:title>
</cp:coreProperties>
</file>