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D975-FEAB-432A-B265-C6C2FCF45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числения у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29 Виленкин Н.Я. 2006 г.изд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меры выполняются ученико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393-AB65-40CA-A7D3-79A5300E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627-E595-4F93-B7A5-42E4FB00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085-59E6-445F-AECF-F11E0974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536-D3ED-47F5-BAA0-2BC5CCE9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23D-BA39-4896-A4D8-BED6F6DB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CF1-0831-4964-B1B2-DCE8951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C22-45FD-4A02-ABC0-12C5B85F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660-76CF-4DE4-B7FD-AA0B0DF5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BC4-77E2-43A1-8702-928F1F1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799-07F9-46AA-85E8-9D4B133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72B-FB02-4C14-9238-9091F31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D25-A47D-42CA-B21D-FFC7007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4F7-2897-4A51-8669-9E5031C3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www.it-n.ru/profil.aspx?cat_no=692&amp;d_no=9658" TargetMode="External"/><Relationship Id="rId6" Type="http://schemas.openxmlformats.org/officeDocument/2006/relationships/hyperlink" Target="http://www.it-n.ru/profil.aspx?cat_no=692&amp;d_no=9658" TargetMode="External"/><Relationship Id="rId7" Type="http://schemas.openxmlformats.org/officeDocument/2006/relationships/hyperlink" Target="http://www.it-n.ru/profil.aspx?cat_no=692&amp;d_no=9658" TargetMode="External"/><Relationship Id="rId8" Type="http://schemas.openxmlformats.org/officeDocument/2006/relationships/hyperlink" Target="http://www.livegif.ru/" TargetMode="External"/><Relationship Id="rId9" Type="http://schemas.openxmlformats.org/officeDocument/2006/relationships/hyperlink" Target="http://www.livegif.ru/" TargetMode="External"/><Relationship Id="rId10" Type="http://schemas.openxmlformats.org/officeDocument/2006/relationships/hyperlink" Target="http://www.livegif.ru/" TargetMode="External"/><Relationship Id="rId11" Type="http://schemas.openxmlformats.org/officeDocument/2006/relationships/hyperlink" Target="http://www.livegif.ru/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1334200">
            <a:off x="439560" y="419040"/>
            <a:ext cx="7542360" cy="47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  чисел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  разными  знаками.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6560" y="4149720"/>
            <a:ext cx="146844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4680" y="3213000"/>
            <a:ext cx="1752480" cy="1825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МОУ СОШ №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г.Фо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Каратанов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267" name="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288040" y="1911240"/>
            <a:ext cx="2152440" cy="60336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1916280"/>
            <a:ext cx="2152800" cy="60300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1916280"/>
            <a:ext cx="2152440" cy="603000"/>
          </a:xfrm>
          <a:custGeom>
            <a:avLst/>
            <a:gdLst/>
            <a:ahLst/>
            <a:rect l="l" t="t" r="r" b="b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780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5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01440" y="3068640"/>
            <a:ext cx="37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3 + (-3) + (-3)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8160" y="306864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3) * 3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16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291" name="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43280" y="4437000"/>
            <a:ext cx="2887920" cy="538200"/>
          </a:xfrm>
          <a:custGeom>
            <a:avLst/>
            <a:gdLst/>
            <a:ahLst/>
            <a:rect l="l" t="t" r="r" b="b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4437000"/>
            <a:ext cx="2887560" cy="538200"/>
          </a:xfrm>
          <a:custGeom>
            <a:avLst/>
            <a:gdLst/>
            <a:ahLst/>
            <a:rect l="l" t="t" r="r" b="b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180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908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 flipH="1">
            <a:off x="250560" y="3573360"/>
            <a:ext cx="1298520" cy="1392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981080" y="55166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4 + (-4)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544500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4) * 2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 flipH="1">
            <a:off x="250560" y="5229360"/>
            <a:ext cx="1128600" cy="1439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Новая 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Georgia"/>
              </a:rPr>
              <a:t>Выполните   у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51672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258920" y="1268280"/>
            <a:ext cx="316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7 * 5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6920" y="2421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* (-3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1280" y="3789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* (-4)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71640" y="5084640"/>
            <a:ext cx="34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 * 15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981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00720" y="2205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357336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0720" y="4869000"/>
            <a:ext cx="2736720" cy="11300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66"/>
                </a:solidFill>
                <a:latin typeface="Times New Roman"/>
              </a:rPr>
              <a:t>-7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42920" y="126828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* (-7)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2920" y="249228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 * 6 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378936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4 * 20 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4360" y="515772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* (-5)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 flipH="1">
            <a:off x="-360" y="2852640"/>
            <a:ext cx="2452680" cy="400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39640" y="333360"/>
            <a:ext cx="3492720" cy="1152720"/>
          </a:xfrm>
          <a:prstGeom prst="wedgeEllipseCallout">
            <a:avLst>
              <a:gd name="adj1" fmla="val -27634"/>
              <a:gd name="adj2" fmla="val 18057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Вывод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752480" cy="1825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140360" y="333360"/>
            <a:ext cx="4608360" cy="265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двух чисел с разными знаками в результате получается отрицательное число, модуль которого равен произведению модулей мно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4941720"/>
            <a:ext cx="79236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2360" y="4941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3932280"/>
            <a:ext cx="79200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32360" y="3933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931920" y="5200200"/>
            <a:ext cx="273600" cy="273600"/>
            <a:chOff x="3931920" y="5200200"/>
            <a:chExt cx="273600" cy="273600"/>
          </a:xfrm>
        </p:grpSpPr>
        <p:sp>
          <p:nvSpPr>
            <p:cNvPr id="336" name=""/>
            <p:cNvSpPr/>
            <p:nvPr/>
          </p:nvSpPr>
          <p:spPr>
            <a:xfrm>
              <a:off x="3931920" y="521820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51000" y="520020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31920" y="4227120"/>
            <a:ext cx="273600" cy="273600"/>
            <a:chOff x="3931920" y="4227120"/>
            <a:chExt cx="273600" cy="273600"/>
          </a:xfrm>
        </p:grpSpPr>
        <p:sp>
          <p:nvSpPr>
            <p:cNvPr id="339" name=""/>
            <p:cNvSpPr/>
            <p:nvPr/>
          </p:nvSpPr>
          <p:spPr>
            <a:xfrm>
              <a:off x="3931920" y="424512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951000" y="422712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37080" y="4940280"/>
            <a:ext cx="792360" cy="780840"/>
            <a:chOff x="5437080" y="4940280"/>
            <a:chExt cx="792360" cy="780840"/>
          </a:xfrm>
        </p:grpSpPr>
        <p:sp>
          <p:nvSpPr>
            <p:cNvPr id="342" name=""/>
            <p:cNvSpPr/>
            <p:nvPr/>
          </p:nvSpPr>
          <p:spPr>
            <a:xfrm>
              <a:off x="5437080" y="4940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816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437080" y="3932280"/>
            <a:ext cx="792360" cy="780840"/>
            <a:chOff x="5437080" y="3932280"/>
            <a:chExt cx="792360" cy="780840"/>
          </a:xfrm>
        </p:grpSpPr>
        <p:sp>
          <p:nvSpPr>
            <p:cNvPr id="345" name=""/>
            <p:cNvSpPr/>
            <p:nvPr/>
          </p:nvSpPr>
          <p:spPr>
            <a:xfrm>
              <a:off x="5437080" y="3932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16360" y="432288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987640" y="3933720"/>
            <a:ext cx="792000" cy="781200"/>
            <a:chOff x="2987640" y="3933720"/>
            <a:chExt cx="792000" cy="781200"/>
          </a:xfrm>
        </p:grpSpPr>
        <p:sp>
          <p:nvSpPr>
            <p:cNvPr id="348" name=""/>
            <p:cNvSpPr/>
            <p:nvPr/>
          </p:nvSpPr>
          <p:spPr>
            <a:xfrm>
              <a:off x="2987640" y="3933720"/>
              <a:ext cx="792000" cy="7812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6920" y="4324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284720" y="4940280"/>
            <a:ext cx="792000" cy="780840"/>
            <a:chOff x="4284720" y="4940280"/>
            <a:chExt cx="792000" cy="780840"/>
          </a:xfrm>
        </p:grpSpPr>
        <p:sp>
          <p:nvSpPr>
            <p:cNvPr id="351" name=""/>
            <p:cNvSpPr/>
            <p:nvPr/>
          </p:nvSpPr>
          <p:spPr>
            <a:xfrm>
              <a:off x="4284720" y="4940280"/>
              <a:ext cx="79200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2908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355" name="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/>
              <a:ahLst/>
              <a:rect l="l" t="t" r="r" b="b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600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16000" y="2349360"/>
            <a:ext cx="358920" cy="621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621000"/>
              <a:gd name="textAreaBottom" fmla="*/ 603720 h 621000"/>
            </a:gdLst>
            <a:ahLst/>
            <a:rect l="textAreaLeft" t="textAreaTop" r="textAreaRight" b="textAreaBottom"/>
            <a:pathLst>
              <a:path w="21600" h="37356">
                <a:moveTo>
                  <a:pt x="3600" y="0"/>
                </a:moveTo>
                <a:arcTo wR="3600" hR="3600" stAng="16200000" swAng="-5400000"/>
                <a:lnTo>
                  <a:pt x="0" y="33756"/>
                </a:lnTo>
                <a:arcTo wR="3600" hR="3600" stAng="10800000" swAng="-5400000"/>
                <a:lnTo>
                  <a:pt x="18000" y="37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763640" y="2420640"/>
            <a:ext cx="0" cy="530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336680" cy="1392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116000" y="1268280"/>
            <a:ext cx="358920" cy="170208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1702080"/>
              <a:gd name="textAreaBottom" fmla="*/ 1684800 h 1702080"/>
            </a:gdLst>
            <a:ahLst/>
            <a:rect l="textAreaLeft" t="textAreaTop" r="textAreaRight" b="textAreaBottom"/>
            <a:pathLst>
              <a:path w="21600" h="102351">
                <a:moveTo>
                  <a:pt x="3600" y="0"/>
                </a:moveTo>
                <a:arcTo wR="3600" hR="3600" stAng="16200000" swAng="-5400000"/>
                <a:lnTo>
                  <a:pt x="0" y="98751"/>
                </a:lnTo>
                <a:arcTo wR="3600" hR="3600" stAng="10800000" swAng="-5400000"/>
                <a:lnTo>
                  <a:pt x="18000" y="102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763640" y="1268280"/>
            <a:ext cx="0" cy="160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771640" y="3068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1341360"/>
            <a:ext cx="738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7380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389" name="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/>
              <a:ahLst/>
              <a:rect l="l" t="t" r="r" b="b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16000" y="5589720"/>
              <a:ext cx="358920" cy="105084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1050840"/>
                <a:gd name="textAreaBottom" fmla="*/ 1033560 h 1050840"/>
              </a:gdLst>
              <a:ahLst/>
              <a:rect l="textAreaLeft" t="textAreaTop" r="textAreaRight" b="textAreaBottom"/>
              <a:pathLst>
                <a:path w="21600" h="63198">
                  <a:moveTo>
                    <a:pt x="3600" y="0"/>
                  </a:moveTo>
                  <a:arcTo wR="3600" hR="3600" stAng="16200000" swAng="-5400000"/>
                  <a:lnTo>
                    <a:pt x="0" y="59598"/>
                  </a:lnTo>
                  <a:arcTo wR="3600" hR="3600" stAng="10800000" swAng="-5400000"/>
                  <a:lnTo>
                    <a:pt x="18000" y="63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336680" cy="1392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 flipV="1">
            <a:off x="1763640" y="2924280"/>
            <a:ext cx="0" cy="2665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71640" y="3068640"/>
            <a:ext cx="36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2924280"/>
            <a:ext cx="358920" cy="2736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736720"/>
              <a:gd name="textAreaBottom" fmla="*/ 2719440 h 2736720"/>
            </a:gdLst>
            <a:ahLst/>
            <a:rect l="textAreaLeft" t="textAreaTop" r="textAreaRight" b="textAreaBottom"/>
            <a:pathLst>
              <a:path w="21600" h="164554">
                <a:moveTo>
                  <a:pt x="3600" y="0"/>
                </a:moveTo>
                <a:arcTo wR="3600" hR="3600" stAng="16200000" swAng="-5400000"/>
                <a:lnTo>
                  <a:pt x="0" y="160954"/>
                </a:lnTo>
                <a:arcTo wR="3600" hR="3600" stAng="10800000" swAng="-5400000"/>
                <a:lnTo>
                  <a:pt x="18000" y="16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63640" y="3645000"/>
            <a:ext cx="73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2)  На сколько изменится высота столбика ртути, если температура воздуха изменится на -5</a:t>
            </a:r>
            <a:r>
              <a:rPr b="1" i="1" lang="en-US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556000" y="537372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* (-5) = -15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6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181080" y="3530880"/>
            <a:ext cx="9556560" cy="1946520"/>
            <a:chOff x="-181080" y="3530880"/>
            <a:chExt cx="9556560" cy="1946520"/>
          </a:xfrm>
        </p:grpSpPr>
        <p:sp>
          <p:nvSpPr>
            <p:cNvPr id="422" name=""/>
            <p:cNvSpPr/>
            <p:nvPr/>
          </p:nvSpPr>
          <p:spPr>
            <a:xfrm rot="21243600">
              <a:off x="-153720" y="4098600"/>
              <a:ext cx="9521640" cy="64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-181080" y="3530880"/>
              <a:ext cx="9047880" cy="1946520"/>
              <a:chOff x="-181080" y="3530880"/>
              <a:chExt cx="9047880" cy="194652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-181080" y="3771720"/>
                <a:ext cx="4889520" cy="1705680"/>
                <a:chOff x="-181080" y="3771720"/>
                <a:chExt cx="4889520" cy="170568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3819240" y="3771720"/>
                  <a:ext cx="165240" cy="82440"/>
                  <a:chOff x="3819240" y="3771720"/>
                  <a:chExt cx="165240" cy="824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381924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90384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828520" y="4495680"/>
                  <a:ext cx="343080" cy="183960"/>
                  <a:chOff x="2828520" y="4495680"/>
                  <a:chExt cx="343080" cy="183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828520" y="4495680"/>
                    <a:ext cx="1620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004200" y="4497120"/>
                    <a:ext cx="1674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886320" y="5016600"/>
                  <a:ext cx="694440" cy="254880"/>
                  <a:chOff x="886320" y="5016600"/>
                  <a:chExt cx="694440" cy="254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0626600">
                    <a:off x="1251360" y="5024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0626600">
                    <a:off x="890640" y="507420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958920" y="4292280"/>
                  <a:ext cx="165240" cy="82800"/>
                  <a:chOff x="3958920" y="4292280"/>
                  <a:chExt cx="165240" cy="828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395892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04352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340160" y="4419360"/>
                  <a:ext cx="164520" cy="82800"/>
                  <a:chOff x="4340160" y="4419360"/>
                  <a:chExt cx="164520" cy="828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4340160" y="44193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424400" y="44197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476520" y="5029200"/>
                  <a:ext cx="164520" cy="82440"/>
                  <a:chOff x="3476520" y="5029200"/>
                  <a:chExt cx="164520" cy="824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3476520" y="5029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560760" y="5029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3247920" y="5079960"/>
                  <a:ext cx="164520" cy="82440"/>
                  <a:chOff x="3247920" y="5079960"/>
                  <a:chExt cx="164520" cy="8244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324792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33216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3082680" y="5105160"/>
                  <a:ext cx="165240" cy="82800"/>
                  <a:chOff x="3082680" y="5105160"/>
                  <a:chExt cx="165240" cy="82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082680" y="510516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167280" y="5105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3082680" y="5003640"/>
                  <a:ext cx="165240" cy="82440"/>
                  <a:chOff x="3082680" y="5003640"/>
                  <a:chExt cx="165240" cy="824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308268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16728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3159000" y="4940280"/>
                  <a:ext cx="164520" cy="82440"/>
                  <a:chOff x="3159000" y="4940280"/>
                  <a:chExt cx="164520" cy="824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3159000" y="4940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243240" y="4940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3222360" y="4914720"/>
                  <a:ext cx="165240" cy="82440"/>
                  <a:chOff x="3222360" y="4914720"/>
                  <a:chExt cx="165240" cy="824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3222360" y="4914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306960" y="4915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3298680" y="4876560"/>
                  <a:ext cx="164520" cy="82800"/>
                  <a:chOff x="3298680" y="4876560"/>
                  <a:chExt cx="164520" cy="828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3298680" y="487656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382920" y="4876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501720" y="4800600"/>
                  <a:ext cx="165240" cy="82440"/>
                  <a:chOff x="3501720" y="4800600"/>
                  <a:chExt cx="165240" cy="824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350172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58632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904840" y="5041800"/>
                  <a:ext cx="165240" cy="82440"/>
                  <a:chOff x="2904840" y="5041800"/>
                  <a:chExt cx="165240" cy="824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904840" y="5041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989440" y="5042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2676240" y="5092560"/>
                  <a:ext cx="165240" cy="82440"/>
                  <a:chOff x="2676240" y="5092560"/>
                  <a:chExt cx="165240" cy="824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67624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76084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2511360" y="5118120"/>
                  <a:ext cx="164520" cy="82440"/>
                  <a:chOff x="2511360" y="5118120"/>
                  <a:chExt cx="164520" cy="824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511360" y="51181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95600" y="51184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2511360" y="5016240"/>
                  <a:ext cx="164520" cy="82800"/>
                  <a:chOff x="2511360" y="5016240"/>
                  <a:chExt cx="164520" cy="828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2511360" y="50162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595600" y="5016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2587320" y="4952880"/>
                  <a:ext cx="165240" cy="82440"/>
                  <a:chOff x="2587320" y="4952880"/>
                  <a:chExt cx="165240" cy="824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2587320" y="4952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671920" y="4953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2651040" y="4927320"/>
                  <a:ext cx="164520" cy="82800"/>
                  <a:chOff x="2651040" y="4927320"/>
                  <a:chExt cx="164520" cy="828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2651040" y="492732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735280" y="4927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2727000" y="4889520"/>
                  <a:ext cx="165240" cy="82440"/>
                  <a:chOff x="2727000" y="4889520"/>
                  <a:chExt cx="165240" cy="8244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272700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81160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2930400" y="4813200"/>
                  <a:ext cx="164520" cy="82440"/>
                  <a:chOff x="2930400" y="4813200"/>
                  <a:chExt cx="164520" cy="824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293040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01464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2193840" y="5232240"/>
                  <a:ext cx="164520" cy="82440"/>
                  <a:chOff x="2193840" y="5232240"/>
                  <a:chExt cx="164520" cy="82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193840" y="52322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78080" y="52326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1965240" y="5283000"/>
                  <a:ext cx="164520" cy="82440"/>
                  <a:chOff x="1965240" y="5283000"/>
                  <a:chExt cx="164520" cy="824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1965240" y="5283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049480" y="5283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1800000" y="5308560"/>
                  <a:ext cx="165240" cy="82440"/>
                  <a:chOff x="1800000" y="5308560"/>
                  <a:chExt cx="165240" cy="824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800000" y="5308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884600" y="5308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1800000" y="5206680"/>
                  <a:ext cx="165240" cy="82800"/>
                  <a:chOff x="1800000" y="5206680"/>
                  <a:chExt cx="165240" cy="8280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1800000" y="52066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1884600" y="5207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1876320" y="5143320"/>
                  <a:ext cx="164520" cy="82440"/>
                  <a:chOff x="1876320" y="5143320"/>
                  <a:chExt cx="164520" cy="8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1876320" y="5143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960560" y="5143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1939680" y="5118120"/>
                  <a:ext cx="165240" cy="82440"/>
                  <a:chOff x="1939680" y="5118120"/>
                  <a:chExt cx="165240" cy="824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1939680" y="5118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024280" y="5118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2016000" y="5079960"/>
                  <a:ext cx="164520" cy="82440"/>
                  <a:chOff x="2016000" y="5079960"/>
                  <a:chExt cx="164520" cy="824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2016000" y="5079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100240" y="5080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2219040" y="5003640"/>
                  <a:ext cx="165240" cy="82440"/>
                  <a:chOff x="2219040" y="5003640"/>
                  <a:chExt cx="165240" cy="824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221904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30364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466560" y="4520880"/>
                  <a:ext cx="164520" cy="82800"/>
                  <a:chOff x="466560" y="4520880"/>
                  <a:chExt cx="164520" cy="828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466560" y="452088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50800" y="45212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237960" y="4572000"/>
                  <a:ext cx="164520" cy="82440"/>
                  <a:chOff x="237960" y="4572000"/>
                  <a:chExt cx="164520" cy="824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237960" y="45720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22200" y="45723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2720" y="4597200"/>
                  <a:ext cx="165240" cy="82440"/>
                  <a:chOff x="72720" y="4597200"/>
                  <a:chExt cx="165240" cy="824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7272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5732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2720" y="4495680"/>
                  <a:ext cx="165240" cy="82440"/>
                  <a:chOff x="72720" y="4495680"/>
                  <a:chExt cx="165240" cy="824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2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57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149040" y="4432320"/>
                  <a:ext cx="164520" cy="82440"/>
                  <a:chOff x="149040" y="4432320"/>
                  <a:chExt cx="164520" cy="8244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149040" y="44323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33280" y="44326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212400" y="4406760"/>
                  <a:ext cx="165240" cy="82440"/>
                  <a:chOff x="212400" y="4406760"/>
                  <a:chExt cx="165240" cy="824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2124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970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288720" y="4368600"/>
                  <a:ext cx="165240" cy="82440"/>
                  <a:chOff x="288720" y="4368600"/>
                  <a:chExt cx="165240" cy="824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288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73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491760" y="4292280"/>
                  <a:ext cx="165240" cy="82800"/>
                  <a:chOff x="491760" y="4292280"/>
                  <a:chExt cx="165240" cy="828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491760" y="42922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76360" y="4292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212400" y="5225760"/>
                  <a:ext cx="367920" cy="120960"/>
                  <a:chOff x="212400" y="5225760"/>
                  <a:chExt cx="367920" cy="12096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flipV="1">
                    <a:off x="406080" y="52257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flipV="1">
                    <a:off x="212040" y="52430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-16200" y="5276520"/>
                  <a:ext cx="367920" cy="120960"/>
                  <a:chOff x="-16200" y="5276520"/>
                  <a:chExt cx="367920" cy="1209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flipV="1">
                    <a:off x="177480" y="527652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-16560" y="529380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-181080" y="5301720"/>
                  <a:ext cx="367920" cy="120600"/>
                  <a:chOff x="-181080" y="5301720"/>
                  <a:chExt cx="367920" cy="12060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flipV="1">
                    <a:off x="12240" y="53013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flipV="1">
                    <a:off x="-181440" y="53193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-181080" y="5200200"/>
                  <a:ext cx="367920" cy="120600"/>
                  <a:chOff x="-181080" y="5200200"/>
                  <a:chExt cx="367920" cy="1206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flipV="1">
                    <a:off x="12240" y="519984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>
                    <a:off x="-181440" y="521784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-105120" y="5136840"/>
                  <a:ext cx="367920" cy="120960"/>
                  <a:chOff x="-105120" y="5136840"/>
                  <a:chExt cx="367920" cy="1209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88200" y="513684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flipV="1">
                    <a:off x="-105480" y="515412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-41400" y="5111280"/>
                  <a:ext cx="367920" cy="120600"/>
                  <a:chOff x="-41400" y="5111280"/>
                  <a:chExt cx="367920" cy="1206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H="1" flipV="1">
                    <a:off x="152280" y="511092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-41760" y="512892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34560" y="5073120"/>
                  <a:ext cx="367920" cy="120600"/>
                  <a:chOff x="34560" y="5073120"/>
                  <a:chExt cx="367920" cy="1206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flipV="1">
                    <a:off x="228240" y="5072760"/>
                    <a:ext cx="1738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flipV="1">
                    <a:off x="33840" y="5090760"/>
                    <a:ext cx="179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237960" y="4997160"/>
                  <a:ext cx="367920" cy="120960"/>
                  <a:chOff x="237960" y="4997160"/>
                  <a:chExt cx="367920" cy="1209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431640" y="4997160"/>
                    <a:ext cx="1738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flipV="1">
                    <a:off x="237600" y="5014440"/>
                    <a:ext cx="1796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2054160" y="5092560"/>
                  <a:ext cx="164520" cy="82440"/>
                  <a:chOff x="2054160" y="5092560"/>
                  <a:chExt cx="164520" cy="824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2054160" y="5092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138400" y="5092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1523880" y="4064400"/>
                  <a:ext cx="1740600" cy="447840"/>
                  <a:chOff x="1523880" y="4064400"/>
                  <a:chExt cx="1740600" cy="447840"/>
                </a:xfrm>
              </p:grpSpPr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1523880" y="4064400"/>
                    <a:ext cx="978480" cy="447840"/>
                    <a:chOff x="1523880" y="4064400"/>
                    <a:chExt cx="978480" cy="447840"/>
                  </a:xfrm>
                </p:grpSpPr>
                <p:grpSp>
                  <p:nvGrpSpPr>
                    <p:cNvPr id="565" name=""/>
                    <p:cNvGrpSpPr/>
                    <p:nvPr/>
                  </p:nvGrpSpPr>
                  <p:grpSpPr>
                    <a:xfrm>
                      <a:off x="1523880" y="4118760"/>
                      <a:ext cx="492120" cy="393480"/>
                      <a:chOff x="1523880" y="4118760"/>
                      <a:chExt cx="492120" cy="393480"/>
                    </a:xfrm>
                  </p:grpSpPr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1821600" y="4118760"/>
                        <a:ext cx="194400" cy="277200"/>
                        <a:chOff x="1821600" y="4118760"/>
                        <a:chExt cx="194400" cy="277200"/>
                      </a:xfrm>
                    </p:grpSpPr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flipH="1" rot="21099600">
                          <a:off x="183816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H="1" rot="21099600">
                          <a:off x="1846800" y="413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9" name=""/>
                      <p:cNvGrpSpPr/>
                      <p:nvPr/>
                    </p:nvGrpSpPr>
                    <p:grpSpPr>
                      <a:xfrm>
                        <a:off x="1705680" y="4161960"/>
                        <a:ext cx="220680" cy="288720"/>
                        <a:chOff x="1705680" y="4161960"/>
                        <a:chExt cx="220680" cy="288720"/>
                      </a:xfrm>
                    </p:grpSpPr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 flipH="1" rot="20649000">
                          <a:off x="1734840" y="4179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 flipH="1" rot="20649000">
                          <a:off x="174528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2" name=""/>
                      <p:cNvGrpSpPr/>
                      <p:nvPr/>
                    </p:nvGrpSpPr>
                    <p:grpSpPr>
                      <a:xfrm>
                        <a:off x="1523880" y="4212720"/>
                        <a:ext cx="268920" cy="299520"/>
                        <a:chOff x="1523880" y="4212720"/>
                        <a:chExt cx="268920" cy="299520"/>
                      </a:xfrm>
                    </p:grpSpPr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 flipH="1" rot="19542600">
                          <a:off x="1576800" y="4237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 flipH="1" rot="19542600">
                          <a:off x="1594080" y="4250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75" name=""/>
                    <p:cNvGrpSpPr/>
                    <p:nvPr/>
                  </p:nvGrpSpPr>
                  <p:grpSpPr>
                    <a:xfrm>
                      <a:off x="2021040" y="4064400"/>
                      <a:ext cx="481320" cy="341280"/>
                      <a:chOff x="2021040" y="4064400"/>
                      <a:chExt cx="481320" cy="341280"/>
                    </a:xfrm>
                  </p:grpSpPr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2021040" y="4064400"/>
                        <a:ext cx="165600" cy="259200"/>
                        <a:chOff x="2021040" y="4064400"/>
                        <a:chExt cx="165600" cy="259200"/>
                      </a:xfrm>
                    </p:grpSpPr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 rot="21544800">
                          <a:off x="202284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 rot="21544800">
                          <a:off x="207252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9" name=""/>
                      <p:cNvGrpSpPr/>
                      <p:nvPr/>
                    </p:nvGrpSpPr>
                    <p:grpSpPr>
                      <a:xfrm>
                        <a:off x="2119320" y="4090320"/>
                        <a:ext cx="187920" cy="272520"/>
                        <a:chOff x="2119320" y="4090320"/>
                        <a:chExt cx="187920" cy="272520"/>
                      </a:xfrm>
                    </p:grpSpPr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 rot="395400">
                          <a:off x="2132280" y="4098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 rot="395400">
                          <a:off x="2180880" y="4104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2" name=""/>
                      <p:cNvGrpSpPr/>
                      <p:nvPr/>
                    </p:nvGrpSpPr>
                    <p:grpSpPr>
                      <a:xfrm>
                        <a:off x="2254320" y="4107600"/>
                        <a:ext cx="248040" cy="298080"/>
                        <a:chOff x="2254320" y="4107600"/>
                        <a:chExt cx="248040" cy="298080"/>
                      </a:xfrm>
                    </p:grpSpPr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 rot="1501800">
                          <a:off x="229752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rot="1501800">
                          <a:off x="234072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286000" y="4064400"/>
                    <a:ext cx="978480" cy="447840"/>
                    <a:chOff x="2286000" y="4064400"/>
                    <a:chExt cx="978480" cy="447840"/>
                  </a:xfrm>
                </p:grpSpPr>
                <p:grpSp>
                  <p:nvGrpSpPr>
                    <p:cNvPr id="586" name=""/>
                    <p:cNvGrpSpPr/>
                    <p:nvPr/>
                  </p:nvGrpSpPr>
                  <p:grpSpPr>
                    <a:xfrm>
                      <a:off x="2772360" y="4118760"/>
                      <a:ext cx="492120" cy="393480"/>
                      <a:chOff x="2772360" y="4118760"/>
                      <a:chExt cx="492120" cy="393480"/>
                    </a:xfrm>
                  </p:grpSpPr>
                  <p:grpSp>
                    <p:nvGrpSpPr>
                      <p:cNvPr id="587" name=""/>
                      <p:cNvGrpSpPr/>
                      <p:nvPr/>
                    </p:nvGrpSpPr>
                    <p:grpSpPr>
                      <a:xfrm>
                        <a:off x="2772360" y="4118760"/>
                        <a:ext cx="194400" cy="276840"/>
                        <a:chOff x="2772360" y="4118760"/>
                        <a:chExt cx="194400" cy="276840"/>
                      </a:xfrm>
                    </p:grpSpPr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rot="500400">
                          <a:off x="2788920" y="4128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 rot="500400">
                          <a:off x="2836440" y="4136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2862360" y="4161960"/>
                        <a:ext cx="220320" cy="288720"/>
                        <a:chOff x="2862360" y="4161960"/>
                        <a:chExt cx="220320" cy="28872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rot="951000">
                          <a:off x="2891880" y="4179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rot="951000">
                          <a:off x="2937960" y="4188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2995200" y="4212720"/>
                        <a:ext cx="269280" cy="299520"/>
                        <a:chOff x="2995200" y="4212720"/>
                        <a:chExt cx="269280" cy="29952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rot="2057400">
                          <a:off x="3048480" y="4237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rot="2057400">
                          <a:off x="3088800" y="4250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2286000" y="4064400"/>
                      <a:ext cx="481320" cy="341280"/>
                      <a:chOff x="2286000" y="4064400"/>
                      <a:chExt cx="481320" cy="341280"/>
                    </a:xfrm>
                  </p:grpSpPr>
                  <p:grpSp>
                    <p:nvGrpSpPr>
                      <p:cNvPr id="597" name=""/>
                      <p:cNvGrpSpPr/>
                      <p:nvPr/>
                    </p:nvGrpSpPr>
                    <p:grpSpPr>
                      <a:xfrm>
                        <a:off x="2602080" y="4064400"/>
                        <a:ext cx="165240" cy="259200"/>
                        <a:chOff x="2602080" y="4064400"/>
                        <a:chExt cx="165240" cy="259200"/>
                      </a:xfrm>
                    </p:grpSpPr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 rot="55200">
                          <a:off x="2603520" y="4065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rot="55200">
                          <a:off x="2610000" y="4069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0" name=""/>
                      <p:cNvGrpSpPr/>
                      <p:nvPr/>
                    </p:nvGrpSpPr>
                    <p:grpSpPr>
                      <a:xfrm>
                        <a:off x="2481120" y="4090320"/>
                        <a:ext cx="188280" cy="272520"/>
                        <a:chOff x="2481120" y="4090320"/>
                        <a:chExt cx="188280" cy="272520"/>
                      </a:xfrm>
                    </p:grpSpPr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rot="21204600">
                          <a:off x="2494080" y="4098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rot="21204600">
                          <a:off x="2502000" y="4104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2286000" y="4107600"/>
                        <a:ext cx="248040" cy="298080"/>
                        <a:chOff x="2286000" y="4107600"/>
                        <a:chExt cx="248040" cy="29808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rot="20098200">
                          <a:off x="2328840" y="4130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rot="20098200">
                          <a:off x="2341800" y="4141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-76320" y="5029560"/>
                  <a:ext cx="1740600" cy="447840"/>
                  <a:chOff x="-76320" y="5029560"/>
                  <a:chExt cx="1740600" cy="44784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-76320" y="5029560"/>
                    <a:ext cx="978480" cy="447840"/>
                    <a:chOff x="-76320" y="5029560"/>
                    <a:chExt cx="978480" cy="447840"/>
                  </a:xfrm>
                </p:grpSpPr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-76320" y="5083920"/>
                      <a:ext cx="492120" cy="393480"/>
                      <a:chOff x="-76320" y="5083920"/>
                      <a:chExt cx="492120" cy="393480"/>
                    </a:xfrm>
                  </p:grpSpPr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221400" y="5083920"/>
                        <a:ext cx="194400" cy="277200"/>
                        <a:chOff x="221400" y="5083920"/>
                        <a:chExt cx="194400" cy="27720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H="1" rot="21099600">
                          <a:off x="23796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 rot="21099600">
                          <a:off x="246600" y="51012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2" name=""/>
                      <p:cNvGrpSpPr/>
                      <p:nvPr/>
                    </p:nvGrpSpPr>
                    <p:grpSpPr>
                      <a:xfrm>
                        <a:off x="105480" y="5127120"/>
                        <a:ext cx="220680" cy="288720"/>
                        <a:chOff x="105480" y="5127120"/>
                        <a:chExt cx="220680" cy="288720"/>
                      </a:xfrm>
                    </p:grpSpPr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 rot="20649000">
                          <a:off x="134640" y="5144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 rot="20649000">
                          <a:off x="14508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5" name=""/>
                      <p:cNvGrpSpPr/>
                      <p:nvPr/>
                    </p:nvGrpSpPr>
                    <p:grpSpPr>
                      <a:xfrm>
                        <a:off x="-76320" y="5177880"/>
                        <a:ext cx="268920" cy="299520"/>
                        <a:chOff x="-76320" y="5177880"/>
                        <a:chExt cx="268920" cy="299520"/>
                      </a:xfrm>
                    </p:grpSpPr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 rot="19542600">
                          <a:off x="-23040" y="520236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 flipH="1" rot="19542600">
                          <a:off x="-5760" y="5216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420840" y="5029560"/>
                      <a:ext cx="481320" cy="341280"/>
                      <a:chOff x="420840" y="5029560"/>
                      <a:chExt cx="481320" cy="341280"/>
                    </a:xfrm>
                  </p:grpSpPr>
                  <p:grpSp>
                    <p:nvGrpSpPr>
                      <p:cNvPr id="619" name=""/>
                      <p:cNvGrpSpPr/>
                      <p:nvPr/>
                    </p:nvGrpSpPr>
                    <p:grpSpPr>
                      <a:xfrm>
                        <a:off x="420840" y="5029560"/>
                        <a:ext cx="165600" cy="259200"/>
                        <a:chOff x="420840" y="5029560"/>
                        <a:chExt cx="165600" cy="259200"/>
                      </a:xfrm>
                    </p:grpSpPr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 rot="21544800">
                          <a:off x="42264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 rot="21544800">
                          <a:off x="47232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2" name=""/>
                      <p:cNvGrpSpPr/>
                      <p:nvPr/>
                    </p:nvGrpSpPr>
                    <p:grpSpPr>
                      <a:xfrm>
                        <a:off x="519120" y="5055480"/>
                        <a:ext cx="187920" cy="272520"/>
                        <a:chOff x="519120" y="5055480"/>
                        <a:chExt cx="187920" cy="272520"/>
                      </a:xfrm>
                    </p:grpSpPr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 rot="395400">
                          <a:off x="532080" y="506376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rot="395400">
                          <a:off x="580680" y="506952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25" name=""/>
                      <p:cNvGrpSpPr/>
                      <p:nvPr/>
                    </p:nvGrpSpPr>
                    <p:grpSpPr>
                      <a:xfrm>
                        <a:off x="654120" y="5072760"/>
                        <a:ext cx="248040" cy="298080"/>
                        <a:chOff x="654120" y="5072760"/>
                        <a:chExt cx="248040" cy="298080"/>
                      </a:xfrm>
                    </p:grpSpPr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rot="1501800">
                          <a:off x="69732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 rot="1501800">
                          <a:off x="74052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685800" y="5029560"/>
                    <a:ext cx="978480" cy="447840"/>
                    <a:chOff x="685800" y="5029560"/>
                    <a:chExt cx="978480" cy="447840"/>
                  </a:xfrm>
                </p:grpSpPr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1172160" y="5083920"/>
                      <a:ext cx="492120" cy="393480"/>
                      <a:chOff x="1172160" y="5083920"/>
                      <a:chExt cx="492120" cy="393480"/>
                    </a:xfrm>
                  </p:grpSpPr>
                  <p:grpSp>
                    <p:nvGrpSpPr>
                      <p:cNvPr id="630" name=""/>
                      <p:cNvGrpSpPr/>
                      <p:nvPr/>
                    </p:nvGrpSpPr>
                    <p:grpSpPr>
                      <a:xfrm>
                        <a:off x="1172160" y="5083920"/>
                        <a:ext cx="194400" cy="276840"/>
                        <a:chOff x="1172160" y="5083920"/>
                        <a:chExt cx="194400" cy="276840"/>
                      </a:xfrm>
                    </p:grpSpPr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 rot="500400">
                          <a:off x="1188720" y="50940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rot="500400">
                          <a:off x="1236240" y="510120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3" name=""/>
                      <p:cNvGrpSpPr/>
                      <p:nvPr/>
                    </p:nvGrpSpPr>
                    <p:grpSpPr>
                      <a:xfrm>
                        <a:off x="1262160" y="5127120"/>
                        <a:ext cx="220320" cy="288720"/>
                        <a:chOff x="1262160" y="5127120"/>
                        <a:chExt cx="220320" cy="288720"/>
                      </a:xfrm>
                    </p:grpSpPr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 rot="951000">
                          <a:off x="1291680" y="514440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 rot="951000">
                          <a:off x="1337760" y="515340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6" name=""/>
                      <p:cNvGrpSpPr/>
                      <p:nvPr/>
                    </p:nvGrpSpPr>
                    <p:grpSpPr>
                      <a:xfrm>
                        <a:off x="1395000" y="5177880"/>
                        <a:ext cx="269280" cy="299520"/>
                        <a:chOff x="1395000" y="5177880"/>
                        <a:chExt cx="269280" cy="299520"/>
                      </a:xfrm>
                    </p:grpSpPr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 rot="2057400">
                          <a:off x="1448280" y="520236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rot="2057400">
                          <a:off x="1488600" y="521604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685800" y="5029560"/>
                      <a:ext cx="481320" cy="341280"/>
                      <a:chOff x="685800" y="5029560"/>
                      <a:chExt cx="481320" cy="34128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1001880" y="5029560"/>
                        <a:ext cx="165240" cy="259200"/>
                        <a:chOff x="1001880" y="5029560"/>
                        <a:chExt cx="165240" cy="25920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H="1" rot="55200">
                          <a:off x="1003320" y="50306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H="1" rot="55200">
                          <a:off x="1009800" y="50342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880920" y="5055480"/>
                        <a:ext cx="188280" cy="272520"/>
                        <a:chOff x="880920" y="5055480"/>
                        <a:chExt cx="188280" cy="272520"/>
                      </a:xfrm>
                    </p:grpSpPr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H="1" rot="21204600">
                          <a:off x="893880" y="506376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H="1" rot="21204600">
                          <a:off x="901800" y="506952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46" name=""/>
                      <p:cNvGrpSpPr/>
                      <p:nvPr/>
                    </p:nvGrpSpPr>
                    <p:grpSpPr>
                      <a:xfrm>
                        <a:off x="685800" y="5072760"/>
                        <a:ext cx="248040" cy="298080"/>
                        <a:chOff x="685800" y="5072760"/>
                        <a:chExt cx="248040" cy="298080"/>
                      </a:xfrm>
                    </p:grpSpPr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H="1" rot="20098200">
                          <a:off x="728640" y="509544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H="1" rot="20098200">
                          <a:off x="741600" y="51069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3057120" y="4152600"/>
                  <a:ext cx="685800" cy="222480"/>
                  <a:chOff x="3057120" y="4152600"/>
                  <a:chExt cx="685800" cy="2224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057120" y="415260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408120" y="415440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2117520" y="4889520"/>
                  <a:ext cx="685800" cy="222120"/>
                  <a:chOff x="2117520" y="4889520"/>
                  <a:chExt cx="685800" cy="2221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2117520" y="4889520"/>
                    <a:ext cx="3240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468520" y="4890960"/>
                    <a:ext cx="3348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3539880" y="5092560"/>
                  <a:ext cx="165240" cy="82440"/>
                  <a:chOff x="3539880" y="5092560"/>
                  <a:chExt cx="165240" cy="82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3539880" y="5092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624480" y="5092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3311280" y="5143320"/>
                  <a:ext cx="165240" cy="82440"/>
                  <a:chOff x="3311280" y="5143320"/>
                  <a:chExt cx="165240" cy="8244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3311280" y="51433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395880" y="5143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3146040" y="5168880"/>
                  <a:ext cx="165240" cy="82440"/>
                  <a:chOff x="3146040" y="5168880"/>
                  <a:chExt cx="165240" cy="824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146040" y="5168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230640" y="5169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3146040" y="5067000"/>
                  <a:ext cx="165240" cy="82800"/>
                  <a:chOff x="3146040" y="5067000"/>
                  <a:chExt cx="165240" cy="8280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3146040" y="50670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3230640" y="5067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3222360" y="5003640"/>
                  <a:ext cx="165240" cy="82440"/>
                  <a:chOff x="3222360" y="5003640"/>
                  <a:chExt cx="165240" cy="824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3222360" y="5003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306960" y="5004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3285720" y="4978080"/>
                  <a:ext cx="165240" cy="82800"/>
                  <a:chOff x="3285720" y="4978080"/>
                  <a:chExt cx="165240" cy="828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3285720" y="49780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370320" y="4978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3362040" y="4940280"/>
                  <a:ext cx="165240" cy="82440"/>
                  <a:chOff x="3362040" y="4940280"/>
                  <a:chExt cx="165240" cy="824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3362040" y="49402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446640" y="49406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3565440" y="4863960"/>
                  <a:ext cx="164520" cy="82440"/>
                  <a:chOff x="3565440" y="4863960"/>
                  <a:chExt cx="164520" cy="824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3565440" y="48639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649680" y="48643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4466880" y="4178160"/>
                  <a:ext cx="165240" cy="82440"/>
                  <a:chOff x="4466880" y="4178160"/>
                  <a:chExt cx="165240" cy="824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4466880" y="4178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551480" y="4178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4466880" y="4076640"/>
                  <a:ext cx="165240" cy="82440"/>
                  <a:chOff x="4466880" y="4076640"/>
                  <a:chExt cx="165240" cy="824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4466880" y="40766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551480" y="40770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4543200" y="4012920"/>
                  <a:ext cx="165240" cy="82800"/>
                  <a:chOff x="4543200" y="4012920"/>
                  <a:chExt cx="165240" cy="8280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4543200" y="40129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627800" y="4013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288720" y="4495680"/>
                  <a:ext cx="165240" cy="82440"/>
                  <a:chOff x="288720" y="4495680"/>
                  <a:chExt cx="165240" cy="8244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288720" y="4495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73320" y="4496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60120" y="4546440"/>
                  <a:ext cx="165240" cy="82440"/>
                  <a:chOff x="60120" y="4546440"/>
                  <a:chExt cx="165240" cy="824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6012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4472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-105120" y="4572000"/>
                  <a:ext cx="165600" cy="82440"/>
                  <a:chOff x="-105120" y="4572000"/>
                  <a:chExt cx="165600" cy="8244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-105120" y="45720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-20160" y="45723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-105120" y="4470120"/>
                  <a:ext cx="165600" cy="82800"/>
                  <a:chOff x="-105120" y="4470120"/>
                  <a:chExt cx="165600" cy="828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-10512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-2016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-28800" y="4406760"/>
                  <a:ext cx="165240" cy="82440"/>
                  <a:chOff x="-28800" y="4406760"/>
                  <a:chExt cx="165240" cy="8244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-28800" y="44067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5800" y="44071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34560" y="4381200"/>
                  <a:ext cx="165240" cy="82800"/>
                  <a:chOff x="34560" y="4381200"/>
                  <a:chExt cx="165240" cy="828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3456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11916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110880" y="4343400"/>
                  <a:ext cx="165240" cy="82440"/>
                  <a:chOff x="110880" y="4343400"/>
                  <a:chExt cx="165240" cy="824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110880" y="43434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95480" y="43437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313920" y="4267080"/>
                  <a:ext cx="165240" cy="82440"/>
                  <a:chOff x="313920" y="4267080"/>
                  <a:chExt cx="165240" cy="8244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313920" y="4267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398520" y="4267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1253880" y="4483080"/>
                  <a:ext cx="165240" cy="82440"/>
                  <a:chOff x="1253880" y="4483080"/>
                  <a:chExt cx="165240" cy="8244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1253880" y="44830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338480" y="44834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1025280" y="4533840"/>
                  <a:ext cx="165240" cy="82440"/>
                  <a:chOff x="1025280" y="4533840"/>
                  <a:chExt cx="165240" cy="8244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1025280" y="45338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1109880" y="4534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860040" y="4559040"/>
                  <a:ext cx="165240" cy="82800"/>
                  <a:chOff x="860040" y="4559040"/>
                  <a:chExt cx="165240" cy="828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860040" y="45590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944640" y="45594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860040" y="4457520"/>
                  <a:ext cx="165240" cy="82440"/>
                  <a:chOff x="860040" y="4457520"/>
                  <a:chExt cx="165240" cy="824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86004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94464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936360" y="4394160"/>
                  <a:ext cx="165240" cy="82440"/>
                  <a:chOff x="936360" y="4394160"/>
                  <a:chExt cx="165240" cy="8244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936360" y="43941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1020960" y="43945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999720" y="4368600"/>
                  <a:ext cx="165240" cy="82440"/>
                  <a:chOff x="999720" y="4368600"/>
                  <a:chExt cx="165240" cy="8244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999720" y="4368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084320" y="4368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1076040" y="4330440"/>
                  <a:ext cx="165240" cy="82800"/>
                  <a:chOff x="1076040" y="4330440"/>
                  <a:chExt cx="165240" cy="828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1076040" y="43304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160640" y="4330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1279440" y="4254480"/>
                  <a:ext cx="164520" cy="82440"/>
                  <a:chOff x="1279440" y="4254480"/>
                  <a:chExt cx="164520" cy="824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1279440" y="42544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363680" y="42548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1190520" y="4292280"/>
                  <a:ext cx="685800" cy="222480"/>
                  <a:chOff x="1190520" y="4292280"/>
                  <a:chExt cx="685800" cy="22248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190520" y="4292280"/>
                    <a:ext cx="3240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541520" y="4294080"/>
                    <a:ext cx="3348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3543120" y="3530880"/>
                <a:ext cx="5323680" cy="1692360"/>
                <a:chOff x="3543120" y="3530880"/>
                <a:chExt cx="5323680" cy="16923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3543120" y="4775400"/>
                  <a:ext cx="1740600" cy="447840"/>
                  <a:chOff x="3543120" y="4775400"/>
                  <a:chExt cx="1740600" cy="447840"/>
                </a:xfrm>
              </p:grpSpPr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3543120" y="4775400"/>
                    <a:ext cx="978480" cy="447840"/>
                    <a:chOff x="3543120" y="4775400"/>
                    <a:chExt cx="978480" cy="447840"/>
                  </a:xfrm>
                </p:grpSpPr>
                <p:grpSp>
                  <p:nvGrpSpPr>
                    <p:cNvPr id="742" name=""/>
                    <p:cNvGrpSpPr/>
                    <p:nvPr/>
                  </p:nvGrpSpPr>
                  <p:grpSpPr>
                    <a:xfrm>
                      <a:off x="3543120" y="4829760"/>
                      <a:ext cx="492120" cy="393480"/>
                      <a:chOff x="3543120" y="4829760"/>
                      <a:chExt cx="492120" cy="393480"/>
                    </a:xfrm>
                  </p:grpSpPr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3840840" y="4829760"/>
                        <a:ext cx="194400" cy="277200"/>
                        <a:chOff x="3840840" y="4829760"/>
                        <a:chExt cx="194400" cy="277200"/>
                      </a:xfrm>
                    </p:grpSpPr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H="1" rot="21099600">
                          <a:off x="385740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H="1" rot="21099600">
                          <a:off x="3866040" y="484704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6" name=""/>
                      <p:cNvGrpSpPr/>
                      <p:nvPr/>
                    </p:nvGrpSpPr>
                    <p:grpSpPr>
                      <a:xfrm>
                        <a:off x="3724920" y="4872960"/>
                        <a:ext cx="220680" cy="288720"/>
                        <a:chOff x="3724920" y="4872960"/>
                        <a:chExt cx="220680" cy="288720"/>
                      </a:xfrm>
                    </p:grpSpPr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 flipH="1" rot="20649000">
                          <a:off x="3754080" y="48902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H="1" rot="20649000">
                          <a:off x="376452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9" name=""/>
                      <p:cNvGrpSpPr/>
                      <p:nvPr/>
                    </p:nvGrpSpPr>
                    <p:grpSpPr>
                      <a:xfrm>
                        <a:off x="3543120" y="4923720"/>
                        <a:ext cx="268920" cy="299520"/>
                        <a:chOff x="3543120" y="4923720"/>
                        <a:chExt cx="268920" cy="299520"/>
                      </a:xfrm>
                    </p:grpSpPr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H="1" rot="19542600">
                          <a:off x="3596040" y="4948200"/>
                          <a:ext cx="16200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H="1" rot="19542600">
                          <a:off x="3613320" y="49618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2" name=""/>
                    <p:cNvGrpSpPr/>
                    <p:nvPr/>
                  </p:nvGrpSpPr>
                  <p:grpSpPr>
                    <a:xfrm>
                      <a:off x="4040280" y="4775400"/>
                      <a:ext cx="481320" cy="341280"/>
                      <a:chOff x="4040280" y="4775400"/>
                      <a:chExt cx="481320" cy="341280"/>
                    </a:xfrm>
                  </p:grpSpPr>
                  <p:grpSp>
                    <p:nvGrpSpPr>
                      <p:cNvPr id="753" name=""/>
                      <p:cNvGrpSpPr/>
                      <p:nvPr/>
                    </p:nvGrpSpPr>
                    <p:grpSpPr>
                      <a:xfrm>
                        <a:off x="4040280" y="4775400"/>
                        <a:ext cx="165600" cy="259200"/>
                        <a:chOff x="4040280" y="4775400"/>
                        <a:chExt cx="165600" cy="259200"/>
                      </a:xfrm>
                    </p:grpSpPr>
                    <p:sp>
                      <p:nvSpPr>
                        <p:cNvPr id="754" name=""/>
                        <p:cNvSpPr/>
                        <p:nvPr/>
                      </p:nvSpPr>
                      <p:spPr>
                        <a:xfrm rot="21544800">
                          <a:off x="404208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/>
                        <p:nvPr/>
                      </p:nvSpPr>
                      <p:spPr>
                        <a:xfrm rot="21544800">
                          <a:off x="409176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138560" y="4801320"/>
                        <a:ext cx="187920" cy="272520"/>
                        <a:chOff x="4138560" y="4801320"/>
                        <a:chExt cx="187920" cy="272520"/>
                      </a:xfrm>
                    </p:grpSpPr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rot="395400">
                          <a:off x="4151520" y="4809600"/>
                          <a:ext cx="16164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rot="395400">
                          <a:off x="4200120" y="481536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9" name=""/>
                      <p:cNvGrpSpPr/>
                      <p:nvPr/>
                    </p:nvGrpSpPr>
                    <p:grpSpPr>
                      <a:xfrm>
                        <a:off x="4273560" y="4818600"/>
                        <a:ext cx="248040" cy="298080"/>
                        <a:chOff x="4273560" y="4818600"/>
                        <a:chExt cx="248040" cy="298080"/>
                      </a:xfrm>
                    </p:grpSpPr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rot="1501800">
                          <a:off x="431676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rot="1501800">
                          <a:off x="435996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4305240" y="4775400"/>
                    <a:ext cx="978480" cy="447840"/>
                    <a:chOff x="4305240" y="4775400"/>
                    <a:chExt cx="978480" cy="447840"/>
                  </a:xfrm>
                </p:grpSpPr>
                <p:grpSp>
                  <p:nvGrpSpPr>
                    <p:cNvPr id="763" name=""/>
                    <p:cNvGrpSpPr/>
                    <p:nvPr/>
                  </p:nvGrpSpPr>
                  <p:grpSpPr>
                    <a:xfrm>
                      <a:off x="4791600" y="4829760"/>
                      <a:ext cx="492120" cy="393480"/>
                      <a:chOff x="4791600" y="4829760"/>
                      <a:chExt cx="492120" cy="393480"/>
                    </a:xfrm>
                  </p:grpSpPr>
                  <p:grpSp>
                    <p:nvGrpSpPr>
                      <p:cNvPr id="764" name=""/>
                      <p:cNvGrpSpPr/>
                      <p:nvPr/>
                    </p:nvGrpSpPr>
                    <p:grpSpPr>
                      <a:xfrm>
                        <a:off x="4791600" y="4829760"/>
                        <a:ext cx="194400" cy="276840"/>
                        <a:chOff x="4791600" y="4829760"/>
                        <a:chExt cx="194400" cy="276840"/>
                      </a:xfrm>
                    </p:grpSpPr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rot="500400">
                          <a:off x="4808160" y="4839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rot="500400">
                          <a:off x="4855680" y="4847040"/>
                          <a:ext cx="10476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7" name=""/>
                      <p:cNvGrpSpPr/>
                      <p:nvPr/>
                    </p:nvGrpSpPr>
                    <p:grpSpPr>
                      <a:xfrm>
                        <a:off x="4881600" y="4872960"/>
                        <a:ext cx="220320" cy="288720"/>
                        <a:chOff x="4881600" y="4872960"/>
                        <a:chExt cx="220320" cy="288720"/>
                      </a:xfrm>
                    </p:grpSpPr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rot="951000">
                          <a:off x="4911120" y="4890240"/>
                          <a:ext cx="16128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rot="951000">
                          <a:off x="4957200" y="4899240"/>
                          <a:ext cx="10440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0" name=""/>
                      <p:cNvGrpSpPr/>
                      <p:nvPr/>
                    </p:nvGrpSpPr>
                    <p:grpSpPr>
                      <a:xfrm>
                        <a:off x="5014440" y="4923720"/>
                        <a:ext cx="269280" cy="299520"/>
                        <a:chOff x="5014440" y="4923720"/>
                        <a:chExt cx="269280" cy="299520"/>
                      </a:xfrm>
                    </p:grpSpPr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rot="2057400">
                          <a:off x="5067720" y="4948200"/>
                          <a:ext cx="162000" cy="24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rot="2057400">
                          <a:off x="5108040" y="4961880"/>
                          <a:ext cx="10476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4305240" y="4775400"/>
                      <a:ext cx="481320" cy="341280"/>
                      <a:chOff x="4305240" y="4775400"/>
                      <a:chExt cx="481320" cy="341280"/>
                    </a:xfrm>
                  </p:grpSpPr>
                  <p:grpSp>
                    <p:nvGrpSpPr>
                      <p:cNvPr id="774" name=""/>
                      <p:cNvGrpSpPr/>
                      <p:nvPr/>
                    </p:nvGrpSpPr>
                    <p:grpSpPr>
                      <a:xfrm>
                        <a:off x="4621320" y="4775400"/>
                        <a:ext cx="165240" cy="259200"/>
                        <a:chOff x="4621320" y="4775400"/>
                        <a:chExt cx="165240" cy="259200"/>
                      </a:xfrm>
                    </p:grpSpPr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flipH="1" rot="55200">
                          <a:off x="4622760" y="47764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flipH="1" rot="55200">
                          <a:off x="4629240" y="478008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77" name=""/>
                      <p:cNvGrpSpPr/>
                      <p:nvPr/>
                    </p:nvGrpSpPr>
                    <p:grpSpPr>
                      <a:xfrm>
                        <a:off x="4500360" y="4801320"/>
                        <a:ext cx="188280" cy="272520"/>
                        <a:chOff x="4500360" y="4801320"/>
                        <a:chExt cx="188280" cy="272520"/>
                      </a:xfrm>
                    </p:grpSpPr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 flipH="1" rot="21204600">
                          <a:off x="4513320" y="4809600"/>
                          <a:ext cx="161640" cy="23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flipH="1" rot="21204600">
                          <a:off x="4521240" y="481536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0" name=""/>
                      <p:cNvGrpSpPr/>
                      <p:nvPr/>
                    </p:nvGrpSpPr>
                    <p:grpSpPr>
                      <a:xfrm>
                        <a:off x="4305240" y="4818600"/>
                        <a:ext cx="248040" cy="298080"/>
                        <a:chOff x="4305240" y="4818600"/>
                        <a:chExt cx="248040" cy="298080"/>
                      </a:xfrm>
                    </p:grpSpPr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 flipH="1" rot="20098200">
                          <a:off x="4348080" y="4841280"/>
                          <a:ext cx="16164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 flipH="1" rot="20098200">
                          <a:off x="4361040" y="4852800"/>
                          <a:ext cx="10476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5557680" y="4520880"/>
                  <a:ext cx="682200" cy="222480"/>
                  <a:chOff x="5557680" y="4520880"/>
                  <a:chExt cx="682200" cy="2224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5557680" y="4520880"/>
                    <a:ext cx="32220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5906880" y="4522680"/>
                    <a:ext cx="3330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4657320" y="4254480"/>
                  <a:ext cx="165240" cy="82440"/>
                  <a:chOff x="4657320" y="4254480"/>
                  <a:chExt cx="165240" cy="824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4657320" y="4254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741920" y="4254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202080" y="4038480"/>
                  <a:ext cx="165240" cy="82440"/>
                  <a:chOff x="6202080" y="4038480"/>
                  <a:chExt cx="165240" cy="824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6202080" y="4038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6286680" y="4038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203960" y="4228920"/>
                  <a:ext cx="163440" cy="82440"/>
                  <a:chOff x="7203960" y="4228920"/>
                  <a:chExt cx="163440" cy="824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7203960" y="42289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287480" y="42292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8318160" y="3771720"/>
                  <a:ext cx="165240" cy="82440"/>
                  <a:chOff x="8318160" y="3771720"/>
                  <a:chExt cx="165240" cy="8244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8318160" y="37717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402760" y="37720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8089560" y="3822480"/>
                  <a:ext cx="165240" cy="82440"/>
                  <a:chOff x="8089560" y="3822480"/>
                  <a:chExt cx="165240" cy="8244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8089560" y="38224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8174160" y="3822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924680" y="3848040"/>
                  <a:ext cx="164520" cy="82440"/>
                  <a:chOff x="7924680" y="3848040"/>
                  <a:chExt cx="164520" cy="8244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79246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80089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7924680" y="3746520"/>
                  <a:ext cx="164520" cy="82440"/>
                  <a:chOff x="7924680" y="3746520"/>
                  <a:chExt cx="164520" cy="824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7924680" y="37465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8008920" y="37468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8000640" y="3682800"/>
                  <a:ext cx="165240" cy="82440"/>
                  <a:chOff x="8000640" y="3682800"/>
                  <a:chExt cx="165240" cy="8244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>
                    <a:off x="80006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80852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8064360" y="3657600"/>
                  <a:ext cx="164520" cy="82440"/>
                  <a:chOff x="8064360" y="3657600"/>
                  <a:chExt cx="164520" cy="8244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8064360" y="36576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8148600" y="36579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8140320" y="3619440"/>
                  <a:ext cx="165240" cy="82440"/>
                  <a:chOff x="8140320" y="3619440"/>
                  <a:chExt cx="165240" cy="8244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8140320" y="3619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8224920" y="3619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8343720" y="3543120"/>
                  <a:ext cx="163440" cy="82440"/>
                  <a:chOff x="8343720" y="3543120"/>
                  <a:chExt cx="163440" cy="8244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8343720" y="3543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8427240" y="3543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7341840" y="3682800"/>
                  <a:ext cx="165240" cy="82440"/>
                  <a:chOff x="7341840" y="3682800"/>
                  <a:chExt cx="165240" cy="8244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7341840" y="36828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426440" y="36831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8659440" y="3543120"/>
                  <a:ext cx="165240" cy="82440"/>
                  <a:chOff x="8659440" y="3543120"/>
                  <a:chExt cx="165240" cy="8244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8659440" y="3543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8744040" y="3543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8127720" y="4305240"/>
                  <a:ext cx="165240" cy="82440"/>
                  <a:chOff x="8127720" y="4305240"/>
                  <a:chExt cx="165240" cy="8244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8127720" y="43052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8212320" y="4305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8445240" y="4305240"/>
                  <a:ext cx="163440" cy="82440"/>
                  <a:chOff x="8445240" y="4305240"/>
                  <a:chExt cx="163440" cy="8244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8445240" y="43052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8528760" y="4305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5721120" y="3873240"/>
                  <a:ext cx="165240" cy="82800"/>
                  <a:chOff x="5721120" y="3873240"/>
                  <a:chExt cx="165240" cy="828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5721120" y="38732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805720" y="38736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5493960" y="3924000"/>
                  <a:ext cx="163800" cy="82800"/>
                  <a:chOff x="5493960" y="3924000"/>
                  <a:chExt cx="163800" cy="828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5493960" y="3924000"/>
                    <a:ext cx="774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577840" y="3924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5329080" y="3949560"/>
                  <a:ext cx="164520" cy="82440"/>
                  <a:chOff x="5329080" y="3949560"/>
                  <a:chExt cx="164520" cy="8244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5329080" y="394956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413320" y="394992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5329080" y="3848040"/>
                  <a:ext cx="164520" cy="82440"/>
                  <a:chOff x="5329080" y="3848040"/>
                  <a:chExt cx="164520" cy="8244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5329080" y="384804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5413320" y="38484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5405040" y="3784320"/>
                  <a:ext cx="165240" cy="82800"/>
                  <a:chOff x="5405040" y="3784320"/>
                  <a:chExt cx="165240" cy="828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5405040" y="37843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489640" y="37846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5468760" y="3759120"/>
                  <a:ext cx="163440" cy="82440"/>
                  <a:chOff x="5468760" y="3759120"/>
                  <a:chExt cx="163440" cy="8244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546876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55228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"/>
                <p:cNvGrpSpPr/>
                <p:nvPr/>
              </p:nvGrpSpPr>
              <p:grpSpPr>
                <a:xfrm>
                  <a:off x="5545080" y="3720960"/>
                  <a:ext cx="163440" cy="82440"/>
                  <a:chOff x="5545080" y="3720960"/>
                  <a:chExt cx="163440" cy="8244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5545080" y="372096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628600" y="37213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746680" y="3644640"/>
                  <a:ext cx="164520" cy="82800"/>
                  <a:chOff x="5746680" y="3644640"/>
                  <a:chExt cx="164520" cy="8280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5746680" y="3644640"/>
                    <a:ext cx="77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830920" y="364500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6835680" y="4825800"/>
                  <a:ext cx="164520" cy="82440"/>
                  <a:chOff x="6835680" y="4825800"/>
                  <a:chExt cx="164520" cy="82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6835680" y="48258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919920" y="48261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608520" y="4876560"/>
                  <a:ext cx="163440" cy="82800"/>
                  <a:chOff x="6608520" y="4876560"/>
                  <a:chExt cx="163440" cy="828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6608520" y="487656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692040" y="487692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" name=""/>
                <p:cNvGrpSpPr/>
                <p:nvPr/>
              </p:nvGrpSpPr>
              <p:grpSpPr>
                <a:xfrm>
                  <a:off x="6443280" y="4902120"/>
                  <a:ext cx="165240" cy="82440"/>
                  <a:chOff x="6443280" y="4902120"/>
                  <a:chExt cx="165240" cy="8244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6443280" y="4902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527880" y="4902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6443280" y="4800600"/>
                  <a:ext cx="165240" cy="82440"/>
                  <a:chOff x="6443280" y="4800600"/>
                  <a:chExt cx="165240" cy="8244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6443280" y="48006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27880" y="4800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6519600" y="4736880"/>
                  <a:ext cx="165240" cy="82440"/>
                  <a:chOff x="6519600" y="4736880"/>
                  <a:chExt cx="165240" cy="82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6519600" y="47368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604200" y="47372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6582960" y="4711680"/>
                  <a:ext cx="165240" cy="82440"/>
                  <a:chOff x="6582960" y="4711680"/>
                  <a:chExt cx="165240" cy="8244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6582960" y="471168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6667560" y="47120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6659280" y="4673520"/>
                  <a:ext cx="163440" cy="82440"/>
                  <a:chOff x="6659280" y="4673520"/>
                  <a:chExt cx="163440" cy="824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6659280" y="46735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6742800" y="46738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6860880" y="4597200"/>
                  <a:ext cx="165240" cy="82440"/>
                  <a:chOff x="6860880" y="4597200"/>
                  <a:chExt cx="165240" cy="824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6860880" y="459720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945480" y="4597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5481360" y="4838400"/>
                  <a:ext cx="163440" cy="82800"/>
                  <a:chOff x="5481360" y="4838400"/>
                  <a:chExt cx="163440" cy="8280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5481360" y="48384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564880" y="48387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5252760" y="4889520"/>
                  <a:ext cx="165240" cy="82440"/>
                  <a:chOff x="5252760" y="4889520"/>
                  <a:chExt cx="165240" cy="8244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5252760" y="4889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5337360" y="4889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5087880" y="4914720"/>
                  <a:ext cx="164520" cy="82440"/>
                  <a:chOff x="5087880" y="4914720"/>
                  <a:chExt cx="164520" cy="8244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5087880" y="4914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172120" y="4915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5087880" y="4813200"/>
                  <a:ext cx="164520" cy="82440"/>
                  <a:chOff x="5087880" y="4813200"/>
                  <a:chExt cx="164520" cy="8244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5087880" y="4813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172120" y="4813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163840" y="4749480"/>
                  <a:ext cx="165240" cy="82800"/>
                  <a:chOff x="5163840" y="4749480"/>
                  <a:chExt cx="165240" cy="8280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5163840" y="474948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248440" y="474984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" name=""/>
                <p:cNvGrpSpPr/>
                <p:nvPr/>
              </p:nvGrpSpPr>
              <p:grpSpPr>
                <a:xfrm>
                  <a:off x="5227560" y="4724280"/>
                  <a:ext cx="164520" cy="82440"/>
                  <a:chOff x="5227560" y="4724280"/>
                  <a:chExt cx="164520" cy="8244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5227560" y="472428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311800" y="472464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" name=""/>
                <p:cNvGrpSpPr/>
                <p:nvPr/>
              </p:nvGrpSpPr>
              <p:grpSpPr>
                <a:xfrm>
                  <a:off x="5303520" y="4686120"/>
                  <a:ext cx="165240" cy="82440"/>
                  <a:chOff x="5303520" y="4686120"/>
                  <a:chExt cx="165240" cy="8244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>
                    <a:off x="5303520" y="46861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388120" y="4686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5506920" y="4609800"/>
                  <a:ext cx="163440" cy="82800"/>
                  <a:chOff x="5506920" y="4609800"/>
                  <a:chExt cx="163440" cy="8280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5506920" y="46098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5590440" y="46101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"/>
                <p:cNvGrpSpPr/>
                <p:nvPr/>
              </p:nvGrpSpPr>
              <p:grpSpPr>
                <a:xfrm>
                  <a:off x="4176360" y="3873240"/>
                  <a:ext cx="684000" cy="222480"/>
                  <a:chOff x="4176360" y="3873240"/>
                  <a:chExt cx="684000" cy="22248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>
                    <a:off x="4176360" y="3873240"/>
                    <a:ext cx="32328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526280" y="3875040"/>
                    <a:ext cx="33408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6659280" y="3759120"/>
                  <a:ext cx="163440" cy="82440"/>
                  <a:chOff x="6659280" y="3759120"/>
                  <a:chExt cx="163440" cy="8244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6659280" y="375912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742800" y="375948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6316560" y="4597200"/>
                  <a:ext cx="164520" cy="82440"/>
                  <a:chOff x="6316560" y="4597200"/>
                  <a:chExt cx="164520" cy="82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6316560" y="459720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6400800" y="459756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7089480" y="4457520"/>
                  <a:ext cx="165240" cy="82440"/>
                  <a:chOff x="7089480" y="4457520"/>
                  <a:chExt cx="165240" cy="8244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7089480" y="44575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7174080" y="4457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7748280" y="4381200"/>
                  <a:ext cx="165240" cy="82800"/>
                  <a:chOff x="7748280" y="4381200"/>
                  <a:chExt cx="165240" cy="8280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>
                    <a:off x="7748280" y="43812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7832880" y="43815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5256360" y="3632400"/>
                  <a:ext cx="1735920" cy="447120"/>
                  <a:chOff x="5256360" y="3632400"/>
                  <a:chExt cx="1735920" cy="447120"/>
                </a:xfrm>
              </p:grpSpPr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5256360" y="3632400"/>
                    <a:ext cx="975600" cy="447120"/>
                    <a:chOff x="5256360" y="3632400"/>
                    <a:chExt cx="975600" cy="447120"/>
                  </a:xfrm>
                </p:grpSpPr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5256360" y="3686760"/>
                      <a:ext cx="491040" cy="392760"/>
                      <a:chOff x="5256360" y="3686760"/>
                      <a:chExt cx="491040" cy="392760"/>
                    </a:xfrm>
                  </p:grpSpPr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5553000" y="3686760"/>
                        <a:ext cx="194400" cy="277200"/>
                        <a:chOff x="5553000" y="3686760"/>
                        <a:chExt cx="194400" cy="277200"/>
                      </a:xfrm>
                    </p:grpSpPr>
                    <p:sp>
                      <p:nvSpPr>
                        <p:cNvPr id="922" name=""/>
                        <p:cNvSpPr/>
                        <p:nvPr/>
                      </p:nvSpPr>
                      <p:spPr>
                        <a:xfrm flipH="1" rot="21099600">
                          <a:off x="556956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"/>
                        <p:cNvSpPr/>
                        <p:nvPr/>
                      </p:nvSpPr>
                      <p:spPr>
                        <a:xfrm flipH="1" rot="21099600">
                          <a:off x="557928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4" name=""/>
                      <p:cNvGrpSpPr/>
                      <p:nvPr/>
                    </p:nvGrpSpPr>
                    <p:grpSpPr>
                      <a:xfrm>
                        <a:off x="5437440" y="3730320"/>
                        <a:ext cx="220320" cy="288720"/>
                        <a:chOff x="5437440" y="3730320"/>
                        <a:chExt cx="220320" cy="288720"/>
                      </a:xfrm>
                    </p:grpSpPr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 flipH="1" rot="20649000">
                          <a:off x="546696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"/>
                        <p:cNvSpPr/>
                        <p:nvPr/>
                      </p:nvSpPr>
                      <p:spPr>
                        <a:xfrm flipH="1" rot="20649000">
                          <a:off x="547776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7" name=""/>
                      <p:cNvGrpSpPr/>
                      <p:nvPr/>
                    </p:nvGrpSpPr>
                    <p:grpSpPr>
                      <a:xfrm>
                        <a:off x="5256360" y="3780720"/>
                        <a:ext cx="268200" cy="298800"/>
                        <a:chOff x="5256360" y="3780720"/>
                        <a:chExt cx="268200" cy="298800"/>
                      </a:xfrm>
                    </p:grpSpPr>
                    <p:sp>
                      <p:nvSpPr>
                        <p:cNvPr id="928" name=""/>
                        <p:cNvSpPr/>
                        <p:nvPr/>
                      </p:nvSpPr>
                      <p:spPr>
                        <a:xfrm flipH="1" rot="19542600">
                          <a:off x="530964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flipH="1" rot="19542600">
                          <a:off x="532620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30" name=""/>
                    <p:cNvGrpSpPr/>
                    <p:nvPr/>
                  </p:nvGrpSpPr>
                  <p:grpSpPr>
                    <a:xfrm>
                      <a:off x="5752080" y="3632400"/>
                      <a:ext cx="479880" cy="341280"/>
                      <a:chOff x="5752080" y="3632400"/>
                      <a:chExt cx="479880" cy="341280"/>
                    </a:xfrm>
                  </p:grpSpPr>
                  <p:grpSp>
                    <p:nvGrpSpPr>
                      <p:cNvPr id="931" name=""/>
                      <p:cNvGrpSpPr/>
                      <p:nvPr/>
                    </p:nvGrpSpPr>
                    <p:grpSpPr>
                      <a:xfrm>
                        <a:off x="5752080" y="3632400"/>
                        <a:ext cx="165240" cy="258480"/>
                        <a:chOff x="5752080" y="3632400"/>
                        <a:chExt cx="165240" cy="258480"/>
                      </a:xfrm>
                    </p:grpSpPr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rot="21544800">
                          <a:off x="57538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"/>
                        <p:cNvSpPr/>
                        <p:nvPr/>
                      </p:nvSpPr>
                      <p:spPr>
                        <a:xfrm rot="21544800">
                          <a:off x="580356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4" name=""/>
                      <p:cNvGrpSpPr/>
                      <p:nvPr/>
                    </p:nvGrpSpPr>
                    <p:grpSpPr>
                      <a:xfrm>
                        <a:off x="5850000" y="3657960"/>
                        <a:ext cx="187200" cy="272880"/>
                        <a:chOff x="5850000" y="3657960"/>
                        <a:chExt cx="187200" cy="272880"/>
                      </a:xfrm>
                    </p:grpSpPr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rot="395400">
                          <a:off x="586296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 rot="395400">
                          <a:off x="5911200" y="36723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5984280" y="3675600"/>
                        <a:ext cx="247680" cy="298080"/>
                        <a:chOff x="5984280" y="3675600"/>
                        <a:chExt cx="247680" cy="29808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rot="1501800">
                          <a:off x="602748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rot="1501800">
                          <a:off x="607068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6016680" y="3632400"/>
                    <a:ext cx="975600" cy="446760"/>
                    <a:chOff x="6016680" y="3632400"/>
                    <a:chExt cx="975600" cy="446760"/>
                  </a:xfrm>
                </p:grpSpPr>
                <p:grpSp>
                  <p:nvGrpSpPr>
                    <p:cNvPr id="941" name=""/>
                    <p:cNvGrpSpPr/>
                    <p:nvPr/>
                  </p:nvGrpSpPr>
                  <p:grpSpPr>
                    <a:xfrm>
                      <a:off x="6501240" y="3686760"/>
                      <a:ext cx="491040" cy="392400"/>
                      <a:chOff x="6501240" y="3686760"/>
                      <a:chExt cx="491040" cy="392400"/>
                    </a:xfrm>
                  </p:grpSpPr>
                  <p:grpSp>
                    <p:nvGrpSpPr>
                      <p:cNvPr id="942" name=""/>
                      <p:cNvGrpSpPr/>
                      <p:nvPr/>
                    </p:nvGrpSpPr>
                    <p:grpSpPr>
                      <a:xfrm>
                        <a:off x="6501240" y="3686760"/>
                        <a:ext cx="194400" cy="276840"/>
                        <a:chOff x="6501240" y="3686760"/>
                        <a:chExt cx="194400" cy="276840"/>
                      </a:xfrm>
                    </p:grpSpPr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rot="500400">
                          <a:off x="6517800" y="3696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rot="500400">
                          <a:off x="6564960" y="370368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5" name=""/>
                      <p:cNvGrpSpPr/>
                      <p:nvPr/>
                    </p:nvGrpSpPr>
                    <p:grpSpPr>
                      <a:xfrm>
                        <a:off x="6590880" y="3730320"/>
                        <a:ext cx="220320" cy="288720"/>
                        <a:chOff x="6590880" y="3730320"/>
                        <a:chExt cx="220320" cy="288720"/>
                      </a:xfrm>
                    </p:grpSpPr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rot="951000">
                          <a:off x="6620400" y="37476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rot="951000">
                          <a:off x="6666480" y="375660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8" name=""/>
                      <p:cNvGrpSpPr/>
                      <p:nvPr/>
                    </p:nvGrpSpPr>
                    <p:grpSpPr>
                      <a:xfrm>
                        <a:off x="6724080" y="3780720"/>
                        <a:ext cx="268200" cy="298440"/>
                        <a:chOff x="6724080" y="3780720"/>
                        <a:chExt cx="268200" cy="298440"/>
                      </a:xfrm>
                    </p:grpSpPr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rot="2057400">
                          <a:off x="6777720" y="380520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rot="2057400">
                          <a:off x="6817320" y="38185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51" name=""/>
                    <p:cNvGrpSpPr/>
                    <p:nvPr/>
                  </p:nvGrpSpPr>
                  <p:grpSpPr>
                    <a:xfrm>
                      <a:off x="6016680" y="3632400"/>
                      <a:ext cx="479880" cy="341280"/>
                      <a:chOff x="6016680" y="3632400"/>
                      <a:chExt cx="479880" cy="341280"/>
                    </a:xfrm>
                  </p:grpSpPr>
                  <p:grpSp>
                    <p:nvGrpSpPr>
                      <p:cNvPr id="952" name=""/>
                      <p:cNvGrpSpPr/>
                      <p:nvPr/>
                    </p:nvGrpSpPr>
                    <p:grpSpPr>
                      <a:xfrm>
                        <a:off x="6331680" y="3632400"/>
                        <a:ext cx="164880" cy="258480"/>
                        <a:chOff x="6331680" y="3632400"/>
                        <a:chExt cx="164880" cy="258480"/>
                      </a:xfrm>
                    </p:grpSpPr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H="1" rot="55200">
                          <a:off x="6333480" y="36334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 flipH="1" rot="55200">
                          <a:off x="6340320" y="363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5" name=""/>
                      <p:cNvGrpSpPr/>
                      <p:nvPr/>
                    </p:nvGrpSpPr>
                    <p:grpSpPr>
                      <a:xfrm>
                        <a:off x="6211440" y="3657960"/>
                        <a:ext cx="187200" cy="272880"/>
                        <a:chOff x="6211440" y="3657960"/>
                        <a:chExt cx="187200" cy="272880"/>
                      </a:xfrm>
                    </p:grpSpPr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 flipH="1" rot="21204600">
                          <a:off x="6224400" y="366624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 flipH="1" rot="21204600">
                          <a:off x="6233040" y="367236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8" name=""/>
                      <p:cNvGrpSpPr/>
                      <p:nvPr/>
                    </p:nvGrpSpPr>
                    <p:grpSpPr>
                      <a:xfrm>
                        <a:off x="6016680" y="3675600"/>
                        <a:ext cx="247680" cy="298080"/>
                        <a:chOff x="6016680" y="3675600"/>
                        <a:chExt cx="247680" cy="298080"/>
                      </a:xfrm>
                    </p:grpSpPr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 flipH="1" rot="20098200">
                          <a:off x="6059520" y="369828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 flipH="1" rot="20098200">
                          <a:off x="6072840" y="370980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4430520" y="4711680"/>
                  <a:ext cx="682200" cy="222120"/>
                  <a:chOff x="4430520" y="4711680"/>
                  <a:chExt cx="682200" cy="22212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4430520" y="4711680"/>
                    <a:ext cx="3222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779720" y="4713120"/>
                    <a:ext cx="3330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8659440" y="4470120"/>
                  <a:ext cx="165240" cy="82800"/>
                  <a:chOff x="8659440" y="4470120"/>
                  <a:chExt cx="165240" cy="8280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8659440" y="44701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8744040" y="44704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8432640" y="4520880"/>
                  <a:ext cx="163440" cy="82800"/>
                  <a:chOff x="8432640" y="4520880"/>
                  <a:chExt cx="163440" cy="8280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8432640" y="452088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8516160" y="452124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8267400" y="4546440"/>
                  <a:ext cx="165240" cy="82440"/>
                  <a:chOff x="8267400" y="4546440"/>
                  <a:chExt cx="165240" cy="8244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8267400" y="454644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8352000" y="45468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8267400" y="4444920"/>
                  <a:ext cx="165240" cy="82440"/>
                  <a:chOff x="8267400" y="4444920"/>
                  <a:chExt cx="165240" cy="8244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8267400" y="444492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8352000" y="44452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8343720" y="4381200"/>
                  <a:ext cx="163440" cy="82800"/>
                  <a:chOff x="8343720" y="4381200"/>
                  <a:chExt cx="163440" cy="8280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8343720" y="438120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8427240" y="43815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8407080" y="4356000"/>
                  <a:ext cx="163440" cy="82440"/>
                  <a:chOff x="8407080" y="4356000"/>
                  <a:chExt cx="163440" cy="824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407080" y="435600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8490600" y="435636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8483400" y="4317840"/>
                  <a:ext cx="163440" cy="82440"/>
                  <a:chOff x="8483400" y="4317840"/>
                  <a:chExt cx="163440" cy="8244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8483400" y="4317840"/>
                    <a:ext cx="77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8566920" y="43182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8685000" y="4241520"/>
                  <a:ext cx="165240" cy="82800"/>
                  <a:chOff x="8685000" y="4241520"/>
                  <a:chExt cx="165240" cy="8280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8685000" y="424152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8769600" y="424188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4873320" y="4101840"/>
                  <a:ext cx="165240" cy="82800"/>
                  <a:chOff x="4873320" y="4101840"/>
                  <a:chExt cx="165240" cy="8280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4873320" y="410184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957920" y="410220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4644720" y="4152600"/>
                  <a:ext cx="165240" cy="82800"/>
                  <a:chOff x="4644720" y="4152600"/>
                  <a:chExt cx="165240" cy="8280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4644720" y="4152600"/>
                    <a:ext cx="781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729320" y="415296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4619520" y="3987720"/>
                  <a:ext cx="164520" cy="82440"/>
                  <a:chOff x="4619520" y="3987720"/>
                  <a:chExt cx="164520" cy="8244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4619520" y="3987720"/>
                    <a:ext cx="7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703760" y="3988080"/>
                    <a:ext cx="80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4695480" y="3949560"/>
                  <a:ext cx="165240" cy="82440"/>
                  <a:chOff x="4695480" y="3949560"/>
                  <a:chExt cx="165240" cy="824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4695480" y="3949560"/>
                    <a:ext cx="7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780080" y="3949920"/>
                    <a:ext cx="80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4898880" y="3873240"/>
                  <a:ext cx="163440" cy="82800"/>
                  <a:chOff x="4898880" y="3873240"/>
                  <a:chExt cx="163440" cy="82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4898880" y="3873240"/>
                    <a:ext cx="77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28">
                        <a:moveTo>
                          <a:pt x="17" y="157"/>
                        </a:moveTo>
                        <a:cubicBezTo>
                          <a:pt x="34" y="122"/>
                          <a:pt x="169" y="26"/>
                          <a:pt x="225" y="13"/>
                        </a:cubicBezTo>
                        <a:cubicBezTo>
                          <a:pt x="281" y="0"/>
                          <a:pt x="350" y="60"/>
                          <a:pt x="353" y="77"/>
                        </a:cubicBezTo>
                        <a:cubicBezTo>
                          <a:pt x="356" y="94"/>
                          <a:pt x="280" y="93"/>
                          <a:pt x="241" y="117"/>
                        </a:cubicBezTo>
                        <a:cubicBezTo>
                          <a:pt x="202" y="141"/>
                          <a:pt x="154" y="214"/>
                          <a:pt x="121" y="221"/>
                        </a:cubicBezTo>
                        <a:cubicBezTo>
                          <a:pt x="88" y="228"/>
                          <a:pt x="0" y="192"/>
                          <a:pt x="17" y="157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4982400" y="3873600"/>
                    <a:ext cx="79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8">
                        <a:moveTo>
                          <a:pt x="67" y="19"/>
                        </a:moveTo>
                        <a:cubicBezTo>
                          <a:pt x="36" y="38"/>
                          <a:pt x="0" y="120"/>
                          <a:pt x="19" y="139"/>
                        </a:cubicBezTo>
                        <a:cubicBezTo>
                          <a:pt x="38" y="158"/>
                          <a:pt x="130" y="132"/>
                          <a:pt x="179" y="131"/>
                        </a:cubicBezTo>
                        <a:cubicBezTo>
                          <a:pt x="228" y="130"/>
                          <a:pt x="300" y="144"/>
                          <a:pt x="315" y="131"/>
                        </a:cubicBezTo>
                        <a:cubicBezTo>
                          <a:pt x="330" y="118"/>
                          <a:pt x="286" y="68"/>
                          <a:pt x="267" y="51"/>
                        </a:cubicBezTo>
                        <a:cubicBezTo>
                          <a:pt x="248" y="34"/>
                          <a:pt x="234" y="30"/>
                          <a:pt x="203" y="27"/>
                        </a:cubicBezTo>
                        <a:cubicBezTo>
                          <a:pt x="172" y="24"/>
                          <a:pt x="98" y="0"/>
                          <a:pt x="67" y="19"/>
                        </a:cubicBez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7130880" y="3530880"/>
                  <a:ext cx="1735920" cy="447120"/>
                  <a:chOff x="7130880" y="3530880"/>
                  <a:chExt cx="1735920" cy="44712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7130880" y="3530880"/>
                    <a:ext cx="975600" cy="447120"/>
                    <a:chOff x="7130880" y="3530880"/>
                    <a:chExt cx="975600" cy="447120"/>
                  </a:xfrm>
                </p:grpSpPr>
                <p:grpSp>
                  <p:nvGrpSpPr>
                    <p:cNvPr id="1005" name=""/>
                    <p:cNvGrpSpPr/>
                    <p:nvPr/>
                  </p:nvGrpSpPr>
                  <p:grpSpPr>
                    <a:xfrm>
                      <a:off x="7130880" y="3585240"/>
                      <a:ext cx="491040" cy="392760"/>
                      <a:chOff x="7130880" y="3585240"/>
                      <a:chExt cx="491040" cy="392760"/>
                    </a:xfrm>
                  </p:grpSpPr>
                  <p:grpSp>
                    <p:nvGrpSpPr>
                      <p:cNvPr id="1006" name=""/>
                      <p:cNvGrpSpPr/>
                      <p:nvPr/>
                    </p:nvGrpSpPr>
                    <p:grpSpPr>
                      <a:xfrm>
                        <a:off x="7427520" y="3585240"/>
                        <a:ext cx="194400" cy="277200"/>
                        <a:chOff x="7427520" y="3585240"/>
                        <a:chExt cx="194400" cy="277200"/>
                      </a:xfrm>
                    </p:grpSpPr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flipH="1" rot="21099600">
                          <a:off x="744408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flipH="1" rot="21099600">
                          <a:off x="745380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09" name=""/>
                      <p:cNvGrpSpPr/>
                      <p:nvPr/>
                    </p:nvGrpSpPr>
                    <p:grpSpPr>
                      <a:xfrm>
                        <a:off x="7311960" y="3628800"/>
                        <a:ext cx="220320" cy="288720"/>
                        <a:chOff x="7311960" y="3628800"/>
                        <a:chExt cx="220320" cy="288720"/>
                      </a:xfrm>
                    </p:grpSpPr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 flipH="1" rot="20649000">
                          <a:off x="734148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flipH="1" rot="20649000">
                          <a:off x="735228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12" name=""/>
                      <p:cNvGrpSpPr/>
                      <p:nvPr/>
                    </p:nvGrpSpPr>
                    <p:grpSpPr>
                      <a:xfrm>
                        <a:off x="7130880" y="3679200"/>
                        <a:ext cx="268200" cy="298800"/>
                        <a:chOff x="7130880" y="3679200"/>
                        <a:chExt cx="268200" cy="298800"/>
                      </a:xfrm>
                    </p:grpSpPr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H="1" rot="19542600">
                          <a:off x="718416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 flipH="1" rot="19542600">
                          <a:off x="720072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5" name=""/>
                    <p:cNvGrpSpPr/>
                    <p:nvPr/>
                  </p:nvGrpSpPr>
                  <p:grpSpPr>
                    <a:xfrm>
                      <a:off x="7626600" y="3530880"/>
                      <a:ext cx="479880" cy="341280"/>
                      <a:chOff x="7626600" y="3530880"/>
                      <a:chExt cx="479880" cy="341280"/>
                    </a:xfrm>
                  </p:grpSpPr>
                  <p:grpSp>
                    <p:nvGrpSpPr>
                      <p:cNvPr id="1016" name=""/>
                      <p:cNvGrpSpPr/>
                      <p:nvPr/>
                    </p:nvGrpSpPr>
                    <p:grpSpPr>
                      <a:xfrm>
                        <a:off x="7626600" y="3530880"/>
                        <a:ext cx="165240" cy="258480"/>
                        <a:chOff x="7626600" y="3530880"/>
                        <a:chExt cx="165240" cy="258480"/>
                      </a:xfrm>
                    </p:grpSpPr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 rot="21544800">
                          <a:off x="76284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 rot="21544800">
                          <a:off x="767808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19" name=""/>
                      <p:cNvGrpSpPr/>
                      <p:nvPr/>
                    </p:nvGrpSpPr>
                    <p:grpSpPr>
                      <a:xfrm>
                        <a:off x="7724520" y="3556440"/>
                        <a:ext cx="187200" cy="272880"/>
                        <a:chOff x="7724520" y="3556440"/>
                        <a:chExt cx="187200" cy="272880"/>
                      </a:xfrm>
                    </p:grpSpPr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rot="395400">
                          <a:off x="773748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 rot="395400">
                          <a:off x="7785720" y="357084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22" name=""/>
                      <p:cNvGrpSpPr/>
                      <p:nvPr/>
                    </p:nvGrpSpPr>
                    <p:grpSpPr>
                      <a:xfrm>
                        <a:off x="7858800" y="3574080"/>
                        <a:ext cx="247680" cy="298080"/>
                        <a:chOff x="7858800" y="3574080"/>
                        <a:chExt cx="247680" cy="298080"/>
                      </a:xfrm>
                    </p:grpSpPr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 rot="1501800">
                          <a:off x="790200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 rot="1501800">
                          <a:off x="794520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7891200" y="3530880"/>
                    <a:ext cx="975600" cy="446760"/>
                    <a:chOff x="7891200" y="3530880"/>
                    <a:chExt cx="975600" cy="446760"/>
                  </a:xfrm>
                </p:grpSpPr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8375760" y="3585240"/>
                      <a:ext cx="491040" cy="392400"/>
                      <a:chOff x="8375760" y="3585240"/>
                      <a:chExt cx="491040" cy="392400"/>
                    </a:xfrm>
                  </p:grpSpPr>
                  <p:grpSp>
                    <p:nvGrpSpPr>
                      <p:cNvPr id="1027" name=""/>
                      <p:cNvGrpSpPr/>
                      <p:nvPr/>
                    </p:nvGrpSpPr>
                    <p:grpSpPr>
                      <a:xfrm>
                        <a:off x="8375760" y="3585240"/>
                        <a:ext cx="194400" cy="276840"/>
                        <a:chOff x="8375760" y="3585240"/>
                        <a:chExt cx="194400" cy="276840"/>
                      </a:xfrm>
                    </p:grpSpPr>
                    <p:sp>
                      <p:nvSpPr>
                        <p:cNvPr id="1028" name=""/>
                        <p:cNvSpPr/>
                        <p:nvPr/>
                      </p:nvSpPr>
                      <p:spPr>
                        <a:xfrm rot="500400">
                          <a:off x="8392320" y="359532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9" name=""/>
                        <p:cNvSpPr/>
                        <p:nvPr/>
                      </p:nvSpPr>
                      <p:spPr>
                        <a:xfrm rot="500400">
                          <a:off x="8439480" y="360216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30" name=""/>
                      <p:cNvGrpSpPr/>
                      <p:nvPr/>
                    </p:nvGrpSpPr>
                    <p:grpSpPr>
                      <a:xfrm>
                        <a:off x="8465400" y="3628800"/>
                        <a:ext cx="220320" cy="288720"/>
                        <a:chOff x="8465400" y="3628800"/>
                        <a:chExt cx="220320" cy="288720"/>
                      </a:xfrm>
                    </p:grpSpPr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 rot="951000">
                          <a:off x="8494920" y="364608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2" name=""/>
                        <p:cNvSpPr/>
                        <p:nvPr/>
                      </p:nvSpPr>
                      <p:spPr>
                        <a:xfrm rot="951000">
                          <a:off x="8541000" y="365508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33" name=""/>
                      <p:cNvGrpSpPr/>
                      <p:nvPr/>
                    </p:nvGrpSpPr>
                    <p:grpSpPr>
                      <a:xfrm>
                        <a:off x="8598600" y="3679200"/>
                        <a:ext cx="268200" cy="298440"/>
                        <a:chOff x="8598600" y="3679200"/>
                        <a:chExt cx="268200" cy="298440"/>
                      </a:xfrm>
                    </p:grpSpPr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 rot="2057400">
                          <a:off x="8652240" y="370368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 rot="2057400">
                          <a:off x="8691840" y="371700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36" name=""/>
                    <p:cNvGrpSpPr/>
                    <p:nvPr/>
                  </p:nvGrpSpPr>
                  <p:grpSpPr>
                    <a:xfrm>
                      <a:off x="7891200" y="3530880"/>
                      <a:ext cx="479880" cy="341280"/>
                      <a:chOff x="7891200" y="3530880"/>
                      <a:chExt cx="479880" cy="341280"/>
                    </a:xfrm>
                  </p:grpSpPr>
                  <p:grpSp>
                    <p:nvGrpSpPr>
                      <p:cNvPr id="1037" name=""/>
                      <p:cNvGrpSpPr/>
                      <p:nvPr/>
                    </p:nvGrpSpPr>
                    <p:grpSpPr>
                      <a:xfrm>
                        <a:off x="8206200" y="3530880"/>
                        <a:ext cx="164880" cy="258480"/>
                        <a:chOff x="8206200" y="3530880"/>
                        <a:chExt cx="164880" cy="258480"/>
                      </a:xfrm>
                    </p:grpSpPr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H="1" rot="55200">
                          <a:off x="8208000" y="35319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H="1" rot="55200">
                          <a:off x="8214840" y="353484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0" name=""/>
                      <p:cNvGrpSpPr/>
                      <p:nvPr/>
                    </p:nvGrpSpPr>
                    <p:grpSpPr>
                      <a:xfrm>
                        <a:off x="8085960" y="3556440"/>
                        <a:ext cx="187200" cy="272880"/>
                        <a:chOff x="8085960" y="3556440"/>
                        <a:chExt cx="187200" cy="272880"/>
                      </a:xfrm>
                    </p:grpSpPr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H="1" rot="21204600">
                          <a:off x="8098920" y="356472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H="1" rot="21204600">
                          <a:off x="8107560" y="357084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3" name=""/>
                      <p:cNvGrpSpPr/>
                      <p:nvPr/>
                    </p:nvGrpSpPr>
                    <p:grpSpPr>
                      <a:xfrm>
                        <a:off x="7891200" y="3574080"/>
                        <a:ext cx="247680" cy="298080"/>
                        <a:chOff x="7891200" y="3574080"/>
                        <a:chExt cx="247680" cy="298080"/>
                      </a:xfrm>
                    </p:grpSpPr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H="1" rot="20098200">
                          <a:off x="7934040" y="359676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 flipH="1" rot="20098200">
                          <a:off x="7947360" y="360828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046" name=""/>
                <p:cNvGrpSpPr/>
                <p:nvPr/>
              </p:nvGrpSpPr>
              <p:grpSpPr>
                <a:xfrm>
                  <a:off x="6294240" y="4368960"/>
                  <a:ext cx="1736280" cy="447120"/>
                  <a:chOff x="6294240" y="4368960"/>
                  <a:chExt cx="1736280" cy="447120"/>
                </a:xfrm>
              </p:grpSpPr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94240" y="4368960"/>
                    <a:ext cx="975600" cy="447120"/>
                    <a:chOff x="6294240" y="4368960"/>
                    <a:chExt cx="975600" cy="447120"/>
                  </a:xfrm>
                </p:grpSpPr>
                <p:grpSp>
                  <p:nvGrpSpPr>
                    <p:cNvPr id="1048" name=""/>
                    <p:cNvGrpSpPr/>
                    <p:nvPr/>
                  </p:nvGrpSpPr>
                  <p:grpSpPr>
                    <a:xfrm>
                      <a:off x="6294240" y="4423320"/>
                      <a:ext cx="491040" cy="392760"/>
                      <a:chOff x="6294240" y="4423320"/>
                      <a:chExt cx="491040" cy="392760"/>
                    </a:xfrm>
                  </p:grpSpPr>
                  <p:grpSp>
                    <p:nvGrpSpPr>
                      <p:cNvPr id="1049" name=""/>
                      <p:cNvGrpSpPr/>
                      <p:nvPr/>
                    </p:nvGrpSpPr>
                    <p:grpSpPr>
                      <a:xfrm>
                        <a:off x="6590880" y="4423320"/>
                        <a:ext cx="194400" cy="277200"/>
                        <a:chOff x="6590880" y="4423320"/>
                        <a:chExt cx="194400" cy="277200"/>
                      </a:xfrm>
                    </p:grpSpPr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H="1" rot="21099600">
                          <a:off x="66074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 rot="21099600">
                          <a:off x="661716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2" name=""/>
                      <p:cNvGrpSpPr/>
                      <p:nvPr/>
                    </p:nvGrpSpPr>
                    <p:grpSpPr>
                      <a:xfrm>
                        <a:off x="6475320" y="4466880"/>
                        <a:ext cx="220320" cy="288720"/>
                        <a:chOff x="6475320" y="4466880"/>
                        <a:chExt cx="220320" cy="288720"/>
                      </a:xfrm>
                    </p:grpSpPr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H="1" rot="20649000">
                          <a:off x="65048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 rot="20649000">
                          <a:off x="651564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6294240" y="4517280"/>
                        <a:ext cx="268200" cy="298800"/>
                        <a:chOff x="6294240" y="4517280"/>
                        <a:chExt cx="268200" cy="298800"/>
                      </a:xfrm>
                    </p:grpSpPr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H="1" rot="19542600">
                          <a:off x="634752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H="1" rot="19542600">
                          <a:off x="636408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58" name=""/>
                    <p:cNvGrpSpPr/>
                    <p:nvPr/>
                  </p:nvGrpSpPr>
                  <p:grpSpPr>
                    <a:xfrm>
                      <a:off x="6789960" y="4368960"/>
                      <a:ext cx="479880" cy="341280"/>
                      <a:chOff x="6789960" y="4368960"/>
                      <a:chExt cx="479880" cy="341280"/>
                    </a:xfrm>
                  </p:grpSpPr>
                  <p:grpSp>
                    <p:nvGrpSpPr>
                      <p:cNvPr id="1059" name=""/>
                      <p:cNvGrpSpPr/>
                      <p:nvPr/>
                    </p:nvGrpSpPr>
                    <p:grpSpPr>
                      <a:xfrm>
                        <a:off x="6789960" y="4368960"/>
                        <a:ext cx="165240" cy="258480"/>
                        <a:chOff x="6789960" y="4368960"/>
                        <a:chExt cx="165240" cy="258480"/>
                      </a:xfrm>
                    </p:grpSpPr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rot="21544800">
                          <a:off x="679176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 rot="21544800">
                          <a:off x="684144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2" name=""/>
                      <p:cNvGrpSpPr/>
                      <p:nvPr/>
                    </p:nvGrpSpPr>
                    <p:grpSpPr>
                      <a:xfrm>
                        <a:off x="6887880" y="4394520"/>
                        <a:ext cx="187200" cy="272880"/>
                        <a:chOff x="6887880" y="4394520"/>
                        <a:chExt cx="187200" cy="272880"/>
                      </a:xfrm>
                    </p:grpSpPr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 rot="395400">
                          <a:off x="69008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 rot="395400">
                          <a:off x="6949080" y="440892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65" name=""/>
                      <p:cNvGrpSpPr/>
                      <p:nvPr/>
                    </p:nvGrpSpPr>
                    <p:grpSpPr>
                      <a:xfrm>
                        <a:off x="7022160" y="4412160"/>
                        <a:ext cx="247680" cy="298080"/>
                        <a:chOff x="7022160" y="4412160"/>
                        <a:chExt cx="247680" cy="298080"/>
                      </a:xfrm>
                    </p:grpSpPr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 rot="1501800">
                          <a:off x="70653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 rot="1501800">
                          <a:off x="710856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7054920" y="4368960"/>
                    <a:ext cx="975600" cy="446760"/>
                    <a:chOff x="7054920" y="4368960"/>
                    <a:chExt cx="975600" cy="446760"/>
                  </a:xfrm>
                </p:grpSpPr>
                <p:grpSp>
                  <p:nvGrpSpPr>
                    <p:cNvPr id="1069" name=""/>
                    <p:cNvGrpSpPr/>
                    <p:nvPr/>
                  </p:nvGrpSpPr>
                  <p:grpSpPr>
                    <a:xfrm>
                      <a:off x="7539480" y="4423320"/>
                      <a:ext cx="491040" cy="392400"/>
                      <a:chOff x="7539480" y="4423320"/>
                      <a:chExt cx="491040" cy="392400"/>
                    </a:xfrm>
                  </p:grpSpPr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7539480" y="4423320"/>
                        <a:ext cx="194400" cy="276840"/>
                        <a:chOff x="7539480" y="4423320"/>
                        <a:chExt cx="194400" cy="276840"/>
                      </a:xfrm>
                    </p:grpSpPr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 rot="500400">
                          <a:off x="7556040" y="443340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rot="500400">
                          <a:off x="7603200" y="4440240"/>
                          <a:ext cx="104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3" name=""/>
                      <p:cNvGrpSpPr/>
                      <p:nvPr/>
                    </p:nvGrpSpPr>
                    <p:grpSpPr>
                      <a:xfrm>
                        <a:off x="7629120" y="4466880"/>
                        <a:ext cx="220320" cy="288720"/>
                        <a:chOff x="7629120" y="4466880"/>
                        <a:chExt cx="220320" cy="288720"/>
                      </a:xfrm>
                    </p:grpSpPr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 rot="951000">
                          <a:off x="7658640" y="448416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 rot="951000">
                          <a:off x="7704720" y="4493160"/>
                          <a:ext cx="104040" cy="25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76" name=""/>
                      <p:cNvGrpSpPr/>
                      <p:nvPr/>
                    </p:nvGrpSpPr>
                    <p:grpSpPr>
                      <a:xfrm>
                        <a:off x="7762320" y="4517280"/>
                        <a:ext cx="268200" cy="298440"/>
                        <a:chOff x="7762320" y="4517280"/>
                        <a:chExt cx="268200" cy="298440"/>
                      </a:xfrm>
                    </p:grpSpPr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 rot="2057400">
                          <a:off x="7815960" y="4541760"/>
                          <a:ext cx="16092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 rot="2057400">
                          <a:off x="7855560" y="455508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7054920" y="4368960"/>
                      <a:ext cx="479880" cy="341280"/>
                      <a:chOff x="7054920" y="4368960"/>
                      <a:chExt cx="479880" cy="341280"/>
                    </a:xfrm>
                  </p:grpSpPr>
                  <p:grpSp>
                    <p:nvGrpSpPr>
                      <p:cNvPr id="1080" name=""/>
                      <p:cNvGrpSpPr/>
                      <p:nvPr/>
                    </p:nvGrpSpPr>
                    <p:grpSpPr>
                      <a:xfrm>
                        <a:off x="7369920" y="4368960"/>
                        <a:ext cx="164880" cy="258480"/>
                        <a:chOff x="7369920" y="4368960"/>
                        <a:chExt cx="164880" cy="258480"/>
                      </a:xfrm>
                    </p:grpSpPr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 flipH="1" rot="55200">
                          <a:off x="7371720" y="43700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 flipH="1" rot="55200">
                          <a:off x="7378560" y="437292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3" name=""/>
                      <p:cNvGrpSpPr/>
                      <p:nvPr/>
                    </p:nvGrpSpPr>
                    <p:grpSpPr>
                      <a:xfrm>
                        <a:off x="7249680" y="4394520"/>
                        <a:ext cx="187200" cy="272880"/>
                        <a:chOff x="7249680" y="4394520"/>
                        <a:chExt cx="187200" cy="272880"/>
                      </a:xfrm>
                    </p:grpSpPr>
                    <p:sp>
                      <p:nvSpPr>
                        <p:cNvPr id="1084" name=""/>
                        <p:cNvSpPr/>
                        <p:nvPr/>
                      </p:nvSpPr>
                      <p:spPr>
                        <a:xfrm flipH="1" rot="21204600">
                          <a:off x="7262640" y="4402800"/>
                          <a:ext cx="160920" cy="23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 flipH="1" rot="21204600">
                          <a:off x="7271280" y="4408920"/>
                          <a:ext cx="10404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6" name=""/>
                      <p:cNvGrpSpPr/>
                      <p:nvPr/>
                    </p:nvGrpSpPr>
                    <p:grpSpPr>
                      <a:xfrm>
                        <a:off x="7054920" y="4412160"/>
                        <a:ext cx="247680" cy="298080"/>
                        <a:chOff x="7054920" y="4412160"/>
                        <a:chExt cx="247680" cy="298080"/>
                      </a:xfrm>
                    </p:grpSpPr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flipH="1" rot="20098200">
                          <a:off x="7097760" y="4434840"/>
                          <a:ext cx="161280" cy="239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6" h="318">
                              <a:moveTo>
                                <a:pt x="136" y="0"/>
                              </a:moveTo>
                              <a:cubicBezTo>
                                <a:pt x="102" y="42"/>
                                <a:pt x="69" y="84"/>
                                <a:pt x="46" y="137"/>
                              </a:cubicBezTo>
                              <a:cubicBezTo>
                                <a:pt x="23" y="190"/>
                                <a:pt x="11" y="254"/>
                                <a:pt x="0" y="318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 flipH="1" rot="20098200">
                          <a:off x="7111080" y="4446360"/>
                          <a:ext cx="104400" cy="25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6">
                              <a:moveTo>
                                <a:pt x="88" y="0"/>
                              </a:moveTo>
                              <a:cubicBezTo>
                                <a:pt x="76" y="33"/>
                                <a:pt x="31" y="144"/>
                                <a:pt x="16" y="200"/>
                              </a:cubicBezTo>
                              <a:cubicBezTo>
                                <a:pt x="1" y="256"/>
                                <a:pt x="3" y="308"/>
                                <a:pt x="0" y="336"/>
                              </a:cubicBezTo>
                            </a:path>
                          </a:pathLst>
                        </a:custGeom>
                        <a:solidFill>
                          <a:srgbClr val="66ff66"/>
                        </a:solidFill>
                        <a:ln w="28440">
                          <a:solidFill>
                            <a:srgbClr val="33cc33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1089" name=""/>
          <p:cNvGrpSpPr/>
          <p:nvPr/>
        </p:nvGrpSpPr>
        <p:grpSpPr>
          <a:xfrm>
            <a:off x="3924360" y="4790520"/>
            <a:ext cx="581040" cy="731520"/>
            <a:chOff x="3924360" y="4790520"/>
            <a:chExt cx="581040" cy="731520"/>
          </a:xfrm>
        </p:grpSpPr>
        <p:grpSp>
          <p:nvGrpSpPr>
            <p:cNvPr id="1090" name=""/>
            <p:cNvGrpSpPr/>
            <p:nvPr/>
          </p:nvGrpSpPr>
          <p:grpSpPr>
            <a:xfrm>
              <a:off x="3924360" y="5294160"/>
              <a:ext cx="488880" cy="227880"/>
              <a:chOff x="3924360" y="5294160"/>
              <a:chExt cx="488880" cy="227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3924360" y="5339520"/>
                <a:ext cx="488880" cy="18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990960" y="5316480"/>
                <a:ext cx="3776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035240" y="5294160"/>
                <a:ext cx="26676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 rot="21451200">
              <a:off x="4157280" y="4797360"/>
              <a:ext cx="336600" cy="53316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123920" cy="185400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4435920" y="501336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36320" y="2852640"/>
            <a:ext cx="26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2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Турист движется по шоссе со скоростью  </a:t>
            </a:r>
            <a:br>
              <a:rPr sz="2400"/>
            </a:b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v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км/ч. Сейчас он находится в точке О. Если он движется в положительном направлении, то его скорость считают положительной, а в отрицательном направлении – отрицательной.  Значение </a:t>
            </a: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t = -4 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означает «4 ч наза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20500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Где будет находиться турист через </a:t>
            </a:r>
            <a:r>
              <a:rPr b="1" i="1" lang="en-US" sz="2400" spc="-1" strike="noStrike">
                <a:solidFill>
                  <a:srgbClr val="660066"/>
                </a:solidFill>
                <a:latin typeface="Georgia"/>
              </a:rPr>
              <a:t>t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3"/>
          <a:stretch/>
        </p:blipFill>
        <p:spPr>
          <a:xfrm flipH="1">
            <a:off x="3563640" y="2924280"/>
            <a:ext cx="1150920" cy="1854000"/>
          </a:xfrm>
          <a:prstGeom prst="rect">
            <a:avLst/>
          </a:prstGeom>
          <a:ln w="0">
            <a:noFill/>
          </a:ln>
        </p:spPr>
      </p:pic>
      <p:grpSp>
        <p:nvGrpSpPr>
          <p:cNvPr id="1101" name=""/>
          <p:cNvGrpSpPr/>
          <p:nvPr/>
        </p:nvGrpSpPr>
        <p:grpSpPr>
          <a:xfrm>
            <a:off x="324000" y="5877000"/>
            <a:ext cx="8351640" cy="593640"/>
            <a:chOff x="324000" y="5877000"/>
            <a:chExt cx="8351640" cy="593640"/>
          </a:xfrm>
        </p:grpSpPr>
        <p:sp>
          <p:nvSpPr>
            <p:cNvPr id="1102" name=""/>
            <p:cNvSpPr/>
            <p:nvPr/>
          </p:nvSpPr>
          <p:spPr>
            <a:xfrm>
              <a:off x="324000" y="5950080"/>
              <a:ext cx="83516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7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8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56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24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32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34800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4036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51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63640" y="5877000"/>
              <a:ext cx="0" cy="1443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9672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404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12360" y="59500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33440" y="59500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3672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23708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17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25800" y="595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01800" y="5950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7164360" y="4797360"/>
            <a:ext cx="1655640" cy="914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0880" y="2852640"/>
            <a:ext cx="27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-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164360" y="4797360"/>
            <a:ext cx="1655640" cy="914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8320" y="2924280"/>
            <a:ext cx="27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v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= 5, 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t =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-</a:t>
            </a:r>
            <a:r>
              <a:rPr b="1" i="1" lang="en-US" sz="4000" spc="-1" strike="noStrike">
                <a:solidFill>
                  <a:srgbClr val="0000ff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5549E-006 L 0.66302 -0.10335 E">
                                      <p:cBhvr>
                                        <p:cTn id="1318" dur="5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-0.5276 0.07353 E">
                                      <p:cBhvr>
                                        <p:cTn id="1326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1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4" dur="1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1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 rot="21334200">
            <a:off x="365040" y="420480"/>
            <a:ext cx="7542360" cy="28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 flipH="1">
            <a:off x="971640" y="3068640"/>
            <a:ext cx="1800000" cy="182556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1692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П. 35 – 1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3 (а, в, г, д,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4 (а, в , г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11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882880" cy="49374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0" y="58816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 картинок на 15  слайде  (дорога, кусты) Савченко Е.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it-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rofil.aspx?cat_no=692&amp;d_no=96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имированная картин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livegif.ru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50"/>
                            </p:stCondLst>
                            <p:childTnLst>
                              <p:par>
                                <p:cTn id="14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4300"/>
                            </p:stCondLst>
                            <p:childTnLst>
                              <p:par>
                                <p:cTn id="1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450"/>
                            </p:stCondLst>
                            <p:childTnLst>
                              <p:par>
                                <p:cTn id="14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76280"/>
            <a:ext cx="8496000" cy="352908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Многие вещи нам непонятны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потому, что наши понятия сл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но потому, что эти вещи не в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Georgia"/>
              </a:rPr>
              <a:t>в круг наших по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        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1752480" cy="182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flipH="1">
            <a:off x="2411280" y="4797360"/>
            <a:ext cx="1703520" cy="182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067280" y="4221000"/>
            <a:ext cx="139536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flipH="1">
            <a:off x="5580000" y="4221000"/>
            <a:ext cx="14112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 flipH="1">
            <a:off x="-360" y="2852640"/>
            <a:ext cx="2452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Что называется модулем числа 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4364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484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Чему равен модуль полож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34936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Чему равен мод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отрицательного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284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отрицательн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14972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оложительное 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508464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Как сложить два отрицательных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9500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Georgia"/>
              </a:rPr>
              <a:t>Как сложить два числа с разными зна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26920" y="1989000"/>
                <a:ext cx="3240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,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806560"/>
                <a:ext cx="3311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3797280"/>
                <a:ext cx="324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539640" y="1700280"/>
          <a:ext cx="8208720" cy="3152160"/>
        </p:xfrm>
        <a:graphic>
          <a:graphicData uri="http://schemas.openxmlformats.org/drawingml/2006/table">
            <a:tbl>
              <a:tblPr/>
              <a:tblGrid>
                <a:gridCol w="3576960"/>
                <a:gridCol w="769320"/>
                <a:gridCol w="386244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075280" y="1987560"/>
                <a:ext cx="3527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5240" y="185760"/>
            <a:ext cx="66754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3800" y="846000"/>
            <a:ext cx="20667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6520" y="846000"/>
            <a:ext cx="2208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1171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eorgia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2781360"/>
                <a:ext cx="3367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003640" y="3789360"/>
                <a:ext cx="338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979640" y="4941720"/>
            <a:ext cx="51134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Georgia"/>
              </a:rPr>
              <a:t>Проверь  товарищ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492280"/>
            <a:ext cx="144360" cy="3313080"/>
          </a:xfrm>
          <a:prstGeom prst="downArrow">
            <a:avLst>
              <a:gd name="adj1" fmla="val 50000"/>
              <a:gd name="adj2" fmla="val 573753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32720" y="2492280"/>
            <a:ext cx="144720" cy="3313080"/>
          </a:xfrm>
          <a:prstGeom prst="downArrow">
            <a:avLst>
              <a:gd name="adj1" fmla="val 50000"/>
              <a:gd name="adj2" fmla="val 572326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805360"/>
            <a:ext cx="11746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7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5805360"/>
            <a:ext cx="11746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092800">
            <a:off x="1411200" y="3544560"/>
            <a:ext cx="150840" cy="2475000"/>
          </a:xfrm>
          <a:prstGeom prst="downArrow">
            <a:avLst>
              <a:gd name="adj1" fmla="val 50000"/>
              <a:gd name="adj2" fmla="val 410203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2306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10400">
            <a:off x="7524360" y="3573360"/>
            <a:ext cx="144360" cy="2519640"/>
          </a:xfrm>
          <a:prstGeom prst="downArrow">
            <a:avLst>
              <a:gd name="adj1" fmla="val 50000"/>
              <a:gd name="adj2" fmla="val 436347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9192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5950080"/>
            <a:ext cx="1101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6021360"/>
            <a:ext cx="11368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4581360"/>
            <a:ext cx="142920" cy="1440000"/>
          </a:xfrm>
          <a:prstGeom prst="downArrow">
            <a:avLst>
              <a:gd name="adj1" fmla="val 50000"/>
              <a:gd name="adj2" fmla="val 251889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4581360"/>
            <a:ext cx="144360" cy="1440000"/>
          </a:xfrm>
          <a:prstGeom prst="downArrow">
            <a:avLst>
              <a:gd name="adj1" fmla="val 50000"/>
              <a:gd name="adj2" fmla="val 249377"/>
            </a:avLst>
          </a:prstGeom>
          <a:gradFill rotWithShape="0">
            <a:gsLst>
              <a:gs pos="0">
                <a:srgbClr val="fefefe"/>
              </a:gs>
              <a:gs pos="50000">
                <a:srgbClr val="3366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03640" y="6053040"/>
            <a:ext cx="1008000" cy="804960"/>
            <a:chOff x="3203640" y="6053040"/>
            <a:chExt cx="1008000" cy="804960"/>
          </a:xfrm>
        </p:grpSpPr>
        <p:sp>
          <p:nvSpPr>
            <p:cNvPr id="93" name=""/>
            <p:cNvSpPr/>
            <p:nvPr/>
          </p:nvSpPr>
          <p:spPr>
            <a:xfrm>
              <a:off x="3203640" y="6053040"/>
              <a:ext cx="1008000" cy="80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0240" y="6426360"/>
              <a:ext cx="534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9160" y="6066000"/>
              <a:ext cx="452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3640" y="6159600"/>
              <a:ext cx="4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29160" y="6426360"/>
              <a:ext cx="44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0" y="6021360"/>
            <a:ext cx="1008000" cy="840240"/>
            <a:chOff x="4572000" y="6021360"/>
            <a:chExt cx="1008000" cy="840240"/>
          </a:xfrm>
        </p:grpSpPr>
        <p:sp>
          <p:nvSpPr>
            <p:cNvPr id="99" name=""/>
            <p:cNvSpPr/>
            <p:nvPr/>
          </p:nvSpPr>
          <p:spPr>
            <a:xfrm>
              <a:off x="4572000" y="6021360"/>
              <a:ext cx="1008000" cy="83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87720" y="6389640"/>
              <a:ext cx="615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03640" y="6105600"/>
              <a:ext cx="520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cc0000"/>
                  </a:solidFill>
                  <a:uFillTx/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61765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9240" y="6434640"/>
              <a:ext cx="51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524720" y="189000"/>
            <a:ext cx="1403280" cy="431640"/>
          </a:xfrm>
          <a:custGeom>
            <a:avLst/>
            <a:gdLst>
              <a:gd name="textAreaLeft" fmla="*/ 27720 w 1403280"/>
              <a:gd name="textAreaRight" fmla="*/ 1375560 w 14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0182" h="21600">
                <a:moveTo>
                  <a:pt x="0" y="0"/>
                </a:moveTo>
                <a:lnTo>
                  <a:pt x="70182" y="0"/>
                </a:lnTo>
                <a:lnTo>
                  <a:pt x="70182" y="21600"/>
                </a:lnTo>
                <a:lnTo>
                  <a:pt x="0" y="21600"/>
                </a:lnTo>
                <a:close/>
              </a:path>
              <a:path fill="lightenLess" w="70182" h="21600">
                <a:moveTo>
                  <a:pt x="0" y="0"/>
                </a:moveTo>
                <a:lnTo>
                  <a:pt x="70182" y="0"/>
                </a:lnTo>
                <a:lnTo>
                  <a:pt x="68782" y="1400"/>
                </a:lnTo>
                <a:lnTo>
                  <a:pt x="1400" y="1400"/>
                </a:lnTo>
                <a:close/>
              </a:path>
              <a:path fill="darken" w="70182" h="21600">
                <a:moveTo>
                  <a:pt x="70182" y="0"/>
                </a:moveTo>
                <a:lnTo>
                  <a:pt x="70182" y="21600"/>
                </a:lnTo>
                <a:lnTo>
                  <a:pt x="68782" y="20200"/>
                </a:lnTo>
                <a:lnTo>
                  <a:pt x="68782" y="1400"/>
                </a:lnTo>
                <a:close/>
              </a:path>
              <a:path fill="darkenLess" w="70182" h="21600">
                <a:moveTo>
                  <a:pt x="70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2" y="20200"/>
                </a:lnTo>
                <a:close/>
              </a:path>
              <a:path fill="lighten" w="70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efe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Вспомним  умно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flipH="1">
            <a:off x="179280" y="260280"/>
            <a:ext cx="1703520" cy="1825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340000" y="1700280"/>
            <a:ext cx="3168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1 * 22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19280" y="2708280"/>
            <a:ext cx="38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,2 * 2,8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11280" y="3500280"/>
            <a:ext cx="3154320" cy="1365120"/>
            <a:chOff x="2411280" y="3500280"/>
            <a:chExt cx="3154320" cy="1365120"/>
          </a:xfrm>
        </p:grpSpPr>
        <p:grpSp>
          <p:nvGrpSpPr>
            <p:cNvPr id="110" name=""/>
            <p:cNvGrpSpPr/>
            <p:nvPr/>
          </p:nvGrpSpPr>
          <p:grpSpPr>
            <a:xfrm>
              <a:off x="2411280" y="3500280"/>
              <a:ext cx="648720" cy="1364400"/>
              <a:chOff x="2411280" y="3500280"/>
              <a:chExt cx="648720" cy="1364400"/>
            </a:xfrm>
          </p:grpSpPr>
          <p:sp>
            <p:nvSpPr>
              <p:cNvPr id="111" name=""/>
              <p:cNvSpPr txBox="1"/>
              <p:nvPr/>
            </p:nvSpPr>
            <p:spPr>
              <a:xfrm>
                <a:off x="2597400" y="3500280"/>
                <a:ext cx="37044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2595240" y="4334040"/>
                <a:ext cx="372960" cy="53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1762560" y="4109040"/>
                <a:ext cx="64872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>
              <a:off x="3058560" y="3860640"/>
              <a:ext cx="289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852720" y="3500280"/>
              <a:ext cx="1004760" cy="1365120"/>
              <a:chOff x="3852720" y="3500280"/>
              <a:chExt cx="1004760" cy="1365120"/>
            </a:xfrm>
          </p:grpSpPr>
          <p:sp>
            <p:nvSpPr>
              <p:cNvPr id="116" name=""/>
              <p:cNvSpPr txBox="1"/>
              <p:nvPr/>
            </p:nvSpPr>
            <p:spPr>
              <a:xfrm>
                <a:off x="4049280" y="3500280"/>
                <a:ext cx="71892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6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3976200" y="4333680"/>
                <a:ext cx="720360" cy="53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1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2847960" y="4109400"/>
                <a:ext cx="100476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9" name=""/>
            <p:cNvSpPr txBox="1"/>
            <p:nvPr/>
          </p:nvSpPr>
          <p:spPr>
            <a:xfrm>
              <a:off x="5076360" y="4147920"/>
              <a:ext cx="4892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08000" y="5157720"/>
            <a:ext cx="3585960" cy="1408320"/>
            <a:chOff x="1908000" y="5157720"/>
            <a:chExt cx="3585960" cy="1408320"/>
          </a:xfrm>
        </p:grpSpPr>
        <p:grpSp>
          <p:nvGrpSpPr>
            <p:cNvPr id="121" name=""/>
            <p:cNvGrpSpPr/>
            <p:nvPr/>
          </p:nvGrpSpPr>
          <p:grpSpPr>
            <a:xfrm>
              <a:off x="1908000" y="5229360"/>
              <a:ext cx="1079280" cy="1336680"/>
              <a:chOff x="1908000" y="5229360"/>
              <a:chExt cx="1079280" cy="1336680"/>
            </a:xfrm>
          </p:grpSpPr>
          <p:sp>
            <p:nvSpPr>
              <p:cNvPr id="122" name=""/>
              <p:cNvSpPr txBox="1"/>
              <p:nvPr/>
            </p:nvSpPr>
            <p:spPr>
              <a:xfrm>
                <a:off x="1908000" y="5662440"/>
                <a:ext cx="36036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692000" y="5806080"/>
                <a:ext cx="64764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484000" y="5229360"/>
                <a:ext cx="28764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2412720" y="6021360"/>
                <a:ext cx="43164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779640" y="5157720"/>
              <a:ext cx="1080360" cy="1366560"/>
              <a:chOff x="3779640" y="5157720"/>
              <a:chExt cx="1080360" cy="1366560"/>
            </a:xfrm>
          </p:grpSpPr>
          <p:sp>
            <p:nvSpPr>
              <p:cNvPr id="127" name=""/>
              <p:cNvSpPr txBox="1"/>
              <p:nvPr/>
            </p:nvSpPr>
            <p:spPr>
              <a:xfrm>
                <a:off x="3779640" y="560088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3563280" y="5748840"/>
                <a:ext cx="648360" cy="72720"/>
              </a:xfrm>
              <a:prstGeom prst="rect">
                <a:avLst/>
              </a:prstGeom>
            </p:spPr>
            <p:txBody>
              <a:bodyPr wrap="none" lIns="90000" rIns="90000" tIns="26280" bIns="262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356360" y="515772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4285080" y="5967720"/>
                <a:ext cx="360720" cy="55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1" name=""/>
            <p:cNvSpPr txBox="1"/>
            <p:nvPr/>
          </p:nvSpPr>
          <p:spPr>
            <a:xfrm>
              <a:off x="2987280" y="5446800"/>
              <a:ext cx="289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005080" y="5805360"/>
              <a:ext cx="4888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651640" y="1341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31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2349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36,9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21300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660066"/>
                </a:solidFill>
                <a:uFillTx/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5229360"/>
            <a:ext cx="2447640" cy="13460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Times New Roman"/>
              </a:rPr>
              <a:t>13,6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>
            <a:off x="250920" y="4724280"/>
            <a:ext cx="1411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140" name="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719760" y="21477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08760" y="2143080"/>
            <a:ext cx="716040" cy="415800"/>
          </a:xfrm>
          <a:custGeom>
            <a:avLst/>
            <a:gdLst/>
            <a:ahLst/>
            <a:rect l="l" t="t" r="r" b="b"/>
            <a:pathLst>
              <a:path w="451" h="262">
                <a:moveTo>
                  <a:pt x="451" y="262"/>
                </a:moveTo>
                <a:cubicBezTo>
                  <a:pt x="435" y="228"/>
                  <a:pt x="394" y="101"/>
                  <a:pt x="357" y="58"/>
                </a:cubicBezTo>
                <a:cubicBezTo>
                  <a:pt x="320" y="15"/>
                  <a:pt x="275" y="0"/>
                  <a:pt x="229" y="3"/>
                </a:cubicBezTo>
                <a:cubicBezTo>
                  <a:pt x="183" y="6"/>
                  <a:pt x="120" y="33"/>
                  <a:pt x="82" y="76"/>
                </a:cubicBezTo>
                <a:cubicBezTo>
                  <a:pt x="44" y="119"/>
                  <a:pt x="17" y="221"/>
                  <a:pt x="0" y="2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7400" y="2128680"/>
            <a:ext cx="706680" cy="430200"/>
          </a:xfrm>
          <a:custGeom>
            <a:avLst/>
            <a:gdLst/>
            <a:ahLst/>
            <a:rect l="l" t="t" r="r" b="b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0544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7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708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0360" y="306864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1 + (-1) + (-1) + (-1)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8160" y="306864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1) * 4 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16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164" name="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94980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908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flipH="1">
            <a:off x="250560" y="3573360"/>
            <a:ext cx="1298520" cy="1392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48720" y="544500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-1 + (-1) + (-1) + (-1) + (-1) + (-1)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1080" y="621648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-1) * 6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 flipH="1">
            <a:off x="250560" y="5229360"/>
            <a:ext cx="1128600" cy="1439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0" y="2133720"/>
            <a:ext cx="706320" cy="430200"/>
          </a:xfrm>
          <a:custGeom>
            <a:avLst/>
            <a:gdLst/>
            <a:ahLst/>
            <a:rect l="l" t="t" r="r" b="b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472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8472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581360"/>
            <a:ext cx="720720" cy="392400"/>
          </a:xfrm>
          <a:custGeom>
            <a:avLst/>
            <a:gdLst/>
            <a:ahLst/>
            <a:rect l="l" t="t" r="r" b="b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1016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872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44640" y="2649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26028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4640" y="170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84280" y="170172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44640" y="31370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14172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6292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= –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44640" y="698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44640" y="2205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220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44640" y="38577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8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7080" y="16344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603440"/>
            <a:ext cx="70344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3116160"/>
            <a:ext cx="70344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1268280"/>
            <a:ext cx="2158920" cy="50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2781360"/>
            <a:ext cx="2087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4437000"/>
            <a:ext cx="216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4508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=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–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1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flipH="1">
            <a:off x="7812000" y="692280"/>
            <a:ext cx="1128960" cy="1439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5560920"/>
            <a:ext cx="9144000" cy="1297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множить ( - 1 ) на  п – это зна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зять  ( - 1 )  п 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44640" y="307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 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26028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26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5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60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26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7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·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26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7080" y="16200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89000"/>
            <a:ext cx="70308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4360" y="189000"/>
            <a:ext cx="703440" cy="73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5013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(–1)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(–1) = –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5840" y="2906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1 =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67992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числа на 1 получаем                то ж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80536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ри умножении числа на (–1) получаем число, ему противопо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2492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Знали рань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2360" y="465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Georgia"/>
              </a:rPr>
              <a:t>Узнали сейч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732720" y="1920960"/>
            <a:ext cx="2882880" cy="4937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64200" y="981000"/>
            <a:ext cx="728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множить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n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 ( - 1) – это 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зять  число,  противоположное 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19280" y="1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Вычис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189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7320" y="9525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75080" y="90180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0760" y="9525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7320" y="16257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75080" y="15746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13120" y="1625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7320" y="23004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3,4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75080" y="22496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0760" y="230040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7320" y="364968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75080" y="359892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4760" y="36417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7320" y="432432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5080" y="427356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0760" y="432432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7320" y="49989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75080" y="494820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4760" y="501012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7320" y="56736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080" y="562284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3120" y="5657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5080" y="2924280"/>
            <a:ext cx="576000" cy="116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14960" y="2975040"/>
            <a:ext cx="9111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9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7320" y="297504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9,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 flipH="1">
            <a:off x="473040" y="4005360"/>
            <a:ext cx="1365120" cy="14634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126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5:19:50Z</dcterms:created>
  <dc:creator>MAMA</dc:creator>
  <dc:description/>
  <dc:language>en-US</dc:language>
  <cp:lastModifiedBy>Admin</cp:lastModifiedBy>
  <dcterms:modified xsi:type="dcterms:W3CDTF">2010-03-06T13:01:19Z</dcterms:modified>
  <cp:revision>10</cp:revision>
  <dc:subject/>
  <dc:title>Слайд 1</dc:title>
</cp:coreProperties>
</file>