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wmf" ContentType="image/x-wmf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C31B-4393-4257-9383-AF675B5F96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числения ус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29 Виленкин Н.Я. 2006 г.изд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меры выполняются учеником на до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121-D6A9-4D23-B42F-9267F186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346-41D0-47FE-B7F0-F19A5A32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8E79-F41C-42A8-AC94-832196DA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A9E-D852-42F8-A9BC-4648AA93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195-E256-49FA-AADB-58F54CD0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EE36-5E24-40B2-966D-BD52963D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65D7-4801-4531-891F-FB4BAFE1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B067-7407-49E5-BDC8-C610EC17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251-6E75-4EBF-B298-953DFB6B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093A-93C7-442A-AC51-87068B6B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883-3C7C-4EF1-B5E8-F25DB6D0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123-ECE0-4328-B8B2-3F578C81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6EF2-A3DA-4A41-AF8C-DE6BB8B56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hyperlink" Target="http://www.it-n.ru/profil.aspx?cat_no=692&amp;d_no=9658" TargetMode="External"/><Relationship Id="rId5" Type="http://schemas.openxmlformats.org/officeDocument/2006/relationships/hyperlink" Target="http://www.it-n.ru/profil.aspx?cat_no=692&amp;d_no=9658" TargetMode="External"/><Relationship Id="rId6" Type="http://schemas.openxmlformats.org/officeDocument/2006/relationships/hyperlink" Target="http://www.it-n.ru/profil.aspx?cat_no=692&amp;d_no=9658" TargetMode="External"/><Relationship Id="rId7" Type="http://schemas.openxmlformats.org/officeDocument/2006/relationships/hyperlink" Target="http://www.it-n.ru/profil.aspx?cat_no=692&amp;d_no=9658" TargetMode="External"/><Relationship Id="rId8" Type="http://schemas.openxmlformats.org/officeDocument/2006/relationships/hyperlink" Target="http://www.livegif.ru/" TargetMode="External"/><Relationship Id="rId9" Type="http://schemas.openxmlformats.org/officeDocument/2006/relationships/hyperlink" Target="http://www.livegif.ru/" TargetMode="External"/><Relationship Id="rId10" Type="http://schemas.openxmlformats.org/officeDocument/2006/relationships/hyperlink" Target="http://www.livegif.ru/" TargetMode="External"/><Relationship Id="rId11" Type="http://schemas.openxmlformats.org/officeDocument/2006/relationships/hyperlink" Target="http://www.livegif.ru/" TargetMode="External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 rot="21334200">
            <a:off x="439560" y="419040"/>
            <a:ext cx="7542360" cy="477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Умножение  чисел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  разными  знаками.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16560" y="4149720"/>
            <a:ext cx="1468440" cy="1800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4680" y="3213000"/>
            <a:ext cx="1752480" cy="1825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5634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МОУ СОШ № 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г.Фок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Каратанова Мар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Georgia"/>
              </a:rPr>
              <a:t>Вопросы  повтор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50920" y="2133720"/>
            <a:ext cx="8569080" cy="914400"/>
            <a:chOff x="250920" y="2133720"/>
            <a:chExt cx="8569080" cy="914400"/>
          </a:xfrm>
        </p:grpSpPr>
        <p:sp>
          <p:nvSpPr>
            <p:cNvPr id="267" name=""/>
            <p:cNvSpPr/>
            <p:nvPr/>
          </p:nvSpPr>
          <p:spPr>
            <a:xfrm>
              <a:off x="250920" y="213372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9      -8      -7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 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 0       1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4360" y="256572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7164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9236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3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5128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7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9272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1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3272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5164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17236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288040" y="1911240"/>
            <a:ext cx="2152440" cy="603360"/>
          </a:xfrm>
          <a:custGeom>
            <a:avLst/>
            <a:gdLst/>
            <a:ahLst/>
            <a:rect l="l" t="t" r="r" b="b"/>
            <a:pathLst>
              <a:path w="1356" h="380">
                <a:moveTo>
                  <a:pt x="1356" y="359"/>
                </a:moveTo>
                <a:cubicBezTo>
                  <a:pt x="1303" y="316"/>
                  <a:pt x="1150" y="172"/>
                  <a:pt x="1036" y="113"/>
                </a:cubicBezTo>
                <a:cubicBezTo>
                  <a:pt x="922" y="54"/>
                  <a:pt x="791" y="0"/>
                  <a:pt x="671" y="3"/>
                </a:cubicBezTo>
                <a:cubicBezTo>
                  <a:pt x="551" y="6"/>
                  <a:pt x="429" y="67"/>
                  <a:pt x="317" y="130"/>
                </a:cubicBezTo>
                <a:cubicBezTo>
                  <a:pt x="205" y="193"/>
                  <a:pt x="66" y="328"/>
                  <a:pt x="0" y="3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32000" y="1916280"/>
            <a:ext cx="2152800" cy="603000"/>
          </a:xfrm>
          <a:custGeom>
            <a:avLst/>
            <a:gdLst/>
            <a:ahLst/>
            <a:rect l="l" t="t" r="r" b="b"/>
            <a:pathLst>
              <a:path w="1356" h="380">
                <a:moveTo>
                  <a:pt x="1356" y="359"/>
                </a:moveTo>
                <a:cubicBezTo>
                  <a:pt x="1303" y="316"/>
                  <a:pt x="1150" y="172"/>
                  <a:pt x="1036" y="113"/>
                </a:cubicBezTo>
                <a:cubicBezTo>
                  <a:pt x="922" y="54"/>
                  <a:pt x="791" y="0"/>
                  <a:pt x="671" y="3"/>
                </a:cubicBezTo>
                <a:cubicBezTo>
                  <a:pt x="551" y="6"/>
                  <a:pt x="429" y="67"/>
                  <a:pt x="317" y="130"/>
                </a:cubicBezTo>
                <a:cubicBezTo>
                  <a:pt x="205" y="193"/>
                  <a:pt x="66" y="328"/>
                  <a:pt x="0" y="3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1916280"/>
            <a:ext cx="2152440" cy="603000"/>
          </a:xfrm>
          <a:custGeom>
            <a:avLst/>
            <a:gdLst/>
            <a:ahLst/>
            <a:rect l="l" t="t" r="r" b="b"/>
            <a:pathLst>
              <a:path w="1356" h="380">
                <a:moveTo>
                  <a:pt x="1356" y="359"/>
                </a:moveTo>
                <a:cubicBezTo>
                  <a:pt x="1303" y="316"/>
                  <a:pt x="1150" y="172"/>
                  <a:pt x="1036" y="113"/>
                </a:cubicBezTo>
                <a:cubicBezTo>
                  <a:pt x="922" y="54"/>
                  <a:pt x="791" y="0"/>
                  <a:pt x="671" y="3"/>
                </a:cubicBezTo>
                <a:cubicBezTo>
                  <a:pt x="551" y="6"/>
                  <a:pt x="429" y="67"/>
                  <a:pt x="317" y="130"/>
                </a:cubicBezTo>
                <a:cubicBezTo>
                  <a:pt x="205" y="193"/>
                  <a:pt x="66" y="328"/>
                  <a:pt x="0" y="3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57800" y="1413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97080" y="1413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65080" y="1413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596360" y="907920"/>
            <a:ext cx="1336680" cy="13924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901440" y="3068640"/>
            <a:ext cx="37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-3 + (-3) + (-3) = -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78160" y="3068640"/>
            <a:ext cx="24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-3) * 3 = -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7740720" y="2492280"/>
            <a:ext cx="1116000" cy="144000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324000" y="4581360"/>
            <a:ext cx="8569080" cy="914400"/>
            <a:chOff x="324000" y="4581360"/>
            <a:chExt cx="8569080" cy="914400"/>
          </a:xfrm>
        </p:grpSpPr>
        <p:sp>
          <p:nvSpPr>
            <p:cNvPr id="291" name=""/>
            <p:cNvSpPr/>
            <p:nvPr/>
          </p:nvSpPr>
          <p:spPr>
            <a:xfrm>
              <a:off x="324000" y="458136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9      -8      -7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 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 0       1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7440" y="5013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4472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6544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8436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0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2436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4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6580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8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0580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2472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4544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43280" y="4437000"/>
            <a:ext cx="2887920" cy="538200"/>
          </a:xfrm>
          <a:custGeom>
            <a:avLst/>
            <a:gdLst/>
            <a:ahLst/>
            <a:rect l="l" t="t" r="r" b="b"/>
            <a:pathLst>
              <a:path w="1819" h="339">
                <a:moveTo>
                  <a:pt x="1819" y="339"/>
                </a:moveTo>
                <a:cubicBezTo>
                  <a:pt x="1742" y="295"/>
                  <a:pt x="1507" y="132"/>
                  <a:pt x="1356" y="76"/>
                </a:cubicBezTo>
                <a:cubicBezTo>
                  <a:pt x="1205" y="20"/>
                  <a:pt x="1066" y="0"/>
                  <a:pt x="914" y="1"/>
                </a:cubicBezTo>
                <a:cubicBezTo>
                  <a:pt x="762" y="2"/>
                  <a:pt x="594" y="32"/>
                  <a:pt x="442" y="85"/>
                </a:cubicBezTo>
                <a:cubicBezTo>
                  <a:pt x="290" y="138"/>
                  <a:pt x="92" y="272"/>
                  <a:pt x="0" y="32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63640" y="4437000"/>
            <a:ext cx="2887560" cy="538200"/>
          </a:xfrm>
          <a:custGeom>
            <a:avLst/>
            <a:gdLst/>
            <a:ahLst/>
            <a:rect l="l" t="t" r="r" b="b"/>
            <a:pathLst>
              <a:path w="1819" h="339">
                <a:moveTo>
                  <a:pt x="1819" y="339"/>
                </a:moveTo>
                <a:cubicBezTo>
                  <a:pt x="1742" y="295"/>
                  <a:pt x="1507" y="132"/>
                  <a:pt x="1356" y="76"/>
                </a:cubicBezTo>
                <a:cubicBezTo>
                  <a:pt x="1205" y="20"/>
                  <a:pt x="1066" y="0"/>
                  <a:pt x="914" y="1"/>
                </a:cubicBezTo>
                <a:cubicBezTo>
                  <a:pt x="762" y="2"/>
                  <a:pt x="594" y="32"/>
                  <a:pt x="442" y="85"/>
                </a:cubicBezTo>
                <a:cubicBezTo>
                  <a:pt x="290" y="138"/>
                  <a:pt x="92" y="272"/>
                  <a:pt x="0" y="32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41800" y="3933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89080" y="3933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 flipH="1">
            <a:off x="250560" y="3573360"/>
            <a:ext cx="1298520" cy="13924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981080" y="551664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-4 + (-4) = 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21080" y="5445000"/>
            <a:ext cx="24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-4) * 2 = 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 flipH="1">
            <a:off x="250560" y="5229360"/>
            <a:ext cx="1128600" cy="14396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eorgia"/>
              </a:rPr>
              <a:t>Новая  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2000"/>
                            </p:stCondLst>
                            <p:childTnLst>
                              <p:par>
                                <p:cTn id="9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4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Georgia"/>
              </a:rPr>
              <a:t>Выполните   умнож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6516720" y="1920960"/>
            <a:ext cx="2882880" cy="49370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1258920" y="1268280"/>
            <a:ext cx="3168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7 * 5 =</a:t>
            </a:r>
            <a:endParaRPr b="1" i="1" lang="en-US" sz="2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26920" y="2421000"/>
            <a:ext cx="367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* (-3) =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11280" y="378936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0 * (-4) =</a:t>
            </a:r>
            <a:endParaRPr b="1" i="1" lang="en-US" sz="2800" spc="1" strike="noStrike">
              <a:ln w="19080">
                <a:solidFill>
                  <a:srgbClr val="00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71640" y="5084640"/>
            <a:ext cx="345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5 * 15 =</a:t>
            </a:r>
            <a:endParaRPr b="1" i="1" lang="en-US" sz="2800" spc="1" strike="noStrike">
              <a:ln w="19080">
                <a:solidFill>
                  <a:srgbClr val="ccff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27640" y="981000"/>
            <a:ext cx="2736720" cy="113040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58120 h 1130400"/>
              <a:gd name="textAreaBottom" fmla="*/ 87228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66"/>
                </a:solidFill>
                <a:latin typeface="Times New Roman"/>
              </a:rPr>
              <a:t>-3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00720" y="2205000"/>
            <a:ext cx="2736720" cy="113040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58120 h 1130400"/>
              <a:gd name="textAreaBottom" fmla="*/ 87228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66"/>
                </a:solidFill>
                <a:latin typeface="Times New Roman"/>
              </a:rPr>
              <a:t>-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3573360"/>
            <a:ext cx="2736720" cy="113040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58120 h 1130400"/>
              <a:gd name="textAreaBottom" fmla="*/ 87228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66"/>
                </a:solidFill>
                <a:latin typeface="Times New Roman"/>
              </a:rPr>
              <a:t>-8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00720" y="4869000"/>
            <a:ext cx="2736720" cy="113004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57760 h 1130040"/>
              <a:gd name="textAreaBottom" fmla="*/ 872280 h 113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66"/>
                </a:solidFill>
                <a:latin typeface="Times New Roman"/>
              </a:rPr>
              <a:t>-7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042920" y="1268280"/>
            <a:ext cx="338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 * (-7) =</a:t>
            </a:r>
            <a:endParaRPr b="1" i="1" lang="en-US" sz="2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042920" y="2492280"/>
            <a:ext cx="345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3 * 6  =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3789360"/>
            <a:ext cx="37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4 * 20  =</a:t>
            </a:r>
            <a:endParaRPr b="1" i="1" lang="en-US" sz="2800" spc="1" strike="noStrike">
              <a:ln w="19080">
                <a:solidFill>
                  <a:srgbClr val="00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4360" y="5157720"/>
            <a:ext cx="37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5 * (-5) =</a:t>
            </a:r>
            <a:endParaRPr b="1" i="1" lang="en-US" sz="2800" spc="1" strike="noStrike">
              <a:ln w="19080">
                <a:solidFill>
                  <a:srgbClr val="ccff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6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2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4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5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 flipH="1">
            <a:off x="-360" y="2852640"/>
            <a:ext cx="2452680" cy="40053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539640" y="333360"/>
            <a:ext cx="3492720" cy="1152720"/>
          </a:xfrm>
          <a:prstGeom prst="wedgeEllipseCallout">
            <a:avLst>
              <a:gd name="adj1" fmla="val -27634"/>
              <a:gd name="adj2" fmla="val 180578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Georgia"/>
              </a:rPr>
              <a:t>Вывод?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7164360" y="4797360"/>
            <a:ext cx="1752480" cy="1825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140360" y="333360"/>
            <a:ext cx="4608360" cy="265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При умножении двух чисел с разными знаками в результате получается отрицательное число, модуль которого равен произведению модулей множ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87640" y="4941720"/>
            <a:ext cx="792360" cy="82188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32360" y="4941720"/>
            <a:ext cx="6382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84720" y="3932280"/>
            <a:ext cx="792000" cy="82188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932360" y="3933720"/>
            <a:ext cx="6382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931920" y="5200200"/>
            <a:ext cx="273600" cy="273600"/>
            <a:chOff x="3931920" y="5200200"/>
            <a:chExt cx="273600" cy="273600"/>
          </a:xfrm>
        </p:grpSpPr>
        <p:sp>
          <p:nvSpPr>
            <p:cNvPr id="336" name=""/>
            <p:cNvSpPr/>
            <p:nvPr/>
          </p:nvSpPr>
          <p:spPr>
            <a:xfrm>
              <a:off x="3931920" y="5218200"/>
              <a:ext cx="273600" cy="23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951000" y="5200200"/>
              <a:ext cx="236160" cy="27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931920" y="4227120"/>
            <a:ext cx="273600" cy="273600"/>
            <a:chOff x="3931920" y="4227120"/>
            <a:chExt cx="273600" cy="273600"/>
          </a:xfrm>
        </p:grpSpPr>
        <p:sp>
          <p:nvSpPr>
            <p:cNvPr id="339" name=""/>
            <p:cNvSpPr/>
            <p:nvPr/>
          </p:nvSpPr>
          <p:spPr>
            <a:xfrm>
              <a:off x="3931920" y="4245120"/>
              <a:ext cx="273600" cy="23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951000" y="4227120"/>
              <a:ext cx="236160" cy="27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437080" y="4940280"/>
            <a:ext cx="792360" cy="780840"/>
            <a:chOff x="5437080" y="4940280"/>
            <a:chExt cx="792360" cy="780840"/>
          </a:xfrm>
        </p:grpSpPr>
        <p:sp>
          <p:nvSpPr>
            <p:cNvPr id="342" name=""/>
            <p:cNvSpPr/>
            <p:nvPr/>
          </p:nvSpPr>
          <p:spPr>
            <a:xfrm>
              <a:off x="5437080" y="4940280"/>
              <a:ext cx="792360" cy="7808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18160" y="533700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437080" y="3932280"/>
            <a:ext cx="792360" cy="780840"/>
            <a:chOff x="5437080" y="3932280"/>
            <a:chExt cx="792360" cy="780840"/>
          </a:xfrm>
        </p:grpSpPr>
        <p:sp>
          <p:nvSpPr>
            <p:cNvPr id="345" name=""/>
            <p:cNvSpPr/>
            <p:nvPr/>
          </p:nvSpPr>
          <p:spPr>
            <a:xfrm>
              <a:off x="5437080" y="3932280"/>
              <a:ext cx="792360" cy="7808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16360" y="432288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987640" y="3933720"/>
            <a:ext cx="792000" cy="781200"/>
            <a:chOff x="2987640" y="3933720"/>
            <a:chExt cx="792000" cy="781200"/>
          </a:xfrm>
        </p:grpSpPr>
        <p:sp>
          <p:nvSpPr>
            <p:cNvPr id="348" name=""/>
            <p:cNvSpPr/>
            <p:nvPr/>
          </p:nvSpPr>
          <p:spPr>
            <a:xfrm>
              <a:off x="2987640" y="3933720"/>
              <a:ext cx="792000" cy="78120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6920" y="432432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284720" y="4940280"/>
            <a:ext cx="792000" cy="780840"/>
            <a:chOff x="4284720" y="4940280"/>
            <a:chExt cx="792000" cy="780840"/>
          </a:xfrm>
        </p:grpSpPr>
        <p:sp>
          <p:nvSpPr>
            <p:cNvPr id="351" name=""/>
            <p:cNvSpPr/>
            <p:nvPr/>
          </p:nvSpPr>
          <p:spPr>
            <a:xfrm>
              <a:off x="4284720" y="4940280"/>
              <a:ext cx="792000" cy="7808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29080" y="533700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0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7380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При увеличении температуры воздуха на 1</a:t>
            </a:r>
            <a:r>
              <a:rPr b="1" i="1" lang="en-US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 столбик ртути в термометре поднимается на 3 мм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68360" y="378000"/>
            <a:ext cx="1584360" cy="6480000"/>
            <a:chOff x="468360" y="378000"/>
            <a:chExt cx="1584360" cy="6480000"/>
          </a:xfrm>
        </p:grpSpPr>
        <p:sp>
          <p:nvSpPr>
            <p:cNvPr id="355" name=""/>
            <p:cNvSpPr/>
            <p:nvPr/>
          </p:nvSpPr>
          <p:spPr>
            <a:xfrm>
              <a:off x="1292400" y="378000"/>
              <a:ext cx="4680" cy="6400800"/>
            </a:xfrm>
            <a:custGeom>
              <a:avLst/>
              <a:gdLst/>
              <a:ahLst/>
              <a:rect l="l" t="t" r="r" b="b"/>
              <a:pathLst>
                <a:path w="3" h="4032">
                  <a:moveTo>
                    <a:pt x="3" y="0"/>
                  </a:moveTo>
                  <a:lnTo>
                    <a:pt x="0" y="4032"/>
                  </a:lnTo>
                </a:path>
              </a:pathLst>
            </a:custGeom>
            <a:noFill/>
            <a:ln w="69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5800" y="378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88092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386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1962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1440" y="31129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800" y="261000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1440" y="361800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440" y="41227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1440" y="469728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1440" y="520236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1440" y="570564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17440" y="235728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90520" y="2862360"/>
              <a:ext cx="179640" cy="179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17440" y="181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17440" y="127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17440" y="7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17440" y="34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17440" y="397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17440" y="451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17440" y="505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17440" y="559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17440" y="613872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8360" y="378000"/>
              <a:ext cx="1584360" cy="648000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6480000"/>
                <a:gd name="textAreaBottom" fmla="*/ 6402960 h 6480000"/>
              </a:gdLst>
              <a:ahLst/>
              <a:rect l="textAreaLeft" t="textAreaTop" r="textAreaRight" b="textAreaBottom"/>
              <a:pathLst>
                <a:path w="21600" h="88328">
                  <a:moveTo>
                    <a:pt x="3600" y="0"/>
                  </a:moveTo>
                  <a:arcTo wR="3600" hR="3600" stAng="16200000" swAng="-5400000"/>
                  <a:lnTo>
                    <a:pt x="0" y="84728"/>
                  </a:lnTo>
                  <a:arcTo wR="3600" hR="3600" stAng="10800000" swAng="-5400000"/>
                  <a:lnTo>
                    <a:pt x="18000" y="883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16000" y="2924280"/>
              <a:ext cx="358920" cy="3716280"/>
            </a:xfrm>
            <a:custGeom>
              <a:avLst/>
              <a:gdLst>
                <a:gd name="textAreaLeft" fmla="*/ 17280 w 358920"/>
                <a:gd name="textAreaRight" fmla="*/ 341640 w 358920"/>
                <a:gd name="textAreaTop" fmla="*/ 17280 h 3716280"/>
                <a:gd name="textAreaBottom" fmla="*/ 3699000 h 3716280"/>
              </a:gdLst>
              <a:ahLst/>
              <a:rect l="textAreaLeft" t="textAreaTop" r="textAreaRight" b="textAreaBottom"/>
              <a:pathLst>
                <a:path w="21600" h="223445">
                  <a:moveTo>
                    <a:pt x="3600" y="0"/>
                  </a:moveTo>
                  <a:arcTo wR="3600" hR="3600" stAng="16200000" swAng="-5400000"/>
                  <a:lnTo>
                    <a:pt x="0" y="219845"/>
                  </a:lnTo>
                  <a:arcTo wR="3600" hR="3600" stAng="10800000" swAng="-5400000"/>
                  <a:lnTo>
                    <a:pt x="18000" y="2234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16000" y="2349360"/>
            <a:ext cx="358920" cy="62100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621000"/>
              <a:gd name="textAreaBottom" fmla="*/ 603720 h 621000"/>
            </a:gdLst>
            <a:ahLst/>
            <a:rect l="textAreaLeft" t="textAreaTop" r="textAreaRight" b="textAreaBottom"/>
            <a:pathLst>
              <a:path w="21600" h="37356">
                <a:moveTo>
                  <a:pt x="3600" y="0"/>
                </a:moveTo>
                <a:arcTo wR="3600" hR="3600" stAng="16200000" swAng="-5400000"/>
                <a:lnTo>
                  <a:pt x="0" y="33756"/>
                </a:lnTo>
                <a:arcTo wR="3600" hR="3600" stAng="10800000" swAng="-5400000"/>
                <a:lnTo>
                  <a:pt x="18000" y="373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763640" y="2420640"/>
            <a:ext cx="0" cy="530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7596360" y="5300640"/>
            <a:ext cx="1336680" cy="13921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1116000" y="1268280"/>
            <a:ext cx="358920" cy="170208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1702080"/>
              <a:gd name="textAreaBottom" fmla="*/ 1684800 h 1702080"/>
            </a:gdLst>
            <a:ahLst/>
            <a:rect l="textAreaLeft" t="textAreaTop" r="textAreaRight" b="textAreaBottom"/>
            <a:pathLst>
              <a:path w="21600" h="102351">
                <a:moveTo>
                  <a:pt x="3600" y="0"/>
                </a:moveTo>
                <a:arcTo wR="3600" hR="3600" stAng="16200000" swAng="-5400000"/>
                <a:lnTo>
                  <a:pt x="0" y="98751"/>
                </a:lnTo>
                <a:arcTo wR="3600" hR="3600" stAng="10800000" swAng="-5400000"/>
                <a:lnTo>
                  <a:pt x="18000" y="1023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1763640" y="1268280"/>
            <a:ext cx="0" cy="1609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771640" y="3068640"/>
            <a:ext cx="345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* 3 = 9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1341360"/>
            <a:ext cx="7380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1)  На сколько изменится высота столбика ртути, если температура воздуха изменится на 3</a:t>
            </a:r>
            <a:r>
              <a:rPr b="1" i="1" lang="en-US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0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73803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При увеличении температуры воздуха на 1</a:t>
            </a:r>
            <a:r>
              <a:rPr b="1" i="1" lang="en-US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 столбик ртути в термометре поднимается на 3 мм. </a:t>
            </a:r>
            <a:br>
              <a:rPr sz="2400"/>
            </a:b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1)  На сколько изменится высота столбика ртути, если температура воздуха изменится на 3</a:t>
            </a:r>
            <a:r>
              <a:rPr b="1" i="1" lang="en-US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68360" y="378000"/>
            <a:ext cx="1584360" cy="6480000"/>
            <a:chOff x="468360" y="378000"/>
            <a:chExt cx="1584360" cy="6480000"/>
          </a:xfrm>
        </p:grpSpPr>
        <p:sp>
          <p:nvSpPr>
            <p:cNvPr id="389" name=""/>
            <p:cNvSpPr/>
            <p:nvPr/>
          </p:nvSpPr>
          <p:spPr>
            <a:xfrm>
              <a:off x="1292400" y="378000"/>
              <a:ext cx="4680" cy="6400800"/>
            </a:xfrm>
            <a:custGeom>
              <a:avLst/>
              <a:gdLst/>
              <a:ahLst/>
              <a:rect l="l" t="t" r="r" b="b"/>
              <a:pathLst>
                <a:path w="3" h="4032">
                  <a:moveTo>
                    <a:pt x="3" y="0"/>
                  </a:moveTo>
                  <a:lnTo>
                    <a:pt x="0" y="4032"/>
                  </a:lnTo>
                </a:path>
              </a:pathLst>
            </a:custGeom>
            <a:noFill/>
            <a:ln w="69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85800" y="378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85800" y="88092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5800" y="1386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5800" y="1962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41440" y="31129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85800" y="261000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41440" y="361800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1440" y="41227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1440" y="469728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1440" y="520236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41440" y="570564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17440" y="235728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90520" y="2862360"/>
              <a:ext cx="179640" cy="179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17440" y="181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17440" y="127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17440" y="7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17440" y="34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17440" y="397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17440" y="451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17440" y="505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17440" y="559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17440" y="613872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8360" y="378000"/>
              <a:ext cx="1584360" cy="648000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6480000"/>
                <a:gd name="textAreaBottom" fmla="*/ 6402960 h 6480000"/>
              </a:gdLst>
              <a:ahLst/>
              <a:rect l="textAreaLeft" t="textAreaTop" r="textAreaRight" b="textAreaBottom"/>
              <a:pathLst>
                <a:path w="21600" h="88328">
                  <a:moveTo>
                    <a:pt x="3600" y="0"/>
                  </a:moveTo>
                  <a:arcTo wR="3600" hR="3600" stAng="16200000" swAng="-5400000"/>
                  <a:lnTo>
                    <a:pt x="0" y="84728"/>
                  </a:lnTo>
                  <a:arcTo wR="3600" hR="3600" stAng="10800000" swAng="-5400000"/>
                  <a:lnTo>
                    <a:pt x="18000" y="883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16000" y="5589720"/>
              <a:ext cx="358920" cy="1050840"/>
            </a:xfrm>
            <a:custGeom>
              <a:avLst/>
              <a:gdLst>
                <a:gd name="textAreaLeft" fmla="*/ 17280 w 358920"/>
                <a:gd name="textAreaRight" fmla="*/ 341640 w 358920"/>
                <a:gd name="textAreaTop" fmla="*/ 17280 h 1050840"/>
                <a:gd name="textAreaBottom" fmla="*/ 1033560 h 1050840"/>
              </a:gdLst>
              <a:ahLst/>
              <a:rect l="textAreaLeft" t="textAreaTop" r="textAreaRight" b="textAreaBottom"/>
              <a:pathLst>
                <a:path w="21600" h="63198">
                  <a:moveTo>
                    <a:pt x="3600" y="0"/>
                  </a:moveTo>
                  <a:arcTo wR="3600" hR="3600" stAng="16200000" swAng="-5400000"/>
                  <a:lnTo>
                    <a:pt x="0" y="59598"/>
                  </a:lnTo>
                  <a:arcTo wR="3600" hR="3600" stAng="10800000" swAng="-5400000"/>
                  <a:lnTo>
                    <a:pt x="18000" y="63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7596360" y="5300640"/>
            <a:ext cx="1336680" cy="13921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 flipV="1">
            <a:off x="1763640" y="2924280"/>
            <a:ext cx="0" cy="26654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771640" y="3068640"/>
            <a:ext cx="360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* 3 = 9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16000" y="2924280"/>
            <a:ext cx="358920" cy="273672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736720"/>
              <a:gd name="textAreaBottom" fmla="*/ 2719440 h 2736720"/>
            </a:gdLst>
            <a:ahLst/>
            <a:rect l="textAreaLeft" t="textAreaTop" r="textAreaRight" b="textAreaBottom"/>
            <a:pathLst>
              <a:path w="21600" h="164554">
                <a:moveTo>
                  <a:pt x="3600" y="0"/>
                </a:moveTo>
                <a:arcTo wR="3600" hR="3600" stAng="16200000" swAng="-5400000"/>
                <a:lnTo>
                  <a:pt x="0" y="160954"/>
                </a:lnTo>
                <a:arcTo wR="3600" hR="3600" stAng="10800000" swAng="-5400000"/>
                <a:lnTo>
                  <a:pt x="18000" y="164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63640" y="3645000"/>
            <a:ext cx="73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2)  На сколько изменится высота столбика ртути, если температура воздуха изменится на -5</a:t>
            </a:r>
            <a:r>
              <a:rPr b="1" i="1" lang="en-US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2556000" y="5373720"/>
            <a:ext cx="446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* (-5) = -15</a:t>
            </a:r>
            <a:endParaRPr b="1" i="1" lang="en-US" sz="2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7596360" y="5229360"/>
            <a:ext cx="1260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0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0" dur="2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-181080" y="3530880"/>
            <a:ext cx="9556560" cy="1946520"/>
            <a:chOff x="-181080" y="3530880"/>
            <a:chExt cx="9556560" cy="1946520"/>
          </a:xfrm>
        </p:grpSpPr>
        <p:sp>
          <p:nvSpPr>
            <p:cNvPr id="422" name=""/>
            <p:cNvSpPr/>
            <p:nvPr/>
          </p:nvSpPr>
          <p:spPr>
            <a:xfrm rot="21243600">
              <a:off x="-153720" y="4098600"/>
              <a:ext cx="9521640" cy="64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-181080" y="3530880"/>
              <a:ext cx="9047880" cy="1946520"/>
              <a:chOff x="-181080" y="3530880"/>
              <a:chExt cx="9047880" cy="194652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-181080" y="3771720"/>
                <a:ext cx="4889520" cy="1705680"/>
                <a:chOff x="-181080" y="3771720"/>
                <a:chExt cx="4889520" cy="170568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3819240" y="3771720"/>
                  <a:ext cx="165240" cy="82440"/>
                  <a:chOff x="3819240" y="3771720"/>
                  <a:chExt cx="165240" cy="8244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3819240" y="37717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3903840" y="37720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2828520" y="4495680"/>
                  <a:ext cx="343080" cy="183960"/>
                  <a:chOff x="2828520" y="4495680"/>
                  <a:chExt cx="343080" cy="183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2828520" y="4495680"/>
                    <a:ext cx="162000" cy="18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004200" y="4497120"/>
                    <a:ext cx="1674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886320" y="5016600"/>
                  <a:ext cx="694440" cy="254880"/>
                  <a:chOff x="886320" y="5016600"/>
                  <a:chExt cx="694440" cy="254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rot="10626600">
                    <a:off x="1251360" y="5024520"/>
                    <a:ext cx="32400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rot="10626600">
                    <a:off x="890640" y="5074200"/>
                    <a:ext cx="334800" cy="1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3958920" y="4292280"/>
                  <a:ext cx="165240" cy="82800"/>
                  <a:chOff x="3958920" y="4292280"/>
                  <a:chExt cx="165240" cy="8280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3958920" y="429228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043520" y="42926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340160" y="4419360"/>
                  <a:ext cx="164520" cy="82800"/>
                  <a:chOff x="4340160" y="4419360"/>
                  <a:chExt cx="164520" cy="8280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4340160" y="4419360"/>
                    <a:ext cx="77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4424400" y="44197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3476520" y="5029200"/>
                  <a:ext cx="164520" cy="82440"/>
                  <a:chOff x="3476520" y="5029200"/>
                  <a:chExt cx="164520" cy="8244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3476520" y="50292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560760" y="50295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3247920" y="5079960"/>
                  <a:ext cx="164520" cy="82440"/>
                  <a:chOff x="3247920" y="5079960"/>
                  <a:chExt cx="164520" cy="8244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3247920" y="507996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3332160" y="50803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3082680" y="5105160"/>
                  <a:ext cx="165240" cy="82800"/>
                  <a:chOff x="3082680" y="5105160"/>
                  <a:chExt cx="165240" cy="8280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3082680" y="510516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3167280" y="51055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3082680" y="5003640"/>
                  <a:ext cx="165240" cy="82440"/>
                  <a:chOff x="3082680" y="5003640"/>
                  <a:chExt cx="165240" cy="8244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3082680" y="50036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3167280" y="50040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3159000" y="4940280"/>
                  <a:ext cx="164520" cy="82440"/>
                  <a:chOff x="3159000" y="4940280"/>
                  <a:chExt cx="164520" cy="8244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>
                    <a:off x="3159000" y="494028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3243240" y="494064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3222360" y="4914720"/>
                  <a:ext cx="165240" cy="82440"/>
                  <a:chOff x="3222360" y="4914720"/>
                  <a:chExt cx="165240" cy="8244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3222360" y="49147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3306960" y="49150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3298680" y="4876560"/>
                  <a:ext cx="164520" cy="82800"/>
                  <a:chOff x="3298680" y="4876560"/>
                  <a:chExt cx="164520" cy="8280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3298680" y="4876560"/>
                    <a:ext cx="77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3382920" y="48769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3501720" y="4800600"/>
                  <a:ext cx="165240" cy="82440"/>
                  <a:chOff x="3501720" y="4800600"/>
                  <a:chExt cx="165240" cy="8244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3501720" y="48006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3586320" y="48009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2904840" y="5041800"/>
                  <a:ext cx="165240" cy="82440"/>
                  <a:chOff x="2904840" y="5041800"/>
                  <a:chExt cx="165240" cy="824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2904840" y="50418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989440" y="50421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2676240" y="5092560"/>
                  <a:ext cx="165240" cy="82440"/>
                  <a:chOff x="2676240" y="5092560"/>
                  <a:chExt cx="165240" cy="8244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>
                    <a:off x="2676240" y="50925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2760840" y="50929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2511360" y="5118120"/>
                  <a:ext cx="164520" cy="82440"/>
                  <a:chOff x="2511360" y="5118120"/>
                  <a:chExt cx="164520" cy="8244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2511360" y="511812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595600" y="51184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2511360" y="5016240"/>
                  <a:ext cx="164520" cy="82800"/>
                  <a:chOff x="2511360" y="5016240"/>
                  <a:chExt cx="164520" cy="8280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2511360" y="5016240"/>
                    <a:ext cx="77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2595600" y="501660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2587320" y="4952880"/>
                  <a:ext cx="165240" cy="82440"/>
                  <a:chOff x="2587320" y="4952880"/>
                  <a:chExt cx="165240" cy="824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>
                    <a:off x="2587320" y="49528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671920" y="49532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2651040" y="4927320"/>
                  <a:ext cx="164520" cy="82800"/>
                  <a:chOff x="2651040" y="4927320"/>
                  <a:chExt cx="164520" cy="8280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2651040" y="4927320"/>
                    <a:ext cx="77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735280" y="49276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2727000" y="4889520"/>
                  <a:ext cx="165240" cy="82440"/>
                  <a:chOff x="2727000" y="4889520"/>
                  <a:chExt cx="165240" cy="8244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2727000" y="48895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811600" y="48898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2930400" y="4813200"/>
                  <a:ext cx="164520" cy="82440"/>
                  <a:chOff x="2930400" y="4813200"/>
                  <a:chExt cx="164520" cy="8244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2930400" y="48132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3014640" y="48135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2193840" y="5232240"/>
                  <a:ext cx="164520" cy="82440"/>
                  <a:chOff x="2193840" y="5232240"/>
                  <a:chExt cx="164520" cy="8244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2193840" y="523224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2278080" y="523260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1965240" y="5283000"/>
                  <a:ext cx="164520" cy="82440"/>
                  <a:chOff x="1965240" y="5283000"/>
                  <a:chExt cx="164520" cy="8244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1965240" y="52830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2049480" y="52833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1800000" y="5308560"/>
                  <a:ext cx="165240" cy="82440"/>
                  <a:chOff x="1800000" y="5308560"/>
                  <a:chExt cx="165240" cy="8244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1800000" y="53085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1884600" y="53089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1800000" y="5206680"/>
                  <a:ext cx="165240" cy="82800"/>
                  <a:chOff x="1800000" y="5206680"/>
                  <a:chExt cx="165240" cy="8280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>
                    <a:off x="1800000" y="520668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1884600" y="52070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"/>
                <p:cNvGrpSpPr/>
                <p:nvPr/>
              </p:nvGrpSpPr>
              <p:grpSpPr>
                <a:xfrm>
                  <a:off x="1876320" y="5143320"/>
                  <a:ext cx="164520" cy="82440"/>
                  <a:chOff x="1876320" y="5143320"/>
                  <a:chExt cx="164520" cy="8244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>
                    <a:off x="1876320" y="514332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1960560" y="51436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1939680" y="5118120"/>
                  <a:ext cx="165240" cy="82440"/>
                  <a:chOff x="1939680" y="5118120"/>
                  <a:chExt cx="165240" cy="8244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1939680" y="51181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2024280" y="51184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2016000" y="5079960"/>
                  <a:ext cx="164520" cy="82440"/>
                  <a:chOff x="2016000" y="5079960"/>
                  <a:chExt cx="164520" cy="8244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2016000" y="507996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100240" y="50803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2219040" y="5003640"/>
                  <a:ext cx="165240" cy="82440"/>
                  <a:chOff x="2219040" y="5003640"/>
                  <a:chExt cx="165240" cy="8244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>
                    <a:off x="2219040" y="50036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2303640" y="50040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466560" y="4520880"/>
                  <a:ext cx="164520" cy="82800"/>
                  <a:chOff x="466560" y="4520880"/>
                  <a:chExt cx="164520" cy="8280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466560" y="4520880"/>
                    <a:ext cx="77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550800" y="452124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237960" y="4572000"/>
                  <a:ext cx="164520" cy="82440"/>
                  <a:chOff x="237960" y="4572000"/>
                  <a:chExt cx="164520" cy="8244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>
                    <a:off x="237960" y="45720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322200" y="45723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72720" y="4597200"/>
                  <a:ext cx="165240" cy="82440"/>
                  <a:chOff x="72720" y="4597200"/>
                  <a:chExt cx="165240" cy="8244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72720" y="45972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57320" y="45975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72720" y="4495680"/>
                  <a:ext cx="165240" cy="82440"/>
                  <a:chOff x="72720" y="4495680"/>
                  <a:chExt cx="165240" cy="8244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72720" y="44956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157320" y="44960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149040" y="4432320"/>
                  <a:ext cx="164520" cy="82440"/>
                  <a:chOff x="149040" y="4432320"/>
                  <a:chExt cx="164520" cy="8244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>
                    <a:off x="149040" y="443232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33280" y="44326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212400" y="4406760"/>
                  <a:ext cx="165240" cy="82440"/>
                  <a:chOff x="212400" y="4406760"/>
                  <a:chExt cx="165240" cy="8244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212400" y="44067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297000" y="44071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288720" y="4368600"/>
                  <a:ext cx="165240" cy="82440"/>
                  <a:chOff x="288720" y="4368600"/>
                  <a:chExt cx="165240" cy="8244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>
                    <a:off x="288720" y="43686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373320" y="43689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491760" y="4292280"/>
                  <a:ext cx="165240" cy="82800"/>
                  <a:chOff x="491760" y="4292280"/>
                  <a:chExt cx="165240" cy="8280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491760" y="429228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576360" y="42926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212400" y="5225760"/>
                  <a:ext cx="367920" cy="120960"/>
                  <a:chOff x="212400" y="5225760"/>
                  <a:chExt cx="367920" cy="12096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 flipH="1" flipV="1">
                    <a:off x="406080" y="5225760"/>
                    <a:ext cx="1738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H="1" flipV="1">
                    <a:off x="212040" y="5243040"/>
                    <a:ext cx="1796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-16200" y="5276520"/>
                  <a:ext cx="367920" cy="120960"/>
                  <a:chOff x="-16200" y="5276520"/>
                  <a:chExt cx="367920" cy="12096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 flipH="1" flipV="1">
                    <a:off x="177480" y="5276520"/>
                    <a:ext cx="1738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H="1" flipV="1">
                    <a:off x="-16560" y="5293800"/>
                    <a:ext cx="1796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"/>
                <p:cNvGrpSpPr/>
                <p:nvPr/>
              </p:nvGrpSpPr>
              <p:grpSpPr>
                <a:xfrm>
                  <a:off x="-181080" y="5301720"/>
                  <a:ext cx="367920" cy="120600"/>
                  <a:chOff x="-181080" y="5301720"/>
                  <a:chExt cx="367920" cy="12060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 flipH="1" flipV="1">
                    <a:off x="12240" y="5301360"/>
                    <a:ext cx="1738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H="1" flipV="1">
                    <a:off x="-181440" y="5319360"/>
                    <a:ext cx="179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-181080" y="5200200"/>
                  <a:ext cx="367920" cy="120600"/>
                  <a:chOff x="-181080" y="5200200"/>
                  <a:chExt cx="367920" cy="12060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 flipH="1" flipV="1">
                    <a:off x="12240" y="5199840"/>
                    <a:ext cx="1738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flipH="1" flipV="1">
                    <a:off x="-181440" y="5217840"/>
                    <a:ext cx="179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-105120" y="5136840"/>
                  <a:ext cx="367920" cy="120960"/>
                  <a:chOff x="-105120" y="5136840"/>
                  <a:chExt cx="367920" cy="12096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 flipH="1" flipV="1">
                    <a:off x="88200" y="5136840"/>
                    <a:ext cx="1738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H="1" flipV="1">
                    <a:off x="-105480" y="5154120"/>
                    <a:ext cx="1796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-41400" y="5111280"/>
                  <a:ext cx="367920" cy="120600"/>
                  <a:chOff x="-41400" y="5111280"/>
                  <a:chExt cx="367920" cy="12060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 flipH="1" flipV="1">
                    <a:off x="152280" y="5110920"/>
                    <a:ext cx="1738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 flipV="1">
                    <a:off x="-41760" y="5128920"/>
                    <a:ext cx="179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34560" y="5073120"/>
                  <a:ext cx="367920" cy="120600"/>
                  <a:chOff x="34560" y="5073120"/>
                  <a:chExt cx="367920" cy="12060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 flipH="1" flipV="1">
                    <a:off x="228240" y="5072760"/>
                    <a:ext cx="1738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 flipV="1">
                    <a:off x="33840" y="5090760"/>
                    <a:ext cx="179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"/>
                <p:cNvGrpSpPr/>
                <p:nvPr/>
              </p:nvGrpSpPr>
              <p:grpSpPr>
                <a:xfrm>
                  <a:off x="237960" y="4997160"/>
                  <a:ext cx="367920" cy="120960"/>
                  <a:chOff x="237960" y="4997160"/>
                  <a:chExt cx="367920" cy="12096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 flipH="1" flipV="1">
                    <a:off x="431640" y="4997160"/>
                    <a:ext cx="1738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 flipV="1">
                    <a:off x="237600" y="5014440"/>
                    <a:ext cx="1796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2054160" y="5092560"/>
                  <a:ext cx="164520" cy="82440"/>
                  <a:chOff x="2054160" y="5092560"/>
                  <a:chExt cx="164520" cy="8244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2054160" y="509256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2138400" y="50929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1523880" y="4064400"/>
                  <a:ext cx="1740600" cy="447840"/>
                  <a:chOff x="1523880" y="4064400"/>
                  <a:chExt cx="1740600" cy="447840"/>
                </a:xfrm>
              </p:grpSpPr>
              <p:grpSp>
                <p:nvGrpSpPr>
                  <p:cNvPr id="564" name=""/>
                  <p:cNvGrpSpPr/>
                  <p:nvPr/>
                </p:nvGrpSpPr>
                <p:grpSpPr>
                  <a:xfrm>
                    <a:off x="1523880" y="4064400"/>
                    <a:ext cx="978480" cy="447840"/>
                    <a:chOff x="1523880" y="4064400"/>
                    <a:chExt cx="978480" cy="447840"/>
                  </a:xfrm>
                </p:grpSpPr>
                <p:grpSp>
                  <p:nvGrpSpPr>
                    <p:cNvPr id="565" name=""/>
                    <p:cNvGrpSpPr/>
                    <p:nvPr/>
                  </p:nvGrpSpPr>
                  <p:grpSpPr>
                    <a:xfrm>
                      <a:off x="1523880" y="4118760"/>
                      <a:ext cx="492120" cy="393480"/>
                      <a:chOff x="1523880" y="4118760"/>
                      <a:chExt cx="492120" cy="393480"/>
                    </a:xfrm>
                  </p:grpSpPr>
                  <p:grpSp>
                    <p:nvGrpSpPr>
                      <p:cNvPr id="566" name=""/>
                      <p:cNvGrpSpPr/>
                      <p:nvPr/>
                    </p:nvGrpSpPr>
                    <p:grpSpPr>
                      <a:xfrm>
                        <a:off x="1821600" y="4118760"/>
                        <a:ext cx="194400" cy="277200"/>
                        <a:chOff x="1821600" y="4118760"/>
                        <a:chExt cx="194400" cy="277200"/>
                      </a:xfrm>
                    </p:grpSpPr>
                    <p:sp>
                      <p:nvSpPr>
                        <p:cNvPr id="567" name=""/>
                        <p:cNvSpPr/>
                        <p:nvPr/>
                      </p:nvSpPr>
                      <p:spPr>
                        <a:xfrm flipH="1" rot="21099600">
                          <a:off x="1838160" y="4128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8" name=""/>
                        <p:cNvSpPr/>
                        <p:nvPr/>
                      </p:nvSpPr>
                      <p:spPr>
                        <a:xfrm flipH="1" rot="21099600">
                          <a:off x="1846800" y="413604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69" name=""/>
                      <p:cNvGrpSpPr/>
                      <p:nvPr/>
                    </p:nvGrpSpPr>
                    <p:grpSpPr>
                      <a:xfrm>
                        <a:off x="1705680" y="4161960"/>
                        <a:ext cx="220680" cy="288720"/>
                        <a:chOff x="1705680" y="4161960"/>
                        <a:chExt cx="220680" cy="288720"/>
                      </a:xfrm>
                    </p:grpSpPr>
                    <p:sp>
                      <p:nvSpPr>
                        <p:cNvPr id="570" name=""/>
                        <p:cNvSpPr/>
                        <p:nvPr/>
                      </p:nvSpPr>
                      <p:spPr>
                        <a:xfrm flipH="1" rot="20649000">
                          <a:off x="1734840" y="41792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1" name=""/>
                        <p:cNvSpPr/>
                        <p:nvPr/>
                      </p:nvSpPr>
                      <p:spPr>
                        <a:xfrm flipH="1" rot="20649000">
                          <a:off x="1745280" y="4188240"/>
                          <a:ext cx="10440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72" name=""/>
                      <p:cNvGrpSpPr/>
                      <p:nvPr/>
                    </p:nvGrpSpPr>
                    <p:grpSpPr>
                      <a:xfrm>
                        <a:off x="1523880" y="4212720"/>
                        <a:ext cx="268920" cy="299520"/>
                        <a:chOff x="1523880" y="4212720"/>
                        <a:chExt cx="268920" cy="299520"/>
                      </a:xfrm>
                    </p:grpSpPr>
                    <p:sp>
                      <p:nvSpPr>
                        <p:cNvPr id="573" name=""/>
                        <p:cNvSpPr/>
                        <p:nvPr/>
                      </p:nvSpPr>
                      <p:spPr>
                        <a:xfrm flipH="1" rot="19542600">
                          <a:off x="1576800" y="4237200"/>
                          <a:ext cx="16200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4" name=""/>
                        <p:cNvSpPr/>
                        <p:nvPr/>
                      </p:nvSpPr>
                      <p:spPr>
                        <a:xfrm flipH="1" rot="19542600">
                          <a:off x="1594080" y="425088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75" name=""/>
                    <p:cNvGrpSpPr/>
                    <p:nvPr/>
                  </p:nvGrpSpPr>
                  <p:grpSpPr>
                    <a:xfrm>
                      <a:off x="2021040" y="4064400"/>
                      <a:ext cx="481320" cy="341280"/>
                      <a:chOff x="2021040" y="4064400"/>
                      <a:chExt cx="481320" cy="341280"/>
                    </a:xfrm>
                  </p:grpSpPr>
                  <p:grpSp>
                    <p:nvGrpSpPr>
                      <p:cNvPr id="576" name=""/>
                      <p:cNvGrpSpPr/>
                      <p:nvPr/>
                    </p:nvGrpSpPr>
                    <p:grpSpPr>
                      <a:xfrm>
                        <a:off x="2021040" y="4064400"/>
                        <a:ext cx="165600" cy="259200"/>
                        <a:chOff x="2021040" y="4064400"/>
                        <a:chExt cx="165600" cy="259200"/>
                      </a:xfrm>
                    </p:grpSpPr>
                    <p:sp>
                      <p:nvSpPr>
                        <p:cNvPr id="577" name=""/>
                        <p:cNvSpPr/>
                        <p:nvPr/>
                      </p:nvSpPr>
                      <p:spPr>
                        <a:xfrm rot="21544800">
                          <a:off x="2022840" y="40654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8" name=""/>
                        <p:cNvSpPr/>
                        <p:nvPr/>
                      </p:nvSpPr>
                      <p:spPr>
                        <a:xfrm rot="21544800">
                          <a:off x="2072520" y="406908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79" name=""/>
                      <p:cNvGrpSpPr/>
                      <p:nvPr/>
                    </p:nvGrpSpPr>
                    <p:grpSpPr>
                      <a:xfrm>
                        <a:off x="2119320" y="4090320"/>
                        <a:ext cx="187920" cy="272520"/>
                        <a:chOff x="2119320" y="4090320"/>
                        <a:chExt cx="187920" cy="272520"/>
                      </a:xfrm>
                    </p:grpSpPr>
                    <p:sp>
                      <p:nvSpPr>
                        <p:cNvPr id="580" name=""/>
                        <p:cNvSpPr/>
                        <p:nvPr/>
                      </p:nvSpPr>
                      <p:spPr>
                        <a:xfrm rot="395400">
                          <a:off x="2132280" y="4098600"/>
                          <a:ext cx="16164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1" name=""/>
                        <p:cNvSpPr/>
                        <p:nvPr/>
                      </p:nvSpPr>
                      <p:spPr>
                        <a:xfrm rot="395400">
                          <a:off x="2180880" y="4104360"/>
                          <a:ext cx="10476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82" name=""/>
                      <p:cNvGrpSpPr/>
                      <p:nvPr/>
                    </p:nvGrpSpPr>
                    <p:grpSpPr>
                      <a:xfrm>
                        <a:off x="2254320" y="4107600"/>
                        <a:ext cx="248040" cy="298080"/>
                        <a:chOff x="2254320" y="4107600"/>
                        <a:chExt cx="248040" cy="298080"/>
                      </a:xfrm>
                    </p:grpSpPr>
                    <p:sp>
                      <p:nvSpPr>
                        <p:cNvPr id="583" name=""/>
                        <p:cNvSpPr/>
                        <p:nvPr/>
                      </p:nvSpPr>
                      <p:spPr>
                        <a:xfrm rot="1501800">
                          <a:off x="2297520" y="41302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4" name=""/>
                        <p:cNvSpPr/>
                        <p:nvPr/>
                      </p:nvSpPr>
                      <p:spPr>
                        <a:xfrm rot="1501800">
                          <a:off x="2340720" y="414180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85" name=""/>
                  <p:cNvGrpSpPr/>
                  <p:nvPr/>
                </p:nvGrpSpPr>
                <p:grpSpPr>
                  <a:xfrm>
                    <a:off x="2286000" y="4064400"/>
                    <a:ext cx="978480" cy="447840"/>
                    <a:chOff x="2286000" y="4064400"/>
                    <a:chExt cx="978480" cy="447840"/>
                  </a:xfrm>
                </p:grpSpPr>
                <p:grpSp>
                  <p:nvGrpSpPr>
                    <p:cNvPr id="586" name=""/>
                    <p:cNvGrpSpPr/>
                    <p:nvPr/>
                  </p:nvGrpSpPr>
                  <p:grpSpPr>
                    <a:xfrm>
                      <a:off x="2772360" y="4118760"/>
                      <a:ext cx="492120" cy="393480"/>
                      <a:chOff x="2772360" y="4118760"/>
                      <a:chExt cx="492120" cy="393480"/>
                    </a:xfrm>
                  </p:grpSpPr>
                  <p:grpSp>
                    <p:nvGrpSpPr>
                      <p:cNvPr id="587" name=""/>
                      <p:cNvGrpSpPr/>
                      <p:nvPr/>
                    </p:nvGrpSpPr>
                    <p:grpSpPr>
                      <a:xfrm>
                        <a:off x="2772360" y="4118760"/>
                        <a:ext cx="194400" cy="276840"/>
                        <a:chOff x="2772360" y="4118760"/>
                        <a:chExt cx="194400" cy="276840"/>
                      </a:xfrm>
                    </p:grpSpPr>
                    <p:sp>
                      <p:nvSpPr>
                        <p:cNvPr id="588" name=""/>
                        <p:cNvSpPr/>
                        <p:nvPr/>
                      </p:nvSpPr>
                      <p:spPr>
                        <a:xfrm rot="500400">
                          <a:off x="2788920" y="4128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9" name=""/>
                        <p:cNvSpPr/>
                        <p:nvPr/>
                      </p:nvSpPr>
                      <p:spPr>
                        <a:xfrm rot="500400">
                          <a:off x="2836440" y="4136040"/>
                          <a:ext cx="10476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90" name=""/>
                      <p:cNvGrpSpPr/>
                      <p:nvPr/>
                    </p:nvGrpSpPr>
                    <p:grpSpPr>
                      <a:xfrm>
                        <a:off x="2862360" y="4161960"/>
                        <a:ext cx="220320" cy="288720"/>
                        <a:chOff x="2862360" y="4161960"/>
                        <a:chExt cx="220320" cy="288720"/>
                      </a:xfrm>
                    </p:grpSpPr>
                    <p:sp>
                      <p:nvSpPr>
                        <p:cNvPr id="591" name=""/>
                        <p:cNvSpPr/>
                        <p:nvPr/>
                      </p:nvSpPr>
                      <p:spPr>
                        <a:xfrm rot="951000">
                          <a:off x="2891880" y="4179240"/>
                          <a:ext cx="16128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2" name=""/>
                        <p:cNvSpPr/>
                        <p:nvPr/>
                      </p:nvSpPr>
                      <p:spPr>
                        <a:xfrm rot="951000">
                          <a:off x="2937960" y="4188240"/>
                          <a:ext cx="10440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93" name=""/>
                      <p:cNvGrpSpPr/>
                      <p:nvPr/>
                    </p:nvGrpSpPr>
                    <p:grpSpPr>
                      <a:xfrm>
                        <a:off x="2995200" y="4212720"/>
                        <a:ext cx="269280" cy="299520"/>
                        <a:chOff x="2995200" y="4212720"/>
                        <a:chExt cx="269280" cy="299520"/>
                      </a:xfrm>
                    </p:grpSpPr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 rot="2057400">
                          <a:off x="3048480" y="4237200"/>
                          <a:ext cx="162000" cy="240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5" name=""/>
                        <p:cNvSpPr/>
                        <p:nvPr/>
                      </p:nvSpPr>
                      <p:spPr>
                        <a:xfrm rot="2057400">
                          <a:off x="3088800" y="4250880"/>
                          <a:ext cx="10476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96" name=""/>
                    <p:cNvGrpSpPr/>
                    <p:nvPr/>
                  </p:nvGrpSpPr>
                  <p:grpSpPr>
                    <a:xfrm>
                      <a:off x="2286000" y="4064400"/>
                      <a:ext cx="481320" cy="341280"/>
                      <a:chOff x="2286000" y="4064400"/>
                      <a:chExt cx="481320" cy="341280"/>
                    </a:xfrm>
                  </p:grpSpPr>
                  <p:grpSp>
                    <p:nvGrpSpPr>
                      <p:cNvPr id="597" name=""/>
                      <p:cNvGrpSpPr/>
                      <p:nvPr/>
                    </p:nvGrpSpPr>
                    <p:grpSpPr>
                      <a:xfrm>
                        <a:off x="2602080" y="4064400"/>
                        <a:ext cx="165240" cy="259200"/>
                        <a:chOff x="2602080" y="4064400"/>
                        <a:chExt cx="165240" cy="259200"/>
                      </a:xfrm>
                    </p:grpSpPr>
                    <p:sp>
                      <p:nvSpPr>
                        <p:cNvPr id="598" name=""/>
                        <p:cNvSpPr/>
                        <p:nvPr/>
                      </p:nvSpPr>
                      <p:spPr>
                        <a:xfrm flipH="1" rot="55200">
                          <a:off x="2603520" y="40654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9" name=""/>
                        <p:cNvSpPr/>
                        <p:nvPr/>
                      </p:nvSpPr>
                      <p:spPr>
                        <a:xfrm flipH="1" rot="55200">
                          <a:off x="2610000" y="406908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00" name=""/>
                      <p:cNvGrpSpPr/>
                      <p:nvPr/>
                    </p:nvGrpSpPr>
                    <p:grpSpPr>
                      <a:xfrm>
                        <a:off x="2481120" y="4090320"/>
                        <a:ext cx="188280" cy="272520"/>
                        <a:chOff x="2481120" y="4090320"/>
                        <a:chExt cx="188280" cy="272520"/>
                      </a:xfrm>
                    </p:grpSpPr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 flipH="1" rot="21204600">
                          <a:off x="2494080" y="4098600"/>
                          <a:ext cx="161640" cy="23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2" name=""/>
                        <p:cNvSpPr/>
                        <p:nvPr/>
                      </p:nvSpPr>
                      <p:spPr>
                        <a:xfrm flipH="1" rot="21204600">
                          <a:off x="2502000" y="410436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03" name=""/>
                      <p:cNvGrpSpPr/>
                      <p:nvPr/>
                    </p:nvGrpSpPr>
                    <p:grpSpPr>
                      <a:xfrm>
                        <a:off x="2286000" y="4107600"/>
                        <a:ext cx="248040" cy="298080"/>
                        <a:chOff x="2286000" y="4107600"/>
                        <a:chExt cx="248040" cy="298080"/>
                      </a:xfrm>
                    </p:grpSpPr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 flipH="1" rot="20098200">
                          <a:off x="2328840" y="41302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 flipH="1" rot="20098200">
                          <a:off x="2341800" y="414180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-76320" y="5029560"/>
                  <a:ext cx="1740600" cy="447840"/>
                  <a:chOff x="-76320" y="5029560"/>
                  <a:chExt cx="1740600" cy="447840"/>
                </a:xfrm>
              </p:grpSpPr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-76320" y="5029560"/>
                    <a:ext cx="978480" cy="447840"/>
                    <a:chOff x="-76320" y="5029560"/>
                    <a:chExt cx="978480" cy="447840"/>
                  </a:xfrm>
                </p:grpSpPr>
                <p:grpSp>
                  <p:nvGrpSpPr>
                    <p:cNvPr id="608" name=""/>
                    <p:cNvGrpSpPr/>
                    <p:nvPr/>
                  </p:nvGrpSpPr>
                  <p:grpSpPr>
                    <a:xfrm>
                      <a:off x="-76320" y="5083920"/>
                      <a:ext cx="492120" cy="393480"/>
                      <a:chOff x="-76320" y="5083920"/>
                      <a:chExt cx="492120" cy="393480"/>
                    </a:xfrm>
                  </p:grpSpPr>
                  <p:grpSp>
                    <p:nvGrpSpPr>
                      <p:cNvPr id="609" name=""/>
                      <p:cNvGrpSpPr/>
                      <p:nvPr/>
                    </p:nvGrpSpPr>
                    <p:grpSpPr>
                      <a:xfrm>
                        <a:off x="221400" y="5083920"/>
                        <a:ext cx="194400" cy="277200"/>
                        <a:chOff x="221400" y="5083920"/>
                        <a:chExt cx="194400" cy="277200"/>
                      </a:xfrm>
                    </p:grpSpPr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 flipH="1" rot="21099600">
                          <a:off x="237960" y="509400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 flipH="1" rot="21099600">
                          <a:off x="246600" y="510120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12" name=""/>
                      <p:cNvGrpSpPr/>
                      <p:nvPr/>
                    </p:nvGrpSpPr>
                    <p:grpSpPr>
                      <a:xfrm>
                        <a:off x="105480" y="5127120"/>
                        <a:ext cx="220680" cy="288720"/>
                        <a:chOff x="105480" y="5127120"/>
                        <a:chExt cx="220680" cy="288720"/>
                      </a:xfrm>
                    </p:grpSpPr>
                    <p:sp>
                      <p:nvSpPr>
                        <p:cNvPr id="613" name=""/>
                        <p:cNvSpPr/>
                        <p:nvPr/>
                      </p:nvSpPr>
                      <p:spPr>
                        <a:xfrm flipH="1" rot="20649000">
                          <a:off x="134640" y="514440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4" name=""/>
                        <p:cNvSpPr/>
                        <p:nvPr/>
                      </p:nvSpPr>
                      <p:spPr>
                        <a:xfrm flipH="1" rot="20649000">
                          <a:off x="145080" y="5153400"/>
                          <a:ext cx="10440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15" name=""/>
                      <p:cNvGrpSpPr/>
                      <p:nvPr/>
                    </p:nvGrpSpPr>
                    <p:grpSpPr>
                      <a:xfrm>
                        <a:off x="-76320" y="5177880"/>
                        <a:ext cx="268920" cy="299520"/>
                        <a:chOff x="-76320" y="5177880"/>
                        <a:chExt cx="268920" cy="299520"/>
                      </a:xfrm>
                    </p:grpSpPr>
                    <p:sp>
                      <p:nvSpPr>
                        <p:cNvPr id="616" name=""/>
                        <p:cNvSpPr/>
                        <p:nvPr/>
                      </p:nvSpPr>
                      <p:spPr>
                        <a:xfrm flipH="1" rot="19542600">
                          <a:off x="-23040" y="5202360"/>
                          <a:ext cx="16200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7" name=""/>
                        <p:cNvSpPr/>
                        <p:nvPr/>
                      </p:nvSpPr>
                      <p:spPr>
                        <a:xfrm flipH="1" rot="19542600">
                          <a:off x="-5760" y="521604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18" name=""/>
                    <p:cNvGrpSpPr/>
                    <p:nvPr/>
                  </p:nvGrpSpPr>
                  <p:grpSpPr>
                    <a:xfrm>
                      <a:off x="420840" y="5029560"/>
                      <a:ext cx="481320" cy="341280"/>
                      <a:chOff x="420840" y="5029560"/>
                      <a:chExt cx="481320" cy="341280"/>
                    </a:xfrm>
                  </p:grpSpPr>
                  <p:grpSp>
                    <p:nvGrpSpPr>
                      <p:cNvPr id="619" name=""/>
                      <p:cNvGrpSpPr/>
                      <p:nvPr/>
                    </p:nvGrpSpPr>
                    <p:grpSpPr>
                      <a:xfrm>
                        <a:off x="420840" y="5029560"/>
                        <a:ext cx="165600" cy="259200"/>
                        <a:chOff x="420840" y="5029560"/>
                        <a:chExt cx="165600" cy="259200"/>
                      </a:xfrm>
                    </p:grpSpPr>
                    <p:sp>
                      <p:nvSpPr>
                        <p:cNvPr id="620" name=""/>
                        <p:cNvSpPr/>
                        <p:nvPr/>
                      </p:nvSpPr>
                      <p:spPr>
                        <a:xfrm rot="21544800">
                          <a:off x="422640" y="503064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1" name=""/>
                        <p:cNvSpPr/>
                        <p:nvPr/>
                      </p:nvSpPr>
                      <p:spPr>
                        <a:xfrm rot="21544800">
                          <a:off x="472320" y="503424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22" name=""/>
                      <p:cNvGrpSpPr/>
                      <p:nvPr/>
                    </p:nvGrpSpPr>
                    <p:grpSpPr>
                      <a:xfrm>
                        <a:off x="519120" y="5055480"/>
                        <a:ext cx="187920" cy="272520"/>
                        <a:chOff x="519120" y="5055480"/>
                        <a:chExt cx="187920" cy="272520"/>
                      </a:xfrm>
                    </p:grpSpPr>
                    <p:sp>
                      <p:nvSpPr>
                        <p:cNvPr id="623" name=""/>
                        <p:cNvSpPr/>
                        <p:nvPr/>
                      </p:nvSpPr>
                      <p:spPr>
                        <a:xfrm rot="395400">
                          <a:off x="532080" y="5063760"/>
                          <a:ext cx="16164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4" name=""/>
                        <p:cNvSpPr/>
                        <p:nvPr/>
                      </p:nvSpPr>
                      <p:spPr>
                        <a:xfrm rot="395400">
                          <a:off x="580680" y="5069520"/>
                          <a:ext cx="10476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25" name=""/>
                      <p:cNvGrpSpPr/>
                      <p:nvPr/>
                    </p:nvGrpSpPr>
                    <p:grpSpPr>
                      <a:xfrm>
                        <a:off x="654120" y="5072760"/>
                        <a:ext cx="248040" cy="298080"/>
                        <a:chOff x="654120" y="5072760"/>
                        <a:chExt cx="248040" cy="298080"/>
                      </a:xfrm>
                    </p:grpSpPr>
                    <p:sp>
                      <p:nvSpPr>
                        <p:cNvPr id="626" name=""/>
                        <p:cNvSpPr/>
                        <p:nvPr/>
                      </p:nvSpPr>
                      <p:spPr>
                        <a:xfrm rot="1501800">
                          <a:off x="697320" y="509544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7" name=""/>
                        <p:cNvSpPr/>
                        <p:nvPr/>
                      </p:nvSpPr>
                      <p:spPr>
                        <a:xfrm rot="1501800">
                          <a:off x="740520" y="510696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628" name=""/>
                  <p:cNvGrpSpPr/>
                  <p:nvPr/>
                </p:nvGrpSpPr>
                <p:grpSpPr>
                  <a:xfrm>
                    <a:off x="685800" y="5029560"/>
                    <a:ext cx="978480" cy="447840"/>
                    <a:chOff x="685800" y="5029560"/>
                    <a:chExt cx="978480" cy="447840"/>
                  </a:xfrm>
                </p:grpSpPr>
                <p:grpSp>
                  <p:nvGrpSpPr>
                    <p:cNvPr id="629" name=""/>
                    <p:cNvGrpSpPr/>
                    <p:nvPr/>
                  </p:nvGrpSpPr>
                  <p:grpSpPr>
                    <a:xfrm>
                      <a:off x="1172160" y="5083920"/>
                      <a:ext cx="492120" cy="393480"/>
                      <a:chOff x="1172160" y="5083920"/>
                      <a:chExt cx="492120" cy="393480"/>
                    </a:xfrm>
                  </p:grpSpPr>
                  <p:grpSp>
                    <p:nvGrpSpPr>
                      <p:cNvPr id="630" name=""/>
                      <p:cNvGrpSpPr/>
                      <p:nvPr/>
                    </p:nvGrpSpPr>
                    <p:grpSpPr>
                      <a:xfrm>
                        <a:off x="1172160" y="5083920"/>
                        <a:ext cx="194400" cy="276840"/>
                        <a:chOff x="1172160" y="5083920"/>
                        <a:chExt cx="194400" cy="276840"/>
                      </a:xfrm>
                    </p:grpSpPr>
                    <p:sp>
                      <p:nvSpPr>
                        <p:cNvPr id="631" name=""/>
                        <p:cNvSpPr/>
                        <p:nvPr/>
                      </p:nvSpPr>
                      <p:spPr>
                        <a:xfrm rot="500400">
                          <a:off x="1188720" y="509400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2" name=""/>
                        <p:cNvSpPr/>
                        <p:nvPr/>
                      </p:nvSpPr>
                      <p:spPr>
                        <a:xfrm rot="500400">
                          <a:off x="1236240" y="5101200"/>
                          <a:ext cx="10476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3" name=""/>
                      <p:cNvGrpSpPr/>
                      <p:nvPr/>
                    </p:nvGrpSpPr>
                    <p:grpSpPr>
                      <a:xfrm>
                        <a:off x="1262160" y="5127120"/>
                        <a:ext cx="220320" cy="288720"/>
                        <a:chOff x="1262160" y="5127120"/>
                        <a:chExt cx="220320" cy="288720"/>
                      </a:xfrm>
                    </p:grpSpPr>
                    <p:sp>
                      <p:nvSpPr>
                        <p:cNvPr id="634" name=""/>
                        <p:cNvSpPr/>
                        <p:nvPr/>
                      </p:nvSpPr>
                      <p:spPr>
                        <a:xfrm rot="951000">
                          <a:off x="1291680" y="5144400"/>
                          <a:ext cx="16128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5" name=""/>
                        <p:cNvSpPr/>
                        <p:nvPr/>
                      </p:nvSpPr>
                      <p:spPr>
                        <a:xfrm rot="951000">
                          <a:off x="1337760" y="5153400"/>
                          <a:ext cx="10440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6" name=""/>
                      <p:cNvGrpSpPr/>
                      <p:nvPr/>
                    </p:nvGrpSpPr>
                    <p:grpSpPr>
                      <a:xfrm>
                        <a:off x="1395000" y="5177880"/>
                        <a:ext cx="269280" cy="299520"/>
                        <a:chOff x="1395000" y="5177880"/>
                        <a:chExt cx="269280" cy="299520"/>
                      </a:xfrm>
                    </p:grpSpPr>
                    <p:sp>
                      <p:nvSpPr>
                        <p:cNvPr id="637" name=""/>
                        <p:cNvSpPr/>
                        <p:nvPr/>
                      </p:nvSpPr>
                      <p:spPr>
                        <a:xfrm rot="2057400">
                          <a:off x="1448280" y="5202360"/>
                          <a:ext cx="162000" cy="240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8" name=""/>
                        <p:cNvSpPr/>
                        <p:nvPr/>
                      </p:nvSpPr>
                      <p:spPr>
                        <a:xfrm rot="2057400">
                          <a:off x="1488600" y="5216040"/>
                          <a:ext cx="10476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39" name=""/>
                    <p:cNvGrpSpPr/>
                    <p:nvPr/>
                  </p:nvGrpSpPr>
                  <p:grpSpPr>
                    <a:xfrm>
                      <a:off x="685800" y="5029560"/>
                      <a:ext cx="481320" cy="341280"/>
                      <a:chOff x="685800" y="5029560"/>
                      <a:chExt cx="481320" cy="341280"/>
                    </a:xfrm>
                  </p:grpSpPr>
                  <p:grpSp>
                    <p:nvGrpSpPr>
                      <p:cNvPr id="640" name=""/>
                      <p:cNvGrpSpPr/>
                      <p:nvPr/>
                    </p:nvGrpSpPr>
                    <p:grpSpPr>
                      <a:xfrm>
                        <a:off x="1001880" y="5029560"/>
                        <a:ext cx="165240" cy="259200"/>
                        <a:chOff x="1001880" y="5029560"/>
                        <a:chExt cx="165240" cy="259200"/>
                      </a:xfrm>
                    </p:grpSpPr>
                    <p:sp>
                      <p:nvSpPr>
                        <p:cNvPr id="641" name=""/>
                        <p:cNvSpPr/>
                        <p:nvPr/>
                      </p:nvSpPr>
                      <p:spPr>
                        <a:xfrm flipH="1" rot="55200">
                          <a:off x="1003320" y="503064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2" name=""/>
                        <p:cNvSpPr/>
                        <p:nvPr/>
                      </p:nvSpPr>
                      <p:spPr>
                        <a:xfrm flipH="1" rot="55200">
                          <a:off x="1009800" y="503424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43" name=""/>
                      <p:cNvGrpSpPr/>
                      <p:nvPr/>
                    </p:nvGrpSpPr>
                    <p:grpSpPr>
                      <a:xfrm>
                        <a:off x="880920" y="5055480"/>
                        <a:ext cx="188280" cy="272520"/>
                        <a:chOff x="880920" y="5055480"/>
                        <a:chExt cx="188280" cy="272520"/>
                      </a:xfrm>
                    </p:grpSpPr>
                    <p:sp>
                      <p:nvSpPr>
                        <p:cNvPr id="644" name=""/>
                        <p:cNvSpPr/>
                        <p:nvPr/>
                      </p:nvSpPr>
                      <p:spPr>
                        <a:xfrm flipH="1" rot="21204600">
                          <a:off x="893880" y="5063760"/>
                          <a:ext cx="161640" cy="23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5" name=""/>
                        <p:cNvSpPr/>
                        <p:nvPr/>
                      </p:nvSpPr>
                      <p:spPr>
                        <a:xfrm flipH="1" rot="21204600">
                          <a:off x="901800" y="506952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46" name=""/>
                      <p:cNvGrpSpPr/>
                      <p:nvPr/>
                    </p:nvGrpSpPr>
                    <p:grpSpPr>
                      <a:xfrm>
                        <a:off x="685800" y="5072760"/>
                        <a:ext cx="248040" cy="298080"/>
                        <a:chOff x="685800" y="5072760"/>
                        <a:chExt cx="248040" cy="298080"/>
                      </a:xfrm>
                    </p:grpSpPr>
                    <p:sp>
                      <p:nvSpPr>
                        <p:cNvPr id="647" name=""/>
                        <p:cNvSpPr/>
                        <p:nvPr/>
                      </p:nvSpPr>
                      <p:spPr>
                        <a:xfrm flipH="1" rot="20098200">
                          <a:off x="728640" y="509544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8" name=""/>
                        <p:cNvSpPr/>
                        <p:nvPr/>
                      </p:nvSpPr>
                      <p:spPr>
                        <a:xfrm flipH="1" rot="20098200">
                          <a:off x="741600" y="510696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3057120" y="4152600"/>
                  <a:ext cx="685800" cy="222480"/>
                  <a:chOff x="3057120" y="4152600"/>
                  <a:chExt cx="685800" cy="22248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3057120" y="4152600"/>
                    <a:ext cx="32400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408120" y="4154400"/>
                    <a:ext cx="33480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2117520" y="4889520"/>
                  <a:ext cx="685800" cy="222120"/>
                  <a:chOff x="2117520" y="4889520"/>
                  <a:chExt cx="685800" cy="22212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>
                    <a:off x="2117520" y="4889520"/>
                    <a:ext cx="32400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2468520" y="4890960"/>
                    <a:ext cx="334800" cy="1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3539880" y="5092560"/>
                  <a:ext cx="165240" cy="82440"/>
                  <a:chOff x="3539880" y="5092560"/>
                  <a:chExt cx="165240" cy="8244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3539880" y="50925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3624480" y="50929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8" name=""/>
                <p:cNvGrpSpPr/>
                <p:nvPr/>
              </p:nvGrpSpPr>
              <p:grpSpPr>
                <a:xfrm>
                  <a:off x="3311280" y="5143320"/>
                  <a:ext cx="165240" cy="82440"/>
                  <a:chOff x="3311280" y="5143320"/>
                  <a:chExt cx="165240" cy="82440"/>
                </a:xfrm>
              </p:grpSpPr>
              <p:sp>
                <p:nvSpPr>
                  <p:cNvPr id="659" name=""/>
                  <p:cNvSpPr/>
                  <p:nvPr/>
                </p:nvSpPr>
                <p:spPr>
                  <a:xfrm>
                    <a:off x="3311280" y="51433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3395880" y="51436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1" name=""/>
                <p:cNvGrpSpPr/>
                <p:nvPr/>
              </p:nvGrpSpPr>
              <p:grpSpPr>
                <a:xfrm>
                  <a:off x="3146040" y="5168880"/>
                  <a:ext cx="165240" cy="82440"/>
                  <a:chOff x="3146040" y="5168880"/>
                  <a:chExt cx="165240" cy="8244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3146040" y="51688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3230640" y="51692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4" name=""/>
                <p:cNvGrpSpPr/>
                <p:nvPr/>
              </p:nvGrpSpPr>
              <p:grpSpPr>
                <a:xfrm>
                  <a:off x="3146040" y="5067000"/>
                  <a:ext cx="165240" cy="82800"/>
                  <a:chOff x="3146040" y="5067000"/>
                  <a:chExt cx="165240" cy="82800"/>
                </a:xfrm>
              </p:grpSpPr>
              <p:sp>
                <p:nvSpPr>
                  <p:cNvPr id="665" name=""/>
                  <p:cNvSpPr/>
                  <p:nvPr/>
                </p:nvSpPr>
                <p:spPr>
                  <a:xfrm>
                    <a:off x="3146040" y="506700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3230640" y="50673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3222360" y="5003640"/>
                  <a:ext cx="165240" cy="82440"/>
                  <a:chOff x="3222360" y="5003640"/>
                  <a:chExt cx="165240" cy="8244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3222360" y="50036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3306960" y="50040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0" name=""/>
                <p:cNvGrpSpPr/>
                <p:nvPr/>
              </p:nvGrpSpPr>
              <p:grpSpPr>
                <a:xfrm>
                  <a:off x="3285720" y="4978080"/>
                  <a:ext cx="165240" cy="82800"/>
                  <a:chOff x="3285720" y="4978080"/>
                  <a:chExt cx="165240" cy="8280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>
                    <a:off x="3285720" y="497808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3370320" y="49784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3362040" y="4940280"/>
                  <a:ext cx="165240" cy="82440"/>
                  <a:chOff x="3362040" y="4940280"/>
                  <a:chExt cx="165240" cy="82440"/>
                </a:xfrm>
              </p:grpSpPr>
              <p:sp>
                <p:nvSpPr>
                  <p:cNvPr id="674" name=""/>
                  <p:cNvSpPr/>
                  <p:nvPr/>
                </p:nvSpPr>
                <p:spPr>
                  <a:xfrm>
                    <a:off x="3362040" y="49402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3446640" y="49406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6" name=""/>
                <p:cNvGrpSpPr/>
                <p:nvPr/>
              </p:nvGrpSpPr>
              <p:grpSpPr>
                <a:xfrm>
                  <a:off x="3565440" y="4863960"/>
                  <a:ext cx="164520" cy="82440"/>
                  <a:chOff x="3565440" y="4863960"/>
                  <a:chExt cx="164520" cy="82440"/>
                </a:xfrm>
              </p:grpSpPr>
              <p:sp>
                <p:nvSpPr>
                  <p:cNvPr id="677" name=""/>
                  <p:cNvSpPr/>
                  <p:nvPr/>
                </p:nvSpPr>
                <p:spPr>
                  <a:xfrm>
                    <a:off x="3565440" y="486396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3649680" y="48643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9" name=""/>
                <p:cNvGrpSpPr/>
                <p:nvPr/>
              </p:nvGrpSpPr>
              <p:grpSpPr>
                <a:xfrm>
                  <a:off x="4466880" y="4178160"/>
                  <a:ext cx="165240" cy="82440"/>
                  <a:chOff x="4466880" y="4178160"/>
                  <a:chExt cx="165240" cy="8244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>
                    <a:off x="4466880" y="41781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4551480" y="41785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2" name=""/>
                <p:cNvGrpSpPr/>
                <p:nvPr/>
              </p:nvGrpSpPr>
              <p:grpSpPr>
                <a:xfrm>
                  <a:off x="4466880" y="4076640"/>
                  <a:ext cx="165240" cy="82440"/>
                  <a:chOff x="4466880" y="4076640"/>
                  <a:chExt cx="165240" cy="8244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>
                    <a:off x="4466880" y="40766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4551480" y="40770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5" name=""/>
                <p:cNvGrpSpPr/>
                <p:nvPr/>
              </p:nvGrpSpPr>
              <p:grpSpPr>
                <a:xfrm>
                  <a:off x="4543200" y="4012920"/>
                  <a:ext cx="165240" cy="82800"/>
                  <a:chOff x="4543200" y="4012920"/>
                  <a:chExt cx="165240" cy="8280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>
                    <a:off x="4543200" y="401292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4627800" y="40132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" name=""/>
                <p:cNvGrpSpPr/>
                <p:nvPr/>
              </p:nvGrpSpPr>
              <p:grpSpPr>
                <a:xfrm>
                  <a:off x="288720" y="4495680"/>
                  <a:ext cx="165240" cy="82440"/>
                  <a:chOff x="288720" y="4495680"/>
                  <a:chExt cx="165240" cy="82440"/>
                </a:xfrm>
              </p:grpSpPr>
              <p:sp>
                <p:nvSpPr>
                  <p:cNvPr id="689" name=""/>
                  <p:cNvSpPr/>
                  <p:nvPr/>
                </p:nvSpPr>
                <p:spPr>
                  <a:xfrm>
                    <a:off x="288720" y="44956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373320" y="44960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"/>
                <p:cNvGrpSpPr/>
                <p:nvPr/>
              </p:nvGrpSpPr>
              <p:grpSpPr>
                <a:xfrm>
                  <a:off x="60120" y="4546440"/>
                  <a:ext cx="165240" cy="82440"/>
                  <a:chOff x="60120" y="4546440"/>
                  <a:chExt cx="165240" cy="8244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>
                    <a:off x="60120" y="45464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144720" y="45468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4" name=""/>
                <p:cNvGrpSpPr/>
                <p:nvPr/>
              </p:nvGrpSpPr>
              <p:grpSpPr>
                <a:xfrm>
                  <a:off x="-105120" y="4572000"/>
                  <a:ext cx="165600" cy="82440"/>
                  <a:chOff x="-105120" y="4572000"/>
                  <a:chExt cx="165600" cy="8244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-105120" y="45720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-20160" y="45723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7" name=""/>
                <p:cNvGrpSpPr/>
                <p:nvPr/>
              </p:nvGrpSpPr>
              <p:grpSpPr>
                <a:xfrm>
                  <a:off x="-105120" y="4470120"/>
                  <a:ext cx="165600" cy="82800"/>
                  <a:chOff x="-105120" y="4470120"/>
                  <a:chExt cx="165600" cy="82800"/>
                </a:xfrm>
              </p:grpSpPr>
              <p:sp>
                <p:nvSpPr>
                  <p:cNvPr id="698" name=""/>
                  <p:cNvSpPr/>
                  <p:nvPr/>
                </p:nvSpPr>
                <p:spPr>
                  <a:xfrm>
                    <a:off x="-105120" y="447012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-20160" y="44704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0" name=""/>
                <p:cNvGrpSpPr/>
                <p:nvPr/>
              </p:nvGrpSpPr>
              <p:grpSpPr>
                <a:xfrm>
                  <a:off x="-28800" y="4406760"/>
                  <a:ext cx="165240" cy="82440"/>
                  <a:chOff x="-28800" y="4406760"/>
                  <a:chExt cx="165240" cy="82440"/>
                </a:xfrm>
              </p:grpSpPr>
              <p:sp>
                <p:nvSpPr>
                  <p:cNvPr id="701" name=""/>
                  <p:cNvSpPr/>
                  <p:nvPr/>
                </p:nvSpPr>
                <p:spPr>
                  <a:xfrm>
                    <a:off x="-28800" y="44067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55800" y="44071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3" name=""/>
                <p:cNvGrpSpPr/>
                <p:nvPr/>
              </p:nvGrpSpPr>
              <p:grpSpPr>
                <a:xfrm>
                  <a:off x="34560" y="4381200"/>
                  <a:ext cx="165240" cy="82800"/>
                  <a:chOff x="34560" y="4381200"/>
                  <a:chExt cx="165240" cy="8280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>
                    <a:off x="34560" y="438120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119160" y="43815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" name=""/>
                <p:cNvGrpSpPr/>
                <p:nvPr/>
              </p:nvGrpSpPr>
              <p:grpSpPr>
                <a:xfrm>
                  <a:off x="110880" y="4343400"/>
                  <a:ext cx="165240" cy="82440"/>
                  <a:chOff x="110880" y="4343400"/>
                  <a:chExt cx="165240" cy="82440"/>
                </a:xfrm>
              </p:grpSpPr>
              <p:sp>
                <p:nvSpPr>
                  <p:cNvPr id="707" name=""/>
                  <p:cNvSpPr/>
                  <p:nvPr/>
                </p:nvSpPr>
                <p:spPr>
                  <a:xfrm>
                    <a:off x="110880" y="43434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195480" y="43437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9" name=""/>
                <p:cNvGrpSpPr/>
                <p:nvPr/>
              </p:nvGrpSpPr>
              <p:grpSpPr>
                <a:xfrm>
                  <a:off x="313920" y="4267080"/>
                  <a:ext cx="165240" cy="82440"/>
                  <a:chOff x="313920" y="4267080"/>
                  <a:chExt cx="165240" cy="82440"/>
                </a:xfrm>
              </p:grpSpPr>
              <p:sp>
                <p:nvSpPr>
                  <p:cNvPr id="710" name=""/>
                  <p:cNvSpPr/>
                  <p:nvPr/>
                </p:nvSpPr>
                <p:spPr>
                  <a:xfrm>
                    <a:off x="313920" y="42670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398520" y="42674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2" name=""/>
                <p:cNvGrpSpPr/>
                <p:nvPr/>
              </p:nvGrpSpPr>
              <p:grpSpPr>
                <a:xfrm>
                  <a:off x="1253880" y="4483080"/>
                  <a:ext cx="165240" cy="82440"/>
                  <a:chOff x="1253880" y="4483080"/>
                  <a:chExt cx="165240" cy="8244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>
                    <a:off x="1253880" y="44830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1338480" y="44834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5" name=""/>
                <p:cNvGrpSpPr/>
                <p:nvPr/>
              </p:nvGrpSpPr>
              <p:grpSpPr>
                <a:xfrm>
                  <a:off x="1025280" y="4533840"/>
                  <a:ext cx="165240" cy="82440"/>
                  <a:chOff x="1025280" y="4533840"/>
                  <a:chExt cx="165240" cy="8244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>
                    <a:off x="1025280" y="45338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1109880" y="45342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8" name=""/>
                <p:cNvGrpSpPr/>
                <p:nvPr/>
              </p:nvGrpSpPr>
              <p:grpSpPr>
                <a:xfrm>
                  <a:off x="860040" y="4559040"/>
                  <a:ext cx="165240" cy="82800"/>
                  <a:chOff x="860040" y="4559040"/>
                  <a:chExt cx="165240" cy="8280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>
                    <a:off x="860040" y="455904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944640" y="45594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1" name=""/>
                <p:cNvGrpSpPr/>
                <p:nvPr/>
              </p:nvGrpSpPr>
              <p:grpSpPr>
                <a:xfrm>
                  <a:off x="860040" y="4457520"/>
                  <a:ext cx="165240" cy="82440"/>
                  <a:chOff x="860040" y="4457520"/>
                  <a:chExt cx="165240" cy="82440"/>
                </a:xfrm>
              </p:grpSpPr>
              <p:sp>
                <p:nvSpPr>
                  <p:cNvPr id="722" name=""/>
                  <p:cNvSpPr/>
                  <p:nvPr/>
                </p:nvSpPr>
                <p:spPr>
                  <a:xfrm>
                    <a:off x="860040" y="44575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944640" y="44578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" name=""/>
                <p:cNvGrpSpPr/>
                <p:nvPr/>
              </p:nvGrpSpPr>
              <p:grpSpPr>
                <a:xfrm>
                  <a:off x="936360" y="4394160"/>
                  <a:ext cx="165240" cy="82440"/>
                  <a:chOff x="936360" y="4394160"/>
                  <a:chExt cx="165240" cy="8244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936360" y="43941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1020960" y="43945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999720" y="4368600"/>
                  <a:ext cx="165240" cy="82440"/>
                  <a:chOff x="999720" y="4368600"/>
                  <a:chExt cx="165240" cy="82440"/>
                </a:xfrm>
              </p:grpSpPr>
              <p:sp>
                <p:nvSpPr>
                  <p:cNvPr id="728" name=""/>
                  <p:cNvSpPr/>
                  <p:nvPr/>
                </p:nvSpPr>
                <p:spPr>
                  <a:xfrm>
                    <a:off x="999720" y="43686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1084320" y="43689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0" name=""/>
                <p:cNvGrpSpPr/>
                <p:nvPr/>
              </p:nvGrpSpPr>
              <p:grpSpPr>
                <a:xfrm>
                  <a:off x="1076040" y="4330440"/>
                  <a:ext cx="165240" cy="82800"/>
                  <a:chOff x="1076040" y="4330440"/>
                  <a:chExt cx="165240" cy="8280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>
                    <a:off x="1076040" y="433044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1160640" y="43308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3" name=""/>
                <p:cNvGrpSpPr/>
                <p:nvPr/>
              </p:nvGrpSpPr>
              <p:grpSpPr>
                <a:xfrm>
                  <a:off x="1279440" y="4254480"/>
                  <a:ext cx="164520" cy="82440"/>
                  <a:chOff x="1279440" y="4254480"/>
                  <a:chExt cx="164520" cy="8244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>
                    <a:off x="1279440" y="425448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1363680" y="425484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" name=""/>
                <p:cNvGrpSpPr/>
                <p:nvPr/>
              </p:nvGrpSpPr>
              <p:grpSpPr>
                <a:xfrm>
                  <a:off x="1190520" y="4292280"/>
                  <a:ext cx="685800" cy="222480"/>
                  <a:chOff x="1190520" y="4292280"/>
                  <a:chExt cx="685800" cy="22248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>
                    <a:off x="1190520" y="4292280"/>
                    <a:ext cx="32400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1541520" y="4294080"/>
                    <a:ext cx="33480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9" name=""/>
              <p:cNvGrpSpPr/>
              <p:nvPr/>
            </p:nvGrpSpPr>
            <p:grpSpPr>
              <a:xfrm>
                <a:off x="3543120" y="3530880"/>
                <a:ext cx="5323680" cy="1692360"/>
                <a:chOff x="3543120" y="3530880"/>
                <a:chExt cx="5323680" cy="1692360"/>
              </a:xfrm>
            </p:grpSpPr>
            <p:grpSp>
              <p:nvGrpSpPr>
                <p:cNvPr id="740" name=""/>
                <p:cNvGrpSpPr/>
                <p:nvPr/>
              </p:nvGrpSpPr>
              <p:grpSpPr>
                <a:xfrm>
                  <a:off x="3543120" y="4775400"/>
                  <a:ext cx="1740600" cy="447840"/>
                  <a:chOff x="3543120" y="4775400"/>
                  <a:chExt cx="1740600" cy="447840"/>
                </a:xfrm>
              </p:grpSpPr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3543120" y="4775400"/>
                    <a:ext cx="978480" cy="447840"/>
                    <a:chOff x="3543120" y="4775400"/>
                    <a:chExt cx="978480" cy="447840"/>
                  </a:xfrm>
                </p:grpSpPr>
                <p:grpSp>
                  <p:nvGrpSpPr>
                    <p:cNvPr id="742" name=""/>
                    <p:cNvGrpSpPr/>
                    <p:nvPr/>
                  </p:nvGrpSpPr>
                  <p:grpSpPr>
                    <a:xfrm>
                      <a:off x="3543120" y="4829760"/>
                      <a:ext cx="492120" cy="393480"/>
                      <a:chOff x="3543120" y="4829760"/>
                      <a:chExt cx="492120" cy="393480"/>
                    </a:xfrm>
                  </p:grpSpPr>
                  <p:grpSp>
                    <p:nvGrpSpPr>
                      <p:cNvPr id="743" name=""/>
                      <p:cNvGrpSpPr/>
                      <p:nvPr/>
                    </p:nvGrpSpPr>
                    <p:grpSpPr>
                      <a:xfrm>
                        <a:off x="3840840" y="4829760"/>
                        <a:ext cx="194400" cy="277200"/>
                        <a:chOff x="3840840" y="4829760"/>
                        <a:chExt cx="194400" cy="277200"/>
                      </a:xfrm>
                    </p:grpSpPr>
                    <p:sp>
                      <p:nvSpPr>
                        <p:cNvPr id="744" name=""/>
                        <p:cNvSpPr/>
                        <p:nvPr/>
                      </p:nvSpPr>
                      <p:spPr>
                        <a:xfrm flipH="1" rot="21099600">
                          <a:off x="3857400" y="4839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5" name=""/>
                        <p:cNvSpPr/>
                        <p:nvPr/>
                      </p:nvSpPr>
                      <p:spPr>
                        <a:xfrm flipH="1" rot="21099600">
                          <a:off x="3866040" y="484704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46" name=""/>
                      <p:cNvGrpSpPr/>
                      <p:nvPr/>
                    </p:nvGrpSpPr>
                    <p:grpSpPr>
                      <a:xfrm>
                        <a:off x="3724920" y="4872960"/>
                        <a:ext cx="220680" cy="288720"/>
                        <a:chOff x="3724920" y="4872960"/>
                        <a:chExt cx="220680" cy="288720"/>
                      </a:xfrm>
                    </p:grpSpPr>
                    <p:sp>
                      <p:nvSpPr>
                        <p:cNvPr id="747" name=""/>
                        <p:cNvSpPr/>
                        <p:nvPr/>
                      </p:nvSpPr>
                      <p:spPr>
                        <a:xfrm flipH="1" rot="20649000">
                          <a:off x="3754080" y="48902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8" name=""/>
                        <p:cNvSpPr/>
                        <p:nvPr/>
                      </p:nvSpPr>
                      <p:spPr>
                        <a:xfrm flipH="1" rot="20649000">
                          <a:off x="3764520" y="4899240"/>
                          <a:ext cx="10440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49" name=""/>
                      <p:cNvGrpSpPr/>
                      <p:nvPr/>
                    </p:nvGrpSpPr>
                    <p:grpSpPr>
                      <a:xfrm>
                        <a:off x="3543120" y="4923720"/>
                        <a:ext cx="268920" cy="299520"/>
                        <a:chOff x="3543120" y="4923720"/>
                        <a:chExt cx="268920" cy="299520"/>
                      </a:xfrm>
                    </p:grpSpPr>
                    <p:sp>
                      <p:nvSpPr>
                        <p:cNvPr id="750" name=""/>
                        <p:cNvSpPr/>
                        <p:nvPr/>
                      </p:nvSpPr>
                      <p:spPr>
                        <a:xfrm flipH="1" rot="19542600">
                          <a:off x="3596040" y="4948200"/>
                          <a:ext cx="16200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1" name=""/>
                        <p:cNvSpPr/>
                        <p:nvPr/>
                      </p:nvSpPr>
                      <p:spPr>
                        <a:xfrm flipH="1" rot="19542600">
                          <a:off x="3613320" y="496188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2" name=""/>
                    <p:cNvGrpSpPr/>
                    <p:nvPr/>
                  </p:nvGrpSpPr>
                  <p:grpSpPr>
                    <a:xfrm>
                      <a:off x="4040280" y="4775400"/>
                      <a:ext cx="481320" cy="341280"/>
                      <a:chOff x="4040280" y="4775400"/>
                      <a:chExt cx="481320" cy="341280"/>
                    </a:xfrm>
                  </p:grpSpPr>
                  <p:grpSp>
                    <p:nvGrpSpPr>
                      <p:cNvPr id="753" name=""/>
                      <p:cNvGrpSpPr/>
                      <p:nvPr/>
                    </p:nvGrpSpPr>
                    <p:grpSpPr>
                      <a:xfrm>
                        <a:off x="4040280" y="4775400"/>
                        <a:ext cx="165600" cy="259200"/>
                        <a:chOff x="4040280" y="4775400"/>
                        <a:chExt cx="165600" cy="259200"/>
                      </a:xfrm>
                    </p:grpSpPr>
                    <p:sp>
                      <p:nvSpPr>
                        <p:cNvPr id="754" name=""/>
                        <p:cNvSpPr/>
                        <p:nvPr/>
                      </p:nvSpPr>
                      <p:spPr>
                        <a:xfrm rot="21544800">
                          <a:off x="4042080" y="47764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5" name=""/>
                        <p:cNvSpPr/>
                        <p:nvPr/>
                      </p:nvSpPr>
                      <p:spPr>
                        <a:xfrm rot="21544800">
                          <a:off x="4091760" y="478008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56" name=""/>
                      <p:cNvGrpSpPr/>
                      <p:nvPr/>
                    </p:nvGrpSpPr>
                    <p:grpSpPr>
                      <a:xfrm>
                        <a:off x="4138560" y="4801320"/>
                        <a:ext cx="187920" cy="272520"/>
                        <a:chOff x="4138560" y="4801320"/>
                        <a:chExt cx="187920" cy="272520"/>
                      </a:xfrm>
                    </p:grpSpPr>
                    <p:sp>
                      <p:nvSpPr>
                        <p:cNvPr id="757" name=""/>
                        <p:cNvSpPr/>
                        <p:nvPr/>
                      </p:nvSpPr>
                      <p:spPr>
                        <a:xfrm rot="395400">
                          <a:off x="4151520" y="4809600"/>
                          <a:ext cx="16164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8" name=""/>
                        <p:cNvSpPr/>
                        <p:nvPr/>
                      </p:nvSpPr>
                      <p:spPr>
                        <a:xfrm rot="395400">
                          <a:off x="4200120" y="4815360"/>
                          <a:ext cx="10476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59" name=""/>
                      <p:cNvGrpSpPr/>
                      <p:nvPr/>
                    </p:nvGrpSpPr>
                    <p:grpSpPr>
                      <a:xfrm>
                        <a:off x="4273560" y="4818600"/>
                        <a:ext cx="248040" cy="298080"/>
                        <a:chOff x="4273560" y="4818600"/>
                        <a:chExt cx="248040" cy="298080"/>
                      </a:xfrm>
                    </p:grpSpPr>
                    <p:sp>
                      <p:nvSpPr>
                        <p:cNvPr id="760" name=""/>
                        <p:cNvSpPr/>
                        <p:nvPr/>
                      </p:nvSpPr>
                      <p:spPr>
                        <a:xfrm rot="1501800">
                          <a:off x="4316760" y="48412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1" name=""/>
                        <p:cNvSpPr/>
                        <p:nvPr/>
                      </p:nvSpPr>
                      <p:spPr>
                        <a:xfrm rot="1501800">
                          <a:off x="4359960" y="485280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762" name=""/>
                  <p:cNvGrpSpPr/>
                  <p:nvPr/>
                </p:nvGrpSpPr>
                <p:grpSpPr>
                  <a:xfrm>
                    <a:off x="4305240" y="4775400"/>
                    <a:ext cx="978480" cy="447840"/>
                    <a:chOff x="4305240" y="4775400"/>
                    <a:chExt cx="978480" cy="447840"/>
                  </a:xfrm>
                </p:grpSpPr>
                <p:grpSp>
                  <p:nvGrpSpPr>
                    <p:cNvPr id="763" name=""/>
                    <p:cNvGrpSpPr/>
                    <p:nvPr/>
                  </p:nvGrpSpPr>
                  <p:grpSpPr>
                    <a:xfrm>
                      <a:off x="4791600" y="4829760"/>
                      <a:ext cx="492120" cy="393480"/>
                      <a:chOff x="4791600" y="4829760"/>
                      <a:chExt cx="492120" cy="393480"/>
                    </a:xfrm>
                  </p:grpSpPr>
                  <p:grpSp>
                    <p:nvGrpSpPr>
                      <p:cNvPr id="764" name=""/>
                      <p:cNvGrpSpPr/>
                      <p:nvPr/>
                    </p:nvGrpSpPr>
                    <p:grpSpPr>
                      <a:xfrm>
                        <a:off x="4791600" y="4829760"/>
                        <a:ext cx="194400" cy="276840"/>
                        <a:chOff x="4791600" y="4829760"/>
                        <a:chExt cx="194400" cy="276840"/>
                      </a:xfrm>
                    </p:grpSpPr>
                    <p:sp>
                      <p:nvSpPr>
                        <p:cNvPr id="765" name=""/>
                        <p:cNvSpPr/>
                        <p:nvPr/>
                      </p:nvSpPr>
                      <p:spPr>
                        <a:xfrm rot="500400">
                          <a:off x="4808160" y="4839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6" name=""/>
                        <p:cNvSpPr/>
                        <p:nvPr/>
                      </p:nvSpPr>
                      <p:spPr>
                        <a:xfrm rot="500400">
                          <a:off x="4855680" y="4847040"/>
                          <a:ext cx="10476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67" name=""/>
                      <p:cNvGrpSpPr/>
                      <p:nvPr/>
                    </p:nvGrpSpPr>
                    <p:grpSpPr>
                      <a:xfrm>
                        <a:off x="4881600" y="4872960"/>
                        <a:ext cx="220320" cy="288720"/>
                        <a:chOff x="4881600" y="4872960"/>
                        <a:chExt cx="220320" cy="288720"/>
                      </a:xfrm>
                    </p:grpSpPr>
                    <p:sp>
                      <p:nvSpPr>
                        <p:cNvPr id="768" name=""/>
                        <p:cNvSpPr/>
                        <p:nvPr/>
                      </p:nvSpPr>
                      <p:spPr>
                        <a:xfrm rot="951000">
                          <a:off x="4911120" y="4890240"/>
                          <a:ext cx="16128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9" name=""/>
                        <p:cNvSpPr/>
                        <p:nvPr/>
                      </p:nvSpPr>
                      <p:spPr>
                        <a:xfrm rot="951000">
                          <a:off x="4957200" y="4899240"/>
                          <a:ext cx="10440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70" name=""/>
                      <p:cNvGrpSpPr/>
                      <p:nvPr/>
                    </p:nvGrpSpPr>
                    <p:grpSpPr>
                      <a:xfrm>
                        <a:off x="5014440" y="4923720"/>
                        <a:ext cx="269280" cy="299520"/>
                        <a:chOff x="5014440" y="4923720"/>
                        <a:chExt cx="269280" cy="299520"/>
                      </a:xfrm>
                    </p:grpSpPr>
                    <p:sp>
                      <p:nvSpPr>
                        <p:cNvPr id="771" name=""/>
                        <p:cNvSpPr/>
                        <p:nvPr/>
                      </p:nvSpPr>
                      <p:spPr>
                        <a:xfrm rot="2057400">
                          <a:off x="5067720" y="4948200"/>
                          <a:ext cx="162000" cy="240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2" name=""/>
                        <p:cNvSpPr/>
                        <p:nvPr/>
                      </p:nvSpPr>
                      <p:spPr>
                        <a:xfrm rot="2057400">
                          <a:off x="5108040" y="4961880"/>
                          <a:ext cx="10476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73" name=""/>
                    <p:cNvGrpSpPr/>
                    <p:nvPr/>
                  </p:nvGrpSpPr>
                  <p:grpSpPr>
                    <a:xfrm>
                      <a:off x="4305240" y="4775400"/>
                      <a:ext cx="481320" cy="341280"/>
                      <a:chOff x="4305240" y="4775400"/>
                      <a:chExt cx="481320" cy="341280"/>
                    </a:xfrm>
                  </p:grpSpPr>
                  <p:grpSp>
                    <p:nvGrpSpPr>
                      <p:cNvPr id="774" name=""/>
                      <p:cNvGrpSpPr/>
                      <p:nvPr/>
                    </p:nvGrpSpPr>
                    <p:grpSpPr>
                      <a:xfrm>
                        <a:off x="4621320" y="4775400"/>
                        <a:ext cx="165240" cy="259200"/>
                        <a:chOff x="4621320" y="4775400"/>
                        <a:chExt cx="165240" cy="259200"/>
                      </a:xfrm>
                    </p:grpSpPr>
                    <p:sp>
                      <p:nvSpPr>
                        <p:cNvPr id="775" name=""/>
                        <p:cNvSpPr/>
                        <p:nvPr/>
                      </p:nvSpPr>
                      <p:spPr>
                        <a:xfrm flipH="1" rot="55200">
                          <a:off x="4622760" y="47764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6" name=""/>
                        <p:cNvSpPr/>
                        <p:nvPr/>
                      </p:nvSpPr>
                      <p:spPr>
                        <a:xfrm flipH="1" rot="55200">
                          <a:off x="4629240" y="478008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77" name=""/>
                      <p:cNvGrpSpPr/>
                      <p:nvPr/>
                    </p:nvGrpSpPr>
                    <p:grpSpPr>
                      <a:xfrm>
                        <a:off x="4500360" y="4801320"/>
                        <a:ext cx="188280" cy="272520"/>
                        <a:chOff x="4500360" y="4801320"/>
                        <a:chExt cx="188280" cy="272520"/>
                      </a:xfrm>
                    </p:grpSpPr>
                    <p:sp>
                      <p:nvSpPr>
                        <p:cNvPr id="778" name=""/>
                        <p:cNvSpPr/>
                        <p:nvPr/>
                      </p:nvSpPr>
                      <p:spPr>
                        <a:xfrm flipH="1" rot="21204600">
                          <a:off x="4513320" y="4809600"/>
                          <a:ext cx="161640" cy="23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9" name=""/>
                        <p:cNvSpPr/>
                        <p:nvPr/>
                      </p:nvSpPr>
                      <p:spPr>
                        <a:xfrm flipH="1" rot="21204600">
                          <a:off x="4521240" y="481536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80" name=""/>
                      <p:cNvGrpSpPr/>
                      <p:nvPr/>
                    </p:nvGrpSpPr>
                    <p:grpSpPr>
                      <a:xfrm>
                        <a:off x="4305240" y="4818600"/>
                        <a:ext cx="248040" cy="298080"/>
                        <a:chOff x="4305240" y="4818600"/>
                        <a:chExt cx="248040" cy="298080"/>
                      </a:xfrm>
                    </p:grpSpPr>
                    <p:sp>
                      <p:nvSpPr>
                        <p:cNvPr id="781" name=""/>
                        <p:cNvSpPr/>
                        <p:nvPr/>
                      </p:nvSpPr>
                      <p:spPr>
                        <a:xfrm flipH="1" rot="20098200">
                          <a:off x="4348080" y="48412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2" name=""/>
                        <p:cNvSpPr/>
                        <p:nvPr/>
                      </p:nvSpPr>
                      <p:spPr>
                        <a:xfrm flipH="1" rot="20098200">
                          <a:off x="4361040" y="485280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783" name=""/>
                <p:cNvGrpSpPr/>
                <p:nvPr/>
              </p:nvGrpSpPr>
              <p:grpSpPr>
                <a:xfrm>
                  <a:off x="5557680" y="4520880"/>
                  <a:ext cx="682200" cy="222480"/>
                  <a:chOff x="5557680" y="4520880"/>
                  <a:chExt cx="682200" cy="22248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>
                    <a:off x="5557680" y="4520880"/>
                    <a:ext cx="32220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5906880" y="4522680"/>
                    <a:ext cx="33300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4657320" y="4254480"/>
                  <a:ext cx="165240" cy="82440"/>
                  <a:chOff x="4657320" y="4254480"/>
                  <a:chExt cx="165240" cy="8244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>
                    <a:off x="4657320" y="42544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4741920" y="42548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9" name=""/>
                <p:cNvGrpSpPr/>
                <p:nvPr/>
              </p:nvGrpSpPr>
              <p:grpSpPr>
                <a:xfrm>
                  <a:off x="6202080" y="4038480"/>
                  <a:ext cx="165240" cy="82440"/>
                  <a:chOff x="6202080" y="4038480"/>
                  <a:chExt cx="165240" cy="8244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>
                    <a:off x="6202080" y="40384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6286680" y="40388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"/>
                <p:cNvGrpSpPr/>
                <p:nvPr/>
              </p:nvGrpSpPr>
              <p:grpSpPr>
                <a:xfrm>
                  <a:off x="7203960" y="4228920"/>
                  <a:ext cx="163440" cy="82440"/>
                  <a:chOff x="7203960" y="4228920"/>
                  <a:chExt cx="163440" cy="8244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>
                    <a:off x="7203960" y="422892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7287480" y="422928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5" name=""/>
                <p:cNvGrpSpPr/>
                <p:nvPr/>
              </p:nvGrpSpPr>
              <p:grpSpPr>
                <a:xfrm>
                  <a:off x="8318160" y="3771720"/>
                  <a:ext cx="165240" cy="82440"/>
                  <a:chOff x="8318160" y="3771720"/>
                  <a:chExt cx="165240" cy="8244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>
                    <a:off x="8318160" y="37717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8402760" y="37720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8" name=""/>
                <p:cNvGrpSpPr/>
                <p:nvPr/>
              </p:nvGrpSpPr>
              <p:grpSpPr>
                <a:xfrm>
                  <a:off x="8089560" y="3822480"/>
                  <a:ext cx="165240" cy="82440"/>
                  <a:chOff x="8089560" y="3822480"/>
                  <a:chExt cx="165240" cy="8244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>
                    <a:off x="8089560" y="38224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8174160" y="38228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1" name=""/>
                <p:cNvGrpSpPr/>
                <p:nvPr/>
              </p:nvGrpSpPr>
              <p:grpSpPr>
                <a:xfrm>
                  <a:off x="7924680" y="3848040"/>
                  <a:ext cx="164520" cy="82440"/>
                  <a:chOff x="7924680" y="3848040"/>
                  <a:chExt cx="164520" cy="82440"/>
                </a:xfrm>
              </p:grpSpPr>
              <p:sp>
                <p:nvSpPr>
                  <p:cNvPr id="802" name=""/>
                  <p:cNvSpPr/>
                  <p:nvPr/>
                </p:nvSpPr>
                <p:spPr>
                  <a:xfrm>
                    <a:off x="7924680" y="384804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8008920" y="384840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7924680" y="3746520"/>
                  <a:ext cx="164520" cy="82440"/>
                  <a:chOff x="7924680" y="3746520"/>
                  <a:chExt cx="164520" cy="8244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>
                    <a:off x="7924680" y="374652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8008920" y="37468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" name=""/>
                <p:cNvGrpSpPr/>
                <p:nvPr/>
              </p:nvGrpSpPr>
              <p:grpSpPr>
                <a:xfrm>
                  <a:off x="8000640" y="3682800"/>
                  <a:ext cx="165240" cy="82440"/>
                  <a:chOff x="8000640" y="3682800"/>
                  <a:chExt cx="165240" cy="82440"/>
                </a:xfrm>
              </p:grpSpPr>
              <p:sp>
                <p:nvSpPr>
                  <p:cNvPr id="808" name=""/>
                  <p:cNvSpPr/>
                  <p:nvPr/>
                </p:nvSpPr>
                <p:spPr>
                  <a:xfrm>
                    <a:off x="8000640" y="36828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8085240" y="36831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8064360" y="3657600"/>
                  <a:ext cx="164520" cy="82440"/>
                  <a:chOff x="8064360" y="3657600"/>
                  <a:chExt cx="164520" cy="8244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8064360" y="36576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8148600" y="36579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3" name=""/>
                <p:cNvGrpSpPr/>
                <p:nvPr/>
              </p:nvGrpSpPr>
              <p:grpSpPr>
                <a:xfrm>
                  <a:off x="8140320" y="3619440"/>
                  <a:ext cx="165240" cy="82440"/>
                  <a:chOff x="8140320" y="3619440"/>
                  <a:chExt cx="165240" cy="8244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>
                    <a:off x="8140320" y="36194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8224920" y="36198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6" name=""/>
                <p:cNvGrpSpPr/>
                <p:nvPr/>
              </p:nvGrpSpPr>
              <p:grpSpPr>
                <a:xfrm>
                  <a:off x="8343720" y="3543120"/>
                  <a:ext cx="163440" cy="82440"/>
                  <a:chOff x="8343720" y="3543120"/>
                  <a:chExt cx="163440" cy="8244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>
                    <a:off x="8343720" y="354312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8427240" y="354348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7341840" y="3682800"/>
                  <a:ext cx="165240" cy="82440"/>
                  <a:chOff x="7341840" y="3682800"/>
                  <a:chExt cx="165240" cy="8244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>
                    <a:off x="7341840" y="36828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7426440" y="36831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2" name=""/>
                <p:cNvGrpSpPr/>
                <p:nvPr/>
              </p:nvGrpSpPr>
              <p:grpSpPr>
                <a:xfrm>
                  <a:off x="8659440" y="3543120"/>
                  <a:ext cx="165240" cy="82440"/>
                  <a:chOff x="8659440" y="3543120"/>
                  <a:chExt cx="165240" cy="82440"/>
                </a:xfrm>
              </p:grpSpPr>
              <p:sp>
                <p:nvSpPr>
                  <p:cNvPr id="823" name=""/>
                  <p:cNvSpPr/>
                  <p:nvPr/>
                </p:nvSpPr>
                <p:spPr>
                  <a:xfrm>
                    <a:off x="8659440" y="35431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8744040" y="35434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5" name=""/>
                <p:cNvGrpSpPr/>
                <p:nvPr/>
              </p:nvGrpSpPr>
              <p:grpSpPr>
                <a:xfrm>
                  <a:off x="8127720" y="4305240"/>
                  <a:ext cx="165240" cy="82440"/>
                  <a:chOff x="8127720" y="4305240"/>
                  <a:chExt cx="165240" cy="8244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>
                    <a:off x="8127720" y="43052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8212320" y="43056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8" name=""/>
                <p:cNvGrpSpPr/>
                <p:nvPr/>
              </p:nvGrpSpPr>
              <p:grpSpPr>
                <a:xfrm>
                  <a:off x="8445240" y="4305240"/>
                  <a:ext cx="163440" cy="82440"/>
                  <a:chOff x="8445240" y="4305240"/>
                  <a:chExt cx="163440" cy="8244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>
                    <a:off x="8445240" y="430524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8528760" y="430560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" name=""/>
                <p:cNvGrpSpPr/>
                <p:nvPr/>
              </p:nvGrpSpPr>
              <p:grpSpPr>
                <a:xfrm>
                  <a:off x="5721120" y="3873240"/>
                  <a:ext cx="165240" cy="82800"/>
                  <a:chOff x="5721120" y="3873240"/>
                  <a:chExt cx="165240" cy="8280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>
                    <a:off x="5721120" y="387324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805720" y="38736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4" name=""/>
                <p:cNvGrpSpPr/>
                <p:nvPr/>
              </p:nvGrpSpPr>
              <p:grpSpPr>
                <a:xfrm>
                  <a:off x="5493960" y="3924000"/>
                  <a:ext cx="163800" cy="82800"/>
                  <a:chOff x="5493960" y="3924000"/>
                  <a:chExt cx="163800" cy="82800"/>
                </a:xfrm>
              </p:grpSpPr>
              <p:sp>
                <p:nvSpPr>
                  <p:cNvPr id="835" name=""/>
                  <p:cNvSpPr/>
                  <p:nvPr/>
                </p:nvSpPr>
                <p:spPr>
                  <a:xfrm>
                    <a:off x="5493960" y="3924000"/>
                    <a:ext cx="7740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5577840" y="392436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7" name=""/>
                <p:cNvGrpSpPr/>
                <p:nvPr/>
              </p:nvGrpSpPr>
              <p:grpSpPr>
                <a:xfrm>
                  <a:off x="5329080" y="3949560"/>
                  <a:ext cx="164520" cy="82440"/>
                  <a:chOff x="5329080" y="3949560"/>
                  <a:chExt cx="164520" cy="8244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5329080" y="394956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5413320" y="39499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0" name=""/>
                <p:cNvGrpSpPr/>
                <p:nvPr/>
              </p:nvGrpSpPr>
              <p:grpSpPr>
                <a:xfrm>
                  <a:off x="5329080" y="3848040"/>
                  <a:ext cx="164520" cy="82440"/>
                  <a:chOff x="5329080" y="3848040"/>
                  <a:chExt cx="164520" cy="82440"/>
                </a:xfrm>
              </p:grpSpPr>
              <p:sp>
                <p:nvSpPr>
                  <p:cNvPr id="841" name=""/>
                  <p:cNvSpPr/>
                  <p:nvPr/>
                </p:nvSpPr>
                <p:spPr>
                  <a:xfrm>
                    <a:off x="5329080" y="384804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5413320" y="384840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3" name=""/>
                <p:cNvGrpSpPr/>
                <p:nvPr/>
              </p:nvGrpSpPr>
              <p:grpSpPr>
                <a:xfrm>
                  <a:off x="5405040" y="3784320"/>
                  <a:ext cx="165240" cy="82800"/>
                  <a:chOff x="5405040" y="3784320"/>
                  <a:chExt cx="165240" cy="8280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5405040" y="378432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5489640" y="37846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6" name=""/>
                <p:cNvGrpSpPr/>
                <p:nvPr/>
              </p:nvGrpSpPr>
              <p:grpSpPr>
                <a:xfrm>
                  <a:off x="5468760" y="3759120"/>
                  <a:ext cx="163440" cy="82440"/>
                  <a:chOff x="5468760" y="3759120"/>
                  <a:chExt cx="163440" cy="82440"/>
                </a:xfrm>
              </p:grpSpPr>
              <p:sp>
                <p:nvSpPr>
                  <p:cNvPr id="847" name=""/>
                  <p:cNvSpPr/>
                  <p:nvPr/>
                </p:nvSpPr>
                <p:spPr>
                  <a:xfrm>
                    <a:off x="5468760" y="375912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5552280" y="375948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9" name=""/>
                <p:cNvGrpSpPr/>
                <p:nvPr/>
              </p:nvGrpSpPr>
              <p:grpSpPr>
                <a:xfrm>
                  <a:off x="5545080" y="3720960"/>
                  <a:ext cx="163440" cy="82440"/>
                  <a:chOff x="5545080" y="3720960"/>
                  <a:chExt cx="163440" cy="8244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>
                    <a:off x="5545080" y="372096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5628600" y="372132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2" name=""/>
                <p:cNvGrpSpPr/>
                <p:nvPr/>
              </p:nvGrpSpPr>
              <p:grpSpPr>
                <a:xfrm>
                  <a:off x="5746680" y="3644640"/>
                  <a:ext cx="164520" cy="82800"/>
                  <a:chOff x="5746680" y="3644640"/>
                  <a:chExt cx="164520" cy="82800"/>
                </a:xfrm>
              </p:grpSpPr>
              <p:sp>
                <p:nvSpPr>
                  <p:cNvPr id="853" name=""/>
                  <p:cNvSpPr/>
                  <p:nvPr/>
                </p:nvSpPr>
                <p:spPr>
                  <a:xfrm>
                    <a:off x="5746680" y="3644640"/>
                    <a:ext cx="77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5830920" y="364500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5" name=""/>
                <p:cNvGrpSpPr/>
                <p:nvPr/>
              </p:nvGrpSpPr>
              <p:grpSpPr>
                <a:xfrm>
                  <a:off x="6835680" y="4825800"/>
                  <a:ext cx="164520" cy="82440"/>
                  <a:chOff x="6835680" y="4825800"/>
                  <a:chExt cx="164520" cy="8244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6835680" y="48258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6919920" y="48261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8" name=""/>
                <p:cNvGrpSpPr/>
                <p:nvPr/>
              </p:nvGrpSpPr>
              <p:grpSpPr>
                <a:xfrm>
                  <a:off x="6608520" y="4876560"/>
                  <a:ext cx="163440" cy="82800"/>
                  <a:chOff x="6608520" y="4876560"/>
                  <a:chExt cx="163440" cy="82800"/>
                </a:xfrm>
              </p:grpSpPr>
              <p:sp>
                <p:nvSpPr>
                  <p:cNvPr id="859" name=""/>
                  <p:cNvSpPr/>
                  <p:nvPr/>
                </p:nvSpPr>
                <p:spPr>
                  <a:xfrm>
                    <a:off x="6608520" y="4876560"/>
                    <a:ext cx="77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6692040" y="487692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1" name=""/>
                <p:cNvGrpSpPr/>
                <p:nvPr/>
              </p:nvGrpSpPr>
              <p:grpSpPr>
                <a:xfrm>
                  <a:off x="6443280" y="4902120"/>
                  <a:ext cx="165240" cy="82440"/>
                  <a:chOff x="6443280" y="4902120"/>
                  <a:chExt cx="165240" cy="82440"/>
                </a:xfrm>
              </p:grpSpPr>
              <p:sp>
                <p:nvSpPr>
                  <p:cNvPr id="862" name=""/>
                  <p:cNvSpPr/>
                  <p:nvPr/>
                </p:nvSpPr>
                <p:spPr>
                  <a:xfrm>
                    <a:off x="6443280" y="49021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6527880" y="49024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4" name=""/>
                <p:cNvGrpSpPr/>
                <p:nvPr/>
              </p:nvGrpSpPr>
              <p:grpSpPr>
                <a:xfrm>
                  <a:off x="6443280" y="4800600"/>
                  <a:ext cx="165240" cy="82440"/>
                  <a:chOff x="6443280" y="4800600"/>
                  <a:chExt cx="165240" cy="8244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>
                    <a:off x="6443280" y="48006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6527880" y="48009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7" name=""/>
                <p:cNvGrpSpPr/>
                <p:nvPr/>
              </p:nvGrpSpPr>
              <p:grpSpPr>
                <a:xfrm>
                  <a:off x="6519600" y="4736880"/>
                  <a:ext cx="165240" cy="82440"/>
                  <a:chOff x="6519600" y="4736880"/>
                  <a:chExt cx="165240" cy="82440"/>
                </a:xfrm>
              </p:grpSpPr>
              <p:sp>
                <p:nvSpPr>
                  <p:cNvPr id="868" name=""/>
                  <p:cNvSpPr/>
                  <p:nvPr/>
                </p:nvSpPr>
                <p:spPr>
                  <a:xfrm>
                    <a:off x="6519600" y="47368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6604200" y="47372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"/>
                <p:cNvGrpSpPr/>
                <p:nvPr/>
              </p:nvGrpSpPr>
              <p:grpSpPr>
                <a:xfrm>
                  <a:off x="6582960" y="4711680"/>
                  <a:ext cx="165240" cy="82440"/>
                  <a:chOff x="6582960" y="4711680"/>
                  <a:chExt cx="165240" cy="82440"/>
                </a:xfrm>
              </p:grpSpPr>
              <p:sp>
                <p:nvSpPr>
                  <p:cNvPr id="871" name=""/>
                  <p:cNvSpPr/>
                  <p:nvPr/>
                </p:nvSpPr>
                <p:spPr>
                  <a:xfrm>
                    <a:off x="6582960" y="47116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6667560" y="47120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3" name=""/>
                <p:cNvGrpSpPr/>
                <p:nvPr/>
              </p:nvGrpSpPr>
              <p:grpSpPr>
                <a:xfrm>
                  <a:off x="6659280" y="4673520"/>
                  <a:ext cx="163440" cy="82440"/>
                  <a:chOff x="6659280" y="4673520"/>
                  <a:chExt cx="163440" cy="8244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>
                    <a:off x="6659280" y="467352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6742800" y="467388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6" name=""/>
                <p:cNvGrpSpPr/>
                <p:nvPr/>
              </p:nvGrpSpPr>
              <p:grpSpPr>
                <a:xfrm>
                  <a:off x="6860880" y="4597200"/>
                  <a:ext cx="165240" cy="82440"/>
                  <a:chOff x="6860880" y="4597200"/>
                  <a:chExt cx="165240" cy="82440"/>
                </a:xfrm>
              </p:grpSpPr>
              <p:sp>
                <p:nvSpPr>
                  <p:cNvPr id="877" name=""/>
                  <p:cNvSpPr/>
                  <p:nvPr/>
                </p:nvSpPr>
                <p:spPr>
                  <a:xfrm>
                    <a:off x="6860880" y="45972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6945480" y="45975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9" name=""/>
                <p:cNvGrpSpPr/>
                <p:nvPr/>
              </p:nvGrpSpPr>
              <p:grpSpPr>
                <a:xfrm>
                  <a:off x="5481360" y="4838400"/>
                  <a:ext cx="163440" cy="82800"/>
                  <a:chOff x="5481360" y="4838400"/>
                  <a:chExt cx="163440" cy="82800"/>
                </a:xfrm>
              </p:grpSpPr>
              <p:sp>
                <p:nvSpPr>
                  <p:cNvPr id="880" name=""/>
                  <p:cNvSpPr/>
                  <p:nvPr/>
                </p:nvSpPr>
                <p:spPr>
                  <a:xfrm>
                    <a:off x="5481360" y="4838400"/>
                    <a:ext cx="77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5564880" y="483876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2" name=""/>
                <p:cNvGrpSpPr/>
                <p:nvPr/>
              </p:nvGrpSpPr>
              <p:grpSpPr>
                <a:xfrm>
                  <a:off x="5252760" y="4889520"/>
                  <a:ext cx="165240" cy="82440"/>
                  <a:chOff x="5252760" y="4889520"/>
                  <a:chExt cx="165240" cy="82440"/>
                </a:xfrm>
              </p:grpSpPr>
              <p:sp>
                <p:nvSpPr>
                  <p:cNvPr id="883" name=""/>
                  <p:cNvSpPr/>
                  <p:nvPr/>
                </p:nvSpPr>
                <p:spPr>
                  <a:xfrm>
                    <a:off x="5252760" y="48895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5337360" y="48898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5" name=""/>
                <p:cNvGrpSpPr/>
                <p:nvPr/>
              </p:nvGrpSpPr>
              <p:grpSpPr>
                <a:xfrm>
                  <a:off x="5087880" y="4914720"/>
                  <a:ext cx="164520" cy="82440"/>
                  <a:chOff x="5087880" y="4914720"/>
                  <a:chExt cx="164520" cy="82440"/>
                </a:xfrm>
              </p:grpSpPr>
              <p:sp>
                <p:nvSpPr>
                  <p:cNvPr id="886" name=""/>
                  <p:cNvSpPr/>
                  <p:nvPr/>
                </p:nvSpPr>
                <p:spPr>
                  <a:xfrm>
                    <a:off x="5087880" y="491472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5172120" y="49150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8" name=""/>
                <p:cNvGrpSpPr/>
                <p:nvPr/>
              </p:nvGrpSpPr>
              <p:grpSpPr>
                <a:xfrm>
                  <a:off x="5087880" y="4813200"/>
                  <a:ext cx="164520" cy="82440"/>
                  <a:chOff x="5087880" y="4813200"/>
                  <a:chExt cx="164520" cy="82440"/>
                </a:xfrm>
              </p:grpSpPr>
              <p:sp>
                <p:nvSpPr>
                  <p:cNvPr id="889" name=""/>
                  <p:cNvSpPr/>
                  <p:nvPr/>
                </p:nvSpPr>
                <p:spPr>
                  <a:xfrm>
                    <a:off x="5087880" y="48132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5172120" y="48135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1" name=""/>
                <p:cNvGrpSpPr/>
                <p:nvPr/>
              </p:nvGrpSpPr>
              <p:grpSpPr>
                <a:xfrm>
                  <a:off x="5163840" y="4749480"/>
                  <a:ext cx="165240" cy="82800"/>
                  <a:chOff x="5163840" y="4749480"/>
                  <a:chExt cx="165240" cy="82800"/>
                </a:xfrm>
              </p:grpSpPr>
              <p:sp>
                <p:nvSpPr>
                  <p:cNvPr id="892" name=""/>
                  <p:cNvSpPr/>
                  <p:nvPr/>
                </p:nvSpPr>
                <p:spPr>
                  <a:xfrm>
                    <a:off x="5163840" y="474948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5248440" y="47498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4" name=""/>
                <p:cNvGrpSpPr/>
                <p:nvPr/>
              </p:nvGrpSpPr>
              <p:grpSpPr>
                <a:xfrm>
                  <a:off x="5227560" y="4724280"/>
                  <a:ext cx="164520" cy="82440"/>
                  <a:chOff x="5227560" y="4724280"/>
                  <a:chExt cx="164520" cy="82440"/>
                </a:xfrm>
              </p:grpSpPr>
              <p:sp>
                <p:nvSpPr>
                  <p:cNvPr id="895" name=""/>
                  <p:cNvSpPr/>
                  <p:nvPr/>
                </p:nvSpPr>
                <p:spPr>
                  <a:xfrm>
                    <a:off x="5227560" y="472428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5311800" y="472464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7" name=""/>
                <p:cNvGrpSpPr/>
                <p:nvPr/>
              </p:nvGrpSpPr>
              <p:grpSpPr>
                <a:xfrm>
                  <a:off x="5303520" y="4686120"/>
                  <a:ext cx="165240" cy="82440"/>
                  <a:chOff x="5303520" y="4686120"/>
                  <a:chExt cx="165240" cy="82440"/>
                </a:xfrm>
              </p:grpSpPr>
              <p:sp>
                <p:nvSpPr>
                  <p:cNvPr id="898" name=""/>
                  <p:cNvSpPr/>
                  <p:nvPr/>
                </p:nvSpPr>
                <p:spPr>
                  <a:xfrm>
                    <a:off x="5303520" y="46861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5388120" y="46864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0" name=""/>
                <p:cNvGrpSpPr/>
                <p:nvPr/>
              </p:nvGrpSpPr>
              <p:grpSpPr>
                <a:xfrm>
                  <a:off x="5506920" y="4609800"/>
                  <a:ext cx="163440" cy="82800"/>
                  <a:chOff x="5506920" y="4609800"/>
                  <a:chExt cx="163440" cy="82800"/>
                </a:xfrm>
              </p:grpSpPr>
              <p:sp>
                <p:nvSpPr>
                  <p:cNvPr id="901" name=""/>
                  <p:cNvSpPr/>
                  <p:nvPr/>
                </p:nvSpPr>
                <p:spPr>
                  <a:xfrm>
                    <a:off x="5506920" y="4609800"/>
                    <a:ext cx="77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5590440" y="461016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3" name=""/>
                <p:cNvGrpSpPr/>
                <p:nvPr/>
              </p:nvGrpSpPr>
              <p:grpSpPr>
                <a:xfrm>
                  <a:off x="4176360" y="3873240"/>
                  <a:ext cx="684000" cy="222480"/>
                  <a:chOff x="4176360" y="3873240"/>
                  <a:chExt cx="684000" cy="222480"/>
                </a:xfrm>
              </p:grpSpPr>
              <p:sp>
                <p:nvSpPr>
                  <p:cNvPr id="904" name=""/>
                  <p:cNvSpPr/>
                  <p:nvPr/>
                </p:nvSpPr>
                <p:spPr>
                  <a:xfrm>
                    <a:off x="4176360" y="3873240"/>
                    <a:ext cx="32328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4526280" y="3875040"/>
                    <a:ext cx="33408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6" name=""/>
                <p:cNvGrpSpPr/>
                <p:nvPr/>
              </p:nvGrpSpPr>
              <p:grpSpPr>
                <a:xfrm>
                  <a:off x="6659280" y="3759120"/>
                  <a:ext cx="163440" cy="82440"/>
                  <a:chOff x="6659280" y="3759120"/>
                  <a:chExt cx="163440" cy="8244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6659280" y="375912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6742800" y="375948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9" name=""/>
                <p:cNvGrpSpPr/>
                <p:nvPr/>
              </p:nvGrpSpPr>
              <p:grpSpPr>
                <a:xfrm>
                  <a:off x="6316560" y="4597200"/>
                  <a:ext cx="164520" cy="82440"/>
                  <a:chOff x="6316560" y="4597200"/>
                  <a:chExt cx="164520" cy="8244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>
                    <a:off x="6316560" y="45972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6400800" y="45975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2" name=""/>
                <p:cNvGrpSpPr/>
                <p:nvPr/>
              </p:nvGrpSpPr>
              <p:grpSpPr>
                <a:xfrm>
                  <a:off x="7089480" y="4457520"/>
                  <a:ext cx="165240" cy="82440"/>
                  <a:chOff x="7089480" y="4457520"/>
                  <a:chExt cx="165240" cy="82440"/>
                </a:xfrm>
              </p:grpSpPr>
              <p:sp>
                <p:nvSpPr>
                  <p:cNvPr id="913" name=""/>
                  <p:cNvSpPr/>
                  <p:nvPr/>
                </p:nvSpPr>
                <p:spPr>
                  <a:xfrm>
                    <a:off x="7089480" y="44575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7174080" y="44578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5" name=""/>
                <p:cNvGrpSpPr/>
                <p:nvPr/>
              </p:nvGrpSpPr>
              <p:grpSpPr>
                <a:xfrm>
                  <a:off x="7748280" y="4381200"/>
                  <a:ext cx="165240" cy="82800"/>
                  <a:chOff x="7748280" y="4381200"/>
                  <a:chExt cx="165240" cy="82800"/>
                </a:xfrm>
              </p:grpSpPr>
              <p:sp>
                <p:nvSpPr>
                  <p:cNvPr id="916" name=""/>
                  <p:cNvSpPr/>
                  <p:nvPr/>
                </p:nvSpPr>
                <p:spPr>
                  <a:xfrm>
                    <a:off x="7748280" y="438120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7832880" y="43815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8" name=""/>
                <p:cNvGrpSpPr/>
                <p:nvPr/>
              </p:nvGrpSpPr>
              <p:grpSpPr>
                <a:xfrm>
                  <a:off x="5256360" y="3632400"/>
                  <a:ext cx="1735920" cy="447120"/>
                  <a:chOff x="5256360" y="3632400"/>
                  <a:chExt cx="1735920" cy="447120"/>
                </a:xfrm>
              </p:grpSpPr>
              <p:grpSp>
                <p:nvGrpSpPr>
                  <p:cNvPr id="919" name=""/>
                  <p:cNvGrpSpPr/>
                  <p:nvPr/>
                </p:nvGrpSpPr>
                <p:grpSpPr>
                  <a:xfrm>
                    <a:off x="5256360" y="3632400"/>
                    <a:ext cx="975600" cy="447120"/>
                    <a:chOff x="5256360" y="3632400"/>
                    <a:chExt cx="975600" cy="447120"/>
                  </a:xfrm>
                </p:grpSpPr>
                <p:grpSp>
                  <p:nvGrpSpPr>
                    <p:cNvPr id="920" name=""/>
                    <p:cNvGrpSpPr/>
                    <p:nvPr/>
                  </p:nvGrpSpPr>
                  <p:grpSpPr>
                    <a:xfrm>
                      <a:off x="5256360" y="3686760"/>
                      <a:ext cx="491040" cy="392760"/>
                      <a:chOff x="5256360" y="3686760"/>
                      <a:chExt cx="491040" cy="392760"/>
                    </a:xfrm>
                  </p:grpSpPr>
                  <p:grpSp>
                    <p:nvGrpSpPr>
                      <p:cNvPr id="921" name=""/>
                      <p:cNvGrpSpPr/>
                      <p:nvPr/>
                    </p:nvGrpSpPr>
                    <p:grpSpPr>
                      <a:xfrm>
                        <a:off x="5553000" y="3686760"/>
                        <a:ext cx="194400" cy="277200"/>
                        <a:chOff x="5553000" y="3686760"/>
                        <a:chExt cx="194400" cy="277200"/>
                      </a:xfrm>
                    </p:grpSpPr>
                    <p:sp>
                      <p:nvSpPr>
                        <p:cNvPr id="922" name=""/>
                        <p:cNvSpPr/>
                        <p:nvPr/>
                      </p:nvSpPr>
                      <p:spPr>
                        <a:xfrm flipH="1" rot="21099600">
                          <a:off x="5569560" y="3696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3" name=""/>
                        <p:cNvSpPr/>
                        <p:nvPr/>
                      </p:nvSpPr>
                      <p:spPr>
                        <a:xfrm flipH="1" rot="21099600">
                          <a:off x="5579280" y="3703680"/>
                          <a:ext cx="104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24" name=""/>
                      <p:cNvGrpSpPr/>
                      <p:nvPr/>
                    </p:nvGrpSpPr>
                    <p:grpSpPr>
                      <a:xfrm>
                        <a:off x="5437440" y="3730320"/>
                        <a:ext cx="220320" cy="288720"/>
                        <a:chOff x="5437440" y="3730320"/>
                        <a:chExt cx="220320" cy="288720"/>
                      </a:xfrm>
                    </p:grpSpPr>
                    <p:sp>
                      <p:nvSpPr>
                        <p:cNvPr id="925" name=""/>
                        <p:cNvSpPr/>
                        <p:nvPr/>
                      </p:nvSpPr>
                      <p:spPr>
                        <a:xfrm flipH="1" rot="20649000">
                          <a:off x="5466960" y="374760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6" name=""/>
                        <p:cNvSpPr/>
                        <p:nvPr/>
                      </p:nvSpPr>
                      <p:spPr>
                        <a:xfrm flipH="1" rot="20649000">
                          <a:off x="5477760" y="375660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27" name=""/>
                      <p:cNvGrpSpPr/>
                      <p:nvPr/>
                    </p:nvGrpSpPr>
                    <p:grpSpPr>
                      <a:xfrm>
                        <a:off x="5256360" y="3780720"/>
                        <a:ext cx="268200" cy="298800"/>
                        <a:chOff x="5256360" y="3780720"/>
                        <a:chExt cx="268200" cy="298800"/>
                      </a:xfrm>
                    </p:grpSpPr>
                    <p:sp>
                      <p:nvSpPr>
                        <p:cNvPr id="928" name=""/>
                        <p:cNvSpPr/>
                        <p:nvPr/>
                      </p:nvSpPr>
                      <p:spPr>
                        <a:xfrm flipH="1" rot="19542600">
                          <a:off x="5309640" y="3805200"/>
                          <a:ext cx="16092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9" name=""/>
                        <p:cNvSpPr/>
                        <p:nvPr/>
                      </p:nvSpPr>
                      <p:spPr>
                        <a:xfrm flipH="1" rot="19542600">
                          <a:off x="5326200" y="381852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30" name=""/>
                    <p:cNvGrpSpPr/>
                    <p:nvPr/>
                  </p:nvGrpSpPr>
                  <p:grpSpPr>
                    <a:xfrm>
                      <a:off x="5752080" y="3632400"/>
                      <a:ext cx="479880" cy="341280"/>
                      <a:chOff x="5752080" y="3632400"/>
                      <a:chExt cx="479880" cy="341280"/>
                    </a:xfrm>
                  </p:grpSpPr>
                  <p:grpSp>
                    <p:nvGrpSpPr>
                      <p:cNvPr id="931" name=""/>
                      <p:cNvGrpSpPr/>
                      <p:nvPr/>
                    </p:nvGrpSpPr>
                    <p:grpSpPr>
                      <a:xfrm>
                        <a:off x="5752080" y="3632400"/>
                        <a:ext cx="165240" cy="258480"/>
                        <a:chOff x="5752080" y="3632400"/>
                        <a:chExt cx="165240" cy="258480"/>
                      </a:xfrm>
                    </p:grpSpPr>
                    <p:sp>
                      <p:nvSpPr>
                        <p:cNvPr id="932" name=""/>
                        <p:cNvSpPr/>
                        <p:nvPr/>
                      </p:nvSpPr>
                      <p:spPr>
                        <a:xfrm rot="21544800">
                          <a:off x="5753880" y="363348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3" name=""/>
                        <p:cNvSpPr/>
                        <p:nvPr/>
                      </p:nvSpPr>
                      <p:spPr>
                        <a:xfrm rot="21544800">
                          <a:off x="5803560" y="363636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34" name=""/>
                      <p:cNvGrpSpPr/>
                      <p:nvPr/>
                    </p:nvGrpSpPr>
                    <p:grpSpPr>
                      <a:xfrm>
                        <a:off x="5850000" y="3657960"/>
                        <a:ext cx="187200" cy="272880"/>
                        <a:chOff x="5850000" y="3657960"/>
                        <a:chExt cx="187200" cy="272880"/>
                      </a:xfrm>
                    </p:grpSpPr>
                    <p:sp>
                      <p:nvSpPr>
                        <p:cNvPr id="935" name=""/>
                        <p:cNvSpPr/>
                        <p:nvPr/>
                      </p:nvSpPr>
                      <p:spPr>
                        <a:xfrm rot="395400">
                          <a:off x="5862960" y="366624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6" name=""/>
                        <p:cNvSpPr/>
                        <p:nvPr/>
                      </p:nvSpPr>
                      <p:spPr>
                        <a:xfrm rot="395400">
                          <a:off x="5911200" y="367236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37" name=""/>
                      <p:cNvGrpSpPr/>
                      <p:nvPr/>
                    </p:nvGrpSpPr>
                    <p:grpSpPr>
                      <a:xfrm>
                        <a:off x="5984280" y="3675600"/>
                        <a:ext cx="247680" cy="298080"/>
                        <a:chOff x="5984280" y="3675600"/>
                        <a:chExt cx="247680" cy="298080"/>
                      </a:xfrm>
                    </p:grpSpPr>
                    <p:sp>
                      <p:nvSpPr>
                        <p:cNvPr id="938" name=""/>
                        <p:cNvSpPr/>
                        <p:nvPr/>
                      </p:nvSpPr>
                      <p:spPr>
                        <a:xfrm rot="1501800">
                          <a:off x="6027480" y="369828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9" name=""/>
                        <p:cNvSpPr/>
                        <p:nvPr/>
                      </p:nvSpPr>
                      <p:spPr>
                        <a:xfrm rot="1501800">
                          <a:off x="6070680" y="370980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940" name=""/>
                  <p:cNvGrpSpPr/>
                  <p:nvPr/>
                </p:nvGrpSpPr>
                <p:grpSpPr>
                  <a:xfrm>
                    <a:off x="6016680" y="3632400"/>
                    <a:ext cx="975600" cy="446760"/>
                    <a:chOff x="6016680" y="3632400"/>
                    <a:chExt cx="975600" cy="446760"/>
                  </a:xfrm>
                </p:grpSpPr>
                <p:grpSp>
                  <p:nvGrpSpPr>
                    <p:cNvPr id="941" name=""/>
                    <p:cNvGrpSpPr/>
                    <p:nvPr/>
                  </p:nvGrpSpPr>
                  <p:grpSpPr>
                    <a:xfrm>
                      <a:off x="6501240" y="3686760"/>
                      <a:ext cx="491040" cy="392400"/>
                      <a:chOff x="6501240" y="3686760"/>
                      <a:chExt cx="491040" cy="392400"/>
                    </a:xfrm>
                  </p:grpSpPr>
                  <p:grpSp>
                    <p:nvGrpSpPr>
                      <p:cNvPr id="942" name=""/>
                      <p:cNvGrpSpPr/>
                      <p:nvPr/>
                    </p:nvGrpSpPr>
                    <p:grpSpPr>
                      <a:xfrm>
                        <a:off x="6501240" y="3686760"/>
                        <a:ext cx="194400" cy="276840"/>
                        <a:chOff x="6501240" y="3686760"/>
                        <a:chExt cx="194400" cy="276840"/>
                      </a:xfrm>
                    </p:grpSpPr>
                    <p:sp>
                      <p:nvSpPr>
                        <p:cNvPr id="943" name=""/>
                        <p:cNvSpPr/>
                        <p:nvPr/>
                      </p:nvSpPr>
                      <p:spPr>
                        <a:xfrm rot="500400">
                          <a:off x="6517800" y="3696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4" name=""/>
                        <p:cNvSpPr/>
                        <p:nvPr/>
                      </p:nvSpPr>
                      <p:spPr>
                        <a:xfrm rot="500400">
                          <a:off x="6564960" y="3703680"/>
                          <a:ext cx="104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45" name=""/>
                      <p:cNvGrpSpPr/>
                      <p:nvPr/>
                    </p:nvGrpSpPr>
                    <p:grpSpPr>
                      <a:xfrm>
                        <a:off x="6590880" y="3730320"/>
                        <a:ext cx="220320" cy="288720"/>
                        <a:chOff x="6590880" y="3730320"/>
                        <a:chExt cx="220320" cy="288720"/>
                      </a:xfrm>
                    </p:grpSpPr>
                    <p:sp>
                      <p:nvSpPr>
                        <p:cNvPr id="946" name=""/>
                        <p:cNvSpPr/>
                        <p:nvPr/>
                      </p:nvSpPr>
                      <p:spPr>
                        <a:xfrm rot="951000">
                          <a:off x="6620400" y="374760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7" name=""/>
                        <p:cNvSpPr/>
                        <p:nvPr/>
                      </p:nvSpPr>
                      <p:spPr>
                        <a:xfrm rot="951000">
                          <a:off x="6666480" y="375660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48" name=""/>
                      <p:cNvGrpSpPr/>
                      <p:nvPr/>
                    </p:nvGrpSpPr>
                    <p:grpSpPr>
                      <a:xfrm>
                        <a:off x="6724080" y="3780720"/>
                        <a:ext cx="268200" cy="298440"/>
                        <a:chOff x="6724080" y="3780720"/>
                        <a:chExt cx="268200" cy="298440"/>
                      </a:xfrm>
                    </p:grpSpPr>
                    <p:sp>
                      <p:nvSpPr>
                        <p:cNvPr id="949" name=""/>
                        <p:cNvSpPr/>
                        <p:nvPr/>
                      </p:nvSpPr>
                      <p:spPr>
                        <a:xfrm rot="2057400">
                          <a:off x="6777720" y="3805200"/>
                          <a:ext cx="16092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0" name=""/>
                        <p:cNvSpPr/>
                        <p:nvPr/>
                      </p:nvSpPr>
                      <p:spPr>
                        <a:xfrm rot="2057400">
                          <a:off x="6817320" y="381852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51" name=""/>
                    <p:cNvGrpSpPr/>
                    <p:nvPr/>
                  </p:nvGrpSpPr>
                  <p:grpSpPr>
                    <a:xfrm>
                      <a:off x="6016680" y="3632400"/>
                      <a:ext cx="479880" cy="341280"/>
                      <a:chOff x="6016680" y="3632400"/>
                      <a:chExt cx="479880" cy="341280"/>
                    </a:xfrm>
                  </p:grpSpPr>
                  <p:grpSp>
                    <p:nvGrpSpPr>
                      <p:cNvPr id="952" name=""/>
                      <p:cNvGrpSpPr/>
                      <p:nvPr/>
                    </p:nvGrpSpPr>
                    <p:grpSpPr>
                      <a:xfrm>
                        <a:off x="6331680" y="3632400"/>
                        <a:ext cx="164880" cy="258480"/>
                        <a:chOff x="6331680" y="3632400"/>
                        <a:chExt cx="164880" cy="258480"/>
                      </a:xfrm>
                    </p:grpSpPr>
                    <p:sp>
                      <p:nvSpPr>
                        <p:cNvPr id="953" name=""/>
                        <p:cNvSpPr/>
                        <p:nvPr/>
                      </p:nvSpPr>
                      <p:spPr>
                        <a:xfrm flipH="1" rot="55200">
                          <a:off x="6333480" y="363348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4" name=""/>
                        <p:cNvSpPr/>
                        <p:nvPr/>
                      </p:nvSpPr>
                      <p:spPr>
                        <a:xfrm flipH="1" rot="55200">
                          <a:off x="6340320" y="363636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55" name=""/>
                      <p:cNvGrpSpPr/>
                      <p:nvPr/>
                    </p:nvGrpSpPr>
                    <p:grpSpPr>
                      <a:xfrm>
                        <a:off x="6211440" y="3657960"/>
                        <a:ext cx="187200" cy="272880"/>
                        <a:chOff x="6211440" y="3657960"/>
                        <a:chExt cx="187200" cy="272880"/>
                      </a:xfrm>
                    </p:grpSpPr>
                    <p:sp>
                      <p:nvSpPr>
                        <p:cNvPr id="956" name=""/>
                        <p:cNvSpPr/>
                        <p:nvPr/>
                      </p:nvSpPr>
                      <p:spPr>
                        <a:xfrm flipH="1" rot="21204600">
                          <a:off x="6224400" y="366624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7" name=""/>
                        <p:cNvSpPr/>
                        <p:nvPr/>
                      </p:nvSpPr>
                      <p:spPr>
                        <a:xfrm flipH="1" rot="21204600">
                          <a:off x="6233040" y="367236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58" name=""/>
                      <p:cNvGrpSpPr/>
                      <p:nvPr/>
                    </p:nvGrpSpPr>
                    <p:grpSpPr>
                      <a:xfrm>
                        <a:off x="6016680" y="3675600"/>
                        <a:ext cx="247680" cy="298080"/>
                        <a:chOff x="6016680" y="3675600"/>
                        <a:chExt cx="247680" cy="298080"/>
                      </a:xfrm>
                    </p:grpSpPr>
                    <p:sp>
                      <p:nvSpPr>
                        <p:cNvPr id="959" name=""/>
                        <p:cNvSpPr/>
                        <p:nvPr/>
                      </p:nvSpPr>
                      <p:spPr>
                        <a:xfrm flipH="1" rot="20098200">
                          <a:off x="6059520" y="369828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0" name=""/>
                        <p:cNvSpPr/>
                        <p:nvPr/>
                      </p:nvSpPr>
                      <p:spPr>
                        <a:xfrm flipH="1" rot="20098200">
                          <a:off x="6072840" y="370980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961" name=""/>
                <p:cNvGrpSpPr/>
                <p:nvPr/>
              </p:nvGrpSpPr>
              <p:grpSpPr>
                <a:xfrm>
                  <a:off x="4430520" y="4711680"/>
                  <a:ext cx="682200" cy="222120"/>
                  <a:chOff x="4430520" y="4711680"/>
                  <a:chExt cx="682200" cy="22212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>
                    <a:off x="4430520" y="4711680"/>
                    <a:ext cx="32220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779720" y="4713120"/>
                    <a:ext cx="333000" cy="1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4" name=""/>
                <p:cNvGrpSpPr/>
                <p:nvPr/>
              </p:nvGrpSpPr>
              <p:grpSpPr>
                <a:xfrm>
                  <a:off x="8659440" y="4470120"/>
                  <a:ext cx="165240" cy="82800"/>
                  <a:chOff x="8659440" y="4470120"/>
                  <a:chExt cx="165240" cy="8280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>
                    <a:off x="8659440" y="447012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8744040" y="44704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7" name=""/>
                <p:cNvGrpSpPr/>
                <p:nvPr/>
              </p:nvGrpSpPr>
              <p:grpSpPr>
                <a:xfrm>
                  <a:off x="8432640" y="4520880"/>
                  <a:ext cx="163440" cy="82800"/>
                  <a:chOff x="8432640" y="4520880"/>
                  <a:chExt cx="163440" cy="82800"/>
                </a:xfrm>
              </p:grpSpPr>
              <p:sp>
                <p:nvSpPr>
                  <p:cNvPr id="968" name=""/>
                  <p:cNvSpPr/>
                  <p:nvPr/>
                </p:nvSpPr>
                <p:spPr>
                  <a:xfrm>
                    <a:off x="8432640" y="4520880"/>
                    <a:ext cx="77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8516160" y="452124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8267400" y="4546440"/>
                  <a:ext cx="165240" cy="82440"/>
                  <a:chOff x="8267400" y="4546440"/>
                  <a:chExt cx="165240" cy="8244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>
                    <a:off x="8267400" y="45464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8352000" y="45468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8267400" y="4444920"/>
                  <a:ext cx="165240" cy="82440"/>
                  <a:chOff x="8267400" y="4444920"/>
                  <a:chExt cx="165240" cy="8244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>
                    <a:off x="8267400" y="44449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8352000" y="44452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6" name=""/>
                <p:cNvGrpSpPr/>
                <p:nvPr/>
              </p:nvGrpSpPr>
              <p:grpSpPr>
                <a:xfrm>
                  <a:off x="8343720" y="4381200"/>
                  <a:ext cx="163440" cy="82800"/>
                  <a:chOff x="8343720" y="4381200"/>
                  <a:chExt cx="163440" cy="82800"/>
                </a:xfrm>
              </p:grpSpPr>
              <p:sp>
                <p:nvSpPr>
                  <p:cNvPr id="977" name=""/>
                  <p:cNvSpPr/>
                  <p:nvPr/>
                </p:nvSpPr>
                <p:spPr>
                  <a:xfrm>
                    <a:off x="8343720" y="4381200"/>
                    <a:ext cx="77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8427240" y="438156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8407080" y="4356000"/>
                  <a:ext cx="163440" cy="82440"/>
                  <a:chOff x="8407080" y="4356000"/>
                  <a:chExt cx="163440" cy="8244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8407080" y="435600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8490600" y="435636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8483400" y="4317840"/>
                  <a:ext cx="163440" cy="82440"/>
                  <a:chOff x="8483400" y="4317840"/>
                  <a:chExt cx="163440" cy="8244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>
                    <a:off x="8483400" y="431784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8566920" y="431820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5" name=""/>
                <p:cNvGrpSpPr/>
                <p:nvPr/>
              </p:nvGrpSpPr>
              <p:grpSpPr>
                <a:xfrm>
                  <a:off x="8685000" y="4241520"/>
                  <a:ext cx="165240" cy="82800"/>
                  <a:chOff x="8685000" y="4241520"/>
                  <a:chExt cx="165240" cy="82800"/>
                </a:xfrm>
              </p:grpSpPr>
              <p:sp>
                <p:nvSpPr>
                  <p:cNvPr id="986" name=""/>
                  <p:cNvSpPr/>
                  <p:nvPr/>
                </p:nvSpPr>
                <p:spPr>
                  <a:xfrm>
                    <a:off x="8685000" y="424152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8769600" y="42418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8" name=""/>
                <p:cNvGrpSpPr/>
                <p:nvPr/>
              </p:nvGrpSpPr>
              <p:grpSpPr>
                <a:xfrm>
                  <a:off x="4873320" y="4101840"/>
                  <a:ext cx="165240" cy="82800"/>
                  <a:chOff x="4873320" y="4101840"/>
                  <a:chExt cx="165240" cy="8280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>
                    <a:off x="4873320" y="410184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4957920" y="41022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4644720" y="4152600"/>
                  <a:ext cx="165240" cy="82800"/>
                  <a:chOff x="4644720" y="4152600"/>
                  <a:chExt cx="165240" cy="8280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>
                    <a:off x="4644720" y="415260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4729320" y="41529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4619520" y="3987720"/>
                  <a:ext cx="164520" cy="82440"/>
                  <a:chOff x="4619520" y="3987720"/>
                  <a:chExt cx="164520" cy="8244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4619520" y="398772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4703760" y="39880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7" name=""/>
                <p:cNvGrpSpPr/>
                <p:nvPr/>
              </p:nvGrpSpPr>
              <p:grpSpPr>
                <a:xfrm>
                  <a:off x="4695480" y="3949560"/>
                  <a:ext cx="165240" cy="82440"/>
                  <a:chOff x="4695480" y="3949560"/>
                  <a:chExt cx="165240" cy="82440"/>
                </a:xfrm>
              </p:grpSpPr>
              <p:sp>
                <p:nvSpPr>
                  <p:cNvPr id="998" name=""/>
                  <p:cNvSpPr/>
                  <p:nvPr/>
                </p:nvSpPr>
                <p:spPr>
                  <a:xfrm>
                    <a:off x="4695480" y="39495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4780080" y="39499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0" name=""/>
                <p:cNvGrpSpPr/>
                <p:nvPr/>
              </p:nvGrpSpPr>
              <p:grpSpPr>
                <a:xfrm>
                  <a:off x="4898880" y="3873240"/>
                  <a:ext cx="163440" cy="82800"/>
                  <a:chOff x="4898880" y="3873240"/>
                  <a:chExt cx="163440" cy="82800"/>
                </a:xfrm>
              </p:grpSpPr>
              <p:sp>
                <p:nvSpPr>
                  <p:cNvPr id="1001" name=""/>
                  <p:cNvSpPr/>
                  <p:nvPr/>
                </p:nvSpPr>
                <p:spPr>
                  <a:xfrm>
                    <a:off x="4898880" y="3873240"/>
                    <a:ext cx="77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4982400" y="387360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3" name=""/>
                <p:cNvGrpSpPr/>
                <p:nvPr/>
              </p:nvGrpSpPr>
              <p:grpSpPr>
                <a:xfrm>
                  <a:off x="7130880" y="3530880"/>
                  <a:ext cx="1735920" cy="447120"/>
                  <a:chOff x="7130880" y="3530880"/>
                  <a:chExt cx="1735920" cy="447120"/>
                </a:xfrm>
              </p:grpSpPr>
              <p:grpSp>
                <p:nvGrpSpPr>
                  <p:cNvPr id="1004" name=""/>
                  <p:cNvGrpSpPr/>
                  <p:nvPr/>
                </p:nvGrpSpPr>
                <p:grpSpPr>
                  <a:xfrm>
                    <a:off x="7130880" y="3530880"/>
                    <a:ext cx="975600" cy="447120"/>
                    <a:chOff x="7130880" y="3530880"/>
                    <a:chExt cx="975600" cy="447120"/>
                  </a:xfrm>
                </p:grpSpPr>
                <p:grpSp>
                  <p:nvGrpSpPr>
                    <p:cNvPr id="1005" name=""/>
                    <p:cNvGrpSpPr/>
                    <p:nvPr/>
                  </p:nvGrpSpPr>
                  <p:grpSpPr>
                    <a:xfrm>
                      <a:off x="7130880" y="3585240"/>
                      <a:ext cx="491040" cy="392760"/>
                      <a:chOff x="7130880" y="3585240"/>
                      <a:chExt cx="491040" cy="392760"/>
                    </a:xfrm>
                  </p:grpSpPr>
                  <p:grpSp>
                    <p:nvGrpSpPr>
                      <p:cNvPr id="1006" name=""/>
                      <p:cNvGrpSpPr/>
                      <p:nvPr/>
                    </p:nvGrpSpPr>
                    <p:grpSpPr>
                      <a:xfrm>
                        <a:off x="7427520" y="3585240"/>
                        <a:ext cx="194400" cy="277200"/>
                        <a:chOff x="7427520" y="3585240"/>
                        <a:chExt cx="194400" cy="277200"/>
                      </a:xfrm>
                    </p:grpSpPr>
                    <p:sp>
                      <p:nvSpPr>
                        <p:cNvPr id="1007" name=""/>
                        <p:cNvSpPr/>
                        <p:nvPr/>
                      </p:nvSpPr>
                      <p:spPr>
                        <a:xfrm flipH="1" rot="21099600">
                          <a:off x="7444080" y="359532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8" name=""/>
                        <p:cNvSpPr/>
                        <p:nvPr/>
                      </p:nvSpPr>
                      <p:spPr>
                        <a:xfrm flipH="1" rot="21099600">
                          <a:off x="7453800" y="3602160"/>
                          <a:ext cx="104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09" name=""/>
                      <p:cNvGrpSpPr/>
                      <p:nvPr/>
                    </p:nvGrpSpPr>
                    <p:grpSpPr>
                      <a:xfrm>
                        <a:off x="7311960" y="3628800"/>
                        <a:ext cx="220320" cy="288720"/>
                        <a:chOff x="7311960" y="3628800"/>
                        <a:chExt cx="220320" cy="288720"/>
                      </a:xfrm>
                    </p:grpSpPr>
                    <p:sp>
                      <p:nvSpPr>
                        <p:cNvPr id="1010" name=""/>
                        <p:cNvSpPr/>
                        <p:nvPr/>
                      </p:nvSpPr>
                      <p:spPr>
                        <a:xfrm flipH="1" rot="20649000">
                          <a:off x="7341480" y="364608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1" name=""/>
                        <p:cNvSpPr/>
                        <p:nvPr/>
                      </p:nvSpPr>
                      <p:spPr>
                        <a:xfrm flipH="1" rot="20649000">
                          <a:off x="7352280" y="365508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12" name=""/>
                      <p:cNvGrpSpPr/>
                      <p:nvPr/>
                    </p:nvGrpSpPr>
                    <p:grpSpPr>
                      <a:xfrm>
                        <a:off x="7130880" y="3679200"/>
                        <a:ext cx="268200" cy="298800"/>
                        <a:chOff x="7130880" y="3679200"/>
                        <a:chExt cx="268200" cy="298800"/>
                      </a:xfrm>
                    </p:grpSpPr>
                    <p:sp>
                      <p:nvSpPr>
                        <p:cNvPr id="1013" name=""/>
                        <p:cNvSpPr/>
                        <p:nvPr/>
                      </p:nvSpPr>
                      <p:spPr>
                        <a:xfrm flipH="1" rot="19542600">
                          <a:off x="7184160" y="3703680"/>
                          <a:ext cx="16092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4" name=""/>
                        <p:cNvSpPr/>
                        <p:nvPr/>
                      </p:nvSpPr>
                      <p:spPr>
                        <a:xfrm flipH="1" rot="19542600">
                          <a:off x="7200720" y="371700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15" name=""/>
                    <p:cNvGrpSpPr/>
                    <p:nvPr/>
                  </p:nvGrpSpPr>
                  <p:grpSpPr>
                    <a:xfrm>
                      <a:off x="7626600" y="3530880"/>
                      <a:ext cx="479880" cy="341280"/>
                      <a:chOff x="7626600" y="3530880"/>
                      <a:chExt cx="479880" cy="341280"/>
                    </a:xfrm>
                  </p:grpSpPr>
                  <p:grpSp>
                    <p:nvGrpSpPr>
                      <p:cNvPr id="1016" name=""/>
                      <p:cNvGrpSpPr/>
                      <p:nvPr/>
                    </p:nvGrpSpPr>
                    <p:grpSpPr>
                      <a:xfrm>
                        <a:off x="7626600" y="3530880"/>
                        <a:ext cx="165240" cy="258480"/>
                        <a:chOff x="7626600" y="3530880"/>
                        <a:chExt cx="165240" cy="258480"/>
                      </a:xfrm>
                    </p:grpSpPr>
                    <p:sp>
                      <p:nvSpPr>
                        <p:cNvPr id="1017" name=""/>
                        <p:cNvSpPr/>
                        <p:nvPr/>
                      </p:nvSpPr>
                      <p:spPr>
                        <a:xfrm rot="21544800">
                          <a:off x="7628400" y="353196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8" name=""/>
                        <p:cNvSpPr/>
                        <p:nvPr/>
                      </p:nvSpPr>
                      <p:spPr>
                        <a:xfrm rot="21544800">
                          <a:off x="7678080" y="353484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19" name=""/>
                      <p:cNvGrpSpPr/>
                      <p:nvPr/>
                    </p:nvGrpSpPr>
                    <p:grpSpPr>
                      <a:xfrm>
                        <a:off x="7724520" y="3556440"/>
                        <a:ext cx="187200" cy="272880"/>
                        <a:chOff x="7724520" y="3556440"/>
                        <a:chExt cx="187200" cy="272880"/>
                      </a:xfrm>
                    </p:grpSpPr>
                    <p:sp>
                      <p:nvSpPr>
                        <p:cNvPr id="1020" name=""/>
                        <p:cNvSpPr/>
                        <p:nvPr/>
                      </p:nvSpPr>
                      <p:spPr>
                        <a:xfrm rot="395400">
                          <a:off x="7737480" y="356472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1" name=""/>
                        <p:cNvSpPr/>
                        <p:nvPr/>
                      </p:nvSpPr>
                      <p:spPr>
                        <a:xfrm rot="395400">
                          <a:off x="7785720" y="357084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22" name=""/>
                      <p:cNvGrpSpPr/>
                      <p:nvPr/>
                    </p:nvGrpSpPr>
                    <p:grpSpPr>
                      <a:xfrm>
                        <a:off x="7858800" y="3574080"/>
                        <a:ext cx="247680" cy="298080"/>
                        <a:chOff x="7858800" y="3574080"/>
                        <a:chExt cx="247680" cy="298080"/>
                      </a:xfrm>
                    </p:grpSpPr>
                    <p:sp>
                      <p:nvSpPr>
                        <p:cNvPr id="1023" name=""/>
                        <p:cNvSpPr/>
                        <p:nvPr/>
                      </p:nvSpPr>
                      <p:spPr>
                        <a:xfrm rot="1501800">
                          <a:off x="7902000" y="359676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4" name=""/>
                        <p:cNvSpPr/>
                        <p:nvPr/>
                      </p:nvSpPr>
                      <p:spPr>
                        <a:xfrm rot="1501800">
                          <a:off x="7945200" y="360828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025" name=""/>
                  <p:cNvGrpSpPr/>
                  <p:nvPr/>
                </p:nvGrpSpPr>
                <p:grpSpPr>
                  <a:xfrm>
                    <a:off x="7891200" y="3530880"/>
                    <a:ext cx="975600" cy="446760"/>
                    <a:chOff x="7891200" y="3530880"/>
                    <a:chExt cx="975600" cy="446760"/>
                  </a:xfrm>
                </p:grpSpPr>
                <p:grpSp>
                  <p:nvGrpSpPr>
                    <p:cNvPr id="1026" name=""/>
                    <p:cNvGrpSpPr/>
                    <p:nvPr/>
                  </p:nvGrpSpPr>
                  <p:grpSpPr>
                    <a:xfrm>
                      <a:off x="8375760" y="3585240"/>
                      <a:ext cx="491040" cy="392400"/>
                      <a:chOff x="8375760" y="3585240"/>
                      <a:chExt cx="491040" cy="392400"/>
                    </a:xfrm>
                  </p:grpSpPr>
                  <p:grpSp>
                    <p:nvGrpSpPr>
                      <p:cNvPr id="1027" name=""/>
                      <p:cNvGrpSpPr/>
                      <p:nvPr/>
                    </p:nvGrpSpPr>
                    <p:grpSpPr>
                      <a:xfrm>
                        <a:off x="8375760" y="3585240"/>
                        <a:ext cx="194400" cy="276840"/>
                        <a:chOff x="8375760" y="3585240"/>
                        <a:chExt cx="194400" cy="276840"/>
                      </a:xfrm>
                    </p:grpSpPr>
                    <p:sp>
                      <p:nvSpPr>
                        <p:cNvPr id="1028" name=""/>
                        <p:cNvSpPr/>
                        <p:nvPr/>
                      </p:nvSpPr>
                      <p:spPr>
                        <a:xfrm rot="500400">
                          <a:off x="8392320" y="359532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9" name=""/>
                        <p:cNvSpPr/>
                        <p:nvPr/>
                      </p:nvSpPr>
                      <p:spPr>
                        <a:xfrm rot="500400">
                          <a:off x="8439480" y="3602160"/>
                          <a:ext cx="104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30" name=""/>
                      <p:cNvGrpSpPr/>
                      <p:nvPr/>
                    </p:nvGrpSpPr>
                    <p:grpSpPr>
                      <a:xfrm>
                        <a:off x="8465400" y="3628800"/>
                        <a:ext cx="220320" cy="288720"/>
                        <a:chOff x="8465400" y="3628800"/>
                        <a:chExt cx="220320" cy="288720"/>
                      </a:xfrm>
                    </p:grpSpPr>
                    <p:sp>
                      <p:nvSpPr>
                        <p:cNvPr id="1031" name=""/>
                        <p:cNvSpPr/>
                        <p:nvPr/>
                      </p:nvSpPr>
                      <p:spPr>
                        <a:xfrm rot="951000">
                          <a:off x="8494920" y="364608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2" name=""/>
                        <p:cNvSpPr/>
                        <p:nvPr/>
                      </p:nvSpPr>
                      <p:spPr>
                        <a:xfrm rot="951000">
                          <a:off x="8541000" y="365508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33" name=""/>
                      <p:cNvGrpSpPr/>
                      <p:nvPr/>
                    </p:nvGrpSpPr>
                    <p:grpSpPr>
                      <a:xfrm>
                        <a:off x="8598600" y="3679200"/>
                        <a:ext cx="268200" cy="298440"/>
                        <a:chOff x="8598600" y="3679200"/>
                        <a:chExt cx="268200" cy="298440"/>
                      </a:xfrm>
                    </p:grpSpPr>
                    <p:sp>
                      <p:nvSpPr>
                        <p:cNvPr id="1034" name=""/>
                        <p:cNvSpPr/>
                        <p:nvPr/>
                      </p:nvSpPr>
                      <p:spPr>
                        <a:xfrm rot="2057400">
                          <a:off x="8652240" y="3703680"/>
                          <a:ext cx="16092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5" name=""/>
                        <p:cNvSpPr/>
                        <p:nvPr/>
                      </p:nvSpPr>
                      <p:spPr>
                        <a:xfrm rot="2057400">
                          <a:off x="8691840" y="371700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36" name=""/>
                    <p:cNvGrpSpPr/>
                    <p:nvPr/>
                  </p:nvGrpSpPr>
                  <p:grpSpPr>
                    <a:xfrm>
                      <a:off x="7891200" y="3530880"/>
                      <a:ext cx="479880" cy="341280"/>
                      <a:chOff x="7891200" y="3530880"/>
                      <a:chExt cx="479880" cy="341280"/>
                    </a:xfrm>
                  </p:grpSpPr>
                  <p:grpSp>
                    <p:nvGrpSpPr>
                      <p:cNvPr id="1037" name=""/>
                      <p:cNvGrpSpPr/>
                      <p:nvPr/>
                    </p:nvGrpSpPr>
                    <p:grpSpPr>
                      <a:xfrm>
                        <a:off x="8206200" y="3530880"/>
                        <a:ext cx="164880" cy="258480"/>
                        <a:chOff x="8206200" y="3530880"/>
                        <a:chExt cx="164880" cy="258480"/>
                      </a:xfrm>
                    </p:grpSpPr>
                    <p:sp>
                      <p:nvSpPr>
                        <p:cNvPr id="1038" name=""/>
                        <p:cNvSpPr/>
                        <p:nvPr/>
                      </p:nvSpPr>
                      <p:spPr>
                        <a:xfrm flipH="1" rot="55200">
                          <a:off x="8208000" y="353196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9" name=""/>
                        <p:cNvSpPr/>
                        <p:nvPr/>
                      </p:nvSpPr>
                      <p:spPr>
                        <a:xfrm flipH="1" rot="55200">
                          <a:off x="8214840" y="353484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40" name=""/>
                      <p:cNvGrpSpPr/>
                      <p:nvPr/>
                    </p:nvGrpSpPr>
                    <p:grpSpPr>
                      <a:xfrm>
                        <a:off x="8085960" y="3556440"/>
                        <a:ext cx="187200" cy="272880"/>
                        <a:chOff x="8085960" y="3556440"/>
                        <a:chExt cx="187200" cy="272880"/>
                      </a:xfrm>
                    </p:grpSpPr>
                    <p:sp>
                      <p:nvSpPr>
                        <p:cNvPr id="1041" name=""/>
                        <p:cNvSpPr/>
                        <p:nvPr/>
                      </p:nvSpPr>
                      <p:spPr>
                        <a:xfrm flipH="1" rot="21204600">
                          <a:off x="8098920" y="356472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2" name=""/>
                        <p:cNvSpPr/>
                        <p:nvPr/>
                      </p:nvSpPr>
                      <p:spPr>
                        <a:xfrm flipH="1" rot="21204600">
                          <a:off x="8107560" y="357084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43" name=""/>
                      <p:cNvGrpSpPr/>
                      <p:nvPr/>
                    </p:nvGrpSpPr>
                    <p:grpSpPr>
                      <a:xfrm>
                        <a:off x="7891200" y="3574080"/>
                        <a:ext cx="247680" cy="298080"/>
                        <a:chOff x="7891200" y="3574080"/>
                        <a:chExt cx="247680" cy="298080"/>
                      </a:xfrm>
                    </p:grpSpPr>
                    <p:sp>
                      <p:nvSpPr>
                        <p:cNvPr id="1044" name=""/>
                        <p:cNvSpPr/>
                        <p:nvPr/>
                      </p:nvSpPr>
                      <p:spPr>
                        <a:xfrm flipH="1" rot="20098200">
                          <a:off x="7934040" y="359676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5" name=""/>
                        <p:cNvSpPr/>
                        <p:nvPr/>
                      </p:nvSpPr>
                      <p:spPr>
                        <a:xfrm flipH="1" rot="20098200">
                          <a:off x="7947360" y="360828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046" name=""/>
                <p:cNvGrpSpPr/>
                <p:nvPr/>
              </p:nvGrpSpPr>
              <p:grpSpPr>
                <a:xfrm>
                  <a:off x="6294240" y="4368960"/>
                  <a:ext cx="1736280" cy="447120"/>
                  <a:chOff x="6294240" y="4368960"/>
                  <a:chExt cx="1736280" cy="447120"/>
                </a:xfrm>
              </p:grpSpPr>
              <p:grpSp>
                <p:nvGrpSpPr>
                  <p:cNvPr id="1047" name=""/>
                  <p:cNvGrpSpPr/>
                  <p:nvPr/>
                </p:nvGrpSpPr>
                <p:grpSpPr>
                  <a:xfrm>
                    <a:off x="6294240" y="4368960"/>
                    <a:ext cx="975600" cy="447120"/>
                    <a:chOff x="6294240" y="4368960"/>
                    <a:chExt cx="975600" cy="447120"/>
                  </a:xfrm>
                </p:grpSpPr>
                <p:grpSp>
                  <p:nvGrpSpPr>
                    <p:cNvPr id="1048" name=""/>
                    <p:cNvGrpSpPr/>
                    <p:nvPr/>
                  </p:nvGrpSpPr>
                  <p:grpSpPr>
                    <a:xfrm>
                      <a:off x="6294240" y="4423320"/>
                      <a:ext cx="491040" cy="392760"/>
                      <a:chOff x="6294240" y="4423320"/>
                      <a:chExt cx="491040" cy="392760"/>
                    </a:xfrm>
                  </p:grpSpPr>
                  <p:grpSp>
                    <p:nvGrpSpPr>
                      <p:cNvPr id="1049" name=""/>
                      <p:cNvGrpSpPr/>
                      <p:nvPr/>
                    </p:nvGrpSpPr>
                    <p:grpSpPr>
                      <a:xfrm>
                        <a:off x="6590880" y="4423320"/>
                        <a:ext cx="194400" cy="277200"/>
                        <a:chOff x="6590880" y="4423320"/>
                        <a:chExt cx="194400" cy="277200"/>
                      </a:xfrm>
                    </p:grpSpPr>
                    <p:sp>
                      <p:nvSpPr>
                        <p:cNvPr id="1050" name=""/>
                        <p:cNvSpPr/>
                        <p:nvPr/>
                      </p:nvSpPr>
                      <p:spPr>
                        <a:xfrm flipH="1" rot="21099600">
                          <a:off x="6607440" y="443340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1" name=""/>
                        <p:cNvSpPr/>
                        <p:nvPr/>
                      </p:nvSpPr>
                      <p:spPr>
                        <a:xfrm flipH="1" rot="21099600">
                          <a:off x="6617160" y="4440240"/>
                          <a:ext cx="104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52" name=""/>
                      <p:cNvGrpSpPr/>
                      <p:nvPr/>
                    </p:nvGrpSpPr>
                    <p:grpSpPr>
                      <a:xfrm>
                        <a:off x="6475320" y="4466880"/>
                        <a:ext cx="220320" cy="288720"/>
                        <a:chOff x="6475320" y="4466880"/>
                        <a:chExt cx="220320" cy="288720"/>
                      </a:xfrm>
                    </p:grpSpPr>
                    <p:sp>
                      <p:nvSpPr>
                        <p:cNvPr id="1053" name=""/>
                        <p:cNvSpPr/>
                        <p:nvPr/>
                      </p:nvSpPr>
                      <p:spPr>
                        <a:xfrm flipH="1" rot="20649000">
                          <a:off x="6504840" y="448416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4" name=""/>
                        <p:cNvSpPr/>
                        <p:nvPr/>
                      </p:nvSpPr>
                      <p:spPr>
                        <a:xfrm flipH="1" rot="20649000">
                          <a:off x="6515640" y="449316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55" name=""/>
                      <p:cNvGrpSpPr/>
                      <p:nvPr/>
                    </p:nvGrpSpPr>
                    <p:grpSpPr>
                      <a:xfrm>
                        <a:off x="6294240" y="4517280"/>
                        <a:ext cx="268200" cy="298800"/>
                        <a:chOff x="6294240" y="4517280"/>
                        <a:chExt cx="268200" cy="298800"/>
                      </a:xfrm>
                    </p:grpSpPr>
                    <p:sp>
                      <p:nvSpPr>
                        <p:cNvPr id="1056" name=""/>
                        <p:cNvSpPr/>
                        <p:nvPr/>
                      </p:nvSpPr>
                      <p:spPr>
                        <a:xfrm flipH="1" rot="19542600">
                          <a:off x="6347520" y="4541760"/>
                          <a:ext cx="16092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7" name=""/>
                        <p:cNvSpPr/>
                        <p:nvPr/>
                      </p:nvSpPr>
                      <p:spPr>
                        <a:xfrm flipH="1" rot="19542600">
                          <a:off x="6364080" y="455508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58" name=""/>
                    <p:cNvGrpSpPr/>
                    <p:nvPr/>
                  </p:nvGrpSpPr>
                  <p:grpSpPr>
                    <a:xfrm>
                      <a:off x="6789960" y="4368960"/>
                      <a:ext cx="479880" cy="341280"/>
                      <a:chOff x="6789960" y="4368960"/>
                      <a:chExt cx="479880" cy="341280"/>
                    </a:xfrm>
                  </p:grpSpPr>
                  <p:grpSp>
                    <p:nvGrpSpPr>
                      <p:cNvPr id="1059" name=""/>
                      <p:cNvGrpSpPr/>
                      <p:nvPr/>
                    </p:nvGrpSpPr>
                    <p:grpSpPr>
                      <a:xfrm>
                        <a:off x="6789960" y="4368960"/>
                        <a:ext cx="165240" cy="258480"/>
                        <a:chOff x="6789960" y="4368960"/>
                        <a:chExt cx="165240" cy="258480"/>
                      </a:xfrm>
                    </p:grpSpPr>
                    <p:sp>
                      <p:nvSpPr>
                        <p:cNvPr id="1060" name=""/>
                        <p:cNvSpPr/>
                        <p:nvPr/>
                      </p:nvSpPr>
                      <p:spPr>
                        <a:xfrm rot="21544800">
                          <a:off x="6791760" y="43700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1" name=""/>
                        <p:cNvSpPr/>
                        <p:nvPr/>
                      </p:nvSpPr>
                      <p:spPr>
                        <a:xfrm rot="21544800">
                          <a:off x="6841440" y="437292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62" name=""/>
                      <p:cNvGrpSpPr/>
                      <p:nvPr/>
                    </p:nvGrpSpPr>
                    <p:grpSpPr>
                      <a:xfrm>
                        <a:off x="6887880" y="4394520"/>
                        <a:ext cx="187200" cy="272880"/>
                        <a:chOff x="6887880" y="4394520"/>
                        <a:chExt cx="187200" cy="272880"/>
                      </a:xfrm>
                    </p:grpSpPr>
                    <p:sp>
                      <p:nvSpPr>
                        <p:cNvPr id="1063" name=""/>
                        <p:cNvSpPr/>
                        <p:nvPr/>
                      </p:nvSpPr>
                      <p:spPr>
                        <a:xfrm rot="395400">
                          <a:off x="6900840" y="440280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4" name=""/>
                        <p:cNvSpPr/>
                        <p:nvPr/>
                      </p:nvSpPr>
                      <p:spPr>
                        <a:xfrm rot="395400">
                          <a:off x="6949080" y="440892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65" name=""/>
                      <p:cNvGrpSpPr/>
                      <p:nvPr/>
                    </p:nvGrpSpPr>
                    <p:grpSpPr>
                      <a:xfrm>
                        <a:off x="7022160" y="4412160"/>
                        <a:ext cx="247680" cy="298080"/>
                        <a:chOff x="7022160" y="4412160"/>
                        <a:chExt cx="247680" cy="298080"/>
                      </a:xfrm>
                    </p:grpSpPr>
                    <p:sp>
                      <p:nvSpPr>
                        <p:cNvPr id="1066" name=""/>
                        <p:cNvSpPr/>
                        <p:nvPr/>
                      </p:nvSpPr>
                      <p:spPr>
                        <a:xfrm rot="1501800">
                          <a:off x="7065360" y="4434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7" name=""/>
                        <p:cNvSpPr/>
                        <p:nvPr/>
                      </p:nvSpPr>
                      <p:spPr>
                        <a:xfrm rot="1501800">
                          <a:off x="7108560" y="444636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068" name=""/>
                  <p:cNvGrpSpPr/>
                  <p:nvPr/>
                </p:nvGrpSpPr>
                <p:grpSpPr>
                  <a:xfrm>
                    <a:off x="7054920" y="4368960"/>
                    <a:ext cx="975600" cy="446760"/>
                    <a:chOff x="7054920" y="4368960"/>
                    <a:chExt cx="975600" cy="446760"/>
                  </a:xfrm>
                </p:grpSpPr>
                <p:grpSp>
                  <p:nvGrpSpPr>
                    <p:cNvPr id="1069" name=""/>
                    <p:cNvGrpSpPr/>
                    <p:nvPr/>
                  </p:nvGrpSpPr>
                  <p:grpSpPr>
                    <a:xfrm>
                      <a:off x="7539480" y="4423320"/>
                      <a:ext cx="491040" cy="392400"/>
                      <a:chOff x="7539480" y="4423320"/>
                      <a:chExt cx="491040" cy="392400"/>
                    </a:xfrm>
                  </p:grpSpPr>
                  <p:grpSp>
                    <p:nvGrpSpPr>
                      <p:cNvPr id="1070" name=""/>
                      <p:cNvGrpSpPr/>
                      <p:nvPr/>
                    </p:nvGrpSpPr>
                    <p:grpSpPr>
                      <a:xfrm>
                        <a:off x="7539480" y="4423320"/>
                        <a:ext cx="194400" cy="276840"/>
                        <a:chOff x="7539480" y="4423320"/>
                        <a:chExt cx="194400" cy="276840"/>
                      </a:xfrm>
                    </p:grpSpPr>
                    <p:sp>
                      <p:nvSpPr>
                        <p:cNvPr id="1071" name=""/>
                        <p:cNvSpPr/>
                        <p:nvPr/>
                      </p:nvSpPr>
                      <p:spPr>
                        <a:xfrm rot="500400">
                          <a:off x="7556040" y="443340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2" name=""/>
                        <p:cNvSpPr/>
                        <p:nvPr/>
                      </p:nvSpPr>
                      <p:spPr>
                        <a:xfrm rot="500400">
                          <a:off x="7603200" y="4440240"/>
                          <a:ext cx="104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73" name=""/>
                      <p:cNvGrpSpPr/>
                      <p:nvPr/>
                    </p:nvGrpSpPr>
                    <p:grpSpPr>
                      <a:xfrm>
                        <a:off x="7629120" y="4466880"/>
                        <a:ext cx="220320" cy="288720"/>
                        <a:chOff x="7629120" y="4466880"/>
                        <a:chExt cx="220320" cy="288720"/>
                      </a:xfrm>
                    </p:grpSpPr>
                    <p:sp>
                      <p:nvSpPr>
                        <p:cNvPr id="1074" name=""/>
                        <p:cNvSpPr/>
                        <p:nvPr/>
                      </p:nvSpPr>
                      <p:spPr>
                        <a:xfrm rot="951000">
                          <a:off x="7658640" y="448416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5" name=""/>
                        <p:cNvSpPr/>
                        <p:nvPr/>
                      </p:nvSpPr>
                      <p:spPr>
                        <a:xfrm rot="951000">
                          <a:off x="7704720" y="449316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76" name=""/>
                      <p:cNvGrpSpPr/>
                      <p:nvPr/>
                    </p:nvGrpSpPr>
                    <p:grpSpPr>
                      <a:xfrm>
                        <a:off x="7762320" y="4517280"/>
                        <a:ext cx="268200" cy="298440"/>
                        <a:chOff x="7762320" y="4517280"/>
                        <a:chExt cx="268200" cy="298440"/>
                      </a:xfrm>
                    </p:grpSpPr>
                    <p:sp>
                      <p:nvSpPr>
                        <p:cNvPr id="1077" name=""/>
                        <p:cNvSpPr/>
                        <p:nvPr/>
                      </p:nvSpPr>
                      <p:spPr>
                        <a:xfrm rot="2057400">
                          <a:off x="7815960" y="4541760"/>
                          <a:ext cx="16092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8" name=""/>
                        <p:cNvSpPr/>
                        <p:nvPr/>
                      </p:nvSpPr>
                      <p:spPr>
                        <a:xfrm rot="2057400">
                          <a:off x="7855560" y="455508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79" name=""/>
                    <p:cNvGrpSpPr/>
                    <p:nvPr/>
                  </p:nvGrpSpPr>
                  <p:grpSpPr>
                    <a:xfrm>
                      <a:off x="7054920" y="4368960"/>
                      <a:ext cx="479880" cy="341280"/>
                      <a:chOff x="7054920" y="4368960"/>
                      <a:chExt cx="479880" cy="341280"/>
                    </a:xfrm>
                  </p:grpSpPr>
                  <p:grpSp>
                    <p:nvGrpSpPr>
                      <p:cNvPr id="1080" name=""/>
                      <p:cNvGrpSpPr/>
                      <p:nvPr/>
                    </p:nvGrpSpPr>
                    <p:grpSpPr>
                      <a:xfrm>
                        <a:off x="7369920" y="4368960"/>
                        <a:ext cx="164880" cy="258480"/>
                        <a:chOff x="7369920" y="4368960"/>
                        <a:chExt cx="164880" cy="258480"/>
                      </a:xfrm>
                    </p:grpSpPr>
                    <p:sp>
                      <p:nvSpPr>
                        <p:cNvPr id="1081" name=""/>
                        <p:cNvSpPr/>
                        <p:nvPr/>
                      </p:nvSpPr>
                      <p:spPr>
                        <a:xfrm flipH="1" rot="55200">
                          <a:off x="7371720" y="43700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2" name=""/>
                        <p:cNvSpPr/>
                        <p:nvPr/>
                      </p:nvSpPr>
                      <p:spPr>
                        <a:xfrm flipH="1" rot="55200">
                          <a:off x="7378560" y="437292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83" name=""/>
                      <p:cNvGrpSpPr/>
                      <p:nvPr/>
                    </p:nvGrpSpPr>
                    <p:grpSpPr>
                      <a:xfrm>
                        <a:off x="7249680" y="4394520"/>
                        <a:ext cx="187200" cy="272880"/>
                        <a:chOff x="7249680" y="4394520"/>
                        <a:chExt cx="187200" cy="272880"/>
                      </a:xfrm>
                    </p:grpSpPr>
                    <p:sp>
                      <p:nvSpPr>
                        <p:cNvPr id="1084" name=""/>
                        <p:cNvSpPr/>
                        <p:nvPr/>
                      </p:nvSpPr>
                      <p:spPr>
                        <a:xfrm flipH="1" rot="21204600">
                          <a:off x="7262640" y="440280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5" name=""/>
                        <p:cNvSpPr/>
                        <p:nvPr/>
                      </p:nvSpPr>
                      <p:spPr>
                        <a:xfrm flipH="1" rot="21204600">
                          <a:off x="7271280" y="440892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86" name=""/>
                      <p:cNvGrpSpPr/>
                      <p:nvPr/>
                    </p:nvGrpSpPr>
                    <p:grpSpPr>
                      <a:xfrm>
                        <a:off x="7054920" y="4412160"/>
                        <a:ext cx="247680" cy="298080"/>
                        <a:chOff x="7054920" y="4412160"/>
                        <a:chExt cx="247680" cy="298080"/>
                      </a:xfrm>
                    </p:grpSpPr>
                    <p:sp>
                      <p:nvSpPr>
                        <p:cNvPr id="1087" name=""/>
                        <p:cNvSpPr/>
                        <p:nvPr/>
                      </p:nvSpPr>
                      <p:spPr>
                        <a:xfrm flipH="1" rot="20098200">
                          <a:off x="7097760" y="4434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8" name=""/>
                        <p:cNvSpPr/>
                        <p:nvPr/>
                      </p:nvSpPr>
                      <p:spPr>
                        <a:xfrm flipH="1" rot="20098200">
                          <a:off x="7111080" y="444636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grpSp>
        <p:nvGrpSpPr>
          <p:cNvPr id="1089" name=""/>
          <p:cNvGrpSpPr/>
          <p:nvPr/>
        </p:nvGrpSpPr>
        <p:grpSpPr>
          <a:xfrm>
            <a:off x="3924360" y="4790520"/>
            <a:ext cx="581040" cy="731520"/>
            <a:chOff x="3924360" y="4790520"/>
            <a:chExt cx="581040" cy="731520"/>
          </a:xfrm>
        </p:grpSpPr>
        <p:grpSp>
          <p:nvGrpSpPr>
            <p:cNvPr id="1090" name=""/>
            <p:cNvGrpSpPr/>
            <p:nvPr/>
          </p:nvGrpSpPr>
          <p:grpSpPr>
            <a:xfrm>
              <a:off x="3924360" y="5294160"/>
              <a:ext cx="488880" cy="227880"/>
              <a:chOff x="3924360" y="5294160"/>
              <a:chExt cx="488880" cy="227880"/>
            </a:xfrm>
          </p:grpSpPr>
          <p:sp>
            <p:nvSpPr>
              <p:cNvPr id="1091" name=""/>
              <p:cNvSpPr/>
              <p:nvPr/>
            </p:nvSpPr>
            <p:spPr>
              <a:xfrm>
                <a:off x="3924360" y="5339520"/>
                <a:ext cx="488880" cy="182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990960" y="5316480"/>
                <a:ext cx="377640" cy="13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035240" y="5294160"/>
                <a:ext cx="266760" cy="68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 rot="21451200">
              <a:off x="4157280" y="4797360"/>
              <a:ext cx="336600" cy="533160"/>
            </a:xfrm>
            <a:custGeom>
              <a:avLst/>
              <a:gdLst/>
              <a:ahLst/>
              <a:rect l="l" t="t" r="r" b="b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5" name="" descr=""/>
          <p:cNvPicPr/>
          <p:nvPr/>
        </p:nvPicPr>
        <p:blipFill>
          <a:blip r:embed="rId2"/>
          <a:stretch/>
        </p:blipFill>
        <p:spPr>
          <a:xfrm>
            <a:off x="3635280" y="2924280"/>
            <a:ext cx="1123920" cy="1854000"/>
          </a:xfrm>
          <a:prstGeom prst="rect">
            <a:avLst/>
          </a:prstGeom>
          <a:ln w="0">
            <a:noFill/>
          </a:ln>
        </p:spPr>
      </p:pic>
      <p:sp>
        <p:nvSpPr>
          <p:cNvPr id="1096" name=""/>
          <p:cNvSpPr/>
          <p:nvPr/>
        </p:nvSpPr>
        <p:spPr>
          <a:xfrm>
            <a:off x="4435920" y="5013360"/>
            <a:ext cx="5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36320" y="2852640"/>
            <a:ext cx="26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v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 = 5, </a:t>
            </a: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t =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9288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Турист движется по шоссе со скоростью  </a:t>
            </a:r>
            <a:br>
              <a:rPr sz="2400"/>
            </a:br>
            <a:r>
              <a:rPr b="1" i="1" lang="en-US" sz="2400" spc="-1" strike="noStrike">
                <a:solidFill>
                  <a:srgbClr val="006600"/>
                </a:solidFill>
                <a:latin typeface="Georgia"/>
              </a:rPr>
              <a:t>v</a:t>
            </a: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 км/ч. Сейчас он находится в точке О. Если он движется в положительном направлении, то его скорость считают положительной, а в отрицательном направлении – отрицательной.  Значение </a:t>
            </a:r>
            <a:r>
              <a:rPr b="1" i="1" lang="en-US" sz="2400" spc="-1" strike="noStrike">
                <a:solidFill>
                  <a:srgbClr val="006600"/>
                </a:solidFill>
                <a:latin typeface="Georgia"/>
              </a:rPr>
              <a:t>t = -4 </a:t>
            </a: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означает «4 ч наза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2205000"/>
            <a:ext cx="914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Где будет находиться турист через </a:t>
            </a: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t</a:t>
            </a: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 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3"/>
          <a:stretch/>
        </p:blipFill>
        <p:spPr>
          <a:xfrm flipH="1">
            <a:off x="3563640" y="2924280"/>
            <a:ext cx="1150920" cy="1854000"/>
          </a:xfrm>
          <a:prstGeom prst="rect">
            <a:avLst/>
          </a:prstGeom>
          <a:ln w="0">
            <a:noFill/>
          </a:ln>
        </p:spPr>
      </p:pic>
      <p:grpSp>
        <p:nvGrpSpPr>
          <p:cNvPr id="1101" name=""/>
          <p:cNvGrpSpPr/>
          <p:nvPr/>
        </p:nvGrpSpPr>
        <p:grpSpPr>
          <a:xfrm>
            <a:off x="324000" y="5877000"/>
            <a:ext cx="8351640" cy="593640"/>
            <a:chOff x="324000" y="5877000"/>
            <a:chExt cx="8351640" cy="593640"/>
          </a:xfrm>
        </p:grpSpPr>
        <p:sp>
          <p:nvSpPr>
            <p:cNvPr id="1102" name=""/>
            <p:cNvSpPr/>
            <p:nvPr/>
          </p:nvSpPr>
          <p:spPr>
            <a:xfrm>
              <a:off x="324000" y="5950080"/>
              <a:ext cx="835164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97164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8800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55600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72436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93236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34800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14036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45164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76364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196720" y="59500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404360" y="59500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-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12360" y="59500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-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133440" y="595008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-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436720" y="59500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237080" y="59500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717800" y="5950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925800" y="5950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301800" y="59500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"/>
          <p:cNvSpPr/>
          <p:nvPr/>
        </p:nvSpPr>
        <p:spPr>
          <a:xfrm>
            <a:off x="7164360" y="4797360"/>
            <a:ext cx="1655640" cy="914400"/>
          </a:xfrm>
          <a:custGeom>
            <a:avLst/>
            <a:gdLst>
              <a:gd name="textAreaLeft" fmla="*/ 378000 w 1655640"/>
              <a:gd name="textAreaRight" fmla="*/ 1277640 w 165564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80880" y="2852640"/>
            <a:ext cx="279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v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 = -5, </a:t>
            </a: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t =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164360" y="4797360"/>
            <a:ext cx="1655640" cy="914400"/>
          </a:xfrm>
          <a:custGeom>
            <a:avLst/>
            <a:gdLst>
              <a:gd name="textAreaLeft" fmla="*/ 378000 w 1655640"/>
              <a:gd name="textAreaRight" fmla="*/ 1277640 w 165564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98320" y="2924280"/>
            <a:ext cx="27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v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 = 5, </a:t>
            </a: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t = 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-</a:t>
            </a: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0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7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4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85549E-006 L 0.66302 -0.10335 E">
                                      <p:cBhvr>
                                        <p:cTn id="1318" dur="5000" fill="hold"/>
                                        <p:tgtEl>
                                          <p:spTgt spid="10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L -0.5276 0.07353 E">
                                      <p:cBhvr>
                                        <p:cTn id="1326" dur="2000" fill="hold"/>
                                        <p:tgtEl>
                                          <p:spTgt spid="1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9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0" dur="1000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2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10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3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4" dur="10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6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9" dur="1000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1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7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 txBox="1"/>
          <p:nvPr/>
        </p:nvSpPr>
        <p:spPr>
          <a:xfrm rot="21334200">
            <a:off x="365040" y="420480"/>
            <a:ext cx="7542360" cy="28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машнее задание: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1584360" cy="180036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/>
          <p:cNvPicPr/>
          <p:nvPr/>
        </p:nvPicPr>
        <p:blipFill>
          <a:blip r:embed="rId2"/>
          <a:stretch/>
        </p:blipFill>
        <p:spPr>
          <a:xfrm flipH="1">
            <a:off x="971640" y="3068640"/>
            <a:ext cx="1800000" cy="1825560"/>
          </a:xfrm>
          <a:prstGeom prst="rect">
            <a:avLst/>
          </a:prstGeom>
          <a:ln w="0">
            <a:noFill/>
          </a:ln>
        </p:spPr>
      </p:pic>
      <p:sp>
        <p:nvSpPr>
          <p:cNvPr id="1128" name="PlaceHolder 1"/>
          <p:cNvSpPr>
            <a:spLocks noGrp="1"/>
          </p:cNvSpPr>
          <p:nvPr>
            <p:ph type="subTitle"/>
          </p:nvPr>
        </p:nvSpPr>
        <p:spPr>
          <a:xfrm>
            <a:off x="169236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П. 35 – 1 ча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№ </a:t>
            </a: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1143 (а, в, г, д, 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№ </a:t>
            </a: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1144 (а, в , г, 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№ </a:t>
            </a: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114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3"/>
          <a:stretch/>
        </p:blipFill>
        <p:spPr>
          <a:xfrm>
            <a:off x="6659640" y="1628640"/>
            <a:ext cx="2882880" cy="493740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0" y="58816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втор картинок на 15  слайде  (дорога, кусты) Савченко Е.М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it-n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profil.aspx?cat_no=692&amp;d_no=965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имированная картинка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</a:t>
            </a: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livegif.ru</a:t>
            </a: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0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3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050"/>
                            </p:stCondLst>
                            <p:childTnLst>
                              <p:par>
                                <p:cTn id="14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4300"/>
                            </p:stCondLst>
                            <p:childTnLst>
                              <p:par>
                                <p:cTn id="14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5" dur="500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5450"/>
                            </p:stCondLst>
                            <p:childTnLst>
                              <p:par>
                                <p:cTn id="14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476280"/>
            <a:ext cx="8496000" cy="352908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Georgia"/>
              </a:rPr>
              <a:t>Многие вещи нам непонятны 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Georgia"/>
              </a:rPr>
              <a:t>потому, что наши понятия сла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Georgia"/>
              </a:rPr>
              <a:t>но потому, что эти вещи не вход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Georgia"/>
              </a:rPr>
              <a:t>в круг наших пон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                                    </a:t>
            </a: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Козьма Пру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77080" y="4869000"/>
            <a:ext cx="1752480" cy="1825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flipH="1">
            <a:off x="2411280" y="4797360"/>
            <a:ext cx="1703520" cy="1825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067280" y="4221000"/>
            <a:ext cx="139536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 flipH="1">
            <a:off x="5580000" y="4221000"/>
            <a:ext cx="1411200" cy="180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 flipH="1">
            <a:off x="-360" y="2852640"/>
            <a:ext cx="24526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Что называется модулем числа 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Georgia"/>
              </a:rPr>
              <a:t>Вопросы  повтор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443640" y="1920960"/>
            <a:ext cx="2882880" cy="4937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148428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Georgia"/>
              </a:rPr>
              <a:t>Чему равен модуль положите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Georgia"/>
              </a:rPr>
              <a:t>    </a:t>
            </a:r>
            <a:r>
              <a:rPr b="1" i="1" lang="en-US" sz="2800" spc="-1" strike="noStrike">
                <a:solidFill>
                  <a:srgbClr val="990000"/>
                </a:solidFill>
                <a:latin typeface="Georgia"/>
              </a:rPr>
              <a:t>чи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234936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Georgia"/>
              </a:rPr>
              <a:t>Чему равен моду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Georgia"/>
              </a:rPr>
              <a:t>    </a:t>
            </a:r>
            <a:r>
              <a:rPr b="1" i="1" lang="en-US" sz="2800" spc="-1" strike="noStrike">
                <a:solidFill>
                  <a:srgbClr val="006600"/>
                </a:solidFill>
                <a:latin typeface="Georgia"/>
              </a:rPr>
              <a:t>отрицательного чи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328464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Чему равен </a:t>
            </a: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|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а</a:t>
            </a: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|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, если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отрицательное чис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414972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Чему равен </a:t>
            </a: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|</a:t>
            </a: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а</a:t>
            </a: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|</a:t>
            </a: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, если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положительное  чис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508464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Как сложить два отрицательных чи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595008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Georgia"/>
              </a:rPr>
              <a:t>Как сложить два числа с разными знак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826920" y="1989000"/>
                <a:ext cx="32403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,3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806560"/>
                <a:ext cx="33116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55640" y="3797280"/>
                <a:ext cx="32400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0" name=""/>
          <p:cNvGraphicFramePr/>
          <p:nvPr/>
        </p:nvGraphicFramePr>
        <p:xfrm>
          <a:off x="539640" y="1700280"/>
          <a:ext cx="8208720" cy="3152160"/>
        </p:xfrm>
        <a:graphic>
          <a:graphicData uri="http://schemas.openxmlformats.org/drawingml/2006/table">
            <a:tbl>
              <a:tblPr/>
              <a:tblGrid>
                <a:gridCol w="3576960"/>
                <a:gridCol w="769320"/>
                <a:gridCol w="3862440"/>
              </a:tblGrid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075280" y="1987560"/>
                <a:ext cx="3527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,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,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065240" y="185760"/>
            <a:ext cx="6675480" cy="57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Математически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63800" y="846000"/>
            <a:ext cx="206676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Georgia"/>
              </a:rPr>
              <a:t>1 </a:t>
            </a: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6520" y="846000"/>
            <a:ext cx="220824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2</a:t>
            </a:r>
            <a:r>
              <a:rPr b="1" i="1" lang="en-US" sz="2400" spc="-1" strike="noStrike">
                <a:solidFill>
                  <a:srgbClr val="cc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11714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Georgia"/>
              </a:rPr>
              <a:t>Вычисл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076720" y="2781360"/>
                <a:ext cx="33670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003640" y="3789360"/>
                <a:ext cx="3384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979640" y="4941720"/>
            <a:ext cx="511344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Georgia"/>
              </a:rPr>
              <a:t>Проверь  товарищ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2492280"/>
            <a:ext cx="144360" cy="3313080"/>
          </a:xfrm>
          <a:prstGeom prst="downArrow">
            <a:avLst>
              <a:gd name="adj1" fmla="val 50000"/>
              <a:gd name="adj2" fmla="val 573753"/>
            </a:avLst>
          </a:prstGeom>
          <a:gradFill rotWithShape="0">
            <a:gsLst>
              <a:gs pos="0">
                <a:srgbClr val="fefefe"/>
              </a:gs>
              <a:gs pos="50000">
                <a:srgbClr val="3366f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532720" y="2492280"/>
            <a:ext cx="144720" cy="3313080"/>
          </a:xfrm>
          <a:prstGeom prst="downArrow">
            <a:avLst>
              <a:gd name="adj1" fmla="val 50000"/>
              <a:gd name="adj2" fmla="val 572326"/>
            </a:avLst>
          </a:prstGeom>
          <a:gradFill rotWithShape="0">
            <a:gsLst>
              <a:gs pos="0">
                <a:srgbClr val="fefefe"/>
              </a:gs>
              <a:gs pos="50000">
                <a:srgbClr val="3366f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5805360"/>
            <a:ext cx="117468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7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0720" y="5805360"/>
            <a:ext cx="117468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5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092800">
            <a:off x="1411200" y="3544560"/>
            <a:ext cx="150840" cy="2475000"/>
          </a:xfrm>
          <a:prstGeom prst="downArrow">
            <a:avLst>
              <a:gd name="adj1" fmla="val 50000"/>
              <a:gd name="adj2" fmla="val 410203"/>
            </a:avLst>
          </a:prstGeom>
          <a:gradFill rotWithShape="0">
            <a:gsLst>
              <a:gs pos="0">
                <a:srgbClr val="fefefe"/>
              </a:gs>
              <a:gs pos="50000">
                <a:srgbClr val="3366ff"/>
              </a:gs>
              <a:gs pos="100000">
                <a:srgbClr val="fefefe"/>
              </a:gs>
            </a:gsLst>
            <a:lin ang="12306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10400">
            <a:off x="7524360" y="3573360"/>
            <a:ext cx="144360" cy="2519640"/>
          </a:xfrm>
          <a:prstGeom prst="downArrow">
            <a:avLst>
              <a:gd name="adj1" fmla="val 50000"/>
              <a:gd name="adj2" fmla="val 436347"/>
            </a:avLst>
          </a:prstGeom>
          <a:gradFill rotWithShape="0">
            <a:gsLst>
              <a:gs pos="0">
                <a:srgbClr val="fefefe"/>
              </a:gs>
              <a:gs pos="50000">
                <a:srgbClr val="3366ff"/>
              </a:gs>
              <a:gs pos="100000">
                <a:srgbClr val="fefefe"/>
              </a:gs>
            </a:gsLst>
            <a:lin ang="9192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5950080"/>
            <a:ext cx="1101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00720" y="6021360"/>
            <a:ext cx="113688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24360" y="4581360"/>
            <a:ext cx="142920" cy="1440000"/>
          </a:xfrm>
          <a:prstGeom prst="downArrow">
            <a:avLst>
              <a:gd name="adj1" fmla="val 50000"/>
              <a:gd name="adj2" fmla="val 251889"/>
            </a:avLst>
          </a:prstGeom>
          <a:gradFill rotWithShape="0">
            <a:gsLst>
              <a:gs pos="0">
                <a:srgbClr val="fefefe"/>
              </a:gs>
              <a:gs pos="50000">
                <a:srgbClr val="3366f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32360" y="4581360"/>
            <a:ext cx="144360" cy="1440000"/>
          </a:xfrm>
          <a:prstGeom prst="downArrow">
            <a:avLst>
              <a:gd name="adj1" fmla="val 50000"/>
              <a:gd name="adj2" fmla="val 249377"/>
            </a:avLst>
          </a:prstGeom>
          <a:gradFill rotWithShape="0">
            <a:gsLst>
              <a:gs pos="0">
                <a:srgbClr val="fefefe"/>
              </a:gs>
              <a:gs pos="50000">
                <a:srgbClr val="3366f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203640" y="6053040"/>
            <a:ext cx="1008000" cy="804960"/>
            <a:chOff x="3203640" y="6053040"/>
            <a:chExt cx="1008000" cy="804960"/>
          </a:xfrm>
        </p:grpSpPr>
        <p:sp>
          <p:nvSpPr>
            <p:cNvPr id="93" name=""/>
            <p:cNvSpPr/>
            <p:nvPr/>
          </p:nvSpPr>
          <p:spPr>
            <a:xfrm>
              <a:off x="3203640" y="6053040"/>
              <a:ext cx="1008000" cy="80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40240" y="6426360"/>
              <a:ext cx="534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29160" y="6066000"/>
              <a:ext cx="452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3640" y="6159600"/>
              <a:ext cx="4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29160" y="6426360"/>
              <a:ext cx="44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572000" y="6021360"/>
            <a:ext cx="1008000" cy="840240"/>
            <a:chOff x="4572000" y="6021360"/>
            <a:chExt cx="1008000" cy="840240"/>
          </a:xfrm>
        </p:grpSpPr>
        <p:sp>
          <p:nvSpPr>
            <p:cNvPr id="99" name=""/>
            <p:cNvSpPr/>
            <p:nvPr/>
          </p:nvSpPr>
          <p:spPr>
            <a:xfrm>
              <a:off x="4572000" y="6021360"/>
              <a:ext cx="1008000" cy="833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87720" y="6389640"/>
              <a:ext cx="6159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03640" y="6105600"/>
              <a:ext cx="520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cc0000"/>
                  </a:solidFill>
                  <a:uFillTx/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617652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89240" y="6434640"/>
              <a:ext cx="517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7524720" y="189000"/>
            <a:ext cx="1403280" cy="431640"/>
          </a:xfrm>
          <a:custGeom>
            <a:avLst/>
            <a:gdLst>
              <a:gd name="textAreaLeft" fmla="*/ 27720 w 1403280"/>
              <a:gd name="textAreaRight" fmla="*/ 1375560 w 14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0182" h="21600">
                <a:moveTo>
                  <a:pt x="0" y="0"/>
                </a:moveTo>
                <a:lnTo>
                  <a:pt x="70182" y="0"/>
                </a:lnTo>
                <a:lnTo>
                  <a:pt x="70182" y="21600"/>
                </a:lnTo>
                <a:lnTo>
                  <a:pt x="0" y="21600"/>
                </a:lnTo>
                <a:close/>
              </a:path>
              <a:path fill="lightenLess" w="70182" h="21600">
                <a:moveTo>
                  <a:pt x="0" y="0"/>
                </a:moveTo>
                <a:lnTo>
                  <a:pt x="70182" y="0"/>
                </a:lnTo>
                <a:lnTo>
                  <a:pt x="68782" y="1400"/>
                </a:lnTo>
                <a:lnTo>
                  <a:pt x="1400" y="1400"/>
                </a:lnTo>
                <a:close/>
              </a:path>
              <a:path fill="darken" w="70182" h="21600">
                <a:moveTo>
                  <a:pt x="70182" y="0"/>
                </a:moveTo>
                <a:lnTo>
                  <a:pt x="70182" y="21600"/>
                </a:lnTo>
                <a:lnTo>
                  <a:pt x="68782" y="20200"/>
                </a:lnTo>
                <a:lnTo>
                  <a:pt x="68782" y="1400"/>
                </a:lnTo>
                <a:close/>
              </a:path>
              <a:path fill="darkenLess" w="70182" h="21600">
                <a:moveTo>
                  <a:pt x="70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2" y="20200"/>
                </a:lnTo>
                <a:close/>
              </a:path>
              <a:path fill="lighten" w="70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50000">
                <a:srgbClr val="fefefe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е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Georgia"/>
              </a:rPr>
              <a:t>Вспомним  умнож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 flipH="1">
            <a:off x="179280" y="260280"/>
            <a:ext cx="1703520" cy="1825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340000" y="1700280"/>
            <a:ext cx="316872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41 * 22 =</a:t>
            </a:r>
            <a:endParaRPr b="1" i="1" lang="en-US" sz="2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619280" y="2708280"/>
            <a:ext cx="38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3,2 * 2,8 =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411280" y="3500280"/>
            <a:ext cx="3154320" cy="1365120"/>
            <a:chOff x="2411280" y="3500280"/>
            <a:chExt cx="3154320" cy="1365120"/>
          </a:xfrm>
        </p:grpSpPr>
        <p:grpSp>
          <p:nvGrpSpPr>
            <p:cNvPr id="110" name=""/>
            <p:cNvGrpSpPr/>
            <p:nvPr/>
          </p:nvGrpSpPr>
          <p:grpSpPr>
            <a:xfrm>
              <a:off x="2411280" y="3500280"/>
              <a:ext cx="648720" cy="1364400"/>
              <a:chOff x="2411280" y="3500280"/>
              <a:chExt cx="648720" cy="1364400"/>
            </a:xfrm>
          </p:grpSpPr>
          <p:sp>
            <p:nvSpPr>
              <p:cNvPr id="111" name=""/>
              <p:cNvSpPr txBox="1"/>
              <p:nvPr/>
            </p:nvSpPr>
            <p:spPr>
              <a:xfrm>
                <a:off x="2597400" y="3500280"/>
                <a:ext cx="370440" cy="574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1" i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2595240" y="4334040"/>
                <a:ext cx="372960" cy="530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8</a:t>
                </a:r>
                <a:endParaRPr b="1" i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13" name=""/>
              <p:cNvSpPr txBox="1"/>
              <p:nvPr/>
            </p:nvSpPr>
            <p:spPr>
              <a:xfrm>
                <a:off x="1762560" y="4109040"/>
                <a:ext cx="648720" cy="74880"/>
              </a:xfrm>
              <a:prstGeom prst="rect">
                <a:avLst/>
              </a:prstGeom>
            </p:spPr>
            <p:txBody>
              <a:bodyPr wrap="none" lIns="90000" rIns="90000" tIns="28440" bIns="284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14" name=""/>
            <p:cNvSpPr txBox="1"/>
            <p:nvPr/>
          </p:nvSpPr>
          <p:spPr>
            <a:xfrm>
              <a:off x="3058560" y="3860640"/>
              <a:ext cx="2890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*</a:t>
              </a:r>
              <a:endPara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852720" y="3500280"/>
              <a:ext cx="1004760" cy="1365120"/>
              <a:chOff x="3852720" y="3500280"/>
              <a:chExt cx="1004760" cy="1365120"/>
            </a:xfrm>
          </p:grpSpPr>
          <p:sp>
            <p:nvSpPr>
              <p:cNvPr id="116" name=""/>
              <p:cNvSpPr txBox="1"/>
              <p:nvPr/>
            </p:nvSpPr>
            <p:spPr>
              <a:xfrm>
                <a:off x="4049280" y="3500280"/>
                <a:ext cx="718920" cy="574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16</a:t>
                </a:r>
                <a:endParaRPr b="1" i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3976200" y="4333680"/>
                <a:ext cx="720360" cy="531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21</a:t>
                </a:r>
                <a:endParaRPr b="1" i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2847960" y="4109400"/>
                <a:ext cx="1004760" cy="74880"/>
              </a:xfrm>
              <a:prstGeom prst="rect">
                <a:avLst/>
              </a:prstGeom>
            </p:spPr>
            <p:txBody>
              <a:bodyPr wrap="none" lIns="90000" rIns="90000" tIns="28440" bIns="284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19" name=""/>
            <p:cNvSpPr txBox="1"/>
            <p:nvPr/>
          </p:nvSpPr>
          <p:spPr>
            <a:xfrm>
              <a:off x="5076360" y="4147920"/>
              <a:ext cx="4892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908000" y="5157720"/>
            <a:ext cx="3585960" cy="1408320"/>
            <a:chOff x="1908000" y="5157720"/>
            <a:chExt cx="3585960" cy="1408320"/>
          </a:xfrm>
        </p:grpSpPr>
        <p:grpSp>
          <p:nvGrpSpPr>
            <p:cNvPr id="121" name=""/>
            <p:cNvGrpSpPr/>
            <p:nvPr/>
          </p:nvGrpSpPr>
          <p:grpSpPr>
            <a:xfrm>
              <a:off x="1908000" y="5229360"/>
              <a:ext cx="1079280" cy="1336680"/>
              <a:chOff x="1908000" y="5229360"/>
              <a:chExt cx="1079280" cy="1336680"/>
            </a:xfrm>
          </p:grpSpPr>
          <p:sp>
            <p:nvSpPr>
              <p:cNvPr id="122" name=""/>
              <p:cNvSpPr txBox="1"/>
              <p:nvPr/>
            </p:nvSpPr>
            <p:spPr>
              <a:xfrm>
                <a:off x="1908000" y="5662440"/>
                <a:ext cx="360360" cy="54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5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1692000" y="5806080"/>
                <a:ext cx="647640" cy="71640"/>
              </a:xfrm>
              <a:prstGeom prst="rect">
                <a:avLst/>
              </a:prstGeom>
            </p:spPr>
            <p:txBody>
              <a:bodyPr wrap="none" lIns="90000" rIns="90000" tIns="25200" bIns="252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2484000" y="5229360"/>
                <a:ext cx="287640" cy="544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1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2412720" y="6021360"/>
                <a:ext cx="431640" cy="54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4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3779640" y="5157720"/>
              <a:ext cx="1080360" cy="1366560"/>
              <a:chOff x="3779640" y="5157720"/>
              <a:chExt cx="1080360" cy="1366560"/>
            </a:xfrm>
          </p:grpSpPr>
          <p:sp>
            <p:nvSpPr>
              <p:cNvPr id="127" name=""/>
              <p:cNvSpPr txBox="1"/>
              <p:nvPr/>
            </p:nvSpPr>
            <p:spPr>
              <a:xfrm>
                <a:off x="3779640" y="5600880"/>
                <a:ext cx="360720" cy="556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2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8" name=""/>
              <p:cNvSpPr txBox="1"/>
              <p:nvPr/>
            </p:nvSpPr>
            <p:spPr>
              <a:xfrm>
                <a:off x="3563280" y="5748840"/>
                <a:ext cx="648360" cy="72720"/>
              </a:xfrm>
              <a:prstGeom prst="rect">
                <a:avLst/>
              </a:prstGeom>
            </p:spPr>
            <p:txBody>
              <a:bodyPr wrap="none" lIns="90000" rIns="90000" tIns="26280" bIns="2628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4356360" y="5157720"/>
                <a:ext cx="360720" cy="556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4285080" y="5967720"/>
                <a:ext cx="360720" cy="556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5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31" name=""/>
            <p:cNvSpPr txBox="1"/>
            <p:nvPr/>
          </p:nvSpPr>
          <p:spPr>
            <a:xfrm>
              <a:off x="2987280" y="5446800"/>
              <a:ext cx="2890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*</a:t>
              </a:r>
              <a:endParaRPr b="1" lang="en-US" sz="1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5005080" y="5805360"/>
              <a:ext cx="4888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651640" y="1341360"/>
            <a:ext cx="2447640" cy="134640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07440 h 1346400"/>
              <a:gd name="textAreaBottom" fmla="*/ 1038960 h 1346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66"/>
                </a:solidFill>
                <a:latin typeface="Times New Roman"/>
              </a:rPr>
              <a:t>31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51640" y="2349360"/>
            <a:ext cx="2447640" cy="134640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07440 h 1346400"/>
              <a:gd name="textAreaBottom" fmla="*/ 1038960 h 1346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66"/>
                </a:solidFill>
                <a:latin typeface="Times New Roman"/>
              </a:rPr>
              <a:t>36,9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3213000"/>
            <a:ext cx="1440000" cy="2087640"/>
          </a:xfrm>
          <a:custGeom>
            <a:avLst/>
            <a:gdLst>
              <a:gd name="textAreaLeft" fmla="*/ 328680 w 1440000"/>
              <a:gd name="textAreaRight" fmla="*/ 1111320 w 1440000"/>
              <a:gd name="textAreaTop" fmla="*/ 476640 h 2087640"/>
              <a:gd name="textAreaBottom" fmla="*/ 1611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660066"/>
                </a:solidFill>
                <a:uFillTx/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1640" y="5229360"/>
            <a:ext cx="2447640" cy="134604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07080 h 1346040"/>
              <a:gd name="textAreaBottom" fmla="*/ 1038960 h 134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66"/>
                </a:solidFill>
                <a:latin typeface="Times New Roman"/>
              </a:rPr>
              <a:t>13,6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flipH="1">
            <a:off x="250920" y="4724280"/>
            <a:ext cx="14112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Georgia"/>
              </a:rPr>
              <a:t>Вопросы  повтор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50920" y="2133720"/>
            <a:ext cx="8569080" cy="914400"/>
            <a:chOff x="250920" y="2133720"/>
            <a:chExt cx="8569080" cy="914400"/>
          </a:xfrm>
        </p:grpSpPr>
        <p:sp>
          <p:nvSpPr>
            <p:cNvPr id="140" name=""/>
            <p:cNvSpPr/>
            <p:nvPr/>
          </p:nvSpPr>
          <p:spPr>
            <a:xfrm>
              <a:off x="250920" y="213372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9      -8      -7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 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 0       1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360" y="256572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7164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9236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1128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5128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9272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3272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5164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7236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6719760" y="2147760"/>
            <a:ext cx="720720" cy="392400"/>
          </a:xfrm>
          <a:custGeom>
            <a:avLst/>
            <a:gdLst/>
            <a:ahLst/>
            <a:rect l="l" t="t" r="r" b="b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08760" y="2143080"/>
            <a:ext cx="716040" cy="415800"/>
          </a:xfrm>
          <a:custGeom>
            <a:avLst/>
            <a:gdLst/>
            <a:ahLst/>
            <a:rect l="l" t="t" r="r" b="b"/>
            <a:pathLst>
              <a:path w="451" h="262">
                <a:moveTo>
                  <a:pt x="451" y="262"/>
                </a:moveTo>
                <a:cubicBezTo>
                  <a:pt x="435" y="228"/>
                  <a:pt x="394" y="101"/>
                  <a:pt x="357" y="58"/>
                </a:cubicBezTo>
                <a:cubicBezTo>
                  <a:pt x="320" y="15"/>
                  <a:pt x="275" y="0"/>
                  <a:pt x="229" y="3"/>
                </a:cubicBezTo>
                <a:cubicBezTo>
                  <a:pt x="183" y="6"/>
                  <a:pt x="120" y="33"/>
                  <a:pt x="82" y="76"/>
                </a:cubicBezTo>
                <a:cubicBezTo>
                  <a:pt x="44" y="119"/>
                  <a:pt x="17" y="221"/>
                  <a:pt x="0" y="25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97400" y="2128680"/>
            <a:ext cx="706680" cy="430200"/>
          </a:xfrm>
          <a:custGeom>
            <a:avLst/>
            <a:gdLst/>
            <a:ahLst/>
            <a:rect l="l" t="t" r="r" b="b"/>
            <a:pathLst>
              <a:path w="445" h="271">
                <a:moveTo>
                  <a:pt x="445" y="271"/>
                </a:moveTo>
                <a:cubicBezTo>
                  <a:pt x="432" y="240"/>
                  <a:pt x="402" y="130"/>
                  <a:pt x="366" y="85"/>
                </a:cubicBezTo>
                <a:cubicBezTo>
                  <a:pt x="330" y="40"/>
                  <a:pt x="275" y="6"/>
                  <a:pt x="229" y="3"/>
                </a:cubicBezTo>
                <a:cubicBezTo>
                  <a:pt x="183" y="0"/>
                  <a:pt x="130" y="23"/>
                  <a:pt x="92" y="67"/>
                </a:cubicBezTo>
                <a:cubicBezTo>
                  <a:pt x="54" y="111"/>
                  <a:pt x="19" y="226"/>
                  <a:pt x="0" y="2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05440" y="162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57800" y="162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7080" y="162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596360" y="907920"/>
            <a:ext cx="1336680" cy="1392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80360" y="3068640"/>
            <a:ext cx="48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-1 + (-1) + (-1) + (-1)= 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8160" y="3068640"/>
            <a:ext cx="24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-1) * 4 = 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740720" y="2492280"/>
            <a:ext cx="1116000" cy="144000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324000" y="4581360"/>
            <a:ext cx="8569080" cy="914400"/>
            <a:chOff x="324000" y="4581360"/>
            <a:chExt cx="8569080" cy="914400"/>
          </a:xfrm>
        </p:grpSpPr>
        <p:sp>
          <p:nvSpPr>
            <p:cNvPr id="164" name=""/>
            <p:cNvSpPr/>
            <p:nvPr/>
          </p:nvSpPr>
          <p:spPr>
            <a:xfrm>
              <a:off x="324000" y="458136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9      -8      -7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 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 0       1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7440" y="5013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4472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6544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8436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0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2436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6580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8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0580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2472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4544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94980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908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 flipH="1">
            <a:off x="250560" y="3573360"/>
            <a:ext cx="1298520" cy="1392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548720" y="5445000"/>
            <a:ext cx="73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-1 + (-1) + (-1) + (-1) + (-1) + (-1) = -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21080" y="6216480"/>
            <a:ext cx="24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-1) * 6 = -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 flipH="1">
            <a:off x="250560" y="5229360"/>
            <a:ext cx="1128600" cy="1439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572000" y="2133720"/>
            <a:ext cx="706320" cy="430200"/>
          </a:xfrm>
          <a:custGeom>
            <a:avLst/>
            <a:gdLst/>
            <a:ahLst/>
            <a:rect l="l" t="t" r="r" b="b"/>
            <a:pathLst>
              <a:path w="445" h="271">
                <a:moveTo>
                  <a:pt x="445" y="271"/>
                </a:moveTo>
                <a:cubicBezTo>
                  <a:pt x="432" y="240"/>
                  <a:pt x="402" y="130"/>
                  <a:pt x="366" y="85"/>
                </a:cubicBezTo>
                <a:cubicBezTo>
                  <a:pt x="330" y="40"/>
                  <a:pt x="275" y="6"/>
                  <a:pt x="229" y="3"/>
                </a:cubicBezTo>
                <a:cubicBezTo>
                  <a:pt x="183" y="0"/>
                  <a:pt x="130" y="23"/>
                  <a:pt x="92" y="67"/>
                </a:cubicBezTo>
                <a:cubicBezTo>
                  <a:pt x="54" y="111"/>
                  <a:pt x="19" y="226"/>
                  <a:pt x="0" y="2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44720" y="162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04000" y="4581360"/>
            <a:ext cx="720720" cy="392400"/>
          </a:xfrm>
          <a:custGeom>
            <a:avLst/>
            <a:gdLst/>
            <a:ahLst/>
            <a:rect l="l" t="t" r="r" b="b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84720" y="4581360"/>
            <a:ext cx="720720" cy="392400"/>
          </a:xfrm>
          <a:custGeom>
            <a:avLst/>
            <a:gdLst/>
            <a:ahLst/>
            <a:rect l="l" t="t" r="r" b="b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64000" y="4581360"/>
            <a:ext cx="720720" cy="392400"/>
          </a:xfrm>
          <a:custGeom>
            <a:avLst/>
            <a:gdLst/>
            <a:ahLst/>
            <a:rect l="l" t="t" r="r" b="b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43280" y="4581360"/>
            <a:ext cx="720720" cy="392400"/>
          </a:xfrm>
          <a:custGeom>
            <a:avLst/>
            <a:gdLst/>
            <a:ahLst/>
            <a:rect l="l" t="t" r="r" b="b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24360" y="4581360"/>
            <a:ext cx="720720" cy="392400"/>
          </a:xfrm>
          <a:custGeom>
            <a:avLst/>
            <a:gdLst/>
            <a:ahLst/>
            <a:rect l="l" t="t" r="r" b="b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4581360"/>
            <a:ext cx="720720" cy="392400"/>
          </a:xfrm>
          <a:custGeom>
            <a:avLst/>
            <a:gdLst/>
            <a:ahLst/>
            <a:rect l="l" t="t" r="r" b="b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1016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8944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6872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944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4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6000"/>
                            </p:stCondLst>
                            <p:childTnLst>
                              <p:par>
                                <p:cTn id="4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80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44640" y="2649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–1)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40000" y="260280"/>
            <a:ext cx="33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(–1) + (–1) + (–1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35640" y="26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44640" y="1701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–1)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84280" y="1701720"/>
            <a:ext cx="52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(–1) + (–1) + (–1) + (–1) + (–1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08720" y="170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44640" y="31370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–1)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 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314172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(–1) + (–1) + (–1) + (–1) + (–1) + (–1) + (–1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62920" y="3645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= –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44640" y="6984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·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6000" y="692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44640" y="220500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·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27280" y="2205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44640" y="385776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·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27280" y="3860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7080" y="163440"/>
            <a:ext cx="703080" cy="15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9280" y="1603440"/>
            <a:ext cx="703440" cy="15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9280" y="3116160"/>
            <a:ext cx="703440" cy="15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71640" y="1268280"/>
            <a:ext cx="2158920" cy="50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71640" y="2781360"/>
            <a:ext cx="208764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4437000"/>
            <a:ext cx="2160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32000" y="4508640"/>
            <a:ext cx="38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(–1)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·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n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=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–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116000" cy="1440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 flipH="1">
            <a:off x="7812000" y="692280"/>
            <a:ext cx="1128960" cy="1439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5560920"/>
            <a:ext cx="9144000" cy="1297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множить ( - 1 ) на  п – это знач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взять  ( - 1 )  п 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44640" y="3078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3 ·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84360" y="260280"/>
            <a:ext cx="6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08360" y="260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5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·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76720" y="260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3640" y="2602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7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 ·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85080" y="26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7080" y="162000"/>
            <a:ext cx="703080" cy="15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189000"/>
            <a:ext cx="703080" cy="15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24360" y="189000"/>
            <a:ext cx="703440" cy="735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58920" y="501336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(–1) 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·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=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· (–1) = –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5840" y="290664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 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·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=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· 1 =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679920"/>
            <a:ext cx="8064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При умножении числа на 1 получаем                то ж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805360"/>
            <a:ext cx="8064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При умножении числа на (–1) получаем число, ему противополож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24922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Georgia"/>
              </a:rPr>
              <a:t>Знали раньш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2360" y="4653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Georgia"/>
              </a:rPr>
              <a:t>Узнали сейча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732720" y="1920960"/>
            <a:ext cx="2882880" cy="49370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64200" y="981000"/>
            <a:ext cx="728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множить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n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  ( - 1) – это  знач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зять  число,  противоположное  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619280" y="189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Вычисл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00720" y="1890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Проверьте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27320" y="95256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5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1)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75080" y="901800"/>
            <a:ext cx="576000" cy="11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00760" y="952560"/>
            <a:ext cx="1125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27320" y="162576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1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75080" y="1574640"/>
            <a:ext cx="576000" cy="11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13120" y="1625760"/>
            <a:ext cx="11257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27320" y="230040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–1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3,4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75080" y="2249640"/>
            <a:ext cx="576000" cy="11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00760" y="2300400"/>
            <a:ext cx="1125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7320" y="364968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5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1)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75080" y="3598920"/>
            <a:ext cx="576000" cy="11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84760" y="3641760"/>
            <a:ext cx="1125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27320" y="432432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82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1)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75080" y="4273560"/>
            <a:ext cx="576000" cy="11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00760" y="4324320"/>
            <a:ext cx="1125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7320" y="499896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–1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1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75080" y="4948200"/>
            <a:ext cx="576000" cy="11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84760" y="5010120"/>
            <a:ext cx="1125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7320" y="567360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1)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75080" y="5622840"/>
            <a:ext cx="576000" cy="11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3120" y="5657760"/>
            <a:ext cx="11257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75080" y="2924280"/>
            <a:ext cx="576000" cy="11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14960" y="2975040"/>
            <a:ext cx="9111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9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27320" y="297504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9,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 flipH="1">
            <a:off x="473040" y="4005360"/>
            <a:ext cx="1365120" cy="14634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164360" y="4076640"/>
            <a:ext cx="1260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50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05:19:50Z</dcterms:created>
  <dc:creator>MAMA</dc:creator>
  <dc:description/>
  <dc:language>en-US</dc:language>
  <cp:lastModifiedBy>Admin</cp:lastModifiedBy>
  <dcterms:modified xsi:type="dcterms:W3CDTF">2010-03-06T13:01:19Z</dcterms:modified>
  <cp:revision>10</cp:revision>
  <dc:subject/>
  <dc:title>Слайд 1</dc:title>
</cp:coreProperties>
</file>