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23.png" ContentType="image/png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329-6704-47DE-9CF2-FEED3A7A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88A-C290-4BCE-A812-967628D9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862-1639-4619-9CE3-CFA225E7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850-69BB-40E8-ACDC-FC636F1E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849-F734-404E-A307-035CCF6D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244-E4B5-420B-9C6D-0E40B3ED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F3C-C59C-46BF-A58A-8D081FE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6BA-74E6-457B-A5AF-853400D8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D47-4A1B-4174-93DD-0A403081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030-0707-4511-BC55-4D12000D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50D-5048-4E94-B599-D30E699D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619-33CA-4261-B118-7FAB6641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D6D6-E515-4621-852A-2CF3CA929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411280" y="83664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ролевство "Дробе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59280" y="90792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Сравни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7956720" y="404640"/>
                <a:ext cx="5364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6227640" y="404640"/>
                <a:ext cx="58608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6227640" y="213372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7932600" y="213372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11"/>
          <p:cNvSpPr/>
          <p:nvPr/>
        </p:nvSpPr>
        <p:spPr>
          <a:xfrm>
            <a:off x="7164360" y="98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7093080" y="256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2916360" y="249228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84720" y="249228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2195640" y="3933720"/>
            <a:ext cx="2212920" cy="230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232000" cy="217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427640" y="278136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72000" y="4653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11"/>
          <p:cNvSpPr/>
          <p:nvPr/>
        </p:nvSpPr>
        <p:spPr>
          <a:xfrm>
            <a:off x="3348000" y="620640"/>
            <a:ext cx="446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вух дробей с одинаковыми знаменателями меньше та, у которой меньше числитель, и больше та, у которой больше числител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276720" y="285264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5940360" y="292428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96704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84400" cy="210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4643280" y="501336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572000" y="335772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2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13"/>
          <p:cNvSpPr/>
          <p:nvPr/>
        </p:nvSpPr>
        <p:spPr>
          <a:xfrm>
            <a:off x="3348000" y="1052640"/>
            <a:ext cx="44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равные дроби обозначают одно и то же дробн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249"/>
          <p:cNvPicPr/>
          <p:nvPr/>
        </p:nvPicPr>
        <p:blipFill>
          <a:blip r:embed="rId6"/>
          <a:stretch/>
        </p:blipFill>
        <p:spPr>
          <a:xfrm>
            <a:off x="6588000" y="2276640"/>
            <a:ext cx="2159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артинка 13 из 253"/>
          <p:cNvPicPr/>
          <p:nvPr/>
        </p:nvPicPr>
        <p:blipFill>
          <a:blip r:embed="rId2"/>
          <a:stretch/>
        </p:blipFill>
        <p:spPr>
          <a:xfrm>
            <a:off x="2411280" y="0"/>
            <a:ext cx="3146400" cy="393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49"/>
          <p:cNvPicPr/>
          <p:nvPr/>
        </p:nvPicPr>
        <p:blipFill>
          <a:blip r:embed="rId3"/>
          <a:stretch/>
        </p:blipFill>
        <p:spPr>
          <a:xfrm rot="20655000">
            <a:off x="1835280" y="188640"/>
            <a:ext cx="215892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5364000" y="1197000"/>
            <a:ext cx="4248360" cy="3095640"/>
          </a:xfrm>
          <a:prstGeom prst="cloudCallout">
            <a:avLst>
              <a:gd name="adj1" fmla="val -72273"/>
              <a:gd name="adj2" fmla="val -6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 - царевич проплы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/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До моего дворца, осталось проплы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/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Какая часть пути больше, та которую Иван проплыл или которую ему осталось проплы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а 220 из 237"/>
          <p:cNvPicPr/>
          <p:nvPr/>
        </p:nvPicPr>
        <p:blipFill>
          <a:blip r:embed="rId2"/>
          <a:stretch/>
        </p:blipFill>
        <p:spPr>
          <a:xfrm>
            <a:off x="6877080" y="1125360"/>
            <a:ext cx="1428840" cy="2476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763640" y="620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05640" y="1341360"/>
            <a:ext cx="56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Отметьте на координатном лу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дома, где живут мои 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1979640" y="4797360"/>
                <a:ext cx="460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2987640" y="2349360"/>
                <a:ext cx="5018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4932360" y="2276640"/>
                <a:ext cx="460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5796000" y="4581360"/>
                <a:ext cx="501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" name="Picture 12" descr="Картинка 7 из 60"/>
          <p:cNvPicPr/>
          <p:nvPr/>
        </p:nvPicPr>
        <p:blipFill>
          <a:blip r:embed="rId3"/>
          <a:stretch/>
        </p:blipFill>
        <p:spPr>
          <a:xfrm>
            <a:off x="2484360" y="342900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4"/>
          <p:cNvGraphicFramePr/>
          <p:nvPr/>
        </p:nvGraphicFramePr>
        <p:xfrm>
          <a:off x="250920" y="1557360"/>
          <a:ext cx="32940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32940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WordArt 5"/>
          <p:cNvSpPr txBox="1"/>
          <p:nvPr/>
        </p:nvSpPr>
        <p:spPr>
          <a:xfrm>
            <a:off x="2340000" y="907920"/>
            <a:ext cx="626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нец сказ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1636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жили долго и счастл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763640" y="0"/>
            <a:ext cx="439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 да был Царевич. Прослышал он, что за тридевять земель, в некотором царстве обыкновенных дробей живет Елена Прекрасная. Чудо, как хорош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9440" y="428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тправился он сватать Елену Прекрасну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211640" y="278136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ж гость, да умен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йду - говорит Елена Прекрасная за тебя замуж. Только должен ты сначала как водится пройти испытания и достать со дна моря синего колечко, что я оброн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6084720" y="-1900080"/>
          <a:ext cx="1629000" cy="17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-1900080"/>
                    <a:ext cx="1629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олушка"/>
          <p:cNvPicPr/>
          <p:nvPr/>
        </p:nvPicPr>
        <p:blipFill>
          <a:blip r:embed="rId2"/>
          <a:stretch/>
        </p:blipFill>
        <p:spPr>
          <a:xfrm>
            <a:off x="1619280" y="4005360"/>
            <a:ext cx="1341360" cy="2206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4000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26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zhitsa"/>
              </a:rPr>
              <a:t>На доске записаны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221148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289728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3825720" y="198900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4511520" y="198900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24664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147636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617544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91056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759636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16"/>
          <p:cNvSpPr/>
          <p:nvPr/>
        </p:nvSpPr>
        <p:spPr>
          <a:xfrm>
            <a:off x="2980800" y="386064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Разбейте дроби па клас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указав признак разби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664000" y="2924280"/>
            <a:ext cx="64800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е: 3/8, 5/12, 3/4, 7/8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ильные: 9/8, 15/7, 4/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знаменателями: 3/8, 9/8, 7/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знаменателями: 5/12, 3/4, 15/7, 4/3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числителями: 3/8 и 3/4; 7/8 и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числителями: 5/12, 9/8, 15/7, 4/3, 8/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67280" y="765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1258920" y="549360"/>
          <a:ext cx="2146320" cy="24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549360"/>
                    <a:ext cx="21463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9"/>
          <p:cNvGraphicFramePr/>
          <p:nvPr/>
        </p:nvGraphicFramePr>
        <p:xfrm>
          <a:off x="6084720" y="692280"/>
          <a:ext cx="19195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692280"/>
                    <a:ext cx="19195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211640" y="27813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у что ж, Иван-царевич», - молвила Елена, - «справился ты с первым испытанием. Вот второе – привести мне «Аленький цветоч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Картинка 217 из 9785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60 из 76"/>
          <p:cNvPicPr/>
          <p:nvPr/>
        </p:nvPicPr>
        <p:blipFill>
          <a:blip r:embed="rId3"/>
          <a:stretch/>
        </p:blipFill>
        <p:spPr>
          <a:xfrm>
            <a:off x="2411280" y="333360"/>
            <a:ext cx="4716720" cy="36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8"/>
          <p:cNvGraphicFramePr/>
          <p:nvPr/>
        </p:nvGraphicFramePr>
        <p:xfrm>
          <a:off x="3995640" y="155736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155736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49:44Z</dcterms:created>
  <dc:creator>User</dc:creator>
  <dc:description/>
  <dc:language>en-US</dc:language>
  <cp:lastModifiedBy>Admin</cp:lastModifiedBy>
  <dcterms:modified xsi:type="dcterms:W3CDTF">2010-02-06T06:46:2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