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953-25CF-4C58-83D9-473FA85E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149-89EB-4491-9215-C61E23EC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B9E-725D-4668-A226-94E2B2EE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F65-B47E-48B1-BF90-EFFBFCB1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F9D8-06FD-4565-8CC8-611137F8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5CE1-7B9C-4149-805D-49767E56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42D1-24CE-4262-9BEF-7A5EB67C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24A9-3AAB-41A0-81E8-F2B5FDB7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B577-D246-48D2-8F0F-8CFCE116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0BEF-0ED8-45D5-8236-A769E2AF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D290-E334-4AFE-92A9-6D30F1FD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00E-223E-4A14-8BEA-42720155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08D7-0B81-4C03-90E3-DE3C254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6997-38FD-4228-8974-BD078B4B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5CA7-F1D5-4E5B-88B3-2169BBD8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D233-6785-460B-A94C-FF798D67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3117-7322-47E5-A1F7-F662175F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9265A-33BC-41D8-80E1-95DF7AC3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52397-6A03-4265-99A3-3BF3B5D5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0674A-8882-4A6F-B603-4FEF5020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B7C32-A7BE-4F8C-B485-C8A2DE75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083E9-3643-47C5-BF40-A9D9443B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976-FCF5-454C-9BDC-AFA067DD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8D4F0-5B23-4E04-8375-F7F9DED3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859DC-E54C-4E24-943C-B507B771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7B37C-EE3B-4FD6-BC04-6AC50B21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B6777-0EC3-494E-B9C7-11EA5209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1DD13-811F-45DA-A123-2BF66A2E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8AA1D-59DA-44D9-BB07-D39A96F1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E0495-F32F-480D-A058-DA54C128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F67C-D7A5-40AB-B9EF-4DA1EBFB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3605F-3EDA-4059-9E0C-018834CD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D9119-E128-425B-BCA4-C13E9733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3A5-FF7C-4A9D-9BC2-CB1D7E6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6079C-F925-4553-A24A-AAB3B09D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083CD-61AB-4216-9E14-9126B5C0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2C99-E647-4CA1-8DC4-0F406DA2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B9C2-6AD1-4330-95C0-E2EF74BE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756F-83E5-44EC-9B54-2DA8BD99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71C4E-8E25-4057-AE00-F11FF968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AEC5-86D1-470E-941D-0F3173C9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A0723-8B2B-47BD-B9D4-DD42F31D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AD84-DA26-4170-917D-8120A56C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DE23F-2AF7-4034-86B9-F426B78C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AB1-EE8C-44F8-8F89-BCB8B6C6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18ACA-0C9B-4916-9730-6E98D662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278D3-9464-4794-AE47-E0200E47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E3385-07E0-4454-AC00-29C8024B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67847-E6B6-45FC-A541-2BB8AF58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6E3AE-A8D9-4AB4-AF5A-65ED873E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6F3B8-4589-41EA-BEB9-1FE64B06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86E2F-7F38-44D4-8BDC-E2CBFA83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5F815-DFEC-4BF3-97B9-4BA1E3F1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A67CB-52C8-4AAE-8CE1-A7DEF831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85D83-FA95-44AD-AC2D-BB707443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ED1-4F20-431F-8045-2E557626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E5C06-38AF-4774-91C5-ADF6180F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FEDBE-C9BA-4ABC-837E-A32EE942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E90DE-C0C5-4EE7-87AA-1BACC128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8C07D-8FBC-4BB6-B72C-95DA7C0F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64898-BC4B-4B94-AFFE-07786170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A1193-022D-4DF0-8F56-477B0008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E164C-E356-4A1A-96EC-526C5612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7500BC-9F28-444C-99E6-3466BD01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DF839-C296-4CA0-B59D-4E5CF0B2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5BF334-C5F3-42A8-84B5-7B5A49E4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D4A-F4EC-4962-9878-54C8A80E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23591-39B9-4630-9751-207B05F0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5134E-D118-4232-8B81-020830D6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ADE95-85DE-43C9-8447-127687E0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0EF05-A1E5-4A7F-8A45-ADB13C6E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F7633-6F06-4FFA-AC62-F71B6FF0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AB749-082F-49FC-80A3-079FFF83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9820D-3E29-44CF-AD7D-A5C800D3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466B9-D661-4B50-A01D-79CEAF1C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4C3F2-D52D-4A91-A12E-456CA988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51465-CAE0-4538-B3A9-BD3218BF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11F-3746-4C7A-AAB5-9340385D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03668-EBF7-40A0-80B5-A09EEFF5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7EE36D-5C6B-4942-8714-6224B573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8BC2D-7FEC-400C-AFDC-499778AC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ED29B-9C3F-47C0-A433-612A8CD1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3D4D8-69CD-4336-B021-D9F12646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1F3-7EC3-4036-8653-172550C9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E095-8250-41C0-8C96-6E9C546B53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9C7A-EBEA-4562-B953-DCC5C35BC9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FE74-9E90-4C09-9FE9-1F23FE0EC1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EA35-AACD-4048-AC7C-CCBBC372C7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5A66-1D00-461E-9470-ECE908AC2A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E941-8D95-4B8E-B2CF-22172562F3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AAD3-BE08-4DC8-9D09-BADD83EC6F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57240" y="999720"/>
            <a:ext cx="35006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РАЗГОВОРНЫЙ СТИЛЬ РЕЧИ, </a:t>
            </a:r>
            <a:br>
              <a:rPr sz="2600"/>
            </a:b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ЕГО СТИЛЕВЫЕ ЧЕРТЫ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857320" y="4857480"/>
            <a:ext cx="5600520" cy="15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C:\Documents and Settings\Администратор.RM213A\Мои документы\foto\детишки\125041.jpg"/>
          <p:cNvPicPr/>
          <p:nvPr/>
        </p:nvPicPr>
        <p:blipFill>
          <a:blip r:embed="rId1"/>
          <a:stretch/>
        </p:blipFill>
        <p:spPr>
          <a:xfrm>
            <a:off x="5643720" y="1214280"/>
            <a:ext cx="30524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ЭТИКЕТ – ПРАВИЛА ВЕЖЛИВОС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Придворный этикет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– строго регламентируемый порядок и формы обхождения, установленные при дворах монархов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Дипломатический этикет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– правила поведения дипломатов и других официальных лиц при контактах друг с другом на различных дипломатических приёмах, визитах, переговорах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Воинский этикет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свод общепринятых в армии правил, норм и манер поведения военнослужащих во всех сферах их деятельност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Общегражданский этикет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– совокупность правил, традиций и условностей, соблюдаемых гражданами при общении друг с друг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ЗАПИШИТЕ ПРЕДЛОЖЕНИ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79725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4800" spc="-1" strike="noStrike">
                <a:solidFill>
                  <a:srgbClr val="002060"/>
                </a:solidFill>
                <a:latin typeface="Century Schoolbook"/>
              </a:rPr>
              <a:t>Н..)что (не) обходит(?)ся нам так дёш..во и (не)цен..т(?)ся так дорого</a:t>
            </a:r>
            <a:r>
              <a:rPr b="0" i="1" lang="ru-RU" sz="4800" spc="-1" strike="noStrike">
                <a:solidFill>
                  <a:srgbClr val="800000"/>
                </a:solidFill>
                <a:latin typeface="Century Schoolbook"/>
              </a:rPr>
              <a:t>__</a:t>
            </a:r>
            <a:r>
              <a:rPr b="0" i="1" lang="ru-RU" sz="4800" spc="-1" strike="noStrike">
                <a:solidFill>
                  <a:srgbClr val="002060"/>
                </a:solidFill>
                <a:latin typeface="Century Schoolbook"/>
              </a:rPr>
              <a:t> как вежливость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2060"/>
                </a:solidFill>
                <a:latin typeface="Century Schoolbook"/>
              </a:rPr>
              <a:t>Сервантес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СИТУАЦИЯ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Нарядная, оживлённая женщина входит в автобус; увидев её, рядом поднимается мальчик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-Садитесь, пожалуйста!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-Ну, что ты…Спасибо…Не надо…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-Садитесь, садитесь. Я всегда пожилым людям место уступаю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00000"/>
                </a:solidFill>
                <a:latin typeface="Century Schoolbook"/>
              </a:rPr>
              <a:t>В чём не прав мальчик?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СИТУАЦИЯ 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356840"/>
            <a:ext cx="782964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Две девочки, проходя мимо мальчика, рассыпали яблоки из пакета. Наклонились, собирают. Мальчик, внимательно наблюдая, говорит: "Вон там поднимите, пожалуйста, за стул закатилось"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00000"/>
                </a:solidFill>
                <a:latin typeface="Century Schoolbook"/>
              </a:rPr>
              <a:t>В чём не прав мальчик?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ВОСПИТЫВАЙТЕ В СЕБЕ ПРИВЫЧКУ ПОСТОЯННО ПОМНИТЬ ОБ ОКРУЖАЮЩИХ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79725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проталкивайся в толпе, помогая себе локтям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закрывай рот рукой, когда кашляешь или чихаешь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забывай говорить "волшебные слова"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оги пожилому человеку или малышу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если в компании что-нибудь разыгрывают или делят, старайся подойти последним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оги взрослым поддерживать чистоту окружающего нас мира: не сори на улице, в общественных местах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ни: ты –человек, веди себя по-человечески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entury Schoolbook"/>
              </a:rPr>
              <a:t>НАУЧИТЬСЯ ГОВОРИТЬ – ЗНАЧИТ НАУЧИТЬСЯ СТРОИТЬ ВЫСКАЗЫ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7467480" cy="5018040"/>
        </p:xfrm>
        <a:graphic>
          <a:graphicData uri="http://schemas.openxmlformats.org/drawingml/2006/table">
            <a:tbl>
              <a:tblPr/>
              <a:tblGrid>
                <a:gridCol w="2400480"/>
                <a:gridCol w="5067000"/>
              </a:tblGrid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ч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име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астная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епи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34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вид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-разговорный и разговорно-быто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ытия, погода, здоровье, нов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34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ая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преобладающая форма общения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ись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34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е че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инужденность, неподготовленность, эмоциона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2714760"/>
            <a:ext cx="746748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В разговорном стиле важнейшую роль играет звуковая сторона речи, и прежде всего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интонация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Непринуждённая речь отличается резкими повышениями и понижениями тона, удлинением, «растягиванием» гласных, скандированием гласных, паузами, изменениями темпа реч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C:\Documents and Settings\Администратор.RM213A\Мои документы\foto\детишки\175625.jpg"/>
          <p:cNvPicPr/>
          <p:nvPr/>
        </p:nvPicPr>
        <p:blipFill>
          <a:blip r:embed="rId1"/>
          <a:stretch/>
        </p:blipFill>
        <p:spPr>
          <a:xfrm>
            <a:off x="271440" y="142920"/>
            <a:ext cx="83962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ЛЕКСИКА ХАРАКТЕРИЗУЕТСЯ РАЗЛИЧНЫМИ ОТТЕНКАМИ ЭКСПРЕССИВНОЙ ОКРАСК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уществительные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: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балагур, враньё, ерунда, задира, злюка, картошка,</a:t>
            </a: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дурачина, чепуха, чушь, электричк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др.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лагательные: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долговязый, дотошный, носатый, нынешний, кусачий, развесёлый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т. д.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глаголы:  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вздремнуть,   вопить,   впихнуть,   грохнуться,  ехидничать,</a:t>
            </a: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жадничать, огорошить, прихворнуть, чудить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речия: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вкривь, вприкуску, втихомолку, донельзя, чуточку</a:t>
            </a:r>
            <a:r>
              <a:rPr b="0" i="1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entury Schoolbook"/>
              </a:rPr>
              <a:t>ФРАЗЕОЛОГИЗ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356840"/>
            <a:ext cx="746748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стилистически выразительны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содержат разнообразные экспрессивно-оценочные оттенки: иронический, пренебрежительный, шутливы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характеризуются структурным разнообразием: </a:t>
            </a:r>
            <a:r>
              <a:rPr b="1" i="1" lang="en-US" sz="2800" spc="-1" strike="noStrike">
                <a:solidFill>
                  <a:srgbClr val="002060"/>
                </a:solidFill>
                <a:latin typeface="Century Schoolbook"/>
              </a:rPr>
              <a:t>ветер в голове, глядеть в оба, ждать не дождаться, заварить кашу, лезть из кожи вон, обвести вокруг пальца, яблоку негде упасть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СЛОВООБРАЗОВАТЕЛЬНЫЕ ОСОБЕННОСТИ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РАЗГОВОРНОГО СТИЛЯ СВЯЗАНЫ С ЕГО</a:t>
            </a:r>
            <a:br>
              <a:rPr sz="2700"/>
            </a:br>
            <a:r>
              <a:rPr b="1" lang="en-US" sz="2700" spc="-1" strike="noStrike">
                <a:solidFill>
                  <a:srgbClr val="002060"/>
                </a:solidFill>
                <a:latin typeface="Century Schoolbook"/>
              </a:rPr>
              <a:t>ЭКСПРЕССИВНОСТЬЮ И ОЦЕНОЧНОСТЬЮ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разряде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уществительных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используются следующие суффиксы, придающие словам разговорный характер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к/-як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обряк, здоровяк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н/-ян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тарикан, грубиян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ч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бородач, силач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жк(а)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убрежка, кормежка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н(я)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беготня, пачкотн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ыш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глупыш, крепыш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яг(а)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оходяга, работяга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СЛОВООБРАЗОВАТЕЛЬНЫЕ ОСОБЕННОСТИ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РАЗГОВОРНОГО СТИЛЯ СВЯЗАНЫ С ЕГО</a:t>
            </a:r>
            <a:br>
              <a:rPr sz="2700"/>
            </a:br>
            <a:r>
              <a:rPr b="1" lang="en-US" sz="2700" spc="-1" strike="noStrike">
                <a:solidFill>
                  <a:srgbClr val="002060"/>
                </a:solidFill>
                <a:latin typeface="Century Schoolbook"/>
              </a:rPr>
              <a:t>ЭКСПРЕССИВНОСТЬЮ И ОЦЕНОЧНОСТЬЮ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ля прилагательных, имеющих разговорный характер, можно выделить суффиксы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аст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глазастый, языкасты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енн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доровенный, обалденны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 разговорной лексике относятся глаголы на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ничать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бродяжничать, жеманничать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ивать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шаливать, поговаривать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СИНТАКСИ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071720"/>
            <a:ext cx="77580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Широкое    использование   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вопросительных    и   побудительных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предложений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Кого они любят? Что им надо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М. Горький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За что ты его терзаешь? Ну, иди, старик! Марш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М. Горький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Использование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неполных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предложений в диалоге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А что, Денисов хороший? - спросила она. – Хороший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СИНТАКСИ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Часто допускаются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лексические повторы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Надо,   чтоб парень был видный,   из себя красивый. Да,  да,  да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Н. Островский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В   устной   разговорной  речи   много   своеобразных 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оборотов,   не свойственных книжной речи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Люди как люди. Что за человек! Нашел с кем дружить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ЧКА</cp:lastModifiedBy>
  <dcterms:modified xsi:type="dcterms:W3CDTF">2011-10-02T13:49:50Z</dcterms:modified>
  <cp:revision>5</cp:revision>
  <dc:subject/>
  <dc:title>Разговорный стиль речи,  его стилевые черты</dc:title>
</cp:coreProperties>
</file>