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A18-AD87-4117-AC6E-70648116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DB3-77B8-446B-B457-49DACD2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2BD-F441-42F0-A445-8346505C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131-9475-4593-846C-D784FC4E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FEE-A1F7-461B-9B43-66ECA301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DA8-3F5B-4FF2-9E15-011DFD7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B64-0F08-40AD-8CC0-92B5E81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B3AD-86E7-4B8F-89C3-DA2A778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7CD0-38FE-44FA-B3E5-3E0FF55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9EA2-F9D2-42B4-92E3-9DF07F5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77A-AE4C-484E-A0B3-501CC5B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0D6-5953-4338-9370-F89EA115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DDF-20B0-4D44-ACCC-74D3C8E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98C-0BAC-4D9D-B407-C7AEA54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74D2-DE39-4686-BB8F-903C5BB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CBF-C590-4C3B-93AC-1A9E81E1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9D4-9F1F-4B93-990E-DB1C6B53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F6027-AA09-4D8B-893D-27EA118D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EDDEC-C294-4C4A-A2B6-254A602F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3F37B-5916-4818-A352-F843D945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BD98B-A3A1-4BBA-8073-5B12DF95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11F0E-9275-468E-892C-AC68EE2C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987-C6A4-4EFF-BDF5-8F7D8A9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F2DE7-C2B6-4860-A6E6-945F58C5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2FF8F-9800-4A5D-B96E-7FCA9A3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ECAB5-ACF4-406A-AE66-DA6C8AB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07819-1286-4D02-B9BA-BC52FF8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8104F-124F-4D0A-8147-041BF1A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9ABBD-C26E-458E-82F9-E24BF57E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EEF25-54A5-4DFA-8454-347868F4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855D-EBED-4E54-B7B8-8AE9721D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48921-262F-4AEE-803F-E1F578F2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CF87-F65D-4103-9397-17E11E4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FC5-5CF2-418A-8BEC-6EBD78E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FEE9-E28A-45F3-8CF2-61D24982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602C-6571-4093-920D-EDAA1F9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99BA-AB82-4F34-8E65-6D848F5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52EB-CCAF-4146-AC64-996907B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89FA-A3A0-4C6B-BC35-712EC8F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0C13-9EE8-428F-A2F5-8FA1820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B9C3-7A9D-4A17-B97F-F00545B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314B-F20B-4D5A-9D75-064F2CD3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C3A1-81DF-4047-ACFD-54E1C60D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3DF25-DCD5-4860-82C0-108E33CC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B64-4030-4651-BECB-234B935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88CA5-B153-42D0-84AA-3B0AEFD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99B0B-B446-4ACD-BF35-CBDD72D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8FA1D-2096-4BB7-A435-36000971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B498C-E24F-462F-A904-45C2EC0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FDE7F-FD17-4985-985E-A0DEBFA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BD963-0B98-433F-8AD0-17FE8EC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76895-46D8-4CCF-BB0E-2248C31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1906C-54DA-43C7-BB5F-57833D9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FD5DD-CE90-4835-8B2A-333C9526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71732-C69E-4EF4-8FD9-11BB43E8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88F-99D3-4184-94EB-49E061E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FF173-0543-469D-B409-2F16285E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2500D-5036-4E9D-B4DD-56498E2B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20CEE-66D3-471E-97CF-94F3DD0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20229-0022-4E52-B466-33F40D4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AA3D2-3F03-4D98-951F-77242D1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CAAE0-0216-4C59-A3CD-BE58BF1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34235-819D-4B4C-BACE-509B0F2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0B8B8-DB4B-401C-8ADF-6CCAF12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1698E-DFAA-4AEF-9729-2E1D0DC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F6413-5A44-4E47-A8C1-E18BD1F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871-0FC2-4591-93D5-A787E1B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DA1D6-B813-4918-9A3B-B834510A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7DC5B-A09B-4B98-9441-5F46EED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A19E2-1DD1-4CE2-B099-4F6EBB12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8E3F6-96B2-4389-88A0-3E70042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ABB08-4AF0-427B-96B8-74F6E0A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22E6A-EDB4-4AEB-8467-63A97639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0F410-A668-4449-9943-3C4619A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D8F38-EB38-4461-86FA-DF9DC56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08B0A-1584-4025-8A63-3EC12CE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95C43-9F77-4230-9B43-6B5AF63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3B0-E905-4F1A-9044-2097F0E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D9D59-11B7-4183-92AF-F548876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287A0-87A2-457F-B6CD-48FDA8D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3FE46-84F4-4AD1-99D6-017BAB6A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FBC17-F3CF-4A52-8DB1-8BA8E0FC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09116-DD77-4620-8C2E-27810934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8FE-E7C8-4C5D-95BA-619C5D1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0C0C-B061-4B0E-89C0-6DC83E3083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D1E-5D94-4603-9A00-92FD5F5F39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FB0-B1AE-4CBB-B33A-A262971F40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F46-6F1C-457C-B25F-E09FAA1329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8051-60D8-4B88-9975-9D97FBBD0E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B144-8224-461B-8F09-B0EC443B52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8F8-8DB7-4459-B316-6933078412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7240" y="999720"/>
            <a:ext cx="35006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РАЗГОВОРНЫЙ СТИЛЬ РЕЧИ, </a:t>
            </a:r>
            <a:br>
              <a:rPr sz="2600"/>
            </a:b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ЕГО СТИЛЕВЫЕ ЧЕРТЫ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57320" y="4857480"/>
            <a:ext cx="5600520" cy="15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Documents and Settings\Администратор.RM213A\Мои документы\foto\детишки\12504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0524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ЭТИКЕТ – ПРАВИЛА ВЕЖЛИВ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Придворны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строго регламентируемый порядок и формы обхождения, установленные при дворах монарх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Дипломатиче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– правила поведения дипломатов и других официальных лиц при контактах друг с другом на различных дипломатических приёмах, визитах, переговор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Воинский этикет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свод общепринятых в армии правил, норм и манер поведения военнослужащих во всех сферах их деятельност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Общегражданский этикет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– совокупность правил, традиций и условностей, соблюдаемых гражданами при общении друг с друг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ЗАПИШИТЕ ПРЕДЛОЖЕНИ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Н..)что (не) обходит(?)ся нам так дёш..во и (не)цен..т(?)ся так дорого</a:t>
            </a:r>
            <a:r>
              <a:rPr b="0" i="1" lang="ru-RU" sz="4800" spc="-1" strike="noStrike">
                <a:solidFill>
                  <a:srgbClr val="800000"/>
                </a:solidFill>
                <a:latin typeface="Century Schoolbook"/>
              </a:rPr>
              <a:t>__</a:t>
            </a:r>
            <a:r>
              <a:rPr b="0" i="1" lang="ru-RU" sz="4800" spc="-1" strike="noStrike">
                <a:solidFill>
                  <a:srgbClr val="002060"/>
                </a:solidFill>
                <a:latin typeface="Century Schoolbook"/>
              </a:rPr>
              <a:t> как вежливость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800" spc="-1" strike="noStrike">
                <a:solidFill>
                  <a:srgbClr val="002060"/>
                </a:solidFill>
                <a:latin typeface="Century Schoolbook"/>
              </a:rPr>
              <a:t>Сервантес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ТУАЦИЯ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Нарядная, оживлённая женщина входит в автобус; увидев её, рядом поднимается мальчик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пожалуйста!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Ну, что ты…Спасибо…Не надо…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-Садитесь, садитесь. Я всегда пожилым людям место уступаю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СИТУАЦИЯ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356840"/>
            <a:ext cx="782964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Две девочки, проходя мимо мальчика, рассыпали яблоки из пакета. Наклонились, собирают. Мальчик, внимательно наблюдая, говорит: "Вон там поднимите, пожалуйста, за стул закатилось"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Century Schoolbook"/>
              </a:rPr>
              <a:t>В чём не прав мальчик?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ВОСПИТЫВАЙТЕ В СЕБЕ ПРИВЫЧКУ ПОСТОЯННО ПОМНИТЬ ОБ ОКРУЖАЮЩИХ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роталкивайся в толпе, помогая себе локтям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акрывай рот рукой, когда кашляешь или чихаешь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забывай говорить "волшебные слова"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пожилому человеку или малыш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если в компании что-нибудь разыгрывают или делят, старайся подойти последним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ги взрослым поддерживать чистоту окружающего нас мира: не сори на улице, в общественных места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ни: ты –человек, веди себя по-человечески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Century Schoolbook"/>
              </a:rPr>
              <a:t>НАУЧИТЬСЯ ГОВОРИТЬ – ЗНАЧИТ НАУЧИТЬСЯ СТРОИТЬ ВЫСКАЗЫ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7467480" cy="5018040"/>
        </p:xfrm>
        <a:graphic>
          <a:graphicData uri="http://schemas.openxmlformats.org/drawingml/2006/table">
            <a:tbl>
              <a:tblPr/>
              <a:tblGrid>
                <a:gridCol w="2400480"/>
                <a:gridCol w="5067000"/>
              </a:tblGrid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име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а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п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ви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-разговорный и разговорно-быт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я, погода, здоровье, нов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ая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преобладающая форма общения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ись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34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нужденность, неподготовленность, эмо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714760"/>
            <a:ext cx="746748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разговорном стиле важнейшую роль играет звуковая сторона речи, и прежде всего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интонаци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Непринуждённая речь отличается резкими повышениями и понижениями тона, удлинением, «растягиванием» гласных, скандированием гласных, паузами, изменениями темпа реч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Documents and Settings\Администратор.RM213A\Мои документы\foto\детишки\175625.jpg"/>
          <p:cNvPicPr/>
          <p:nvPr/>
        </p:nvPicPr>
        <p:blipFill>
          <a:blip r:embed="rId1"/>
          <a:stretch/>
        </p:blipFill>
        <p:spPr>
          <a:xfrm>
            <a:off x="271440" y="142920"/>
            <a:ext cx="8396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ЛЕКСИКА ХАРАКТЕРИЗУЕТСЯ РАЗЛИЧНЫМИ ОТТЕНКАМИ ЭКСПРЕССИВНОЙ ОКРАСК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уществительные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балагур, враньё, ерунда, задира, злюка, картошка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урачина, чепуха, чушь, электрич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лагательные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долговязый, дотошный, носатый, нынешний, кусачий, развесёлый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лаголы:  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здремнуть,   вопить,   впихнуть,   грохнуться,  ехидничать,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жадничать, огорошить, прихворнуть, чудит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речия: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вкривь, вприкуску, втихомолку, донельзя, чуточку</a:t>
            </a:r>
            <a:r>
              <a:rPr b="0" i="1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Schoolbook"/>
              </a:rPr>
              <a:t>ФРАЗЕОЛОГИЗ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тилистически выразительн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держат разнообразные экспрессивно-оценочные оттенки: иронический, пренебрежительный, шутлив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характеризуются структурным разнообразием: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ветер в голове, глядеть в оба, ждать не дождаться, заварить кашу, лезть из кожи вон, обвести вокруг пальца, яблоку негде упасть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разряде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уществительных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спользуются следующие суффиксы, придающие словам разговорный характер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/-як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бряк, здоровяк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н/-ян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тарикан, грубиян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ч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ородач, силач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жк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убрежка, кормежк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н(я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еготня, пачкотн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ыш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упыш, крепыш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яг(а)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ходяга, работяга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СЛОВООБРАЗОВАТЕЛЬНЫЕ ОСОБЕННОСТИ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РАЗГОВОРНОГО СТИЛЯ СВЯЗАНЫ С ЕГО</a:t>
            </a:r>
            <a:br>
              <a:rPr sz="2700"/>
            </a:br>
            <a:r>
              <a:rPr b="1" lang="en-US" sz="2700" spc="-1" strike="noStrike">
                <a:solidFill>
                  <a:srgbClr val="002060"/>
                </a:solidFill>
                <a:latin typeface="Century Schoolbook"/>
              </a:rPr>
              <a:t>ЭКСПРЕССИВНОСТЬЮ И ОЦЕНОЧНОСТЬЮ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ля прилагательных, имеющих разговорный характер, можно выделить суффикс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ас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лазастый, языкаст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енн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доровенный, обалденны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 разговорной лексике относятся глаголы н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нич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родяжничать, жеманнич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вать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шаливать, поговаривать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07172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Широкое    использование  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вопросительных    и   побудитель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предложен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Кого они любят? Что им надо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За что ты его терзаешь? Ну, иди, старик! Марш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М. Горь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Использование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неполных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предложений в диалог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А что, Денисов хороший? - спросила она. – Хороший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СИНТАКСИ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Часто допускаются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лексические повторы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Надо,   чтоб парень был видный,   из себя красивый. Да,  да,  да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Н. Островский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В   устной   разговорной  речи   много   своеобразных 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оборотов,   не свойственных книжной реч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Люди как люди. Что за человек! Нашел с кем дружи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ЧКА</cp:lastModifiedBy>
  <dcterms:modified xsi:type="dcterms:W3CDTF">2011-10-02T13:49:50Z</dcterms:modified>
  <cp:revision>5</cp:revision>
  <dc:subject/>
  <dc:title>Разговорный стиль речи,  его стилевые черты</dc:title>
</cp:coreProperties>
</file>