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93B-9A1A-43C5-85EC-3DA06CFA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3C3-9493-42FC-8838-FB5BC406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CAD-3F8B-4A83-9493-FBB631AD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DD4-3BD5-4208-97F6-4B672617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028C-D706-4D23-AAC1-AB6C3D60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1302-B27E-4B84-AFA3-94F070D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34B-CBC1-4DFD-9FF1-40BC668F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0F65-9230-4FCB-86C7-EB10501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015-84C7-4059-AD67-B944F4B1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FBA-1D00-4C3C-80BC-20184AB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F850-C5F5-4701-B489-A0CC13C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E00-2DC3-468F-99FA-BCE0F7A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5E50-3BD1-4A24-9F63-F3A3645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7951-2A77-4499-A4A4-4CD9869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79BB-F49A-42C0-A11D-35EE999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A406-4345-472B-A1BD-68934631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29C9-56D3-4CF2-90E7-180F42F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7464-0DF7-40B0-9C34-3206C677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E9F7C-D7F2-460D-86EF-DF979C7E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A2243-06DF-4AA0-9F1C-02DA1B8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1596F-864A-4C3D-92E7-75D28529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2FE7D-1581-45B1-9DBE-8469590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89F-8DB9-4BE2-AB36-C15BFE87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4FB7E-9F94-4361-BA58-8DF67F12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3750C-297E-4286-8EB0-F7BDD53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DE8EC-F1FD-4DD2-AC29-128B981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BAE0F-53C5-41A4-9226-C8066B1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FD407-2625-449C-B334-1DFF32B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7123D-703B-4935-8F4D-8970E7D5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15A67-8369-4745-8907-D5707831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EFB6-CA5D-4B97-AA74-B3EFFB27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DA38-9A20-48E8-BD52-1008F83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3D8E-DA08-4E75-9DC3-83689D1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D60-07D3-45B1-84D6-A62B0799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85EA-3720-420D-936C-82BCD947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3CC2-D4CC-4E3A-B83F-6504044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9813-EA3C-4246-8AD9-40D1B6DE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1F05-D624-4E8D-ACA3-295B495F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8D1E-E3DB-429F-9C6C-B5F116B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AB70-FE53-4AD2-8F4C-CB5D8362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69C1-9E9E-42CF-A2F1-F397E9C4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BD60-8A2B-496C-B0AD-6DE61B19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6935-F944-49EB-86FF-B3E41FC1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0524C-C415-4064-8321-B50F962A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4BC-9A65-4915-A210-8C50152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B431F-813A-42AF-B5D7-17DB65E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EA075-A478-4469-8AA3-7CB1F30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D3D33-101E-4845-A002-95848D7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E8CBB-FE04-470C-8C5C-8FFBD4B6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97397-3AA6-45F6-B120-4211152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462C5-5B85-4F67-92FD-A9EDF87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E45C5-0396-469A-A784-8CCDDA5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DCC1E-AED6-46D2-A8B2-76BFA8D5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46AFC-240B-477C-9EC0-864536F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E34ED-4AA8-4491-8207-8AD3FFD2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13C-ADEB-4FC9-A5C2-46DA10C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27A8B-211B-417C-A32D-12B4FCE7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433C6-A675-4C71-9F18-CEE557D8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4C838-56F2-4054-87E1-01A8309B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51790-1B8B-461A-AFD6-52A32367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1A8E0-5413-4538-BE44-169EAD0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7E696-ED06-4CC0-B62B-0F92FEE1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D71DE-C967-4511-BC76-2EAB1323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4B53B-C05B-4CD5-A009-AB7F866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3F73F-0043-4963-902E-7A01900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DAC30-A856-4B7F-ABE3-D484A0E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5E5-84CA-48F7-A8A8-481AEBD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4EDDF-4E4F-42F6-816B-12345720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48E3A-AC76-42A1-9645-23D3CF92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7872F-F366-450C-955D-EF1CEF3A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68439-C754-414D-BB65-50C4B2C8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0E955-B8DF-42A4-ACE9-C3DF0977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F3ECE-3901-47A9-B677-F16DAFE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1135F-6ED9-40BE-9557-6CF827FF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6198A-EDED-4FB4-924A-E9380F3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CFFE0-261D-4256-A3A9-79D1DA4F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F7F44-69FB-4BE8-9930-FA5BD76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F93-0EF8-4DB7-BAE7-40EB36E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F36E4-8CEE-4F41-A8E2-458BAC8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C1999-18FC-4261-88F9-2E18FD11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D3094-53D4-45E5-9B81-6ADFFC6A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8597C-B47E-403F-839B-FF99852F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8DEBE-C294-4595-8796-84EA30B1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F0C-6AE1-47FE-80B1-1C9FCD4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959A-D924-4ED1-A6BE-CAF4F3E897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19A-1D34-4129-96CA-227A5C497E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C635-6BBA-4E04-B0C3-714B078BD2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57F-5CD1-419B-9F5C-A1F8E39385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AC8A-3016-4AF9-BB45-CD121A4D9F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69C-6C28-43BC-9EDA-175BC484F0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7693-3EB9-4C56-BF2D-7B700EA3DC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57240" y="999720"/>
            <a:ext cx="35006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РАЗГОВОРНЫЙ СТИЛЬ РЕЧИ, </a:t>
            </a:r>
            <a:br>
              <a:rPr sz="2600"/>
            </a:b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ЕГО СТИЛЕВЫЕ ЧЕРТЫ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57320" y="4857480"/>
            <a:ext cx="5600520" cy="15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Documents and Settings\Администратор.RM213A\Мои документы\foto\детишки\125041.jpg"/>
          <p:cNvPicPr/>
          <p:nvPr/>
        </p:nvPicPr>
        <p:blipFill>
          <a:blip r:embed="rId1"/>
          <a:stretch/>
        </p:blipFill>
        <p:spPr>
          <a:xfrm>
            <a:off x="5643720" y="1214280"/>
            <a:ext cx="30524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ЭТИКЕТ – ПРАВИЛА ВЕЖЛИВ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Придворны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– строго регламентируемый порядок и формы обхождения, установленные при дворах монархов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Дипломатически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– правила поведения дипломатов и других официальных лиц при контактах друг с другом на различных дипломатических приёмах, визитах, переговор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Воински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свод общепринятых в армии правил, норм и манер поведения военнослужащих во всех сферах их деятельност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Общегражданский этикет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– совокупность правил, традиций и условностей, соблюдаемых гражданами при общении друг с друг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ЗАПИШИТЕ ПРЕДЛОЖЕНИ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800" spc="-1" strike="noStrike">
                <a:solidFill>
                  <a:srgbClr val="002060"/>
                </a:solidFill>
                <a:latin typeface="Century Schoolbook"/>
              </a:rPr>
              <a:t>Н..)что (не) обходит(?)ся нам так дёш..во и (не)цен..т(?)ся так дорого</a:t>
            </a:r>
            <a:r>
              <a:rPr b="0" i="1" lang="ru-RU" sz="4800" spc="-1" strike="noStrike">
                <a:solidFill>
                  <a:srgbClr val="800000"/>
                </a:solidFill>
                <a:latin typeface="Century Schoolbook"/>
              </a:rPr>
              <a:t>__</a:t>
            </a:r>
            <a:r>
              <a:rPr b="0" i="1" lang="ru-RU" sz="4800" spc="-1" strike="noStrike">
                <a:solidFill>
                  <a:srgbClr val="002060"/>
                </a:solidFill>
                <a:latin typeface="Century Schoolbook"/>
              </a:rPr>
              <a:t> как вежливость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2060"/>
                </a:solidFill>
                <a:latin typeface="Century Schoolbook"/>
              </a:rPr>
              <a:t>Сервантес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ТУАЦИЯ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Нарядная, оживлённая женщина входит в автобус; увидев её, рядом поднимается мальчик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Садитесь, пожалуйста!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Ну, что ты…Спасибо…Не надо…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Садитесь, садитесь. Я всегда пожилым людям место уступаю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Century Schoolbook"/>
              </a:rPr>
              <a:t>В чём не прав мальчик?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СИТУАЦИЯ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356840"/>
            <a:ext cx="782964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Две девочки, проходя мимо мальчика, рассыпали яблоки из пакета. Наклонились, собирают. Мальчик, внимательно наблюдая, говорит: "Вон там поднимите, пожалуйста, за стул закатилось"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Century Schoolbook"/>
              </a:rPr>
              <a:t>В чём не прав мальчик?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ВОСПИТЫВАЙТЕ В СЕБЕ ПРИВЫЧКУ ПОСТОЯННО ПОМНИТЬ ОБ ОКРУЖАЮЩИХ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проталкивайся в толпе, помогая себе локтям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акрывай рот рукой, когда кашляешь или чихаешь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забывай говорить "волшебные слова"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ги пожилому человеку или малышу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если в компании что-нибудь разыгрывают или делят, старайся подойти последним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ги взрослым поддерживать чистоту окружающего нас мира: не сори на улице, в общественных местах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ни: ты –человек, веди себя по-человечески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entury Schoolbook"/>
              </a:rPr>
              <a:t>НАУЧИТЬСЯ ГОВОРИТЬ – ЗНАЧИТ НАУЧИТЬСЯ СТРОИТЬ ВЫСКАЗЫ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7467480" cy="5018040"/>
        </p:xfrm>
        <a:graphic>
          <a:graphicData uri="http://schemas.openxmlformats.org/drawingml/2006/table">
            <a:tbl>
              <a:tblPr/>
              <a:tblGrid>
                <a:gridCol w="2400480"/>
                <a:gridCol w="5067000"/>
              </a:tblGrid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ч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име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астная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п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ви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-разговорный и разговорно-быт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ытия, погода, здоровье, нов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ая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преобладающая форма общения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ись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нужденность, неподготовленность, эмоцион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714760"/>
            <a:ext cx="746748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В разговорном стиле важнейшую роль играет звуковая сторона речи, и прежде всего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интонаци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Непринуждённая речь отличается резкими повышениями и понижениями тона, удлинением, «растягиванием» гласных, скандированием гласных, паузами, изменениями темпа реч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C:\Documents and Settings\Администратор.RM213A\Мои документы\foto\детишки\175625.jpg"/>
          <p:cNvPicPr/>
          <p:nvPr/>
        </p:nvPicPr>
        <p:blipFill>
          <a:blip r:embed="rId1"/>
          <a:stretch/>
        </p:blipFill>
        <p:spPr>
          <a:xfrm>
            <a:off x="271440" y="142920"/>
            <a:ext cx="8396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ЛЕКСИКА ХАРАКТЕРИЗУЕТСЯ РАЗЛИЧНЫМИ ОТТЕНКАМИ ЭКСПРЕССИВНОЙ ОКРАСК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уществительные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балагур, враньё, ерунда, задира, злюка, картошка,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дурачина, чепуха, чушь, электрич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лагательные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долговязый, дотошный, носатый, нынешний, кусачий, развесёлый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т. д.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лаголы:  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вздремнуть,   вопить,   впихнуть,   грохнуться,  ехидничать,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жадничать, огорошить, прихворнуть, чудит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речия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вкривь, вприкуску, втихомолку, донельзя, чуточку</a:t>
            </a:r>
            <a:r>
              <a:rPr b="0" i="1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Schoolbook"/>
              </a:rPr>
              <a:t>ФРАЗЕОЛОГИЗ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тилистически выразительны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держат разнообразные экспрессивно-оценочные оттенки: иронический, пренебрежительный, шутлив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характеризуются структурным разнообразием: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ветер в голове, глядеть в оба, ждать не дождаться, заварить кашу, лезть из кожи вон, обвести вокруг пальца, яблоку негде упасть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СЛОВООБРАЗОВАТЕЛЬНЫЕ ОСОБЕННОСТИ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РАЗГОВОРНОГО СТИЛЯ СВЯЗАНЫ С ЕГО</a:t>
            </a:r>
            <a:br>
              <a:rPr sz="2700"/>
            </a:br>
            <a:r>
              <a:rPr b="1" lang="en-US" sz="2700" spc="-1" strike="noStrike">
                <a:solidFill>
                  <a:srgbClr val="002060"/>
                </a:solidFill>
                <a:latin typeface="Century Schoolbook"/>
              </a:rPr>
              <a:t>ЭКСПРЕССИВНОСТЬЮ И ОЦЕНОЧНОСТЬ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разряде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уществительных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спользуются следующие суффиксы, придающие словам разговорный характер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/-як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бряк, здоровяк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н/-ян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тарикан, грубиян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ч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ородач, силач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жк(а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убрежка, кормежк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н(я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еготня, пачкотн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ыш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лупыш, крепыш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яг(а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ходяга, работяг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СЛОВООБРАЗОВАТЕЛЬНЫЕ ОСОБЕННОСТИ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РАЗГОВОРНОГО СТИЛЯ СВЯЗАНЫ С ЕГО</a:t>
            </a:r>
            <a:br>
              <a:rPr sz="2700"/>
            </a:br>
            <a:r>
              <a:rPr b="1" lang="en-US" sz="2700" spc="-1" strike="noStrike">
                <a:solidFill>
                  <a:srgbClr val="002060"/>
                </a:solidFill>
                <a:latin typeface="Century Schoolbook"/>
              </a:rPr>
              <a:t>ЭКСПРЕССИВНОСТЬЮ И ОЦЕНОЧНОСТЬ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ля прилагательных, имеющих разговорный характер, можно выделить суффикс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аст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лазастый, языкаст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енн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доровенный, обалденн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 разговорной лексике относятся глаголы н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ничать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родяжничать, жеманничать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вать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шаливать, поговаривать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НТАКСИ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07172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Широкое    использование   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вопросительных    и   побудительных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предложени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Кого они любят? Что им надо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М. Горь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За что ты его терзаешь? Ну, иди, старик! Марш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М. Горь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Использование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неполных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предложений в диалог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А что, Денисов хороший? - спросила она. – Хороший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НТАКСИ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Часто допускаются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лексические повторы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Надо,   чтоб парень был видный,   из себя красивый. Да,  да,  да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Н. Островс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В   устной   разговорной  речи   много   своеобразных 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оборотов,   не свойственных книжной реч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Люди как люди. Что за человек! Нашел с кем дружи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ЧКА</cp:lastModifiedBy>
  <dcterms:modified xsi:type="dcterms:W3CDTF">2011-10-02T13:49:50Z</dcterms:modified>
  <cp:revision>5</cp:revision>
  <dc:subject/>
  <dc:title>Разговорный стиль речи,  его стилевые черты</dc:title>
</cp:coreProperties>
</file>