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3C7-C93C-4E90-A520-3F3DA4B1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B6F-77F3-4C58-996A-3C7F2511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6B7-8C63-459D-91CA-974DD913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089-B633-4991-9F6B-322F80A6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D45-BBC4-49A7-80C0-7869859F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1F9-482E-43E9-800F-E6F905F8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5DD-C065-4CC2-87E3-03E9722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3F9-43A7-4D7D-B0CA-2B0AA01F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A30-2632-4B5A-AD59-EAE300A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624-4EAA-4AB0-B8A1-3F7833D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5BD-5161-4CF8-8F9E-D82CB83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F7F-BF33-4063-BC88-19C6D12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5923-240B-4F23-90BB-9AB03425E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57200" y="6429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СТЫНЯ и её об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28800" y="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А – очень своеобразное животное, обитающее в пустыне. По виду напоминает нашего зайца. Отличается лишь более короткими ногами и закругленными у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мара.jpg"/>
          <p:cNvPicPr/>
          <p:nvPr/>
        </p:nvPicPr>
        <p:blipFill>
          <a:blip r:embed="rId2"/>
          <a:stretch/>
        </p:blipFill>
        <p:spPr>
          <a:xfrm>
            <a:off x="1357200" y="1285920"/>
            <a:ext cx="6643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ИКАТ – млекопитающее, живущее в пустынях Южной Америки. Живут целыми «поселениями», состоящее из 3-4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928960" y="228600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мы видим, что и в суровых условиях пустыни животные находят способы спастись от жары, добыть нужную влагу, использовать особые свойства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живые существа, обитающие в пустыне, выработали особые приспособления, чтобы переносить жару, недостаток воды, резкие перепады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ур.jpg"/>
          <p:cNvPicPr/>
          <p:nvPr/>
        </p:nvPicPr>
        <p:blipFill>
          <a:blip r:embed="rId2"/>
          <a:stretch/>
        </p:blipFill>
        <p:spPr>
          <a:xfrm>
            <a:off x="2357280" y="0"/>
            <a:ext cx="4643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14200" y="3429000"/>
            <a:ext cx="39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ИБО                                                  за   ВНИМ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1143000" y="9288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людей думают  пустыня – это пустое голое место, где нет ничего живого – ни растений , ни животных. Но это не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28760" y="4287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устыни покрыта растительностью. Здесь обитает довольно много разнообразны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блюды – самые большие животные пустыни. Организм верблюда приспособлен к экономному расходованию воды. Верблюд не потеет и долгое время может не пить, при этом теряя до 40% своего веса. Но получив доступ к воде может выпить за раз до 50 ли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песчанка.jpg"/>
          <p:cNvPicPr/>
          <p:nvPr/>
        </p:nvPicPr>
        <p:blipFill>
          <a:blip r:embed="rId2"/>
          <a:stretch/>
        </p:blipFill>
        <p:spPr>
          <a:xfrm>
            <a:off x="214200" y="2143080"/>
            <a:ext cx="3643560" cy="2833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песч.jpg"/>
          <p:cNvPicPr/>
          <p:nvPr/>
        </p:nvPicPr>
        <p:blipFill>
          <a:blip r:embed="rId3"/>
          <a:stretch/>
        </p:blipFill>
        <p:spPr>
          <a:xfrm>
            <a:off x="1571760" y="3500280"/>
            <a:ext cx="3884400" cy="3092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туш.jpg"/>
          <p:cNvPicPr/>
          <p:nvPr/>
        </p:nvPicPr>
        <p:blipFill>
          <a:blip r:embed="rId4"/>
          <a:stretch/>
        </p:blipFill>
        <p:spPr>
          <a:xfrm>
            <a:off x="4429080" y="2000160"/>
            <a:ext cx="4429080" cy="3229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428760" y="2858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устынях обитают  грызуны — песчанки и тушканчики. Эти животные ведут ночной образ жизни. Днем, когда солнце печет немилосердно, эти животные находят себе убежище в глубоких прохладных норках. Воду  они добывают из сочных частей растений — листьев, зеленых веточек, корневищ и луков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57120" y="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ске нелегко вырыть нору, если он сухой и сразу осыпается. Зато в таком песке легко просто зарыться с головой, и не каждый хищник догадается, куда делась его добыча. Многие обитатели пустыни  используют такой способ защиты, зарываясь в песок за несколько секунд. Так поступает ящерица – ушастая  круглоголовка. Для того чтобы быстро двигаться по сыпучему песку, у животных песчаных пустынь есть различные приспособления. На лапках многих ящериц и насекомых чешуйки или щетинки образуют специальные щ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кругло.jpg"/>
          <p:cNvPicPr/>
          <p:nvPr/>
        </p:nvPicPr>
        <p:blipFill>
          <a:blip r:embed="rId2"/>
          <a:stretch/>
        </p:blipFill>
        <p:spPr>
          <a:xfrm>
            <a:off x="285840" y="3214800"/>
            <a:ext cx="4071960" cy="3295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ушас.JPG"/>
          <p:cNvPicPr/>
          <p:nvPr/>
        </p:nvPicPr>
        <p:blipFill>
          <a:blip r:embed="rId3"/>
          <a:stretch/>
        </p:blipFill>
        <p:spPr>
          <a:xfrm>
            <a:off x="4714920" y="2928960"/>
            <a:ext cx="414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5286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м в песчаной пустыне тоже неудобно ползать обычным способом: извивающемуся телу нет прочной опоры. У некоторых видов пустынных змей выработался особый «боковой ход». Змея не ползет вперед, а как бы перекладывает вбок одну половину тела, чуть приподняв ее над землей, а затем подтягивает к ней другую.  Так передвигается песчаная э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 из самых обычных пустынных животных — черепахи. Период активности у среднеазиатских степных черепах очень короткий — лишь 2—3 месяца в году. Выйдя ранней весной из зимовочных нор, черепахи сразу же приступают к размножению, а в мае — июне самки откладывают в песок яйца. Уже в конце июня почти не встретишь черепах на поверхности земли — они все зарылись в глубь  почвы и залегли в спячку до следующей весны. Молодые черепашки, появившись из яиц осенью, остаются зимовать в песке и выходят на поверхность только ве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tortoise_resting_big.jpg"/>
          <p:cNvPicPr/>
          <p:nvPr/>
        </p:nvPicPr>
        <p:blipFill>
          <a:blip r:embed="rId2"/>
          <a:stretch/>
        </p:blipFill>
        <p:spPr>
          <a:xfrm>
            <a:off x="762120" y="2214720"/>
            <a:ext cx="761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viewer.png"/>
          <p:cNvPicPr/>
          <p:nvPr/>
        </p:nvPicPr>
        <p:blipFill>
          <a:blip r:embed="rId2"/>
          <a:srcRect l="0" t="0" r="0" b="17422"/>
          <a:stretch/>
        </p:blipFill>
        <p:spPr>
          <a:xfrm>
            <a:off x="428760" y="1562040"/>
            <a:ext cx="8358120" cy="5081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928800" y="2858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ХАННАЯ кошка – обитает в засушливых пустынных районах Центральной Азии и в пустыне Сахара в Африке. Как и все кошачьи – плотоядный хи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4:11:51Z</dcterms:created>
  <dc:creator>Пользователь</dc:creator>
  <dc:description/>
  <dc:language>en-US</dc:language>
  <cp:lastModifiedBy>Кирьянова.Е</cp:lastModifiedBy>
  <dcterms:modified xsi:type="dcterms:W3CDTF">2012-11-22T11:49:41Z</dcterms:modified>
  <cp:revision>80</cp:revision>
  <dc:subject/>
  <dc:title>Животные степи</dc:title>
</cp:coreProperties>
</file>