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0B13-E4E3-418E-8531-6F2543AE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A46-61BB-409A-90A6-EC26744A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8F56-B888-4D4F-8A45-A699054F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34F-2D4F-4E82-94B5-A9437B92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E86A-F7A4-4689-A856-800568F8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1F6-F700-4B20-9883-43765BAC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09E5-2814-4242-9D84-7CDFC67C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0C9-7B9B-4812-BDC4-1DB905BB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89BC-C8D8-4BF7-B862-53C02563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D03-2C80-4D84-BCF4-7BD98EB0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A4F-BD65-46A2-9FB4-7FEF89B8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D93-0743-4B9B-BAC2-262F63D7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28A4-620D-4022-8BBA-2786AC5B3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357200" y="642960"/>
            <a:ext cx="37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УСТЫНЯ и её обита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928800" y="0"/>
            <a:ext cx="72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А – очень своеобразное животное, обитающее в пустыне. По виду напоминает нашего зайца. Отличается лишь более короткими ногами и закругленными уш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" descr="мара.jpg"/>
          <p:cNvPicPr/>
          <p:nvPr/>
        </p:nvPicPr>
        <p:blipFill>
          <a:blip r:embed="rId2"/>
          <a:stretch/>
        </p:blipFill>
        <p:spPr>
          <a:xfrm>
            <a:off x="1357200" y="1285920"/>
            <a:ext cx="6643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57120" y="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РИКАТ – млекопитающее, живущее в пустынях Южной Америки. Живут целыми «поселениями», состоящее из 3-4 сем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928960" y="2286000"/>
            <a:ext cx="578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м образом, мы видим, что и в суровых условиях пустыни животные находят способы спастись от жары, добыть нужную влагу, использовать особые свойства поч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живые существа, обитающие в пустыне, выработали особые приспособления, чтобы переносить жару, недостаток воды, резкие перепады темп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сур.jpg"/>
          <p:cNvPicPr/>
          <p:nvPr/>
        </p:nvPicPr>
        <p:blipFill>
          <a:blip r:embed="rId2"/>
          <a:stretch/>
        </p:blipFill>
        <p:spPr>
          <a:xfrm>
            <a:off x="2357280" y="0"/>
            <a:ext cx="46436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214200" y="3429000"/>
            <a:ext cx="39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АСИБО                                                  за   ВНИМ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4"/>
          <p:cNvSpPr/>
          <p:nvPr/>
        </p:nvSpPr>
        <p:spPr>
          <a:xfrm>
            <a:off x="1143000" y="92880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нство людей думают  пустыня – это пустое голое место, где нет ничего живого – ни растений , ни животных. Но это нев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428760" y="42876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ая часть пустыни покрыта растительностью. Здесь обитает довольно много разнообразных живот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блюды – самые большие животные пустыни. Организм верблюда приспособлен к экономному расходованию воды. Верблюд не потеет и долгое время может не пить, при этом теряя до 40% своего веса. Но получив доступ к воде может выпить за раз до 50 ли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песчанка.jpg"/>
          <p:cNvPicPr/>
          <p:nvPr/>
        </p:nvPicPr>
        <p:blipFill>
          <a:blip r:embed="rId2"/>
          <a:stretch/>
        </p:blipFill>
        <p:spPr>
          <a:xfrm>
            <a:off x="214200" y="2143080"/>
            <a:ext cx="3643560" cy="28335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песч.jpg"/>
          <p:cNvPicPr/>
          <p:nvPr/>
        </p:nvPicPr>
        <p:blipFill>
          <a:blip r:embed="rId3"/>
          <a:stretch/>
        </p:blipFill>
        <p:spPr>
          <a:xfrm>
            <a:off x="1571760" y="3500280"/>
            <a:ext cx="3884400" cy="30927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туш.jpg"/>
          <p:cNvPicPr/>
          <p:nvPr/>
        </p:nvPicPr>
        <p:blipFill>
          <a:blip r:embed="rId4"/>
          <a:stretch/>
        </p:blipFill>
        <p:spPr>
          <a:xfrm>
            <a:off x="4429080" y="2000160"/>
            <a:ext cx="4429080" cy="32292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428760" y="285840"/>
            <a:ext cx="82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устынях обитают  грызуны — песчанки и тушканчики. Эти животные ведут ночной образ жизни. Днем, когда солнце печет немилосердно, эти животные находят себе убежище в глубоких прохладных норках. Воду  они добывают из сочных частей растений — листьев, зеленых веточек, корневищ и луков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357120" y="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ске нелегко вырыть нору, если он сухой и сразу осыпается. Зато в таком песке легко просто зарыться с головой, и не каждый хищник догадается, куда делась его добыча. Многие обитатели пустыни  используют такой способ защиты, зарываясь в песок за несколько секунд. Так поступает ящерица – ушастая  круглоголовка. Для того чтобы быстро двигаться по сыпучему песку, у животных песчаных пустынь есть различные приспособления. На лапках многих ящериц и насекомых чешуйки или щетинки образуют специальные ще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кругло.jpg"/>
          <p:cNvPicPr/>
          <p:nvPr/>
        </p:nvPicPr>
        <p:blipFill>
          <a:blip r:embed="rId2"/>
          <a:stretch/>
        </p:blipFill>
        <p:spPr>
          <a:xfrm>
            <a:off x="285840" y="3214800"/>
            <a:ext cx="4071960" cy="32954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ушас.JPG"/>
          <p:cNvPicPr/>
          <p:nvPr/>
        </p:nvPicPr>
        <p:blipFill>
          <a:blip r:embed="rId3"/>
          <a:stretch/>
        </p:blipFill>
        <p:spPr>
          <a:xfrm>
            <a:off x="4714920" y="2928960"/>
            <a:ext cx="4143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0" y="52862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меям в песчаной пустыне тоже неудобно ползать обычным способом: извивающемуся телу нет прочной опоры. У некоторых видов пустынных змей выработался особый «боковой ход». Змея не ползет вперед, а как бы перекладывает вбок одну половину тела, чуть приподняв ее над землей, а затем подтягивает к ней другую.  Так передвигается песчаная эф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и из самых обычных пустынных животных — черепахи. Период активности у среднеазиатских степных черепах очень короткий — лишь 2—3 месяца в году. Выйдя ранней весной из зимовочных нор, черепахи сразу же приступают к размножению, а в мае — июне самки откладывают в песок яйца. Уже в конце июня почти не встретишь черепах на поверхности земли — они все зарылись в глубь  почвы и залегли в спячку до следующей весны. Молодые черепашки, появившись из яиц осенью, остаются зимовать в песке и выходят на поверхность только вес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tortoise_resting_big.jpg"/>
          <p:cNvPicPr/>
          <p:nvPr/>
        </p:nvPicPr>
        <p:blipFill>
          <a:blip r:embed="rId2"/>
          <a:stretch/>
        </p:blipFill>
        <p:spPr>
          <a:xfrm>
            <a:off x="762120" y="2214720"/>
            <a:ext cx="76197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viewer.png"/>
          <p:cNvPicPr/>
          <p:nvPr/>
        </p:nvPicPr>
        <p:blipFill>
          <a:blip r:embed="rId2"/>
          <a:srcRect l="0" t="0" r="0" b="17422"/>
          <a:stretch/>
        </p:blipFill>
        <p:spPr>
          <a:xfrm>
            <a:off x="428760" y="1562040"/>
            <a:ext cx="8358120" cy="50817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928800" y="28584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РХАННАЯ кошка – обитает в засушливых пустынных районах Центральной Азии и в пустыне Сахара в Африке. Как и все кошачьи – плотоядный хищ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4:11:51Z</dcterms:created>
  <dc:creator>Пользователь</dc:creator>
  <dc:description/>
  <dc:language>en-US</dc:language>
  <cp:lastModifiedBy>Кирьянова.Е</cp:lastModifiedBy>
  <dcterms:modified xsi:type="dcterms:W3CDTF">2012-11-22T11:49:41Z</dcterms:modified>
  <cp:revision>80</cp:revision>
  <dc:subject/>
  <dc:title>Животные степи</dc:title>
</cp:coreProperties>
</file>