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81F5-ACDE-4B98-9D5F-933DB8F3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852-EAF1-4838-9B7D-1FD1143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140-F912-45C4-9799-65402CE2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689-9C3F-4F13-B82D-EC3704CE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136D-9383-41B7-8EA8-634C10B5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C202-75B3-4BA6-8496-ED250188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7CBB-E3CE-440C-AE6B-0C748E1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0003-6244-4AEE-A3C0-9735C81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670C-0CED-41EB-B1B8-72E036F3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4577-DC59-42BD-B9B3-D724156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424E-0EC9-4DCD-9581-071DE9C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D22-94FB-4E2C-9EA1-85EFD93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94E0-DC63-4F54-AC5D-4C0499D1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8B67-D145-4CA5-BB41-3A02C9C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F2D-AB95-449C-A803-F50CD27A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F5D9-7869-43F4-A66B-B5AE18E4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CC4-57DA-4785-8832-11EBA26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5CBAC-B16F-4BED-A04C-2ADD8C0E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60473-A84D-4503-B150-B12C513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F3905-6546-423A-B065-7004E546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A29C5-6C83-4142-86E2-3921DFF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D8714-719F-41E5-97FF-C3B881F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4B3-A7A8-43D8-B9DB-E3C2051D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E5938-C6CC-431F-8E56-A68469E3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5DE15-B376-48B4-A4CA-D59FBC5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93FD9-3438-4D81-8F76-704E32A4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99C88-E051-4A58-924D-AC4B62E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DE57A-377D-4FFC-AD21-6AF71F27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1D128-2155-44A1-A73B-15C2CA61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A66FB-1597-40D4-9CD7-C2DCCBD3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524A-6990-4B28-A5E0-31E685F7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F548-A5B1-49BD-B9E9-94E1EFC0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A6B6-FD3E-4859-828C-80DAB112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F63-BE3F-4E37-8257-AC9FCEC0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6D91-4C93-4B7D-9319-5EEF4B4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AF97F-E79F-4C36-9284-53790851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BEEC-94E1-4B93-AEC5-D4A5129B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B3D6-4216-44C6-941B-C24D9F0C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0AA2-4271-4158-8533-8B7A5B9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223B-3E1D-4942-95EB-5E3E2C7F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0ED3-8B5B-4684-B1E6-BA062C1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CFD1-3B9A-4973-8A55-7A2EE3E4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8E6F-103A-4AFB-8D02-9A6514FD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072-D95C-4B50-A69B-DE516016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1A2-9B52-43A0-B462-7D5791B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5B9-B7EE-490C-A800-E94006A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6C6-816D-4556-9AF8-C86F0C2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BC8-306F-443A-A707-D983F8B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7407-D351-480D-A3DA-34A00F8E621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185E-8656-4E7C-8EDD-757CBFB202D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4AAA-73C7-4355-BCBD-8D5C5582425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AF59-2724-4D15-9E03-27E287BAC6C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1500120" y="8571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РАВИЛА ДОРОЖНОГО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ДЛЯ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И СКУТЕР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4" descr="суутер 1.jpg"/>
          <p:cNvPicPr/>
          <p:nvPr/>
        </p:nvPicPr>
        <p:blipFill>
          <a:blip r:embed="rId1"/>
          <a:stretch/>
        </p:blipFill>
        <p:spPr>
          <a:xfrm>
            <a:off x="493560" y="3925800"/>
            <a:ext cx="22989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Выноска со стрелкой вниз 1"/>
          <p:cNvSpPr/>
          <p:nvPr/>
        </p:nvSpPr>
        <p:spPr>
          <a:xfrm>
            <a:off x="428760" y="642960"/>
            <a:ext cx="7715160" cy="1500120"/>
          </a:xfrm>
          <a:prstGeom prst="downArrowCallout">
            <a:avLst>
              <a:gd name="adj1" fmla="val 25003"/>
              <a:gd name="adj2" fmla="val 25001"/>
              <a:gd name="adj3" fmla="val 25000"/>
              <a:gd name="adj4" fmla="val 64977"/>
            </a:avLst>
          </a:prstGeom>
          <a:solidFill>
            <a:srgbClr val="daef11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714240" y="85716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РЕЩАЮЩИ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24" descr="3.8"/>
          <p:cNvPicPr/>
          <p:nvPr/>
        </p:nvPicPr>
        <p:blipFill>
          <a:blip r:embed="rId2"/>
          <a:stretch/>
        </p:blipFill>
        <p:spPr>
          <a:xfrm>
            <a:off x="1428840" y="2143080"/>
            <a:ext cx="2714400" cy="23576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1" descr="2.1"/>
          <p:cNvPicPr/>
          <p:nvPr/>
        </p:nvPicPr>
        <p:blipFill>
          <a:blip r:embed="rId3"/>
          <a:stretch/>
        </p:blipFill>
        <p:spPr>
          <a:xfrm>
            <a:off x="5715000" y="2214720"/>
            <a:ext cx="3071880" cy="21207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5"/>
          <p:cNvSpPr/>
          <p:nvPr/>
        </p:nvSpPr>
        <p:spPr>
          <a:xfrm>
            <a:off x="1143000" y="45007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                                          УСТУ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ИСТОВ                            ДОРОГУ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286080" y="813240"/>
            <a:ext cx="5429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кутер является механический транспортным средством Объём двигателя не должен превышать больше 49 кубических см. Максимально разрешённая скорость не должна превышать 50 км/ч Скутер  приравнен к велосипедам и гужевым повоз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Для скутеристов введены следующие пр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обязательно наличие шл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прещается ездить со вторым пассажиром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Несмотря на то, что скутер не имеют права забирать на штраф-стоянку потому что он является механическим транспортным средством, на случай аварии необходимо иметь документ, удостоверяющий личность владельца, а также документ, свидетельствующий о принадлежности скут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владельцу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скутер 4.jpg"/>
          <p:cNvPicPr/>
          <p:nvPr/>
        </p:nvPicPr>
        <p:blipFill>
          <a:blip r:embed="rId1"/>
          <a:stretch/>
        </p:blipFill>
        <p:spPr>
          <a:xfrm>
            <a:off x="281160" y="853920"/>
            <a:ext cx="29383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b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285840" y="899280"/>
            <a:ext cx="85010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ы, которые приведены в настоящих Правилах, имеют такое значение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ьная дорога, улица (дорога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ь территории, в том числе в населенном пункте, предназначенная для движения транспортных средств и пешеходов, со всеми расположенными на ней сооружениями (мостами, путепроводами, эстакадами, надземными и подземными пешеходными переходами) и средствами организации дорожного движения, и ограниченная по ширине внешним краем тротуаров или краем полосы отвода. Этот термин включает также специально построенные временные дороги, кроме произвольно наезженных дорог (кол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 дистанц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до транспортного средства, которое двигается впереди по той же самой полосе, которое в случае его внезапного торможения или остановки даст возможность водителю транспортного средства, которое двигается позади, предотвратить столкновение без осуществления любого манев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й интерв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стояние между боковыми частями транспортных средств, которые двигаются, или между ними и другими объектами, при котором гарантирована безопасность дорожного движ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285840" y="801000"/>
            <a:ext cx="59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анспортное средство, кроме инвалидных колясок, которое приводится в движение мускульной силой человека, который находится на 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осипедная дорож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ная в границах дороги или вне ее дорожка с покрытием, которая предназначена для движения на велосипедах и мопедах и обозначенная дорожным зна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" descr="4.12"/>
          <p:cNvPicPr/>
          <p:nvPr/>
        </p:nvPicPr>
        <p:blipFill>
          <a:blip r:embed="rId2"/>
          <a:stretch/>
        </p:blipFill>
        <p:spPr>
          <a:xfrm>
            <a:off x="6215040" y="2928960"/>
            <a:ext cx="2643120" cy="25002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5"/>
          <p:cNvSpPr/>
          <p:nvPr/>
        </p:nvSpPr>
        <p:spPr>
          <a:xfrm rot="1518600">
            <a:off x="4549320" y="4240080"/>
            <a:ext cx="1886040" cy="5000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3891a7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1.22"/>
          <p:cNvPicPr/>
          <p:nvPr/>
        </p:nvPicPr>
        <p:blipFill>
          <a:blip r:embed="rId1"/>
          <a:stretch/>
        </p:blipFill>
        <p:spPr>
          <a:xfrm>
            <a:off x="214200" y="2786040"/>
            <a:ext cx="292896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1.23.1"/>
          <p:cNvPicPr/>
          <p:nvPr/>
        </p:nvPicPr>
        <p:blipFill>
          <a:blip r:embed="rId2"/>
          <a:stretch/>
        </p:blipFill>
        <p:spPr>
          <a:xfrm>
            <a:off x="428760" y="4857840"/>
            <a:ext cx="2928960" cy="2000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1.23.2"/>
          <p:cNvPicPr/>
          <p:nvPr/>
        </p:nvPicPr>
        <p:blipFill>
          <a:blip r:embed="rId3"/>
          <a:stretch/>
        </p:blipFill>
        <p:spPr>
          <a:xfrm>
            <a:off x="3500280" y="2714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5" descr="1.23.3"/>
          <p:cNvPicPr/>
          <p:nvPr/>
        </p:nvPicPr>
        <p:blipFill>
          <a:blip r:embed="rId4"/>
          <a:stretch/>
        </p:blipFill>
        <p:spPr>
          <a:xfrm>
            <a:off x="3643200" y="478620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6" descr="1.23.4"/>
          <p:cNvPicPr/>
          <p:nvPr/>
        </p:nvPicPr>
        <p:blipFill>
          <a:blip r:embed="rId5"/>
          <a:stretch/>
        </p:blipFill>
        <p:spPr>
          <a:xfrm>
            <a:off x="6215040" y="2571840"/>
            <a:ext cx="2643120" cy="20001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7" descr="2.3"/>
          <p:cNvPicPr/>
          <p:nvPr/>
        </p:nvPicPr>
        <p:blipFill>
          <a:blip r:embed="rId6"/>
          <a:stretch/>
        </p:blipFill>
        <p:spPr>
          <a:xfrm>
            <a:off x="6500880" y="4572000"/>
            <a:ext cx="2071800" cy="2000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428760" y="826920"/>
            <a:ext cx="8429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дор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дорога с покрытием относительно грунтовой или дорога, которая отмечается зна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9334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9" descr="5.35.1"/>
          <p:cNvPicPr/>
          <p:nvPr/>
        </p:nvPicPr>
        <p:blipFill>
          <a:blip r:embed="rId1"/>
          <a:stretch/>
        </p:blipFill>
        <p:spPr>
          <a:xfrm>
            <a:off x="785880" y="3357720"/>
            <a:ext cx="3286080" cy="2928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0" descr="5.36.1"/>
          <p:cNvPicPr/>
          <p:nvPr/>
        </p:nvPicPr>
        <p:blipFill>
          <a:blip r:embed="rId2"/>
          <a:stretch/>
        </p:blipFill>
        <p:spPr>
          <a:xfrm>
            <a:off x="5214960" y="3500280"/>
            <a:ext cx="3214800" cy="27147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2295360" y="-137880"/>
            <a:ext cx="455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шеходные переходы отмечаются дорожными зна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441320" y="33840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451040" y="827640"/>
            <a:ext cx="2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"/>
          <p:cNvSpPr/>
          <p:nvPr/>
        </p:nvSpPr>
        <p:spPr>
          <a:xfrm>
            <a:off x="285840" y="100008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ЕХОДНЫЕ ПЕРЕХОДЫ ОБОЗНАЧАЮ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9"/>
          <p:cNvCxnSpPr/>
          <p:nvPr/>
        </p:nvCxnSpPr>
        <p:spPr>
          <a:xfrm flipH="1">
            <a:off x="2785680" y="1571760"/>
            <a:ext cx="1215360" cy="1715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Прямая со стрелкой 11"/>
          <p:cNvCxnSpPr/>
          <p:nvPr/>
        </p:nvCxnSpPr>
        <p:spPr>
          <a:xfrm>
            <a:off x="4429080" y="1642680"/>
            <a:ext cx="164376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4143240" y="884160"/>
            <a:ext cx="471492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  Двигаться по дороге на мопедах разрешается лицам, которые достигли 16-летнего, на велосипедах - 14-летне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одителей мопедов и велосипедов местными органами исполнительной власти может быть установленная карточка, в которую заносится информация о водителе и который водители мопедов или велосипедов в таком случае должны иметь при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  Мопеды и велосипеды должны быть оборудованы звуковым сигналом и светоотражателями: впереди - белого цвета, по сторонам - оранжевого, сзади - крас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  Для движения в темное время суток и в условиях недостаточной видимости на мопеде необходимо включить освещение, на велосипеде - фонарь (фар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вело3.jpg"/>
          <p:cNvPicPr/>
          <p:nvPr/>
        </p:nvPicPr>
        <p:blipFill>
          <a:blip r:embed="rId2"/>
          <a:stretch/>
        </p:blipFill>
        <p:spPr>
          <a:xfrm>
            <a:off x="-6480" y="566640"/>
            <a:ext cx="3797280" cy="26528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3" descr="скутер 2.jpg"/>
          <p:cNvPicPr/>
          <p:nvPr/>
        </p:nvPicPr>
        <p:blipFill>
          <a:blip r:embed="rId3"/>
          <a:stretch/>
        </p:blipFill>
        <p:spPr>
          <a:xfrm>
            <a:off x="133200" y="3565440"/>
            <a:ext cx="36576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1" descr="вело1.jpg"/>
          <p:cNvPicPr/>
          <p:nvPr/>
        </p:nvPicPr>
        <p:blipFill>
          <a:blip r:embed="rId1"/>
          <a:stretch/>
        </p:blipFill>
        <p:spPr>
          <a:xfrm>
            <a:off x="1994040" y="3925800"/>
            <a:ext cx="5010120" cy="2578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785880" y="8668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и мопедов и велосипедов, двигаясь группами, должны ехать один за другим, чтобы не мешать другим участникам дорожного движения. Колона велосипедистов, которая движется по проезжей части, должна быть разделена на группы (до 10 велосипедистов в группе) с дистанцией движения между группами 80-10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5  Водители мопедов и велосипедов могут перевозить только такие грузы, которые не мешают управлять транспортным средством и не создают препятствий другим участникам дорожного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5"/>
          <p:cNvSpPr/>
          <p:nvPr/>
        </p:nvSpPr>
        <p:spPr>
          <a:xfrm>
            <a:off x="2751840" y="3929040"/>
            <a:ext cx="3495960" cy="2571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7"/>
          <p:cNvSpPr/>
          <p:nvPr/>
        </p:nvSpPr>
        <p:spPr>
          <a:xfrm flipH="1">
            <a:off x="2752200" y="3929040"/>
            <a:ext cx="3495960" cy="2571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ая выноска 1"/>
          <p:cNvSpPr/>
          <p:nvPr/>
        </p:nvSpPr>
        <p:spPr>
          <a:xfrm>
            <a:off x="1143000" y="785880"/>
            <a:ext cx="6643800" cy="928800"/>
          </a:xfrm>
          <a:prstGeom prst="wedgeRectCallout">
            <a:avLst>
              <a:gd name="adj1" fmla="val -21282"/>
              <a:gd name="adj2" fmla="val 125583"/>
            </a:avLst>
          </a:prstGeom>
          <a:solidFill>
            <a:srgbClr val="ffc000"/>
          </a:solidFill>
          <a:ln w="190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357120" y="9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РАЗРЕШАЮЩИЕ 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31" descr="1.34"/>
          <p:cNvPicPr/>
          <p:nvPr/>
        </p:nvPicPr>
        <p:blipFill>
          <a:blip r:embed="rId1"/>
          <a:stretch/>
        </p:blipFill>
        <p:spPr>
          <a:xfrm>
            <a:off x="857160" y="214308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32" descr="4.12"/>
          <p:cNvPicPr/>
          <p:nvPr/>
        </p:nvPicPr>
        <p:blipFill>
          <a:blip r:embed="rId2"/>
          <a:stretch/>
        </p:blipFill>
        <p:spPr>
          <a:xfrm>
            <a:off x="928800" y="435780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3" descr="4.14"/>
          <p:cNvPicPr/>
          <p:nvPr/>
        </p:nvPicPr>
        <p:blipFill>
          <a:blip r:embed="rId3"/>
          <a:stretch/>
        </p:blipFill>
        <p:spPr>
          <a:xfrm>
            <a:off x="6643800" y="4572000"/>
            <a:ext cx="200016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0"/>
          <p:cNvSpPr/>
          <p:nvPr/>
        </p:nvSpPr>
        <p:spPr>
          <a:xfrm>
            <a:off x="2500200" y="24289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д  велосипедистов на дор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2928960" y="4857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214960" y="3500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ка для пешеходов и велосипед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6:33:07Z</dcterms:created>
  <dc:creator>XTreme</dc:creator>
  <dc:description/>
  <dc:language>en-US</dc:language>
  <cp:lastModifiedBy>XTreme</cp:lastModifiedBy>
  <dcterms:modified xsi:type="dcterms:W3CDTF">2010-11-06T11:29:35Z</dcterms:modified>
  <cp:revision>22</cp:revision>
  <dc:subject/>
  <dc:title>Слайд 1</dc:title>
</cp:coreProperties>
</file>