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21.png" ContentType="image/png"/>
  <Override PartName="/ppt/media/image4.png" ContentType="image/png"/>
  <Override PartName="/ppt/media/image13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269F-54A6-484D-AA61-7A087D52A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F7F3-E0B5-4BA1-A3C1-09254E27F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3C4B-2431-4A31-B797-4DA05FB54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86C6-A7AB-4253-990A-FF68D0AD6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8E7C5-5E84-4AE6-9541-9012B5F16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F8BFC-3CA1-478E-9F02-8AE097C0D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C0FDF-B732-49CC-A06B-84FBDEAEF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295A4-08ED-413F-9C7C-C4AD62BBF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286F3-5363-49CE-924C-58BE19B2C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4AEAB-9223-4AC2-ADB0-3CABC462C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F3FE1-EB20-49FA-9887-F57E01F88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4E69-B3F1-4F89-9256-176E89271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4FC59-4E23-4040-8837-6F909037E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E7247-2F3E-49D7-AE98-CFEE77260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CAA49-62BE-454E-87B3-6FD895F3B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DEAC5-B90D-4EA9-BEF9-4C53A0DC0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5E8C1-3BFC-45F3-9E87-55666BF8A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1C1B04-26F6-4036-8C55-A0FD73B89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987560-9559-45B7-B3E6-7B098DFAA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83180A-61E6-4233-9DBA-EF7A4DD74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936C78-DC8A-44B5-AFEA-C863B8524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AE545A-9F7E-4F66-98D4-3811B1A38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787D-7F86-4D54-A7E1-280A17EC6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9A2EA1-63D9-4DD6-AEB1-42CB89AE7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5A3577-C234-473E-8352-476ADA6AF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C4DEAC-4299-42E1-86B8-D01038B7C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A04422-046D-478C-9D19-3635B1388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AB299D-F73E-41EE-B6D9-C8D53F0F3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A1997D-291B-4944-9BD4-ECA1A798E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81669F-D301-45E2-89D6-D46771D94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B56C9B-2311-4C3C-91B5-EA3073281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85C44B-817E-41B7-A2BF-C845F1515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A0FCFD-E48A-40F7-A4FC-796C0A1C2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F20D-FC0F-42A2-BF25-A30A4E50B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D8F514-0E2B-4779-9375-3FFF3AA2D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C0BE13-2478-4C37-AD1E-F7172C473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69F9D9-E5A7-40AA-B947-143D6CBD5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1553A5-6908-487D-B629-FA14125DF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408B69-8796-4D2C-B2C6-0E41F9D1B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DDC96A-EF9B-43ED-BFD0-EDBBF9F2A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32A26D-7DD4-4B52-B8D9-70367801F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C287DA-AF04-4576-BDB0-B1F148331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D4F903-42B2-43FC-9E6F-B4DBC304F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C9A1-5996-42D4-883D-FEF814548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3B08-FDEF-4A19-BDBC-21A55F8DA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9B78-5100-4D1A-972A-5903A3F19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7CF7-4E97-407D-9DFF-F50984CE4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0AF3-2731-4556-A528-6C4842946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feb80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f27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feb80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f271c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feb80a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3891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3891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c32d2e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feb80a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eb80a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E7652-5C4D-490A-A2E2-0A7FE43710C7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feb80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feb80a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feb80a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feb80a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feb80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f27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f271c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feb80a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3891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3891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c32d2e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feb80a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eb80a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D6E0A-102B-469D-BDAB-0E914FE4FC80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feb80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f27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feb80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f271c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feb80a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3891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3891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c32d2e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feb80a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eb80a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2A94B-656D-4DFF-9EFC-43DC17F9AB6D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feb80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f27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feb80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f271c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feb80a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3891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3891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c32d2e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feb80a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eb80a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D124C-3DE9-45BE-8B2C-6B55EFD4FAA1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4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Box 3"/>
          <p:cNvSpPr/>
          <p:nvPr/>
        </p:nvSpPr>
        <p:spPr>
          <a:xfrm>
            <a:off x="1500120" y="857160"/>
            <a:ext cx="6500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Georgia"/>
              </a:rPr>
              <a:t>ПРАВИЛА ДОРОЖНОГО ДВИЖ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Georgia"/>
              </a:rPr>
              <a:t>ДЛЯ ВЕЛОСИПЕДИС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Georgia"/>
              </a:rPr>
              <a:t>И СКУТЕРИС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Рисунок 4" descr="суутер 1.jpg"/>
          <p:cNvPicPr/>
          <p:nvPr/>
        </p:nvPicPr>
        <p:blipFill>
          <a:blip r:embed="rId1"/>
          <a:stretch/>
        </p:blipFill>
        <p:spPr>
          <a:xfrm>
            <a:off x="493560" y="3925800"/>
            <a:ext cx="2298960" cy="26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3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Выноска со стрелкой вниз 1"/>
          <p:cNvSpPr/>
          <p:nvPr/>
        </p:nvSpPr>
        <p:spPr>
          <a:xfrm>
            <a:off x="428760" y="642960"/>
            <a:ext cx="7715160" cy="1500120"/>
          </a:xfrm>
          <a:prstGeom prst="downArrowCallout">
            <a:avLst>
              <a:gd name="adj1" fmla="val 25003"/>
              <a:gd name="adj2" fmla="val 25001"/>
              <a:gd name="adj3" fmla="val 25000"/>
              <a:gd name="adj4" fmla="val 64977"/>
            </a:avLst>
          </a:prstGeom>
          <a:solidFill>
            <a:srgbClr val="daef11"/>
          </a:solidFill>
          <a:ln w="1908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2"/>
          <p:cNvSpPr/>
          <p:nvPr/>
        </p:nvSpPr>
        <p:spPr>
          <a:xfrm>
            <a:off x="714240" y="857160"/>
            <a:ext cx="707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ЗАПРЕЩАЮЩИЕ ЗНА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Рисунок 24" descr="3.8"/>
          <p:cNvPicPr/>
          <p:nvPr/>
        </p:nvPicPr>
        <p:blipFill>
          <a:blip r:embed="rId2"/>
          <a:stretch/>
        </p:blipFill>
        <p:spPr>
          <a:xfrm>
            <a:off x="1428840" y="2143080"/>
            <a:ext cx="2714400" cy="2357640"/>
          </a:xfrm>
          <a:prstGeom prst="rect">
            <a:avLst/>
          </a:prstGeom>
          <a:ln w="0">
            <a:noFill/>
          </a:ln>
        </p:spPr>
      </p:pic>
      <p:pic>
        <p:nvPicPr>
          <p:cNvPr id="257" name="Рисунок 21" descr="2.1"/>
          <p:cNvPicPr/>
          <p:nvPr/>
        </p:nvPicPr>
        <p:blipFill>
          <a:blip r:embed="rId3"/>
          <a:stretch/>
        </p:blipFill>
        <p:spPr>
          <a:xfrm>
            <a:off x="5715000" y="2214720"/>
            <a:ext cx="3071880" cy="2120760"/>
          </a:xfrm>
          <a:prstGeom prst="rect">
            <a:avLst/>
          </a:prstGeom>
          <a:ln w="0">
            <a:noFill/>
          </a:ln>
        </p:spPr>
      </p:pic>
      <p:sp>
        <p:nvSpPr>
          <p:cNvPr id="258" name="TextBox 5"/>
          <p:cNvSpPr/>
          <p:nvPr/>
        </p:nvSpPr>
        <p:spPr>
          <a:xfrm>
            <a:off x="1143000" y="4500720"/>
            <a:ext cx="7643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ИЖЕНИЕ                                           УСТУП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ОСИПЕДИСТОВ                            ДОРОГУ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РЕЩЕ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41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4000"/>
                            </p:stCondLst>
                            <p:childTnLst>
                              <p:par>
                                <p:cTn id="143" nodeType="afterEffect" fill="hold" presetClass="entr" presetID="18" presetSubtype="1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5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8000"/>
                            </p:stCondLst>
                            <p:childTnLst>
                              <p:par>
                                <p:cTn id="147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9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1"/>
          <p:cNvSpPr/>
          <p:nvPr/>
        </p:nvSpPr>
        <p:spPr>
          <a:xfrm>
            <a:off x="3286080" y="813240"/>
            <a:ext cx="5429160" cy="58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  <a:ea typeface="Calibri"/>
              </a:rPr>
              <a:t>Скутер является механический транспортным средством Объём двигателя не должен превышать больше 49 кубических см. Максимально разрешённая скорость не должна превышать 50 км/ч Скутер  приравнен к велосипедам и гужевым повозка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  <a:ea typeface="Calibri"/>
              </a:rPr>
              <a:t>Для скутеристов введены следующие правил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  <a:ea typeface="Calibri"/>
              </a:rPr>
              <a:t> 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  <a:ea typeface="Calibri"/>
              </a:rPr>
              <a:t>обязательно наличие шлем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  <a:ea typeface="Calibri"/>
              </a:rPr>
              <a:t> 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  <a:ea typeface="Calibri"/>
              </a:rPr>
              <a:t>запрещается ездить со вторым пассажиром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  <a:ea typeface="Calibri"/>
              </a:rPr>
              <a:t> 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  <a:ea typeface="Calibri"/>
              </a:rPr>
              <a:t>запрещается поворачивать налево или разворачиваться на дорогах с трамвайным движением и на дорогах, имеющих более одной полосы для движения в данном направлении.</a:t>
            </a:r>
            <a:br>
              <a:rPr sz="1800"/>
            </a:br>
            <a:r>
              <a:rPr b="0" lang="ru-RU" sz="1800" spc="-1" strike="noStrike">
                <a:solidFill>
                  <a:srgbClr val="333333"/>
                </a:solidFill>
                <a:latin typeface="Times New Roman"/>
                <a:ea typeface="Calibri"/>
              </a:rPr>
              <a:t>Несмотря на то, что скутер не имеют права забирать на штраф-стоянку потому что он является механическим транспортным средством, на случай аварии необходимо иметь документ, удостоверяющий личность владельца, а также документ, свидетельствующий о принадлежности скутера 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  <a:ea typeface="Calibri"/>
              </a:rPr>
              <a:t>владельцу.</a:t>
            </a:r>
            <a:br>
              <a:rPr sz="1600"/>
            </a:b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Рисунок 2" descr="скутер 4.jpg"/>
          <p:cNvPicPr/>
          <p:nvPr/>
        </p:nvPicPr>
        <p:blipFill>
          <a:blip r:embed="rId1"/>
          <a:stretch/>
        </p:blipFill>
        <p:spPr>
          <a:xfrm>
            <a:off x="281160" y="853920"/>
            <a:ext cx="2938320" cy="26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eb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1"/>
          <p:cNvSpPr/>
          <p:nvPr/>
        </p:nvSpPr>
        <p:spPr>
          <a:xfrm>
            <a:off x="285840" y="899280"/>
            <a:ext cx="850104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мины, которые приведены в настоящих Правилах, имеют такое значение: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обильная дорога, улица (дорога)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часть территории, в том числе в населенном пункте, предназначенная для движения транспортных средств и пешеходов, со всеми расположенными на ней сооружениями (мостами, путепроводами, эстакадами, надземными и подземными пешеходными переходами) и средствами организации дорожного движения, и ограниченная по ширине внешним краем тротуаров или краем полосы отвода. Этот термин включает также специально построенные временные дороги, кроме произвольно наезженных дорог (колей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опасная дистанция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асстояние до транспортного средства, которое двигается впереди по той же самой полосе, которое в случае его внезапного торможения или остановки даст возможность водителю транспортного средства, которое двигается позади, предотвратить столкновение без осуществления любого маневр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опасный интервал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асстояние между боковыми частями транспортных средств, которые двигаются, или между ними и другими объектами, при котором гарантирована безопасность дорожного движения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4"/>
          <p:cNvSpPr/>
          <p:nvPr/>
        </p:nvSpPr>
        <p:spPr>
          <a:xfrm>
            <a:off x="285840" y="801000"/>
            <a:ext cx="5929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осипед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транспортное средство, кроме инвалидных колясок, которое приводится в движение мускульной силой человека, который находится на не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осипедная дорожк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ыполненная в границах дороги или вне ее дорожка с покрытием, которая предназначена для движения на велосипедах и мопедах и обозначенная дорожным знак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Рисунок 1" descr="4.12"/>
          <p:cNvPicPr/>
          <p:nvPr/>
        </p:nvPicPr>
        <p:blipFill>
          <a:blip r:embed="rId2"/>
          <a:stretch/>
        </p:blipFill>
        <p:spPr>
          <a:xfrm>
            <a:off x="6215040" y="2928960"/>
            <a:ext cx="2643120" cy="2500200"/>
          </a:xfrm>
          <a:prstGeom prst="rect">
            <a:avLst/>
          </a:prstGeom>
          <a:ln w="0">
            <a:noFill/>
          </a:ln>
        </p:spPr>
      </p:pic>
      <p:sp>
        <p:nvSpPr>
          <p:cNvPr id="221" name="Rectangle 5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Стрелка вправо 5"/>
          <p:cNvSpPr/>
          <p:nvPr/>
        </p:nvSpPr>
        <p:spPr>
          <a:xfrm rot="1518600">
            <a:off x="4549320" y="4240080"/>
            <a:ext cx="1886040" cy="500040"/>
          </a:xfrm>
          <a:prstGeom prst="rightArrow">
            <a:avLst>
              <a:gd name="adj1" fmla="val 50000"/>
              <a:gd name="adj2" fmla="val 50011"/>
            </a:avLst>
          </a:prstGeom>
          <a:solidFill>
            <a:srgbClr val="3891a7"/>
          </a:solidFill>
          <a:ln w="1908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Рисунок 2" descr="1.22"/>
          <p:cNvPicPr/>
          <p:nvPr/>
        </p:nvPicPr>
        <p:blipFill>
          <a:blip r:embed="rId1"/>
          <a:stretch/>
        </p:blipFill>
        <p:spPr>
          <a:xfrm>
            <a:off x="214200" y="2786040"/>
            <a:ext cx="2928960" cy="1928880"/>
          </a:xfrm>
          <a:prstGeom prst="rect">
            <a:avLst/>
          </a:prstGeom>
          <a:ln w="0">
            <a:noFill/>
          </a:ln>
        </p:spPr>
      </p:pic>
      <p:pic>
        <p:nvPicPr>
          <p:cNvPr id="224" name="Рисунок 3" descr="1.23.1"/>
          <p:cNvPicPr/>
          <p:nvPr/>
        </p:nvPicPr>
        <p:blipFill>
          <a:blip r:embed="rId2"/>
          <a:stretch/>
        </p:blipFill>
        <p:spPr>
          <a:xfrm>
            <a:off x="428760" y="4857840"/>
            <a:ext cx="2928960" cy="2000160"/>
          </a:xfrm>
          <a:prstGeom prst="rect">
            <a:avLst/>
          </a:prstGeom>
          <a:ln w="0">
            <a:noFill/>
          </a:ln>
        </p:spPr>
      </p:pic>
      <p:pic>
        <p:nvPicPr>
          <p:cNvPr id="225" name="Рисунок 4" descr="1.23.2"/>
          <p:cNvPicPr/>
          <p:nvPr/>
        </p:nvPicPr>
        <p:blipFill>
          <a:blip r:embed="rId3"/>
          <a:stretch/>
        </p:blipFill>
        <p:spPr>
          <a:xfrm>
            <a:off x="3500280" y="2714760"/>
            <a:ext cx="2571840" cy="1928520"/>
          </a:xfrm>
          <a:prstGeom prst="rect">
            <a:avLst/>
          </a:prstGeom>
          <a:ln w="0">
            <a:noFill/>
          </a:ln>
        </p:spPr>
      </p:pic>
      <p:pic>
        <p:nvPicPr>
          <p:cNvPr id="226" name="Рисунок 5" descr="1.23.3"/>
          <p:cNvPicPr/>
          <p:nvPr/>
        </p:nvPicPr>
        <p:blipFill>
          <a:blip r:embed="rId4"/>
          <a:stretch/>
        </p:blipFill>
        <p:spPr>
          <a:xfrm>
            <a:off x="3643200" y="4786200"/>
            <a:ext cx="2571840" cy="1785960"/>
          </a:xfrm>
          <a:prstGeom prst="rect">
            <a:avLst/>
          </a:prstGeom>
          <a:ln w="0">
            <a:noFill/>
          </a:ln>
        </p:spPr>
      </p:pic>
      <p:pic>
        <p:nvPicPr>
          <p:cNvPr id="227" name="Рисунок 6" descr="1.23.4"/>
          <p:cNvPicPr/>
          <p:nvPr/>
        </p:nvPicPr>
        <p:blipFill>
          <a:blip r:embed="rId5"/>
          <a:stretch/>
        </p:blipFill>
        <p:spPr>
          <a:xfrm>
            <a:off x="6215040" y="2571840"/>
            <a:ext cx="2643120" cy="2000160"/>
          </a:xfrm>
          <a:prstGeom prst="rect">
            <a:avLst/>
          </a:prstGeom>
          <a:ln w="0">
            <a:noFill/>
          </a:ln>
        </p:spPr>
      </p:pic>
      <p:pic>
        <p:nvPicPr>
          <p:cNvPr id="228" name="Рисунок 7" descr="2.3"/>
          <p:cNvPicPr/>
          <p:nvPr/>
        </p:nvPicPr>
        <p:blipFill>
          <a:blip r:embed="rId6"/>
          <a:stretch/>
        </p:blipFill>
        <p:spPr>
          <a:xfrm>
            <a:off x="6500880" y="4572000"/>
            <a:ext cx="2071800" cy="2000160"/>
          </a:xfrm>
          <a:prstGeom prst="rect">
            <a:avLst/>
          </a:prstGeom>
          <a:ln w="0">
            <a:noFill/>
          </a:ln>
        </p:spPr>
      </p:pic>
      <p:sp>
        <p:nvSpPr>
          <p:cNvPr id="229" name="Rectangle 7"/>
          <p:cNvSpPr/>
          <p:nvPr/>
        </p:nvSpPr>
        <p:spPr>
          <a:xfrm>
            <a:off x="428760" y="826920"/>
            <a:ext cx="8429400" cy="8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ая дорог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это дорога с покрытием относительно грунтовой или дорога, которая отмечается знака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8"/>
          <p:cNvSpPr/>
          <p:nvPr/>
        </p:nvSpPr>
        <p:spPr>
          <a:xfrm>
            <a:off x="0" y="9334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5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4000"/>
                            </p:stCondLst>
                            <p:childTnLst>
                              <p:par>
                                <p:cTn id="40" nodeType="afterEffect" fill="hold" presetClass="entr" presetID="5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7500"/>
                            </p:stCondLst>
                            <p:childTnLst>
                              <p:par>
                                <p:cTn id="44" nodeType="afterEffect" fill="hold" presetClass="entr" presetID="5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1000"/>
                            </p:stCondLst>
                            <p:childTnLst>
                              <p:par>
                                <p:cTn id="48" nodeType="afterEffect" fill="hold" presetClass="entr" presetID="5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4500"/>
                            </p:stCondLst>
                            <p:childTnLst>
                              <p:par>
                                <p:cTn id="52" nodeType="afterEffect" fill="hold" presetClass="entr" presetID="5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Рисунок 9" descr="5.35.1"/>
          <p:cNvPicPr/>
          <p:nvPr/>
        </p:nvPicPr>
        <p:blipFill>
          <a:blip r:embed="rId1"/>
          <a:stretch/>
        </p:blipFill>
        <p:spPr>
          <a:xfrm>
            <a:off x="785880" y="3357720"/>
            <a:ext cx="3286080" cy="2928960"/>
          </a:xfrm>
          <a:prstGeom prst="rect">
            <a:avLst/>
          </a:prstGeom>
          <a:ln w="0">
            <a:noFill/>
          </a:ln>
        </p:spPr>
      </p:pic>
      <p:pic>
        <p:nvPicPr>
          <p:cNvPr id="232" name="Рисунок 10" descr="5.36.1"/>
          <p:cNvPicPr/>
          <p:nvPr/>
        </p:nvPicPr>
        <p:blipFill>
          <a:blip r:embed="rId2"/>
          <a:stretch/>
        </p:blipFill>
        <p:spPr>
          <a:xfrm>
            <a:off x="5214960" y="3500280"/>
            <a:ext cx="3214800" cy="2714760"/>
          </a:xfrm>
          <a:prstGeom prst="rect">
            <a:avLst/>
          </a:prstGeom>
          <a:ln w="0">
            <a:noFill/>
          </a:ln>
        </p:spPr>
      </p:pic>
      <p:sp>
        <p:nvSpPr>
          <p:cNvPr id="233" name="Rectangle 3"/>
          <p:cNvSpPr/>
          <p:nvPr/>
        </p:nvSpPr>
        <p:spPr>
          <a:xfrm>
            <a:off x="2295360" y="-137880"/>
            <a:ext cx="455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Пешеходные переходы отмечаются дорожными знакам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4"/>
          <p:cNvSpPr/>
          <p:nvPr/>
        </p:nvSpPr>
        <p:spPr>
          <a:xfrm>
            <a:off x="4441320" y="338400"/>
            <a:ext cx="26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5"/>
          <p:cNvSpPr/>
          <p:nvPr/>
        </p:nvSpPr>
        <p:spPr>
          <a:xfrm>
            <a:off x="4451040" y="827640"/>
            <a:ext cx="241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Verdana"/>
                <a:ea typeface="Times New Roman"/>
              </a:rPr>
              <a:t>,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7"/>
          <p:cNvSpPr/>
          <p:nvPr/>
        </p:nvSpPr>
        <p:spPr>
          <a:xfrm>
            <a:off x="285840" y="1000080"/>
            <a:ext cx="814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ШЕХОДНЫЕ ПЕРЕХОДЫ ОБОЗНАЧАЮТСЯ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7" name="Прямая со стрелкой 9"/>
          <p:cNvCxnSpPr/>
          <p:nvPr/>
        </p:nvCxnSpPr>
        <p:spPr>
          <a:xfrm flipH="1">
            <a:off x="2785680" y="1571760"/>
            <a:ext cx="1215360" cy="171504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38" name="Прямая со стрелкой 11"/>
          <p:cNvCxnSpPr/>
          <p:nvPr/>
        </p:nvCxnSpPr>
        <p:spPr>
          <a:xfrm>
            <a:off x="4429080" y="1642680"/>
            <a:ext cx="1643760" cy="1715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7000"/>
                            </p:stCondLst>
                            <p:childTnLst>
                              <p:par>
                                <p:cTn id="70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5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1"/>
          <p:cNvSpPr/>
          <p:nvPr/>
        </p:nvSpPr>
        <p:spPr>
          <a:xfrm>
            <a:off x="4143240" y="884160"/>
            <a:ext cx="4714920" cy="585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1  Двигаться по дороге на мопедах разрешается лицам, которые достигли 16-летнего, на велосипедах - 14-летнего возрас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водителей мопедов и велосипедов местными органами исполнительной власти может быть установленная карточка, в которую заносится информация о водителе и который водители мопедов или велосипедов в таком случае должны иметь при себ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2  Мопеды и велосипеды должны быть оборудованы звуковым сигналом и светоотражателями: впереди - белого цвета, по сторонам - оранжевого, сзади - красно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3  Для движения в темное время суток и в условиях недостаточной видимости на мопеде необходимо включить освещение, на велосипеде - фонарь (фару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Рисунок 2" descr="вело3.jpg"/>
          <p:cNvPicPr/>
          <p:nvPr/>
        </p:nvPicPr>
        <p:blipFill>
          <a:blip r:embed="rId2"/>
          <a:stretch/>
        </p:blipFill>
        <p:spPr>
          <a:xfrm>
            <a:off x="-6480" y="566640"/>
            <a:ext cx="3797280" cy="2652840"/>
          </a:xfrm>
          <a:prstGeom prst="rect">
            <a:avLst/>
          </a:prstGeom>
          <a:ln w="0">
            <a:noFill/>
          </a:ln>
        </p:spPr>
      </p:pic>
      <p:pic>
        <p:nvPicPr>
          <p:cNvPr id="241" name="Рисунок 3" descr="скутер 2.jpg"/>
          <p:cNvPicPr/>
          <p:nvPr/>
        </p:nvPicPr>
        <p:blipFill>
          <a:blip r:embed="rId3"/>
          <a:stretch/>
        </p:blipFill>
        <p:spPr>
          <a:xfrm>
            <a:off x="133200" y="3565440"/>
            <a:ext cx="3657600" cy="27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3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Рисунок 1" descr="вело1.jpg"/>
          <p:cNvPicPr/>
          <p:nvPr/>
        </p:nvPicPr>
        <p:blipFill>
          <a:blip r:embed="rId1"/>
          <a:stretch/>
        </p:blipFill>
        <p:spPr>
          <a:xfrm>
            <a:off x="1994040" y="3925800"/>
            <a:ext cx="5010120" cy="2578320"/>
          </a:xfrm>
          <a:prstGeom prst="rect">
            <a:avLst/>
          </a:prstGeom>
          <a:ln w="0">
            <a:noFill/>
          </a:ln>
        </p:spPr>
      </p:pic>
      <p:sp>
        <p:nvSpPr>
          <p:cNvPr id="243" name="Rectangle 1"/>
          <p:cNvSpPr/>
          <p:nvPr/>
        </p:nvSpPr>
        <p:spPr>
          <a:xfrm>
            <a:off x="785880" y="866880"/>
            <a:ext cx="800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ители мопедов и велосипедов, двигаясь группами, должны ехать один за другим, чтобы не мешать другим участникам дорожного движения. Колона велосипедистов, которая движется по проезжей части, должна быть разделена на группы (до 10 велосипедистов в группе) с дистанцией движения между группами 80-100 метр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5  Водители мопедов и велосипедов могут перевозить только такие грузы, которые не мешают управлять транспортным средством и не создают препятствий другим участникам дорожного движ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Прямая соединительная линия 5"/>
          <p:cNvSpPr/>
          <p:nvPr/>
        </p:nvSpPr>
        <p:spPr>
          <a:xfrm>
            <a:off x="2751840" y="3929040"/>
            <a:ext cx="3495960" cy="25718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Прямая соединительная линия 7"/>
          <p:cNvSpPr/>
          <p:nvPr/>
        </p:nvSpPr>
        <p:spPr>
          <a:xfrm flipH="1">
            <a:off x="2752200" y="3929040"/>
            <a:ext cx="3495960" cy="25718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Прямоугольная выноска 1"/>
          <p:cNvSpPr/>
          <p:nvPr/>
        </p:nvSpPr>
        <p:spPr>
          <a:xfrm>
            <a:off x="1143000" y="785880"/>
            <a:ext cx="6643800" cy="928800"/>
          </a:xfrm>
          <a:prstGeom prst="wedgeRectCallout">
            <a:avLst>
              <a:gd name="adj1" fmla="val -21282"/>
              <a:gd name="adj2" fmla="val 125583"/>
            </a:avLst>
          </a:prstGeom>
          <a:solidFill>
            <a:srgbClr val="ffc000"/>
          </a:solidFill>
          <a:ln w="1908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2"/>
          <p:cNvSpPr/>
          <p:nvPr/>
        </p:nvSpPr>
        <p:spPr>
          <a:xfrm>
            <a:off x="357120" y="9288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Arial"/>
              </a:rPr>
              <a:t>РАЗРЕШАЮЩИЕ ЗНА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Рисунок 31" descr="1.34"/>
          <p:cNvPicPr/>
          <p:nvPr/>
        </p:nvPicPr>
        <p:blipFill>
          <a:blip r:embed="rId1"/>
          <a:stretch/>
        </p:blipFill>
        <p:spPr>
          <a:xfrm>
            <a:off x="857160" y="2143080"/>
            <a:ext cx="1714680" cy="1643040"/>
          </a:xfrm>
          <a:prstGeom prst="rect">
            <a:avLst/>
          </a:prstGeom>
          <a:ln w="0">
            <a:noFill/>
          </a:ln>
        </p:spPr>
      </p:pic>
      <p:pic>
        <p:nvPicPr>
          <p:cNvPr id="249" name="Рисунок 32" descr="4.12"/>
          <p:cNvPicPr/>
          <p:nvPr/>
        </p:nvPicPr>
        <p:blipFill>
          <a:blip r:embed="rId2"/>
          <a:stretch/>
        </p:blipFill>
        <p:spPr>
          <a:xfrm>
            <a:off x="928800" y="4357800"/>
            <a:ext cx="1785960" cy="1643040"/>
          </a:xfrm>
          <a:prstGeom prst="rect">
            <a:avLst/>
          </a:prstGeom>
          <a:ln w="0">
            <a:noFill/>
          </a:ln>
        </p:spPr>
      </p:pic>
      <p:pic>
        <p:nvPicPr>
          <p:cNvPr id="250" name="Рисунок 33" descr="4.14"/>
          <p:cNvPicPr/>
          <p:nvPr/>
        </p:nvPicPr>
        <p:blipFill>
          <a:blip r:embed="rId3"/>
          <a:stretch/>
        </p:blipFill>
        <p:spPr>
          <a:xfrm>
            <a:off x="6643800" y="4572000"/>
            <a:ext cx="2000160" cy="1857240"/>
          </a:xfrm>
          <a:prstGeom prst="rect">
            <a:avLst/>
          </a:prstGeom>
          <a:ln w="0">
            <a:noFill/>
          </a:ln>
        </p:spPr>
      </p:pic>
      <p:sp>
        <p:nvSpPr>
          <p:cNvPr id="251" name="TextBox 10"/>
          <p:cNvSpPr/>
          <p:nvPr/>
        </p:nvSpPr>
        <p:spPr>
          <a:xfrm>
            <a:off x="2500200" y="2428920"/>
            <a:ext cx="32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езд  велосипедистов на дорог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11"/>
          <p:cNvSpPr/>
          <p:nvPr/>
        </p:nvSpPr>
        <p:spPr>
          <a:xfrm>
            <a:off x="2928960" y="4857840"/>
            <a:ext cx="192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елосипедная дорож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12"/>
          <p:cNvSpPr/>
          <p:nvPr/>
        </p:nvSpPr>
        <p:spPr>
          <a:xfrm>
            <a:off x="5214960" y="3500280"/>
            <a:ext cx="357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рожка для пешеходов и велосипедис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4000"/>
                            </p:stCondLst>
                            <p:childTnLst>
                              <p:par>
                                <p:cTn id="109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9000"/>
                            </p:stCondLst>
                            <p:childTnLst>
                              <p:par>
                                <p:cTn id="113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7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7000"/>
                            </p:stCondLst>
                            <p:childTnLst>
                              <p:par>
                                <p:cTn id="121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8500"/>
                            </p:stCondLst>
                            <p:childTnLst>
                              <p:par>
                                <p:cTn id="125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4T16:33:07Z</dcterms:created>
  <dc:creator>XTreme</dc:creator>
  <dc:description/>
  <dc:language>en-US</dc:language>
  <cp:lastModifiedBy>XTreme</cp:lastModifiedBy>
  <dcterms:modified xsi:type="dcterms:W3CDTF">2010-11-06T11:29:35Z</dcterms:modified>
  <cp:revision>22</cp:revision>
  <dc:subject/>
  <dc:title>Слайд 1</dc:title>
</cp:coreProperties>
</file>