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11E-905E-4A8E-B919-99C2587E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8A2-989C-498F-AA70-9117528D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BE6-2D78-485F-8E9C-AC44D050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86D-060E-46FC-A7FC-3344442B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ED0C-F79E-49C6-81F2-226099CA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5E32-B9FD-4363-ACC6-2B734F95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17CB-F8ED-45CE-8215-17DCE3A1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510B-9537-4E80-821D-080A87AF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FFBD-6706-4B5E-B194-C5B87204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F7A3-2697-4CFD-96E4-B6ED7872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71D7-6576-4737-9F23-35327D71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F58-405E-418F-8AE4-E1AD087B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3E0E-EAE0-4F95-93C1-EADE06D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71DD-43C8-4D7F-83A7-5CF8228D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82F5-5676-43EE-B6B4-8914614C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D56F-41A2-44E8-9DFF-21BD17F8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B406-2C50-438F-8B2E-6909EB85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684F8-74E9-44E7-9897-D0F659D8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CE81C-2F10-44E6-8CC4-935BAE72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3B5BE-952D-4DD3-83AF-8701571D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CEA0B-7495-4C9A-AEA4-591DCF4C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D6D64-23E8-43C6-9439-42A04F9C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0EE-571A-4077-801E-F80E4F18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CC04F-9A75-456C-910B-467CD04F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B9016-5DD9-4819-B044-F339E93F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ED7BA-997B-4F89-BEDC-EF62B7F0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FFF6B-9978-4D7B-832D-59C10D1F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5FADF-1BE1-4C28-A3E9-D2C5D033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CA2F6-CDC6-4BD4-9B41-C142B10F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4C631-C6AA-4ABD-A93A-2F345F26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148E8-6376-4E39-8577-1CB1F9A7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B4464-9552-41A9-862E-3DD54C1E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B850-49DC-4F83-8A16-550F72B3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BDD-4104-4AAC-97B0-2A9B3B74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2458F-0D2C-4624-BA39-FEFA8EB4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2B7FE-527D-4E43-9817-9464B3FA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C6CD-DAD1-4AD8-8B53-7D63F7F9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879C3-C105-494D-81BC-23E2AD44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A065-9EF7-448F-82A3-7F9AF560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6BF16-F550-44BA-A166-6EE7F039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1063-F91D-4A73-BAE3-6ACD46C2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C4800-880D-4C09-876A-3715C41B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3A0FF-6125-4884-983F-B14E27D9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326-132F-41D9-A9B1-461E0322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8FB-F692-41E6-B56F-4AA18AD2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B22-D561-4158-8BE9-B6F1415A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116-F53D-4C61-B508-573EDCB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834-8CDA-4755-8542-D00379A7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91E2-5957-402D-A1FD-99C9E9B7442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F05D-9EB3-4DFC-8831-7B2C2D2706F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C7DE-9860-43D2-8FF0-157FB58B2CD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0667-E31C-46F0-ABD2-2262AC820C9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1500120" y="8571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ПРАВИЛА ДОРОЖНОГО ДВИ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ДЛЯ ВЕЛОСИПЕД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И СКУТЕР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4" descr="суутер 1.jpg"/>
          <p:cNvPicPr/>
          <p:nvPr/>
        </p:nvPicPr>
        <p:blipFill>
          <a:blip r:embed="rId1"/>
          <a:stretch/>
        </p:blipFill>
        <p:spPr>
          <a:xfrm>
            <a:off x="493560" y="3925800"/>
            <a:ext cx="22989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Выноска со стрелкой вниз 1"/>
          <p:cNvSpPr/>
          <p:nvPr/>
        </p:nvSpPr>
        <p:spPr>
          <a:xfrm>
            <a:off x="428760" y="642960"/>
            <a:ext cx="7715160" cy="1500120"/>
          </a:xfrm>
          <a:prstGeom prst="downArrowCallout">
            <a:avLst>
              <a:gd name="adj1" fmla="val 25003"/>
              <a:gd name="adj2" fmla="val 25001"/>
              <a:gd name="adj3" fmla="val 25000"/>
              <a:gd name="adj4" fmla="val 64977"/>
            </a:avLst>
          </a:prstGeom>
          <a:solidFill>
            <a:srgbClr val="daef11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714240" y="857160"/>
            <a:ext cx="70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РЕЩАЮЩИЕ 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24" descr="3.8"/>
          <p:cNvPicPr/>
          <p:nvPr/>
        </p:nvPicPr>
        <p:blipFill>
          <a:blip r:embed="rId2"/>
          <a:stretch/>
        </p:blipFill>
        <p:spPr>
          <a:xfrm>
            <a:off x="1428840" y="2143080"/>
            <a:ext cx="2714400" cy="23576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1" descr="2.1"/>
          <p:cNvPicPr/>
          <p:nvPr/>
        </p:nvPicPr>
        <p:blipFill>
          <a:blip r:embed="rId3"/>
          <a:stretch/>
        </p:blipFill>
        <p:spPr>
          <a:xfrm>
            <a:off x="5715000" y="2214720"/>
            <a:ext cx="3071880" cy="21207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5"/>
          <p:cNvSpPr/>
          <p:nvPr/>
        </p:nvSpPr>
        <p:spPr>
          <a:xfrm>
            <a:off x="1143000" y="450072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                                          УСТУ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ИСТОВ                            ДОРОГУ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3286080" y="813240"/>
            <a:ext cx="5429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Скутер является механический транспортным средством Объём двигателя не должен превышать больше 49 кубических см. Максимально разрешённая скорость не должна превышать 50 км/ч Скутер  приравнен к велосипедам и гужевым повоз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Для скутеристов введены следующие пр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обязательно наличие шл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запрещается ездить со вторым пассажиром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запрещается поворачивать налево или разворачиваться на дорогах с трамвайным движением и на дорогах, имеющих более одной полосы для движения в данном направлении.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Несмотря на то, что скутер не имеют права забирать на штраф-стоянку потому что он является механическим транспортным средством, на случай аварии необходимо иметь документ, удостоверяющий личность владельца, а также документ, свидетельствующий о принадлежности скутера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владельцу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2" descr="скутер 4.jpg"/>
          <p:cNvPicPr/>
          <p:nvPr/>
        </p:nvPicPr>
        <p:blipFill>
          <a:blip r:embed="rId1"/>
          <a:stretch/>
        </p:blipFill>
        <p:spPr>
          <a:xfrm>
            <a:off x="281160" y="853920"/>
            <a:ext cx="29383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b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285840" y="899280"/>
            <a:ext cx="85010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ы, которые приведены в настоящих Правилах, имеют такое значение: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ная дорога, улица (дорога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сть территории, в том числе в населенном пункте, предназначенная для движения транспортных средств и пешеходов, со всеми расположенными на ней сооружениями (мостами, путепроводами, эстакадами, надземными и подземными пешеходными переходами) и средствами организации дорожного движения, и ограниченная по ширине внешним краем тротуаров или краем полосы отвода. Этот термин включает также специально построенные временные дороги, кроме произвольно наезженных дорог (кол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ая дистанц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тояние до транспортного средства, которое двигается впереди по той же самой полосе, которое в случае его внезапного торможения или остановки даст возможность водителю транспортного средства, которое двигается позади, предотвратить столкновение без осуществления любого манев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й интерва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тояние между боковыми частями транспортных средств, которые двигаются, или между ними и другими объектами, при котором гарантирована безопасность дорожного движ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285840" y="80100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анспортное средство, кроме инвалидных колясок, которое приводится в движение мускульной силой человека, который находится на 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ная дорож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олненная в границах дороги или вне ее дорожка с покрытием, которая предназначена для движения на велосипедах и мопедах и обозначенная дорожным зна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" descr="4.12"/>
          <p:cNvPicPr/>
          <p:nvPr/>
        </p:nvPicPr>
        <p:blipFill>
          <a:blip r:embed="rId2"/>
          <a:stretch/>
        </p:blipFill>
        <p:spPr>
          <a:xfrm>
            <a:off x="6215040" y="2928960"/>
            <a:ext cx="2643120" cy="25002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трелка вправо 5"/>
          <p:cNvSpPr/>
          <p:nvPr/>
        </p:nvSpPr>
        <p:spPr>
          <a:xfrm rot="1518600">
            <a:off x="4549320" y="4240080"/>
            <a:ext cx="1886040" cy="5000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2" descr="1.22"/>
          <p:cNvPicPr/>
          <p:nvPr/>
        </p:nvPicPr>
        <p:blipFill>
          <a:blip r:embed="rId1"/>
          <a:stretch/>
        </p:blipFill>
        <p:spPr>
          <a:xfrm>
            <a:off x="214200" y="2786040"/>
            <a:ext cx="2928960" cy="19288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3" descr="1.23.1"/>
          <p:cNvPicPr/>
          <p:nvPr/>
        </p:nvPicPr>
        <p:blipFill>
          <a:blip r:embed="rId2"/>
          <a:stretch/>
        </p:blipFill>
        <p:spPr>
          <a:xfrm>
            <a:off x="428760" y="4857840"/>
            <a:ext cx="2928960" cy="2000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1.23.2"/>
          <p:cNvPicPr/>
          <p:nvPr/>
        </p:nvPicPr>
        <p:blipFill>
          <a:blip r:embed="rId3"/>
          <a:stretch/>
        </p:blipFill>
        <p:spPr>
          <a:xfrm>
            <a:off x="3500280" y="2714760"/>
            <a:ext cx="2571840" cy="1928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5" descr="1.23.3"/>
          <p:cNvPicPr/>
          <p:nvPr/>
        </p:nvPicPr>
        <p:blipFill>
          <a:blip r:embed="rId4"/>
          <a:stretch/>
        </p:blipFill>
        <p:spPr>
          <a:xfrm>
            <a:off x="3643200" y="4786200"/>
            <a:ext cx="2571840" cy="17859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6" descr="1.23.4"/>
          <p:cNvPicPr/>
          <p:nvPr/>
        </p:nvPicPr>
        <p:blipFill>
          <a:blip r:embed="rId5"/>
          <a:stretch/>
        </p:blipFill>
        <p:spPr>
          <a:xfrm>
            <a:off x="6215040" y="2571840"/>
            <a:ext cx="2643120" cy="20001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7" descr="2.3"/>
          <p:cNvPicPr/>
          <p:nvPr/>
        </p:nvPicPr>
        <p:blipFill>
          <a:blip r:embed="rId6"/>
          <a:stretch/>
        </p:blipFill>
        <p:spPr>
          <a:xfrm>
            <a:off x="6500880" y="4572000"/>
            <a:ext cx="2071800" cy="20001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428760" y="826920"/>
            <a:ext cx="8429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дор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дорога с покрытием относительно грунтовой или дорога, которая отмечается зна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0" y="9334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9" descr="5.35.1"/>
          <p:cNvPicPr/>
          <p:nvPr/>
        </p:nvPicPr>
        <p:blipFill>
          <a:blip r:embed="rId1"/>
          <a:stretch/>
        </p:blipFill>
        <p:spPr>
          <a:xfrm>
            <a:off x="785880" y="3357720"/>
            <a:ext cx="3286080" cy="2928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0" descr="5.36.1"/>
          <p:cNvPicPr/>
          <p:nvPr/>
        </p:nvPicPr>
        <p:blipFill>
          <a:blip r:embed="rId2"/>
          <a:stretch/>
        </p:blipFill>
        <p:spPr>
          <a:xfrm>
            <a:off x="5214960" y="3500280"/>
            <a:ext cx="3214800" cy="27147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2295360" y="-137880"/>
            <a:ext cx="455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шеходные переходы отмечаются дорожными зна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441320" y="338400"/>
            <a:ext cx="2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4451040" y="827640"/>
            <a:ext cx="24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85840" y="100008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ЫЕ ПЕРЕХОДЫ ОБОЗНАЧАЮ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Прямая со стрелкой 9"/>
          <p:cNvCxnSpPr/>
          <p:nvPr/>
        </p:nvCxnSpPr>
        <p:spPr>
          <a:xfrm flipH="1">
            <a:off x="2785680" y="1571760"/>
            <a:ext cx="1215360" cy="17150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Прямая со стрелкой 11"/>
          <p:cNvCxnSpPr/>
          <p:nvPr/>
        </p:nvCxnSpPr>
        <p:spPr>
          <a:xfrm>
            <a:off x="4429080" y="1642680"/>
            <a:ext cx="1643760" cy="171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4143240" y="884160"/>
            <a:ext cx="471492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  Двигаться по дороге на мопедах разрешается лицам, которые достигли 16-летнего, на велосипедах - 14-летне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дителей мопедов и велосипедов местными органами исполнительной власти может быть установленная карточка, в которую заносится информация о водителе и который водители мопедов или велосипедов в таком случае должны иметь при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  Мопеды и велосипеды должны быть оборудованы звуковым сигналом и светоотражателями: впереди - белого цвета, по сторонам - оранжевого, сзади - крас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3  Для движения в темное время суток и в условиях недостаточной видимости на мопеде необходимо включить освещение, на велосипеде - фонарь (фар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2" descr="вело3.jpg"/>
          <p:cNvPicPr/>
          <p:nvPr/>
        </p:nvPicPr>
        <p:blipFill>
          <a:blip r:embed="rId2"/>
          <a:stretch/>
        </p:blipFill>
        <p:spPr>
          <a:xfrm>
            <a:off x="-6480" y="566640"/>
            <a:ext cx="3797280" cy="26528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скутер 2.jpg"/>
          <p:cNvPicPr/>
          <p:nvPr/>
        </p:nvPicPr>
        <p:blipFill>
          <a:blip r:embed="rId3"/>
          <a:stretch/>
        </p:blipFill>
        <p:spPr>
          <a:xfrm>
            <a:off x="133200" y="3565440"/>
            <a:ext cx="36576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1" descr="вело1.jpg"/>
          <p:cNvPicPr/>
          <p:nvPr/>
        </p:nvPicPr>
        <p:blipFill>
          <a:blip r:embed="rId1"/>
          <a:stretch/>
        </p:blipFill>
        <p:spPr>
          <a:xfrm>
            <a:off x="1994040" y="3925800"/>
            <a:ext cx="5010120" cy="2578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785880" y="8668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и мопедов и велосипедов, двигаясь группами, должны ехать один за другим, чтобы не мешать другим участникам дорожного движения. Колона велосипедистов, которая движется по проезжей части, должна быть разделена на группы (до 10 велосипедистов в группе) с дистанцией движения между группами 80-10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5  Водители мопедов и велосипедов могут перевозить только такие грузы, которые не мешают управлять транспортным средством и не создают препятствий другим участникам дорожного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5"/>
          <p:cNvSpPr/>
          <p:nvPr/>
        </p:nvSpPr>
        <p:spPr>
          <a:xfrm>
            <a:off x="2751840" y="3929040"/>
            <a:ext cx="3495960" cy="2571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7"/>
          <p:cNvSpPr/>
          <p:nvPr/>
        </p:nvSpPr>
        <p:spPr>
          <a:xfrm flipH="1">
            <a:off x="2752200" y="3929040"/>
            <a:ext cx="3495960" cy="2571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ая выноска 1"/>
          <p:cNvSpPr/>
          <p:nvPr/>
        </p:nvSpPr>
        <p:spPr>
          <a:xfrm>
            <a:off x="1143000" y="785880"/>
            <a:ext cx="6643800" cy="928800"/>
          </a:xfrm>
          <a:prstGeom prst="wedgeRectCallout">
            <a:avLst>
              <a:gd name="adj1" fmla="val -21282"/>
              <a:gd name="adj2" fmla="val 125583"/>
            </a:avLst>
          </a:prstGeom>
          <a:solidFill>
            <a:srgbClr val="ffc00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357120" y="928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РАЗРЕШАЮЩИЕ 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31" descr="1.34"/>
          <p:cNvPicPr/>
          <p:nvPr/>
        </p:nvPicPr>
        <p:blipFill>
          <a:blip r:embed="rId1"/>
          <a:stretch/>
        </p:blipFill>
        <p:spPr>
          <a:xfrm>
            <a:off x="857160" y="214308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32" descr="4.12"/>
          <p:cNvPicPr/>
          <p:nvPr/>
        </p:nvPicPr>
        <p:blipFill>
          <a:blip r:embed="rId2"/>
          <a:stretch/>
        </p:blipFill>
        <p:spPr>
          <a:xfrm>
            <a:off x="928800" y="435780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3" descr="4.14"/>
          <p:cNvPicPr/>
          <p:nvPr/>
        </p:nvPicPr>
        <p:blipFill>
          <a:blip r:embed="rId3"/>
          <a:stretch/>
        </p:blipFill>
        <p:spPr>
          <a:xfrm>
            <a:off x="6643800" y="4572000"/>
            <a:ext cx="2000160" cy="18572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0"/>
          <p:cNvSpPr/>
          <p:nvPr/>
        </p:nvSpPr>
        <p:spPr>
          <a:xfrm>
            <a:off x="2500200" y="24289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д  велосипедистов на дор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2928960" y="485784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осипедная 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5214960" y="35002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ка для пешеходов и велосипед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6:33:07Z</dcterms:created>
  <dc:creator>XTreme</dc:creator>
  <dc:description/>
  <dc:language>en-US</dc:language>
  <cp:lastModifiedBy>XTreme</cp:lastModifiedBy>
  <dcterms:modified xsi:type="dcterms:W3CDTF">2010-11-06T11:29:35Z</dcterms:modified>
  <cp:revision>22</cp:revision>
  <dc:subject/>
  <dc:title>Слайд 1</dc:title>
</cp:coreProperties>
</file>