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F50C-23FA-4A76-A466-F6D3998A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F142-0014-4224-8D7E-5ADFDE2E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2944-BE6D-41C4-9196-878626F0C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E1B6-36CE-4069-8177-783A93B13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CA1C-F93F-4DF1-AE6A-8CB1FE18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6B31-EAB0-4F6A-850F-FC469B99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B1CA-98F3-4EAA-93F0-5014DB77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37F9-8EE0-4F4F-99C8-6E788C31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0F08-52A2-49A1-8E07-456F6867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86E6-99B0-4E7A-81A9-6B9A9463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00E4-3AFC-4900-A311-32F7DFA3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1FC6-2860-4490-A687-E700156D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6F2D-2BAD-40E8-BABE-602A5CC6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636F-0FCE-4902-82D6-11D8EC01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A42A-2556-43FE-816B-D200658D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7F12-CA32-49EF-83B4-CC494A4C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A9E2-E339-4672-9895-32FD6FC50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8155-627C-454A-82B9-438D6309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3A96-578E-44A0-8D56-C4E47B87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7DA7-2388-4C66-BFE0-245A60A6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68F0-4BDA-44E1-8903-CDBB1E47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A51A-5F75-4379-91BA-ADAA00EE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C496-1DA0-49C2-9A6B-F411BF30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2077-30E0-49C6-90F0-3A0D36C9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6A48-291D-45E9-A4AA-627699DC3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9B33-2633-45D7-AE2E-BB142DEEF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350028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000" spc="-1" strike="noStrike">
                <a:solidFill>
                  <a:srgbClr val="b39257"/>
                </a:solidFill>
                <a:latin typeface="Arial"/>
              </a:rPr>
              <a:t>Г.В. Дорофеев, Л.Г. Петерсон</a:t>
            </a:r>
            <a:endParaRPr b="0" lang="en-US" sz="2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03280" y="836640"/>
            <a:ext cx="64008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ПЕРЕВОД УСЛОВИЯ ЗАДАЧИ НА МАТЕМАТИЧЕСКИЙ ЯЗЫ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( ПОСТРОЕНИЕ МАТЕМАТИЧЕСКОЙ МОДЕ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5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МАТЕМА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4292640"/>
            <a:ext cx="835200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Учитель МОУ «Гимназия №2» г. Кимры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Дьячкова Светлана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Математическая модель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Х:4  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Х:6  =  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349360"/>
            <a:ext cx="1584360" cy="2303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68360" y="2349360"/>
            <a:ext cx="91440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39257"/>
                </a:solidFill>
                <a:latin typeface="Arial"/>
              </a:rPr>
              <a:t>Через сколько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дней </a:t>
            </a:r>
            <a:r>
              <a:rPr b="0" lang="en-US" sz="2800" spc="-1" strike="noStrike">
                <a:solidFill>
                  <a:srgbClr val="b39257"/>
                </a:solidFill>
                <a:latin typeface="Arial"/>
              </a:rPr>
              <a:t>на обоих складах угля окажется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оровну</a:t>
            </a:r>
            <a:r>
              <a:rPr b="0" lang="en-US" sz="2800" spc="-1" strike="noStrike">
                <a:solidFill>
                  <a:srgbClr val="b39257"/>
                </a:solidFill>
                <a:latin typeface="Arial"/>
              </a:rPr>
              <a:t>? №103 (7)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57200" y="1600200"/>
          <a:ext cx="8435880" cy="4349880"/>
        </p:xfrm>
        <a:graphic>
          <a:graphicData uri="http://schemas.openxmlformats.org/drawingml/2006/table">
            <a:tbl>
              <a:tblPr/>
              <a:tblGrid>
                <a:gridCol w="585720"/>
                <a:gridCol w="2389320"/>
                <a:gridCol w="1931760"/>
                <a:gridCol w="352908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езли всего за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н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лос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н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>
            <a:off x="5508720" y="3284640"/>
            <a:ext cx="1368360" cy="1295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0-6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508720" y="4724280"/>
            <a:ext cx="1296720" cy="129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6-3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8300000">
            <a:off x="6299640" y="4077360"/>
            <a:ext cx="1656000" cy="1368360"/>
          </a:xfrm>
          <a:custGeom>
            <a:avLst/>
            <a:gdLst>
              <a:gd name="textAreaLeft" fmla="*/ 475200 w 1656000"/>
              <a:gd name="textAreaRight" fmla="*/ 1418400 w 1656000"/>
              <a:gd name="textAreaTop" fmla="*/ 991440 h 1368360"/>
              <a:gd name="textAreaBottom" fmla="*/ 117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7075"/>
                </a:moveTo>
                <a:lnTo>
                  <a:pt x="6200" y="12550"/>
                </a:lnTo>
                <a:lnTo>
                  <a:pt x="6200" y="15650"/>
                </a:lnTo>
                <a:lnTo>
                  <a:pt x="15650" y="15650"/>
                </a:lnTo>
                <a:lnTo>
                  <a:pt x="15650" y="6200"/>
                </a:lnTo>
                <a:lnTo>
                  <a:pt x="12550" y="6200"/>
                </a:lnTo>
                <a:lnTo>
                  <a:pt x="17075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740720" y="4005360"/>
            <a:ext cx="936720" cy="1152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ров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Математическая модель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auhaus 93"/>
              </a:rPr>
              <a:t>120-6х  </a:t>
            </a:r>
            <a:r>
              <a:rPr b="1" lang="en-US" sz="4800" spc="-1" strike="noStrike">
                <a:solidFill>
                  <a:srgbClr val="ff3399"/>
                </a:solidFill>
                <a:latin typeface="Bauhaus 93"/>
              </a:rPr>
              <a:t>= </a:t>
            </a:r>
            <a:r>
              <a:rPr b="1" lang="en-US" sz="4800" spc="-1" strike="noStrike">
                <a:solidFill>
                  <a:srgbClr val="000000"/>
                </a:solidFill>
                <a:latin typeface="Bauhaus 93"/>
              </a:rPr>
              <a:t>  96-3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39257"/>
                </a:solidFill>
                <a:latin typeface="Arial"/>
              </a:rPr>
              <a:t>Через сколько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дней  </a:t>
            </a:r>
            <a:r>
              <a:rPr b="0" lang="en-US" sz="2800" spc="-1" strike="noStrike">
                <a:solidFill>
                  <a:srgbClr val="b39257"/>
                </a:solidFill>
                <a:latin typeface="Arial"/>
              </a:rPr>
              <a:t>во втором баке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останется </a:t>
            </a:r>
            <a:r>
              <a:rPr b="0" lang="en-US" sz="2800" spc="-1" strike="noStrike">
                <a:solidFill>
                  <a:srgbClr val="b39257"/>
                </a:solidFill>
                <a:latin typeface="Arial"/>
              </a:rPr>
              <a:t>в 6 раз больше масла, чем в первом? №103(8)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730080"/>
                <a:gridCol w="2232360"/>
                <a:gridCol w="2016000"/>
                <a:gridCol w="325116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яли всего за </a:t>
                      </a: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дн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лос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р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литр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 лит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5508720" y="3213000"/>
            <a:ext cx="1439640" cy="129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-3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508720" y="4797360"/>
            <a:ext cx="1512720" cy="1152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2-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8300000">
            <a:off x="6228360" y="4004280"/>
            <a:ext cx="1656000" cy="1368360"/>
          </a:xfrm>
          <a:custGeom>
            <a:avLst/>
            <a:gdLst>
              <a:gd name="textAreaLeft" fmla="*/ 475200 w 1656000"/>
              <a:gd name="textAreaRight" fmla="*/ 1418400 w 1656000"/>
              <a:gd name="textAreaTop" fmla="*/ 991440 h 1368360"/>
              <a:gd name="textAreaBottom" fmla="*/ 117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7075"/>
                </a:moveTo>
                <a:lnTo>
                  <a:pt x="6200" y="12550"/>
                </a:lnTo>
                <a:lnTo>
                  <a:pt x="6200" y="15650"/>
                </a:lnTo>
                <a:lnTo>
                  <a:pt x="15650" y="15650"/>
                </a:lnTo>
                <a:lnTo>
                  <a:pt x="15650" y="6200"/>
                </a:lnTo>
                <a:lnTo>
                  <a:pt x="12550" y="6200"/>
                </a:lnTo>
                <a:lnTo>
                  <a:pt x="17075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812000" y="3716280"/>
            <a:ext cx="914400" cy="1584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6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8300000">
            <a:off x="6228360" y="4004280"/>
            <a:ext cx="1656000" cy="1368360"/>
          </a:xfrm>
          <a:custGeom>
            <a:avLst/>
            <a:gdLst>
              <a:gd name="textAreaLeft" fmla="*/ 475200 w 1656000"/>
              <a:gd name="textAreaRight" fmla="*/ 1418400 w 1656000"/>
              <a:gd name="textAreaTop" fmla="*/ 991440 h 1368360"/>
              <a:gd name="textAreaBottom" fmla="*/ 117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7075"/>
                </a:moveTo>
                <a:lnTo>
                  <a:pt x="6200" y="12550"/>
                </a:lnTo>
                <a:lnTo>
                  <a:pt x="6200" y="15650"/>
                </a:lnTo>
                <a:lnTo>
                  <a:pt x="15650" y="15650"/>
                </a:lnTo>
                <a:lnTo>
                  <a:pt x="15650" y="6200"/>
                </a:lnTo>
                <a:lnTo>
                  <a:pt x="12550" y="6200"/>
                </a:lnTo>
                <a:lnTo>
                  <a:pt x="17075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Математическая модель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Narrow"/>
              </a:rPr>
              <a:t>(72-х) : (46-3х)=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84360" y="2492280"/>
            <a:ext cx="1513080" cy="790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2421000"/>
            <a:ext cx="1800000" cy="2448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b39257"/>
                </a:solidFill>
                <a:latin typeface="Arial"/>
              </a:rPr>
              <a:t>Задача 4</a:t>
            </a:r>
            <a:br>
              <a:rPr sz="4000"/>
            </a:br>
            <a:r>
              <a:rPr b="0" lang="en-US" sz="2400" spc="-1" strike="noStrike">
                <a:solidFill>
                  <a:srgbClr val="b39257"/>
                </a:solidFill>
                <a:latin typeface="Arial"/>
              </a:rPr>
              <a:t>На экскурсию едут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252 </a:t>
            </a:r>
            <a:r>
              <a:rPr b="0" lang="en-US" sz="2400" spc="-1" strike="noStrike">
                <a:solidFill>
                  <a:srgbClr val="b39257"/>
                </a:solidFill>
                <a:latin typeface="Arial"/>
              </a:rPr>
              <a:t>ученика школы. Для них заказаны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несколько автобусов</a:t>
            </a:r>
            <a:r>
              <a:rPr b="0" lang="en-US" sz="2400" spc="-1" strike="noStrike">
                <a:solidFill>
                  <a:srgbClr val="b39257"/>
                </a:solidFill>
                <a:latin typeface="Arial"/>
              </a:rPr>
              <a:t>. Однако выяснилось, что если заказать автобусы, вмещающие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на 6 человек больше</a:t>
            </a:r>
            <a:r>
              <a:rPr b="0" lang="en-US" sz="2400" spc="-1" strike="noStrike">
                <a:solidFill>
                  <a:srgbClr val="b39257"/>
                </a:solidFill>
                <a:latin typeface="Arial"/>
              </a:rPr>
              <a:t>, то автобусов потребуется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на один меньше.</a:t>
            </a:r>
            <a:r>
              <a:rPr b="0" lang="en-US" sz="2400" spc="-1" strike="noStrike">
                <a:solidFill>
                  <a:srgbClr val="b39257"/>
                </a:solidFill>
                <a:latin typeface="Arial"/>
              </a:rPr>
              <a:t> Сколько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больших автобусов</a:t>
            </a:r>
            <a:r>
              <a:rPr b="0" lang="en-US" sz="2400" spc="-1" strike="noStrike">
                <a:solidFill>
                  <a:srgbClr val="b39257"/>
                </a:solidFill>
                <a:latin typeface="Arial"/>
              </a:rPr>
              <a:t> надо заказать?</a:t>
            </a:r>
            <a:br>
              <a:rPr sz="2400"/>
            </a:br>
            <a:endParaRPr b="0" lang="en-US" sz="24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95280" y="2565360"/>
          <a:ext cx="8209080" cy="4413240"/>
        </p:xfrm>
        <a:graphic>
          <a:graphicData uri="http://schemas.openxmlformats.org/drawingml/2006/table">
            <a:tbl>
              <a:tblPr/>
              <a:tblGrid>
                <a:gridCol w="1297080"/>
                <a:gridCol w="3527280"/>
                <a:gridCol w="1440000"/>
                <a:gridCol w="194472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детей в </a:t>
                      </a:r>
                      <a:r>
                        <a:rPr b="1" lang="en-US" sz="2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бус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Количество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автобус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Всего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ие автобу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енькие автобу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77080" y="4221000"/>
            <a:ext cx="151128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77080" y="5445000"/>
            <a:ext cx="1582560" cy="1224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763640" y="4221000"/>
            <a:ext cx="1656000" cy="790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2: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763640" y="5300640"/>
            <a:ext cx="1871640" cy="129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2:( х+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8300000">
            <a:off x="2915640" y="4508640"/>
            <a:ext cx="1655640" cy="13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7075"/>
                </a:moveTo>
                <a:lnTo>
                  <a:pt x="4057" y="12550"/>
                </a:lnTo>
                <a:lnTo>
                  <a:pt x="4057" y="17075"/>
                </a:lnTo>
                <a:lnTo>
                  <a:pt x="17075" y="17075"/>
                </a:lnTo>
                <a:lnTo>
                  <a:pt x="17075" y="4057"/>
                </a:lnTo>
                <a:lnTo>
                  <a:pt x="12550" y="4057"/>
                </a:lnTo>
                <a:lnTo>
                  <a:pt x="17075" y="0"/>
                </a:lnTo>
                <a:lnTo>
                  <a:pt x="21600" y="4057"/>
                </a:lnTo>
                <a:lnTo>
                  <a:pt x="17075" y="4057"/>
                </a:lnTo>
                <a:lnTo>
                  <a:pt x="17075" y="17075"/>
                </a:lnTo>
                <a:lnTo>
                  <a:pt x="4057" y="17075"/>
                </a:lnTo>
                <a:lnTo>
                  <a:pt x="4057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356000" y="4437000"/>
            <a:ext cx="914400" cy="1584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580000" y="4221000"/>
            <a:ext cx="914400" cy="9144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508720" y="5516640"/>
            <a:ext cx="914400" cy="9144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3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3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3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3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Математическая модель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48000" y="1628640"/>
            <a:ext cx="273672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52:(Х+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71640" y="1413000"/>
            <a:ext cx="1511280" cy="1512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52: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56000" y="1916280"/>
            <a:ext cx="72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84360" y="1557360"/>
            <a:ext cx="9144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08720" y="1773360"/>
            <a:ext cx="1512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=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11280" y="2924280"/>
            <a:ext cx="2066760" cy="15127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95640" y="2492280"/>
            <a:ext cx="1081080" cy="6494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2 способ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16000"/>
                <a:gridCol w="20988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детей в </a:t>
                      </a:r>
                      <a:r>
                        <a:rPr b="1" lang="en-US" sz="2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автобус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Количество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бус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Всего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бу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25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енькие автобу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2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2771640" y="3284640"/>
            <a:ext cx="141948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87640" y="4724280"/>
            <a:ext cx="1511280" cy="1081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Математическая модель-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два равенства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ху=25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(х+1)(у-6)=25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229600" cy="1139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9257"/>
                </a:solidFill>
                <a:latin typeface="Arial"/>
              </a:rPr>
              <a:t>№</a:t>
            </a:r>
            <a:r>
              <a:rPr b="0" lang="en-US" sz="3600" spc="-1" strike="noStrike">
                <a:solidFill>
                  <a:srgbClr val="b39257"/>
                </a:solidFill>
                <a:latin typeface="Arial"/>
              </a:rPr>
              <a:t>116 (1)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b39257"/>
                </a:solidFill>
                <a:latin typeface="Arial"/>
              </a:rPr>
              <a:t>Задача  № 116 (1)</a:t>
            </a:r>
            <a:br>
              <a:rPr sz="3600"/>
            </a:br>
            <a:r>
              <a:rPr b="0" lang="en-US" sz="2800" spc="-1" strike="noStrike">
                <a:solidFill>
                  <a:srgbClr val="b39257"/>
                </a:solidFill>
                <a:latin typeface="Arial"/>
              </a:rPr>
              <a:t>Два прямоугольника имеют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одинаковую площадь</a:t>
            </a:r>
            <a:r>
              <a:rPr b="0" lang="en-US" sz="2800" spc="-1" strike="noStrike">
                <a:solidFill>
                  <a:srgbClr val="b39257"/>
                </a:solidFill>
                <a:latin typeface="Arial"/>
              </a:rPr>
              <a:t>, равную 70 кв. м.Известно, что  у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первого </a:t>
            </a:r>
            <a:r>
              <a:rPr b="0" lang="en-US" sz="2800" spc="-1" strike="noStrike">
                <a:solidFill>
                  <a:srgbClr val="b39257"/>
                </a:solidFill>
                <a:latin typeface="Arial"/>
              </a:rPr>
              <a:t>прямоугольника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длина на 4 м больше</a:t>
            </a:r>
            <a:r>
              <a:rPr b="0" lang="en-US" sz="2800" spc="-1" strike="noStrike">
                <a:solidFill>
                  <a:srgbClr val="b39257"/>
                </a:solidFill>
                <a:latin typeface="Arial"/>
              </a:rPr>
              <a:t>, а </a:t>
            </a:r>
            <a:r>
              <a:rPr b="0" lang="en-US" sz="2800" spc="-1" strike="noStrike">
                <a:solidFill>
                  <a:srgbClr val="8d2edc"/>
                </a:solidFill>
                <a:latin typeface="Arial"/>
              </a:rPr>
              <a:t>ширина на2 м меньше</a:t>
            </a:r>
            <a:r>
              <a:rPr b="0" lang="en-US" sz="2800" spc="-1" strike="noStrike">
                <a:solidFill>
                  <a:srgbClr val="b39257"/>
                </a:solidFill>
                <a:latin typeface="Arial"/>
              </a:rPr>
              <a:t>, чем у второго прямоугольника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Найди стороны этих прямоугольников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ЗАДАЧА 1.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Перимет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четырёхугольника равен 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46 д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ерва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го сторона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в 2 раза меньш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торой и в 3 раза меньше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треть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ороны, а 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четвёрта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орона 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на 4 см больш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ерв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ороны. Чему равны 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длины сторо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этого чутырёхуголь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Найди стороны этих прямоугольников.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801720"/>
                <a:gridCol w="2160720"/>
                <a:gridCol w="3209760"/>
                <a:gridCol w="20574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длин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ширин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+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х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7020000" y="3429000"/>
            <a:ext cx="91440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7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93080" y="4941720"/>
            <a:ext cx="91440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492360" y="3357720"/>
            <a:ext cx="144144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0:(Х+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492360" y="4869000"/>
            <a:ext cx="122580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0: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8300000">
            <a:off x="4140720" y="4220280"/>
            <a:ext cx="1656000" cy="1368360"/>
          </a:xfrm>
          <a:custGeom>
            <a:avLst/>
            <a:gdLst>
              <a:gd name="textAreaLeft" fmla="*/ 475200 w 1656000"/>
              <a:gd name="textAreaRight" fmla="*/ 1418400 w 1656000"/>
              <a:gd name="textAreaTop" fmla="*/ 991440 h 1368360"/>
              <a:gd name="textAreaBottom" fmla="*/ 117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7075"/>
                </a:moveTo>
                <a:lnTo>
                  <a:pt x="6200" y="12550"/>
                </a:lnTo>
                <a:lnTo>
                  <a:pt x="6200" y="15650"/>
                </a:lnTo>
                <a:lnTo>
                  <a:pt x="15650" y="15650"/>
                </a:lnTo>
                <a:lnTo>
                  <a:pt x="15650" y="6200"/>
                </a:lnTo>
                <a:lnTo>
                  <a:pt x="12550" y="6200"/>
                </a:lnTo>
                <a:lnTo>
                  <a:pt x="17075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24360" y="4076640"/>
            <a:ext cx="914400" cy="1130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н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18300000">
            <a:off x="4140720" y="4220280"/>
            <a:ext cx="1656000" cy="1368360"/>
          </a:xfrm>
          <a:custGeom>
            <a:avLst/>
            <a:gdLst>
              <a:gd name="textAreaLeft" fmla="*/ 475200 w 1656000"/>
              <a:gd name="textAreaRight" fmla="*/ 1418400 w 1656000"/>
              <a:gd name="textAreaTop" fmla="*/ 991440 h 1368360"/>
              <a:gd name="textAreaBottom" fmla="*/ 117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7075"/>
                </a:moveTo>
                <a:lnTo>
                  <a:pt x="6200" y="12550"/>
                </a:lnTo>
                <a:lnTo>
                  <a:pt x="6200" y="15650"/>
                </a:lnTo>
                <a:lnTo>
                  <a:pt x="15650" y="15650"/>
                </a:lnTo>
                <a:lnTo>
                  <a:pt x="15650" y="6200"/>
                </a:lnTo>
                <a:lnTo>
                  <a:pt x="12550" y="6200"/>
                </a:lnTo>
                <a:lnTo>
                  <a:pt x="17075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Математическая модель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70:х-70:(х+4)=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280" y="2349360"/>
            <a:ext cx="1224000" cy="1656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32000" y="2565360"/>
            <a:ext cx="91440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b39257"/>
                </a:solidFill>
                <a:latin typeface="Arial"/>
              </a:rPr>
              <a:t>2 способ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457200" y="1600200"/>
          <a:ext cx="8229600" cy="4489560"/>
        </p:xfrm>
        <a:graphic>
          <a:graphicData uri="http://schemas.openxmlformats.org/drawingml/2006/table">
            <a:tbl>
              <a:tblPr/>
              <a:tblGrid>
                <a:gridCol w="1378080"/>
                <a:gridCol w="2232000"/>
                <a:gridCol w="2562120"/>
                <a:gridCol w="2057400"/>
              </a:tblGrid>
              <a:tr h="157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длин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ширин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+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4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х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9257"/>
                </a:solidFill>
                <a:latin typeface="Arial"/>
              </a:rPr>
              <a:t>Математическая модель –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два</a:t>
            </a:r>
            <a:r>
              <a:rPr b="0" lang="en-US" sz="4000" spc="-1" strike="noStrike">
                <a:solidFill>
                  <a:srgbClr val="b39257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равенства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(Х+4) (Х-2)=7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ХУ=7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9257"/>
                </a:solidFill>
                <a:latin typeface="Arial"/>
              </a:rPr>
              <a:t>Какова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цена </a:t>
            </a:r>
            <a:r>
              <a:rPr b="0" lang="en-US" sz="3200" spc="-1" strike="noStrike">
                <a:solidFill>
                  <a:srgbClr val="b39257"/>
                </a:solidFill>
                <a:latin typeface="Arial"/>
              </a:rPr>
              <a:t>этих тетрадей? №116 (3)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019160"/>
                <a:gridCol w="1295280"/>
                <a:gridCol w="2232000"/>
                <a:gridCol w="368316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летк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+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тетрад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линейк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тетрад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/>
          <p:cNvSpPr/>
          <p:nvPr/>
        </p:nvSpPr>
        <p:spPr>
          <a:xfrm>
            <a:off x="5076720" y="3357720"/>
            <a:ext cx="163512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8(Х+4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003640" y="4724280"/>
            <a:ext cx="1656000" cy="1368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8300000">
            <a:off x="6012360" y="4077360"/>
            <a:ext cx="1656000" cy="1368360"/>
          </a:xfrm>
          <a:custGeom>
            <a:avLst/>
            <a:gdLst>
              <a:gd name="textAreaLeft" fmla="*/ 475200 w 1656000"/>
              <a:gd name="textAreaRight" fmla="*/ 1418400 w 1656000"/>
              <a:gd name="textAreaTop" fmla="*/ 991440 h 1368360"/>
              <a:gd name="textAreaBottom" fmla="*/ 117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7075"/>
                </a:moveTo>
                <a:lnTo>
                  <a:pt x="6200" y="12550"/>
                </a:lnTo>
                <a:lnTo>
                  <a:pt x="6200" y="15650"/>
                </a:lnTo>
                <a:lnTo>
                  <a:pt x="15650" y="15650"/>
                </a:lnTo>
                <a:lnTo>
                  <a:pt x="15650" y="6200"/>
                </a:lnTo>
                <a:lnTo>
                  <a:pt x="12550" y="6200"/>
                </a:lnTo>
                <a:lnTo>
                  <a:pt x="17075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524720" y="4076640"/>
            <a:ext cx="1079640" cy="12034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1600 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Математическая модель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 Black"/>
              </a:rPr>
              <a:t>8(х+400)  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   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10х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=1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2 способ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95280" y="1052640"/>
          <a:ext cx="8229600" cy="5532480"/>
        </p:xfrm>
        <a:graphic>
          <a:graphicData uri="http://schemas.openxmlformats.org/drawingml/2006/table">
            <a:tbl>
              <a:tblPr/>
              <a:tblGrid>
                <a:gridCol w="658800"/>
                <a:gridCol w="2448000"/>
                <a:gridCol w="3065400"/>
                <a:gridCol w="2057400"/>
              </a:tblGrid>
              <a:tr h="15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летк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+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тетрад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+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линейк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тетрад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9257"/>
                </a:solidFill>
                <a:latin typeface="Arial"/>
              </a:rPr>
              <a:t>Математическая модель –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два равенства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У+1600):(Х+400)=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 : Х=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c9800"/>
                </a:solidFill>
                <a:latin typeface="Arial"/>
              </a:rPr>
              <a:t>Желаем вам успехов в составлении  математических моделей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СХЕМА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50920" y="3716280"/>
            <a:ext cx="54738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050920" y="350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96360" y="364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0364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27640" y="3645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0360" y="3645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50920" y="3933720"/>
            <a:ext cx="115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276720" y="3933720"/>
            <a:ext cx="107928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300720" y="3933720"/>
            <a:ext cx="115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+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00720" y="3933720"/>
            <a:ext cx="115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124000" y="35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50920" y="364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0920" y="2852640"/>
            <a:ext cx="6842160" cy="792360"/>
          </a:xfrm>
          <a:custGeom>
            <a:avLst/>
            <a:gdLst>
              <a:gd name="textAreaLeft" fmla="*/ 1197360 w 6842160"/>
              <a:gd name="textAreaRight" fmla="*/ 4960800 w 684216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979640" y="3933720"/>
            <a:ext cx="115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43280" y="1844640"/>
            <a:ext cx="1152720" cy="863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 Д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ое и  ч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4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х+2х+3х+ (х+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х+2х+3х+(х+4)=</a:t>
            </a:r>
            <a:r>
              <a:rPr b="1" lang="en-US" sz="4000" spc="-1" strike="noStrike">
                <a:solidFill>
                  <a:srgbClr val="ff3399"/>
                </a:solidFill>
                <a:latin typeface="Arial Black"/>
              </a:rPr>
              <a:t>46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– математическая мод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сти и цел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9257"/>
                </a:solidFill>
                <a:latin typeface="Arial"/>
              </a:rPr>
              <a:t>ЗАДАЧА 2   № 103 (2)</a:t>
            </a:r>
            <a:br>
              <a:rPr sz="4000"/>
            </a:br>
            <a:r>
              <a:rPr b="0" lang="en-US" sz="4000" spc="-1" strike="noStrike">
                <a:solidFill>
                  <a:srgbClr val="b39257"/>
                </a:solidFill>
                <a:latin typeface="Arial"/>
              </a:rPr>
              <a:t>КАКОВА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ДЛИНА</a:t>
            </a:r>
            <a:r>
              <a:rPr b="0" lang="en-US" sz="4000" spc="-1" strike="noStrike">
                <a:solidFill>
                  <a:srgbClr val="b39257"/>
                </a:solidFill>
                <a:latin typeface="Arial"/>
              </a:rPr>
              <a:t> ДИСТАНЦИИ?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57200" y="1600200"/>
          <a:ext cx="8229600" cy="3768840"/>
        </p:xfrm>
        <a:graphic>
          <a:graphicData uri="http://schemas.openxmlformats.org/drawingml/2006/table">
            <a:tbl>
              <a:tblPr/>
              <a:tblGrid>
                <a:gridCol w="730080"/>
                <a:gridCol w="2737080"/>
                <a:gridCol w="4032360"/>
                <a:gridCol w="73008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м/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м/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4356000" y="2492280"/>
            <a:ext cx="1656000" cy="1273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:2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56000" y="4005360"/>
            <a:ext cx="1656000" cy="10810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: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8300000">
            <a:off x="5149080" y="3140280"/>
            <a:ext cx="1655640" cy="1368360"/>
          </a:xfrm>
          <a:custGeom>
            <a:avLst/>
            <a:gdLst>
              <a:gd name="textAreaLeft" fmla="*/ 475200 w 1655640"/>
              <a:gd name="textAreaRight" fmla="*/ 1418040 w 1655640"/>
              <a:gd name="textAreaTop" fmla="*/ 991440 h 1368360"/>
              <a:gd name="textAreaBottom" fmla="*/ 117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7075"/>
                </a:moveTo>
                <a:lnTo>
                  <a:pt x="6200" y="12550"/>
                </a:lnTo>
                <a:lnTo>
                  <a:pt x="6200" y="15650"/>
                </a:lnTo>
                <a:lnTo>
                  <a:pt x="15650" y="15650"/>
                </a:lnTo>
                <a:lnTo>
                  <a:pt x="15650" y="6200"/>
                </a:lnTo>
                <a:lnTo>
                  <a:pt x="12550" y="6200"/>
                </a:lnTo>
                <a:lnTo>
                  <a:pt x="17075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3141720"/>
            <a:ext cx="1297080" cy="792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04000" y="3141720"/>
            <a:ext cx="1152720" cy="792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1 мину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ыстр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Математическая модель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Х:250 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-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Х:300=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2205000"/>
            <a:ext cx="1656000" cy="2376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11280" y="2349360"/>
            <a:ext cx="1079640" cy="574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9257"/>
                </a:solidFill>
                <a:latin typeface="Arial"/>
              </a:rPr>
              <a:t>Сколько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страниц</a:t>
            </a:r>
            <a:r>
              <a:rPr b="0" lang="en-US" sz="3200" spc="-1" strike="noStrike">
                <a:solidFill>
                  <a:srgbClr val="b39257"/>
                </a:solidFill>
                <a:latin typeface="Arial"/>
              </a:rPr>
              <a:t> в рукописи?  № 103 (3)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57200" y="1600200"/>
          <a:ext cx="8229600" cy="3624120"/>
        </p:xfrm>
        <a:graphic>
          <a:graphicData uri="http://schemas.openxmlformats.org/drawingml/2006/table">
            <a:tbl>
              <a:tblPr/>
              <a:tblGrid>
                <a:gridCol w="1019160"/>
                <a:gridCol w="3095640"/>
                <a:gridCol w="3240000"/>
                <a:gridCol w="87480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иц в ча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страниц в ча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"/>
          <p:cNvSpPr/>
          <p:nvPr/>
        </p:nvSpPr>
        <p:spPr>
          <a:xfrm>
            <a:off x="4643280" y="3860640"/>
            <a:ext cx="1657440" cy="1079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: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43280" y="2421000"/>
            <a:ext cx="1657440" cy="1130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: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8300000">
            <a:off x="5365080" y="3140280"/>
            <a:ext cx="1655640" cy="1368360"/>
          </a:xfrm>
          <a:custGeom>
            <a:avLst/>
            <a:gdLst>
              <a:gd name="textAreaLeft" fmla="*/ 475200 w 1655640"/>
              <a:gd name="textAreaRight" fmla="*/ 1418040 w 1655640"/>
              <a:gd name="textAreaTop" fmla="*/ 991440 h 1368360"/>
              <a:gd name="textAreaBottom" fmla="*/ 117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7075"/>
                </a:moveTo>
                <a:lnTo>
                  <a:pt x="6200" y="12550"/>
                </a:lnTo>
                <a:lnTo>
                  <a:pt x="6200" y="15650"/>
                </a:lnTo>
                <a:lnTo>
                  <a:pt x="15650" y="15650"/>
                </a:lnTo>
                <a:lnTo>
                  <a:pt x="15650" y="6200"/>
                </a:lnTo>
                <a:lnTo>
                  <a:pt x="12550" y="6200"/>
                </a:lnTo>
                <a:lnTo>
                  <a:pt x="17075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48360" y="3068640"/>
            <a:ext cx="914400" cy="1584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4 ч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н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18300000">
            <a:off x="5365080" y="3140280"/>
            <a:ext cx="1655640" cy="1368360"/>
          </a:xfrm>
          <a:custGeom>
            <a:avLst/>
            <a:gdLst>
              <a:gd name="textAreaLeft" fmla="*/ 475200 w 1655640"/>
              <a:gd name="textAreaRight" fmla="*/ 1418040 w 1655640"/>
              <a:gd name="textAreaTop" fmla="*/ 991440 h 1368360"/>
              <a:gd name="textAreaBottom" fmla="*/ 117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7075"/>
                </a:moveTo>
                <a:lnTo>
                  <a:pt x="6200" y="12550"/>
                </a:lnTo>
                <a:lnTo>
                  <a:pt x="6200" y="15650"/>
                </a:lnTo>
                <a:lnTo>
                  <a:pt x="15650" y="15650"/>
                </a:lnTo>
                <a:lnTo>
                  <a:pt x="15650" y="6200"/>
                </a:lnTo>
                <a:lnTo>
                  <a:pt x="12550" y="6200"/>
                </a:lnTo>
                <a:lnTo>
                  <a:pt x="17075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Математическая модель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Х:6 </a:t>
            </a:r>
            <a:r>
              <a:rPr b="1" lang="en-US" sz="4800" spc="-1" strike="noStrike">
                <a:solidFill>
                  <a:srgbClr val="ff3399"/>
                </a:solidFill>
                <a:latin typeface="Arial Black"/>
              </a:rPr>
              <a:t>-</a:t>
            </a: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 Х:8 = </a:t>
            </a:r>
            <a:r>
              <a:rPr b="1" lang="en-US" sz="4800" spc="-1" strike="noStrike">
                <a:solidFill>
                  <a:srgbClr val="ff3399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4000" y="2492280"/>
            <a:ext cx="1490400" cy="2087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0000" y="2421000"/>
            <a:ext cx="91440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9257"/>
                </a:solidFill>
                <a:latin typeface="Arial"/>
              </a:rPr>
              <a:t>Сколько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было</a:t>
            </a:r>
            <a:r>
              <a:rPr b="0" lang="en-US" sz="3600" spc="-1" strike="noStrike">
                <a:solidFill>
                  <a:srgbClr val="b39257"/>
                </a:solidFill>
                <a:latin typeface="Arial"/>
              </a:rPr>
              <a:t> спортсменов? №103(4)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801720"/>
                <a:gridCol w="1081080"/>
                <a:gridCol w="3168720"/>
                <a:gridCol w="3178080"/>
              </a:tblGrid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1 колонне (ряду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ло ряд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6 челове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4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5508720" y="3213000"/>
            <a:ext cx="1490400" cy="1346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: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508720" y="4797360"/>
            <a:ext cx="1415880" cy="1224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: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18300000">
            <a:off x="6012360" y="4004280"/>
            <a:ext cx="1656000" cy="1368360"/>
          </a:xfrm>
          <a:custGeom>
            <a:avLst/>
            <a:gdLst>
              <a:gd name="textAreaLeft" fmla="*/ 475200 w 1656000"/>
              <a:gd name="textAreaRight" fmla="*/ 1418400 w 1656000"/>
              <a:gd name="textAreaTop" fmla="*/ 991440 h 1368360"/>
              <a:gd name="textAreaBottom" fmla="*/ 117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7075"/>
                </a:moveTo>
                <a:lnTo>
                  <a:pt x="6200" y="12550"/>
                </a:lnTo>
                <a:lnTo>
                  <a:pt x="6200" y="15650"/>
                </a:lnTo>
                <a:lnTo>
                  <a:pt x="15650" y="15650"/>
                </a:lnTo>
                <a:lnTo>
                  <a:pt x="15650" y="6200"/>
                </a:lnTo>
                <a:lnTo>
                  <a:pt x="12550" y="6200"/>
                </a:lnTo>
                <a:lnTo>
                  <a:pt x="17075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524720" y="3500280"/>
            <a:ext cx="1079640" cy="19954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7:23:07Z</dcterms:created>
  <dc:creator>Михаил</dc:creator>
  <dc:description/>
  <dc:language>en-US</dc:language>
  <cp:lastModifiedBy>Михаил</cp:lastModifiedBy>
  <dcterms:modified xsi:type="dcterms:W3CDTF">2010-09-21T17:23:46Z</dcterms:modified>
  <cp:revision>17</cp:revision>
  <dc:subject/>
  <dc:title>Слайд 1</dc:title>
</cp:coreProperties>
</file>