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4EE-C2BA-41D3-88F8-8259029C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1B7-86FC-49B5-B034-E5D47773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4EB-56E3-485D-B29C-6187E5D1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15D-3ED3-44F4-936E-167F3742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7A9C-3DA7-4A57-AB25-F7C2336A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B7AE-5E91-4F80-A3EC-CCC422E6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F81D-8C91-4F39-9CC5-6550F5A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5FBD-43B2-4696-B904-F6EFE93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BA8-4C5E-40D9-B8EB-C14EE61C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B297-8748-4338-8016-7D72E5D5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5856-F3B8-455E-B1B2-81EB1EB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9DF-1C4D-4E06-8568-E016F72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45DC-3EC2-495B-A988-F479E21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CB43-85C1-4A00-B04F-6615E1A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6564-9458-4661-9C38-A1A65F4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D95-B95F-4F46-AD21-73C5E699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490D-3CA9-4F4B-BDA0-423F7C26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8C3-F1EB-47B9-BC73-BCD9CFD8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773-27E1-4981-89BF-25A0EF6D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28F-8F96-41C7-80A3-7952BE34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B0C-5E00-4958-BD8C-C6111C7B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E73-2D70-415D-9D31-46A55F9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937-B4E8-4FBD-B7D5-6B676FE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547-3FBC-47B5-A5E2-1693BF0A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2267-86C5-4438-8907-A221F00DC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8C98-F6CA-48F8-A8D6-D3F6B3BD9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b39257"/>
                </a:solidFill>
                <a:latin typeface="Arial"/>
              </a:rPr>
              <a:t>Г.В. Дорофеев, Л.Г. Петерсон</a:t>
            </a:r>
            <a:endParaRPr b="0" lang="en-US" sz="2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83664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ПЕРЕВОД УСЛОВИЯ ЗАДАЧИ НА МАТЕМАТИЧЕ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 ПОСТРОЕНИЕ МАТЕМАТИЧЕСКОЙ МОД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292640"/>
            <a:ext cx="835200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читель МОУ «Гимназия №2» г. Кимры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ьячк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:4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Х:6  =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349360"/>
            <a:ext cx="1584360" cy="2303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234936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Через сколько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ней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на обоих складах угля окажется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ровну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? №103 (7)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600200"/>
          <a:ext cx="8435880" cy="4349880"/>
        </p:xfrm>
        <a:graphic>
          <a:graphicData uri="http://schemas.openxmlformats.org/drawingml/2006/table">
            <a:tbl>
              <a:tblPr/>
              <a:tblGrid>
                <a:gridCol w="585720"/>
                <a:gridCol w="2389320"/>
                <a:gridCol w="1931760"/>
                <a:gridCol w="35290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езли всего за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5508720" y="3284640"/>
            <a:ext cx="136836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-6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8720" y="4724280"/>
            <a:ext cx="129672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300000">
            <a:off x="6299640" y="407736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0720" y="4005360"/>
            <a:ext cx="936720" cy="1152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в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uhaus 93"/>
              </a:rPr>
              <a:t>120-6х  </a:t>
            </a:r>
            <a:r>
              <a:rPr b="1" lang="en-US" sz="4800" spc="-1" strike="noStrike">
                <a:solidFill>
                  <a:srgbClr val="ff3399"/>
                </a:solidFill>
                <a:latin typeface="Bauhaus 93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Bauhaus 93"/>
              </a:rPr>
              <a:t>  96-3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Через сколько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дней 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во втором баке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останется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в 6 раз больше масла, чем в первом? №103(8)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730080"/>
                <a:gridCol w="2232360"/>
                <a:gridCol w="2016000"/>
                <a:gridCol w="3251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яли всего за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лит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ли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5508720" y="3213000"/>
            <a:ext cx="143964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4797360"/>
            <a:ext cx="1512720" cy="1152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-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300000">
            <a:off x="6228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812000" y="371628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6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300000">
            <a:off x="6228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(72-х) : (46-3х)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2492280"/>
            <a:ext cx="1513080" cy="79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421000"/>
            <a:ext cx="1800000" cy="244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Задача 4</a:t>
            </a:r>
            <a:br>
              <a:rPr sz="4000"/>
            </a:b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На экскурсию едут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52 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ученика школы. Для них заказаны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несколько автобусов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. Однако выяснилось, что если заказать автобусы, вмещающи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 6 человек больше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, то автобусов потребуется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а один меньше.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 Сколько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больших автобусов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 надо заказать?</a:t>
            </a:r>
            <a:br>
              <a:rPr sz="24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2565360"/>
          <a:ext cx="8209080" cy="4413240"/>
        </p:xfrm>
        <a:graphic>
          <a:graphicData uri="http://schemas.openxmlformats.org/drawingml/2006/table">
            <a:tbl>
              <a:tblPr/>
              <a:tblGrid>
                <a:gridCol w="1297080"/>
                <a:gridCol w="3527280"/>
                <a:gridCol w="1440000"/>
                <a:gridCol w="194472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в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оличеств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втоб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сег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авто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авто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77080" y="4221000"/>
            <a:ext cx="151128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5445000"/>
            <a:ext cx="158256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63640" y="4221000"/>
            <a:ext cx="1656000" cy="79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: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3640" y="5300640"/>
            <a:ext cx="187164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:( х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300000">
            <a:off x="2915640" y="4508640"/>
            <a:ext cx="165564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075"/>
                </a:moveTo>
                <a:lnTo>
                  <a:pt x="4057" y="12550"/>
                </a:lnTo>
                <a:lnTo>
                  <a:pt x="4057" y="17075"/>
                </a:lnTo>
                <a:lnTo>
                  <a:pt x="17075" y="17075"/>
                </a:lnTo>
                <a:lnTo>
                  <a:pt x="17075" y="4057"/>
                </a:lnTo>
                <a:lnTo>
                  <a:pt x="12550" y="4057"/>
                </a:lnTo>
                <a:lnTo>
                  <a:pt x="17075" y="0"/>
                </a:lnTo>
                <a:lnTo>
                  <a:pt x="21600" y="4057"/>
                </a:lnTo>
                <a:lnTo>
                  <a:pt x="17075" y="4057"/>
                </a:lnTo>
                <a:lnTo>
                  <a:pt x="17075" y="17075"/>
                </a:lnTo>
                <a:lnTo>
                  <a:pt x="4057" y="17075"/>
                </a:lnTo>
                <a:lnTo>
                  <a:pt x="4057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443700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80000" y="4221000"/>
            <a:ext cx="9144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08720" y="5516640"/>
            <a:ext cx="9144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1628640"/>
            <a:ext cx="27367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52:(Х+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1413000"/>
            <a:ext cx="1511280" cy="1512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52: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6000" y="191628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84360" y="1557360"/>
            <a:ext cx="914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1773360"/>
            <a:ext cx="151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2924280"/>
            <a:ext cx="2066760" cy="1512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5640" y="2492280"/>
            <a:ext cx="1081080" cy="64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16000"/>
                <a:gridCol w="2098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в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автоб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оличеств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сег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автобу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771640" y="3284640"/>
            <a:ext cx="141948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7640" y="4724280"/>
            <a:ext cx="1511280" cy="10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Математическая модель-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ва 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=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х+1)(у-6)=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№</a:t>
            </a: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116 (1)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Задача  № 116 (1)</a:t>
            </a:r>
            <a:br>
              <a:rPr sz="3600"/>
            </a:b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Два прямоугольника имеют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динаковую площадь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равную 70 кв. м.Известно, что  у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ервого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прямоугольник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длина на 4 м больше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а </a:t>
            </a:r>
            <a:r>
              <a:rPr b="0" lang="en-US" sz="2800" spc="-1" strike="noStrike">
                <a:solidFill>
                  <a:srgbClr val="8d2edc"/>
                </a:solidFill>
                <a:latin typeface="Arial"/>
              </a:rPr>
              <a:t>ширина на2 м меньше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чем у второго прямоугольника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йди стороны этих прямоугольников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ЗАДАЧА 1.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Перимет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ырёхугольника равен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46 д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в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сторона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 2 раза мен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торой и в 3 раза меньше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реть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, а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четвёрт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рона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 4 см бо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. Чему равны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длины стор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го чутырёх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айди стороны этих прямоугольников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2160720"/>
                <a:gridCol w="320976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ли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ири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7020000" y="3429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93080" y="494172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3357720"/>
            <a:ext cx="144144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:(Х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2360" y="4869000"/>
            <a:ext cx="12258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: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8300000">
            <a:off x="4140720" y="4220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4076640"/>
            <a:ext cx="914400" cy="1130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8300000">
            <a:off x="4140720" y="4220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0:х-70:(х+4)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349360"/>
            <a:ext cx="1224000" cy="1656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32000" y="256536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600200"/>
          <a:ext cx="8229600" cy="4489560"/>
        </p:xfrm>
        <a:graphic>
          <a:graphicData uri="http://schemas.openxmlformats.org/drawingml/2006/table">
            <a:tbl>
              <a:tblPr/>
              <a:tblGrid>
                <a:gridCol w="1378080"/>
                <a:gridCol w="2232000"/>
                <a:gridCol w="2562120"/>
                <a:gridCol w="20574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ли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ири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Математическая модель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Х+4) (Х-2)=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=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цена </a:t>
            </a: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этих тетрадей? №116 (3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295280"/>
                <a:gridCol w="2232000"/>
                <a:gridCol w="3683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ине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5076720" y="3357720"/>
            <a:ext cx="16351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8(Х+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03640" y="4724280"/>
            <a:ext cx="1656000" cy="1368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8300000">
            <a:off x="6012360" y="407736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24720" y="4076640"/>
            <a:ext cx="1079640" cy="1203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600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8(х+400)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  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10х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=1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95280" y="1052640"/>
          <a:ext cx="8229600" cy="5532480"/>
        </p:xfrm>
        <a:graphic>
          <a:graphicData uri="http://schemas.openxmlformats.org/drawingml/2006/table">
            <a:tbl>
              <a:tblPr/>
              <a:tblGrid>
                <a:gridCol w="658800"/>
                <a:gridCol w="2448000"/>
                <a:gridCol w="3065400"/>
                <a:gridCol w="2057400"/>
              </a:tblGrid>
              <a:tr h="15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+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ине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Математическая модель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ва 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У+1600):(Х+400)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 : Х=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c9800"/>
                </a:solidFill>
                <a:latin typeface="Arial"/>
              </a:rPr>
              <a:t>Желаем вам успехов в составлении  математических моделей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СХЕМ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3716280"/>
            <a:ext cx="5473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393372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76720" y="3933720"/>
            <a:ext cx="10792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393372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393372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2852640"/>
            <a:ext cx="6842160" cy="792360"/>
          </a:xfrm>
          <a:custGeom>
            <a:avLst/>
            <a:gdLst>
              <a:gd name="textAreaLeft" fmla="*/ 1197360 w 6842160"/>
              <a:gd name="textAreaRight" fmla="*/ 4960800 w 684216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393372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1844640"/>
            <a:ext cx="1152720" cy="863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ое и 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х+2х+3х+ (х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+2х+3х+(х+4)=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46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– математическ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 и це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ЗАДАЧА 2   № 103 (2)</a:t>
            </a: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КАКОВА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ДЛИНА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ДИСТАНЦИИ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3768840"/>
        </p:xfrm>
        <a:graphic>
          <a:graphicData uri="http://schemas.openxmlformats.org/drawingml/2006/table">
            <a:tbl>
              <a:tblPr/>
              <a:tblGrid>
                <a:gridCol w="730080"/>
                <a:gridCol w="2737080"/>
                <a:gridCol w="4032360"/>
                <a:gridCol w="7300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4356000" y="2492280"/>
            <a:ext cx="1656000" cy="1273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4005360"/>
            <a:ext cx="1656000" cy="1081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: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300000">
            <a:off x="5149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3141720"/>
            <a:ext cx="129708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3141720"/>
            <a:ext cx="115272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ст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:250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:300=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205000"/>
            <a:ext cx="1656000" cy="2376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2349360"/>
            <a:ext cx="1079640" cy="57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Сколько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траниц</a:t>
            </a: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 в рукописи?  № 103 (3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8229600" cy="3624120"/>
        </p:xfrm>
        <a:graphic>
          <a:graphicData uri="http://schemas.openxmlformats.org/drawingml/2006/table">
            <a:tbl>
              <a:tblPr/>
              <a:tblGrid>
                <a:gridCol w="1019160"/>
                <a:gridCol w="3095640"/>
                <a:gridCol w="3240000"/>
                <a:gridCol w="87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иц в ч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траниц в ч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4643280" y="3860640"/>
            <a:ext cx="1657440" cy="1079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421000"/>
            <a:ext cx="1657440" cy="1130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8300000">
            <a:off x="5365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306864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300000">
            <a:off x="5365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Х:6 </a:t>
            </a: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Х:8 = </a:t>
            </a: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2492280"/>
            <a:ext cx="1490400" cy="2087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2421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Сколько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было</a:t>
            </a: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 спортсменов? №103(4)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081080"/>
                <a:gridCol w="3168720"/>
                <a:gridCol w="317808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 колонне (ряд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ря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6 челове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4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5508720" y="3213000"/>
            <a:ext cx="1490400" cy="1346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4797360"/>
            <a:ext cx="141588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300000">
            <a:off x="6012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4720" y="3500280"/>
            <a:ext cx="1079640" cy="199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3:07Z</dcterms:created>
  <dc:creator>Михаил</dc:creator>
  <dc:description/>
  <dc:language>en-US</dc:language>
  <cp:lastModifiedBy>Михаил</cp:lastModifiedBy>
  <dcterms:modified xsi:type="dcterms:W3CDTF">2010-09-21T17:23:46Z</dcterms:modified>
  <cp:revision>17</cp:revision>
  <dc:subject/>
  <dc:title>Слайд 1</dc:title>
</cp:coreProperties>
</file>