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36C-5817-48D5-9848-C3738919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029-E7D0-4A93-A935-4C457D82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BCB-CF38-4473-9A13-16894306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194-1105-4021-BB15-DD5D9040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2502-7A4D-4C20-A56E-D72C9FB4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66E9-CF3A-4DA0-AD66-00BBEB48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DD87-6EB4-493B-94D0-B7FF6F6B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CBD5-ACDE-4947-8491-B28D6A20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BB08-199A-4A15-9A6A-7CB59D5B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0252-D346-460D-9456-45918566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9D5A-9E38-47D8-A859-41650ED5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226-F67C-4A15-8EB3-CB6EE6D2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411E-4F96-4DCD-93D8-B9BD2C19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3EBE-B20B-45EC-B943-3F8D742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9F8B-391C-40C7-A44E-437FE5D0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AF41-45B0-4D2F-B64B-CE475495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E917-304C-464B-B448-5E9973E5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75F-0622-4CAB-BD88-C67A7D4B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7F3-6937-4B1C-BABD-17DDD5AD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93B-3895-4897-9016-F8A48BEA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B95-DA13-43E1-B6D2-4C4C8384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D4A-1433-49AB-9495-86AEF178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130-8FB4-4AE7-B962-F9E7AB11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05E-06B0-40F6-9E13-312B3BAF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C5AA-8AED-490A-98A0-43BA8526E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7D0B-C8D4-4CB8-ACED-A782ADED1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3500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b39257"/>
                </a:solidFill>
                <a:latin typeface="Arial"/>
              </a:rPr>
              <a:t>Г.В. Дорофеев, Л.Г. Петерсон</a:t>
            </a:r>
            <a:endParaRPr b="0" lang="en-US" sz="2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83664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ПЕРЕВОД УСЛОВИЯ ЗАДАЧИ НА МАТЕМАТИЧЕ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 ПОСТРОЕНИЕ МАТЕМАТИЧЕСКОЙ МОДЕ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5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МАТЕМА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4292640"/>
            <a:ext cx="835200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читель МОУ «Гимназия №2» г. Кимры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ьячкова Светла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:4  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Х:6  =  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349360"/>
            <a:ext cx="1584360" cy="2303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68360" y="234936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Через сколько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ней 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на обоих складах угля окажется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оровну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? №103 (7)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600200"/>
          <a:ext cx="8435880" cy="4349880"/>
        </p:xfrm>
        <a:graphic>
          <a:graphicData uri="http://schemas.openxmlformats.org/drawingml/2006/table">
            <a:tbl>
              <a:tblPr/>
              <a:tblGrid>
                <a:gridCol w="585720"/>
                <a:gridCol w="2389320"/>
                <a:gridCol w="1931760"/>
                <a:gridCol w="35290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езли всего за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о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5508720" y="3284640"/>
            <a:ext cx="1368360" cy="1295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-6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08720" y="4724280"/>
            <a:ext cx="1296720" cy="129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6-3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300000">
            <a:off x="6299640" y="407736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40720" y="4005360"/>
            <a:ext cx="936720" cy="1152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ов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uhaus 93"/>
              </a:rPr>
              <a:t>120-6х  </a:t>
            </a:r>
            <a:r>
              <a:rPr b="1" lang="en-US" sz="4800" spc="-1" strike="noStrike">
                <a:solidFill>
                  <a:srgbClr val="ff3399"/>
                </a:solidFill>
                <a:latin typeface="Bauhaus 93"/>
              </a:rPr>
              <a:t>= </a:t>
            </a:r>
            <a:r>
              <a:rPr b="1" lang="en-US" sz="4800" spc="-1" strike="noStrike">
                <a:solidFill>
                  <a:srgbClr val="000000"/>
                </a:solidFill>
                <a:latin typeface="Bauhaus 93"/>
              </a:rPr>
              <a:t>  96-3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Через сколько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дней  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во втором баке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останется 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в 6 раз больше масла, чем в первом? №103(8)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730080"/>
                <a:gridCol w="2232360"/>
                <a:gridCol w="2016000"/>
                <a:gridCol w="32511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яли всего за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д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ос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лит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лит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5508720" y="3213000"/>
            <a:ext cx="1439640" cy="129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-3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4797360"/>
            <a:ext cx="1512720" cy="1152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2-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300000">
            <a:off x="6228360" y="4004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812000" y="3716280"/>
            <a:ext cx="914400" cy="1584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6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300000">
            <a:off x="6228360" y="4004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(72-х) : (46-3х)=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2492280"/>
            <a:ext cx="1513080" cy="79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2421000"/>
            <a:ext cx="1800000" cy="244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Задача 4</a:t>
            </a:r>
            <a:br>
              <a:rPr sz="4000"/>
            </a:b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На экскурсию едут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52 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ученика школы. Для них заказаны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несколько автобусов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. Однако выяснилось, что если заказать автобусы, вмещающие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а 6 человек больше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, то автобусов потребуется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на один меньше.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 Сколько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больших автобусов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 надо заказать?</a:t>
            </a:r>
            <a:br>
              <a:rPr sz="2400"/>
            </a:b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95280" y="2565360"/>
          <a:ext cx="8209080" cy="4413240"/>
        </p:xfrm>
        <a:graphic>
          <a:graphicData uri="http://schemas.openxmlformats.org/drawingml/2006/table">
            <a:tbl>
              <a:tblPr/>
              <a:tblGrid>
                <a:gridCol w="1297080"/>
                <a:gridCol w="3527280"/>
                <a:gridCol w="1440000"/>
                <a:gridCol w="194472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тей в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оличество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втобу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сего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 автоб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автоб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77080" y="4221000"/>
            <a:ext cx="151128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5445000"/>
            <a:ext cx="1582560" cy="1224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63640" y="4221000"/>
            <a:ext cx="1656000" cy="79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: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63640" y="5300640"/>
            <a:ext cx="1871640" cy="129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:( х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300000">
            <a:off x="2915640" y="4508640"/>
            <a:ext cx="165564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075"/>
                </a:moveTo>
                <a:lnTo>
                  <a:pt x="4057" y="12550"/>
                </a:lnTo>
                <a:lnTo>
                  <a:pt x="4057" y="17075"/>
                </a:lnTo>
                <a:lnTo>
                  <a:pt x="17075" y="17075"/>
                </a:lnTo>
                <a:lnTo>
                  <a:pt x="17075" y="4057"/>
                </a:lnTo>
                <a:lnTo>
                  <a:pt x="12550" y="4057"/>
                </a:lnTo>
                <a:lnTo>
                  <a:pt x="17075" y="0"/>
                </a:lnTo>
                <a:lnTo>
                  <a:pt x="21600" y="4057"/>
                </a:lnTo>
                <a:lnTo>
                  <a:pt x="17075" y="4057"/>
                </a:lnTo>
                <a:lnTo>
                  <a:pt x="17075" y="17075"/>
                </a:lnTo>
                <a:lnTo>
                  <a:pt x="4057" y="17075"/>
                </a:lnTo>
                <a:lnTo>
                  <a:pt x="4057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4437000"/>
            <a:ext cx="914400" cy="1584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80000" y="4221000"/>
            <a:ext cx="914400" cy="914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08720" y="5516640"/>
            <a:ext cx="914400" cy="914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1628640"/>
            <a:ext cx="273672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52:(Х+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71640" y="1413000"/>
            <a:ext cx="1511280" cy="1512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52: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56000" y="1916280"/>
            <a:ext cx="7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84360" y="1557360"/>
            <a:ext cx="914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08720" y="1773360"/>
            <a:ext cx="151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2924280"/>
            <a:ext cx="2066760" cy="1512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95640" y="2492280"/>
            <a:ext cx="1081080" cy="64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2 способ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16000"/>
                <a:gridCol w="2098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тей в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автобу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оличеств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сег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5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автобу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2771640" y="3284640"/>
            <a:ext cx="141948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87640" y="4724280"/>
            <a:ext cx="1511280" cy="10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Математическая модель-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ва равенств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у=2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х+1)(у-6)=2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113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№</a:t>
            </a: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116 (1)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Задача  № 116 (1)</a:t>
            </a:r>
            <a:br>
              <a:rPr sz="3600"/>
            </a:b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Два прямоугольника имеют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динаковую площадь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, равную 70 кв. м.Известно, что  у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ервого 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прямоугольника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длина на 4 м больше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, а </a:t>
            </a:r>
            <a:r>
              <a:rPr b="0" lang="en-US" sz="2800" spc="-1" strike="noStrike">
                <a:solidFill>
                  <a:srgbClr val="8d2edc"/>
                </a:solidFill>
                <a:latin typeface="Arial"/>
              </a:rPr>
              <a:t>ширина на2 м меньше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, чем у второго прямоугольника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айди стороны этих прямоугольников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ЗАДАЧА 1.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Перимет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тырёхугольника равен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46 д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в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сторона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в 2 раза меньш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торой и в 3 раза меньше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треть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роны, а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четвёрт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рона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на 4 см больш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в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роны. Чему равны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длины стор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того чутырёх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Найди стороны этих прямоугольников.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2160720"/>
                <a:gridCol w="320976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длин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ири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7020000" y="342900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93080" y="494172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92360" y="3357720"/>
            <a:ext cx="144144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0:(Х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92360" y="4869000"/>
            <a:ext cx="12258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0: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8300000">
            <a:off x="4140720" y="4220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24360" y="4076640"/>
            <a:ext cx="914400" cy="1130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8300000">
            <a:off x="4140720" y="4220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0:х-70:(х+4)=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349360"/>
            <a:ext cx="1224000" cy="1656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32000" y="256536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2 способ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57200" y="1600200"/>
          <a:ext cx="8229600" cy="4489560"/>
        </p:xfrm>
        <a:graphic>
          <a:graphicData uri="http://schemas.openxmlformats.org/drawingml/2006/table">
            <a:tbl>
              <a:tblPr/>
              <a:tblGrid>
                <a:gridCol w="1378080"/>
                <a:gridCol w="2232000"/>
                <a:gridCol w="2562120"/>
                <a:gridCol w="2057400"/>
              </a:tblGrid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длин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ири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Математическая модель –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ва</a:t>
            </a: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авенств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Х+4) (Х-2)=7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У=7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9257"/>
                </a:solidFill>
                <a:latin typeface="Arial"/>
              </a:rPr>
              <a:t>Каков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цена </a:t>
            </a:r>
            <a:r>
              <a:rPr b="0" lang="en-US" sz="3200" spc="-1" strike="noStrike">
                <a:solidFill>
                  <a:srgbClr val="b39257"/>
                </a:solidFill>
                <a:latin typeface="Arial"/>
              </a:rPr>
              <a:t>этих тетрадей? №116 (3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1295280"/>
                <a:gridCol w="2232000"/>
                <a:gridCol w="36831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лет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тетра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лине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тетра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5076720" y="3357720"/>
            <a:ext cx="163512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8(Х+4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03640" y="4724280"/>
            <a:ext cx="1656000" cy="1368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8300000">
            <a:off x="6012360" y="407736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24720" y="4076640"/>
            <a:ext cx="1079640" cy="1203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1600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8(х+400)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  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10х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=1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2 способ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95280" y="1052640"/>
          <a:ext cx="8229600" cy="5532480"/>
        </p:xfrm>
        <a:graphic>
          <a:graphicData uri="http://schemas.openxmlformats.org/drawingml/2006/table">
            <a:tbl>
              <a:tblPr/>
              <a:tblGrid>
                <a:gridCol w="658800"/>
                <a:gridCol w="2448000"/>
                <a:gridCol w="3065400"/>
                <a:gridCol w="2057400"/>
              </a:tblGrid>
              <a:tr h="15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лет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тетра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+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лине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тетра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Математическая модель –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ва равенств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У+1600):(Х+400)=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 : Х=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c9800"/>
                </a:solidFill>
                <a:latin typeface="Arial"/>
              </a:rPr>
              <a:t>Желаем вам успехов в составлении  математических моделей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СХЕМ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3716280"/>
            <a:ext cx="54738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09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9636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0364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50920" y="3933720"/>
            <a:ext cx="115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76720" y="3933720"/>
            <a:ext cx="107928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00720" y="3933720"/>
            <a:ext cx="115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3933720"/>
            <a:ext cx="115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400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2852640"/>
            <a:ext cx="6842160" cy="792360"/>
          </a:xfrm>
          <a:custGeom>
            <a:avLst/>
            <a:gdLst>
              <a:gd name="textAreaLeft" fmla="*/ 1197360 w 6842160"/>
              <a:gd name="textAreaRight" fmla="*/ 4960800 w 684216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79640" y="3933720"/>
            <a:ext cx="115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3280" y="1844640"/>
            <a:ext cx="1152720" cy="863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Д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ое и 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х+2х+3х+ (х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х+2х+3х+(х+4)=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46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– математическ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и и цел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ЗАДАЧА 2   № 103 (2)</a:t>
            </a: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КАКОВА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ДЛИНА</a:t>
            </a: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 ДИСТАНЦИИ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600200"/>
          <a:ext cx="8229600" cy="3768840"/>
        </p:xfrm>
        <a:graphic>
          <a:graphicData uri="http://schemas.openxmlformats.org/drawingml/2006/table">
            <a:tbl>
              <a:tblPr/>
              <a:tblGrid>
                <a:gridCol w="730080"/>
                <a:gridCol w="2737080"/>
                <a:gridCol w="4032360"/>
                <a:gridCol w="7300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м/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м/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4356000" y="2492280"/>
            <a:ext cx="1656000" cy="1273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4005360"/>
            <a:ext cx="1656000" cy="1081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: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8300000">
            <a:off x="5149080" y="3140280"/>
            <a:ext cx="1655640" cy="1368360"/>
          </a:xfrm>
          <a:custGeom>
            <a:avLst/>
            <a:gdLst>
              <a:gd name="textAreaLeft" fmla="*/ 475200 w 1655640"/>
              <a:gd name="textAreaRight" fmla="*/ 1418040 w 165564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3141720"/>
            <a:ext cx="1297080" cy="79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04000" y="3141720"/>
            <a:ext cx="1152720" cy="79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стр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Х:250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Х:300=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205000"/>
            <a:ext cx="1656000" cy="2376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2349360"/>
            <a:ext cx="1079640" cy="57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9257"/>
                </a:solidFill>
                <a:latin typeface="Arial"/>
              </a:rPr>
              <a:t>Сколько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страниц</a:t>
            </a:r>
            <a:r>
              <a:rPr b="0" lang="en-US" sz="3200" spc="-1" strike="noStrike">
                <a:solidFill>
                  <a:srgbClr val="b39257"/>
                </a:solidFill>
                <a:latin typeface="Arial"/>
              </a:rPr>
              <a:t> в рукописи?  № 103 (3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600200"/>
          <a:ext cx="8229600" cy="3624120"/>
        </p:xfrm>
        <a:graphic>
          <a:graphicData uri="http://schemas.openxmlformats.org/drawingml/2006/table">
            <a:tbl>
              <a:tblPr/>
              <a:tblGrid>
                <a:gridCol w="1019160"/>
                <a:gridCol w="3095640"/>
                <a:gridCol w="3240000"/>
                <a:gridCol w="874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иц в ч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траниц в ч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4643280" y="3860640"/>
            <a:ext cx="1657440" cy="1079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2421000"/>
            <a:ext cx="1657440" cy="1130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8300000">
            <a:off x="5365080" y="3140280"/>
            <a:ext cx="1655640" cy="1368360"/>
          </a:xfrm>
          <a:custGeom>
            <a:avLst/>
            <a:gdLst>
              <a:gd name="textAreaLeft" fmla="*/ 475200 w 1655640"/>
              <a:gd name="textAreaRight" fmla="*/ 1418040 w 165564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48360" y="3068640"/>
            <a:ext cx="914400" cy="1584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4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8300000">
            <a:off x="5365080" y="3140280"/>
            <a:ext cx="1655640" cy="1368360"/>
          </a:xfrm>
          <a:custGeom>
            <a:avLst/>
            <a:gdLst>
              <a:gd name="textAreaLeft" fmla="*/ 475200 w 1655640"/>
              <a:gd name="textAreaRight" fmla="*/ 1418040 w 165564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Х:6 </a:t>
            </a:r>
            <a:r>
              <a:rPr b="1" lang="en-US" sz="4800" spc="-1" strike="noStrike">
                <a:solidFill>
                  <a:srgbClr val="ff3399"/>
                </a:solidFill>
                <a:latin typeface="Arial Black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Х:8 = </a:t>
            </a:r>
            <a:r>
              <a:rPr b="1" lang="en-US" sz="4800" spc="-1" strike="noStrike">
                <a:solidFill>
                  <a:srgbClr val="ff3399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2492280"/>
            <a:ext cx="1490400" cy="2087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242100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Сколько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было</a:t>
            </a: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 спортсменов? №103(4)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081080"/>
                <a:gridCol w="3168720"/>
                <a:gridCol w="3178080"/>
              </a:tblGrid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 колонне (ряду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о ря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6 челове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4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5508720" y="3213000"/>
            <a:ext cx="1490400" cy="1346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08720" y="4797360"/>
            <a:ext cx="1415880" cy="1224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8300000">
            <a:off x="6012360" y="4004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4720" y="3500280"/>
            <a:ext cx="1079640" cy="1995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23:07Z</dcterms:created>
  <dc:creator>Михаил</dc:creator>
  <dc:description/>
  <dc:language>en-US</dc:language>
  <cp:lastModifiedBy>Михаил</cp:lastModifiedBy>
  <dcterms:modified xsi:type="dcterms:W3CDTF">2010-09-21T17:23:46Z</dcterms:modified>
  <cp:revision>17</cp:revision>
  <dc:subject/>
  <dc:title>Слайд 1</dc:title>
</cp:coreProperties>
</file>