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3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F08-CF6B-4DCE-8A42-F999C57B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CF8-A07C-4AC6-B6BE-0095C9CC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BDE-B0BE-4AF0-B79B-218EE549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F73-8C3E-4E17-838A-0FAD5383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5DA6-CDAF-41E8-9300-3F75CB62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315-6C49-4C58-A928-6DFA50DF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5C14-3F50-4584-A801-4387571E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B769-B2AB-4F88-A617-6971A75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EDEC-56DD-4A25-BB35-FA8F856C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0314-A18C-4C53-99D9-650C3F97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B025-C8DB-43AF-9867-DA9C09A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B63-EB4E-440F-A76F-CC14AD47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8BC7-0534-4383-9681-BCE9B27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03BE-B4C9-4ADD-8F98-64BBC854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ECFE-503C-4F50-8749-19D6A512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E145-C48F-47FC-8EDE-CC87295C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0BC-7000-4D3F-9F2D-6FA1EB2B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AEA-7605-440D-923D-95BC87DF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B3C-F713-4E2E-90B4-3CB410C2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1DE-4D57-4438-9416-7C6F295F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7E8-0824-4A5C-96D9-EA578FF4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678-8CFE-4B3F-AF4F-017F6788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BA0-09D1-4B29-875B-FA3BBB53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80E-118B-4582-BE2B-605E8F8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BA95-82EE-4022-BC97-125C5BBFB1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4440" y="466200"/>
            <a:ext cx="6782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5995-3385-4B7B-8EB9-9A2F286D9A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32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3.jpeg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000" y="466200"/>
            <a:ext cx="6781680" cy="213372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Осевая и центральная симметри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20400" y="5600880"/>
            <a:ext cx="8583480" cy="125712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резентация урока геометрии в 8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0680" y="4286160"/>
            <a:ext cx="6657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Что такое осевая и центральная симметрия?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848120" y="1762200"/>
            <a:ext cx="3971880" cy="423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0120" y="1762200"/>
            <a:ext cx="3962520" cy="42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чность на координатной плоскос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76440" y="4142880"/>
            <a:ext cx="352404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400480" y="1847520"/>
            <a:ext cx="0" cy="392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76920" y="4143240"/>
            <a:ext cx="362880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714720" y="1780920"/>
            <a:ext cx="19080" cy="39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66760" y="17226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56520" y="17208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48000" y="39895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557920" y="401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8440" y="274176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09800" y="3105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95680" y="3257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43360" y="34844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67160" y="3627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08280" y="513396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84440" y="465768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91400" y="43718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9080" y="42292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666960" y="390600"/>
          <a:ext cx="5191200" cy="1085760"/>
        </p:xfrm>
        <a:graphic>
          <a:graphicData uri="http://schemas.openxmlformats.org/drawingml/2006/table">
            <a:tbl>
              <a:tblPr/>
              <a:tblGrid>
                <a:gridCol w="519120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7086600" y="24652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900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81760" y="41227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57920" y="550080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373480" y="410364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15080" y="2523960"/>
            <a:ext cx="362160" cy="160992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6360840" y="4113000"/>
            <a:ext cx="361800" cy="160956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045200" y="26701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865920" y="393876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510240" y="42498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327720" y="55720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705720" y="40924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198520" y="51768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063880" y="4651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870200" y="44766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297080" y="431316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481560" y="39546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917800" y="378792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697120" y="3589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568600" y="30463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я вокруг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7240" y="1699920"/>
            <a:ext cx="7615440" cy="52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 симметрией мы часто встречаемся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555920" y="2654280"/>
            <a:ext cx="2133360" cy="14367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122800" y="4917960"/>
            <a:ext cx="1584360" cy="1366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5033880" y="2595600"/>
            <a:ext cx="2098800" cy="1800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2100240" y="4648320"/>
            <a:ext cx="1871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690560" y="922320"/>
            <a:ext cx="553428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я вокруг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61920" y="1614240"/>
            <a:ext cx="3657600" cy="2477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ногие предм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кружающего нас мира име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ось симметрии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центр симмет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222960" y="4248000"/>
            <a:ext cx="1736640" cy="18194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733920" y="454500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952560" y="4468680"/>
            <a:ext cx="1738080" cy="1422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5438880" y="1760400"/>
            <a:ext cx="2257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647720" y="1225440"/>
            <a:ext cx="51055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766960" y="746280"/>
            <a:ext cx="35053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атематики о симметр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5351400" cy="4460760"/>
          </a:xfrm>
          <a:prstGeom prst="rect">
            <a:avLst/>
          </a:prstGeom>
          <a:blipFill rotWithShape="0">
            <a:blip r:embed="rId1">
              <a:alphaModFix amt="52000"/>
            </a:blip>
            <a:tile tx="0" ty="0" sx="100000" sy="100000" algn="ctr"/>
          </a:blipFill>
          <a:ln w="9360">
            <a:solidFill>
              <a:srgbClr val="d8d8e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Математик любит прежде всего симмет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Максвелл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Красота тесно связана с симмет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Вейль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имметрия … является той идеей, посредством которой человек на протяжении веков пытался постичь и создать порядок, красоту и соверш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ейль 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Для человеческого разума симметрия обладает, по - видимому, совершенно особой притягательной с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Фейнман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7153200" y="1844640"/>
            <a:ext cx="1185840" cy="115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7205760" y="475920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6292800" y="3348000"/>
            <a:ext cx="1152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верим зн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0600" y="1919160"/>
            <a:ext cx="436248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отрезок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имметричный отрезку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относительно прямой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треугольн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имметричный треугольни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относительно точки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610320" y="1512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43880" y="333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81600">
            <a:off x="4775040" y="3971520"/>
            <a:ext cx="1067040" cy="145584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02480" y="48355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7600" y="26812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5240" y="520380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11680" y="55260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77080" y="41194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80196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19600" y="5506920"/>
            <a:ext cx="4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56000" y="523404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611400" y="479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16747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286240" y="1990440"/>
            <a:ext cx="213372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15080" y="2028960"/>
            <a:ext cx="0" cy="1419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5892840" y="2099520"/>
            <a:ext cx="1288800" cy="59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77040" y="2637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99000" y="159552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407360" y="554976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1724000">
            <a:off x="7615080" y="4287600"/>
            <a:ext cx="1067040" cy="145548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02640" y="41450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813880" y="44258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701480" y="371628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616960" y="457344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13480" y="551016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696000" y="19717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684840" y="341784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91040" y="20718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70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1709280"/>
            <a:ext cx="4248000" cy="469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Сколько осей симметрии имеет отрезок, прямая, луч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cc"/>
                </a:solidFill>
                <a:latin typeface="Arial"/>
              </a:rPr>
              <a:t>Какие из данных букв имеют ось симметри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Имеют ли центр симметрии отрезок, прямая, квадра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Какие из данных букв имеют центр симметри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80040" y="841320"/>
            <a:ext cx="123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61200" y="2209680"/>
            <a:ext cx="1044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 rot="3532200">
            <a:off x="5519520" y="1619280"/>
            <a:ext cx="90504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 rot="7369200">
            <a:off x="6681600" y="264780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 rot="6960000">
            <a:off x="5405400" y="337176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 rot="7616400">
            <a:off x="7805160" y="2000160"/>
            <a:ext cx="619200" cy="116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>
                    <a:alphaModFix amt="98000"/>
                  </a:blip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>
                  <a:alphaModFix amt="98000"/>
                </a:blip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 rot="6160200">
            <a:off x="5343120" y="4895640"/>
            <a:ext cx="104796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 rot="7061400">
            <a:off x="7738920" y="3305160"/>
            <a:ext cx="73368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 rot="4594200">
            <a:off x="7119720" y="4552920"/>
            <a:ext cx="88560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981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Симметрию можно обнаружить почти везде, если знать, как ее искать. Многие народы с древнейших времен владели представлением о симметрии в широком смысле – как об уравновешенности и гармонии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</a:t>
            </a:r>
            <a:r>
              <a:rPr b="0" lang="en-US" sz="19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641600" y="716040"/>
            <a:ext cx="3841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737320" y="2025720"/>
          <a:ext cx="308124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7320" y="2025720"/>
                    <a:ext cx="308124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52880" y="615960"/>
            <a:ext cx="198756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7800" y="1395360"/>
            <a:ext cx="72439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формировать общее представление  о цетральной 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 осевой симметрии.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979720" y="2754360"/>
            <a:ext cx="224172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36600" y="3479760"/>
            <a:ext cx="820908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1. Дать определение центральной и осевой симметрии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2. Рассмотреть построение точек, фугур симметричных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тносительно прямой и точки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3. Показать применение симметрии на координатной 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лоскости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41480" y="4970520"/>
            <a:ext cx="4780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4. Рассказать о симметрии в природе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874800" y="1041480"/>
            <a:ext cx="681984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99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уемый матери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/>
          <p:nvPr/>
        </p:nvSpPr>
        <p:spPr>
          <a:xfrm>
            <a:off x="997200" y="206388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www.iteach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99200" y="28537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www.erudition.ru</a:t>
            </a: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000" y="3658680"/>
            <a:ext cx="32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www.kniga.de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00ff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точек относительн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фигуры относительн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точек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фигуры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я на координат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я вокруг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Математики о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Проверим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точек относительно прямо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5280" y="1614240"/>
            <a:ext cx="4038840" cy="4468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точки А и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имметричными относительно прямой 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эта прямая проходит через середину отрезка А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ерпендикулярна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точ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ую точ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тносительно прямо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76400" y="1633320"/>
            <a:ext cx="380052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029880" y="495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5086440" y="1942920"/>
            <a:ext cx="314316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53240" y="2048040"/>
            <a:ext cx="666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009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2720" y="3235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19720" y="1817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58160" y="323676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4447400">
            <a:off x="6953040" y="2571480"/>
            <a:ext cx="7596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134120" y="2847960"/>
            <a:ext cx="133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64480" y="2359080"/>
            <a:ext cx="133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58240" y="1846440"/>
            <a:ext cx="29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40240" y="356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6120" y="2606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2328840"/>
            <a:ext cx="39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66080" y="301140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598760"/>
            <a:ext cx="2127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 baseline="-5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600880" y="1236600"/>
            <a:ext cx="326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5133600" y="1568880"/>
            <a:ext cx="50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7840" y="218124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29240" y="2227320"/>
            <a:ext cx="1431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O = O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4505400"/>
            <a:ext cx="30672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24560" y="43052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00560" y="4075200"/>
            <a:ext cx="77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753240" y="4619520"/>
            <a:ext cx="533520" cy="13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89880" y="594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29560" y="56754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59760" y="4554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7688000">
            <a:off x="6948000" y="5200200"/>
            <a:ext cx="6984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555300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07120" y="494496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фигуры относительно прямо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014560"/>
          <a:ext cx="403848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40384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5840" y="4362480"/>
            <a:ext cx="8229600" cy="1806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симметричной относительно прям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68600" y="1984320"/>
            <a:ext cx="2173320" cy="1436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63800"/>
            <a:ext cx="1447920" cy="14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08240" y="1658880"/>
            <a:ext cx="502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16160" y="1668600"/>
            <a:ext cx="0" cy="21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97600" y="1514520"/>
            <a:ext cx="19080" cy="21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7080" y="3089160"/>
            <a:ext cx="32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1916280"/>
            <a:ext cx="27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11680" y="1658880"/>
            <a:ext cx="442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78280" y="3060720"/>
            <a:ext cx="45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3760" y="1670040"/>
            <a:ext cx="401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31000" y="1681200"/>
            <a:ext cx="406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97520" y="3075120"/>
            <a:ext cx="36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89520" y="3084480"/>
            <a:ext cx="28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3440" y="2676600"/>
            <a:ext cx="29433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52560" y="163836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7840" y="2695680"/>
            <a:ext cx="26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647720"/>
            <a:ext cx="1962360" cy="19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095440" y="1714680"/>
            <a:ext cx="189540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2864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4772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35120" y="3406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636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73640" y="1940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2480" y="1930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6428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02480" y="3359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80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252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5840" y="2341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9360" y="193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0664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23960" y="3014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5200" y="2641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8300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95840" y="302436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70080" y="26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умай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7360" y="1671120"/>
            <a:ext cx="7648560" cy="871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данных фигур имеют ось симметрии? 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276720"/>
            <a:ext cx="1181160" cy="676080"/>
          </a:xfrm>
          <a:prstGeom prst="parallelogram">
            <a:avLst>
              <a:gd name="adj" fmla="val 436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6960" y="3381480"/>
            <a:ext cx="1085760" cy="221940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76760" y="3143160"/>
            <a:ext cx="1228680" cy="17240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9440" y="4635360"/>
            <a:ext cx="1171800" cy="1095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57640" y="4429080"/>
            <a:ext cx="1171440" cy="11336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362400"/>
            <a:ext cx="1266840" cy="1028520"/>
          </a:xfrm>
          <a:custGeom>
            <a:avLst/>
            <a:gdLst>
              <a:gd name="textAreaLeft" fmla="*/ 297720 w 1266840"/>
              <a:gd name="textAreaRight" fmla="*/ 968400 w 1266840"/>
              <a:gd name="textAreaTop" fmla="*/ 120960 h 1028520"/>
              <a:gd name="textAreaBottom" fmla="*/ 645120 h 10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ock"/>
          <p:cNvSpPr/>
          <p:nvPr/>
        </p:nvSpPr>
        <p:spPr>
          <a:xfrm>
            <a:off x="3510000" y="3267000"/>
            <a:ext cx="628560" cy="7524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Music"/>
          <p:cNvSpPr/>
          <p:nvPr/>
        </p:nvSpPr>
        <p:spPr>
          <a:xfrm>
            <a:off x="5705640" y="5086440"/>
            <a:ext cx="876240" cy="60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ree"/>
          <p:cNvSpPr/>
          <p:nvPr/>
        </p:nvSpPr>
        <p:spPr>
          <a:xfrm>
            <a:off x="343080" y="4524480"/>
            <a:ext cx="1238040" cy="10094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tebulb"/>
          <p:cNvSpPr/>
          <p:nvPr/>
        </p:nvSpPr>
        <p:spPr>
          <a:xfrm>
            <a:off x="7729560" y="3538440"/>
            <a:ext cx="885960" cy="8668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409840" y="3095280"/>
            <a:ext cx="9360" cy="26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961560" y="4190760"/>
            <a:ext cx="9720" cy="14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838680" y="2971800"/>
            <a:ext cx="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838680" y="423864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285880" y="294336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24800" y="2981160"/>
            <a:ext cx="0" cy="16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446960" y="41526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163000" y="3180960"/>
            <a:ext cx="0" cy="143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05560" y="515448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34320" y="4619520"/>
            <a:ext cx="109512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76920" y="4981680"/>
            <a:ext cx="168588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666800" y="4495320"/>
            <a:ext cx="15051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точек относительно точ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0000" y="1604880"/>
            <a:ext cx="3863880" cy="43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1" i="1" lang="ru-RU" sz="2000" spc="-1" strike="noStrike">
                <a:solidFill>
                  <a:srgbClr val="00cc00"/>
                </a:solidFill>
                <a:latin typeface="Arial"/>
              </a:rPr>
              <a:t>симметричными относительно точки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О – середина отрез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отре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ый отрез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носительно точки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429680" y="1981080"/>
            <a:ext cx="1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0200" y="1981080"/>
            <a:ext cx="142884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0200" y="1971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97640" y="334980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92760" y="2654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42760" y="325908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43560" y="2550960"/>
            <a:ext cx="650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285880" y="4143240"/>
            <a:ext cx="714600" cy="14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59440" y="4102200"/>
            <a:ext cx="6984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45200" y="5530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73680" y="4797360"/>
            <a:ext cx="7956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7640" y="5559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63000" y="4133880"/>
            <a:ext cx="190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438680" y="4133880"/>
            <a:ext cx="72396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86280" y="5187960"/>
            <a:ext cx="32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19600" y="3637080"/>
            <a:ext cx="47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05640" y="53514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94480" y="4240080"/>
            <a:ext cx="563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43640" y="170496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91120" y="4133880"/>
            <a:ext cx="145728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276880" y="4124160"/>
            <a:ext cx="2886120" cy="14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305400" y="228600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6120" y="300672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91080" y="1719360"/>
            <a:ext cx="40384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82080" y="39607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21600" y="4102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851aa"/>
                                      </p:to>
                                    </p:animClr>
                                    <p:set>
                                      <p:cBhvr>
                                        <p:cTn id="5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851aa"/>
                                      </p:to>
                                    </p:animClr>
                                    <p:set>
                                      <p:cBhvr>
                                        <p:cTn id="55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фигуры относительно точ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5920" y="4760640"/>
            <a:ext cx="8038800" cy="177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симметричной относительно точ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Какие из данных фигур имеют центр симметрии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68760" y="1984320"/>
            <a:ext cx="1368360" cy="86364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9720" y="1952640"/>
            <a:ext cx="2917800" cy="1440000"/>
          </a:xfrm>
          <a:prstGeom prst="parallelogram">
            <a:avLst>
              <a:gd name="adj" fmla="val 56003"/>
            </a:avLst>
          </a:prstGeom>
          <a:solidFill>
            <a:srgbClr val="66ccff">
              <a:alpha val="5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80160" y="1816200"/>
            <a:ext cx="1454040" cy="13968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6000" y="3030480"/>
            <a:ext cx="1008000" cy="1449360"/>
          </a:xfrm>
          <a:prstGeom prst="triangle">
            <a:avLst>
              <a:gd name="adj" fmla="val 50000"/>
            </a:avLst>
          </a:prstGeom>
          <a:solidFill>
            <a:srgbClr val="66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tebulb"/>
          <p:cNvSpPr/>
          <p:nvPr/>
        </p:nvSpPr>
        <p:spPr>
          <a:xfrm>
            <a:off x="1876320" y="3728880"/>
            <a:ext cx="744480" cy="7923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ock"/>
          <p:cNvSpPr/>
          <p:nvPr/>
        </p:nvSpPr>
        <p:spPr>
          <a:xfrm>
            <a:off x="7572240" y="3322800"/>
            <a:ext cx="825480" cy="11700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044880"/>
            <a:ext cx="1512720" cy="139680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75640 h 1396800"/>
              <a:gd name="textAreaBottom" fmla="*/ 821160 h 1396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85880" y="1971720"/>
            <a:ext cx="132408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76240" y="1971360"/>
            <a:ext cx="295272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57440" y="19321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68840" y="190980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65320" y="3363840"/>
            <a:ext cx="604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47800" y="33703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17680" y="265896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6280" y="2957400"/>
            <a:ext cx="32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04840" y="1503360"/>
            <a:ext cx="35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19600" y="1541520"/>
            <a:ext cx="44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05000" y="2979720"/>
            <a:ext cx="51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71880" y="2112840"/>
            <a:ext cx="49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69200" y="248112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45120" y="370044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552920" y="198072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81360" y="196200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21440" y="237168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46320" y="26733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9160" y="26719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22680" y="19209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96920" y="3367080"/>
            <a:ext cx="795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55640" y="284472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83040" y="249084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6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3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3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933800" y="1857240"/>
            <a:ext cx="3753000" cy="4086360"/>
          </a:xfrm>
          <a:prstGeom prst="rect">
            <a:avLst/>
          </a:prstGeom>
          <a:blipFill rotWithShape="0">
            <a:blip r:embed="rId1">
              <a:alphaModFix amt="3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440" y="1828800"/>
            <a:ext cx="3828960" cy="404820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чность на координатной плоскос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143240"/>
            <a:ext cx="352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00480" y="1962000"/>
            <a:ext cx="0" cy="390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47720" y="3552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84480" y="35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59080" y="4095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8304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11400" y="17892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3240" y="4199040"/>
            <a:ext cx="412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86360" y="391968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52360" y="3214800"/>
            <a:ext cx="803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47760" y="313200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314172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74840" y="4449600"/>
            <a:ext cx="11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94320" y="1793880"/>
            <a:ext cx="30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39120" y="39038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2189160"/>
            <a:ext cx="66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81800" y="23036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91360" y="319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10480" y="320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76800" y="371016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43680" y="371304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51680" y="246852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6360" y="313200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2520" y="447840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65800" y="336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29360" y="2494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72080" y="3929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62880" y="410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86640" y="245736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13680" y="2527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67520" y="3362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9440" y="393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10:11Z</dcterms:created>
  <dc:creator>Люда</dc:creator>
  <dc:description/>
  <dc:language>en-US</dc:language>
  <cp:lastModifiedBy>Надежда</cp:lastModifiedBy>
  <dcterms:modified xsi:type="dcterms:W3CDTF">2009-02-14T19:25:47Z</dcterms:modified>
  <cp:revision>43</cp:revision>
  <dc:subject/>
  <dc:title>Осевая и центральная симметрия</dc:title>
</cp:coreProperties>
</file>