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3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0B6-6026-4A7A-BF93-EB891D8C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EBC-E56D-4AB1-85E4-25CFD44C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A75-9162-4183-912F-734FA270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AB8-2C72-4BF1-96F1-DF11AA39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8105-C304-4B6F-A4C6-C262637A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EE02-A844-4DBB-B544-6243C6AA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CC6C-4C9F-4D05-8AD8-32B9D40E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581B-AD29-48EB-8D24-D2C9DFB2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BF37-E923-4E89-AC20-E8FB68C0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D4BB-D61B-488B-93E4-548169D2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0BE8-8132-4D69-8FEA-4A93983A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66B4-0ED0-4962-9AE2-AC8DE1BB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B1FB-FAE7-4EE4-A666-73F18BA4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0D94-00E5-4D9D-BFF6-357D8A2D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0612-C213-4F8B-BFAA-B9A4F283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1BFB-F52C-4D8D-96D9-445D9C13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FB8E-49B3-4107-A1FA-16243B5F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9B20-80C7-4AC1-813F-8EE8E2AF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B4D-47D8-450A-B2B9-E8355FEB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67D8-A756-4D9E-BDC1-1B1A38A3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CD0-39BA-44D4-8F50-85F1DE17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84A2-D9AB-4F75-9486-CF5A1481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A57-F48E-443F-8277-27BD2D33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C04-686A-468D-BB42-C66DED90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4F15-65E1-4700-A68A-E802EDFF369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4440" y="466200"/>
            <a:ext cx="6782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8FCE-831C-498C-AF75-5F95A00B79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32.jpe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image" Target="../media/image33.jpeg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000" y="466200"/>
            <a:ext cx="6781680" cy="213372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Осевая и центральная симметрия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20400" y="5600880"/>
            <a:ext cx="8583480" cy="125712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Презентация урока геометрии в 8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0680" y="4286160"/>
            <a:ext cx="66578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Что такое осевая и центральная симметрия?</a:t>
            </a:r>
            <a:endParaRPr b="1" i="1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848120" y="1762200"/>
            <a:ext cx="3971880" cy="423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00120" y="1762200"/>
            <a:ext cx="3962520" cy="424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имметричность на координатной плоскост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76440" y="4142880"/>
            <a:ext cx="352404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400480" y="1847520"/>
            <a:ext cx="0" cy="392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876920" y="4143240"/>
            <a:ext cx="362880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6714720" y="1780920"/>
            <a:ext cx="19080" cy="39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66760" y="17226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56520" y="1720800"/>
            <a:ext cx="2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48000" y="39895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557920" y="401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38440" y="274176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09800" y="3105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695680" y="3257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943360" y="348444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67160" y="362736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08280" y="5133960"/>
            <a:ext cx="4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84440" y="4657680"/>
            <a:ext cx="4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91400" y="437184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9080" y="42292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3666960" y="390600"/>
          <a:ext cx="5191200" cy="1085760"/>
        </p:xfrm>
        <a:graphic>
          <a:graphicData uri="http://schemas.openxmlformats.org/drawingml/2006/table">
            <a:tbl>
              <a:tblPr/>
              <a:tblGrid>
                <a:gridCol w="519120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"/>
          <p:cNvSpPr/>
          <p:nvPr/>
        </p:nvSpPr>
        <p:spPr>
          <a:xfrm>
            <a:off x="7086600" y="246528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939000" y="35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81760" y="4122720"/>
            <a:ext cx="8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857920" y="550080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373480" y="410364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71840" y="2771640"/>
            <a:ext cx="1390680" cy="127188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1908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0800000">
            <a:off x="864720" y="4284720"/>
            <a:ext cx="1390680" cy="127152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1908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15080" y="2523960"/>
            <a:ext cx="362160" cy="1609920"/>
          </a:xfrm>
          <a:custGeom>
            <a:avLst/>
            <a:gdLst/>
            <a:ahLst/>
            <a:rect l="l" t="t" r="r" b="b"/>
            <a:pathLst>
              <a:path w="228" h="1014">
                <a:moveTo>
                  <a:pt x="228" y="0"/>
                </a:moveTo>
                <a:cubicBezTo>
                  <a:pt x="226" y="296"/>
                  <a:pt x="224" y="593"/>
                  <a:pt x="186" y="762"/>
                </a:cubicBezTo>
                <a:cubicBezTo>
                  <a:pt x="148" y="931"/>
                  <a:pt x="31" y="972"/>
                  <a:pt x="0" y="101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0800000">
            <a:off x="6360840" y="4113000"/>
            <a:ext cx="361800" cy="1609560"/>
          </a:xfrm>
          <a:custGeom>
            <a:avLst/>
            <a:gdLst/>
            <a:ahLst/>
            <a:rect l="l" t="t" r="r" b="b"/>
            <a:pathLst>
              <a:path w="228" h="1014">
                <a:moveTo>
                  <a:pt x="228" y="0"/>
                </a:moveTo>
                <a:cubicBezTo>
                  <a:pt x="226" y="296"/>
                  <a:pt x="224" y="593"/>
                  <a:pt x="186" y="762"/>
                </a:cubicBezTo>
                <a:cubicBezTo>
                  <a:pt x="148" y="931"/>
                  <a:pt x="31" y="972"/>
                  <a:pt x="0" y="101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7045200" y="267012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865920" y="3938760"/>
            <a:ext cx="619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6510240" y="4249800"/>
            <a:ext cx="619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6327720" y="557208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705720" y="409248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71840" y="2771640"/>
            <a:ext cx="1390680" cy="127188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864720" y="4284720"/>
            <a:ext cx="1390680" cy="127152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0800000">
            <a:off x="864720" y="4284720"/>
            <a:ext cx="1390680" cy="127152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198520" y="517680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063880" y="465120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870200" y="447660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1297080" y="431316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481560" y="3954600"/>
            <a:ext cx="619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917800" y="3787920"/>
            <a:ext cx="619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697120" y="358920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568600" y="304632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4000"/>
                            </p:stCondLst>
                            <p:childTnLst>
                              <p:par>
                                <p:cTn id="71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имметрия вокруг на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7240" y="1699920"/>
            <a:ext cx="7615440" cy="52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 симметрией мы часто встречаемся в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1555920" y="2654280"/>
            <a:ext cx="2133360" cy="14367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5122800" y="4917960"/>
            <a:ext cx="1584360" cy="13669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5033880" y="2595600"/>
            <a:ext cx="2098800" cy="18003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2100240" y="4648320"/>
            <a:ext cx="1871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690560" y="922320"/>
            <a:ext cx="553428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имметрия вокруг на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61920" y="1614240"/>
            <a:ext cx="3657600" cy="2477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Многие предме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кружающего нас мира име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ось симметрии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центр симмет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6222960" y="4248000"/>
            <a:ext cx="1736640" cy="18194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3733920" y="4545000"/>
            <a:ext cx="1523880" cy="14288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952560" y="4468680"/>
            <a:ext cx="1738080" cy="14223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5"/>
          <a:stretch/>
        </p:blipFill>
        <p:spPr>
          <a:xfrm>
            <a:off x="5438880" y="1760400"/>
            <a:ext cx="22572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1647720" y="1225440"/>
            <a:ext cx="510552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766960" y="746280"/>
            <a:ext cx="35053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Математики о симметр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66280" y="1699920"/>
            <a:ext cx="5351400" cy="4460760"/>
          </a:xfrm>
          <a:prstGeom prst="rect">
            <a:avLst/>
          </a:prstGeom>
          <a:blipFill rotWithShape="0">
            <a:blip r:embed="rId1">
              <a:alphaModFix amt="52000"/>
            </a:blip>
            <a:tile tx="0" ty="0" sx="100000" sy="100000" algn="ctr"/>
          </a:blipFill>
          <a:ln w="9360">
            <a:solidFill>
              <a:srgbClr val="d8d8e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Математик любит прежде всего симметр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Максвелл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Красота тесно связана с симметр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                              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Вейль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имметрия … является той идеей, посредством которой человек на протяжении веков пытался постичь и создать порядок, красоту и соверш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ейль 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Для человеческого разума симметрия обладает, по - видимому, совершенно особой притягательной сил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Фейнман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7153200" y="1844640"/>
            <a:ext cx="1185840" cy="11527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7205760" y="475920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4"/>
          <a:stretch/>
        </p:blipFill>
        <p:spPr>
          <a:xfrm>
            <a:off x="6292800" y="3348000"/>
            <a:ext cx="11527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оверим зн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0600" y="1919160"/>
            <a:ext cx="436248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отрезок 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имметричный отрезку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относительно прямой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треугольни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имметричный треугольни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относительно точки 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610320" y="1512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743880" y="333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981600">
            <a:off x="4775040" y="3971520"/>
            <a:ext cx="1067040" cy="1455840"/>
          </a:xfrm>
          <a:prstGeom prst="triangle">
            <a:avLst>
              <a:gd name="adj" fmla="val 100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702480" y="483552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67600" y="268128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575240" y="520380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11680" y="5526000"/>
            <a:ext cx="669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977080" y="411948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41880" y="380196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619600" y="5506920"/>
            <a:ext cx="4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356000" y="5234040"/>
            <a:ext cx="4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611400" y="4792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167472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286240" y="1990440"/>
            <a:ext cx="213372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715080" y="2028960"/>
            <a:ext cx="0" cy="14191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5892840" y="2099520"/>
            <a:ext cx="1288800" cy="593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277040" y="26370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499000" y="1595520"/>
            <a:ext cx="8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407360" y="554976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1724000">
            <a:off x="7615080" y="4287600"/>
            <a:ext cx="1067040" cy="1455480"/>
          </a:xfrm>
          <a:prstGeom prst="triangle">
            <a:avLst>
              <a:gd name="adj" fmla="val 100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802640" y="414504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813880" y="442584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701480" y="3716280"/>
            <a:ext cx="5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616960" y="457344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413480" y="551016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696000" y="197172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684840" y="3417840"/>
            <a:ext cx="669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891040" y="2071800"/>
            <a:ext cx="669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0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4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2000"/>
                            </p:stCondLst>
                            <p:childTnLst>
                              <p:par>
                                <p:cTn id="8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3000"/>
                            </p:stCondLst>
                            <p:childTnLst>
                              <p:par>
                                <p:cTn id="8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000"/>
                            </p:stCondLst>
                            <p:childTnLst>
                              <p:par>
                                <p:cTn id="8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0"/>
                            </p:stCondLst>
                            <p:childTnLst>
                              <p:par>
                                <p:cTn id="8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6000"/>
                            </p:stCondLst>
                            <p:childTnLst>
                              <p:par>
                                <p:cTn id="8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7000"/>
                            </p:stCondLst>
                            <p:childTnLst>
                              <p:par>
                                <p:cTn id="8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14440" y="1709280"/>
            <a:ext cx="4248000" cy="4697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Сколько осей симметрии имеет отрезок, прямая, луч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cc"/>
                </a:solidFill>
                <a:latin typeface="Arial"/>
              </a:rPr>
              <a:t>Какие из данных букв имеют ось симметри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Имеют ли центр симметрии отрезок, прямая, квадрат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Какие из данных букв имеют центр симметри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80040" y="841320"/>
            <a:ext cx="1235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261200" y="2209680"/>
            <a:ext cx="1044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 rot="3532200">
            <a:off x="5519520" y="1619280"/>
            <a:ext cx="90504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 rot="7369200">
            <a:off x="6681600" y="2647800"/>
            <a:ext cx="73332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 rot="6960000">
            <a:off x="5405400" y="3371760"/>
            <a:ext cx="73332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 rot="7616400">
            <a:off x="7805160" y="2000160"/>
            <a:ext cx="619200" cy="1161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8">
                    <a:alphaModFix amt="98000"/>
                  </a:blip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9">
                  <a:alphaModFix amt="98000"/>
                </a:blip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 rot="6160200">
            <a:off x="5343120" y="4895640"/>
            <a:ext cx="104796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Ю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 rot="7061400">
            <a:off x="7738920" y="3305160"/>
            <a:ext cx="73368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 rot="4594200">
            <a:off x="7119720" y="4552920"/>
            <a:ext cx="88560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Ы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49816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Симметрию можно обнаружить почти везде, если знать, как ее искать. Многие народы с древнейших времен владели представлением о симметрии в широком смысле – как об уравновешенности и гармонии. Творчество людей во всех своих проявлениях тяготеет к симметрии. Посредством симметрии человек всегда пытался, по словам немецкого математика Германа Вейля, «постичь и создать порядок, красоту и совершенство».</a:t>
            </a:r>
            <a:r>
              <a:rPr b="0" lang="en-US" sz="1900" spc="-1" strike="noStrike">
                <a:solidFill>
                  <a:srgbClr val="990099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641600" y="716040"/>
            <a:ext cx="38415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5737320" y="2025720"/>
          <a:ext cx="308124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7320" y="2025720"/>
                    <a:ext cx="308124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52880" y="615960"/>
            <a:ext cx="1987560" cy="4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: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77800" y="1395360"/>
            <a:ext cx="724392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Сформировать общее представление  о цетральной </a:t>
            </a:r>
            <a:endParaRPr b="0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и осевой симметрии.</a:t>
            </a:r>
            <a:endParaRPr b="0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979720" y="2754360"/>
            <a:ext cx="2241720" cy="48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: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36600" y="3479760"/>
            <a:ext cx="820908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1. Дать определение центральной и осевой симметрии.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2. Рассмотреть построение точек, фугур симметричных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относительно прямой и точки.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3. Показать применение симметрии на координатной 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плоскости.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941480" y="4970520"/>
            <a:ext cx="47800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4. Рассказать о симметрии в природе.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874800" y="1041480"/>
            <a:ext cx="681984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99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ьзуемый матери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0080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0" name=""/>
          <p:cNvSpPr/>
          <p:nvPr/>
        </p:nvSpPr>
        <p:spPr>
          <a:xfrm>
            <a:off x="997200" y="2063880"/>
            <a:ext cx="30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www.iteach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99200" y="2853720"/>
            <a:ext cx="38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www.erudition.ru</a:t>
            </a:r>
            <a:r>
              <a:rPr b="1" lang="ru-RU" sz="28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000" y="3658680"/>
            <a:ext cx="32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www.kniga.de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00ff"/>
                </a:solidFill>
                <a:latin typeface="Arial"/>
              </a:rPr>
              <a:t>Содерж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Симметричность точек относительн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Симметричность фигуры относительн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Симметричность точек относительно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Симметричность фигуры относительно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Симметрия на координатн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Симметрия вокруг 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Математики о сим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Проверим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Симметричность точек относительно прямой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5280" y="1614240"/>
            <a:ext cx="4038840" cy="4468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е точки А и 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имметричными относительно прямой 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эта прямая проходит через середину отрезка А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ерпендикулярна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йте точ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имметричную точ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относительно прямой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76400" y="1633320"/>
            <a:ext cx="3800520" cy="44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9029880" y="49579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 flipV="1">
            <a:off x="5086440" y="1942920"/>
            <a:ext cx="3143160" cy="18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53240" y="2048040"/>
            <a:ext cx="66672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0098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62720" y="32353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19720" y="181764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58160" y="3236760"/>
            <a:ext cx="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4447400">
            <a:off x="6953040" y="2571480"/>
            <a:ext cx="75960" cy="11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134120" y="2847960"/>
            <a:ext cx="133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64480" y="2359080"/>
            <a:ext cx="133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58240" y="1846440"/>
            <a:ext cx="29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40240" y="3568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26120" y="2606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2328840"/>
            <a:ext cx="393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66080" y="3011400"/>
            <a:ext cx="357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1598760"/>
            <a:ext cx="21272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 baseline="-5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 baseline="-50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5600880" y="1236600"/>
            <a:ext cx="3268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5133600" y="1568880"/>
            <a:ext cx="50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7840" y="2181240"/>
            <a:ext cx="101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29240" y="2227320"/>
            <a:ext cx="1431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O = OA</a:t>
            </a:r>
            <a:r>
              <a:rPr b="0" lang="ru-RU" sz="2400" spc="-1" strike="noStrike" baseline="-5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4505400"/>
            <a:ext cx="30672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24560" y="43052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00560" y="4075200"/>
            <a:ext cx="774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753240" y="4619520"/>
            <a:ext cx="533520" cy="13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89880" y="5946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29560" y="567540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59760" y="4554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7688000">
            <a:off x="6948000" y="5200200"/>
            <a:ext cx="69840" cy="9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5553000"/>
            <a:ext cx="10476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07120" y="4944960"/>
            <a:ext cx="10476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Симметричность фигуры относительно прямой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2014560"/>
          <a:ext cx="403848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14560"/>
                    <a:ext cx="40384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5840" y="4362480"/>
            <a:ext cx="8229600" cy="1806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гура называется </a:t>
            </a:r>
            <a:r>
              <a:rPr b="1" i="1" lang="en-US" sz="2000" spc="-1" strike="noStrike">
                <a:solidFill>
                  <a:srgbClr val="330066"/>
                </a:solidFill>
                <a:latin typeface="Arial"/>
              </a:rPr>
              <a:t>симметричной относительно прям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если для каждой точки фигуры симметричная ей точка также принадлежит этой фиг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68600" y="1984320"/>
            <a:ext cx="2173320" cy="1436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16480" y="1963800"/>
            <a:ext cx="1447920" cy="1433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08240" y="1658880"/>
            <a:ext cx="502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3528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16160" y="1668600"/>
            <a:ext cx="0" cy="214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97600" y="1514520"/>
            <a:ext cx="19080" cy="218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97080" y="3089160"/>
            <a:ext cx="32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84360" y="1916280"/>
            <a:ext cx="273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11680" y="1658880"/>
            <a:ext cx="442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78280" y="3060720"/>
            <a:ext cx="453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83760" y="1670040"/>
            <a:ext cx="401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31000" y="1681200"/>
            <a:ext cx="406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97520" y="3075120"/>
            <a:ext cx="36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89520" y="3084480"/>
            <a:ext cx="28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3440" y="2676600"/>
            <a:ext cx="294336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52560" y="1638360"/>
            <a:ext cx="0" cy="21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57840" y="2695680"/>
            <a:ext cx="260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1647720"/>
            <a:ext cx="1962360" cy="19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095440" y="1714680"/>
            <a:ext cx="1895400" cy="18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28640" y="1924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47720" y="1924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35120" y="3406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16360" y="3368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73640" y="1940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02480" y="19303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64280" y="3368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702480" y="33591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800" y="137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62520" y="137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85840" y="2341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89360" y="1932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06640" y="2282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23960" y="3014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65200" y="2641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83000" y="2282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95840" y="302436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70080" y="2660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думай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7360" y="1671120"/>
            <a:ext cx="7648560" cy="871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данных фигур имеют ось симметрии? Сколь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3276720"/>
            <a:ext cx="1181160" cy="676080"/>
          </a:xfrm>
          <a:prstGeom prst="parallelogram">
            <a:avLst>
              <a:gd name="adj" fmla="val 436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6960" y="3381480"/>
            <a:ext cx="1085760" cy="2219400"/>
          </a:xfrm>
          <a:prstGeom prst="diamond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76760" y="3143160"/>
            <a:ext cx="1228680" cy="172404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9440" y="4635360"/>
            <a:ext cx="1171800" cy="1095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57640" y="4429080"/>
            <a:ext cx="1171440" cy="1133640"/>
          </a:xfrm>
          <a:prstGeom prst="smileyFace">
            <a:avLst>
              <a:gd name="adj" fmla="val 928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3362400"/>
            <a:ext cx="1266840" cy="1028520"/>
          </a:xfrm>
          <a:custGeom>
            <a:avLst/>
            <a:gdLst>
              <a:gd name="textAreaLeft" fmla="*/ 297720 w 1266840"/>
              <a:gd name="textAreaRight" fmla="*/ 968400 w 1266840"/>
              <a:gd name="textAreaTop" fmla="*/ 120960 h 1028520"/>
              <a:gd name="textAreaBottom" fmla="*/ 645120 h 1028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ock"/>
          <p:cNvSpPr/>
          <p:nvPr/>
        </p:nvSpPr>
        <p:spPr>
          <a:xfrm>
            <a:off x="3510000" y="3267000"/>
            <a:ext cx="628560" cy="75240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Music"/>
          <p:cNvSpPr/>
          <p:nvPr/>
        </p:nvSpPr>
        <p:spPr>
          <a:xfrm>
            <a:off x="5705640" y="5086440"/>
            <a:ext cx="876240" cy="60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ree"/>
          <p:cNvSpPr/>
          <p:nvPr/>
        </p:nvSpPr>
        <p:spPr>
          <a:xfrm>
            <a:off x="343080" y="4524480"/>
            <a:ext cx="1238040" cy="10094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tebulb"/>
          <p:cNvSpPr/>
          <p:nvPr/>
        </p:nvSpPr>
        <p:spPr>
          <a:xfrm>
            <a:off x="7729560" y="3538440"/>
            <a:ext cx="885960" cy="86688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409840" y="3095280"/>
            <a:ext cx="9360" cy="268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961560" y="4190760"/>
            <a:ext cx="9720" cy="14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838680" y="2971800"/>
            <a:ext cx="0" cy="12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838680" y="4238640"/>
            <a:ext cx="0" cy="14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5285880" y="2943360"/>
            <a:ext cx="972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24800" y="2981160"/>
            <a:ext cx="0" cy="16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446960" y="41526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8163000" y="3180960"/>
            <a:ext cx="0" cy="143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05560" y="5154480"/>
            <a:ext cx="810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934320" y="4619520"/>
            <a:ext cx="109512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76920" y="4981680"/>
            <a:ext cx="1685880" cy="48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666800" y="4495320"/>
            <a:ext cx="15051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Симметричность точек относительно точк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30000" y="1604880"/>
            <a:ext cx="3863880" cy="4392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ются </a:t>
            </a:r>
            <a:r>
              <a:rPr b="1" i="1" lang="ru-RU" sz="2000" spc="-1" strike="noStrike">
                <a:solidFill>
                  <a:srgbClr val="00cc00"/>
                </a:solidFill>
                <a:latin typeface="Arial"/>
              </a:rPr>
              <a:t>симметричными относительно точки</a:t>
            </a:r>
            <a:r>
              <a:rPr b="0" lang="ru-RU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cc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О – середина отрез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йте отрезо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имметричный отрез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носительно точки 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7429680" y="1981080"/>
            <a:ext cx="1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10200" y="1981080"/>
            <a:ext cx="142884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0200" y="1971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397640" y="334980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92760" y="2654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42760" y="3259080"/>
            <a:ext cx="357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43560" y="2550960"/>
            <a:ext cx="650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285880" y="4143240"/>
            <a:ext cx="714600" cy="143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59440" y="4102200"/>
            <a:ext cx="69840" cy="79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45200" y="5530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73680" y="4797360"/>
            <a:ext cx="7956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97640" y="55594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163000" y="4133880"/>
            <a:ext cx="1908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438680" y="4133880"/>
            <a:ext cx="723960" cy="14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86280" y="5187960"/>
            <a:ext cx="32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19600" y="3637080"/>
            <a:ext cx="47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05640" y="535140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594480" y="4240080"/>
            <a:ext cx="563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43640" y="170496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991120" y="4133880"/>
            <a:ext cx="1457280" cy="14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276880" y="4124160"/>
            <a:ext cx="2886120" cy="14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305400" y="2286000"/>
            <a:ext cx="7632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026120" y="3006720"/>
            <a:ext cx="7632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91080" y="1719360"/>
            <a:ext cx="403848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182080" y="396072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21600" y="4102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2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4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0"/>
                            </p:stCondLst>
                            <p:childTnLst>
                              <p:par>
                                <p:cTn id="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700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90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5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000"/>
                            </p:stCondLst>
                            <p:childTnLst>
                              <p:par>
                                <p:cTn id="5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70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4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6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4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1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55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851aa"/>
                                      </p:to>
                                    </p:animClr>
                                    <p:set>
                                      <p:cBhvr>
                                        <p:cTn id="55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851aa"/>
                                      </p:to>
                                    </p:animClr>
                                    <p:set>
                                      <p:cBhvr>
                                        <p:cTn id="55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Симметричность фигуры относительно точк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5920" y="4760640"/>
            <a:ext cx="8038800" cy="1779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О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гура называется </a:t>
            </a: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симметричной относительно точк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если для каждой точки фигуры симметричная ей точка также принадлежит этой фиг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Какие из данных фигур имеют центр симметрии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68760" y="1984320"/>
            <a:ext cx="1368360" cy="86364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9720" y="1952640"/>
            <a:ext cx="2917800" cy="1440000"/>
          </a:xfrm>
          <a:prstGeom prst="parallelogram">
            <a:avLst>
              <a:gd name="adj" fmla="val 56003"/>
            </a:avLst>
          </a:prstGeom>
          <a:solidFill>
            <a:srgbClr val="66ccff">
              <a:alpha val="52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680160" y="1816200"/>
            <a:ext cx="1454040" cy="139680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26000" y="3030480"/>
            <a:ext cx="1008000" cy="1449360"/>
          </a:xfrm>
          <a:prstGeom prst="triangle">
            <a:avLst>
              <a:gd name="adj" fmla="val 50000"/>
            </a:avLst>
          </a:prstGeom>
          <a:solidFill>
            <a:srgbClr val="66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tebulb"/>
          <p:cNvSpPr/>
          <p:nvPr/>
        </p:nvSpPr>
        <p:spPr>
          <a:xfrm>
            <a:off x="1876320" y="3728880"/>
            <a:ext cx="744480" cy="7923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ock"/>
          <p:cNvSpPr/>
          <p:nvPr/>
        </p:nvSpPr>
        <p:spPr>
          <a:xfrm>
            <a:off x="7572240" y="3322800"/>
            <a:ext cx="825480" cy="117000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3044880"/>
            <a:ext cx="1512720" cy="1396800"/>
          </a:xfrm>
          <a:custGeom>
            <a:avLst/>
            <a:gdLst>
              <a:gd name="textAreaLeft" fmla="*/ 623160 w 1512720"/>
              <a:gd name="textAreaRight" fmla="*/ 889560 w 1512720"/>
              <a:gd name="textAreaTop" fmla="*/ 575640 h 1396800"/>
              <a:gd name="textAreaBottom" fmla="*/ 821160 h 1396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85880" y="1971720"/>
            <a:ext cx="132408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876240" y="1971360"/>
            <a:ext cx="295272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57440" y="193212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68840" y="190980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65320" y="3363840"/>
            <a:ext cx="604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47800" y="337032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17680" y="2658960"/>
            <a:ext cx="795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6280" y="2957400"/>
            <a:ext cx="326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04840" y="1503360"/>
            <a:ext cx="35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19600" y="1541520"/>
            <a:ext cx="441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05000" y="2979720"/>
            <a:ext cx="51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71880" y="2112840"/>
            <a:ext cx="498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369200" y="2481120"/>
            <a:ext cx="7920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45120" y="3700440"/>
            <a:ext cx="795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552920" y="1980720"/>
            <a:ext cx="139068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81360" y="1962000"/>
            <a:ext cx="139068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21440" y="2371680"/>
            <a:ext cx="7920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46320" y="267336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59160" y="267192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22680" y="192096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96920" y="3367080"/>
            <a:ext cx="795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55640" y="2844720"/>
            <a:ext cx="795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83040" y="249084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4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6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000"/>
                            </p:stCondLst>
                            <p:childTnLst>
                              <p:par>
                                <p:cTn id="56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9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1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3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3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3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3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3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933800" y="1857240"/>
            <a:ext cx="3753000" cy="4086360"/>
          </a:xfrm>
          <a:prstGeom prst="rect">
            <a:avLst/>
          </a:prstGeom>
          <a:blipFill rotWithShape="0">
            <a:blip r:embed="rId1">
              <a:alphaModFix amt="3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440" y="1828800"/>
            <a:ext cx="3828960" cy="4048200"/>
          </a:xfrm>
          <a:prstGeom prst="rect">
            <a:avLst/>
          </a:prstGeom>
          <a:blipFill rotWithShape="0">
            <a:blip r:embed="rId2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имметричность на координатной плоскост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143240"/>
            <a:ext cx="3524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400480" y="1962000"/>
            <a:ext cx="0" cy="390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647720" y="3552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84480" y="3560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59080" y="4095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83040" y="4635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05520" y="41338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6714720" y="1990800"/>
            <a:ext cx="9720" cy="387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11400" y="17892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43240" y="4199040"/>
            <a:ext cx="412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86360" y="3919680"/>
            <a:ext cx="74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52360" y="3214800"/>
            <a:ext cx="803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47760" y="313200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3141720"/>
            <a:ext cx="13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4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74840" y="4449600"/>
            <a:ext cx="11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394320" y="1793880"/>
            <a:ext cx="30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439120" y="39038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24360" y="2189160"/>
            <a:ext cx="660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381800" y="230364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191360" y="319896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910480" y="3201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76800" y="3710160"/>
            <a:ext cx="3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943680" y="3713040"/>
            <a:ext cx="5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151680" y="2468520"/>
            <a:ext cx="590400" cy="1714680"/>
          </a:xfrm>
          <a:custGeom>
            <a:avLst/>
            <a:gdLst/>
            <a:ahLst/>
            <a:rect l="l" t="t" r="r" b="b"/>
            <a:pathLst>
              <a:path w="372" h="1080">
                <a:moveTo>
                  <a:pt x="372" y="0"/>
                </a:moveTo>
                <a:cubicBezTo>
                  <a:pt x="335" y="244"/>
                  <a:pt x="299" y="489"/>
                  <a:pt x="258" y="654"/>
                </a:cubicBezTo>
                <a:cubicBezTo>
                  <a:pt x="217" y="819"/>
                  <a:pt x="169" y="919"/>
                  <a:pt x="126" y="990"/>
                </a:cubicBezTo>
                <a:cubicBezTo>
                  <a:pt x="83" y="1061"/>
                  <a:pt x="21" y="1065"/>
                  <a:pt x="0" y="108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76360" y="313200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4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22520" y="4478400"/>
            <a:ext cx="10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;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4133880"/>
            <a:ext cx="32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6714720" y="1990800"/>
            <a:ext cx="9720" cy="3876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265800" y="3360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29360" y="24940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72080" y="3929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662880" y="410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686640" y="2457360"/>
            <a:ext cx="590400" cy="1714680"/>
          </a:xfrm>
          <a:custGeom>
            <a:avLst/>
            <a:gdLst/>
            <a:ahLst/>
            <a:rect l="l" t="t" r="r" b="b"/>
            <a:pathLst>
              <a:path w="372" h="1080">
                <a:moveTo>
                  <a:pt x="372" y="0"/>
                </a:moveTo>
                <a:cubicBezTo>
                  <a:pt x="335" y="244"/>
                  <a:pt x="299" y="489"/>
                  <a:pt x="258" y="654"/>
                </a:cubicBezTo>
                <a:cubicBezTo>
                  <a:pt x="217" y="819"/>
                  <a:pt x="169" y="919"/>
                  <a:pt x="126" y="990"/>
                </a:cubicBezTo>
                <a:cubicBezTo>
                  <a:pt x="83" y="1061"/>
                  <a:pt x="21" y="1065"/>
                  <a:pt x="0" y="108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213680" y="2527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067520" y="3362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9440" y="3935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7:10:11Z</dcterms:created>
  <dc:creator>Люда</dc:creator>
  <dc:description/>
  <dc:language>en-US</dc:language>
  <cp:lastModifiedBy>Надежда</cp:lastModifiedBy>
  <dcterms:modified xsi:type="dcterms:W3CDTF">2009-02-14T19:25:47Z</dcterms:modified>
  <cp:revision>43</cp:revision>
  <dc:subject/>
  <dc:title>Осевая и центральная симметрия</dc:title>
</cp:coreProperties>
</file>