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1.jpeg" ContentType="image/jpeg"/>
  <Override PartName="/ppt/media/image28.jpeg" ContentType="image/jpeg"/>
  <Override PartName="/ppt/media/image20.png" ContentType="image/png"/>
  <Override PartName="/ppt/media/image13.jpeg" ContentType="image/jpeg"/>
  <Override PartName="/ppt/media/image19.jpeg" ContentType="image/jpeg"/>
  <Override PartName="/ppt/media/image11.png" ContentType="image/png"/>
  <Override PartName="/ppt/media/image6.png" ContentType="image/png"/>
  <Override PartName="/ppt/media/image9.png" ContentType="image/png"/>
  <Override PartName="/ppt/media/image22.jpeg" ContentType="image/jpeg"/>
  <Override PartName="/ppt/media/image7.png" ContentType="image/png"/>
  <Override PartName="/ppt/media/image8.png" ContentType="image/png"/>
  <Override PartName="/ppt/media/image14.jpeg" ContentType="image/jpeg"/>
  <Override PartName="/ppt/media/image30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5.png" ContentType="image/png"/>
  <Override PartName="/ppt/media/image29.jpeg" ContentType="image/jpeg"/>
  <Override PartName="/ppt/media/image3.wmf" ContentType="image/x-wmf"/>
  <Override PartName="/ppt/media/image16.jpeg" ContentType="image/jpeg"/>
  <Override PartName="/ppt/media/image17.jpeg" ContentType="image/jpeg"/>
  <Override PartName="/ppt/media/image26.png" ContentType="image/png"/>
  <Override PartName="/ppt/media/image1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FD9C-366A-439E-ABC3-C2FB42FF2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2001-162A-40B9-B20F-2DA7375E6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F9ED-70F5-406B-976F-0ADFAD2CA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E2AB-D8B1-477C-878D-A0DA8C073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24626-52D1-42D9-B760-DC15B63B4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F27F7-6450-4909-B0D6-0CE47DB57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DDCEE-B3AD-4A66-8CBB-A625E286F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9D047-6850-4CD6-AD94-8312AC04A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8706E-B264-40C2-B0B2-B1EB2285B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8D6E6-9FF6-43D2-8F82-428A09A8D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D5E04-6167-45B3-B250-43EA1D1D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6C45-AA61-4AA8-B3C7-C50CBBD72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862C0-27F4-405F-AFB1-09434E9E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ACF3B-DAA8-439A-BE84-D56C1C4F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4460C-3014-44B5-985C-A9D0ED357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27AF7-5992-443F-A9AC-9B7B4C3EB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7A493-92F5-4304-B1D6-5978ADA27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9761-662D-42C0-B3EA-9BDB89C1B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B4B0-AF56-4532-B490-01DA7D6F6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37EC-E2A3-4B86-B120-DD2E74821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1210-2528-4CA0-80BA-281E6F28F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6298-7003-4535-B95D-0060EBE1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F34E-E15A-4A52-B428-C8E99C8F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E005-53F7-46CE-B271-C77B40D9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EB9BD-42F8-444C-B1EE-7AD5FD2EEDE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34440" y="466200"/>
            <a:ext cx="6782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FE7DF-8356-4D8D-BCD3-11F0EA3360D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8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image" Target="../media/image3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32.jpeg"/><Relationship Id="rId13" Type="http://schemas.openxmlformats.org/officeDocument/2006/relationships/image" Target="../media/image32.jpeg"/><Relationship Id="rId14" Type="http://schemas.openxmlformats.org/officeDocument/2006/relationships/image" Target="../media/image33.jpeg"/><Relationship Id="rId15" Type="http://schemas.openxmlformats.org/officeDocument/2006/relationships/image" Target="../media/image33.jpeg"/><Relationship Id="rId1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97000" y="466200"/>
            <a:ext cx="6781680" cy="2133720"/>
          </a:xfrm>
          <a:prstGeom prst="rect">
            <a:avLst/>
          </a:prstGeom>
          <a:solidFill>
            <a:srgbClr val="d8d8ec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Осевая и центральная симметрия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320400" y="5600880"/>
            <a:ext cx="8583480" cy="1257120"/>
          </a:xfrm>
          <a:prstGeom prst="rect">
            <a:avLst/>
          </a:prstGeom>
          <a:solidFill>
            <a:srgbClr val="d8d8e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Презентация урока геометрии в 8 кла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0680" y="4286160"/>
            <a:ext cx="665784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8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Что такое осевая и центральная симметрия?</a:t>
            </a:r>
            <a:endParaRPr b="1" i="1" lang="en-US" sz="1800" spc="1" strike="noStrike">
              <a:ln w="9360">
                <a:solidFill>
                  <a:srgbClr val="80008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5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4848120" y="1762200"/>
            <a:ext cx="3971880" cy="4238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00120" y="1762200"/>
            <a:ext cx="3962520" cy="424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Симметричность на координатной плоскост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676440" y="4142880"/>
            <a:ext cx="3524040" cy="9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2400480" y="1847520"/>
            <a:ext cx="0" cy="3924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876920" y="4143240"/>
            <a:ext cx="3628800" cy="9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H="1" flipV="1">
            <a:off x="6714720" y="1780920"/>
            <a:ext cx="19080" cy="3943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066760" y="1722600"/>
            <a:ext cx="60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356520" y="1720800"/>
            <a:ext cx="2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248000" y="3989520"/>
            <a:ext cx="3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8557920" y="4016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638440" y="2741760"/>
            <a:ext cx="4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809800" y="31050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695680" y="32576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943360" y="3484440"/>
            <a:ext cx="8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467160" y="3627360"/>
            <a:ext cx="6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808280" y="5133960"/>
            <a:ext cx="4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684440" y="4657680"/>
            <a:ext cx="4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391400" y="437184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829080" y="422928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3666960" y="390600"/>
          <a:ext cx="5191200" cy="1085760"/>
        </p:xfrm>
        <a:graphic>
          <a:graphicData uri="http://schemas.openxmlformats.org/drawingml/2006/table">
            <a:tbl>
              <a:tblPr/>
              <a:tblGrid>
                <a:gridCol w="5191200"/>
              </a:tblGrid>
              <a:tr h="108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9" name=""/>
          <p:cNvSpPr/>
          <p:nvPr/>
        </p:nvSpPr>
        <p:spPr>
          <a:xfrm>
            <a:off x="7086600" y="2465280"/>
            <a:ext cx="5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939000" y="3573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981760" y="4122720"/>
            <a:ext cx="8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857920" y="5500800"/>
            <a:ext cx="95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2373480" y="4103640"/>
            <a:ext cx="619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571840" y="2771640"/>
            <a:ext cx="1390680" cy="1271880"/>
          </a:xfrm>
          <a:custGeom>
            <a:avLst/>
            <a:gdLst/>
            <a:ahLst/>
            <a:rect l="l" t="t" r="r" b="b"/>
            <a:pathLst>
              <a:path w="876" h="801">
                <a:moveTo>
                  <a:pt x="0" y="0"/>
                </a:moveTo>
                <a:cubicBezTo>
                  <a:pt x="1" y="56"/>
                  <a:pt x="3" y="112"/>
                  <a:pt x="18" y="198"/>
                </a:cubicBezTo>
                <a:cubicBezTo>
                  <a:pt x="33" y="284"/>
                  <a:pt x="51" y="437"/>
                  <a:pt x="90" y="516"/>
                </a:cubicBezTo>
                <a:cubicBezTo>
                  <a:pt x="129" y="595"/>
                  <a:pt x="156" y="628"/>
                  <a:pt x="252" y="672"/>
                </a:cubicBezTo>
                <a:cubicBezTo>
                  <a:pt x="348" y="716"/>
                  <a:pt x="562" y="759"/>
                  <a:pt x="666" y="780"/>
                </a:cubicBezTo>
                <a:cubicBezTo>
                  <a:pt x="770" y="801"/>
                  <a:pt x="841" y="795"/>
                  <a:pt x="876" y="798"/>
                </a:cubicBezTo>
              </a:path>
            </a:pathLst>
          </a:custGeom>
          <a:noFill/>
          <a:ln w="1908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rot="10800000">
            <a:off x="864720" y="4284720"/>
            <a:ext cx="1390680" cy="1271520"/>
          </a:xfrm>
          <a:custGeom>
            <a:avLst/>
            <a:gdLst/>
            <a:ahLst/>
            <a:rect l="l" t="t" r="r" b="b"/>
            <a:pathLst>
              <a:path w="876" h="801">
                <a:moveTo>
                  <a:pt x="0" y="0"/>
                </a:moveTo>
                <a:cubicBezTo>
                  <a:pt x="1" y="56"/>
                  <a:pt x="3" y="112"/>
                  <a:pt x="18" y="198"/>
                </a:cubicBezTo>
                <a:cubicBezTo>
                  <a:pt x="33" y="284"/>
                  <a:pt x="51" y="437"/>
                  <a:pt x="90" y="516"/>
                </a:cubicBezTo>
                <a:cubicBezTo>
                  <a:pt x="129" y="595"/>
                  <a:pt x="156" y="628"/>
                  <a:pt x="252" y="672"/>
                </a:cubicBezTo>
                <a:cubicBezTo>
                  <a:pt x="348" y="716"/>
                  <a:pt x="562" y="759"/>
                  <a:pt x="666" y="780"/>
                </a:cubicBezTo>
                <a:cubicBezTo>
                  <a:pt x="770" y="801"/>
                  <a:pt x="841" y="795"/>
                  <a:pt x="876" y="798"/>
                </a:cubicBezTo>
              </a:path>
            </a:pathLst>
          </a:custGeom>
          <a:noFill/>
          <a:ln w="1908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715080" y="2523960"/>
            <a:ext cx="362160" cy="1609920"/>
          </a:xfrm>
          <a:custGeom>
            <a:avLst/>
            <a:gdLst/>
            <a:ahLst/>
            <a:rect l="l" t="t" r="r" b="b"/>
            <a:pathLst>
              <a:path w="228" h="1014">
                <a:moveTo>
                  <a:pt x="228" y="0"/>
                </a:moveTo>
                <a:cubicBezTo>
                  <a:pt x="226" y="296"/>
                  <a:pt x="224" y="593"/>
                  <a:pt x="186" y="762"/>
                </a:cubicBezTo>
                <a:cubicBezTo>
                  <a:pt x="148" y="931"/>
                  <a:pt x="31" y="972"/>
                  <a:pt x="0" y="1014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rot="10800000">
            <a:off x="6360840" y="4113000"/>
            <a:ext cx="361800" cy="1609560"/>
          </a:xfrm>
          <a:custGeom>
            <a:avLst/>
            <a:gdLst/>
            <a:ahLst/>
            <a:rect l="l" t="t" r="r" b="b"/>
            <a:pathLst>
              <a:path w="228" h="1014">
                <a:moveTo>
                  <a:pt x="228" y="0"/>
                </a:moveTo>
                <a:cubicBezTo>
                  <a:pt x="226" y="296"/>
                  <a:pt x="224" y="593"/>
                  <a:pt x="186" y="762"/>
                </a:cubicBezTo>
                <a:cubicBezTo>
                  <a:pt x="148" y="931"/>
                  <a:pt x="31" y="972"/>
                  <a:pt x="0" y="1014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7045200" y="2670120"/>
            <a:ext cx="619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6865920" y="3938760"/>
            <a:ext cx="619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6510240" y="4249800"/>
            <a:ext cx="619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6327720" y="5572080"/>
            <a:ext cx="619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6705720" y="4092480"/>
            <a:ext cx="619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571840" y="2771640"/>
            <a:ext cx="1390680" cy="1271880"/>
          </a:xfrm>
          <a:custGeom>
            <a:avLst/>
            <a:gdLst/>
            <a:ahLst/>
            <a:rect l="l" t="t" r="r" b="b"/>
            <a:pathLst>
              <a:path w="876" h="801">
                <a:moveTo>
                  <a:pt x="0" y="0"/>
                </a:moveTo>
                <a:cubicBezTo>
                  <a:pt x="1" y="56"/>
                  <a:pt x="3" y="112"/>
                  <a:pt x="18" y="198"/>
                </a:cubicBezTo>
                <a:cubicBezTo>
                  <a:pt x="33" y="284"/>
                  <a:pt x="51" y="437"/>
                  <a:pt x="90" y="516"/>
                </a:cubicBezTo>
                <a:cubicBezTo>
                  <a:pt x="129" y="595"/>
                  <a:pt x="156" y="628"/>
                  <a:pt x="252" y="672"/>
                </a:cubicBezTo>
                <a:cubicBezTo>
                  <a:pt x="348" y="716"/>
                  <a:pt x="562" y="759"/>
                  <a:pt x="666" y="780"/>
                </a:cubicBezTo>
                <a:cubicBezTo>
                  <a:pt x="770" y="801"/>
                  <a:pt x="841" y="795"/>
                  <a:pt x="876" y="798"/>
                </a:cubicBezTo>
              </a:path>
            </a:pathLst>
          </a:custGeom>
          <a:noFill/>
          <a:ln w="2844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rot="10800000">
            <a:off x="864720" y="4284720"/>
            <a:ext cx="1390680" cy="1271520"/>
          </a:xfrm>
          <a:custGeom>
            <a:avLst/>
            <a:gdLst/>
            <a:ahLst/>
            <a:rect l="l" t="t" r="r" b="b"/>
            <a:pathLst>
              <a:path w="876" h="801">
                <a:moveTo>
                  <a:pt x="0" y="0"/>
                </a:moveTo>
                <a:cubicBezTo>
                  <a:pt x="1" y="56"/>
                  <a:pt x="3" y="112"/>
                  <a:pt x="18" y="198"/>
                </a:cubicBezTo>
                <a:cubicBezTo>
                  <a:pt x="33" y="284"/>
                  <a:pt x="51" y="437"/>
                  <a:pt x="90" y="516"/>
                </a:cubicBezTo>
                <a:cubicBezTo>
                  <a:pt x="129" y="595"/>
                  <a:pt x="156" y="628"/>
                  <a:pt x="252" y="672"/>
                </a:cubicBezTo>
                <a:cubicBezTo>
                  <a:pt x="348" y="716"/>
                  <a:pt x="562" y="759"/>
                  <a:pt x="666" y="780"/>
                </a:cubicBezTo>
                <a:cubicBezTo>
                  <a:pt x="770" y="801"/>
                  <a:pt x="841" y="795"/>
                  <a:pt x="876" y="798"/>
                </a:cubicBezTo>
              </a:path>
            </a:pathLst>
          </a:custGeom>
          <a:noFill/>
          <a:ln w="2844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rot="10800000">
            <a:off x="864720" y="4284720"/>
            <a:ext cx="1390680" cy="1271520"/>
          </a:xfrm>
          <a:custGeom>
            <a:avLst/>
            <a:gdLst/>
            <a:ahLst/>
            <a:rect l="l" t="t" r="r" b="b"/>
            <a:pathLst>
              <a:path w="876" h="801">
                <a:moveTo>
                  <a:pt x="0" y="0"/>
                </a:moveTo>
                <a:cubicBezTo>
                  <a:pt x="1" y="56"/>
                  <a:pt x="3" y="112"/>
                  <a:pt x="18" y="198"/>
                </a:cubicBezTo>
                <a:cubicBezTo>
                  <a:pt x="33" y="284"/>
                  <a:pt x="51" y="437"/>
                  <a:pt x="90" y="516"/>
                </a:cubicBezTo>
                <a:cubicBezTo>
                  <a:pt x="129" y="595"/>
                  <a:pt x="156" y="628"/>
                  <a:pt x="252" y="672"/>
                </a:cubicBezTo>
                <a:cubicBezTo>
                  <a:pt x="348" y="716"/>
                  <a:pt x="562" y="759"/>
                  <a:pt x="666" y="780"/>
                </a:cubicBezTo>
                <a:cubicBezTo>
                  <a:pt x="770" y="801"/>
                  <a:pt x="841" y="795"/>
                  <a:pt x="876" y="798"/>
                </a:cubicBezTo>
              </a:path>
            </a:pathLst>
          </a:custGeom>
          <a:noFill/>
          <a:ln w="2844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2198520" y="5176800"/>
            <a:ext cx="619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2063880" y="4651200"/>
            <a:ext cx="619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1870200" y="4476600"/>
            <a:ext cx="619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1297080" y="4313160"/>
            <a:ext cx="619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481560" y="3954600"/>
            <a:ext cx="619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2917800" y="3787920"/>
            <a:ext cx="619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2697120" y="3589200"/>
            <a:ext cx="619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2568600" y="3046320"/>
            <a:ext cx="619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8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9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2000"/>
                            </p:stCondLst>
                            <p:childTnLst>
                              <p:par>
                                <p:cTn id="712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3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4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5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4000"/>
                            </p:stCondLst>
                            <p:childTnLst>
                              <p:par>
                                <p:cTn id="717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8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0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6000"/>
                            </p:stCondLst>
                            <p:childTnLst>
                              <p:par>
                                <p:cTn id="722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3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4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5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9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0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31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3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34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36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Симметрия вокруг нас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7240" y="1699920"/>
            <a:ext cx="7615440" cy="5223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С симметрией мы часто встречаемся в прир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1555920" y="2654280"/>
            <a:ext cx="2133360" cy="143676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3"/>
          <a:stretch/>
        </p:blipFill>
        <p:spPr>
          <a:xfrm>
            <a:off x="5122800" y="4917960"/>
            <a:ext cx="1584360" cy="136692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4"/>
          <a:stretch/>
        </p:blipFill>
        <p:spPr>
          <a:xfrm>
            <a:off x="5033880" y="2595600"/>
            <a:ext cx="2098800" cy="180036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5"/>
          <a:stretch/>
        </p:blipFill>
        <p:spPr>
          <a:xfrm>
            <a:off x="2100240" y="4648320"/>
            <a:ext cx="18716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1690560" y="922320"/>
            <a:ext cx="5534280" cy="49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Симметрия вокруг нас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61920" y="1614240"/>
            <a:ext cx="3657600" cy="2477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Многие предме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окружающего нас мира имею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6600"/>
                </a:solidFill>
                <a:latin typeface="Arial"/>
              </a:rPr>
              <a:t>ось симметрии</a:t>
            </a:r>
            <a:r>
              <a:rPr b="1" lang="en-US" sz="22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ff"/>
                </a:solidFill>
                <a:latin typeface="Arial"/>
              </a:rPr>
              <a:t>центр симметр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2"/>
          <a:stretch/>
        </p:blipFill>
        <p:spPr>
          <a:xfrm>
            <a:off x="6222960" y="4248000"/>
            <a:ext cx="1736640" cy="181944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3"/>
          <a:stretch/>
        </p:blipFill>
        <p:spPr>
          <a:xfrm>
            <a:off x="3733920" y="4545000"/>
            <a:ext cx="1523880" cy="142884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4"/>
          <a:stretch/>
        </p:blipFill>
        <p:spPr>
          <a:xfrm>
            <a:off x="952560" y="4468680"/>
            <a:ext cx="1738080" cy="142236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5"/>
          <a:stretch/>
        </p:blipFill>
        <p:spPr>
          <a:xfrm>
            <a:off x="5438880" y="1760400"/>
            <a:ext cx="225720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1647720" y="1225440"/>
            <a:ext cx="510552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766960" y="746280"/>
            <a:ext cx="350532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Математики о симметри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66280" y="1699920"/>
            <a:ext cx="5351400" cy="4460760"/>
          </a:xfrm>
          <a:prstGeom prst="rect">
            <a:avLst/>
          </a:prstGeom>
          <a:blipFill rotWithShape="0">
            <a:blip r:embed="rId1">
              <a:alphaModFix amt="52000"/>
            </a:blip>
            <a:tile tx="0" ty="0" sx="100000" sy="100000" algn="ctr"/>
          </a:blipFill>
          <a:ln w="9360">
            <a:solidFill>
              <a:srgbClr val="d8d8e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Математик любит прежде всего симметр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                      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Максвелл 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Красота тесно связана с симметри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                                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Вейль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Симметрия … является той идеей, посредством которой человек на протяжении веков пытался постичь и создать порядок, красоту и совершен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Вейль 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Для человеческого разума симметрия обладает, по - видимому, совершенно особой притягательной сил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                                  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Фейнман 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2"/>
          <a:stretch/>
        </p:blipFill>
        <p:spPr>
          <a:xfrm>
            <a:off x="7153200" y="1844640"/>
            <a:ext cx="1185840" cy="115272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3"/>
          <a:stretch/>
        </p:blipFill>
        <p:spPr>
          <a:xfrm>
            <a:off x="7205760" y="4759200"/>
            <a:ext cx="1152360" cy="108108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4"/>
          <a:stretch/>
        </p:blipFill>
        <p:spPr>
          <a:xfrm>
            <a:off x="6292800" y="3348000"/>
            <a:ext cx="11527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500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2" dur="500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500"/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Проверим зна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90600" y="1919160"/>
            <a:ext cx="4362480" cy="38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йте отрезок 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симметричный отрезку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3399"/>
                </a:solidFill>
                <a:latin typeface="Arial"/>
              </a:rPr>
              <a:t>относительно прямой 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йте треугольник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симметричный треугольник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N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99ff"/>
                </a:solidFill>
                <a:latin typeface="Arial"/>
              </a:rPr>
              <a:t>относительно точки </a:t>
            </a: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3399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610320" y="151272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743880" y="333216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rot="981600">
            <a:off x="4775040" y="3971520"/>
            <a:ext cx="1067040" cy="1455840"/>
          </a:xfrm>
          <a:prstGeom prst="triangle">
            <a:avLst>
              <a:gd name="adj" fmla="val 100000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702480" y="4835520"/>
            <a:ext cx="6660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167600" y="2681280"/>
            <a:ext cx="6660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575240" y="5203800"/>
            <a:ext cx="6660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611680" y="5526000"/>
            <a:ext cx="6696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977080" y="4119480"/>
            <a:ext cx="6660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041880" y="3801960"/>
            <a:ext cx="5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619600" y="5506920"/>
            <a:ext cx="4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356000" y="5234040"/>
            <a:ext cx="4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611400" y="47926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543800" y="1674720"/>
            <a:ext cx="5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5286240" y="1990440"/>
            <a:ext cx="213372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715080" y="2028960"/>
            <a:ext cx="0" cy="141912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H="1" flipV="1">
            <a:off x="5892840" y="2099520"/>
            <a:ext cx="1288800" cy="5936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277040" y="263700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499000" y="1595520"/>
            <a:ext cx="85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407360" y="5549760"/>
            <a:ext cx="6660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rot="11724000">
            <a:off x="7615080" y="4287600"/>
            <a:ext cx="1067040" cy="1455480"/>
          </a:xfrm>
          <a:prstGeom prst="triangle">
            <a:avLst>
              <a:gd name="adj" fmla="val 100000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802640" y="4145040"/>
            <a:ext cx="6660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8813880" y="4425840"/>
            <a:ext cx="6660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701480" y="3716280"/>
            <a:ext cx="5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8616960" y="4573440"/>
            <a:ext cx="66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413480" y="5510160"/>
            <a:ext cx="6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696000" y="1971720"/>
            <a:ext cx="6660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684840" y="3417840"/>
            <a:ext cx="6696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891040" y="2071800"/>
            <a:ext cx="6696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3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1000"/>
                            </p:stCondLst>
                            <p:childTnLst>
                              <p:par>
                                <p:cTn id="7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7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1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3000"/>
                            </p:stCondLst>
                            <p:childTnLst>
                              <p:par>
                                <p:cTn id="8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5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4000"/>
                            </p:stCondLst>
                            <p:childTnLst>
                              <p:par>
                                <p:cTn id="8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9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4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2000"/>
                            </p:stCondLst>
                            <p:childTnLst>
                              <p:par>
                                <p:cTn id="8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8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3000"/>
                            </p:stCondLst>
                            <p:childTnLst>
                              <p:par>
                                <p:cTn id="8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2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4000"/>
                            </p:stCondLst>
                            <p:childTnLst>
                              <p:par>
                                <p:cTn id="8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6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5000"/>
                            </p:stCondLst>
                            <p:childTnLst>
                              <p:par>
                                <p:cTn id="8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0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6000"/>
                            </p:stCondLst>
                            <p:childTnLst>
                              <p:par>
                                <p:cTn id="8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4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7000"/>
                            </p:stCondLst>
                            <p:childTnLst>
                              <p:par>
                                <p:cTn id="8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Зада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14440" y="1709280"/>
            <a:ext cx="4248000" cy="46976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Arial"/>
              </a:rPr>
              <a:t>Сколько осей симметрии имеет отрезок, прямая, луч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cc"/>
                </a:solidFill>
                <a:latin typeface="Arial"/>
              </a:rPr>
              <a:t>Какие из данных букв имеют ось симметрии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ff"/>
                </a:solidFill>
                <a:latin typeface="Arial"/>
              </a:rPr>
              <a:t>Имеют ли центр симметрии отрезок, прямая, квадрат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Какие из данных букв имеют центр симметрии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080040" y="841320"/>
            <a:ext cx="12351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261200" y="2209680"/>
            <a:ext cx="1044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 txBox="1"/>
          <p:nvPr/>
        </p:nvSpPr>
        <p:spPr>
          <a:xfrm rot="3532200">
            <a:off x="5519520" y="1619280"/>
            <a:ext cx="905040" cy="1162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М</a:t>
            </a:r>
            <a:endParaRPr b="0" lang="en-US" sz="80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 rot="7369200">
            <a:off x="6681600" y="2647800"/>
            <a:ext cx="733320" cy="1162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80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 rot="6960000">
            <a:off x="5405400" y="3371760"/>
            <a:ext cx="733320" cy="1162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Н</a:t>
            </a:r>
            <a:endParaRPr b="0" lang="en-US" sz="80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 rot="7616400">
            <a:off x="7805160" y="2000160"/>
            <a:ext cx="619200" cy="1161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8">
                    <a:alphaModFix amt="98000"/>
                  </a:blip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Е</a:t>
            </a:r>
            <a:endParaRPr b="0" lang="en-US" sz="80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9">
                  <a:alphaModFix amt="98000"/>
                </a:blip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 rot="6160200">
            <a:off x="5343120" y="4895640"/>
            <a:ext cx="1047960" cy="1162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Ю</a:t>
            </a:r>
            <a:endParaRPr b="0" lang="en-US" sz="80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3" name=""/>
          <p:cNvSpPr txBox="1"/>
          <p:nvPr/>
        </p:nvSpPr>
        <p:spPr>
          <a:xfrm rot="7061400">
            <a:off x="7738920" y="3305160"/>
            <a:ext cx="733680" cy="1162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0" lang="en-US" sz="80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 rot="4594200">
            <a:off x="7119720" y="4552920"/>
            <a:ext cx="885600" cy="1162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Ы</a:t>
            </a:r>
            <a:endParaRPr b="0" lang="en-US" sz="80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500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500"/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500"/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49816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990099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99"/>
                </a:solidFill>
                <a:latin typeface="Arial"/>
              </a:rPr>
              <a:t>Симметрию можно обнаружить почти везде, если знать, как ее искать. Многие народы с древнейших времен владели представлением о симметрии в широком смысле – как об уравновешенности и гармонии. Творчество людей во всех своих проявлениях тяготеет к симметрии. Посредством симметрии человек всегда пытался, по словам немецкого математика Германа Вейля, «постичь и создать порядок, красоту и совершенство».</a:t>
            </a:r>
            <a:r>
              <a:rPr b="0" lang="en-US" sz="1900" spc="-1" strike="noStrike">
                <a:solidFill>
                  <a:srgbClr val="990099"/>
                </a:solidFill>
                <a:latin typeface="Arial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1641600" y="716040"/>
            <a:ext cx="38415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ывод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5737320" y="2025720"/>
          <a:ext cx="3081240" cy="317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37320" y="2025720"/>
                    <a:ext cx="3081240" cy="31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0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2000"/>
                            </p:stCondLst>
                            <p:childTnLst>
                              <p:par>
                                <p:cTn id="87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152880" y="615960"/>
            <a:ext cx="1987560" cy="48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99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ель:</a:t>
            </a:r>
            <a:endParaRPr b="0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99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77800" y="1395360"/>
            <a:ext cx="7243920" cy="90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Сформировать общее представление  о цетральной </a:t>
            </a:r>
            <a:endParaRPr b="0" lang="en-US" sz="2400" spc="1" strike="noStrike">
              <a:ln w="9360">
                <a:solidFill>
                  <a:srgbClr val="993366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и осевой симметрии.</a:t>
            </a:r>
            <a:endParaRPr b="0" lang="en-US" sz="2400" spc="1" strike="noStrike">
              <a:ln w="9360">
                <a:solidFill>
                  <a:srgbClr val="993366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993366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979720" y="2754360"/>
            <a:ext cx="2241720" cy="48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99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дачи:</a:t>
            </a:r>
            <a:endParaRPr b="0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99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36600" y="3479760"/>
            <a:ext cx="8209080" cy="140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1. Дать определение центральной и осевой симметрии.</a:t>
            </a: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2. Рассмотреть построение точек, фугур симметричных</a:t>
            </a: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относительно прямой и точки.</a:t>
            </a: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3. Показать применение симметрии на координатной </a:t>
            </a: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плоскости.</a:t>
            </a: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941480" y="4970520"/>
            <a:ext cx="478008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4. Рассказать о симметрии в природе.</a:t>
            </a: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8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874800" y="1041480"/>
            <a:ext cx="6819840" cy="60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0080"/>
                    </a:gs>
                    <a:gs pos="100000">
                      <a:srgbClr val="9900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спользуемый материа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0080"/>
                  </a:gs>
                  <a:gs pos="100000">
                    <a:srgbClr val="9900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0" name=""/>
          <p:cNvSpPr/>
          <p:nvPr/>
        </p:nvSpPr>
        <p:spPr>
          <a:xfrm>
            <a:off x="997200" y="2063880"/>
            <a:ext cx="305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ff"/>
                </a:solidFill>
                <a:latin typeface="Arial"/>
              </a:rPr>
              <a:t>www.iteach.r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99200" y="2853720"/>
            <a:ext cx="388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9900ff"/>
                </a:solidFill>
                <a:latin typeface="Arial"/>
              </a:rPr>
              <a:t>www.erudition.ru</a:t>
            </a:r>
            <a:r>
              <a:rPr b="1" lang="ru-RU" sz="2800" spc="-1" strike="noStrike">
                <a:solidFill>
                  <a:srgbClr val="99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46000" y="3658680"/>
            <a:ext cx="321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9900ff"/>
                </a:solidFill>
                <a:latin typeface="Arial"/>
              </a:rPr>
              <a:t>www.kniga.de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0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500"/>
                            </p:stCondLst>
                            <p:childTnLst>
                              <p:par>
                                <p:cTn id="89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1000"/>
                            </p:stCondLst>
                            <p:childTnLst>
                              <p:par>
                                <p:cTn id="90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1500"/>
                            </p:stCondLst>
                            <p:childTnLst>
                              <p:par>
                                <p:cTn id="91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9900ff"/>
                </a:solidFill>
                <a:latin typeface="Arial"/>
              </a:rPr>
              <a:t>Содержани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solidFill>
            <a:srgbClr val="d8d8e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</a:rPr>
              <a:t>Симметричность точек относительно пря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</a:rPr>
              <a:t>Симметричность фигуры относительно пря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</a:rPr>
              <a:t>Симметричность точек относительно т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</a:rPr>
              <a:t>Симметричность фигуры относительно т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</a:rPr>
              <a:t>Симметрия на координатной плос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</a:rPr>
              <a:t>Симметрия вокруг н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</a:rPr>
              <a:t>Математики о симмет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</a:rPr>
              <a:t>Проверим 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</a:rPr>
              <a:t>Зад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000"/>
                            </p:stCondLst>
                            <p:childTnLst>
                              <p:par>
                                <p:cTn id="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000"/>
                            </p:stCondLst>
                            <p:childTnLst>
                              <p:par>
                                <p:cTn id="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0"/>
                            </p:stCondLst>
                            <p:childTnLst>
                              <p:par>
                                <p:cTn id="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2000"/>
                            </p:stCondLst>
                            <p:childTnLst>
                              <p:par>
                                <p:cTn id="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Симметричность точек относительно прямой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85280" y="1614240"/>
            <a:ext cx="4038840" cy="4468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Опре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е точки А и А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ываются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симметричными относительно прямой 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если эта прямая проходит через середину отрезка АА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перпендикулярна к н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З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ройте точк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симметричную точк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относительно прямой 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676400" y="1633320"/>
            <a:ext cx="3800520" cy="44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9029880" y="4957920"/>
                <a:ext cx="11412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 flipV="1">
            <a:off x="5086440" y="1942920"/>
            <a:ext cx="3143160" cy="185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753240" y="2048040"/>
            <a:ext cx="66672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705720" y="20098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362720" y="32353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219720" y="181764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058160" y="3236760"/>
            <a:ext cx="87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14447400">
            <a:off x="6953040" y="2571480"/>
            <a:ext cx="75960" cy="11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7134120" y="2847960"/>
            <a:ext cx="1335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864480" y="2359080"/>
            <a:ext cx="1332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058240" y="1846440"/>
            <a:ext cx="298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40240" y="35686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026120" y="26067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086600" y="2328840"/>
            <a:ext cx="3938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266080" y="3011400"/>
            <a:ext cx="3574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48320" y="1598760"/>
            <a:ext cx="21272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 baseline="-5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 baseline="-50000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5600880" y="1236600"/>
            <a:ext cx="32688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10800000">
            <a:off x="5133600" y="1568880"/>
            <a:ext cx="507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857840" y="2181240"/>
            <a:ext cx="1019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629240" y="2227320"/>
            <a:ext cx="143172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O = OA</a:t>
            </a:r>
            <a:r>
              <a:rPr b="0" lang="ru-RU" sz="2400" spc="-1" strike="noStrike" baseline="-50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029200" y="4505400"/>
            <a:ext cx="306720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24560" y="43052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00560" y="4075200"/>
            <a:ext cx="7747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6753240" y="4619520"/>
            <a:ext cx="533520" cy="13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689880" y="59468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29560" y="567540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259760" y="45543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17688000">
            <a:off x="6948000" y="5200200"/>
            <a:ext cx="69840" cy="9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0" y="5553000"/>
            <a:ext cx="104760" cy="5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107120" y="4944960"/>
            <a:ext cx="104760" cy="5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3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3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0"/>
                            </p:stCondLst>
                            <p:childTnLst>
                              <p:par>
                                <p:cTn id="1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6000"/>
                            </p:stCondLst>
                            <p:childTnLst>
                              <p:par>
                                <p:cTn id="1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7000"/>
                            </p:stCondLst>
                            <p:childTnLst>
                              <p:par>
                                <p:cTn id="1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30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3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000"/>
                            </p:stCondLst>
                            <p:childTnLst>
                              <p:par>
                                <p:cTn id="1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3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6000"/>
                            </p:stCondLst>
                            <p:childTnLst>
                              <p:par>
                                <p:cTn id="1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8000"/>
                            </p:stCondLst>
                            <p:childTnLst>
                              <p:par>
                                <p:cTn id="2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Симметричность фигуры относительно прямой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57200" y="2014560"/>
          <a:ext cx="4038480" cy="15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014560"/>
                    <a:ext cx="4038480" cy="15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85840" y="4362480"/>
            <a:ext cx="8229600" cy="180648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Опре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игура называется </a:t>
            </a:r>
            <a:r>
              <a:rPr b="1" i="1" lang="en-US" sz="2000" spc="-1" strike="noStrike">
                <a:solidFill>
                  <a:srgbClr val="330066"/>
                </a:solidFill>
                <a:latin typeface="Arial"/>
              </a:rPr>
              <a:t>симметричной относительно прямо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если для каждой точки фигуры симметричная ей точка также принадлежит этой фигу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68600" y="1984320"/>
            <a:ext cx="2173320" cy="14367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16480" y="1963800"/>
            <a:ext cx="1447920" cy="14335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308240" y="1658880"/>
            <a:ext cx="5029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835280" y="1700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32000" y="3141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116160" y="1668600"/>
            <a:ext cx="0" cy="2144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997600" y="1514520"/>
            <a:ext cx="19080" cy="2182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297080" y="3089160"/>
            <a:ext cx="3222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484360" y="1916280"/>
            <a:ext cx="2732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811680" y="1658880"/>
            <a:ext cx="442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78280" y="3060720"/>
            <a:ext cx="4539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883760" y="1670040"/>
            <a:ext cx="4017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831000" y="1681200"/>
            <a:ext cx="406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797520" y="3075120"/>
            <a:ext cx="360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89520" y="3084480"/>
            <a:ext cx="289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33440" y="2676600"/>
            <a:ext cx="294336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52560" y="1638360"/>
            <a:ext cx="0" cy="214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857840" y="2695680"/>
            <a:ext cx="260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52880" y="1647720"/>
            <a:ext cx="1962360" cy="193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5095440" y="1714680"/>
            <a:ext cx="1895400" cy="18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628640" y="19242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647720" y="19242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35120" y="34066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816360" y="33685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273640" y="19400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702480" y="19303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264280" y="33685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702480" y="33591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19800" y="1370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062520" y="1370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185840" y="2341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789360" y="19321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06640" y="22827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623960" y="30146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365200" y="26416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483000" y="22827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795840" y="3024360"/>
            <a:ext cx="88920" cy="88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70080" y="26607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8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0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5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6000"/>
                            </p:stCondLst>
                            <p:childTnLst>
                              <p:par>
                                <p:cTn id="2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8000"/>
                            </p:stCondLst>
                            <p:childTnLst>
                              <p:par>
                                <p:cTn id="2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5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0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5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5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0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8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3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5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Подумай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57360" y="1671120"/>
            <a:ext cx="7648560" cy="8715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ие из данных фигур имеют ось симметрии? Скольк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33520" y="3276720"/>
            <a:ext cx="1181160" cy="676080"/>
          </a:xfrm>
          <a:prstGeom prst="parallelogram">
            <a:avLst>
              <a:gd name="adj" fmla="val 4367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66960" y="3381480"/>
            <a:ext cx="1085760" cy="2219400"/>
          </a:xfrm>
          <a:prstGeom prst="diamond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76760" y="3143160"/>
            <a:ext cx="1228680" cy="1724040"/>
          </a:xfrm>
          <a:prstGeom prst="triangle">
            <a:avLst>
              <a:gd name="adj" fmla="val 50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859440" y="4635360"/>
            <a:ext cx="1171800" cy="10954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257640" y="4429080"/>
            <a:ext cx="1171440" cy="1133640"/>
          </a:xfrm>
          <a:prstGeom prst="smileyFace">
            <a:avLst>
              <a:gd name="adj" fmla="val 9282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95880" y="3362400"/>
            <a:ext cx="1266840" cy="1028520"/>
          </a:xfrm>
          <a:custGeom>
            <a:avLst/>
            <a:gdLst>
              <a:gd name="textAreaLeft" fmla="*/ 297720 w 1266840"/>
              <a:gd name="textAreaRight" fmla="*/ 968400 w 1266840"/>
              <a:gd name="textAreaTop" fmla="*/ 120960 h 1028520"/>
              <a:gd name="textAreaBottom" fmla="*/ 645120 h 10285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ock"/>
          <p:cNvSpPr/>
          <p:nvPr/>
        </p:nvSpPr>
        <p:spPr>
          <a:xfrm>
            <a:off x="3510000" y="3267000"/>
            <a:ext cx="628560" cy="752400"/>
          </a:xfrm>
          <a:prstGeom prst="pie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Music"/>
          <p:cNvSpPr/>
          <p:nvPr/>
        </p:nvSpPr>
        <p:spPr>
          <a:xfrm>
            <a:off x="5705640" y="5086440"/>
            <a:ext cx="876240" cy="60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ree"/>
          <p:cNvSpPr/>
          <p:nvPr/>
        </p:nvSpPr>
        <p:spPr>
          <a:xfrm>
            <a:off x="343080" y="4524480"/>
            <a:ext cx="1238040" cy="100944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tebulb"/>
          <p:cNvSpPr/>
          <p:nvPr/>
        </p:nvSpPr>
        <p:spPr>
          <a:xfrm>
            <a:off x="7729560" y="3538440"/>
            <a:ext cx="885960" cy="86688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2409840" y="3095280"/>
            <a:ext cx="9360" cy="268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961560" y="4190760"/>
            <a:ext cx="9720" cy="147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838680" y="2971800"/>
            <a:ext cx="0" cy="120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838680" y="4238640"/>
            <a:ext cx="0" cy="144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5285880" y="2943360"/>
            <a:ext cx="9720" cy="2200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24800" y="2981160"/>
            <a:ext cx="0" cy="161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7446960" y="415260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8163000" y="3180960"/>
            <a:ext cx="0" cy="1438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405560" y="5154480"/>
            <a:ext cx="81000" cy="79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934320" y="4619520"/>
            <a:ext cx="1095120" cy="1067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676920" y="4981680"/>
            <a:ext cx="1685880" cy="48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1666800" y="4495320"/>
            <a:ext cx="150516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500"/>
                            </p:stCondLst>
                            <p:childTnLst>
                              <p:par>
                                <p:cTn id="4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Симметричность точек относительно точки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30000" y="1604880"/>
            <a:ext cx="3863880" cy="4392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Опре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чк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зываются </a:t>
            </a:r>
            <a:r>
              <a:rPr b="1" i="1" lang="ru-RU" sz="2000" spc="-1" strike="noStrike">
                <a:solidFill>
                  <a:srgbClr val="00cc00"/>
                </a:solidFill>
                <a:latin typeface="Arial"/>
              </a:rPr>
              <a:t>симметричными относительно точки</a:t>
            </a:r>
            <a:r>
              <a:rPr b="0" lang="ru-RU" sz="20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cc00"/>
                </a:solidFill>
                <a:latin typeface="Arial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если О – середина отрезк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З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ройте отрезок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симметричный отрезк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тносительно точки 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7429680" y="1981080"/>
            <a:ext cx="1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010200" y="1981080"/>
            <a:ext cx="1428840" cy="142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010200" y="19717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397640" y="3349800"/>
            <a:ext cx="88920" cy="88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92760" y="26542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142760" y="3259080"/>
            <a:ext cx="3574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343560" y="2550960"/>
            <a:ext cx="6508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5285880" y="4143240"/>
            <a:ext cx="714600" cy="1438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959440" y="4102200"/>
            <a:ext cx="69840" cy="79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245200" y="55306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673680" y="4797360"/>
            <a:ext cx="79560" cy="79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397640" y="55594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163000" y="4133880"/>
            <a:ext cx="19080" cy="2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7438680" y="4133880"/>
            <a:ext cx="723960" cy="144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886280" y="5187960"/>
            <a:ext cx="324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619600" y="3637080"/>
            <a:ext cx="4701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505640" y="5351400"/>
            <a:ext cx="6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594480" y="4240080"/>
            <a:ext cx="5634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543640" y="1704960"/>
            <a:ext cx="98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991120" y="4133880"/>
            <a:ext cx="1457280" cy="146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5276880" y="4124160"/>
            <a:ext cx="2886120" cy="143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6305400" y="2286000"/>
            <a:ext cx="7632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7026120" y="3006720"/>
            <a:ext cx="7632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591080" y="1719360"/>
            <a:ext cx="4038480" cy="20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182080" y="3960720"/>
            <a:ext cx="6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121600" y="41022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2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4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5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8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3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8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0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3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0"/>
                            </p:stCondLst>
                            <p:childTnLst>
                              <p:par>
                                <p:cTn id="4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7000"/>
                            </p:stCondLst>
                            <p:childTnLst>
                              <p:par>
                                <p:cTn id="4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9000"/>
                            </p:stCondLst>
                            <p:childTnLst>
                              <p:par>
                                <p:cTn id="4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9500"/>
                            </p:stCondLst>
                            <p:childTnLst>
                              <p:par>
                                <p:cTn id="4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0"/>
                            </p:stCondLst>
                            <p:childTnLst>
                              <p:par>
                                <p:cTn id="5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6000"/>
                            </p:stCondLst>
                            <p:childTnLst>
                              <p:par>
                                <p:cTn id="5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7000"/>
                            </p:stCondLst>
                            <p:childTnLst>
                              <p:par>
                                <p:cTn id="5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5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2000"/>
                            </p:stCondLst>
                            <p:childTnLst>
                              <p:par>
                                <p:cTn id="5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3000"/>
                            </p:stCondLst>
                            <p:childTnLst>
                              <p:par>
                                <p:cTn id="5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4000"/>
                            </p:stCondLst>
                            <p:childTnLst>
                              <p:par>
                                <p:cTn id="5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1" dur="5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9000"/>
                            </p:stCondLst>
                            <p:childTnLst>
                              <p:par>
                                <p:cTn id="543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4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6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2000"/>
                            </p:stCondLst>
                            <p:childTnLst>
                              <p:par>
                                <p:cTn id="54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9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1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25000"/>
                            </p:stCondLst>
                            <p:childTnLst>
                              <p:par>
                                <p:cTn id="553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4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851aa"/>
                                      </p:to>
                                    </p:animClr>
                                    <p:set>
                                      <p:cBhvr>
                                        <p:cTn id="555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7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851aa"/>
                                      </p:to>
                                    </p:animClr>
                                    <p:set>
                                      <p:cBhvr>
                                        <p:cTn id="558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Симметричность фигуры относительно точки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85920" y="4760640"/>
            <a:ext cx="8038800" cy="17794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Опреде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игура называется </a:t>
            </a:r>
            <a:r>
              <a:rPr b="1" i="1" lang="en-US" sz="1800" spc="-1" strike="noStrike">
                <a:solidFill>
                  <a:srgbClr val="ff00ff"/>
                </a:solidFill>
                <a:latin typeface="Arial"/>
              </a:rPr>
              <a:t>симметричной относительно точк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если для каждой точки фигуры симметричная ей точка также принадлежит этой фигу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Какие из данных фигур имеют центр симметрии?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568760" y="1984320"/>
            <a:ext cx="1368360" cy="863640"/>
          </a:xfrm>
          <a:prstGeom prst="rect">
            <a:avLst/>
          </a:prstGeom>
          <a:solidFill>
            <a:srgbClr val="ff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09720" y="1952640"/>
            <a:ext cx="2917800" cy="1440000"/>
          </a:xfrm>
          <a:prstGeom prst="parallelogram">
            <a:avLst>
              <a:gd name="adj" fmla="val 56003"/>
            </a:avLst>
          </a:prstGeom>
          <a:solidFill>
            <a:srgbClr val="66ccff">
              <a:alpha val="52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680160" y="1816200"/>
            <a:ext cx="1454040" cy="1396800"/>
          </a:xfrm>
          <a:prstGeom prst="ellipse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726000" y="3030480"/>
            <a:ext cx="1008000" cy="1449360"/>
          </a:xfrm>
          <a:prstGeom prst="triangle">
            <a:avLst>
              <a:gd name="adj" fmla="val 50000"/>
            </a:avLst>
          </a:prstGeom>
          <a:solidFill>
            <a:srgbClr val="66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tebulb"/>
          <p:cNvSpPr/>
          <p:nvPr/>
        </p:nvSpPr>
        <p:spPr>
          <a:xfrm>
            <a:off x="1876320" y="3728880"/>
            <a:ext cx="744480" cy="79236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ock"/>
          <p:cNvSpPr/>
          <p:nvPr/>
        </p:nvSpPr>
        <p:spPr>
          <a:xfrm>
            <a:off x="7572240" y="3322800"/>
            <a:ext cx="825480" cy="1170000"/>
          </a:xfrm>
          <a:prstGeom prst="pie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34120" y="3044880"/>
            <a:ext cx="1512720" cy="1396800"/>
          </a:xfrm>
          <a:custGeom>
            <a:avLst/>
            <a:gdLst>
              <a:gd name="textAreaLeft" fmla="*/ 623160 w 1512720"/>
              <a:gd name="textAreaRight" fmla="*/ 889560 w 1512720"/>
              <a:gd name="textAreaTop" fmla="*/ 575640 h 1396800"/>
              <a:gd name="textAreaBottom" fmla="*/ 821160 h 1396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685880" y="1971720"/>
            <a:ext cx="1324080" cy="143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876240" y="1971360"/>
            <a:ext cx="2952720" cy="143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657440" y="1932120"/>
            <a:ext cx="7920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68840" y="1909800"/>
            <a:ext cx="7920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965320" y="3363840"/>
            <a:ext cx="604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47800" y="3370320"/>
            <a:ext cx="7920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317680" y="2658960"/>
            <a:ext cx="7956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76280" y="2957400"/>
            <a:ext cx="3268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104840" y="1503360"/>
            <a:ext cx="355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19600" y="1541520"/>
            <a:ext cx="441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105000" y="2979720"/>
            <a:ext cx="517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171880" y="2112840"/>
            <a:ext cx="4982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369200" y="2481120"/>
            <a:ext cx="7920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045120" y="3700440"/>
            <a:ext cx="7956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552920" y="1980720"/>
            <a:ext cx="139068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581360" y="1962000"/>
            <a:ext cx="139068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221440" y="2371680"/>
            <a:ext cx="7920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246320" y="2673360"/>
            <a:ext cx="7920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359160" y="2671920"/>
            <a:ext cx="7920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22680" y="1920960"/>
            <a:ext cx="7920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996920" y="3367080"/>
            <a:ext cx="7956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655640" y="2844720"/>
            <a:ext cx="7956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083040" y="2490840"/>
            <a:ext cx="7920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64" dur="1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66" dur="10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3000"/>
                            </p:stCondLst>
                            <p:childTnLst>
                              <p:par>
                                <p:cTn id="56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69" dur="1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1" dur="10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500"/>
                            </p:stCondLst>
                            <p:childTnLst>
                              <p:par>
                                <p:cTn id="580" nodeType="afterEffect" fill="hold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500"/>
                            </p:stCondLst>
                            <p:childTnLst>
                              <p:par>
                                <p:cTn id="593" nodeType="afterEffect" fill="hold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500"/>
                            </p:stCondLst>
                            <p:childTnLst>
                              <p:par>
                                <p:cTn id="606" nodeType="afterEffect" fill="hold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3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3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3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3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3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3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30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30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30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30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30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30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4933800" y="1857240"/>
            <a:ext cx="3753000" cy="4086360"/>
          </a:xfrm>
          <a:prstGeom prst="rect">
            <a:avLst/>
          </a:prstGeom>
          <a:blipFill rotWithShape="0">
            <a:blip r:embed="rId1">
              <a:alphaModFix amt="31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14440" y="1828800"/>
            <a:ext cx="3828960" cy="4048200"/>
          </a:xfrm>
          <a:prstGeom prst="rect">
            <a:avLst/>
          </a:prstGeom>
          <a:blipFill rotWithShape="0">
            <a:blip r:embed="rId2">
              <a:alphaModFix amt="51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Симметричность на координатной плоскост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33520" y="4143240"/>
            <a:ext cx="3524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2400480" y="1962000"/>
            <a:ext cx="0" cy="3905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647720" y="35528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084480" y="35607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359080" y="40957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083040" y="46353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105520" y="413388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 flipV="1">
            <a:off x="6714720" y="1990800"/>
            <a:ext cx="9720" cy="387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111400" y="17892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143240" y="4199040"/>
            <a:ext cx="4129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086360" y="3919680"/>
            <a:ext cx="74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152360" y="3214800"/>
            <a:ext cx="8035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247760" y="3132000"/>
            <a:ext cx="3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3141720"/>
            <a:ext cx="13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4;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174840" y="4449600"/>
            <a:ext cx="116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394320" y="1793880"/>
            <a:ext cx="30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439120" y="390384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724360" y="2189160"/>
            <a:ext cx="6606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381800" y="2303640"/>
            <a:ext cx="99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191360" y="3198960"/>
            <a:ext cx="7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910480" y="32018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076800" y="3710160"/>
            <a:ext cx="3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943680" y="3713040"/>
            <a:ext cx="5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6151680" y="2468520"/>
            <a:ext cx="590400" cy="1714680"/>
          </a:xfrm>
          <a:custGeom>
            <a:avLst/>
            <a:gdLst/>
            <a:ahLst/>
            <a:rect l="l" t="t" r="r" b="b"/>
            <a:pathLst>
              <a:path w="372" h="1080">
                <a:moveTo>
                  <a:pt x="372" y="0"/>
                </a:moveTo>
                <a:cubicBezTo>
                  <a:pt x="335" y="244"/>
                  <a:pt x="299" y="489"/>
                  <a:pt x="258" y="654"/>
                </a:cubicBezTo>
                <a:cubicBezTo>
                  <a:pt x="217" y="819"/>
                  <a:pt x="169" y="919"/>
                  <a:pt x="126" y="990"/>
                </a:cubicBezTo>
                <a:cubicBezTo>
                  <a:pt x="83" y="1061"/>
                  <a:pt x="21" y="1065"/>
                  <a:pt x="0" y="108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476360" y="3132000"/>
            <a:ext cx="11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-4;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422520" y="4478400"/>
            <a:ext cx="10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4;-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4133880"/>
            <a:ext cx="32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 flipV="1">
            <a:off x="6714720" y="1990800"/>
            <a:ext cx="9720" cy="3876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265800" y="3360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129360" y="24940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472080" y="39290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662880" y="41004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686640" y="2457360"/>
            <a:ext cx="590400" cy="1714680"/>
          </a:xfrm>
          <a:custGeom>
            <a:avLst/>
            <a:gdLst/>
            <a:ahLst/>
            <a:rect l="l" t="t" r="r" b="b"/>
            <a:pathLst>
              <a:path w="372" h="1080">
                <a:moveTo>
                  <a:pt x="372" y="0"/>
                </a:moveTo>
                <a:cubicBezTo>
                  <a:pt x="335" y="244"/>
                  <a:pt x="299" y="489"/>
                  <a:pt x="258" y="654"/>
                </a:cubicBezTo>
                <a:cubicBezTo>
                  <a:pt x="217" y="819"/>
                  <a:pt x="169" y="919"/>
                  <a:pt x="126" y="990"/>
                </a:cubicBezTo>
                <a:cubicBezTo>
                  <a:pt x="83" y="1061"/>
                  <a:pt x="21" y="1065"/>
                  <a:pt x="0" y="108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213680" y="25272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067520" y="33624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859440" y="39355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5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1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2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3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2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1000"/>
                            </p:stCondLst>
                            <p:childTnLst>
                              <p:par>
                                <p:cTn id="69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5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7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0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2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17:10:11Z</dcterms:created>
  <dc:creator>Люда</dc:creator>
  <dc:description/>
  <dc:language>en-US</dc:language>
  <cp:lastModifiedBy>Надежда</cp:lastModifiedBy>
  <dcterms:modified xsi:type="dcterms:W3CDTF">2009-02-14T19:25:47Z</dcterms:modified>
  <cp:revision>43</cp:revision>
  <dc:subject/>
  <dc:title>Осевая и центральная симметрия</dc:title>
</cp:coreProperties>
</file>