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703dff"/>
              </a:solidFill>
              <a:latin typeface="Rage Italic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B3AD2-9F28-4631-B8B2-E032DFCB85B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8FB3B-80B3-482A-A9D9-D5C97DFC76A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03dff"/>
              </a:solidFill>
              <a:latin typeface="Rage Italic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69C4-2961-4767-ABBC-99DFC5770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63F5-BABC-4702-B773-033CD9E4D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8365-0416-495C-9D95-9F161E89C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7A39-A899-4893-87DA-D7F1FE0DF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E1F32-3FA8-46D1-8288-5D3ED938D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690B2-58FA-47E1-893E-6E116B14E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16AA2-B305-4174-AB12-D858D7514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1B16C-7969-4354-8E95-1BFF07795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220B5-6BCE-4CFC-8D06-066FBD470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2C899-33AA-43F7-A900-EFF317D79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72900-31FF-4E65-904E-30E8EBA79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03CD-DEF9-473F-A267-8A6BB3CF9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BAA6E-0778-40B8-AEE9-CCD13775E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F3C6A-ED32-4790-A427-2181A9069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4A170-6C60-4844-B70F-BE2AC214E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AB477-9512-4F02-BD07-D35264A40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01B20-43AA-4544-80A6-853E7D151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C450B9-0702-433E-9584-20EC42068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7F3A9F-9678-4E1F-B61A-E6D29C839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70ACB9-A96F-46CB-8C77-E9A3A7A97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2DD430-E1AC-48A9-86EA-D683329D1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DB40BB-D1F2-45C9-9D8B-F97644070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0D09-D612-4DC9-A543-2934371E5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032FC9-E437-4147-8F44-F389E676C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6E72B8-0E6C-4D9D-8612-8E249A9BD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C5864C-5B00-4307-AF8A-1AB2D7722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E3CE19-788E-4F01-B189-7560D6AF5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6613C5-F430-48D8-BC3C-6BE9055AC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54ADA9-5DC6-47DE-9BBD-7EB0E4C7D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6BA354-1DA0-4013-ACD3-4E4142AEF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5E4ACF-8C4B-4025-901F-136675295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EF17EC-50D1-465E-8F42-7D53C2719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203E42-F108-43DA-A63B-E3CF2B7B7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757A-9267-4738-BAD0-A865A20D3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5F3021-6C5D-46B9-B997-7BAC1C44D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5711C5-CE53-4207-A934-4FC9C0962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3B1188-4723-43C6-9663-880430825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6310BB-B09E-4333-8AF0-875C446E2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B5F6E5-FA52-4816-8970-F44F237F8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8E88BC-D639-4544-9507-DE7F71885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53C34E-A4FC-4010-A885-7CDE9D48B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72B61E-61D8-4CDC-A2D7-F61980DC6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37C74C-343D-46D2-BF38-BC8A72722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7D62-6E5E-4967-8153-9CCCB00F4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F78C-B6AB-4DA1-B7E3-3B8EB3833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6F97-7C3E-428A-88F8-EC48948F0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2877-4200-492D-BCA1-D5DDCDD93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C06E-D9F4-48B4-A0B4-37B2D3C02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37.xml"/><Relationship Id="rId35" Type="http://schemas.openxmlformats.org/officeDocument/2006/relationships/slideLayout" Target="../slideLayouts/slideLayout38.xml"/><Relationship Id="rId36" Type="http://schemas.openxmlformats.org/officeDocument/2006/relationships/slideLayout" Target="../slideLayouts/slideLayout39.xml"/><Relationship Id="rId37" Type="http://schemas.openxmlformats.org/officeDocument/2006/relationships/slideLayout" Target="../slideLayouts/slideLayout40.xml"/><Relationship Id="rId38" Type="http://schemas.openxmlformats.org/officeDocument/2006/relationships/slideLayout" Target="../slideLayouts/slideLayout41.xml"/><Relationship Id="rId39" Type="http://schemas.openxmlformats.org/officeDocument/2006/relationships/slideLayout" Target="../slideLayouts/slideLayout42.xml"/><Relationship Id="rId40" Type="http://schemas.openxmlformats.org/officeDocument/2006/relationships/slideLayout" Target="../slideLayouts/slideLayout43.xml"/><Relationship Id="rId41" Type="http://schemas.openxmlformats.org/officeDocument/2006/relationships/slideLayout" Target="../slideLayouts/slideLayout44.xml"/><Relationship Id="rId42" Type="http://schemas.openxmlformats.org/officeDocument/2006/relationships/slideLayout" Target="../slideLayouts/slideLayout45.xml"/><Relationship Id="rId43" Type="http://schemas.openxmlformats.org/officeDocument/2006/relationships/slideLayout" Target="../slideLayouts/slideLayout46.xml"/><Relationship Id="rId44" Type="http://schemas.openxmlformats.org/officeDocument/2006/relationships/slideLayout" Target="../slideLayouts/slideLayout47.xml"/><Relationship Id="rId4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703dff"/>
              </a:solidFill>
              <a:latin typeface="Rage Italic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dff"/>
              </a:solidFill>
              <a:latin typeface="Rage Italic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dff"/>
              </a:solidFill>
              <a:latin typeface="Rage Italic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7AEEC-4045-4ABF-93C1-3624EBD98E9B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703dff"/>
              </a:solidFill>
              <a:latin typeface="Rage Italic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703dff"/>
              </a:solidFill>
              <a:latin typeface="Rage Italic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703dff"/>
                </a:solidFill>
                <a:latin typeface="Rage Italic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703dff"/>
                </a:solidFill>
                <a:latin typeface="Rage Italic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703dff"/>
                </a:solidFill>
                <a:latin typeface="Rage Italic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703dff"/>
                </a:solidFill>
                <a:latin typeface="Rage Italic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703dff"/>
                </a:solidFill>
                <a:latin typeface="Rage Italic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703dff"/>
                </a:solidFill>
                <a:latin typeface="Rage Italic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703dff"/>
                </a:solidFill>
                <a:latin typeface="Rage Italic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703dff"/>
                </a:solidFill>
                <a:latin typeface="Rage Italic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703dff"/>
                </a:solidFill>
                <a:latin typeface="Rage Italic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703dff"/>
                    </a:solidFill>
                    <a:latin typeface="Rage Italic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703dff"/>
                    </a:solidFill>
                    <a:latin typeface="Rage Italic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703dff"/>
                    </a:solidFill>
                    <a:latin typeface="Rage Italic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703dff"/>
                  </a:solidFill>
                  <a:latin typeface="Rage Italic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703dff"/>
                  </a:solidFill>
                  <a:latin typeface="Rage Italic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703dff"/>
                  </a:solidFill>
                  <a:latin typeface="Rage Italic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703dff"/>
                    </a:solidFill>
                    <a:latin typeface="Rage Italic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703dff"/>
                    </a:solidFill>
                    <a:latin typeface="Rage Italic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703dff"/>
                    </a:solidFill>
                    <a:latin typeface="Rage Italic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703dff"/>
                    </a:solidFill>
                    <a:latin typeface="Rage Italic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703dff"/>
                    </a:solidFill>
                    <a:latin typeface="Rage Italic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703dff"/>
                    </a:solidFill>
                    <a:latin typeface="Rage Italic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703dff"/>
                    </a:solidFill>
                    <a:latin typeface="Rage Italic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703dff"/>
                    </a:solidFill>
                    <a:latin typeface="Rage Italic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703dff"/>
                </a:solidFill>
                <a:latin typeface="Rage Italic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703dff"/>
                </a:solidFill>
                <a:latin typeface="Rage Italic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480" y="-86400"/>
            <a:ext cx="2429640" cy="2250000"/>
            <a:chOff x="7170480" y="-86400"/>
            <a:chExt cx="2429640" cy="225000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480" y="-86400"/>
              <a:ext cx="2429640" cy="2250000"/>
              <a:chOff x="7170480" y="-86400"/>
              <a:chExt cx="2429640" cy="225000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703dff"/>
                  </a:solidFill>
                  <a:latin typeface="Rage Italic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480" y="-86400"/>
                <a:ext cx="2429640" cy="2250000"/>
                <a:chOff x="7170480" y="-86400"/>
                <a:chExt cx="2429640" cy="225000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703dff"/>
                    </a:solidFill>
                    <a:latin typeface="Rage Italic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8640" y="522720"/>
                  <a:ext cx="42804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703dff"/>
                    </a:solidFill>
                    <a:latin typeface="Rage Italic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6600" y="285480"/>
                  <a:ext cx="80388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703dff"/>
                    </a:solidFill>
                    <a:latin typeface="Rage Italic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1400" y="-27720"/>
                  <a:ext cx="12070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703dff"/>
                    </a:solidFill>
                    <a:latin typeface="Rage Italic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3920" y="1422360"/>
                  <a:ext cx="2692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703dff"/>
                    </a:solidFill>
                    <a:latin typeface="Rage Italic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800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703dff"/>
                    </a:solidFill>
                    <a:latin typeface="Rage Italic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160" y="333720"/>
                  <a:ext cx="28800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703dff"/>
                    </a:solidFill>
                    <a:latin typeface="Rage Italic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8440" y="219960"/>
                  <a:ext cx="28512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703dff"/>
                    </a:solidFill>
                    <a:latin typeface="Rage Italic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703dff"/>
                </a:solidFill>
                <a:latin typeface="Rage Italic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88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703dff"/>
                </a:solidFill>
                <a:latin typeface="Rage Italic"/>
              </a:endParaRPr>
            </a:p>
          </p:txBody>
        </p:sp>
        <p:sp>
          <p:nvSpPr>
            <p:cNvPr id="89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703dff"/>
                </a:solidFill>
                <a:latin typeface="Rage Italic"/>
              </a:endParaRPr>
            </a:p>
          </p:txBody>
        </p:sp>
        <p:sp>
          <p:nvSpPr>
            <p:cNvPr id="90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703dff"/>
                </a:solidFill>
                <a:latin typeface="Rage Italic"/>
              </a:endParaRPr>
            </a:p>
          </p:txBody>
        </p:sp>
        <p:grpSp>
          <p:nvGrpSpPr>
            <p:cNvPr id="91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92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93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94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95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p:txBody>
                </p:sp>
                <p:sp>
                  <p:nvSpPr>
                    <p:cNvPr id="96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p:txBody>
                </p:sp>
              </p:grpSp>
              <p:sp>
                <p:nvSpPr>
                  <p:cNvPr id="97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400" spc="-1" strike="noStrike">
                      <a:solidFill>
                        <a:srgbClr val="703dff"/>
                      </a:solidFill>
                      <a:latin typeface="Rage Italic"/>
                    </a:endParaRPr>
                  </a:p>
                </p:txBody>
              </p:sp>
              <p:sp>
                <p:nvSpPr>
                  <p:cNvPr id="98" name="Freeform 13"/>
                  <p:cNvSpPr/>
                  <p:nvPr/>
                </p:nvSpPr>
                <p:spPr>
                  <a:xfrm rot="16200000">
                    <a:off x="8757720" y="69120"/>
                    <a:ext cx="428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4400" spc="-1" strike="noStrike">
                      <a:solidFill>
                        <a:srgbClr val="703dff"/>
                      </a:solidFill>
                      <a:latin typeface="Rage Italic"/>
                    </a:endParaRPr>
                  </a:p>
                </p:txBody>
              </p:sp>
              <p:sp>
                <p:nvSpPr>
                  <p:cNvPr id="99" name="Freeform 14"/>
                  <p:cNvSpPr/>
                  <p:nvPr/>
                </p:nvSpPr>
                <p:spPr>
                  <a:xfrm rot="16200000">
                    <a:off x="8828640" y="5652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4400" spc="-1" strike="noStrike">
                      <a:solidFill>
                        <a:srgbClr val="703dff"/>
                      </a:solidFill>
                      <a:latin typeface="Rage Italic"/>
                    </a:endParaRPr>
                  </a:p>
                </p:txBody>
              </p:sp>
              <p:sp>
                <p:nvSpPr>
                  <p:cNvPr id="100" name="Freeform 15"/>
                  <p:cNvSpPr/>
                  <p:nvPr/>
                </p:nvSpPr>
                <p:spPr>
                  <a:xfrm rot="16200000">
                    <a:off x="8898120" y="10656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0" lang="en-US" sz="4400" spc="-1" strike="noStrike">
                      <a:solidFill>
                        <a:srgbClr val="703dff"/>
                      </a:solidFill>
                      <a:latin typeface="Rage Italic"/>
                    </a:endParaRPr>
                  </a:p>
                </p:txBody>
              </p:sp>
              <p:sp>
                <p:nvSpPr>
                  <p:cNvPr id="101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4400" spc="-1" strike="noStrike">
                      <a:solidFill>
                        <a:srgbClr val="703dff"/>
                      </a:solidFill>
                      <a:latin typeface="Rage Italic"/>
                    </a:endParaRPr>
                  </a:p>
                </p:txBody>
              </p:sp>
              <p:sp>
                <p:nvSpPr>
                  <p:cNvPr id="102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4400" spc="-1" strike="noStrike">
                      <a:solidFill>
                        <a:srgbClr val="703dff"/>
                      </a:solidFill>
                      <a:latin typeface="Rage Italic"/>
                    </a:endParaRPr>
                  </a:p>
                </p:txBody>
              </p:sp>
            </p:grpSp>
            <p:pic>
              <p:nvPicPr>
                <p:cNvPr id="103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4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5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6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7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8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9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0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11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12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0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1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31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703dff"/>
                </a:solidFill>
                <a:latin typeface="Rage Italic"/>
              </a:endParaRPr>
            </a:p>
          </p:txBody>
        </p:sp>
        <p:sp>
          <p:nvSpPr>
            <p:cNvPr id="132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703dff"/>
                </a:solidFill>
                <a:latin typeface="Rage Italic"/>
              </a:endParaRPr>
            </a:p>
          </p:txBody>
        </p:sp>
        <p:sp>
          <p:nvSpPr>
            <p:cNvPr id="133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703dff"/>
                </a:solidFill>
                <a:latin typeface="Rage Italic"/>
              </a:endParaRPr>
            </a:p>
          </p:txBody>
        </p:sp>
        <p:sp>
          <p:nvSpPr>
            <p:cNvPr id="134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703dff"/>
                </a:solidFill>
                <a:latin typeface="Rage Italic"/>
              </a:endParaRPr>
            </a:p>
          </p:txBody>
        </p:sp>
        <p:sp>
          <p:nvSpPr>
            <p:cNvPr id="135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703dff"/>
                </a:solidFill>
                <a:latin typeface="Rage Italic"/>
              </a:endParaRPr>
            </a:p>
          </p:txBody>
        </p:sp>
        <p:sp>
          <p:nvSpPr>
            <p:cNvPr id="136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703dff"/>
                </a:solidFill>
                <a:latin typeface="Rage Italic"/>
              </a:endParaRPr>
            </a:p>
          </p:txBody>
        </p:sp>
        <p:sp>
          <p:nvSpPr>
            <p:cNvPr id="137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703dff"/>
                </a:solidFill>
                <a:latin typeface="Rage Italic"/>
              </a:endParaRPr>
            </a:p>
          </p:txBody>
        </p:sp>
        <p:sp>
          <p:nvSpPr>
            <p:cNvPr id="138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703dff"/>
                </a:solidFill>
                <a:latin typeface="Rage Italic"/>
              </a:endParaRPr>
            </a:p>
          </p:txBody>
        </p:sp>
        <p:sp>
          <p:nvSpPr>
            <p:cNvPr id="139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703dff"/>
                </a:solidFill>
                <a:latin typeface="Rage Italic"/>
              </a:endParaRPr>
            </a:p>
          </p:txBody>
        </p:sp>
        <p:sp>
          <p:nvSpPr>
            <p:cNvPr id="140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703dff"/>
                </a:solidFill>
                <a:latin typeface="Rage Italic"/>
              </a:endParaRPr>
            </a:p>
          </p:txBody>
        </p:sp>
        <p:sp>
          <p:nvSpPr>
            <p:cNvPr id="141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4400" spc="-1" strike="noStrike">
                <a:solidFill>
                  <a:srgbClr val="703dff"/>
                </a:solidFill>
                <a:latin typeface="Rage Italic"/>
              </a:endParaRPr>
            </a:p>
          </p:txBody>
        </p:sp>
      </p:grp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dff"/>
              </a:solidFill>
              <a:latin typeface="Rage Italic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dff"/>
              </a:solidFill>
              <a:latin typeface="Rage Italic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59843-ACE5-4EDE-87F2-A4519FA6CE0F}" type="slidenum">
              <a:rPr b="0" lang="ru-RU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703dff"/>
              </a:solidFill>
              <a:latin typeface="Rage Italic"/>
            </a:endParaRPr>
          </a:p>
        </p:txBody>
      </p:sp>
      <p:grpSp>
        <p:nvGrpSpPr>
          <p:cNvPr id="184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85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703dff"/>
                </a:solidFill>
                <a:latin typeface="Rage Italic"/>
              </a:endParaRPr>
            </a:p>
          </p:txBody>
        </p:sp>
        <p:sp>
          <p:nvSpPr>
            <p:cNvPr id="186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703dff"/>
                </a:solidFill>
                <a:latin typeface="Rage Italic"/>
              </a:endParaRPr>
            </a:p>
          </p:txBody>
        </p:sp>
        <p:sp>
          <p:nvSpPr>
            <p:cNvPr id="187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703dff"/>
                </a:solidFill>
                <a:latin typeface="Rage Italic"/>
              </a:endParaRPr>
            </a:p>
          </p:txBody>
        </p:sp>
        <p:grpSp>
          <p:nvGrpSpPr>
            <p:cNvPr id="188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89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703dff"/>
                  </a:solidFill>
                  <a:latin typeface="Rage Italic"/>
                </a:endParaRPr>
              </a:p>
            </p:txBody>
          </p:sp>
          <p:sp>
            <p:nvSpPr>
              <p:cNvPr id="190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703dff"/>
                  </a:solidFill>
                  <a:latin typeface="Rage Italic"/>
                </a:endParaRPr>
              </a:p>
            </p:txBody>
          </p:sp>
          <p:sp>
            <p:nvSpPr>
              <p:cNvPr id="191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703dff"/>
                  </a:solidFill>
                  <a:latin typeface="Rage Italic"/>
                </a:endParaRPr>
              </a:p>
            </p:txBody>
          </p:sp>
          <p:sp>
            <p:nvSpPr>
              <p:cNvPr id="192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703dff"/>
                  </a:solidFill>
                  <a:latin typeface="Rage Italic"/>
                </a:endParaRPr>
              </a:p>
            </p:txBody>
          </p:sp>
          <p:sp>
            <p:nvSpPr>
              <p:cNvPr id="193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703dff"/>
                  </a:solidFill>
                  <a:latin typeface="Rage Italic"/>
                </a:endParaRPr>
              </a:p>
            </p:txBody>
          </p:sp>
        </p:grpSp>
      </p:grpSp>
      <p:grpSp>
        <p:nvGrpSpPr>
          <p:cNvPr id="194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195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703dff"/>
                </a:solidFill>
                <a:latin typeface="Rage Italic"/>
              </a:endParaRPr>
            </a:p>
          </p:txBody>
        </p:sp>
        <p:sp>
          <p:nvSpPr>
            <p:cNvPr id="196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703dff"/>
                </a:solidFill>
                <a:latin typeface="Rage Italic"/>
              </a:endParaRPr>
            </a:p>
          </p:txBody>
        </p:sp>
        <p:sp>
          <p:nvSpPr>
            <p:cNvPr id="197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703dff"/>
                </a:solidFill>
                <a:latin typeface="Rage Italic"/>
              </a:endParaRPr>
            </a:p>
          </p:txBody>
        </p:sp>
        <p:grpSp>
          <p:nvGrpSpPr>
            <p:cNvPr id="198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99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703dff"/>
                  </a:solidFill>
                  <a:latin typeface="Rage Italic"/>
                </a:endParaRPr>
              </a:p>
            </p:txBody>
          </p:sp>
          <p:sp>
            <p:nvSpPr>
              <p:cNvPr id="200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703dff"/>
                  </a:solidFill>
                  <a:latin typeface="Rage Italic"/>
                </a:endParaRPr>
              </a:p>
            </p:txBody>
          </p:sp>
          <p:sp>
            <p:nvSpPr>
              <p:cNvPr id="201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703dff"/>
                  </a:solidFill>
                  <a:latin typeface="Rage Italic"/>
                </a:endParaRPr>
              </a:p>
            </p:txBody>
          </p:sp>
          <p:sp>
            <p:nvSpPr>
              <p:cNvPr id="202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703dff"/>
                  </a:solidFill>
                  <a:latin typeface="Rage Italic"/>
                </a:endParaRPr>
              </a:p>
            </p:txBody>
          </p:sp>
          <p:sp>
            <p:nvSpPr>
              <p:cNvPr id="203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703dff"/>
                  </a:solidFill>
                  <a:latin typeface="Rage Italic"/>
                </a:endParaRPr>
              </a:p>
            </p:txBody>
          </p:sp>
        </p:grpSp>
      </p:grpSp>
      <p:sp>
        <p:nvSpPr>
          <p:cNvPr id="204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703dff"/>
              </a:solidFill>
              <a:latin typeface="Rage Italic"/>
            </a:endParaRPr>
          </a:p>
        </p:txBody>
      </p:sp>
      <p:sp>
        <p:nvSpPr>
          <p:cNvPr id="205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703dff"/>
              </a:solidFill>
              <a:latin typeface="Rage Italic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dff"/>
              </a:solidFill>
              <a:latin typeface="Rage Italic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dff"/>
              </a:solidFill>
              <a:latin typeface="Rage Italic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CC468-D78D-40A7-9E65-7383ED078329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Group 2"/>
          <p:cNvGrpSpPr/>
          <p:nvPr/>
        </p:nvGrpSpPr>
        <p:grpSpPr>
          <a:xfrm>
            <a:off x="0" y="-360"/>
            <a:ext cx="9159840" cy="6870960"/>
            <a:chOff x="0" y="-360"/>
            <a:chExt cx="9159840" cy="6870960"/>
          </a:xfrm>
        </p:grpSpPr>
        <p:sp>
          <p:nvSpPr>
            <p:cNvPr id="248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703dff"/>
                </a:solidFill>
                <a:latin typeface="Rage Italic"/>
              </a:endParaRPr>
            </a:p>
          </p:txBody>
        </p:sp>
        <p:sp>
          <p:nvSpPr>
            <p:cNvPr id="249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703dff"/>
                </a:solidFill>
                <a:latin typeface="Rage Italic"/>
              </a:endParaRPr>
            </a:p>
          </p:txBody>
        </p:sp>
        <p:sp>
          <p:nvSpPr>
            <p:cNvPr id="250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703dff"/>
                </a:solidFill>
                <a:latin typeface="Rage Italic"/>
              </a:endParaRPr>
            </a:p>
          </p:txBody>
        </p:sp>
        <p:grpSp>
          <p:nvGrpSpPr>
            <p:cNvPr id="251" name="Group 6"/>
            <p:cNvGrpSpPr/>
            <p:nvPr/>
          </p:nvGrpSpPr>
          <p:grpSpPr>
            <a:xfrm>
              <a:off x="7848720" y="-360"/>
              <a:ext cx="1295280" cy="6310800"/>
              <a:chOff x="7848720" y="-360"/>
              <a:chExt cx="1295280" cy="6310800"/>
            </a:xfrm>
          </p:grpSpPr>
          <p:grpSp>
            <p:nvGrpSpPr>
              <p:cNvPr id="252" name="Group 7"/>
              <p:cNvGrpSpPr/>
              <p:nvPr/>
            </p:nvGrpSpPr>
            <p:grpSpPr>
              <a:xfrm>
                <a:off x="8381880" y="-360"/>
                <a:ext cx="762120" cy="2271960"/>
                <a:chOff x="8381880" y="-360"/>
                <a:chExt cx="762120" cy="2271960"/>
              </a:xfrm>
            </p:grpSpPr>
            <p:grpSp>
              <p:nvGrpSpPr>
                <p:cNvPr id="253" name="Group 8"/>
                <p:cNvGrpSpPr/>
                <p:nvPr/>
              </p:nvGrpSpPr>
              <p:grpSpPr>
                <a:xfrm>
                  <a:off x="8707320" y="-360"/>
                  <a:ext cx="279360" cy="276120"/>
                  <a:chOff x="8707320" y="-360"/>
                  <a:chExt cx="279360" cy="276120"/>
                </a:xfrm>
              </p:grpSpPr>
              <p:grpSp>
                <p:nvGrpSpPr>
                  <p:cNvPr id="254" name="Group 9"/>
                  <p:cNvGrpSpPr/>
                  <p:nvPr/>
                </p:nvGrpSpPr>
                <p:grpSpPr>
                  <a:xfrm>
                    <a:off x="8707320" y="-360"/>
                    <a:ext cx="279360" cy="276120"/>
                    <a:chOff x="8707320" y="-360"/>
                    <a:chExt cx="279360" cy="276120"/>
                  </a:xfrm>
                </p:grpSpPr>
                <p:sp>
                  <p:nvSpPr>
                    <p:cNvPr id="255" name="Freeform 10"/>
                    <p:cNvSpPr/>
                    <p:nvPr/>
                  </p:nvSpPr>
                  <p:spPr>
                    <a:xfrm rot="16200000">
                      <a:off x="8746200" y="-39240"/>
                      <a:ext cx="20160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p:txBody>
                </p:sp>
                <p:sp>
                  <p:nvSpPr>
                    <p:cNvPr id="256" name="Freeform 11"/>
                    <p:cNvSpPr/>
                    <p:nvPr/>
                  </p:nvSpPr>
                  <p:spPr>
                    <a:xfrm rot="16200000">
                      <a:off x="8755560" y="92520"/>
                      <a:ext cx="14112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p:txBody>
                </p:sp>
              </p:grpSp>
              <p:sp>
                <p:nvSpPr>
                  <p:cNvPr id="257" name="Oval 12"/>
                  <p:cNvSpPr/>
                  <p:nvPr/>
                </p:nvSpPr>
                <p:spPr>
                  <a:xfrm rot="16200000">
                    <a:off x="882684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400" spc="-1" strike="noStrike">
                      <a:solidFill>
                        <a:srgbClr val="703dff"/>
                      </a:solidFill>
                      <a:latin typeface="Rage Italic"/>
                    </a:endParaRPr>
                  </a:p>
                </p:txBody>
              </p:sp>
              <p:sp>
                <p:nvSpPr>
                  <p:cNvPr id="258" name="Freeform 13"/>
                  <p:cNvSpPr/>
                  <p:nvPr/>
                </p:nvSpPr>
                <p:spPr>
                  <a:xfrm rot="16200000">
                    <a:off x="8760600" y="68400"/>
                    <a:ext cx="428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4400" spc="-1" strike="noStrike">
                      <a:solidFill>
                        <a:srgbClr val="703dff"/>
                      </a:solidFill>
                      <a:latin typeface="Rage Italic"/>
                    </a:endParaRPr>
                  </a:p>
                </p:txBody>
              </p:sp>
              <p:sp>
                <p:nvSpPr>
                  <p:cNvPr id="259" name="Freeform 14"/>
                  <p:cNvSpPr/>
                  <p:nvPr/>
                </p:nvSpPr>
                <p:spPr>
                  <a:xfrm rot="16200000">
                    <a:off x="8831520" y="5580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4400" spc="-1" strike="noStrike">
                      <a:solidFill>
                        <a:srgbClr val="703dff"/>
                      </a:solidFill>
                      <a:latin typeface="Rage Italic"/>
                    </a:endParaRPr>
                  </a:p>
                </p:txBody>
              </p:sp>
              <p:sp>
                <p:nvSpPr>
                  <p:cNvPr id="260" name="Freeform 15"/>
                  <p:cNvSpPr/>
                  <p:nvPr/>
                </p:nvSpPr>
                <p:spPr>
                  <a:xfrm rot="16200000">
                    <a:off x="8901000" y="10584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0" lang="en-US" sz="4400" spc="-1" strike="noStrike">
                      <a:solidFill>
                        <a:srgbClr val="703dff"/>
                      </a:solidFill>
                      <a:latin typeface="Rage Italic"/>
                    </a:endParaRPr>
                  </a:p>
                </p:txBody>
              </p:sp>
              <p:sp>
                <p:nvSpPr>
                  <p:cNvPr id="261" name="Freeform 16"/>
                  <p:cNvSpPr/>
                  <p:nvPr/>
                </p:nvSpPr>
                <p:spPr>
                  <a:xfrm rot="16200000">
                    <a:off x="8826840" y="19116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4400" spc="-1" strike="noStrike">
                      <a:solidFill>
                        <a:srgbClr val="703dff"/>
                      </a:solidFill>
                      <a:latin typeface="Rage Italic"/>
                    </a:endParaRPr>
                  </a:p>
                </p:txBody>
              </p:sp>
              <p:sp>
                <p:nvSpPr>
                  <p:cNvPr id="262" name="Freeform 17"/>
                  <p:cNvSpPr/>
                  <p:nvPr/>
                </p:nvSpPr>
                <p:spPr>
                  <a:xfrm rot="16200000">
                    <a:off x="8775360" y="16632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4400" spc="-1" strike="noStrike">
                      <a:solidFill>
                        <a:srgbClr val="703dff"/>
                      </a:solidFill>
                      <a:latin typeface="Rage Italic"/>
                    </a:endParaRPr>
                  </a:p>
                </p:txBody>
              </p:sp>
            </p:grpSp>
            <p:pic>
              <p:nvPicPr>
                <p:cNvPr id="263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4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5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6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7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8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9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0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71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72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3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4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5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6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7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8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9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0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1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2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3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4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5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6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7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8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9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0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291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703dff"/>
                </a:solidFill>
                <a:latin typeface="Rage Italic"/>
              </a:endParaRPr>
            </a:p>
          </p:txBody>
        </p:sp>
        <p:sp>
          <p:nvSpPr>
            <p:cNvPr id="292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703dff"/>
                </a:solidFill>
                <a:latin typeface="Rage Italic"/>
              </a:endParaRPr>
            </a:p>
          </p:txBody>
        </p:sp>
        <p:sp>
          <p:nvSpPr>
            <p:cNvPr id="293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703dff"/>
                </a:solidFill>
                <a:latin typeface="Rage Italic"/>
              </a:endParaRPr>
            </a:p>
          </p:txBody>
        </p:sp>
        <p:sp>
          <p:nvSpPr>
            <p:cNvPr id="294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703dff"/>
                </a:solidFill>
                <a:latin typeface="Rage Italic"/>
              </a:endParaRPr>
            </a:p>
          </p:txBody>
        </p:sp>
        <p:sp>
          <p:nvSpPr>
            <p:cNvPr id="295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703dff"/>
                </a:solidFill>
                <a:latin typeface="Rage Italic"/>
              </a:endParaRPr>
            </a:p>
          </p:txBody>
        </p:sp>
        <p:sp>
          <p:nvSpPr>
            <p:cNvPr id="296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703dff"/>
                </a:solidFill>
                <a:latin typeface="Rage Italic"/>
              </a:endParaRPr>
            </a:p>
          </p:txBody>
        </p:sp>
        <p:sp>
          <p:nvSpPr>
            <p:cNvPr id="297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703dff"/>
                </a:solidFill>
                <a:latin typeface="Rage Italic"/>
              </a:endParaRPr>
            </a:p>
          </p:txBody>
        </p:sp>
        <p:sp>
          <p:nvSpPr>
            <p:cNvPr id="298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703dff"/>
                </a:solidFill>
                <a:latin typeface="Rage Italic"/>
              </a:endParaRPr>
            </a:p>
          </p:txBody>
        </p:sp>
        <p:sp>
          <p:nvSpPr>
            <p:cNvPr id="299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703dff"/>
                </a:solidFill>
                <a:latin typeface="Rage Italic"/>
              </a:endParaRPr>
            </a:p>
          </p:txBody>
        </p:sp>
        <p:sp>
          <p:nvSpPr>
            <p:cNvPr id="300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703dff"/>
                </a:solidFill>
                <a:latin typeface="Rage Italic"/>
              </a:endParaRPr>
            </a:p>
          </p:txBody>
        </p:sp>
        <p:sp>
          <p:nvSpPr>
            <p:cNvPr id="301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4400" spc="-1" strike="noStrike">
                <a:solidFill>
                  <a:srgbClr val="703dff"/>
                </a:solidFill>
                <a:latin typeface="Rage Italic"/>
              </a:endParaRPr>
            </a:p>
          </p:txBody>
        </p:sp>
      </p:grp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10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dff"/>
              </a:solidFill>
              <a:latin typeface="Rage Italic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11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dff"/>
              </a:solidFill>
              <a:latin typeface="Rage Italic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12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B142D-3DEB-4AD4-9984-D86D3355D4B3}" type="slidenum">
              <a:rPr b="0" lang="ru-RU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4"/>
    <p:sldLayoutId id="2147483689" r:id="rId35"/>
    <p:sldLayoutId id="2147483690" r:id="rId36"/>
    <p:sldLayoutId id="2147483691" r:id="rId37"/>
    <p:sldLayoutId id="2147483692" r:id="rId38"/>
    <p:sldLayoutId id="2147483693" r:id="rId39"/>
    <p:sldLayoutId id="2147483694" r:id="rId40"/>
    <p:sldLayoutId id="2147483695" r:id="rId41"/>
    <p:sldLayoutId id="2147483696" r:id="rId42"/>
    <p:sldLayoutId id="2147483697" r:id="rId43"/>
    <p:sldLayoutId id="2147483698" r:id="rId44"/>
    <p:sldLayoutId id="2147483699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Иррациональные уравнения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«Урок-дискуссия»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Алгоритм решения уравнений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Решение иррациональных уравнений </a:t>
            </a:r>
            <a:r>
              <a:rPr b="0" lang="ru-RU" sz="1800" spc="-1" strike="noStrike">
                <a:solidFill>
                  <a:srgbClr val="6600ff"/>
                </a:solidFill>
                <a:latin typeface="Comic Sans MS"/>
              </a:rPr>
              <a:t>сводится</a:t>
            </a: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к переходу от иррационального к рациональному уравнению путем возведения в степень обеих частей уравнения или замены переменной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ри возведении обеих частей в четную степень возможно появление </a:t>
            </a:r>
            <a:r>
              <a:rPr b="0" lang="ru-RU" sz="1800" spc="-1" strike="noStrike">
                <a:solidFill>
                  <a:srgbClr val="6600ff"/>
                </a:solidFill>
                <a:latin typeface="Comic Sans MS"/>
              </a:rPr>
              <a:t>посторонних корней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. Поэтому при использовании указанного метода следует </a:t>
            </a:r>
            <a:r>
              <a:rPr b="0" lang="ru-RU" sz="1800" spc="-1" strike="noStrike">
                <a:solidFill>
                  <a:srgbClr val="6600ff"/>
                </a:solidFill>
                <a:latin typeface="Comic Sans MS"/>
              </a:rPr>
              <a:t>проверить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все найденные корни подстановкой в исходное уравнение.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Иногда удобнее решать иррациональные уравнения, область допустимых </a:t>
            </a:r>
            <a:r>
              <a:rPr b="0" lang="ru-RU" sz="1800" spc="-1" strike="noStrike">
                <a:solidFill>
                  <a:srgbClr val="6600ff"/>
                </a:solidFill>
                <a:latin typeface="Comic Sans MS"/>
              </a:rPr>
              <a:t>значений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неизвестного и используя  равносильные переходы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ⁿ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√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ƒ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x)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 х )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b800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1800" spc="-1" strike="noStrike">
                <a:solidFill>
                  <a:srgbClr val="ffb800"/>
                </a:solidFill>
                <a:latin typeface="Times New Roman"/>
                <a:ea typeface="Times New Roman"/>
              </a:rPr>
              <a:t>{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ƒ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ⁿ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x)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х ) </a:t>
            </a:r>
            <a:r>
              <a:rPr b="0" lang="ru-RU" sz="1800" spc="-1" strike="noStrike">
                <a:solidFill>
                  <a:srgbClr val="000000"/>
                </a:solidFill>
                <a:latin typeface="OCR A Extended"/>
                <a:ea typeface="Times New Roman"/>
              </a:rPr>
              <a:t>≥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" name="Line 14"/>
          <p:cNvSpPr/>
          <p:nvPr/>
        </p:nvSpPr>
        <p:spPr>
          <a:xfrm>
            <a:off x="1476360" y="5013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703dff"/>
              </a:solidFill>
              <a:latin typeface="Rage Italic"/>
            </a:endParaRPr>
          </a:p>
        </p:txBody>
      </p:sp>
      <p:sp>
        <p:nvSpPr>
          <p:cNvPr id="386" name="Line 16"/>
          <p:cNvSpPr/>
          <p:nvPr/>
        </p:nvSpPr>
        <p:spPr>
          <a:xfrm>
            <a:off x="1476360" y="5013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703dff"/>
              </a:solidFill>
              <a:latin typeface="Rage Italic"/>
            </a:endParaRPr>
          </a:p>
        </p:txBody>
      </p:sp>
      <p:sp>
        <p:nvSpPr>
          <p:cNvPr id="387" name="Line 20"/>
          <p:cNvSpPr/>
          <p:nvPr/>
        </p:nvSpPr>
        <p:spPr>
          <a:xfrm>
            <a:off x="1547640" y="4437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703dff"/>
              </a:solidFill>
              <a:latin typeface="Rage Italic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5. Закрепление изученного материала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Является ли число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x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орнем уравнения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а)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√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х – 2 =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√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2 – х , х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= 4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б)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√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2 – х =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√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х – 2, х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= 2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)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√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х – 5 =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√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2х – 13, х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= 6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г)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√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1 – х =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√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1 + х, х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= 0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Line 4"/>
          <p:cNvSpPr/>
          <p:nvPr/>
        </p:nvSpPr>
        <p:spPr>
          <a:xfrm>
            <a:off x="1692360" y="299736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703dff"/>
              </a:solidFill>
              <a:latin typeface="Rage Italic"/>
            </a:endParaRPr>
          </a:p>
        </p:txBody>
      </p:sp>
      <p:sp>
        <p:nvSpPr>
          <p:cNvPr id="391" name="Line 5"/>
          <p:cNvSpPr/>
          <p:nvPr/>
        </p:nvSpPr>
        <p:spPr>
          <a:xfrm>
            <a:off x="3419640" y="299736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703dff"/>
              </a:solidFill>
              <a:latin typeface="Rage Italic"/>
            </a:endParaRPr>
          </a:p>
        </p:txBody>
      </p:sp>
      <p:sp>
        <p:nvSpPr>
          <p:cNvPr id="392" name="Line 7"/>
          <p:cNvSpPr/>
          <p:nvPr/>
        </p:nvSpPr>
        <p:spPr>
          <a:xfrm>
            <a:off x="1835280" y="357336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703dff"/>
              </a:solidFill>
              <a:latin typeface="Rage Italic"/>
            </a:endParaRPr>
          </a:p>
        </p:txBody>
      </p:sp>
      <p:sp>
        <p:nvSpPr>
          <p:cNvPr id="393" name="Line 8"/>
          <p:cNvSpPr/>
          <p:nvPr/>
        </p:nvSpPr>
        <p:spPr>
          <a:xfrm>
            <a:off x="3419640" y="3573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703dff"/>
              </a:solidFill>
              <a:latin typeface="Rage Italic"/>
            </a:endParaRPr>
          </a:p>
        </p:txBody>
      </p:sp>
      <p:sp>
        <p:nvSpPr>
          <p:cNvPr id="394" name="Line 9"/>
          <p:cNvSpPr/>
          <p:nvPr/>
        </p:nvSpPr>
        <p:spPr>
          <a:xfrm>
            <a:off x="1692360" y="4149720"/>
            <a:ext cx="107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703dff"/>
              </a:solidFill>
              <a:latin typeface="Rage Italic"/>
            </a:endParaRPr>
          </a:p>
        </p:txBody>
      </p:sp>
      <p:sp>
        <p:nvSpPr>
          <p:cNvPr id="395" name="Line 10"/>
          <p:cNvSpPr/>
          <p:nvPr/>
        </p:nvSpPr>
        <p:spPr>
          <a:xfrm>
            <a:off x="3419640" y="4149720"/>
            <a:ext cx="158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703dff"/>
              </a:solidFill>
              <a:latin typeface="Rage Italic"/>
            </a:endParaRPr>
          </a:p>
        </p:txBody>
      </p:sp>
      <p:sp>
        <p:nvSpPr>
          <p:cNvPr id="396" name="Line 11"/>
          <p:cNvSpPr/>
          <p:nvPr/>
        </p:nvSpPr>
        <p:spPr>
          <a:xfrm>
            <a:off x="1692360" y="472428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703dff"/>
              </a:solidFill>
              <a:latin typeface="Rage Italic"/>
            </a:endParaRPr>
          </a:p>
        </p:txBody>
      </p:sp>
      <p:sp>
        <p:nvSpPr>
          <p:cNvPr id="397" name="Line 12"/>
          <p:cNvSpPr/>
          <p:nvPr/>
        </p:nvSpPr>
        <p:spPr>
          <a:xfrm>
            <a:off x="3348000" y="472428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703dff"/>
              </a:solidFill>
              <a:latin typeface="Rage Italic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57160" y="335736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Решим уравнение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499680"/>
            <a:ext cx="769608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√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х + 2 = х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Решение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х + 2 = х</a:t>
            </a:r>
            <a:r>
              <a:rPr b="0" lang="ru-RU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х</a:t>
            </a:r>
            <a:r>
              <a:rPr b="0" lang="ru-RU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– х – 2 = 0                  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х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=       и х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=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оверка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и х = 2,     2=2, верно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и х = -1,     1= -1, ложно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Ответ:    х = 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0" name="Oval 4"/>
          <p:cNvSpPr/>
          <p:nvPr/>
        </p:nvSpPr>
        <p:spPr>
          <a:xfrm>
            <a:off x="1428840" y="1714680"/>
            <a:ext cx="431640" cy="358560"/>
          </a:xfrm>
          <a:prstGeom prst="ellipse">
            <a:avLst/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ff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703dff"/>
              </a:solidFill>
              <a:latin typeface="Rage Italic"/>
            </a:endParaRPr>
          </a:p>
        </p:txBody>
      </p:sp>
      <p:sp>
        <p:nvSpPr>
          <p:cNvPr id="401" name="Oval 7"/>
          <p:cNvSpPr/>
          <p:nvPr/>
        </p:nvSpPr>
        <p:spPr>
          <a:xfrm>
            <a:off x="2714760" y="1714680"/>
            <a:ext cx="431640" cy="360360"/>
          </a:xfrm>
          <a:prstGeom prst="ellipse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-1</a:t>
            </a:r>
            <a:endParaRPr b="0" lang="en-US" sz="1800" spc="-1" strike="noStrike">
              <a:solidFill>
                <a:srgbClr val="703dff"/>
              </a:solidFill>
              <a:latin typeface="Rage Italic"/>
            </a:endParaRPr>
          </a:p>
        </p:txBody>
      </p:sp>
      <p:sp>
        <p:nvSpPr>
          <p:cNvPr id="402" name="Line 11"/>
          <p:cNvSpPr/>
          <p:nvPr/>
        </p:nvSpPr>
        <p:spPr>
          <a:xfrm>
            <a:off x="1000080" y="50004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703dff"/>
              </a:solidFill>
              <a:latin typeface="Rage Italic"/>
            </a:endParaRPr>
          </a:p>
        </p:txBody>
      </p:sp>
      <p:sp>
        <p:nvSpPr>
          <p:cNvPr id="403" name="Line 13"/>
          <p:cNvSpPr/>
          <p:nvPr/>
        </p:nvSpPr>
        <p:spPr>
          <a:xfrm flipH="1" flipV="1">
            <a:off x="1213920" y="713880"/>
            <a:ext cx="1581480" cy="108756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703dff"/>
              </a:solidFill>
              <a:latin typeface="Rage Italic"/>
            </a:endParaRPr>
          </a:p>
        </p:txBody>
      </p:sp>
      <p:sp>
        <p:nvSpPr>
          <p:cNvPr id="404" name="Line 15"/>
          <p:cNvSpPr/>
          <p:nvPr/>
        </p:nvSpPr>
        <p:spPr>
          <a:xfrm flipH="1" flipV="1">
            <a:off x="1142640" y="713880"/>
            <a:ext cx="500040" cy="1071720"/>
          </a:xfrm>
          <a:prstGeom prst="line">
            <a:avLst/>
          </a:prstGeom>
          <a:ln w="9360">
            <a:solidFill>
              <a:srgbClr val="ff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703dff"/>
              </a:solidFill>
              <a:latin typeface="Rage Italic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94920" y="1155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Решим  уравнение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√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2х – 3 =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√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х - 2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7" name="Line 4"/>
          <p:cNvSpPr/>
          <p:nvPr/>
        </p:nvSpPr>
        <p:spPr>
          <a:xfrm>
            <a:off x="1332000" y="191628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703dff"/>
              </a:solidFill>
              <a:latin typeface="Rage Italic"/>
            </a:endParaRPr>
          </a:p>
        </p:txBody>
      </p:sp>
      <p:sp>
        <p:nvSpPr>
          <p:cNvPr id="408" name="Line 5"/>
          <p:cNvSpPr/>
          <p:nvPr/>
        </p:nvSpPr>
        <p:spPr>
          <a:xfrm>
            <a:off x="3203640" y="191628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703dff"/>
              </a:solidFill>
              <a:latin typeface="Rage Italic"/>
            </a:endParaRPr>
          </a:p>
        </p:txBody>
      </p:sp>
    </p:spTree>
  </p:cSld>
  <p:transition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Решени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озведем  обе  части уравнения в квадрат, получим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2х -3 = х -2 ,   х = 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роверка: 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√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2•1 – 3 =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√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1 – 2,обе части  уравнения не имеют смысл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Ответ: корней  не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1" name="Line 5"/>
          <p:cNvSpPr/>
          <p:nvPr/>
        </p:nvSpPr>
        <p:spPr>
          <a:xfrm>
            <a:off x="1332000" y="378936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703dff"/>
              </a:solidFill>
              <a:latin typeface="Rage Italic"/>
            </a:endParaRPr>
          </a:p>
        </p:txBody>
      </p:sp>
      <p:sp>
        <p:nvSpPr>
          <p:cNvPr id="412" name="Line 6"/>
          <p:cNvSpPr/>
          <p:nvPr/>
        </p:nvSpPr>
        <p:spPr>
          <a:xfrm flipV="1">
            <a:off x="3708360" y="400536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4400" spc="-1" strike="noStrike">
              <a:solidFill>
                <a:srgbClr val="703dff"/>
              </a:solidFill>
              <a:latin typeface="Rage Italic"/>
            </a:endParaRPr>
          </a:p>
        </p:txBody>
      </p:sp>
      <p:sp>
        <p:nvSpPr>
          <p:cNvPr id="413" name="Line 8"/>
          <p:cNvSpPr/>
          <p:nvPr/>
        </p:nvSpPr>
        <p:spPr>
          <a:xfrm>
            <a:off x="3348000" y="378936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703dff"/>
              </a:solidFill>
              <a:latin typeface="Rage Italic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35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898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898" fill="hold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898" fill="hold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898" fill="hold"/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История  неразумных чисел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История иррациональных чисел относится к удивительному открытию пифагорийцев. А началось это с простого вопроса, связанного с вычислением диагонали квадрата, сторона которого равна 1. \ подробно расскажет Катя П.\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ыполняем самостоятельно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899 (а, б ,в)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900 (а, б ,в)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( б ) проверяем по решению на доске.* 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6. Задание на дом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№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900 ( г, д, е )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№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901 ( а, г 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тр. 265 \ теория \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7. Подведение итогов урока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713880" y="200016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Ф. И. Учащегося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*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домашнее задание  Сам.    Учитель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*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устная работа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*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новая работа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Ю.Н. Макарычев   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5372280" y="1828800"/>
          <a:ext cx="3771720" cy="6218280"/>
        </p:xfrm>
        <a:graphic>
          <a:graphicData uri="http://schemas.openxmlformats.org/drawingml/2006/table">
            <a:tbl>
              <a:tblPr/>
              <a:tblGrid>
                <a:gridCol w="537840"/>
                <a:gridCol w="540000"/>
                <a:gridCol w="538200"/>
                <a:gridCol w="539640"/>
                <a:gridCol w="538200"/>
                <a:gridCol w="539640"/>
                <a:gridCol w="538200"/>
              </a:tblGrid>
              <a:tr h="51840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21" name=""/>
          <p:cNvGraphicFramePr/>
          <p:nvPr/>
        </p:nvGraphicFramePr>
        <p:xfrm>
          <a:off x="5372280" y="3733920"/>
          <a:ext cx="3771720" cy="6218280"/>
        </p:xfrm>
        <a:graphic>
          <a:graphicData uri="http://schemas.openxmlformats.org/drawingml/2006/table">
            <a:tbl>
              <a:tblPr/>
              <a:tblGrid>
                <a:gridCol w="537840"/>
                <a:gridCol w="540000"/>
                <a:gridCol w="538200"/>
                <a:gridCol w="539640"/>
                <a:gridCol w="538200"/>
                <a:gridCol w="539640"/>
                <a:gridCol w="538200"/>
              </a:tblGrid>
              <a:tr h="51840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2" name="Line 574"/>
          <p:cNvSpPr/>
          <p:nvPr/>
        </p:nvSpPr>
        <p:spPr>
          <a:xfrm>
            <a:off x="755640" y="2492280"/>
            <a:ext cx="0" cy="17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703dff"/>
              </a:solidFill>
              <a:latin typeface="Rage Italic"/>
            </a:endParaRPr>
          </a:p>
        </p:txBody>
      </p:sp>
      <p:sp>
        <p:nvSpPr>
          <p:cNvPr id="423" name="Line 575"/>
          <p:cNvSpPr/>
          <p:nvPr/>
        </p:nvSpPr>
        <p:spPr>
          <a:xfrm>
            <a:off x="755640" y="2492280"/>
            <a:ext cx="756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703dff"/>
              </a:solidFill>
              <a:latin typeface="Rage Italic"/>
            </a:endParaRPr>
          </a:p>
        </p:txBody>
      </p:sp>
      <p:sp>
        <p:nvSpPr>
          <p:cNvPr id="424" name="Line 576"/>
          <p:cNvSpPr/>
          <p:nvPr/>
        </p:nvSpPr>
        <p:spPr>
          <a:xfrm>
            <a:off x="8317080" y="2492280"/>
            <a:ext cx="0" cy="180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703dff"/>
              </a:solidFill>
              <a:latin typeface="Rage Italic"/>
            </a:endParaRPr>
          </a:p>
        </p:txBody>
      </p:sp>
      <p:sp>
        <p:nvSpPr>
          <p:cNvPr id="425" name="Line 577"/>
          <p:cNvSpPr/>
          <p:nvPr/>
        </p:nvSpPr>
        <p:spPr>
          <a:xfrm flipH="1">
            <a:off x="755640" y="4292640"/>
            <a:ext cx="756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703dff"/>
              </a:solidFill>
              <a:latin typeface="Rage Italic"/>
            </a:endParaRPr>
          </a:p>
        </p:txBody>
      </p:sp>
      <p:sp>
        <p:nvSpPr>
          <p:cNvPr id="426" name="Line 578"/>
          <p:cNvSpPr/>
          <p:nvPr/>
        </p:nvSpPr>
        <p:spPr>
          <a:xfrm flipV="1">
            <a:off x="755640" y="422064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4400" spc="-1" strike="noStrike">
              <a:solidFill>
                <a:srgbClr val="703dff"/>
              </a:solidFill>
              <a:latin typeface="Rage Italic"/>
            </a:endParaRPr>
          </a:p>
        </p:txBody>
      </p:sp>
      <p:sp>
        <p:nvSpPr>
          <p:cNvPr id="427" name="Line 579"/>
          <p:cNvSpPr/>
          <p:nvPr/>
        </p:nvSpPr>
        <p:spPr>
          <a:xfrm>
            <a:off x="5003640" y="2492280"/>
            <a:ext cx="0" cy="180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703dff"/>
              </a:solidFill>
              <a:latin typeface="Rage Italic"/>
            </a:endParaRPr>
          </a:p>
        </p:txBody>
      </p:sp>
      <p:sp>
        <p:nvSpPr>
          <p:cNvPr id="428" name="Line 580"/>
          <p:cNvSpPr/>
          <p:nvPr/>
        </p:nvSpPr>
        <p:spPr>
          <a:xfrm>
            <a:off x="6227640" y="2492280"/>
            <a:ext cx="0" cy="180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703dff"/>
              </a:solidFill>
              <a:latin typeface="Rage Italic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Введени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72960" indent="-37296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omic Sans MS"/>
              </a:rPr>
              <a:t>ПРОБЛЕМА: </a:t>
            </a:r>
            <a:r>
              <a:rPr b="0" lang="ru-RU" sz="1700" spc="-1" strike="noStrike">
                <a:solidFill>
                  <a:srgbClr val="000000"/>
                </a:solidFill>
                <a:latin typeface="Comic Sans MS"/>
              </a:rPr>
              <a:t>Учащиеся не всегда умеют сознательно использовать информацию об иррациональных уравнениях. Грамотно применять свойства корней степени выше третьей, а так же степени с дробным показателем.</a:t>
            </a:r>
            <a:endParaRPr b="0" lang="en-US" sz="1700" spc="-1" strike="noStrike">
              <a:solidFill>
                <a:srgbClr val="000000"/>
              </a:solidFill>
              <a:latin typeface="Comic Sans MS"/>
            </a:endParaRPr>
          </a:p>
          <a:p>
            <a:pPr marL="372960" indent="-37296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omic Sans MS"/>
              </a:rPr>
              <a:t>ЦЕЛИ: </a:t>
            </a:r>
            <a:r>
              <a:rPr b="0" lang="ru-RU" sz="17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Comic Sans MS"/>
            </a:endParaRPr>
          </a:p>
          <a:p>
            <a:pPr marL="37296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omic Sans MS"/>
              </a:rPr>
              <a:t>1. Ввести понятие иррациональных уравнений и показать способы их решений.</a:t>
            </a:r>
            <a:endParaRPr b="0" lang="en-US" sz="1700" spc="-1" strike="noStrike">
              <a:solidFill>
                <a:srgbClr val="000000"/>
              </a:solidFill>
              <a:latin typeface="Comic Sans MS"/>
            </a:endParaRPr>
          </a:p>
          <a:p>
            <a:pPr marL="37296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omic Sans MS"/>
              </a:rPr>
              <a:t>2. Развивать умение  выделять главное, существенное в изучаемом материале, обобщать факты и понятия, развивать самостоятельность, мышление, познавательный интерес.</a:t>
            </a:r>
            <a:endParaRPr b="0" lang="en-US" sz="1700" spc="-1" strike="noStrike">
              <a:solidFill>
                <a:srgbClr val="000000"/>
              </a:solidFill>
              <a:latin typeface="Comic Sans MS"/>
            </a:endParaRPr>
          </a:p>
          <a:p>
            <a:pPr marL="37296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omic Sans MS"/>
              </a:rPr>
              <a:t>3. Содействовать формированию мировоззренческих понятий. </a:t>
            </a:r>
            <a:endParaRPr b="0" lang="en-US" sz="1700" spc="-1" strike="noStrike">
              <a:solidFill>
                <a:srgbClr val="000000"/>
              </a:solidFill>
              <a:latin typeface="Comic Sans MS"/>
            </a:endParaRPr>
          </a:p>
          <a:p>
            <a:pPr marL="372960" indent="-37296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omic Sans MS"/>
              </a:rPr>
              <a:t>ОБЪЕКТ ИССЛЕДОВАНИЯ:</a:t>
            </a:r>
            <a:r>
              <a:rPr b="0" lang="ru-RU" sz="1700" spc="-1" strike="noStrike">
                <a:solidFill>
                  <a:srgbClr val="000000"/>
                </a:solidFill>
                <a:latin typeface="Comic Sans MS"/>
              </a:rPr>
              <a:t> Организация применения различных способов решения иррациональных уравнений, уравнений с параметром. </a:t>
            </a:r>
            <a:endParaRPr b="0" lang="en-US" sz="1700" spc="-1" strike="noStrike">
              <a:solidFill>
                <a:srgbClr val="000000"/>
              </a:solidFill>
              <a:latin typeface="Comic Sans MS"/>
            </a:endParaRPr>
          </a:p>
          <a:p>
            <a:pPr marL="37296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Comic Sans MS"/>
            </a:endParaRPr>
          </a:p>
          <a:p>
            <a:pPr marL="37296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mic Sans MS"/>
            </a:endParaRPr>
          </a:p>
          <a:p>
            <a:pPr marL="37296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WordArt 10"/>
          <p:cNvSpPr txBox="1"/>
          <p:nvPr/>
        </p:nvSpPr>
        <p:spPr>
          <a:xfrm rot="20866200">
            <a:off x="-468000" y="765000"/>
            <a:ext cx="9325080" cy="175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6852000"/>
                </a:gradFill>
                <a:latin typeface="Impact"/>
              </a:rPr>
              <a:t>" Посредством уравнений, теорем                                 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6852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6852000"/>
                </a:gradFill>
                <a:latin typeface="Impact"/>
              </a:rPr>
              <a:t>    </a:t>
            </a: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6852000"/>
                </a:gradFill>
                <a:latin typeface="Impact"/>
              </a:rPr>
              <a:t>Я уйму всяких разрешал проблем"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6852000"/>
              </a:gradFill>
              <a:latin typeface="Impact"/>
              <a:ea typeface="Impact"/>
            </a:endParaRPr>
          </a:p>
        </p:txBody>
      </p:sp>
      <p:sp>
        <p:nvSpPr>
          <p:cNvPr id="355" name="WordArt 12"/>
          <p:cNvSpPr txBox="1"/>
          <p:nvPr/>
        </p:nvSpPr>
        <p:spPr>
          <a:xfrm rot="20948400">
            <a:off x="2195280" y="2060640"/>
            <a:ext cx="5054400" cy="11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(Чостер, английский поэт, средние века)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56" name="WordArt 14"/>
          <p:cNvSpPr txBox="1"/>
          <p:nvPr/>
        </p:nvSpPr>
        <p:spPr>
          <a:xfrm>
            <a:off x="971640" y="4076640"/>
            <a:ext cx="5472000" cy="249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2700000"/>
                </a:gradFill>
                <a:latin typeface="Impact"/>
              </a:rPr>
              <a:t>"Уравнение - это золотой ключ,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27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2700000"/>
                </a:gradFill>
                <a:latin typeface="Impact"/>
              </a:rPr>
              <a:t>  </a:t>
            </a: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2700000"/>
                </a:gradFill>
                <a:latin typeface="Impact"/>
              </a:rPr>
              <a:t>открывающий все 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27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2700000"/>
                </a:gradFill>
                <a:latin typeface="Impact"/>
              </a:rPr>
              <a:t> </a:t>
            </a: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2700000"/>
                </a:gradFill>
                <a:latin typeface="Impact"/>
              </a:rPr>
              <a:t>математические Сезамы"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2700000"/>
              </a:gradFill>
              <a:latin typeface="Impact"/>
              <a:ea typeface="Impact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Ход урок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Организация урока. (1мин.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остановка целей, принятие их учащимися.(2 мин.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опрос, раскрывающий сущность проблемы. Дискуссия о возможных путях её решений.(3 мин.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lain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Ознакомление с новым материалом. (20 мин.)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lain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ервичное осмысление и применение изученного. ( 7 мин.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lain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Закрепление изученного материала.(10 мин.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lain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остановка домашнего задания. ( 1 мин.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lain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одведение итогов урока (2 мин.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lain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Резервные задания.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838080" indent="-838080" algn="ctr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Начало урока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Здравствуйте! Надеюсь ,что у вас серьезный настрой  на урок. Желаю вам высоких результатов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 ходе дискуссии нам необходимо поразмышлять и сформулировать свои  мысли, чтобы найти ответ на поставленный вопрос. В споре  недопустимы  оскорбления, упреки, недоброжелательность в отношении к  своим одноклассникам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2.Вопрос - проблем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акой  шаг в решении уравнения приводит к появлению лишних  корней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Найди ошибку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16 -36 =25 – 45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16-36+20,25=25-45+20,25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(4-4,5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²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=(5-4,5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²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4-4,5=5-4,5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4=5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ывод: Если  квадраты  двух  выражений  равны, то их основания  либо равны между собой, либо  противоположны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3. Изучение нового материала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Уравнения, в которых переменная содержится под знаком корня, называются иррациональным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Устно: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какие из следующих уравнений являются иррациональными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а) 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х + </a:t>
            </a:r>
            <a:r>
              <a:rPr b="1" i="1" lang="ru-RU" sz="2400" spc="-1" strike="noStrike">
                <a:solidFill>
                  <a:srgbClr val="000000"/>
                </a:solidFill>
                <a:latin typeface="Tw Cen MT"/>
              </a:rPr>
              <a:t>√ х   = 2                д) х </a:t>
            </a:r>
            <a:r>
              <a:rPr b="0" lang="ru-RU" sz="2400" spc="-1" strike="noStrike">
                <a:solidFill>
                  <a:srgbClr val="000000"/>
                </a:solidFill>
                <a:latin typeface="Tw Cen MT"/>
              </a:rPr>
              <a:t>+ √ </a:t>
            </a:r>
            <a:r>
              <a:rPr b="1" lang="ru-RU" sz="2400" spc="-1" strike="noStrike">
                <a:solidFill>
                  <a:srgbClr val="000000"/>
                </a:solidFill>
                <a:latin typeface="Tw Cen MT"/>
              </a:rPr>
              <a:t>х = 0</a:t>
            </a:r>
            <a:r>
              <a:rPr b="1" i="1" lang="ru-RU" sz="2400" spc="-1" strike="noStrike">
                <a:solidFill>
                  <a:srgbClr val="000000"/>
                </a:solidFill>
                <a:latin typeface="Tw Cen MT"/>
              </a:rPr>
              <a:t>                                       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w Cen MT"/>
              </a:rPr>
              <a:t>  </a:t>
            </a:r>
            <a:r>
              <a:rPr b="1" i="1" lang="ru-RU" sz="2400" spc="-1" strike="noStrike">
                <a:solidFill>
                  <a:srgbClr val="000000"/>
                </a:solidFill>
                <a:latin typeface="Tw Cen MT"/>
              </a:rPr>
              <a:t>б) х √7 = 11+х                 е) у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²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3 </a:t>
            </a:r>
            <a:r>
              <a:rPr b="1" i="1" lang="ru-RU" sz="2400" spc="-1" strike="noStrike">
                <a:solidFill>
                  <a:srgbClr val="000000"/>
                </a:solidFill>
                <a:latin typeface="Tw Cen MT"/>
                <a:ea typeface="Times New Roman"/>
              </a:rPr>
              <a:t>√ 2 = 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w Cen MT"/>
              </a:rPr>
              <a:t>  </a:t>
            </a:r>
            <a:r>
              <a:rPr b="1" i="1" lang="ru-RU" sz="2400" spc="-1" strike="noStrike">
                <a:solidFill>
                  <a:srgbClr val="000000"/>
                </a:solidFill>
                <a:latin typeface="Tw Cen MT"/>
              </a:rPr>
              <a:t>в)у + √ у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²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9 = 2           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</a:t>
            </a:r>
            <a:r>
              <a:rPr b="0" lang="ru-RU" sz="2400" spc="-1" strike="noStrike">
                <a:solidFill>
                  <a:srgbClr val="000000"/>
                </a:solidFill>
                <a:latin typeface="Tw Cen MT"/>
                <a:ea typeface="Times New Roman"/>
              </a:rPr>
              <a:t>√ </a:t>
            </a:r>
            <a:r>
              <a:rPr b="1" lang="ru-RU" sz="2400" spc="-1" strike="noStrike">
                <a:solidFill>
                  <a:srgbClr val="000000"/>
                </a:solidFill>
                <a:latin typeface="Tw Cen MT"/>
                <a:ea typeface="Times New Roman"/>
              </a:rPr>
              <a:t>х – 1</a:t>
            </a:r>
            <a:r>
              <a:rPr b="0" lang="ru-RU" sz="2400" spc="-1" strike="noStrike">
                <a:solidFill>
                  <a:srgbClr val="000000"/>
                </a:solidFill>
                <a:latin typeface="Tw Cen MT"/>
                <a:ea typeface="Times New Roman"/>
              </a:rPr>
              <a:t> = </a:t>
            </a:r>
            <a:r>
              <a:rPr b="1" lang="ru-RU" sz="2400" spc="-1" strike="noStrike">
                <a:solidFill>
                  <a:srgbClr val="000000"/>
                </a:solidFill>
                <a:latin typeface="Tw Cen MT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w Cen MT"/>
                <a:ea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w Cen MT"/>
                <a:ea typeface="Times New Roman"/>
              </a:rPr>
              <a:t>Какое уравнение не имеет корней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Line 4"/>
          <p:cNvSpPr/>
          <p:nvPr/>
        </p:nvSpPr>
        <p:spPr>
          <a:xfrm>
            <a:off x="2050920" y="342900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703dff"/>
              </a:solidFill>
              <a:latin typeface="Rage Italic"/>
            </a:endParaRPr>
          </a:p>
        </p:txBody>
      </p:sp>
      <p:sp>
        <p:nvSpPr>
          <p:cNvPr id="368" name="Line 5"/>
          <p:cNvSpPr/>
          <p:nvPr/>
        </p:nvSpPr>
        <p:spPr>
          <a:xfrm>
            <a:off x="1403280" y="4508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703dff"/>
              </a:solidFill>
              <a:latin typeface="Rage Italic"/>
            </a:endParaRPr>
          </a:p>
        </p:txBody>
      </p:sp>
      <p:sp>
        <p:nvSpPr>
          <p:cNvPr id="369" name="Line 7"/>
          <p:cNvSpPr/>
          <p:nvPr/>
        </p:nvSpPr>
        <p:spPr>
          <a:xfrm>
            <a:off x="1908000" y="4724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703dff"/>
              </a:solidFill>
              <a:latin typeface="Rage Italic"/>
            </a:endParaRPr>
          </a:p>
        </p:txBody>
      </p:sp>
      <p:sp>
        <p:nvSpPr>
          <p:cNvPr id="370" name="Line 8"/>
          <p:cNvSpPr/>
          <p:nvPr/>
        </p:nvSpPr>
        <p:spPr>
          <a:xfrm>
            <a:off x="1692360" y="3789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703dff"/>
              </a:solidFill>
              <a:latin typeface="Rage Italic"/>
            </a:endParaRPr>
          </a:p>
        </p:txBody>
      </p:sp>
      <p:sp>
        <p:nvSpPr>
          <p:cNvPr id="371" name="Line 9"/>
          <p:cNvSpPr/>
          <p:nvPr/>
        </p:nvSpPr>
        <p:spPr>
          <a:xfrm>
            <a:off x="1908000" y="4149720"/>
            <a:ext cx="100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703dff"/>
              </a:solidFill>
              <a:latin typeface="Rage Italic"/>
            </a:endParaRPr>
          </a:p>
        </p:txBody>
      </p:sp>
      <p:sp>
        <p:nvSpPr>
          <p:cNvPr id="372" name="Line 10"/>
          <p:cNvSpPr/>
          <p:nvPr/>
        </p:nvSpPr>
        <p:spPr>
          <a:xfrm>
            <a:off x="1908000" y="4149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703dff"/>
              </a:solidFill>
              <a:latin typeface="Rage Italic"/>
            </a:endParaRPr>
          </a:p>
        </p:txBody>
      </p:sp>
      <p:sp>
        <p:nvSpPr>
          <p:cNvPr id="373" name="Line 11"/>
          <p:cNvSpPr/>
          <p:nvPr/>
        </p:nvSpPr>
        <p:spPr>
          <a:xfrm>
            <a:off x="5364000" y="342900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703dff"/>
              </a:solidFill>
              <a:latin typeface="Rage Italic"/>
            </a:endParaRPr>
          </a:p>
        </p:txBody>
      </p:sp>
      <p:sp>
        <p:nvSpPr>
          <p:cNvPr id="374" name="Line 12"/>
          <p:cNvSpPr/>
          <p:nvPr/>
        </p:nvSpPr>
        <p:spPr>
          <a:xfrm>
            <a:off x="5580000" y="3789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703dff"/>
              </a:solidFill>
              <a:latin typeface="Rage Italic"/>
            </a:endParaRPr>
          </a:p>
        </p:txBody>
      </p:sp>
    </p:spTree>
  </p:cSld>
  <p:transition>
    <p:split dir="in" orient="vert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3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3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3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3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3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3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4. Первичное осмысление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w Cen MT"/>
              </a:rPr>
              <a:t>√ </a:t>
            </a:r>
            <a:r>
              <a:rPr b="0" lang="ru-RU" sz="3200" spc="-1" strike="noStrike">
                <a:solidFill>
                  <a:srgbClr val="000000"/>
                </a:solidFill>
                <a:latin typeface="Tw Cen MT"/>
              </a:rPr>
              <a:t>х – 6 = 2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w Cen MT"/>
              </a:rPr>
              <a:t> √ </a:t>
            </a:r>
            <a:r>
              <a:rPr b="0" lang="ru-RU" sz="3200" spc="-1" strike="noStrike">
                <a:solidFill>
                  <a:srgbClr val="000000"/>
                </a:solidFill>
                <a:latin typeface="Tw Cen MT"/>
              </a:rPr>
              <a:t>х – 3 = 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w Cen MT"/>
              </a:rPr>
              <a:t> √ </a:t>
            </a:r>
            <a:r>
              <a:rPr b="0" lang="ru-RU" sz="3200" spc="-1" strike="noStrike">
                <a:solidFill>
                  <a:srgbClr val="000000"/>
                </a:solidFill>
                <a:latin typeface="Tw Cen MT"/>
              </a:rPr>
              <a:t>х + 4 =7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w Cen MT"/>
              </a:rPr>
              <a:t> √ </a:t>
            </a:r>
            <a:r>
              <a:rPr b="0" lang="ru-RU" sz="3200" spc="-1" strike="noStrike">
                <a:solidFill>
                  <a:srgbClr val="000000"/>
                </a:solidFill>
                <a:latin typeface="Tw Cen MT"/>
              </a:rPr>
              <a:t>5 – х = 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w Cen MT"/>
              </a:rPr>
              <a:t> √ </a:t>
            </a:r>
            <a:r>
              <a:rPr b="0" lang="ru-RU" sz="3200" spc="-1" strike="noStrike">
                <a:solidFill>
                  <a:srgbClr val="000000"/>
                </a:solidFill>
                <a:latin typeface="Tw Cen MT"/>
              </a:rPr>
              <a:t>2 – х = х + 4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Line 4"/>
          <p:cNvSpPr/>
          <p:nvPr/>
        </p:nvSpPr>
        <p:spPr>
          <a:xfrm>
            <a:off x="1116000" y="19162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703dff"/>
              </a:solidFill>
              <a:latin typeface="Rage Italic"/>
            </a:endParaRPr>
          </a:p>
        </p:txBody>
      </p:sp>
      <p:sp>
        <p:nvSpPr>
          <p:cNvPr id="378" name="Line 5"/>
          <p:cNvSpPr/>
          <p:nvPr/>
        </p:nvSpPr>
        <p:spPr>
          <a:xfrm>
            <a:off x="1042920" y="249228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703dff"/>
              </a:solidFill>
              <a:latin typeface="Rage Italic"/>
            </a:endParaRPr>
          </a:p>
        </p:txBody>
      </p:sp>
      <p:sp>
        <p:nvSpPr>
          <p:cNvPr id="379" name="Line 7"/>
          <p:cNvSpPr/>
          <p:nvPr/>
        </p:nvSpPr>
        <p:spPr>
          <a:xfrm>
            <a:off x="1042920" y="306864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703dff"/>
              </a:solidFill>
              <a:latin typeface="Rage Italic"/>
            </a:endParaRPr>
          </a:p>
        </p:txBody>
      </p:sp>
      <p:sp>
        <p:nvSpPr>
          <p:cNvPr id="380" name="Line 8"/>
          <p:cNvSpPr/>
          <p:nvPr/>
        </p:nvSpPr>
        <p:spPr>
          <a:xfrm>
            <a:off x="1042920" y="3645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703dff"/>
              </a:solidFill>
              <a:latin typeface="Rage Italic"/>
            </a:endParaRPr>
          </a:p>
        </p:txBody>
      </p:sp>
      <p:sp>
        <p:nvSpPr>
          <p:cNvPr id="381" name="Line 9"/>
          <p:cNvSpPr/>
          <p:nvPr/>
        </p:nvSpPr>
        <p:spPr>
          <a:xfrm>
            <a:off x="1116000" y="364500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703dff"/>
              </a:solidFill>
              <a:latin typeface="Rage Italic"/>
            </a:endParaRPr>
          </a:p>
        </p:txBody>
      </p:sp>
      <p:sp>
        <p:nvSpPr>
          <p:cNvPr id="382" name="Line 10"/>
          <p:cNvSpPr/>
          <p:nvPr/>
        </p:nvSpPr>
        <p:spPr>
          <a:xfrm>
            <a:off x="1116000" y="422100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703dff"/>
              </a:solidFill>
              <a:latin typeface="Rage Italic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8T10:11:56Z</dcterms:created>
  <dc:creator>Ольга Юрьевна</dc:creator>
  <dc:description/>
  <dc:language>en-US</dc:language>
  <cp:lastModifiedBy>Коля</cp:lastModifiedBy>
  <dcterms:modified xsi:type="dcterms:W3CDTF">2013-03-26T17:09:42Z</dcterms:modified>
  <cp:revision>26</cp:revision>
  <dc:subject/>
  <dc:title>Иррациональные уравнения</dc:title>
</cp:coreProperties>
</file>