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EE0A-4DD3-43B0-881A-BA1A8DA82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93BE-69C6-47B0-BD34-9A13597F8C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BC5-5545-417D-B30F-4748CF54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8DC-841A-4767-8DE1-DA4B6B94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41F-90B9-4378-937C-AA6A32A7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8A2-FBFB-41D3-A804-786B101B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B7D1-4903-4E40-BE01-7EDF8FD1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6B11-F547-4CD5-A698-F150AD9F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3BD2-1F90-4800-ABB0-CD1608A6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3833-DE0D-412F-B120-FBBA38B0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A09A-C87E-457B-A0E5-F4816729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D80A-55AD-4FE4-A580-43EA9303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4B95-723C-4B86-B7BD-E97157DF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887-E8F3-4A5C-9318-F8B98C42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89F2-AAA9-4DD2-A2B9-83A593DA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4CFC-6B25-4013-9050-034A1315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29EA-088C-42F5-B007-F0802552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B1AD-7496-41D3-B7C5-CA016C54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270B-E424-4825-90D4-4B62EEDA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613AB-CE5F-4F93-AC06-FA557082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ECDCF-C4DB-409A-B6C3-5C60FE34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231E8-65F4-409C-8AB7-925F7B59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FE701-EDE0-418C-B9FB-381D846A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CF4C3-FA39-4D0A-9512-A9F520FC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D8F-87E7-4198-8507-DB87D161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17E2A-76C1-4B77-A85E-EC57A8C9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8BCCD-3B7C-4D63-9456-1E0685E6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DD777-F6DC-4BC6-8F62-E457CDED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BCF86-ED54-4849-B7EC-5F570D78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A4E1F-98A1-445B-8599-D3E58F35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53B51-D75D-4DB7-9CA9-6C2FCE5A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4BDFE-F68B-405E-945A-2A4DFC0D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BBB0D-33F9-41C5-A549-5E6588E2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C039B-98CA-4A5B-9517-AE2F9F40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132C9-39E0-4CD0-9B75-F792A2DC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95C-AE52-4EEC-BD05-049D87AA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13A31-1EC8-4DCB-888E-46C484C2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CB4B5-FB37-486E-B7A8-896E4391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C0717-8651-4BDA-B66E-EDFD9587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34E7D-584E-4470-9BE6-269261F1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6E22C-A222-471B-8C2F-3C4F5F3D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E7B94-CD9B-450D-B162-8716E88C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22D76-D0AF-43CD-9637-86CAC025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E466B-164A-424B-9C84-4DA215C0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7BE51-20AB-42CA-9004-51673BBA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9FA7-4EE7-4C73-B529-F9511587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F2C-46C2-471A-815A-3586E4A9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8F5-345E-4E55-942A-CEA65940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A27-9F25-4107-BC4C-3905A87C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2E6-DB6C-4AA6-81C9-390988C1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1B9B-4868-4551-BB4D-EFC4855F845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703dff"/>
                    </a:solidFill>
                    <a:latin typeface="Rage Italic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8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p:txBody>
                </p:sp>
                <p:sp>
                  <p:nvSpPr>
                    <p:cNvPr id="9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p:txBody>
                </p:sp>
              </p:grpSp>
              <p:sp>
                <p:nvSpPr>
                  <p:cNvPr id="9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98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99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100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10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10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</p:grpSp>
            <p:pic>
              <p:nvPicPr>
                <p:cNvPr id="10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3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4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4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F103-0849-4D22-8945-1C64E78198D1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grpSp>
        <p:nvGrpSpPr>
          <p:cNvPr id="18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grpSp>
          <p:nvGrpSpPr>
            <p:cNvPr id="18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19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19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19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19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</p:grpSp>
      </p:grpSp>
      <p:grpSp>
        <p:nvGrpSpPr>
          <p:cNvPr id="19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95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197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grpSp>
          <p:nvGrpSpPr>
            <p:cNvPr id="19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20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20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20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  <p:sp>
            <p:nvSpPr>
              <p:cNvPr id="20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703dff"/>
                  </a:solidFill>
                  <a:latin typeface="Rage Italic"/>
                </a:endParaRPr>
              </a:p>
            </p:txBody>
          </p:sp>
        </p:grpSp>
      </p:grpSp>
      <p:sp>
        <p:nvSpPr>
          <p:cNvPr id="20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20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3696-DAED-4AA8-956B-241AA6756E6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24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4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5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grpSp>
          <p:nvGrpSpPr>
            <p:cNvPr id="251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252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253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254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255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p:txBody>
                </p:sp>
                <p:sp>
                  <p:nvSpPr>
                    <p:cNvPr id="256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p:txBody>
                </p:sp>
              </p:grpSp>
              <p:sp>
                <p:nvSpPr>
                  <p:cNvPr id="257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258" name="Freeform 13"/>
                  <p:cNvSpPr/>
                  <p:nvPr/>
                </p:nvSpPr>
                <p:spPr>
                  <a:xfrm rot="16200000">
                    <a:off x="8760600" y="684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259" name="Freeform 14"/>
                  <p:cNvSpPr/>
                  <p:nvPr/>
                </p:nvSpPr>
                <p:spPr>
                  <a:xfrm rot="16200000">
                    <a:off x="8831520" y="558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260" name="Freeform 15"/>
                  <p:cNvSpPr/>
                  <p:nvPr/>
                </p:nvSpPr>
                <p:spPr>
                  <a:xfrm rot="16200000">
                    <a:off x="8901000" y="1058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261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  <p:sp>
                <p:nvSpPr>
                  <p:cNvPr id="262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4400" spc="-1" strike="noStrike">
                      <a:solidFill>
                        <a:srgbClr val="703dff"/>
                      </a:solidFill>
                      <a:latin typeface="Rage Italic"/>
                    </a:endParaRPr>
                  </a:p>
                </p:txBody>
              </p:sp>
            </p:grpSp>
            <p:pic>
              <p:nvPicPr>
                <p:cNvPr id="26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7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9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29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30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  <p:sp>
          <p:nvSpPr>
            <p:cNvPr id="30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4400" spc="-1" strike="noStrike">
                <a:solidFill>
                  <a:srgbClr val="703dff"/>
                </a:solidFill>
                <a:latin typeface="Rage Italic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4589-6018-4448-8E45-1E372B3339DB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Иррациональные уравн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Урок-дискусси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лгоритм решения уравнени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шение иррациональных уравнений </a:t>
            </a:r>
            <a:r>
              <a:rPr b="0" lang="ru-RU" sz="1800" spc="-1" strike="noStrike">
                <a:solidFill>
                  <a:srgbClr val="6600ff"/>
                </a:solidFill>
                <a:latin typeface="Comic Sans MS"/>
              </a:rPr>
              <a:t>сводится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переходу от иррационального к рациональному уравнению путем возведения в степень обеих частей уравнения или замены переменно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 возведении обеих частей в четную степень возможно появление </a:t>
            </a:r>
            <a:r>
              <a:rPr b="0" lang="ru-RU" sz="1800" spc="-1" strike="noStrike">
                <a:solidFill>
                  <a:srgbClr val="6600ff"/>
                </a:solidFill>
                <a:latin typeface="Comic Sans MS"/>
              </a:rPr>
              <a:t>посторонних корне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Поэтому при использовании указанного метода следует </a:t>
            </a:r>
            <a:r>
              <a:rPr b="0" lang="ru-RU" sz="1800" spc="-1" strike="noStrike">
                <a:solidFill>
                  <a:srgbClr val="6600ff"/>
                </a:solidFill>
                <a:latin typeface="Comic Sans MS"/>
              </a:rPr>
              <a:t>проверит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все найденные корни подстановкой в исходное уравнение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ногда удобнее решать иррациональные уравнения, область допустимых </a:t>
            </a:r>
            <a:r>
              <a:rPr b="0" lang="ru-RU" sz="1800" spc="-1" strike="noStrike">
                <a:solidFill>
                  <a:srgbClr val="6600ff"/>
                </a:solidFill>
                <a:latin typeface="Comic Sans MS"/>
              </a:rPr>
              <a:t>значени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неизвестного и используя  равносильные переход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х 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8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ffb800"/>
                </a:solidFill>
                <a:latin typeface="Times New Roman"/>
                <a:ea typeface="Times New Roman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 ) </a:t>
            </a:r>
            <a:r>
              <a:rPr b="0" lang="ru-RU" sz="1800" spc="-1" strike="noStrike">
                <a:solidFill>
                  <a:srgbClr val="000000"/>
                </a:solidFill>
                <a:latin typeface="OCR A Extended"/>
                <a:ea typeface="Times New Roman"/>
              </a:rPr>
              <a:t>≥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14"/>
          <p:cNvSpPr/>
          <p:nvPr/>
        </p:nvSpPr>
        <p:spPr>
          <a:xfrm>
            <a:off x="1476360" y="501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1476360" y="501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87" name="Line 20"/>
          <p:cNvSpPr/>
          <p:nvPr/>
        </p:nvSpPr>
        <p:spPr>
          <a:xfrm>
            <a:off x="154764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5. Закрепление изученного материал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Является ли число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рнем уравне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 – 2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– х , 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– х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 – 2, 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 – 5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х – 13, 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 – х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+ х, 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1692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3419640" y="2997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2" name="Line 7"/>
          <p:cNvSpPr/>
          <p:nvPr/>
        </p:nvSpPr>
        <p:spPr>
          <a:xfrm>
            <a:off x="1835280" y="3573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3" name="Line 8"/>
          <p:cNvSpPr/>
          <p:nvPr/>
        </p:nvSpPr>
        <p:spPr>
          <a:xfrm>
            <a:off x="3419640" y="3573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4" name="Line 9"/>
          <p:cNvSpPr/>
          <p:nvPr/>
        </p:nvSpPr>
        <p:spPr>
          <a:xfrm>
            <a:off x="1692360" y="414972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5" name="Line 10"/>
          <p:cNvSpPr/>
          <p:nvPr/>
        </p:nvSpPr>
        <p:spPr>
          <a:xfrm>
            <a:off x="3419640" y="414972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6" name="Line 11"/>
          <p:cNvSpPr/>
          <p:nvPr/>
        </p:nvSpPr>
        <p:spPr>
          <a:xfrm>
            <a:off x="1692360" y="47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97" name="Line 12"/>
          <p:cNvSpPr/>
          <p:nvPr/>
        </p:nvSpPr>
        <p:spPr>
          <a:xfrm>
            <a:off x="3348000" y="47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57160" y="3357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им уравн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499680"/>
            <a:ext cx="7696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 + 2 = 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 + 2 = 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х – 2 = 0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=       и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верк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 х = 2,     2=2, верн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 х = -1,     1= -1, лож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вет:    х 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Oval 4"/>
          <p:cNvSpPr/>
          <p:nvPr/>
        </p:nvSpPr>
        <p:spPr>
          <a:xfrm>
            <a:off x="1428840" y="1714680"/>
            <a:ext cx="431640" cy="35856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01" name="Oval 7"/>
          <p:cNvSpPr/>
          <p:nvPr/>
        </p:nvSpPr>
        <p:spPr>
          <a:xfrm>
            <a:off x="2714760" y="1714680"/>
            <a:ext cx="431640" cy="3603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02" name="Line 11"/>
          <p:cNvSpPr/>
          <p:nvPr/>
        </p:nvSpPr>
        <p:spPr>
          <a:xfrm>
            <a:off x="1000080" y="5000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03" name="Line 13"/>
          <p:cNvSpPr/>
          <p:nvPr/>
        </p:nvSpPr>
        <p:spPr>
          <a:xfrm flipH="1" flipV="1">
            <a:off x="1213920" y="713880"/>
            <a:ext cx="1581480" cy="10875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04" name="Line 15"/>
          <p:cNvSpPr/>
          <p:nvPr/>
        </p:nvSpPr>
        <p:spPr>
          <a:xfrm flipH="1" flipV="1">
            <a:off x="1142640" y="713880"/>
            <a:ext cx="500040" cy="1071720"/>
          </a:xfrm>
          <a:prstGeom prst="line">
            <a:avLst/>
          </a:prstGeom>
          <a:ln w="936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им  уравнени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х – 3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 -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1332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08" name="Line 5"/>
          <p:cNvSpPr/>
          <p:nvPr/>
        </p:nvSpPr>
        <p:spPr>
          <a:xfrm>
            <a:off x="3203640" y="1916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зведем  обе  части уравнения в квадрат, получи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х -3 = х -2 ,   х =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ерка: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•1 – 3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 – 2,обе части  уравнения не имеют смыс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вет: корней  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Line 5"/>
          <p:cNvSpPr/>
          <p:nvPr/>
        </p:nvSpPr>
        <p:spPr>
          <a:xfrm>
            <a:off x="1332000" y="378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12" name="Line 6"/>
          <p:cNvSpPr/>
          <p:nvPr/>
        </p:nvSpPr>
        <p:spPr>
          <a:xfrm flipV="1">
            <a:off x="3708360" y="4005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13" name="Line 8"/>
          <p:cNvSpPr/>
          <p:nvPr/>
        </p:nvSpPr>
        <p:spPr>
          <a:xfrm>
            <a:off x="3348000" y="378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тория  неразумных чисел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тория иррациональных чисел относится к удивительному открытию пифагорийцев. А началось это с простого вопроса, связанного с вычислением диагонали квадрата, сторона которого равна 1. \ подробно расскажет Катя П.\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яем самостоятель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99 (а, б ,в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900 (а, б ,в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 б ) проверяем по решению на доске.*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6. Задание на до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00 ( г, д, е 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01 ( а, г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. 265 \ теория \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7. Подведение итогов урок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13880" y="20001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. И. Учащего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домашнее задание  Сам.    Учител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устная работ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новая работа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Ю.Н. Макарычев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5372280" y="1828800"/>
          <a:ext cx="3771720" cy="6218280"/>
        </p:xfrm>
        <a:graphic>
          <a:graphicData uri="http://schemas.openxmlformats.org/drawingml/2006/table">
            <a:tbl>
              <a:tblPr/>
              <a:tblGrid>
                <a:gridCol w="537840"/>
                <a:gridCol w="540000"/>
                <a:gridCol w="538200"/>
                <a:gridCol w="539640"/>
                <a:gridCol w="538200"/>
                <a:gridCol w="539640"/>
                <a:gridCol w="53820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5372280" y="3733920"/>
          <a:ext cx="3771720" cy="6218280"/>
        </p:xfrm>
        <a:graphic>
          <a:graphicData uri="http://schemas.openxmlformats.org/drawingml/2006/table">
            <a:tbl>
              <a:tblPr/>
              <a:tblGrid>
                <a:gridCol w="537840"/>
                <a:gridCol w="540000"/>
                <a:gridCol w="538200"/>
                <a:gridCol w="539640"/>
                <a:gridCol w="538200"/>
                <a:gridCol w="539640"/>
                <a:gridCol w="53820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703dff"/>
                        </a:solidFill>
                        <a:latin typeface="Rage Italic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Line 574"/>
          <p:cNvSpPr/>
          <p:nvPr/>
        </p:nvSpPr>
        <p:spPr>
          <a:xfrm>
            <a:off x="755640" y="2492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23" name="Line 575"/>
          <p:cNvSpPr/>
          <p:nvPr/>
        </p:nvSpPr>
        <p:spPr>
          <a:xfrm>
            <a:off x="755640" y="249228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24" name="Line 576"/>
          <p:cNvSpPr/>
          <p:nvPr/>
        </p:nvSpPr>
        <p:spPr>
          <a:xfrm>
            <a:off x="8317080" y="2492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25" name="Line 577"/>
          <p:cNvSpPr/>
          <p:nvPr/>
        </p:nvSpPr>
        <p:spPr>
          <a:xfrm flipH="1">
            <a:off x="755640" y="429264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26" name="Line 578"/>
          <p:cNvSpPr/>
          <p:nvPr/>
        </p:nvSpPr>
        <p:spPr>
          <a:xfrm flipV="1">
            <a:off x="755640" y="4220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27" name="Line 579"/>
          <p:cNvSpPr/>
          <p:nvPr/>
        </p:nvSpPr>
        <p:spPr>
          <a:xfrm>
            <a:off x="5003640" y="2492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428" name="Line 580"/>
          <p:cNvSpPr/>
          <p:nvPr/>
        </p:nvSpPr>
        <p:spPr>
          <a:xfrm>
            <a:off x="6227640" y="2492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ПРОБЛЕМА: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Учащиеся не всегда умеют сознательно использовать информацию об иррациональных уравнениях. Грамотно применять свойства корней степени выше третьей, а так же степени с дробным показателем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-3729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ЦЕЛИ: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1. Ввести понятие иррациональных уравнений и показать способы их решений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2. Развивать умение  выделять главное, существенное в изучаемом материале, обобщать факты и понятия, развивать самостоятельность, мышление, познавательный интерес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3. Содействовать формированию мировоззренческих понятий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-3729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ОБЪЕКТ ИССЛЕДОВАНИЯ: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Организация применения различных способов решения иррациональных уравнений, уравнений с параметром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WordArt 10"/>
          <p:cNvSpPr txBox="1"/>
          <p:nvPr/>
        </p:nvSpPr>
        <p:spPr>
          <a:xfrm rot="20866200">
            <a:off x="-468000" y="765000"/>
            <a:ext cx="932508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852000"/>
                </a:gradFill>
                <a:latin typeface="Impact"/>
              </a:rPr>
              <a:t>" Посредством уравнений, теорем                                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852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852000"/>
                </a:gradFill>
                <a:latin typeface="Impact"/>
              </a:rPr>
              <a:t>   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852000"/>
                </a:gradFill>
                <a:latin typeface="Impact"/>
              </a:rPr>
              <a:t>Я уйму всяких разрешал проблем"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852000"/>
              </a:gradFill>
              <a:latin typeface="Impact"/>
              <a:ea typeface="Impact"/>
            </a:endParaRPr>
          </a:p>
        </p:txBody>
      </p:sp>
      <p:sp>
        <p:nvSpPr>
          <p:cNvPr id="355" name="WordArt 12"/>
          <p:cNvSpPr txBox="1"/>
          <p:nvPr/>
        </p:nvSpPr>
        <p:spPr>
          <a:xfrm rot="20948400">
            <a:off x="2195280" y="2060640"/>
            <a:ext cx="50544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Чостер, английский поэт, средние века)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6" name="WordArt 14"/>
          <p:cNvSpPr txBox="1"/>
          <p:nvPr/>
        </p:nvSpPr>
        <p:spPr>
          <a:xfrm>
            <a:off x="971640" y="4076640"/>
            <a:ext cx="5472000" cy="24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"Уравнение - это золотой ключ,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открывающий все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математические Сезамы"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ганизация урока. (1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тановка целей, принятие их учащимися.(2 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прос, раскрывающий сущность проблемы. Дискуссия о возможных путях её решений.(3 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знакомление с новым материалом. (20 мин.)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вичное осмысление и применение изученного. ( 7 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крепление изученного материала.(10 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тановка домашнего задания. ( 1 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ведение итогов урока (2 мин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зервные задания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 algn="ctr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чало уро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! Надеюсь ,что у вас серьезный настрой  на урок. Желаю вам высоких результат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ходе дискуссии нам необходимо поразмышлять и сформулировать свои  мысли, чтобы найти ответ на поставленный вопрос. В споре  недопустимы  оскорбления, упреки, недоброжелательность в отношении к  своим одноклассник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.Вопрос - пробле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ой  шаг в решении уравнения приводит к появлению лишних  корн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йди ошибку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6 -36 =25 – 4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6-36+20,25=25-45+20,2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4-4,5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(5-4,5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-4,5=5-4,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=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вод: Если  квадраты  двух  выражений  равны, то их основания  либо равны между собой, либо  противополож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Изучение нового материал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, в которых переменная содержится под знаком корня, называются иррациональны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Устно: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кие из следующих уравнений являются иррациональным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х + </a:t>
            </a:r>
            <a:r>
              <a:rPr b="1" i="1" lang="ru-RU" sz="2400" spc="-1" strike="noStrike">
                <a:solidFill>
                  <a:srgbClr val="000000"/>
                </a:solidFill>
                <a:latin typeface="Tw Cen MT"/>
              </a:rPr>
              <a:t>√ х   = 2                д) х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+ √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х = 0</a:t>
            </a:r>
            <a:r>
              <a:rPr b="1" i="1" lang="ru-RU" sz="2400" spc="-1" strike="noStrike">
                <a:solidFill>
                  <a:srgbClr val="000000"/>
                </a:solidFill>
                <a:latin typeface="Tw Cen MT"/>
              </a:rPr>
              <a:t>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w Cen MT"/>
              </a:rPr>
              <a:t>б) х √7 = 11+х                 е) у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3 </a:t>
            </a:r>
            <a:r>
              <a:rPr b="1" i="1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√ 2 =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w Cen MT"/>
              </a:rPr>
              <a:t>в)у + √ у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9 = 2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√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х – 1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Какое уравнение не имеет корней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2050920" y="342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68" name="Line 5"/>
          <p:cNvSpPr/>
          <p:nvPr/>
        </p:nvSpPr>
        <p:spPr>
          <a:xfrm>
            <a:off x="140328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190800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1692360" y="378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1" name="Line 9"/>
          <p:cNvSpPr/>
          <p:nvPr/>
        </p:nvSpPr>
        <p:spPr>
          <a:xfrm>
            <a:off x="1908000" y="41497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2" name="Line 10"/>
          <p:cNvSpPr/>
          <p:nvPr/>
        </p:nvSpPr>
        <p:spPr>
          <a:xfrm>
            <a:off x="190800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5364000" y="3429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4" name="Line 12"/>
          <p:cNvSpPr/>
          <p:nvPr/>
        </p:nvSpPr>
        <p:spPr>
          <a:xfrm>
            <a:off x="5580000" y="378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4. Первичное осмыслени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√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х – 6 = 2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 √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х – 3 =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 √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х + 4 =7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 √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5 – х =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 √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2 – х = х +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111600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8" name="Line 5"/>
          <p:cNvSpPr/>
          <p:nvPr/>
        </p:nvSpPr>
        <p:spPr>
          <a:xfrm>
            <a:off x="104292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79" name="Line 7"/>
          <p:cNvSpPr/>
          <p:nvPr/>
        </p:nvSpPr>
        <p:spPr>
          <a:xfrm>
            <a:off x="1042920" y="306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80" name="Line 8"/>
          <p:cNvSpPr/>
          <p:nvPr/>
        </p:nvSpPr>
        <p:spPr>
          <a:xfrm>
            <a:off x="104292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1116000" y="3645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1116000" y="42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03dff"/>
              </a:solidFill>
              <a:latin typeface="Rage Ital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10:11:56Z</dcterms:created>
  <dc:creator>Ольга Юрьевна</dc:creator>
  <dc:description/>
  <dc:language>en-US</dc:language>
  <cp:lastModifiedBy>Коля</cp:lastModifiedBy>
  <dcterms:modified xsi:type="dcterms:W3CDTF">2013-03-26T17:09:42Z</dcterms:modified>
  <cp:revision>26</cp:revision>
  <dc:subject/>
  <dc:title>Иррациональные уравнения</dc:title>
</cp:coreProperties>
</file>