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D50-6D17-4014-99B8-7EDC19A03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D98-61F1-493C-AA3A-83B5D377E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BFA-FD4C-42CF-AE0D-DC7D814F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D20-8543-443E-A183-E2D8841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0E6-456C-4742-AE74-55CB6133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006-5350-4374-A85C-82431AD1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AB46-7174-4DA3-9421-35A6C6B8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7D55-9D65-4FDB-BAE5-FA2794F2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A944-3D4D-485A-9212-2894225E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B2F4-E76A-4F9D-A44D-7536896B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D706-3369-4B6F-AB96-C03B1B70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0642-5CDA-4DA8-A035-9B5FC777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C27C-0791-4317-AF21-49550EA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29E-6A69-42A7-BEBD-7BBD4323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D7ED-4C8A-44D0-8219-6A405B3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C775-4A32-4370-96A7-F2B2513C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4A18-7C87-4D1D-9286-CD854820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8E1B-F709-4FFE-9BF3-DC4A105C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C073-E59F-4018-8BF1-86D146DB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AEFE-00F9-4177-85ED-5BD4248B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3E45-3A3E-49A7-9487-A12318A3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5BA3-45BB-4B22-98E0-B2989E16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C7AB-1C54-4CD0-809E-1CDFA578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2F5C-D094-40E2-B7DF-B1463C8C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C96-D45C-4CD0-BA59-C83D7ADE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563D-E548-468E-A2C2-1865695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FB56-C143-4263-BFF8-BB6CE48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4104-92A8-43EB-A260-9FFE99C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3FD8-94B5-4ACC-ADF9-3F9D094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8809-631D-4707-841F-6C98CE7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90FF-D099-40D2-A1D4-2B19BE0D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E3F7-D1E8-4B62-8BA3-6DBF8ED2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71A0-DC48-4562-A90B-FDAB9F77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D348-B40E-4AC8-B43C-C872369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28B1-5CDF-4C2A-96FC-5295838E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990-9034-49E9-96BD-1EE8A63C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BC19-3613-4DB1-BFE0-63768F9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1229-19F8-4FF7-8865-A8BEAEF1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A0A5-9C22-4813-A439-4C59E09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6A05-173C-45A8-825F-05D9FB48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ACCB-525D-4EF3-A29A-EBC68C6A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8ADF-70F5-41EE-B22D-CC3EE13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1E14-F980-4E42-9C0B-2B300BE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B4DF3-B8E7-4E80-9B17-077C7D75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4AFFE-0ED4-4AAC-B4C6-1D1EC43D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32B-C672-4694-8EED-6819536B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AE0-B1FB-4CDB-BF37-403F71CB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201-7F32-4E99-AF04-9FF74B83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739-6631-45F8-AC05-7F24AF8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D99-2FAF-4881-AE43-CADF005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4AAF-A611-4821-B69F-F8095EE48F2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6A3-6B0C-43FB-9707-E699CF2774D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AEBD-5683-4D5D-81A7-BDD5B0217F0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2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25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25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25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25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  <p:sp>
                  <p:nvSpPr>
                    <p:cNvPr id="256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</p:grpSp>
              <p:sp>
                <p:nvSpPr>
                  <p:cNvPr id="257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58" name="Freeform 13"/>
                  <p:cNvSpPr/>
                  <p:nvPr/>
                </p:nvSpPr>
                <p:spPr>
                  <a:xfrm rot="16200000">
                    <a:off x="8760600" y="684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 rot="16200000">
                    <a:off x="8831520" y="558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0" name="Freeform 15"/>
                  <p:cNvSpPr/>
                  <p:nvPr/>
                </p:nvSpPr>
                <p:spPr>
                  <a:xfrm rot="16200000">
                    <a:off x="8901000" y="1058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</p:grpSp>
            <p:pic>
              <p:nvPicPr>
                <p:cNvPr id="2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0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86E-25F9-4B58-9B2A-BED89DBE67E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ррациональные урав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Урок-дискусс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лгоритм решения уравнени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шение иррациональных уравнений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сводится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переходу от иррационального к рациональному уравнению путем возведения в степень обеих частей уравнения или замены переменн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возведении обеих частей в четную степень возможно появление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посторонних корне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Поэтому при использовании указанного метода следует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провер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се найденные корни подстановкой в исходное уравнение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огда удобнее решать иррациональные уравнения, область допустимых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значени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еизвестного и используя  равносильные переход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х 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ffb800"/>
                </a:solidFill>
                <a:latin typeface="Times New Roman"/>
                <a:ea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) </a:t>
            </a:r>
            <a:r>
              <a:rPr b="0" lang="ru-RU" sz="1800" spc="-1" strike="noStrike">
                <a:solidFill>
                  <a:srgbClr val="000000"/>
                </a:solidFill>
                <a:latin typeface="OCR A Extended"/>
                <a:ea typeface="Times New Roman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7" name="Line 20"/>
          <p:cNvSpPr/>
          <p:nvPr/>
        </p:nvSpPr>
        <p:spPr>
          <a:xfrm>
            <a:off x="154764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5. Закрепление изученного материал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вляется ли число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нем урав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– 2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– х 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– х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 – 2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– 5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х – 13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 – х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+ х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1692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3419640" y="299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183528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3419640" y="3573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1692360" y="4149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3419640" y="414972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169236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7" name="Line 12"/>
          <p:cNvSpPr/>
          <p:nvPr/>
        </p:nvSpPr>
        <p:spPr>
          <a:xfrm>
            <a:off x="334800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57160" y="3357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м уравн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99680"/>
            <a:ext cx="7696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 + 2 = 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 + 2 =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х – 2 = 0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=       и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р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х = 2,     2=2, вер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х = -1,     1= -1, лож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:    х 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1428840" y="1714680"/>
            <a:ext cx="431640" cy="35856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1" name="Oval 7"/>
          <p:cNvSpPr/>
          <p:nvPr/>
        </p:nvSpPr>
        <p:spPr>
          <a:xfrm>
            <a:off x="2714760" y="1714680"/>
            <a:ext cx="431640" cy="360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1000080" y="5000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3" name="Line 13"/>
          <p:cNvSpPr/>
          <p:nvPr/>
        </p:nvSpPr>
        <p:spPr>
          <a:xfrm flipH="1" flipV="1">
            <a:off x="1213920" y="713880"/>
            <a:ext cx="1581480" cy="10875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4" name="Line 15"/>
          <p:cNvSpPr/>
          <p:nvPr/>
        </p:nvSpPr>
        <p:spPr>
          <a:xfrm flipH="1" flipV="1">
            <a:off x="1142640" y="713880"/>
            <a:ext cx="500040" cy="107172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м  уравн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х – 3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-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1332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320364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ведем  обе  части уравнения в квадрат, получи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х -3 = х -2 ,   х =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ка: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1 – 3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 – 2,обе части  уравнения не имеют смы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корней 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133200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12" name="Line 6"/>
          <p:cNvSpPr/>
          <p:nvPr/>
        </p:nvSpPr>
        <p:spPr>
          <a:xfrm flipV="1">
            <a:off x="3708360" y="4005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334800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 неразумных чисе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ория иррациональных чисел относится к удивительному открытию пифагорийцев. А началось это с простого вопроса, связанного с вычислением диагонали квадрата, сторона которого равна 1. \ подробно расскажет Катя П.\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яем самостоятель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99 (а, б ,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00 (а, б ,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 б ) проверяем по решению на доске.*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. Задание на до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0 ( г, д, е 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1 ( а, г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265 \ теория \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7. Подведение итогов уро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3880" y="20001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 И. Учащего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омашнее задание  Сам.    Учите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устная рабо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овая работа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.Н. Макарычев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372280" y="1828800"/>
          <a:ext cx="3771720" cy="6218280"/>
        </p:xfrm>
        <a:graphic>
          <a:graphicData uri="http://schemas.openxmlformats.org/drawingml/2006/table">
            <a:tbl>
              <a:tblPr/>
              <a:tblGrid>
                <a:gridCol w="537840"/>
                <a:gridCol w="540000"/>
                <a:gridCol w="538200"/>
                <a:gridCol w="539640"/>
                <a:gridCol w="538200"/>
                <a:gridCol w="539640"/>
                <a:gridCol w="538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5372280" y="3733920"/>
          <a:ext cx="3771720" cy="6218280"/>
        </p:xfrm>
        <a:graphic>
          <a:graphicData uri="http://schemas.openxmlformats.org/drawingml/2006/table">
            <a:tbl>
              <a:tblPr/>
              <a:tblGrid>
                <a:gridCol w="537840"/>
                <a:gridCol w="540000"/>
                <a:gridCol w="538200"/>
                <a:gridCol w="539640"/>
                <a:gridCol w="538200"/>
                <a:gridCol w="539640"/>
                <a:gridCol w="538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Line 574"/>
          <p:cNvSpPr/>
          <p:nvPr/>
        </p:nvSpPr>
        <p:spPr>
          <a:xfrm>
            <a:off x="75564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3" name="Line 575"/>
          <p:cNvSpPr/>
          <p:nvPr/>
        </p:nvSpPr>
        <p:spPr>
          <a:xfrm>
            <a:off x="755640" y="249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4" name="Line 576"/>
          <p:cNvSpPr/>
          <p:nvPr/>
        </p:nvSpPr>
        <p:spPr>
          <a:xfrm>
            <a:off x="831708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5" name="Line 577"/>
          <p:cNvSpPr/>
          <p:nvPr/>
        </p:nvSpPr>
        <p:spPr>
          <a:xfrm flipH="1">
            <a:off x="755640" y="429264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6" name="Line 578"/>
          <p:cNvSpPr/>
          <p:nvPr/>
        </p:nvSpPr>
        <p:spPr>
          <a:xfrm flipV="1">
            <a:off x="755640" y="4220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7" name="Line 579"/>
          <p:cNvSpPr/>
          <p:nvPr/>
        </p:nvSpPr>
        <p:spPr>
          <a:xfrm>
            <a:off x="500364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8" name="Line 580"/>
          <p:cNvSpPr/>
          <p:nvPr/>
        </p:nvSpPr>
        <p:spPr>
          <a:xfrm>
            <a:off x="622764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ПРОБЛЕМА: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Учащиеся не всегда умеют сознательно использовать информацию об иррациональных уравнениях. Грамотно применять свойства корней степени выше третьей, а так же степени с дробным показателем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ЦЕЛИ: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1. Ввести понятие иррациональных уравнений и показать способы их решений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2. Развивать умение  выделять главное, существенное в изучаемом материале, обобщать факты и понятия, развивать самостоятельность, мышление, познавательный интерес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3. Содействовать формированию мировоззренческих понятий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ОБЪЕКТ ИССЛЕДОВАНИЯ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Организация применения различных способов решения иррациональных уравнений, уравнений с параметром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10"/>
          <p:cNvSpPr txBox="1"/>
          <p:nvPr/>
        </p:nvSpPr>
        <p:spPr>
          <a:xfrm rot="20866200">
            <a:off x="-468000" y="765000"/>
            <a:ext cx="932508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" Посредством уравнений, теорем                                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85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Я уйму всяких разрешал проблем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852000"/>
              </a:gradFill>
              <a:latin typeface="Impact"/>
              <a:ea typeface="Impact"/>
            </a:endParaRPr>
          </a:p>
        </p:txBody>
      </p:sp>
      <p:sp>
        <p:nvSpPr>
          <p:cNvPr id="355" name="WordArt 12"/>
          <p:cNvSpPr txBox="1"/>
          <p:nvPr/>
        </p:nvSpPr>
        <p:spPr>
          <a:xfrm rot="20948400">
            <a:off x="2195280" y="2060640"/>
            <a:ext cx="50544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Чостер, английский поэт, средние века)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6" name="WordArt 14"/>
          <p:cNvSpPr txBox="1"/>
          <p:nvPr/>
        </p:nvSpPr>
        <p:spPr>
          <a:xfrm>
            <a:off x="971640" y="4076640"/>
            <a:ext cx="54720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"Уравнение - это золотой ключ,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открывающий все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математические Сезамы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зация урока. (1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ановка целей, принятие их учащимися.(2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прос, раскрывающий сущность проблемы. Дискуссия о возможных путях её решений.(3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знакомление с новым материалом. (20 мин.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ичное осмысление и применение изученного. ( 7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(10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ановка домашнего задания. ( 1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ведение итогов урока (2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зервные задания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 algn="ctr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чало уро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Надеюсь ,что у вас серьезный настрой  на урок. Желаю вам высоких результа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ходе дискуссии нам необходимо поразмышлять и сформулировать свои  мысли, чтобы найти ответ на поставленный вопрос. В споре  недопустимы  оскорбления, упреки, недоброжелательность в отношении к  своим одноклассни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Вопрос - пробл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 шаг в решении уравнения приводит к появлению лишних  корн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 ошиб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6 -36 =25 – 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6-36+20,25=25-45+20,2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4-4,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(5-4,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-4,5=5-4,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=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: Если  квадраты  двух  выражений  равны, то их основания  либо равны между собой, либо  противополож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Изучение нового материал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в которых переменная содержится под знаком корня, называются иррациона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стно: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ие из следующих уравнений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х +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√ х   = 2                д) х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+ √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х = 0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б) х √7 = 11+х                 е) 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2 =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в)у + √ 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 = 2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х – 1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Какое уравнение не имеет корн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050920" y="342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140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19080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1692360" y="378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1908000" y="4149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2" name="Line 10"/>
          <p:cNvSpPr/>
          <p:nvPr/>
        </p:nvSpPr>
        <p:spPr>
          <a:xfrm>
            <a:off x="190800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536400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558000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4. Первичное осмысл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– 6 = 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– 3 =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+ 4 =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5 – х =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2 – х = х +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111600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104292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1042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10429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111600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111600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0:11:56Z</dcterms:created>
  <dc:creator>Ольга Юрьевна</dc:creator>
  <dc:description/>
  <dc:language>en-US</dc:language>
  <cp:lastModifiedBy>Коля</cp:lastModifiedBy>
  <dcterms:modified xsi:type="dcterms:W3CDTF">2013-03-26T17:09:42Z</dcterms:modified>
  <cp:revision>26</cp:revision>
  <dc:subject/>
  <dc:title>Иррациональные уравнения</dc:title>
</cp:coreProperties>
</file>