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724-6E61-4DBF-9799-13289084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568-1D11-4E71-8370-45F050B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B3F-89BA-4E58-B149-5E38F305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600-245C-40AA-8028-DC0BA4D1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2F9E-9BE8-4FFE-9D54-3FCEF8C7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604E-2593-4F6C-89C0-10B4231E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CE92-726F-458F-AC97-D7C88031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9E33-12F7-4ED3-A0C3-4C58F88F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6FA8-02A5-4EB7-9C30-40D08742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F307-9101-49DF-9546-15BDF6C4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7BEF-A284-4813-BD1F-602EB1A1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C42-7661-4B58-A7F1-2721872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EC9B-6E8C-4806-ADD3-F5774639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37F0-8D5E-4E86-8CE2-19F1FC7E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5246-644E-44C8-94AE-B153AE30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A9FB-CE97-4CC1-9614-27C3DD0B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3983-5FB3-4C43-A069-144902F3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8616-9981-435D-BF74-DFCE9139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C045-BD5D-4384-BCC1-BEBFDF8B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1939-D4A4-4427-BDE9-6F1D68F8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A943E-F2BA-4CCF-A69D-51337E1C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F5949-B1C7-429F-A740-E46D8FD1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E2F-D17D-433D-910E-B0D68055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12BDA-8626-4804-B8E6-BF10A1B7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0D93-5400-498B-A7D8-F5793B2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7C7A-5612-458F-814D-28B37E70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54E4-2964-4B2C-B5E3-806F7299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81F3-3A9F-4DA9-90B4-D5C797AB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2FA1-ED5B-4E51-AB8D-488D3688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89C5-E11A-4C90-92CC-DECE6DA7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A69B-5582-44FB-88F9-A1E0EAB8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D349-96EF-45ED-8B72-7FCABF66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E7DAF-5AC2-496B-96E3-FFE2D28F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E31-ED65-48A9-94B0-4A0BF1A9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6BD8-6BDD-4CA2-804F-FD234CF3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E7CA6-2193-4A52-BD83-693E691A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6CC6-6867-418A-B4DB-E5745E94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16F5A-8D78-41F9-B87A-2D98689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5420-CB09-478A-8EBF-D1778108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73E7-E237-421C-A00B-A8028596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63B76-7CB3-4EF9-AB66-09AD8283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91F5D-8701-496D-8376-A38ADEF7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A0E8-6021-4D78-A1AC-2DE24B77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7E5-E068-4341-9B4F-4B40753D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4A6-2A73-41BE-B0E1-290C6C58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E5C-7469-4989-83E6-75E715B6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A2F-E9EF-4D4F-8F5D-DF7C8808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44B-880E-4EEC-91DD-CC461A2F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01DE-703E-4D55-BCE1-0D8EC0CA1341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4856-890C-4875-98F7-3CBD3DD2546E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9c2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9c2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E5D1-45AF-426A-B4D8-1BC6ED87EE29}" type="slidenum">
              <a:rPr b="0" lang="en-US" sz="1200" spc="-1" strike="noStrike">
                <a:solidFill>
                  <a:srgbClr val="c0b9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BF00-2346-49A6-BB0B-FE49C156B2EA}" type="slidenum">
              <a:rPr b="0" lang="en-US" sz="1200" spc="-1" strike="noStrike">
                <a:solidFill>
                  <a:srgbClr val="6462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зентацию выполнил: ученик 7-а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оминых Ники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bure03.jpg"/>
          <p:cNvPicPr/>
          <p:nvPr/>
        </p:nvPicPr>
        <p:blipFill>
          <a:blip r:embed="rId3"/>
          <a:stretch/>
        </p:blipFill>
        <p:spPr>
          <a:xfrm>
            <a:off x="428760" y="214200"/>
            <a:ext cx="4168800" cy="27860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" descr="43628793_1241899992_hockeyrussia.jpg"/>
          <p:cNvPicPr/>
          <p:nvPr/>
        </p:nvPicPr>
        <p:blipFill>
          <a:blip r:embed="rId4"/>
          <a:stretch/>
        </p:blipFill>
        <p:spPr>
          <a:xfrm>
            <a:off x="1500120" y="3786120"/>
            <a:ext cx="3929040" cy="264816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pic-icehockey_28original-ty.jpg"/>
          <p:cNvPicPr/>
          <p:nvPr/>
        </p:nvPicPr>
        <p:blipFill>
          <a:blip r:embed="rId5"/>
          <a:stretch/>
        </p:blipFill>
        <p:spPr>
          <a:xfrm>
            <a:off x="7000920" y="4286160"/>
            <a:ext cx="162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571680" y="642960"/>
            <a:ext cx="80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Хоккей - вид спорта, в котором две команды стараются поразить твёрдым, круглым мячом или шайбой цель — ворота противника, используя клюшки. В каждой команде есть один вратарь, который защищает ворота своей коман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4" descr="ab166ee0-8113-4ad5-befe-cfa94d4dabd1.jpg"/>
          <p:cNvPicPr/>
          <p:nvPr/>
        </p:nvPicPr>
        <p:blipFill>
          <a:blip r:embed="rId2"/>
          <a:stretch/>
        </p:blipFill>
        <p:spPr>
          <a:xfrm>
            <a:off x="1357200" y="2571840"/>
            <a:ext cx="61437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1170000" y="-219240"/>
            <a:ext cx="8255160" cy="1432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428760" y="150012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Constantia"/>
              </a:rPr>
              <a:t>Где и когда родился хоккей ? Точного ответа на этот вопрос нет и уже, наверное, не будет. Имеются сведения, что игры, напоминающие хоккей, существовали ещё с древнейших времён. Принято считать, что они зародились еще в Персии, где когда-то появилось поло. У древних греков также была игра, напоминающая хоккей, которая даже была включена в программу Олимпийских игр. Называлась она «фрейнинда» В Афинах, на барельефах знаменитой стены Фемистокла, которой более 2400 лет изображены молодые люди, которые играют в то, что очень напоминает современный хоккей на траве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Hockey.jpg"/>
          <p:cNvPicPr/>
          <p:nvPr/>
        </p:nvPicPr>
        <p:blipFill>
          <a:blip r:embed="rId3"/>
          <a:stretch/>
        </p:blipFill>
        <p:spPr>
          <a:xfrm>
            <a:off x="4500720" y="378612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400px-Hockey.svg.png"/>
          <p:cNvPicPr/>
          <p:nvPr/>
        </p:nvPicPr>
        <p:blipFill>
          <a:blip r:embed="rId4"/>
          <a:stretch/>
        </p:blipFill>
        <p:spPr>
          <a:xfrm>
            <a:off x="1357200" y="4286160"/>
            <a:ext cx="1905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2809800" y="-50652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500040" y="114300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с шайб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играется на льду с маленьким резиновым диском, называемым шайбой. Самый популярный из всех видов хокке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лайн-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с шайбой, играемый на роликовых коньк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оккей на траве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играется на травяном (или другом подходящем) покрытии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орхокк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аналог хоккея на траве, играемый на площадке для гандбол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ккей с мячом (Русский хоккей) — играется на льду с маленьким, твёрд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лорбол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хоккей в зале, играемый пластмассовыми клюшками и полым пластмассовым мяч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2"/>
          <a:stretch/>
        </p:blipFill>
        <p:spPr>
          <a:xfrm>
            <a:off x="1170000" y="-43344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428760" y="1214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Удивительно, но женский хоккей зародился практически одновременно с мужским. Первый матч женских команд состоялся, конечно же, в Канаде, по разным данным, то ли в 1889, то ли в 1892 году. В любом случае, это почти за 20 лет до основания НХЛ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Рисунок 4" descr="12599127431001556915zhenkhokkey.jpg"/>
          <p:cNvPicPr/>
          <p:nvPr/>
        </p:nvPicPr>
        <p:blipFill>
          <a:blip r:embed="rId3"/>
          <a:stretch/>
        </p:blipFill>
        <p:spPr>
          <a:xfrm>
            <a:off x="2357280" y="3143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7693d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28760" y="428760"/>
            <a:ext cx="83581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осемь лет спустя прошёл первый чемпионат мира по хоккею среди женщин. В финале встретились две североамериканские сборные, а победу одержали, конечно же, представительницы Канады. В 1992-м МОК принял решение о включении этого вида спорта в программу зимних Олимпийских игр, начиная с Олимпиады-98 в Японии. Так что 1992 год стал переломным в истории женского хоккея с шайбо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Да, хоккей — настоящая мужская игра, и мужской хоккей всегда был, есть и будет мощнее, зрелищнее и интереснее. И то, что женщины тоже хотят им заниматься, лишь подтверждает уникальность этой игры. Ну, согласитесь, здорово же, что современный хоккей развивается, движется вперёд, наращивает свою популярность и притягивает новых поклонников!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2951280" y="1639800"/>
            <a:ext cx="825336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4:25:47Z</dcterms:created>
  <dc:creator>Илья</dc:creator>
  <dc:description/>
  <dc:language>en-US</dc:language>
  <cp:lastModifiedBy>XP</cp:lastModifiedBy>
  <dcterms:modified xsi:type="dcterms:W3CDTF">2011-10-09T05:43:45Z</dcterms:modified>
  <cp:revision>6</cp:revision>
  <dc:subject/>
  <dc:title>ХОККЕЙ</dc:title>
</cp:coreProperties>
</file>