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36A-7D56-48F5-A3F7-3241A745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45C-1303-4E42-9CA9-91C4692F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68D-5EC7-4205-BCF5-E2B3656D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FAE-E7C5-4899-893E-357001DF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2078-E0B0-4374-BE0D-26F85043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40FB-9301-4ADA-9A67-CE10C9BC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98B9-B76F-4475-9501-B6B55DEE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8BE9-AA13-4FF7-860C-B1B1F08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C16B-18F2-4016-8E8E-E3C4C46A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C8F7-5922-4B69-87A6-E1DD80C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3F1D-2245-4F78-864B-D2E7CFF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4D4-38CA-4176-824F-0D702781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3992-E482-436A-8E1B-073D6FA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4FDA-2931-4833-8AFE-DD3D7AB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469B-30C0-4C31-90F0-DA7E26A7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4A74-43E6-4059-B912-C1537D3B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B4DF-0B5F-4FE7-A797-6456D867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62AD-AA13-4E4B-9DCE-426E953E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BE72-631F-450C-B36D-2A875ACC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9DED-AB0D-477F-9E94-74AFBB4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E50D-9FE9-4C87-A407-61B34280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26CC-68DA-41CF-8812-A2C66129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55A-74DE-4A85-8CF1-F43F199D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B06A0-E414-4A4B-AF5B-901CDF09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4230-0F4A-4C2D-A397-22D4ABC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B51A-1197-4A87-83B3-F9BEE83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AC2B-91DF-48FF-8576-71B10E4C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1E90-FD40-4064-8869-6D5AF3B0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92F5-9889-490F-9A8F-3389BC06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D3E5-CB9D-48E1-B88D-1E405C15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E2BA-07DD-4010-87F2-FAFD0B67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DDD94-E79B-46AB-B683-B67B1A0A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2A56-1F86-41F8-9C7C-D5E2C5CB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951-0606-4601-B4DD-6B12E333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2A52-686C-4C11-831E-2278D40C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57E23-00C8-40EE-B420-A4768825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ADD0-0B4B-46EE-9DE1-FEC22CDE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D9BF-6AD7-4D21-9FFA-15CA76B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B2FD-44CB-447C-B99C-D8D0CC2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09590-B813-4147-98DC-F4834DE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06D8-B61E-4308-9DEF-2D9A3B9C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1F5F8-9EAB-4325-9EE6-04DEB4A2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6E05-710C-4BD4-8C14-5E1C1A9F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A54-9F2A-4BAB-BA5B-71CB4A72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981-1CC6-4CEE-BDE8-41A713B1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5C7-8676-4AB2-9234-DAD7309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AF1-0ECE-4DB4-A0EE-35A65FBA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4C7-F09B-447F-9F16-0A9427D7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910D-39EC-4FF1-8A8C-78A22767C7BC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B691-F281-411F-9D92-5956486FB7FE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A3C0-E39E-46DE-BD1A-B76D8E901F9C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CCD0-A572-4082-B4FD-F1879BB553C1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зентацию выполнил: ученик 7-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оминых Ник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bure03.jpg"/>
          <p:cNvPicPr/>
          <p:nvPr/>
        </p:nvPicPr>
        <p:blipFill>
          <a:blip r:embed="rId3"/>
          <a:stretch/>
        </p:blipFill>
        <p:spPr>
          <a:xfrm>
            <a:off x="428760" y="214200"/>
            <a:ext cx="4168800" cy="2786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43628793_1241899992_hockeyrussia.jpg"/>
          <p:cNvPicPr/>
          <p:nvPr/>
        </p:nvPicPr>
        <p:blipFill>
          <a:blip r:embed="rId4"/>
          <a:stretch/>
        </p:blipFill>
        <p:spPr>
          <a:xfrm>
            <a:off x="1500120" y="3786120"/>
            <a:ext cx="3929040" cy="26481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pic-icehockey_28original-ty.jpg"/>
          <p:cNvPicPr/>
          <p:nvPr/>
        </p:nvPicPr>
        <p:blipFill>
          <a:blip r:embed="rId5"/>
          <a:stretch/>
        </p:blipFill>
        <p:spPr>
          <a:xfrm>
            <a:off x="7000920" y="4286160"/>
            <a:ext cx="162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571680" y="64296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Хоккей - вид спорта, в котором две команды стараются поразить твёрдым, круглым мячом или шайбой цель — ворота противника, используя клюшки. В каждой команде есть один вратарь, который защищает ворота своей коман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ab166ee0-8113-4ad5-befe-cfa94d4dabd1.jpg"/>
          <p:cNvPicPr/>
          <p:nvPr/>
        </p:nvPicPr>
        <p:blipFill>
          <a:blip r:embed="rId2"/>
          <a:stretch/>
        </p:blipFill>
        <p:spPr>
          <a:xfrm>
            <a:off x="1357200" y="2571840"/>
            <a:ext cx="61437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1170000" y="-219240"/>
            <a:ext cx="8255160" cy="1432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428760" y="15001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onstantia"/>
              </a:rPr>
              <a:t>Где и когда родился хоккей ? Точного ответа на этот вопрос нет и уже, наверное, не будет. Имеются сведения, что игры, напоминающие хоккей, существовали ещё с древнейших времён. Принято считать, что они зародились еще в Персии, где когда-то появилось поло. У древних греков также была игра, напоминающая хоккей, которая даже была включена в программу Олимпийских игр. Называлась она «фрейнинда» В Афинах, на барельефах знаменитой стены Фемистокла, которой более 2400 лет изображены молодые люди, которые играют в то, что очень напоминает современный хоккей на трав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ockey.jpg"/>
          <p:cNvPicPr/>
          <p:nvPr/>
        </p:nvPicPr>
        <p:blipFill>
          <a:blip r:embed="rId3"/>
          <a:stretch/>
        </p:blipFill>
        <p:spPr>
          <a:xfrm>
            <a:off x="4500720" y="37861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400px-Hockey.svg.png"/>
          <p:cNvPicPr/>
          <p:nvPr/>
        </p:nvPicPr>
        <p:blipFill>
          <a:blip r:embed="rId4"/>
          <a:stretch/>
        </p:blipFill>
        <p:spPr>
          <a:xfrm>
            <a:off x="1357200" y="4286160"/>
            <a:ext cx="190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2809800" y="-50652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500040" y="11430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с шайб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играется на льду с маленьким резиновым диском, называемым шайбой. Самый популярный из всех видов хокк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лайн-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с шайбой, играемый на роликовых конь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на траве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играется на травяном (или другом подходящем) покрытии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ор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на траве, играемый на площадке для гандбо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ккей с мячом (Русский хоккей) — играется на льду с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лорбо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хоккей в зале, играемый пластмассовыми клюшками и полым пластмассов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1170000" y="-43344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428760" y="1214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Удивительно, но женский хоккей зародился практически одновременно с мужским. Первый матч женских команд состоялся, конечно же, в Канаде, по разным данным, то ли в 1889, то ли в 1892 году. В любом случае, это почти за 20 лет до основания НХЛ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12599127431001556915zhenkhokkey.jpg"/>
          <p:cNvPicPr/>
          <p:nvPr/>
        </p:nvPicPr>
        <p:blipFill>
          <a:blip r:embed="rId3"/>
          <a:stretch/>
        </p:blipFill>
        <p:spPr>
          <a:xfrm>
            <a:off x="235728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7693d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28760" y="428760"/>
            <a:ext cx="8358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осемь лет спустя прошёл первый чемпионат мира по хоккею среди женщин. В финале встретились две североамериканские сборные, а победу одержали, конечно же, представительницы Канады. В 1992-м МОК принял решение о включении этого вида спорта в программу зимних Олимпийских игр, начиная с Олимпиады-98 в Японии. Так что 1992 год стал переломным в истории женского хоккея с шайб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а, хоккей — настоящая мужская игра, и мужской хоккей всегда был, есть и будет мощнее, зрелищнее и интереснее. И то, что женщины тоже хотят им заниматься, лишь подтверждает уникальность этой игры. Ну, согласитесь, здорово же, что современный хоккей развивается, движется вперёд, наращивает свою популярность и притягивает новых поклонников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2951280" y="1639800"/>
            <a:ext cx="82533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4:25:47Z</dcterms:created>
  <dc:creator>Илья</dc:creator>
  <dc:description/>
  <dc:language>en-US</dc:language>
  <cp:lastModifiedBy>XP</cp:lastModifiedBy>
  <dcterms:modified xsi:type="dcterms:W3CDTF">2011-10-09T05:43:45Z</dcterms:modified>
  <cp:revision>6</cp:revision>
  <dc:subject/>
  <dc:title>ХОККЕЙ</dc:title>
</cp:coreProperties>
</file>