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959-79E8-40FB-9B3E-4E591A4A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E35-0E05-4A11-B2A6-F4338A9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F1F-036E-4858-BBDC-115B1C4F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B9C-13DD-4883-9CB7-558B3D32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D5B1-8A77-4891-9A2D-183F1A86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728F-11F6-4F57-B6CB-68587E03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9CD5-792D-4CBA-BCE4-CFB68FC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F641-EA81-4E32-9E48-C36133F1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536B-E143-499C-96F5-61CFC5D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A3A-0F0A-4DA1-B4F9-782DC9BA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A52F-7D72-4F49-B112-A91C4839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53B-9D63-4F52-9850-64BEE622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899F-4DCA-499F-BE03-8354BB4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2580-B153-408A-9431-0F967CE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02D0-A16C-4736-B2AE-8F1F72DC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47ED-8EBA-40EA-8941-7E1FADA1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8C68-425D-4DD3-9EFB-7345BFDD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3759-E7B1-4FE4-8784-3B4561EF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4D86-2BCF-4FCF-B22A-F91DE0F1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7CD4-8740-445D-87D8-1629EF63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520B-9DD1-4A13-A5BC-17260B22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3714-B286-48D3-B86C-3F9B11EF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347-ADFC-4573-A1F5-41506DA9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26D8-44AB-4B4D-A276-73841B5D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F4FD-9143-43BB-9341-1BF72AB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ABF6-8424-4E13-8BB0-E78A27B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236B-3E50-43DF-BD9F-8B738DAB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024F-EDBE-4DBC-B5B9-907E4829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1F43-5D02-4706-A7C9-CDBE69DA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AA79-D188-4A91-973B-1E832571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58D0-D230-48AA-B7E1-0A9A9170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6D74-873D-423A-BC14-C1DC8436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492D-28C8-42A4-BDBD-59130AEB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312-3A23-48BC-A3FB-22E016D4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805A8-95F5-479D-B610-34E515B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227F-08FD-4920-8FE0-8813D6B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A0F3-77E8-47F9-AA1D-85EA414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B10D0-BCFE-4C7B-9B30-9D460F86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8FF9-E0CC-40BF-9378-2DD53C3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687D-C912-47D8-979D-F5729BE4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2A06-C8D9-48C7-891D-16EBE79E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BC43-7358-4A65-8C8F-FB1C08E2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127B1-571C-40BF-B9BC-1E67436B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E65-57AE-469B-9091-D7CADCA6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8C0-13E7-4AE9-98A3-7E5D7755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AD9-B5E5-47EE-BAD0-2BB1FBC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527-7820-42B8-86C0-B4F89F6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748-73B0-4B35-B39E-4E8CA1E4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5BF-2E42-42F3-A178-412F9DEAEFF9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4719-D499-41F4-950D-062951DFC6CD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711B-19DD-400E-945C-3D2810C08C5E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86CF-343D-4C64-961A-8047719A00DA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зентацию выполнил: ученик 7-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миных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bure03.jpg"/>
          <p:cNvPicPr/>
          <p:nvPr/>
        </p:nvPicPr>
        <p:blipFill>
          <a:blip r:embed="rId3"/>
          <a:stretch/>
        </p:blipFill>
        <p:spPr>
          <a:xfrm>
            <a:off x="428760" y="214200"/>
            <a:ext cx="416880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43628793_1241899992_hockeyrussia.jpg"/>
          <p:cNvPicPr/>
          <p:nvPr/>
        </p:nvPicPr>
        <p:blipFill>
          <a:blip r:embed="rId4"/>
          <a:stretch/>
        </p:blipFill>
        <p:spPr>
          <a:xfrm>
            <a:off x="1500120" y="3786120"/>
            <a:ext cx="3929040" cy="2648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pic-icehockey_28original-ty.jpg"/>
          <p:cNvPicPr/>
          <p:nvPr/>
        </p:nvPicPr>
        <p:blipFill>
          <a:blip r:embed="rId5"/>
          <a:stretch/>
        </p:blipFill>
        <p:spPr>
          <a:xfrm>
            <a:off x="7000920" y="428616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571680" y="64296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Хоккей - вид спорта, в котором две команды стараются поразить твёрдым, круглым мячом или шайбой цель — ворота противника, используя клюшки. В каждой команде есть один вратарь, который защищает ворота своей коман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ab166ee0-8113-4ad5-befe-cfa94d4dabd1.jpg"/>
          <p:cNvPicPr/>
          <p:nvPr/>
        </p:nvPicPr>
        <p:blipFill>
          <a:blip r:embed="rId2"/>
          <a:stretch/>
        </p:blipFill>
        <p:spPr>
          <a:xfrm>
            <a:off x="1357200" y="2571840"/>
            <a:ext cx="61437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1170000" y="-219240"/>
            <a:ext cx="8255160" cy="1432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428760" y="15001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onstantia"/>
              </a:rPr>
              <a:t>Где и когда родился хоккей ? Точного ответа на этот вопрос нет и уже, наверное, не будет. Имеются сведения, что игры, напоминающие хоккей, существовали ещё с древнейших времён. Принято считать, что они зародились еще в Персии, где когда-то появилось поло. У древних греков также была игра, напоминающая хоккей, которая даже была включена в программу Олимпийских игр. Называлась она «фрейнинда» В Афинах, на барельефах знаменитой стены Фемистокла, которой более 2400 лет изображены молодые люди, которые играют в то, что очень напоминает современный хоккей на трав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ockey.jpg"/>
          <p:cNvPicPr/>
          <p:nvPr/>
        </p:nvPicPr>
        <p:blipFill>
          <a:blip r:embed="rId3"/>
          <a:stretch/>
        </p:blipFill>
        <p:spPr>
          <a:xfrm>
            <a:off x="450072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400px-Hockey.svg.png"/>
          <p:cNvPicPr/>
          <p:nvPr/>
        </p:nvPicPr>
        <p:blipFill>
          <a:blip r:embed="rId4"/>
          <a:stretch/>
        </p:blipFill>
        <p:spPr>
          <a:xfrm>
            <a:off x="1357200" y="4286160"/>
            <a:ext cx="190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2809800" y="-50652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00040" y="11430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с шайб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играется на льду с маленьким резиновым диском, называемым шайбой. Самый популярный из всех видов хокк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лайн-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с шайбой, играемый на роликовых конь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на траве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играется на травяном (или другом подходящем) покрытии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ор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на траве, играемый на площадке для гандбо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ккей с мячом (Русский хоккей) — играется на льду с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лорбо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хоккей в зале, играемый пластмассовыми клюшками и полым пластмассов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170000" y="-43344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42876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дивительно, но женский хоккей зародился практически одновременно с мужским. Первый матч женских команд состоялся, конечно же, в Канаде, по разным данным, то ли в 1889, то ли в 1892 году. В любом случае, это почти за 20 лет до основания НХЛ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12599127431001556915zhenkhokkey.jpg"/>
          <p:cNvPicPr/>
          <p:nvPr/>
        </p:nvPicPr>
        <p:blipFill>
          <a:blip r:embed="rId3"/>
          <a:stretch/>
        </p:blipFill>
        <p:spPr>
          <a:xfrm>
            <a:off x="23572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7693d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28760" y="428760"/>
            <a:ext cx="8358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осемь лет спустя прошёл первый чемпионат мира по хоккею среди женщин. В финале встретились две североамериканские сборные, а победу одержали, конечно же, представительницы Канады. В 1992-м МОК принял решение о включении этого вида спорта в программу зимних Олимпийских игр, начиная с Олимпиады-98 в Японии. Так что 1992 год стал переломным в истории женского хоккея с шайб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, хоккей — настоящая мужская игра, и мужской хоккей всегда был, есть и будет мощнее, зрелищнее и интереснее. И то, что женщины тоже хотят им заниматься, лишь подтверждает уникальность этой игры. Ну, согласитесь, здорово же, что современный хоккей развивается, движется вперёд, наращивает свою популярность и притягивает новых поклонников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951280" y="1639800"/>
            <a:ext cx="82533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4:25:47Z</dcterms:created>
  <dc:creator>Илья</dc:creator>
  <dc:description/>
  <dc:language>en-US</dc:language>
  <cp:lastModifiedBy>XP</cp:lastModifiedBy>
  <dcterms:modified xsi:type="dcterms:W3CDTF">2011-10-09T05:43:45Z</dcterms:modified>
  <cp:revision>6</cp:revision>
  <dc:subject/>
  <dc:title>ХОККЕЙ</dc:title>
</cp:coreProperties>
</file>