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35C-7890-493B-A18D-88AC67D1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3A8-9623-44E4-9327-F6040458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795-66BD-4872-8199-47AD34D0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306-109B-4DEF-B5E9-8D33CB4C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41C1-D920-4A08-A16D-A13FC594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FB3F-BE6C-4285-A750-EBF2608F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667A-E92C-4D4A-A181-D6D08EAD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7964-EA36-4D58-9E82-6F248F20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49F4-CAD3-4F30-AF63-8DF489AB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37E6-1E16-4D3A-AF57-9AE2DD82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334C-4976-46A0-84F8-3EA4BEB5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717-BEF1-4BAC-AF27-DAE9C62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39E3-F5B6-4C58-9660-26A76413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1E69-8756-4C6F-B62F-E179341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6508-BE2D-4934-9152-B23AE4C1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2213-8BFC-45A5-89F1-6F17084B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B885-7C83-4FF9-AB46-D6EC82AA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F55-4A62-4B9C-8045-A79634EB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5F21-5BA0-496D-B8BE-5D914825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BE7-89FA-429F-91BD-EF28D2C2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DCB-8619-41BB-AD62-B85715BD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F4B-7032-4AA3-A574-D15E6CE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862-1A8D-47E9-AFD2-6C8D5B95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FC2-D60E-46FD-96F0-4B757276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B13F-2472-4179-8814-9103EBFF9E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821B-8E34-41FC-A133-DBBAD0D7AE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</a:rPr>
              <a:t>Химически опасные объекты (ХОО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нравственно-волевых каче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чувства ответственности за совершаемые действ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знакомление с классификацией аварий и их послед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Organization Chart 8"/>
          <p:cNvGrpSpPr/>
          <p:nvPr/>
        </p:nvGrpSpPr>
        <p:grpSpPr>
          <a:xfrm>
            <a:off x="395280" y="189000"/>
            <a:ext cx="8208000" cy="6668280"/>
            <a:chOff x="395280" y="189000"/>
            <a:chExt cx="8208000" cy="6668280"/>
          </a:xfrm>
        </p:grpSpPr>
        <p:cxnSp>
          <p:nvCxnSpPr>
            <p:cNvPr id="123" name="_s1028"/>
            <p:cNvCxnSpPr>
              <a:stCxn id="124" idx="1"/>
              <a:endCxn id="125" idx="2"/>
            </p:cNvCxnSpPr>
            <p:nvPr/>
          </p:nvCxnSpPr>
          <p:spPr>
            <a:xfrm rot="10800000">
              <a:off x="2856960" y="972720"/>
              <a:ext cx="821520" cy="5492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8" idx="2"/>
            </p:cNvCxnSpPr>
            <p:nvPr/>
          </p:nvCxnSpPr>
          <p:spPr>
            <a:xfrm flipV="1">
              <a:off x="6140520" y="4503240"/>
              <a:ext cx="6840" cy="392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0"/>
            <p:cNvCxnSpPr>
              <a:stCxn id="128" idx="1"/>
              <a:endCxn id="125" idx="2"/>
            </p:cNvCxnSpPr>
            <p:nvPr/>
          </p:nvCxnSpPr>
          <p:spPr>
            <a:xfrm rot="10800000">
              <a:off x="2856960" y="972720"/>
              <a:ext cx="821520" cy="31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1"/>
            <p:cNvCxnSpPr>
              <a:stCxn id="131" idx="1"/>
              <a:endCxn id="125" idx="2"/>
            </p:cNvCxnSpPr>
            <p:nvPr/>
          </p:nvCxnSpPr>
          <p:spPr>
            <a:xfrm rot="10800000">
              <a:off x="2856960" y="972720"/>
              <a:ext cx="821520" cy="1962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2"/>
            <p:cNvCxnSpPr>
              <a:stCxn id="133" idx="1"/>
              <a:endCxn id="125" idx="2"/>
            </p:cNvCxnSpPr>
            <p:nvPr/>
          </p:nvCxnSpPr>
          <p:spPr>
            <a:xfrm rot="10800000">
              <a:off x="2856960" y="972720"/>
              <a:ext cx="821520" cy="78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5" name="_s1033"/>
            <p:cNvSpPr/>
            <p:nvPr/>
          </p:nvSpPr>
          <p:spPr>
            <a:xfrm>
              <a:off x="395280" y="18900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60000"/>
                  </a:solidFill>
                  <a:latin typeface="Times New Roman"/>
                </a:rPr>
                <a:t>Классификация авари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e60000"/>
                  </a:solidFill>
                  <a:latin typeface="Times New Roman"/>
                </a:rPr>
                <a:t> </a:t>
              </a:r>
              <a:r>
                <a:rPr b="1" lang="en-US" sz="2500" spc="-1" strike="noStrike">
                  <a:solidFill>
                    <a:srgbClr val="e60000"/>
                  </a:solidFill>
                  <a:latin typeface="Times New Roman"/>
                </a:rPr>
                <a:t>по масштабам последствий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_s1034"/>
            <p:cNvSpPr/>
            <p:nvPr/>
          </p:nvSpPr>
          <p:spPr>
            <a:xfrm>
              <a:off x="3678480" y="136548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част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_s1035"/>
            <p:cNvSpPr/>
            <p:nvPr/>
          </p:nvSpPr>
          <p:spPr>
            <a:xfrm>
              <a:off x="3678480" y="254232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объектов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1036"/>
            <p:cNvSpPr/>
            <p:nvPr/>
          </p:nvSpPr>
          <p:spPr>
            <a:xfrm>
              <a:off x="3678480" y="371916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мест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1037"/>
            <p:cNvSpPr/>
            <p:nvPr/>
          </p:nvSpPr>
          <p:spPr>
            <a:xfrm>
              <a:off x="3678480" y="489600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региональ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1038"/>
            <p:cNvSpPr/>
            <p:nvPr/>
          </p:nvSpPr>
          <p:spPr>
            <a:xfrm>
              <a:off x="3678480" y="6072840"/>
              <a:ext cx="4924800" cy="78444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глобальные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4" name="Picture 32" descr="j0185604"/>
          <p:cNvPicPr/>
          <p:nvPr/>
        </p:nvPicPr>
        <p:blipFill>
          <a:blip r:embed="rId1"/>
          <a:stretch/>
        </p:blipFill>
        <p:spPr>
          <a:xfrm>
            <a:off x="179280" y="1989000"/>
            <a:ext cx="237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Times New Roman"/>
              </a:rPr>
              <a:t>Причины аварий на ХО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897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Взры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ожа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оломка технологического обору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арушение технологии производ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арушение правил эксплуатации оборуд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Высокая степень износ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есоблюдение мер безопас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Низкая произв. дисциплин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j0240695"/>
          <p:cNvPicPr/>
          <p:nvPr/>
        </p:nvPicPr>
        <p:blipFill>
          <a:blip r:embed="rId1"/>
          <a:stretch/>
        </p:blipFill>
        <p:spPr>
          <a:xfrm>
            <a:off x="4859280" y="1773360"/>
            <a:ext cx="3960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Способы транспортировки АХ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57675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Железнодорожный транспо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Автомобильный транспор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Морские су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Трубопров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Запасы АХОВ на ХОО хранятся в специальных емкостях (резервуарах). В основном эти емкости цилиндрической или шаровой фор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33070"/>
          <p:cNvPicPr/>
          <p:nvPr/>
        </p:nvPicPr>
        <p:blipFill>
          <a:blip r:embed="rId1"/>
          <a:stretch/>
        </p:blipFill>
        <p:spPr>
          <a:xfrm>
            <a:off x="250920" y="4653000"/>
            <a:ext cx="296208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183328"/>
          <p:cNvPicPr/>
          <p:nvPr/>
        </p:nvPicPr>
        <p:blipFill>
          <a:blip r:embed="rId2"/>
          <a:stretch/>
        </p:blipFill>
        <p:spPr>
          <a:xfrm>
            <a:off x="468360" y="1916280"/>
            <a:ext cx="22320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Оборудование машин и емкостей предназначенных для перевозки АХ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Проблесковый маячо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Цистерны окрашиваются яркими цвет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Регистрационный знак с кодом перевозимого веще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Водители проходят обуч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Times New Roman"/>
              </a:rPr>
              <a:t>Наличие средств для тушения огн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250920" y="549360"/>
            <a:ext cx="8642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Times New Roman"/>
              </a:rPr>
              <a:t>Основным поражающим фактором при авариях на ХО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является </a:t>
            </a:r>
            <a:r>
              <a:rPr b="0" lang="ru-RU" sz="4800" spc="-1" strike="noStrike" u="sng">
                <a:solidFill>
                  <a:srgbClr val="00cc00"/>
                </a:solidFill>
                <a:uFillTx/>
                <a:latin typeface="Times New Roman"/>
              </a:rPr>
              <a:t>химическое заражени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иземного слоя атмосферы, приводящее к поражению людей, находящихся в зоне действия АХО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арактеристики влияющие на распространение АХ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Размеры очага химического зараж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Скорость и направление вет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Температура приземного слоя атмосфер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Кол-во и вид АХОВ находящегося в центре авар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Times New Roman"/>
              </a:rPr>
              <a:t>Кол-во влаги в атмосфе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Симптомы отравления ртуть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Общая слаб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Головная бо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Повышенная температу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Боль в деснах и живот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Желудочные расстрой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ожет возникнуть воспаление легки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Развивается дрожание частей организм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ние.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324000" y="162864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4000" y="1722600"/>
            <a:ext cx="57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24000" y="1700280"/>
            <a:ext cx="453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Нарисуйте форму зоны заражения при скорости ветра: 0-0,5м\с, 1м\с, 2м\с, </a:t>
            </a:r>
            <a:r>
              <a:rPr b="1" i="1" lang="en-US" sz="4000" spc="-1" strike="noStrike">
                <a:solidFill>
                  <a:srgbClr val="00cc00"/>
                </a:solidFill>
                <a:latin typeface="Times New Roman"/>
              </a:rPr>
              <a:t>&gt;</a:t>
            </a: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2м\с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j0293828"/>
          <p:cNvPicPr/>
          <p:nvPr/>
        </p:nvPicPr>
        <p:blipFill>
          <a:blip r:embed="rId1"/>
          <a:stretch/>
        </p:blipFill>
        <p:spPr>
          <a:xfrm>
            <a:off x="4932360" y="213372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3T09:47:52Z</dcterms:created>
  <dc:creator>Гость</dc:creator>
  <dc:description/>
  <dc:language>en-US</dc:language>
  <cp:lastModifiedBy>Николай</cp:lastModifiedBy>
  <dcterms:modified xsi:type="dcterms:W3CDTF">2012-06-26T09:38:01Z</dcterms:modified>
  <cp:revision>18</cp:revision>
  <dc:subject/>
  <dc:title>Возможные последствия при авариях на ХОО</dc:title>
</cp:coreProperties>
</file>