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85-B8CE-496E-B2DE-9CE60229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718-BD78-4482-9CFD-46E68536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CFA-F618-4AA9-AE95-34CFAC6A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ACA-6265-4915-A397-C827F71B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DE5-F280-46DE-8183-E4A3789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A09D-B1B6-484A-A25A-3AE6FC4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EB19-2D8B-46A1-8C70-C1360F2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5E96-A1BB-4061-A7D1-DB6176F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6CC3-B4D6-42DA-9F4D-1629258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AEDC-79E0-47AF-9B8D-D7EEFFD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138-85C0-430B-BA07-73CEE17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E34-4837-40B7-839C-3668B738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C813-4BC4-4338-A3B1-A3689436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A535-66F8-4D96-BD59-F5A59E4A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1B0A-6AEF-4238-9800-01FB63B8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61B3-8F93-43B1-B2C8-EC9D878A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7050-9909-4CF9-AD95-9664C521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E4C-5C43-44BC-B3AC-7AEF404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0D5-6A1C-498D-9EF4-0667268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5EB-AAB6-4FFE-B40C-E4D3E685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EC0-15F3-496D-83EA-C1A3CEFA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3F6-AF5A-492A-8607-20C2C3A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ABF-342B-42B3-823A-500D7C1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9C8-C732-4B41-B549-73620DD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372-E4A7-4EA4-A795-338FC9DC1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56FE-AD73-4E48-833A-4C977EC37C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Химически опасные объекты (ХОО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нравственно-волевых каче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чувства ответственности за совершаемые дейст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знакомление с классификацией аварий и их послед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Organization Chart 8"/>
          <p:cNvGrpSpPr/>
          <p:nvPr/>
        </p:nvGrpSpPr>
        <p:grpSpPr>
          <a:xfrm>
            <a:off x="395280" y="189000"/>
            <a:ext cx="8208000" cy="6668280"/>
            <a:chOff x="395280" y="189000"/>
            <a:chExt cx="8208000" cy="6668280"/>
          </a:xfrm>
        </p:grpSpPr>
        <p:cxnSp>
          <p:nvCxnSpPr>
            <p:cNvPr id="123" name="_s1028"/>
            <p:cNvCxnSpPr>
              <a:stCxn id="124" idx="1"/>
              <a:endCxn id="125" idx="2"/>
            </p:cNvCxnSpPr>
            <p:nvPr/>
          </p:nvCxnSpPr>
          <p:spPr>
            <a:xfrm rot="10800000">
              <a:off x="2856960" y="972720"/>
              <a:ext cx="821520" cy="549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V="1">
              <a:off x="6140520" y="4503240"/>
              <a:ext cx="6840" cy="392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0"/>
            <p:cNvCxnSpPr>
              <a:stCxn id="128" idx="1"/>
              <a:endCxn id="125" idx="2"/>
            </p:cNvCxnSpPr>
            <p:nvPr/>
          </p:nvCxnSpPr>
          <p:spPr>
            <a:xfrm rot="10800000">
              <a:off x="2856960" y="972720"/>
              <a:ext cx="821520" cy="31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1"/>
            <p:cNvCxnSpPr>
              <a:stCxn id="131" idx="1"/>
              <a:endCxn id="125" idx="2"/>
            </p:cNvCxnSpPr>
            <p:nvPr/>
          </p:nvCxnSpPr>
          <p:spPr>
            <a:xfrm rot="10800000">
              <a:off x="2856960" y="972720"/>
              <a:ext cx="821520" cy="196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2"/>
            <p:cNvCxnSpPr>
              <a:stCxn id="133" idx="1"/>
              <a:endCxn id="125" idx="2"/>
            </p:cNvCxnSpPr>
            <p:nvPr/>
          </p:nvCxnSpPr>
          <p:spPr>
            <a:xfrm rot="10800000">
              <a:off x="2856960" y="972720"/>
              <a:ext cx="821520" cy="78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1033"/>
            <p:cNvSpPr/>
            <p:nvPr/>
          </p:nvSpPr>
          <p:spPr>
            <a:xfrm>
              <a:off x="395280" y="189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Классификация авар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по масштабам последств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>
              <a:off x="3678480" y="136548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ча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1035"/>
            <p:cNvSpPr/>
            <p:nvPr/>
          </p:nvSpPr>
          <p:spPr>
            <a:xfrm>
              <a:off x="3678480" y="254232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объектов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3678480" y="371916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ме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037"/>
            <p:cNvSpPr/>
            <p:nvPr/>
          </p:nvSpPr>
          <p:spPr>
            <a:xfrm>
              <a:off x="3678480" y="4896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>
              <a:off x="3678480" y="607284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Picture 32" descr="j0185604"/>
          <p:cNvPicPr/>
          <p:nvPr/>
        </p:nvPicPr>
        <p:blipFill>
          <a:blip r:embed="rId1"/>
          <a:stretch/>
        </p:blipFill>
        <p:spPr>
          <a:xfrm>
            <a:off x="179280" y="1989000"/>
            <a:ext cx="23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чины аварий на ХО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897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зры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ж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омка технологического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технологии производ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правил эксплуатации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ысокая степень изно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есоблюдение мер без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изкая произв. дисциплин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j0240695"/>
          <p:cNvPicPr/>
          <p:nvPr/>
        </p:nvPicPr>
        <p:blipFill>
          <a:blip r:embed="rId1"/>
          <a:stretch/>
        </p:blipFill>
        <p:spPr>
          <a:xfrm>
            <a:off x="4859280" y="1773360"/>
            <a:ext cx="396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Способы транспортиров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57675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Железнодорож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Автомобиль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Морские су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Трубопров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пасы АХОВ на ХОО хранятся в специальных емкостях (резервуарах). В основном эти емкости цилиндрической или шаровой фор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33070"/>
          <p:cNvPicPr/>
          <p:nvPr/>
        </p:nvPicPr>
        <p:blipFill>
          <a:blip r:embed="rId1"/>
          <a:stretch/>
        </p:blipFill>
        <p:spPr>
          <a:xfrm>
            <a:off x="250920" y="4653000"/>
            <a:ext cx="296208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183328"/>
          <p:cNvPicPr/>
          <p:nvPr/>
        </p:nvPicPr>
        <p:blipFill>
          <a:blip r:embed="rId2"/>
          <a:stretch/>
        </p:blipFill>
        <p:spPr>
          <a:xfrm>
            <a:off x="468360" y="1916280"/>
            <a:ext cx="2232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Оборудование машин и емкостей предназначенных для перевоз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роблесковый маячо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Цистерны окрашиваются яркими цвет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Регистрационный знак с кодом перевозимого вещ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Водители проходят обуч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Наличие средств для тушения ог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250920" y="549360"/>
            <a:ext cx="8642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Times New Roman"/>
              </a:rPr>
              <a:t>Основным поражающим фактором при авариях на ХО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является </a:t>
            </a:r>
            <a:r>
              <a:rPr b="0" lang="ru-RU" sz="4800" spc="-1" strike="noStrike" u="sng">
                <a:solidFill>
                  <a:srgbClr val="00cc00"/>
                </a:solidFill>
                <a:uFillTx/>
                <a:latin typeface="Times New Roman"/>
              </a:rPr>
              <a:t>химическое зараж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иземного слоя атмосферы, приводящее к поражению людей, находящихся в зоне действия АХ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истики влияющие на распространение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Размеры очага химического зараж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Скорость и направление вет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Температура приземного слоя атмосфер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и вид АХОВ находящегося в центре авар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влаги в атмосф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имптомы отравления ртуть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бщая слаб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оловная б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Повышенная температу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Боль в деснах и живот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Желудочные расстр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ожет возникнуть воспаление легк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Развивается дрожание частей организ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4000" y="1628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4000" y="1722600"/>
            <a:ext cx="57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24000" y="1700280"/>
            <a:ext cx="45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Нарисуйте форму зоны заражения при скорости ветра: 0-0,5м\с, 1м\с, 2м\с, 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&gt;</a:t>
            </a: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2м\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j0293828"/>
          <p:cNvPicPr/>
          <p:nvPr/>
        </p:nvPicPr>
        <p:blipFill>
          <a:blip r:embed="rId1"/>
          <a:stretch/>
        </p:blipFill>
        <p:spPr>
          <a:xfrm>
            <a:off x="4932360" y="213372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09:47:52Z</dcterms:created>
  <dc:creator>Гость</dc:creator>
  <dc:description/>
  <dc:language>en-US</dc:language>
  <cp:lastModifiedBy>Николай</cp:lastModifiedBy>
  <dcterms:modified xsi:type="dcterms:W3CDTF">2012-06-26T09:38:01Z</dcterms:modified>
  <cp:revision>18</cp:revision>
  <dc:subject/>
  <dc:title>Возможные последствия при авариях на ХОО</dc:title>
</cp:coreProperties>
</file>