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A49E-8AEC-4B10-957C-D3FCDB43B2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8150-0218-4625-97AA-C02B1D495F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67FA-53E1-4000-ADED-D316CAD19E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76E1-6905-4D43-AEAF-A84629E50C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392A-860D-4640-BE5E-F0ECC6990E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80CC-51EC-441E-ADA7-99ED7FCD64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2AB4-C1D0-444D-820B-3F422D14D4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BBAC-3A69-4C32-A5D8-B76834FB93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2849-2677-483C-A036-30429F8390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73B6-018C-4747-9E66-E3F600DE74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4817-ACBB-4D53-9944-5A1C2E93C0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3A26-32A3-42FA-83C9-A4D58AFA7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E5FC-6D15-4F2F-AA75-EAC9979C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9885-CF91-4B3B-BBB5-A3154D73B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FAC0-58EE-44E5-9DC4-E94A4B73C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9790-EF9C-43D3-B75C-0EE99E4F0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5F6C-5024-466B-999E-31A2FDCC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809F-B756-4F07-B90A-F835A839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A1A3-64C8-42A3-B3C5-0045C666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2F8D9-99C4-4F70-8D45-74851BD0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F226-CDF2-47C0-9529-E109AB3C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36A9-7E84-4F1C-AB2A-EA7F079A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8E5A-06EF-4B03-9E16-B00471B0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E535-ADC6-4B6E-B75F-11CA236E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FF5B-F55C-48B4-9DF4-7E0918F9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1091-9803-4EEF-83C6-A48CDA04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57CA-4371-4992-BD60-85B54B170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CB24-F7AE-4BAB-A639-87DC8DE74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21FA5-1BF1-479F-9E56-D4B847D03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EB296-16BC-446E-B73F-2BAE256D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EA6C5-1329-4222-9E98-F069BD18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8F3CF-3595-4EA2-A0DF-9710DE02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26418-BCF7-431A-84F2-45759373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7BC6-F254-4E33-8D22-E3C2C20C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4256A-BB19-454A-8401-AA910C26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B7ED9-E152-4770-B10C-E9D1E286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6AA82-E23E-4303-9858-A3B01993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33628-FA04-465D-8391-B5DFCD6B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AE0DD-89FB-445E-987B-74C802F7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97353-93AA-4F97-9B46-30BA38C0F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59E57-236D-45CB-991E-2C0AF9407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555BC-FCC4-4BB2-8951-D0BC86676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C18A4-988B-418C-872D-1ED2068D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DE0C7-06BB-4B19-9EB1-CBFD463E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8BA2-8C2F-4956-9B31-BDB3A47C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2A9DF-AD98-47A1-A8DD-28BF81AC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6A2D8-1C22-49BB-8A17-A1D47634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73114-1369-4372-B593-6B480829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15B42-3479-4B6C-BDC4-63738D4C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BA30D-CD50-4438-894B-9E31A704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C76D4-2CA1-447F-B332-84ADC22A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72183-39C2-4B4F-9FCA-6062EC5F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2DA5C-AA6F-4535-B9C6-570F61F91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3FA82-EE1F-4191-AD39-0118669EE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799C-24FF-4B03-9F6B-1CFE4374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5AF7-F147-4F36-95EA-08B434FA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679D-8D34-4DDF-ADF0-25B1FBA4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B4DA-E9F9-4213-A1A9-71667DED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3225-5D12-4C3B-9D0E-6D3ABA63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88B3-BF01-4B65-A24E-06D5CAA99CA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DA2A-32F2-466F-8686-85C6AEAB34E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3175-75E4-450C-860F-352F93E86E2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CEEB-9F88-4031-8305-A19E17E54B2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hyperlink" Target="http://prezentacii.com/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hyperlink" Target="http://prezentacii.com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633240" y="208080"/>
            <a:ext cx="7864560" cy="1906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C:\Users\Сашуля\Desktop\00045889.jpg"/>
          <p:cNvPicPr/>
          <p:nvPr/>
        </p:nvPicPr>
        <p:blipFill>
          <a:blip r:embed="rId2"/>
          <a:stretch/>
        </p:blipFill>
        <p:spPr>
          <a:xfrm>
            <a:off x="2143080" y="2786040"/>
            <a:ext cx="4714920" cy="353556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3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000000"/>
          </a:solidFill>
          <a:ln w="38160">
            <a:solidFill>
              <a:srgbClr val="c8e3fb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Times New Roman"/>
                <a:hlinkClick r:id="rId3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8" name="Picture 4" descr="C:\Users\Сашуля\Desktop\i.jpeg"/>
          <p:cNvPicPr/>
          <p:nvPr/>
        </p:nvPicPr>
        <p:blipFill>
          <a:blip r:embed="rId1"/>
          <a:stretch/>
        </p:blipFill>
        <p:spPr>
          <a:xfrm>
            <a:off x="1714680" y="1500120"/>
            <a:ext cx="5878440" cy="39052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C:\Users\Сашуля\Desktop\rsg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C:\Users\Сашуля\Desktop\Y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C:\Users\Сашуля\Desktop\2069058.jpg"/>
          <p:cNvPicPr/>
          <p:nvPr/>
        </p:nvPicPr>
        <p:blipFill>
          <a:blip r:embed="rId4"/>
          <a:stretch/>
        </p:blipFill>
        <p:spPr>
          <a:xfrm>
            <a:off x="642960" y="0"/>
            <a:ext cx="77868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6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c8e3fb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Times New Roman"/>
                <a:hlinkClick r:id="rId5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4617b"/>
                </a:solidFill>
                <a:latin typeface="Calibri"/>
              </a:rPr>
              <a:t>Гимнастика-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10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это один из наиболее популярных видов спорта. Существует несколько видов гимнастики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10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здоровительные виды гимнастики предусматривают выполнение упражнений в режиме дня в виде упражнений утренней гимнастики, физкультуры, физкультминутки в учебных заведениях и на производстве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10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Гигиеническая гимнастика — используется для сохранения и укрепления здоровья, поддержания на высоком уровне физической и умственной работоспособности, общественной активности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10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Ритмическая гимнастика — разновидность оздоровительной гимнастики. Важным элементом ритмической гимнастики является музыкальное сопровождение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10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К образовательно-развивающим видам гимнастики относятся: основная, женская, атлетическая, профессионально-прикладная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7000"/>
                            </p:stCondLst>
                            <p:childTnLst>
                              <p:par>
                                <p:cTn id="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9000"/>
                            </p:stCondLst>
                            <p:childTnLst>
                              <p:par>
                                <p:cTn id="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651280" y="1916280"/>
            <a:ext cx="349236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 спортивным видам гимнастики относятся: художественная, спортивная, акробатическая командна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2" descr="C:\Users\Сашуля\Desktop\0_3175_c9bb10e6_L.jpeg"/>
          <p:cNvPicPr/>
          <p:nvPr/>
        </p:nvPicPr>
        <p:blipFill>
          <a:blip r:embed="rId1"/>
          <a:stretch/>
        </p:blipFill>
        <p:spPr>
          <a:xfrm>
            <a:off x="468360" y="476280"/>
            <a:ext cx="528012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4617b"/>
                </a:solidFill>
                <a:latin typeface="Calibri"/>
              </a:rPr>
              <a:t>Спортивная гимнастика -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483920"/>
            <a:ext cx="411480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ид спорта, включающий соревнования на гимнастических снарядах, в вольных упражнениях и в опорных прыжках. В современной программе гимнастического многоборья: для женщин — на брусьях разной высоты, бревне, в опорных прыжках, вольных упражнениях; для мужчин — в вольных упражнениях, опорных прыжках, на коне, кольцах, параллельных брусьях и перекладине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2" descr="C:\Users\Сашуля\Desktop\180px-Gymnasta.jpg"/>
          <p:cNvPicPr/>
          <p:nvPr/>
        </p:nvPicPr>
        <p:blipFill>
          <a:blip r:embed="rId1"/>
          <a:stretch/>
        </p:blipFill>
        <p:spPr>
          <a:xfrm>
            <a:off x="5003640" y="1484280"/>
            <a:ext cx="381348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691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olas"/>
              </a:rPr>
              <a:t>Гимнастические упражнения входили в систему физического воспитания ещё в Древней Греции, служили средством подготовки юношей к участию в Олимпийских играх. С конца XVIII — начала XIX века в западноевропейских и русской системах физического воспитания использовались упражнения на гимнастических снарядах, опорные прыжки. Во 2-й половине XIX века в ряде стран Западной Европы стали проводиться соревнования по некоторым видам гимнастических упражнений. Первые состязания в России состоялись в 1885 году в Москве. В 1881 году создана Международная федерация гимнастики. С 1896 года спортивная гимнастика включена в программу Олимпийских игр, с 1928 года в Олимпийских играх участвуют женщины. С 1903 года проводятся чемпионаты мира (до 1913 — раз в 2 года, с 1922 — раз в 4 года), с 1934 в чемпионатах участвуют женщин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4617b"/>
                </a:solidFill>
                <a:latin typeface="Calibri"/>
              </a:rPr>
              <a:t>Художественная гимнастика -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196640"/>
            <a:ext cx="40384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ид спорта, выполнение под музыку различных гимнастических и танцевальных упражнений без предмета, а также с предметом (скакалка, обруч, мяч, булавы, лента). В последнее время выступления без предмета не проводятся на соревнованиях мирового класса. При групповых выступлениях используются или одновременно два вида предметов (например — обручи и мячи) или один вид (пять мячей, пять пар булав). Победители определяются в многоборье, в отдельных видах и групповом упражнениях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642920" y="1484280"/>
            <a:ext cx="40388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ыступления оцениваются по двадцатибалльной системе. Один из самых зрелищных и изящных видов спорта. В СССР художественная гимнастика как вид спорта возникла и сформировалась в 1940-е годы. С 1984 года — олимпийский вид спорта. До недавнего времени исключительно женский вид спорта, однако, с конца XX века — благодаря усилиям японских гимнастов стали проводиться соревнования и между мужчинам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50920" y="907920"/>
            <a:ext cx="403992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4617b"/>
                </a:solidFill>
                <a:latin typeface="Constantia"/>
              </a:rPr>
              <a:t>упражнение с ленто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101920" y="551628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4617b"/>
                </a:solidFill>
                <a:latin typeface="Constantia"/>
              </a:rPr>
              <a:t>с обручами и булавам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2" descr="C:\Users\Сашуля\Desktop\180px-Cervenkova.JPG"/>
          <p:cNvPicPr/>
          <p:nvPr/>
        </p:nvPicPr>
        <p:blipFill>
          <a:blip r:embed="rId1"/>
          <a:stretch/>
        </p:blipFill>
        <p:spPr>
          <a:xfrm>
            <a:off x="0" y="2205000"/>
            <a:ext cx="4527720" cy="4653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C:\Users\Сашуля\Desktop\180px-Rhythmic_gymnasts_posing.jpg"/>
          <p:cNvPicPr/>
          <p:nvPr/>
        </p:nvPicPr>
        <p:blipFill>
          <a:blip r:embed="rId2"/>
          <a:stretch/>
        </p:blipFill>
        <p:spPr>
          <a:xfrm>
            <a:off x="4211640" y="189000"/>
            <a:ext cx="474192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04617b"/>
                </a:solidFill>
                <a:latin typeface="Calibri"/>
              </a:rPr>
              <a:t>Командная гимнастика.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омандная гимнастика (англ. teamgym) зародилась в Скандинавии, в которой являлась основным видом гимнастики в течение 20 лет. Соревнование EuroTeam — одно из новых в Календаре UEG. Первое официальное соревнование было проведено в Финляндии в 1996 году, и теперь проводится каждые 2 года. TeamGym — соревнование команд — клубов и состоит из трех категорий: женские, мужские и смешанные команды. Состоит из трех видов: Вольные упражнения, прыжки с мини-батута и акробатические прыжки. В каждой из трех дисциплин число гимнастов — от 6 до 12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Заголовок 1"/>
          <p:cNvSpPr/>
          <p:nvPr/>
        </p:nvSpPr>
        <p:spPr>
          <a:xfrm>
            <a:off x="250920" y="4724280"/>
            <a:ext cx="8229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4617b"/>
                </a:solidFill>
                <a:latin typeface="Calibri"/>
              </a:rPr>
              <a:t>Спортивная</a:t>
            </a:r>
            <a:r>
              <a:rPr b="1" i="1" lang="ru-RU" sz="5000" spc="-1" strike="noStrike">
                <a:solidFill>
                  <a:srgbClr val="04617b"/>
                </a:solidFill>
                <a:latin typeface="Calibri"/>
              </a:rPr>
              <a:t> акробатика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Содержимое 2"/>
          <p:cNvSpPr/>
          <p:nvPr/>
        </p:nvSpPr>
        <p:spPr>
          <a:xfrm>
            <a:off x="324000" y="5300640"/>
            <a:ext cx="8229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портивная акробатика включает в себя три группы упражнений: акробатические прыжки, парные и групповые упраж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4617b"/>
                </a:solidFill>
                <a:latin typeface="Calibri"/>
              </a:rPr>
              <a:t>Гимнастические снаряды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78920" y="836640"/>
            <a:ext cx="41403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льц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русь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нь гимнастически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ерекладина (турник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яч гимнастически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Хоппер (мяч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2" descr="C:\Users\Сашуля\Desktop\zal-1.jpg"/>
          <p:cNvPicPr/>
          <p:nvPr/>
        </p:nvPicPr>
        <p:blipFill>
          <a:blip r:embed="rId1"/>
          <a:stretch/>
        </p:blipFill>
        <p:spPr>
          <a:xfrm>
            <a:off x="3564000" y="3165480"/>
            <a:ext cx="523404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8000"/>
                            </p:stCondLst>
                            <p:childTnLst>
                              <p:par>
                                <p:cTn id="1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11:18:18Z</dcterms:created>
  <dc:creator>Пользователь Windows</dc:creator>
  <dc:description/>
  <dc:language>en-US</dc:language>
  <cp:lastModifiedBy>Admin</cp:lastModifiedBy>
  <dcterms:modified xsi:type="dcterms:W3CDTF">2012-07-27T12:02:19Z</dcterms:modified>
  <cp:revision>9</cp:revision>
  <dc:subject/>
  <dc:title>Гимнастика.</dc:title>
</cp:coreProperties>
</file>