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A44C-F7BA-4618-990F-2559318A7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31E-EA68-4D19-95A6-C9FA95FC3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69A-6201-4DF4-BFCE-BC6574844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B38-005C-4E11-B028-DA47C96CC4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CB9-52FA-464E-98B4-A4106CB9A4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E3BD-A704-4B61-8C48-2D108541E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D36-BE77-45BE-8D81-F34D64A897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7C67-8776-46B1-85D4-C0A4C7407E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6CE9-06B1-4CB9-B3AE-0E337A3657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E33-D7E8-49D6-B1C5-6C75A131CE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B798-E104-4187-B16D-B3938661A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F04-B3D8-49B8-A9DF-2326D5B5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305-B8E8-4B3B-90A4-584FC5B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BFC-7DE9-4565-AFB6-24E88638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E33-9C00-4B13-AE7F-8BD46A8B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F27-B549-42CA-A547-D24864FC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95D7-B529-4EE8-B49A-BA17983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E75-AEE9-48D3-9AEA-B893F86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E17-AD1B-4770-BD99-58BD3A91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0CC8-95D0-4814-A061-5FEA45AC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9A81-6156-4016-BC4C-A08F2ADF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029A-DB6E-4BEA-8566-A2FAB558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500-22B4-49EA-98C0-55E7B03D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5685-04F9-4804-9F37-44962E3A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5E10-2903-4886-A3A9-3F86FD4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4B22-099F-47DB-B78F-AA86BECD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39A9-4BEA-4A2B-B02D-1271F3E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F84E-AC49-49FC-BD4D-96409357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4649-527F-4877-94BA-F0FC5D97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5265-7613-4B46-947A-8BAC7FA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A2DA2-1EA7-4A32-96B4-B5F4C9D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45F7-F1F8-4D48-BE41-249AF18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95E7-52F0-4A87-BA19-5B46ED40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E34-DD31-4FD9-83EE-F1958931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85BA-D922-4B87-9424-949BA7EE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C30F-04D3-466F-B368-51F04EF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18B37-4A0D-4066-9EB9-6CB2CB0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987B-ADA0-45C9-965B-44468A5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3A2D-312B-4663-82E8-6C51576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0DC7-1D5D-4D5A-A8E8-ED12E999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B156-F670-475D-BF09-418DF79E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9EBD7-1B65-4E3F-8904-88031A3B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9540-D575-4E44-8D7E-1AAF3449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498E-846E-4CE9-A313-82189F7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5EC-416E-4950-A9F6-11B39895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44C43-4C1F-4A81-A35D-155C63FF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557C0-3785-4154-89D1-06F14AF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D1C0-B740-4B15-AC7B-8C7A31E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95B0-9368-473F-8E26-41A15324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858F-D36C-4CF7-A1CD-ADACC04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D84DE-1407-4C0E-94AC-F69BCE5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8B6A-165B-4FDA-9236-AFDBFC05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0F7A-89DE-4CF7-980F-C03FB7CF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2465-3047-4E1D-B68D-D121BFDB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26B-7C12-4FFB-B88B-B288EFD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7E0-1FC2-410B-8145-C270DAA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AC5-ED9B-4D8E-BDDD-49F8240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9CC-BCF6-474A-8950-F33E458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AC92-8960-4954-9C07-7974F0F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AEA-8699-4DC7-B449-C5B95F10C14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7EC-F157-412E-A692-987D8ACE347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B29-BD34-4D4B-8E81-CFF535E8A4A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9ED-7F71-4AD4-99A2-46F4B4FE96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7864560" cy="190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C:\Users\Сашуля\Desktop\00045889.jpg"/>
          <p:cNvPicPr/>
          <p:nvPr/>
        </p:nvPicPr>
        <p:blipFill>
          <a:blip r:embed="rId2"/>
          <a:stretch/>
        </p:blipFill>
        <p:spPr>
          <a:xfrm>
            <a:off x="2143080" y="2786040"/>
            <a:ext cx="4714920" cy="35355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C:\Users\Сашуля\Desktop\i.jpeg"/>
          <p:cNvPicPr/>
          <p:nvPr/>
        </p:nvPicPr>
        <p:blipFill>
          <a:blip r:embed="rId1"/>
          <a:stretch/>
        </p:blipFill>
        <p:spPr>
          <a:xfrm>
            <a:off x="1714680" y="1500120"/>
            <a:ext cx="5878440" cy="390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C:\Users\Сашуля\Desktop\rsg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Сашуля\Desktop\Y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Users\Сашуля\Desktop\2069058.jpg"/>
          <p:cNvPicPr/>
          <p:nvPr/>
        </p:nvPicPr>
        <p:blipFill>
          <a:blip r:embed="rId4"/>
          <a:stretch/>
        </p:blipFill>
        <p:spPr>
          <a:xfrm>
            <a:off x="642960" y="0"/>
            <a:ext cx="77868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c8e3fb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Times New Roman"/>
                <a:hlinkClick r:id="rId5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ка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один из наиболее популярных видов спорта. Существует несколько видов гимнастик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здоровительные виды гимнастики предусматривают выполнение упражнений в режиме дня в виде упражнений утренней гимнастики, физкультуры, физкультминутки в учебных заведениях и на производств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игиеническая гимнастика — используется для сохранения и укрепления здоровья, поддержания на высоком уровне физической и умственной работоспособности, общественной активности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итмическая гимнастика — разновидность оздоровительной гимнастики. Важным элементом ритмической гимнастики является музыкальное сопровожд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10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К образовательно-развивающим видам гимнастики относятся: основная, женская, атлетическая, профессионально-прикладна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651280" y="1916280"/>
            <a:ext cx="3492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спортивным видам гимнастики относятся: художественная, спортивная, акробатическая командна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C:\Users\Сашуля\Desktop\0_3175_c9bb10e6_L.jpeg"/>
          <p:cNvPicPr/>
          <p:nvPr/>
        </p:nvPicPr>
        <p:blipFill>
          <a:blip r:embed="rId1"/>
          <a:stretch/>
        </p:blipFill>
        <p:spPr>
          <a:xfrm>
            <a:off x="468360" y="476280"/>
            <a:ext cx="52801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Спортивная гимнастика -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83920"/>
            <a:ext cx="411480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ид спорта, включающий соревнования на гимнастических снарядах, в вольных упражнениях и в опорных прыжках. В современной программе гимнастического многоборья: для женщин — на брусьях разной высоты, бревне, в опорных прыжках, вольных упражнениях; для мужчин — в вольных упражнениях, опорных прыжках, на коне, кольцах, параллельных брусьях и перекладин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Сашуля\Desktop\180px-Gymnasta.jpg"/>
          <p:cNvPicPr/>
          <p:nvPr/>
        </p:nvPicPr>
        <p:blipFill>
          <a:blip r:embed="rId1"/>
          <a:stretch/>
        </p:blipFill>
        <p:spPr>
          <a:xfrm>
            <a:off x="5003640" y="1484280"/>
            <a:ext cx="381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olas"/>
              </a:rPr>
              <a:t>Гимнастические упражнения входили в систему физического воспитания ещё в Древней Греции, служили средством подготовки юношей к участию в Олимпийских играх. С конца XVIII — начала XIX века в западноевропейских и русской системах физического воспитания использовались упражнения на гимнастических снарядах, опорные прыжки. Во 2-й половине XIX века в ряде стран Западной Европы стали проводиться соревнования по некоторым видам гимнастических упражнений. Первые состязания в России состоялись в 1885 году в Москве. В 1881 году создана Международная федерация гимнастики. С 1896 года спортивная гимнастика включена в программу Олимпийских игр, с 1928 года в Олимпийских играх участвуют женщины. С 1903 года проводятся чемпионаты мира (до 1913 — раз в 2 года, с 1922 — раз в 4 года), с 1934 в чемпионатах участвуют женщ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Художественная гимнастика -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6640"/>
            <a:ext cx="4038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ид спорта, выполнение под музыку различных гимнастических и танцевальных упражнений без предмета, а также с предметом (скакалка, обруч, мяч, булавы, лента). В последнее время выступления без предмета не проводятся на соревнованиях мирового класса. При групповых выступлениях используются или одновременно два вида предметов (например — обручи и мячи) или один вид (пять мячей, пять пар булав). Победители определяются в многоборье, в отдельных видах и групповом упражн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2920" y="1484280"/>
            <a:ext cx="4038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ступления оцениваются по двадцатибалльной системе. Один из самых зрелищных и изящных видов спорта. В СССР художественная гимнастика как вид спорта возникла и сформировалась в 1940-е годы. С 1984 года — олимпийский вид спорта. До недавнего времени исключительно женский вид спорта, однако, с конца XX века — благодаря усилиям японских гимнастов стали проводиться соревнования и между мужч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40399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упражнение с лент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01920" y="551628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Constantia"/>
              </a:rPr>
              <a:t>с обручами и булав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C:\Users\Сашуля\Desktop\180px-Cervenkova.JPG"/>
          <p:cNvPicPr/>
          <p:nvPr/>
        </p:nvPicPr>
        <p:blipFill>
          <a:blip r:embed="rId1"/>
          <a:stretch/>
        </p:blipFill>
        <p:spPr>
          <a:xfrm>
            <a:off x="0" y="2205000"/>
            <a:ext cx="4527720" cy="465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Сашуля\Desktop\180px-Rhythmic_gymnasts_posing.jpg"/>
          <p:cNvPicPr/>
          <p:nvPr/>
        </p:nvPicPr>
        <p:blipFill>
          <a:blip r:embed="rId2"/>
          <a:stretch/>
        </p:blipFill>
        <p:spPr>
          <a:xfrm>
            <a:off x="4211640" y="189000"/>
            <a:ext cx="47419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4617b"/>
                </a:solidFill>
                <a:latin typeface="Calibri"/>
              </a:rPr>
              <a:t>Командная гимнастика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мандная гимнастика (англ. teamgym) зародилась в Скандинавии, в которой являлась основным видом гимнастики в течение 20 лет. Соревнование EuroTeam — одно из новых в Календаре UEG. Первое официальное соревнование было проведено в Финляндии в 1996 году, и теперь проводится каждые 2 года. TeamGym — соревнование команд — клубов и состоит из трех категорий: женские, мужские и смешанные команды. Состоит из трех видов: Вольные упражнения, прыжки с мини-батута и акробатические прыжки. В каждой из трех дисциплин число гимнастов — от 6 до 12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Заголовок 1"/>
          <p:cNvSpPr/>
          <p:nvPr/>
        </p:nvSpPr>
        <p:spPr>
          <a:xfrm>
            <a:off x="250920" y="472428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4617b"/>
                </a:solidFill>
                <a:latin typeface="Calibri"/>
              </a:rPr>
              <a:t>Спортивная</a:t>
            </a: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 акробатика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одержимое 2"/>
          <p:cNvSpPr/>
          <p:nvPr/>
        </p:nvSpPr>
        <p:spPr>
          <a:xfrm>
            <a:off x="324000" y="530064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портивная акробатика включает в себя три группы упражнений: акробатические прыжки, парные и групповы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Гимнастические снаря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8920" y="836640"/>
            <a:ext cx="4140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ьц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рус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нь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кладина (турник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яч гимнастическ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ппер (мяч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Users\Сашуля\Desktop\zal-1.jpg"/>
          <p:cNvPicPr/>
          <p:nvPr/>
        </p:nvPicPr>
        <p:blipFill>
          <a:blip r:embed="rId1"/>
          <a:stretch/>
        </p:blipFill>
        <p:spPr>
          <a:xfrm>
            <a:off x="3564000" y="3165480"/>
            <a:ext cx="52340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1:18:18Z</dcterms:created>
  <dc:creator>Пользователь Windows</dc:creator>
  <dc:description/>
  <dc:language>en-US</dc:language>
  <cp:lastModifiedBy>Admin</cp:lastModifiedBy>
  <dcterms:modified xsi:type="dcterms:W3CDTF">2012-07-27T12:02:19Z</dcterms:modified>
  <cp:revision>9</cp:revision>
  <dc:subject/>
  <dc:title>Гимнастика.</dc:title>
</cp:coreProperties>
</file>