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B52E-AF0C-4B8A-9288-1F9D4BD21E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48A3-66EB-4E58-ACEF-CED2D0AFEB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1FEC-9200-46D2-B91F-39C3B681EF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C6E6-9C95-4E8A-B9FA-9F2D04E3D4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AB6F-1ECD-4253-89D2-AFEE9BB98B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3E46-B79D-4752-BAF6-C28CD09AC7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D4DD-C96E-41FB-82D3-660EAFD273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1C9E-F6B3-4AB6-9046-F82950907C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531C-1B6C-40C3-8AC5-E6A1CEBE0E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7EB0-C487-41E3-8C28-DF6717EF28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E0C1-C37F-44F3-ACF1-0E3D8D31FE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765B-C11D-4979-906E-F05FCC0A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EB2-9C55-465E-BD78-6B42206A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92EA-5A01-4F06-9DA0-C3C888BE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056-2A10-48CC-A8AB-5FACC92B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67B6-811F-465D-AF8A-14B7A54E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BB5F-532F-4E43-A63A-6B9CFD6E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6416-EA39-4D28-96B4-85C865D3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E06C-5823-45F0-900E-75C840BA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0F15-AE56-4979-85B4-4E139469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63D8-3F74-4732-8AD6-8C00C3D3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6613-7990-47D8-99E7-B03EEB39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31D-C524-4B2B-8CC6-FE13BCDE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D949-A859-4992-8AB4-4949D522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10EB-D2DC-4013-890D-38762B04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EF23-0D4D-43C0-ADF8-545C8E9E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C0B8-1EDB-42D4-89BD-CF24D339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7958-5CA0-440A-AA8F-25AF11F8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BBC26-1F33-4924-8034-0F4CAD63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C02AA-52DE-486C-A292-5FFBDFCB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491BA-3FD3-4462-90D0-89186C46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51E52-A2A6-412F-8A20-919AFBC6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DD2CA-B0E8-4F36-B8B5-7B20BECB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43F-2510-4A5A-A8B9-F357B407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59CD9-2A58-4297-BBFA-ED10CF8B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51968-E2B4-4195-A837-1D79A86C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AD8BE-4B1B-4B88-924E-46011A83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8484C-4678-4FD7-BCFC-4313EFF7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6F0D6-D7D9-4319-BCCE-692A7031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284DB-9AC9-4C9F-B201-C8099981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1EEE3-0C92-4500-B95A-89560967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4C54E-CFAD-484A-B110-4A24D442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B753E-724E-419C-B0F3-95001A25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1925D-3E37-45FA-86FF-5E5D26B6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C89-621B-4C1D-BCF1-192ADE61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11DF5-57B9-48CF-969B-242D8A71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4A643-9D94-43A4-A0EC-796DFA46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A96BD-7DEE-4328-8B2A-FD278157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A317E-C35A-4830-850A-4207C98E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6B7D8-480A-4C8E-BA6A-7868DE5C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5D276-E40E-4A21-990A-3500C776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3856A-63D3-456F-A243-CC09AD22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E7CFD-CF0B-423C-8DB8-3DE3409E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2A6AE-7780-4599-8251-59DBB0B7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7D55-E9AA-42B1-85CC-1540E4F1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DD2-9419-4956-B78F-C5DAF1C3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BCC-FC20-4595-A338-ED5329BB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D72-3169-4F97-9BE0-C542E2A3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F0E-A21C-4A0C-A87A-834D11CC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EACB-4161-4819-B7AA-E35EC2D424D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E39F-5D6E-4F5F-938B-D72BCE39851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2DC7-AD6B-41B1-9CDE-A33DE6FB487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194A-F78C-4992-88CA-B49643EB093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hyperlink" Target="http://prezentacii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633240" y="208080"/>
            <a:ext cx="7864560" cy="1906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C:\Users\Сашуля\Desktop\00045889.jpg"/>
          <p:cNvPicPr/>
          <p:nvPr/>
        </p:nvPicPr>
        <p:blipFill>
          <a:blip r:embed="rId2"/>
          <a:stretch/>
        </p:blipFill>
        <p:spPr>
          <a:xfrm>
            <a:off x="2143080" y="2786040"/>
            <a:ext cx="4714920" cy="35355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0000"/>
          </a:solidFill>
          <a:ln w="38160">
            <a:solidFill>
              <a:srgbClr val="c8e3fb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Times New Roman"/>
                <a:hlinkClick r:id="rId3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4" descr="C:\Users\Сашуля\Desktop\i.jpeg"/>
          <p:cNvPicPr/>
          <p:nvPr/>
        </p:nvPicPr>
        <p:blipFill>
          <a:blip r:embed="rId1"/>
          <a:stretch/>
        </p:blipFill>
        <p:spPr>
          <a:xfrm>
            <a:off x="1714680" y="1500120"/>
            <a:ext cx="5878440" cy="3905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C:\Users\Сашуля\Desktop\rsg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Users\Сашуля\Desktop\Y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Users\Сашуля\Desktop\2069058.jpg"/>
          <p:cNvPicPr/>
          <p:nvPr/>
        </p:nvPicPr>
        <p:blipFill>
          <a:blip r:embed="rId4"/>
          <a:stretch/>
        </p:blipFill>
        <p:spPr>
          <a:xfrm>
            <a:off x="642960" y="0"/>
            <a:ext cx="77868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c8e3fb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Times New Roman"/>
                <a:hlinkClick r:id="rId5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Гимнастика-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10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это один из наиболее популярных видов спорта. Существует несколько видов гимнастики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10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здоровительные виды гимнастики предусматривают выполнение упражнений в режиме дня в виде упражнений утренней гимнастики, физкультуры, физкультминутки в учебных заведениях и на производств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10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Гигиеническая гимнастика — используется для сохранения и укрепления здоровья, поддержания на высоком уровне физической и умственной работоспособности, общественной активности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10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итмическая гимнастика — разновидность оздоровительной гимнастики. Важным элементом ритмической гимнастики является музыкальное сопровождени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10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К образовательно-развивающим видам гимнастики относятся: основная, женская, атлетическая, профессионально-прикладна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651280" y="1916280"/>
            <a:ext cx="3492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спортивным видам гимнастики относятся: художественная, спортивная, акробатическая командна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C:\Users\Сашуля\Desktop\0_3175_c9bb10e6_L.jpeg"/>
          <p:cNvPicPr/>
          <p:nvPr/>
        </p:nvPicPr>
        <p:blipFill>
          <a:blip r:embed="rId1"/>
          <a:stretch/>
        </p:blipFill>
        <p:spPr>
          <a:xfrm>
            <a:off x="468360" y="476280"/>
            <a:ext cx="528012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Спортивная гимнастика -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483920"/>
            <a:ext cx="41148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ид спорта, включающий соревнования на гимнастических снарядах, в вольных упражнениях и в опорных прыжках. В современной программе гимнастического многоборья: для женщин — на брусьях разной высоты, бревне, в опорных прыжках, вольных упражнениях; для мужчин — в вольных упражнениях, опорных прыжках, на коне, кольцах, параллельных брусьях и перекладин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C:\Users\Сашуля\Desktop\180px-Gymnasta.jpg"/>
          <p:cNvPicPr/>
          <p:nvPr/>
        </p:nvPicPr>
        <p:blipFill>
          <a:blip r:embed="rId1"/>
          <a:stretch/>
        </p:blipFill>
        <p:spPr>
          <a:xfrm>
            <a:off x="5003640" y="1484280"/>
            <a:ext cx="3813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olas"/>
              </a:rPr>
              <a:t>Гимнастические упражнения входили в систему физического воспитания ещё в Древней Греции, служили средством подготовки юношей к участию в Олимпийских играх. С конца XVIII — начала XIX века в западноевропейских и русской системах физического воспитания использовались упражнения на гимнастических снарядах, опорные прыжки. Во 2-й половине XIX века в ряде стран Западной Европы стали проводиться соревнования по некоторым видам гимнастических упражнений. Первые состязания в России состоялись в 1885 году в Москве. В 1881 году создана Международная федерация гимнастики. С 1896 года спортивная гимнастика включена в программу Олимпийских игр, с 1928 года в Олимпийских играх участвуют женщины. С 1903 года проводятся чемпионаты мира (до 1913 — раз в 2 года, с 1922 — раз в 4 года), с 1934 в чемпионатах участвуют женщи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Художественная гимнастика -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96640"/>
            <a:ext cx="4038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ид спорта, выполнение под музыку различных гимнастических и танцевальных упражнений без предмета, а также с предметом (скакалка, обруч, мяч, булавы, лента). В последнее время выступления без предмета не проводятся на соревнованиях мирового класса. При групповых выступлениях используются или одновременно два вида предметов (например — обручи и мячи) или один вид (пять мячей, пять пар булав). Победители определяются в многоборье, в отдельных видах и групповом упражнен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2920" y="1484280"/>
            <a:ext cx="4038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ступления оцениваются по двадцатибалльной системе. Один из самых зрелищных и изящных видов спорта. В СССР художественная гимнастика как вид спорта возникла и сформировалась в 1940-е годы. С 1984 года — олимпийский вид спорта. До недавнего времени исключительно женский вид спорта, однако, с конца XX века — благодаря усилиям японских гимнастов стали проводиться соревнования и между мужчин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403992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Constantia"/>
              </a:rPr>
              <a:t>упражнение с лент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101920" y="551628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Constantia"/>
              </a:rPr>
              <a:t>с обручами и булава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C:\Users\Сашуля\Desktop\180px-Cervenkova.JPG"/>
          <p:cNvPicPr/>
          <p:nvPr/>
        </p:nvPicPr>
        <p:blipFill>
          <a:blip r:embed="rId1"/>
          <a:stretch/>
        </p:blipFill>
        <p:spPr>
          <a:xfrm>
            <a:off x="0" y="2205000"/>
            <a:ext cx="4527720" cy="4653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Сашуля\Desktop\180px-Rhythmic_gymnasts_posing.jpg"/>
          <p:cNvPicPr/>
          <p:nvPr/>
        </p:nvPicPr>
        <p:blipFill>
          <a:blip r:embed="rId2"/>
          <a:stretch/>
        </p:blipFill>
        <p:spPr>
          <a:xfrm>
            <a:off x="4211640" y="189000"/>
            <a:ext cx="47419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4617b"/>
                </a:solidFill>
                <a:latin typeface="Calibri"/>
              </a:rPr>
              <a:t>Командная гимнастика.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мандная гимнастика (англ. teamgym) зародилась в Скандинавии, в которой являлась основным видом гимнастики в течение 20 лет. Соревнование EuroTeam — одно из новых в Календаре UEG. Первое официальное соревнование было проведено в Финляндии в 1996 году, и теперь проводится каждые 2 года. TeamGym — соревнование команд — клубов и состоит из трех категорий: женские, мужские и смешанные команды. Состоит из трех видов: Вольные упражнения, прыжки с мини-батута и акробатические прыжки. В каждой из трех дисциплин число гимнастов — от 6 до 12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250920" y="4724280"/>
            <a:ext cx="8229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Calibri"/>
              </a:rPr>
              <a:t>Спортивная</a:t>
            </a: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 акробатика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одержимое 2"/>
          <p:cNvSpPr/>
          <p:nvPr/>
        </p:nvSpPr>
        <p:spPr>
          <a:xfrm>
            <a:off x="324000" y="530064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портивная акробатика включает в себя три группы упражнений: акробатические прыжки, парные и групповые упра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Гимнастические снаряды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8920" y="836640"/>
            <a:ext cx="4140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льц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русь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нь гимнастическ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кладина (турник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яч гимнастическ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оппер (мяч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C:\Users\Сашуля\Desktop\zal-1.jpg"/>
          <p:cNvPicPr/>
          <p:nvPr/>
        </p:nvPicPr>
        <p:blipFill>
          <a:blip r:embed="rId1"/>
          <a:stretch/>
        </p:blipFill>
        <p:spPr>
          <a:xfrm>
            <a:off x="3564000" y="3165480"/>
            <a:ext cx="52340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1:18:18Z</dcterms:created>
  <dc:creator>Пользователь Windows</dc:creator>
  <dc:description/>
  <dc:language>en-US</dc:language>
  <cp:lastModifiedBy>Admin</cp:lastModifiedBy>
  <dcterms:modified xsi:type="dcterms:W3CDTF">2012-07-27T12:02:19Z</dcterms:modified>
  <cp:revision>9</cp:revision>
  <dc:subject/>
  <dc:title>Гимнастика.</dc:title>
</cp:coreProperties>
</file>