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9867-6A1A-4245-BFE9-32BAB6A04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A3C9-8FC0-47D6-9C9E-CDEB0D6268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EC9-47F9-4E15-9939-D98DD5BC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7D7-A559-4C9F-8451-BB78A551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0C4-1B50-4EE0-AEF3-5432DBAC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0F1-2A58-4FBF-A890-3DA2849F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B71FC-39A2-4891-9447-129ED97B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7D4F-0FC7-446D-A856-2B67E96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80907-EACB-4DBB-AEE4-CBA8F82B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C24A0-39C3-4A63-AAD8-F563A97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46E1-FCB9-4B45-A7F7-5955281B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79EF-0D63-43A1-A27F-402A715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559B7-A93D-41E9-B5EE-DB8BA51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66C-B936-425E-A5A0-E03F6FB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E1AF9-ED94-4977-896A-5DEE85F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94D59-49DD-4B71-A732-56DD4AF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751E-BFA8-4477-82D1-0549611E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B063C-C8DA-4148-A400-F91E8EF7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60EF9-C605-44F6-BAD4-96A1CDF8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244-A391-4135-A6A5-CCB9B931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A88-7630-427D-B2E1-8D04BE14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2A7-8E75-4E5A-9A96-03F54427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C84-D287-49A6-A8B2-303B3670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8D5-95C0-440E-BFD1-AC8E9EF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244-9793-4999-95D3-121CC26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134-3B1B-415C-A328-52DADFBD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3346-AE5D-40D5-96C7-E187AC724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07EA-DF2E-4399-BDD8-3A1BCFA095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7"/>
          <p:cNvSpPr/>
          <p:nvPr/>
        </p:nvSpPr>
        <p:spPr>
          <a:xfrm>
            <a:off x="214200" y="642960"/>
            <a:ext cx="8643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Урок  на  тему:</a:t>
            </a:r>
            <a:br>
              <a:rPr sz="24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«Атлантический  океан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7 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564000" y="600084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4498920"/>
            <a:ext cx="3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4282920"/>
            <a:ext cx="5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79280" y="416412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C:\Documents and Settings\1\Мои документы\Анимашки\транспорт\An1203.gif"/>
          <p:cNvPicPr/>
          <p:nvPr/>
        </p:nvPicPr>
        <p:blipFill>
          <a:blip r:embed="rId1"/>
          <a:stretch/>
        </p:blipFill>
        <p:spPr>
          <a:xfrm>
            <a:off x="468360" y="2492280"/>
            <a:ext cx="31431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заимодействие   океана,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атмосферы и суш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2600" y="5071680"/>
            <a:ext cx="8001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 какой  части  океана   штормы  бушуют  во  вс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зоны  года?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Ответ  на  вопрос найдите в текст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бника на с.2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Содержимое 4" descr="Атлантический океан 5.jpeg"/>
          <p:cNvPicPr/>
          <p:nvPr/>
        </p:nvPicPr>
        <p:blipFill>
          <a:blip r:embed="rId1"/>
          <a:stretch/>
        </p:blipFill>
        <p:spPr>
          <a:xfrm>
            <a:off x="1714680" y="1690560"/>
            <a:ext cx="5572080" cy="31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Температура и соленость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Содержимое 4" descr="РисунокКарта климата Атлантического океана.jpg"/>
          <p:cNvPicPr/>
          <p:nvPr/>
        </p:nvPicPr>
        <p:blipFill>
          <a:blip r:embed="rId1"/>
          <a:stretch/>
        </p:blipFill>
        <p:spPr>
          <a:xfrm>
            <a:off x="4143240" y="1571760"/>
            <a:ext cx="4429440" cy="37144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285920" y="557208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Средняя  соленость  Атлантического  океана  -  34,87‰,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средняя  соленость его  поверхностных  вод – 35,3‰,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 максимальная – более  37,5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5840" y="2286000"/>
            <a:ext cx="328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Температура поверхностны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вод в Атлантике  в  среднем  ниже,   чем    в    Тихом   и  Индийском    океанах.</a:t>
            </a:r>
            <a:br>
              <a:rPr sz="2200"/>
            </a:br>
            <a:r>
              <a:rPr b="0" lang="ru-RU" sz="2200" spc="-1" strike="noStrike">
                <a:solidFill>
                  <a:srgbClr val="ffff00"/>
                </a:solidFill>
                <a:latin typeface="Arial Narrow"/>
              </a:rPr>
              <a:t>Чем  это  объясняется?  </a:t>
            </a:r>
            <a:r>
              <a:rPr b="0" lang="ru-RU" sz="2200" spc="-1" strike="noStrike">
                <a:solidFill>
                  <a:srgbClr val="ff0000"/>
                </a:solidFill>
                <a:latin typeface="Arial Narrow"/>
              </a:rPr>
              <a:t>(Ответ  на  вопрос  найдите  в  тексте  учебника  на  с. 209-210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072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Титаник.jpg"/>
          <p:cNvPicPr/>
          <p:nvPr/>
        </p:nvPicPr>
        <p:blipFill>
          <a:blip r:embed="rId2"/>
          <a:stretch/>
        </p:blipFill>
        <p:spPr>
          <a:xfrm>
            <a:off x="5715000" y="1000080"/>
            <a:ext cx="2500200" cy="1727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785880" y="857160"/>
            <a:ext cx="50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гедия   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«Титаника»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  полном    ходу  столкнулся  с 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йсбергом, привела к учреждению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еждународного ледового патруля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 сообщает  всем судам о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мерах, координатах    и    путях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рейфа  айсберг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857160" y="557208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Течения выносят айсберги в открытый океан до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40</a:t>
            </a:r>
            <a:r>
              <a:rPr b="0" lang="ru-RU" sz="2000" spc="-1" strike="noStrike" baseline="30000">
                <a:solidFill>
                  <a:srgbClr val="ffff00"/>
                </a:solidFill>
                <a:latin typeface="Tahoma"/>
              </a:rPr>
              <a:t>0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с.ш.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 Эти  районы  Атлантики  опасны для  судоходства. 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Животный  мир  океана.jpg"/>
          <p:cNvPicPr/>
          <p:nvPr/>
        </p:nvPicPr>
        <p:blipFill>
          <a:blip r:embed="rId1"/>
          <a:stretch/>
        </p:blipFill>
        <p:spPr>
          <a:xfrm>
            <a:off x="500040" y="1214280"/>
            <a:ext cx="8215200" cy="5214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рганический мир 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143000" y="4286160"/>
            <a:ext cx="7358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Атлантический  океан  богат  промысловыми  видами  рыб: сельдью, морским  окунем, треской, скумбрией, мойвой и другими. Встречаются  акулы, киты, тюлени. Район  Канарских  островов  богат  лангустами  и анчоусами. В  северной  части  встречаются  морск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ежи, моллюс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Хозяйственная  деятельность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в Атлантическом оке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Содержимое 3" descr="Добыча меди и золота со дна Атлантического океана.jpg"/>
          <p:cNvPicPr/>
          <p:nvPr/>
        </p:nvPicPr>
        <p:blipFill>
          <a:blip r:embed="rId1"/>
          <a:stretch/>
        </p:blipFill>
        <p:spPr>
          <a:xfrm>
            <a:off x="4857840" y="1785960"/>
            <a:ext cx="3809880" cy="2357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Панамский  канал.jpg"/>
          <p:cNvPicPr/>
          <p:nvPr/>
        </p:nvPicPr>
        <p:blipFill>
          <a:blip r:embed="rId2"/>
          <a:stretch/>
        </p:blipFill>
        <p:spPr>
          <a:xfrm>
            <a:off x="428760" y="178596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Атлантический океан 9.jpeg"/>
          <p:cNvPicPr/>
          <p:nvPr/>
        </p:nvPicPr>
        <p:blipFill>
          <a:blip r:embed="rId3"/>
          <a:stretch/>
        </p:blipFill>
        <p:spPr>
          <a:xfrm>
            <a:off x="4929120" y="4357800"/>
            <a:ext cx="3714840" cy="2205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Семга Атлантического океана.jpg"/>
          <p:cNvPicPr/>
          <p:nvPr/>
        </p:nvPicPr>
        <p:blipFill>
          <a:blip r:embed="rId4"/>
          <a:stretch/>
        </p:blipFill>
        <p:spPr>
          <a:xfrm>
            <a:off x="500040" y="4357800"/>
            <a:ext cx="3786120" cy="2143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642960" y="328608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нспорт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у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857160" y="4357800"/>
            <a:ext cx="292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ahoma"/>
              </a:rPr>
              <a:t>Рыбный  промысе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5000760" y="335772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обыча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езных  ископаемы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00760" y="5572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ahoma"/>
              </a:rPr>
              <a:t>Рекреационные  ресурс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кологические пробле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Содержимое 3" descr="Загрязнение Атлантического океана 1.jpg"/>
          <p:cNvPicPr/>
          <p:nvPr/>
        </p:nvPicPr>
        <p:blipFill>
          <a:blip r:embed="rId1"/>
          <a:stretch/>
        </p:blipFill>
        <p:spPr>
          <a:xfrm>
            <a:off x="1857240" y="1285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714240" y="557208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Ежегодно   в   Атлантический  океан    попадают   десятки миллионов   тонн   вредных    токсичных    вещест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.  Укажите  особенность  ГП  Атлантического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океан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0040" y="2285640"/>
            <a:ext cx="81439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Атлантический  океан  пересекается  экватором,  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 пересекается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Атлантический  океан  не  пересекается  экватором,  но  пересекается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Атлантический  океан  пересекается  и  экватор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Атлантический  океан  не  пересекается  ни  экватором, ни   начальным  меридиа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802944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.  Обширные  шельфы  Атлантического  океан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прилегают  к  берега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0" y="3285720"/>
            <a:ext cx="5572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Северной  и  Южной  Амер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Южной  Америки  и  Афр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Африки  и  Европ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Европы  и  Северной  Амер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.  В  каких  широтах  расположена  наиболе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широкая  часть  Атлантики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00160" y="3285720"/>
            <a:ext cx="5857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в  полярных  и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в  тропических  и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в  умере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в  экваториаль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.  Образуют    ли    течения    кругооборот  в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Атлантическом  океане?  Выберите   ответ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с  правильным  объяснение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0040" y="2928600"/>
            <a:ext cx="81439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нет, так  как Атлантический  океан  очень  уз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нет,  так   как   береговая   линия  материков 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верном  полушарии  сильно  изреза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да,  так  как  течения  возникают  в  результате  общей  циркуляции  атмосфе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да, так как водные  массы находятся  в  постоянном  дви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Цифровой  диктант  по  теме:</a:t>
            </a: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Тихий  и  Индийский  океаны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85840" y="2714760"/>
            <a:ext cx="85010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Задание.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лушав   утверждение, определите, о  каком  океане  идет  речь.  Если  речь  идет  о  Тихом  океане,  запишите  цифру  «1», если  об  Индийском – цифру  «2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Тихий  океан         -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Индийский  океан  -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56760"/>
            <a:ext cx="8101080" cy="3000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.  «Эти  два  течения   Атлантического  океан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теплые,  переносят   воду   из   тропически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широт   в   умеренные   и    проходят   вдоль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восточных  берегов  материков».  Какие эт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тече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28480" y="3643200"/>
            <a:ext cx="7072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Канарское  и  Бенга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Гвианское  и  Брази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Гольфстрим  и  Бразильско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Северо-Атлантическое  течение  и  течение  Западных  вет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.  Почему  в  северной  части  Атлантическог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океана  айсберги  могут  встречаться  даж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на  сороковых  широтах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99680" y="292860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на  эти  широты  их  выносят  те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из-за  высокой  солености  вод  океана  в  этой части  они  долго  не  тону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Гренландия – главный «производитель»  айсбергов – находится  на  этих  широ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климат  в  сороковых  широтах  очень  сур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101080" cy="3286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.  В  каком  из  данных  морей  Атлантического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океана  добывают  нефть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857680" y="3500280"/>
            <a:ext cx="3357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в  Балтийск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в  Саргассов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в  море  Уэддел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в  Север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тоговое  тестирование</a:t>
            </a:r>
            <a:br>
              <a:rPr sz="4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.  По  общему  объему  мировых  морски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перевозок  Атлантический  океан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0040" y="2571480"/>
            <a:ext cx="81439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 уступает  Индийскому, но  превосходит  Севе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довит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 превосходит  Тихий  и  Индийский  океа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 превосходит  Северный  Ледовитый,  но  уступ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хо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 уступает  Тихому  и  Индийскому  океа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верьте  правильность  выполнения  итогового  тестиро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99720" y="3071880"/>
            <a:ext cx="7286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   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5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6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7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                       8)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оставьте  себе  оценку, согласно  критерия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2600" y="3214440"/>
            <a:ext cx="79297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5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  8       правильных 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4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6 - 7    правильных 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3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4 - 5    правильных  от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2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-     0 - 3    правильных  отв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Домашнее    зад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13840" y="1499760"/>
            <a:ext cx="86439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§ 42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ние   № 2    на   с.22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абочей  тетради по географ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И.И.Баринова, В.Г.Суслов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дготовить  сообщ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загадочных и необычных явлени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тлантического  океа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21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НФОРМАЦИОННЫЕ  РЕСУР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marL="35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ушина И.В., Коринская В.А., Щенев В.А. География. Материки,   океаны, народы и страны. 7 кл.: учебник. – М.: Дрофа, 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http://www.krugosvet.ru/enc/Earth_sciences/geologiya/ATLANTICH  ESKI_OKEAN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privateers.ru/notorious-persons/columbus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s://olkpeace.org/forum/viewtopic.php?f=51&amp;t=63808&amp;start=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planetolog.ru/map-ocean-zoom.php?ocean=AT&amp;id=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just-facts.ru/morya_okean/index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planet.iitp.ru/Oper_pr/Water_Atlantic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realnoeblyndelo.ucoz.com/news/2011-01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calend.ru/event/5010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zoopage.ru/stat.php?idstat=237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informing.ru/economics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http://www.what-this.ru/nature/morya-i-okeanyi/lyudi-i-more.ph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6400" indent="-356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http://www.oceanology.ru/plastic-rubbish-blights-atlantic-ocean/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402912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Цель 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8072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   географическое   положение, историю     исследования,  особенности  природы, хозяйственное использование Атлантического  оке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еографическое положение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тория  исследования 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схож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льеф  д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озяйственная  деятельность  в  океа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сновные  характеристики  Атлантического  оке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1360" y="2285640"/>
            <a:ext cx="7143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 по  величине  оке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щадь – 91, 6 млн. к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 -  329,7  млн. к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няя  глубина  -  3 600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большая  глубина  -  8 742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желоб  Пуэрто-Рик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572320" cy="12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  <a:ea typeface="Tahoma"/>
              </a:rPr>
              <a:t>Географическое положение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Содержимое 4" descr="Карта Атлантического океана 2.gif"/>
          <p:cNvPicPr/>
          <p:nvPr/>
        </p:nvPicPr>
        <p:blipFill>
          <a:blip r:embed="rId1"/>
          <a:stretch/>
        </p:blipFill>
        <p:spPr>
          <a:xfrm>
            <a:off x="571680" y="1571760"/>
            <a:ext cx="3571560" cy="4643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лантический     оке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тянут от субаркт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т  до  Антаркт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й ширины 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игает   в    умер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тах   и   сужается  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ва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стория  исследования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71360"/>
            <a:ext cx="4038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ми  Атлант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секли  викин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28720" y="1143000"/>
            <a:ext cx="425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Х.Колумб –  первый    море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аватель    эпохи   Велики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еографических    открытий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торый отважился пересечь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тлантический  океан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1214280" y="2143080"/>
            <a:ext cx="2643480" cy="314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14240" y="5643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чало  комплексным  исследованиям  Атлантики было положено плаванием «Челленджера» в конце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C:\Documents and Settings\Сергей\Рабочий стол\k03039i.bmp"/>
          <p:cNvPicPr/>
          <p:nvPr/>
        </p:nvPicPr>
        <p:blipFill>
          <a:blip r:embed="rId2"/>
          <a:stretch/>
        </p:blipFill>
        <p:spPr>
          <a:xfrm>
            <a:off x="5500800" y="3214800"/>
            <a:ext cx="192240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оисхождение  Атлантического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13880" y="5429160"/>
            <a:ext cx="78584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-54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лантический океан  - самый  молодой, образовал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оло 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160  млн.  ле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назад  при  распаде Гондв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20" indent="-54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Содержимое 5" descr="GEDC1597.JPG"/>
          <p:cNvPicPr/>
          <p:nvPr/>
        </p:nvPicPr>
        <p:blipFill>
          <a:blip r:embed="rId1"/>
          <a:stretch/>
        </p:blipFill>
        <p:spPr>
          <a:xfrm>
            <a:off x="1500120" y="1928880"/>
            <a:ext cx="592956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Рельеф  дна 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Содержимое 4" descr="Карта Атлантического океана 3.jpeg"/>
          <p:cNvPicPr/>
          <p:nvPr/>
        </p:nvPicPr>
        <p:blipFill>
          <a:blip r:embed="rId1"/>
          <a:stretch/>
        </p:blipFill>
        <p:spPr>
          <a:xfrm>
            <a:off x="642960" y="1714680"/>
            <a:ext cx="2976480" cy="4214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142880" y="1285920"/>
            <a:ext cx="45435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</a:rPr>
              <a:t>Почти  посередине  океана проходит    Срединно-Атлантический    хреб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а  севере  океана  хребет   выходит на  поверхность –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ров  Исланд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</a:rPr>
              <a:t>Ложе     океана      занято   океаническими равнинами,  подводными  поднятиям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Шельф занимает  около  1/3  подводных  окраин  матер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4-30T02:55:56Z</dcterms:modified>
  <cp:revision>126</cp:revision>
  <dc:subject/>
  <dc:title>PowerPoint Presentation</dc:title>
</cp:coreProperties>
</file>