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261-5231-4338-9037-7757434AE5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F7CF-E475-4F92-9940-EC40AA955A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110-039C-419F-ABE8-CFE0CC87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682-3F4A-4015-8217-5ECC72D6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7C4-6C1D-4CD2-9B52-9E11C036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AF9-179A-4DE8-B175-3324A4A3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6FC2E-5438-4E3E-A5CC-03FDF404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BCA8B-15C6-493C-BE80-CC8996F3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CB231-A9CC-4C40-9F9B-D5CF817C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D5988-7987-495F-AC67-4FEDEBF8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99E7-A05B-4091-822B-329908D5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A3423-3BB0-4E7E-90B6-DB606600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789B1-7DB1-4747-8B53-CA7E3126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08F-E833-4D41-BB40-861CA35E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46102-64BA-4F5C-8065-1CEEEB1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3969F-6431-4D55-8161-DB044F04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9BA78-D614-46B2-97DB-9B575DA2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1674E-E2CC-426E-A20A-1AAC4E4B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D65A6-6968-496D-8A9D-6F5A0DB8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C4D-FA1F-469D-B09C-58304663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B73-415D-4D02-ADDD-C709304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149-EEFC-4D87-9EA5-F8A15A6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070-1170-45A5-8488-96FA835C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F27-4B00-4485-A0C6-22C6F48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F53-9A4A-4DC2-A24C-3BE43C8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3D3-5DD0-446E-96BD-59BE85C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96FE-F9B8-4FE5-83AB-E8F620093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E70D-62D1-406F-A425-49C289FCBC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/>
          <p:cNvSpPr/>
          <p:nvPr/>
        </p:nvSpPr>
        <p:spPr>
          <a:xfrm>
            <a:off x="214200" y="642960"/>
            <a:ext cx="8643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Урок  на  тему:</a:t>
            </a:r>
            <a:br>
              <a:rPr sz="24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«Атлантический  океан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7 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564000" y="600084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449892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4282920"/>
            <a:ext cx="5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79280" y="416412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C:\Documents and Settings\1\Мои документы\Анимашки\транспорт\An1203.gif"/>
          <p:cNvPicPr/>
          <p:nvPr/>
        </p:nvPicPr>
        <p:blipFill>
          <a:blip r:embed="rId1"/>
          <a:stretch/>
        </p:blipFill>
        <p:spPr>
          <a:xfrm>
            <a:off x="468360" y="2492280"/>
            <a:ext cx="31431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заимодействие   океана,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атмосферы и суш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2600" y="5071680"/>
            <a:ext cx="8001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 какой  части  океана   штормы  бушуют  во  вс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зоны  года?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Ответ  на  вопрос найдите в текст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чебника на с.2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Содержимое 4" descr="Атлантический океан 5.jpeg"/>
          <p:cNvPicPr/>
          <p:nvPr/>
        </p:nvPicPr>
        <p:blipFill>
          <a:blip r:embed="rId1"/>
          <a:stretch/>
        </p:blipFill>
        <p:spPr>
          <a:xfrm>
            <a:off x="1714680" y="1690560"/>
            <a:ext cx="5572080" cy="31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Температура и соленость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Содержимое 4" descr="РисунокКарта климата Атлантического океана.jpg"/>
          <p:cNvPicPr/>
          <p:nvPr/>
        </p:nvPicPr>
        <p:blipFill>
          <a:blip r:embed="rId1"/>
          <a:stretch/>
        </p:blipFill>
        <p:spPr>
          <a:xfrm>
            <a:off x="4143240" y="1571760"/>
            <a:ext cx="4429440" cy="3714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285920" y="557208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Средняя  соленость  Атлантического  океана  -  34,87‰,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средняя  соленость его  поверхностных  вод – 35,3‰,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 максимальная – более  37,5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85840" y="2286000"/>
            <a:ext cx="328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Температура поверхностны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вод в Атлантике  в  среднем  ниже,   чем    в    Тихом   и  Индийском    океанах.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Чем  это  объясняется?  </a:t>
            </a:r>
            <a:r>
              <a:rPr b="0" lang="ru-RU" sz="2200" spc="-1" strike="noStrike">
                <a:solidFill>
                  <a:srgbClr val="ff0000"/>
                </a:solidFill>
                <a:latin typeface="Arial Narrow"/>
              </a:rPr>
              <a:t>(Ответ  на  вопрос  найдите  в  тексте  учебника  на  с. 209-210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072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Титаник.jpg"/>
          <p:cNvPicPr/>
          <p:nvPr/>
        </p:nvPicPr>
        <p:blipFill>
          <a:blip r:embed="rId2"/>
          <a:stretch/>
        </p:blipFill>
        <p:spPr>
          <a:xfrm>
            <a:off x="5715000" y="1000080"/>
            <a:ext cx="2500200" cy="1727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785880" y="857160"/>
            <a:ext cx="50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гедия   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«Титаника»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   полном    ходу  столкнулся  с 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йсбергом, привела к учреждению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ждународного ледового патруля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 сообщает  всем судам о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мерах, координатах    и    путях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рейфа  айсбергов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857160" y="557208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Течения выносят айсберги в открытый океан до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40</a:t>
            </a:r>
            <a:r>
              <a:rPr b="0" lang="ru-RU" sz="2000" spc="-1" strike="noStrike" baseline="30000">
                <a:solidFill>
                  <a:srgbClr val="ffff00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с.ш.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 Эти  районы  Атлантики  опасны для  судоходства. 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Животный  мир  океана.jpg"/>
          <p:cNvPicPr/>
          <p:nvPr/>
        </p:nvPicPr>
        <p:blipFill>
          <a:blip r:embed="rId1"/>
          <a:stretch/>
        </p:blipFill>
        <p:spPr>
          <a:xfrm>
            <a:off x="500040" y="1214280"/>
            <a:ext cx="8215200" cy="5214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рганический мир 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143000" y="4286160"/>
            <a:ext cx="7358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Атлантический  океан  богат  промысловыми  видами  рыб: сельдью, морским  окунем, треской, скумбрией, мойвой и другими. Встречаются  акулы, киты, тюлени. Район  Канарских  островов  богат  лангустами  и анчоусами. В  северной  части  встречаются  морск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ежи, моллюс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Хозяйственная 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в Атлантическом оке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Содержимое 3" descr="Добыча меди и золота со дна Атлантического океана.jpg"/>
          <p:cNvPicPr/>
          <p:nvPr/>
        </p:nvPicPr>
        <p:blipFill>
          <a:blip r:embed="rId1"/>
          <a:stretch/>
        </p:blipFill>
        <p:spPr>
          <a:xfrm>
            <a:off x="4857840" y="1785960"/>
            <a:ext cx="3809880" cy="2357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Панамский  канал.jpg"/>
          <p:cNvPicPr/>
          <p:nvPr/>
        </p:nvPicPr>
        <p:blipFill>
          <a:blip r:embed="rId2"/>
          <a:stretch/>
        </p:blipFill>
        <p:spPr>
          <a:xfrm>
            <a:off x="428760" y="178596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Атлантический океан 9.jpeg"/>
          <p:cNvPicPr/>
          <p:nvPr/>
        </p:nvPicPr>
        <p:blipFill>
          <a:blip r:embed="rId3"/>
          <a:stretch/>
        </p:blipFill>
        <p:spPr>
          <a:xfrm>
            <a:off x="4929120" y="4357800"/>
            <a:ext cx="3714840" cy="2205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Семга Атлантического океана.jpg"/>
          <p:cNvPicPr/>
          <p:nvPr/>
        </p:nvPicPr>
        <p:blipFill>
          <a:blip r:embed="rId4"/>
          <a:stretch/>
        </p:blipFill>
        <p:spPr>
          <a:xfrm>
            <a:off x="500040" y="4357800"/>
            <a:ext cx="3786120" cy="214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642960" y="328608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нспорт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у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857160" y="4357800"/>
            <a:ext cx="292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ahoma"/>
              </a:rPr>
              <a:t>Рыбный  промысе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5000760" y="335772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обыча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езных  ископаемы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00760" y="5572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ahoma"/>
              </a:rPr>
              <a:t>Рекреационные  ресурс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Экологические пробле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Содержимое 3" descr="Загрязнение Атлантического океана 1.jpg"/>
          <p:cNvPicPr/>
          <p:nvPr/>
        </p:nvPicPr>
        <p:blipFill>
          <a:blip r:embed="rId1"/>
          <a:stretch/>
        </p:blipFill>
        <p:spPr>
          <a:xfrm>
            <a:off x="1857240" y="1285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14240" y="557208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Ежегодно   в   Атлантический  океан    попадают   десятки миллионов   тонн   вредных    токсичных    вещест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.  Укажите  особенность  ГП  Атлантического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океан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0040" y="2285640"/>
            <a:ext cx="81439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Атлантический  океан  пересекается  экватором,  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 пересекается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Атлантический  океан  не  пересекается  экватором,  но  пересекается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Атлантический  океан  пересекается  и  экватор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Атлантический  океан  не  пересекается  ни  экватором, ни 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802944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.  Обширные  шельфы  Атлантического  океан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прилегают  к  берега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6000" y="3285720"/>
            <a:ext cx="5572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Северной  и  Южной  Амер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Южной  Америки  и  Афр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Африки  и  Европ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Европы  и  Северной  Амер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.  В  каких  широтах  расположена  наиболе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широкая  часть  Атлантики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00160" y="3285720"/>
            <a:ext cx="5857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в  полярных  и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в  тропических  и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в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в  экваториаль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.  Образуют    ли    течения    кругооборот  в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Атлантическом  океане?  Выберите   отве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с  правильным  объяснение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0040" y="292860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нет, так  как Атлантический  океан  очень  узк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нет,  так   как   береговая   линия  материков 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верном  полушарии  сильно  изреза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да,  так  как  течения  возникают  в  результате  общей  циркуляции  атмосфе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да, так как водные  массы находятся  в  постоянном  дви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Цифровой  диктант  по  теме:</a:t>
            </a: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Тихий  и  Индийский  океаны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85840" y="2714760"/>
            <a:ext cx="85010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Задание.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лушав   утверждение, определите, о  каком  океане  идет  речь.  Если  речь  идет  о  Тихом  океане,  запишите  цифру  «1», если  об  Индийском – цифру  «2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Тихий  океан         -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ндийский  океан  -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56760"/>
            <a:ext cx="8101080" cy="3000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.  «Эти  два  течения   Атлантического  океан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теплые,  переносят   воду   из   тропически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широт   в   умеренные   и    проходят   вдоль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восточных  берегов  материков».  Какие эт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тече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28480" y="3643200"/>
            <a:ext cx="7072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Канарское  и  Бенга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Гвианское  и  Брази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Гольфстрим  и  Брази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Северо-Атлантическое  течение  и  течение  Западных  вет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.  Почему  в  северной  части  Атлантическог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океана  айсберги  могут  встречаться  даж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на  сороковых  широтах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99680" y="292860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на  эти  широты  их  выносят  те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из-за  высокой  солености  вод  океана  в  этой части  они  долго  не  тону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Гренландия – главный «производитель»  айсбергов – находится  на  этих  широ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климат  в  сороковых  широтах  очень  суро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10108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.  В  каком  из  данных  морей  Атлантическог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океана  добывают  нефть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857680" y="3500280"/>
            <a:ext cx="3357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в  Балтийс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в  Саргассов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в  море  Уэддел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в  Север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.  По  общему  объему  мировых  морски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перевозок  Атлантический  океан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0040" y="2571480"/>
            <a:ext cx="81439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уступает  Индийскому, но  превосходит  Север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вит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превосходит  Тихий  и  Индийский  океа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превосходит  Северный  Ледовитый,  но  уступ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хо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уступает  Тихому  и  Индийскому  океа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верьте  правильность  выполнения  итогового  тестир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99720" y="3071880"/>
            <a:ext cx="7286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                        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5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6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7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8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ставьте  себе  оценку, согласно  критерия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2600" y="3214440"/>
            <a:ext cx="79297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5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  8       правильных 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4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6 - 7    правильных 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3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4 - 5    правильных  от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2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0 - 3    правильных  от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Домашнее    зад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3840" y="1499760"/>
            <a:ext cx="86439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§ 42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ние   № 2    на   с.22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абочей  тетради по географ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И.И.Баринова, В.Г.Суслов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дготовить  сообщ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 загадочных и необычных явлени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тлантического  океа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НФОРМАЦИОННЫЕ  РЕСУР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marL="35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ушина И.В., Коринская В.А., Щенев В.А. География. Материки,   океаны, народы и страны. 7 кл.: учебник. – М.: Дрофа, 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http://www.krugosvet.ru/enc/Earth_sciences/geologiya/ATLANTICH  ESKI_OKEAN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privateers.ru/notorious-persons/columbus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s://olkpeace.org/forum/viewtopic.php?f=51&amp;t=63808&amp;start=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planetolog.ru/map-ocean-zoom.php?ocean=AT&amp;id=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just-facts.ru/morya_okean/index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planet.iitp.ru/Oper_pr/Water_Atlantic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realnoeblyndelo.ucoz.com/news/2011-01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calend.ru/event/5010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zoopage.ru/stat.php?idstat=237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informing.ru/economics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what-this.ru/nature/morya-i-okeanyi/lyudi-i-more.ph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http://www.oceanology.ru/plastic-rubbish-blights-atlantic-ocean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402912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Цель 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8072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   географическое   положение, историю     исследования,  особенности  природы, хозяйственное использование Атлантического  оке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еографическое положение оке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тория  исследования  оке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исхож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льеф  д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озяйственная  деятельность  в  оке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сновные  характеристики  Атлантического 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1360" y="2285640"/>
            <a:ext cx="7143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 по  величине  оке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 – 91, 6 млн. к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 -  329,7  млн. к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няя  глубина  -  3 600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ьшая  глубина  -  8 742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желоб  Пуэрто-Рик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572320" cy="12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  <a:ea typeface="Tahoma"/>
              </a:rPr>
              <a:t>Географическое положение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Содержимое 4" descr="Карта Атлантического океана 2.gif"/>
          <p:cNvPicPr/>
          <p:nvPr/>
        </p:nvPicPr>
        <p:blipFill>
          <a:blip r:embed="rId1"/>
          <a:stretch/>
        </p:blipFill>
        <p:spPr>
          <a:xfrm>
            <a:off x="571680" y="1571760"/>
            <a:ext cx="3571560" cy="464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лантический     оке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тянут от субаркт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т  до  Антаркт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й ширины 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игает   в    умер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тах   и   сужается  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ва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стория  исследования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71360"/>
            <a:ext cx="4038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ми  Атлант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секли  викин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28720" y="1143000"/>
            <a:ext cx="4257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Х.Колумб –  первый    море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лаватель    эпохи   Велики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еографических    открытий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отважился пересеч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тлантический  океан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1214280" y="2143080"/>
            <a:ext cx="2643480" cy="3143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14240" y="5643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чало  комплексным  исследованиям  Атлантики было положено плаванием «Челленджера» в конце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е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C:\Documents and Settings\Сергей\Рабочий стол\k03039i.bmp"/>
          <p:cNvPicPr/>
          <p:nvPr/>
        </p:nvPicPr>
        <p:blipFill>
          <a:blip r:embed="rId2"/>
          <a:stretch/>
        </p:blipFill>
        <p:spPr>
          <a:xfrm>
            <a:off x="5500800" y="3214800"/>
            <a:ext cx="192240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оисхождение  Атлантического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13880" y="5429160"/>
            <a:ext cx="78584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-54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тлантический океан  - самый  молодой, образовал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оло 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160  млн.  ле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назад  при  распаде Гондв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Содержимое 5" descr="GEDC1597.JPG"/>
          <p:cNvPicPr/>
          <p:nvPr/>
        </p:nvPicPr>
        <p:blipFill>
          <a:blip r:embed="rId1"/>
          <a:stretch/>
        </p:blipFill>
        <p:spPr>
          <a:xfrm>
            <a:off x="1500120" y="1928880"/>
            <a:ext cx="592956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Рельеф  дна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Содержимое 4" descr="Карта Атлантического океана 3.jpeg"/>
          <p:cNvPicPr/>
          <p:nvPr/>
        </p:nvPicPr>
        <p:blipFill>
          <a:blip r:embed="rId1"/>
          <a:stretch/>
        </p:blipFill>
        <p:spPr>
          <a:xfrm>
            <a:off x="642960" y="1714680"/>
            <a:ext cx="2976480" cy="421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142880" y="1285920"/>
            <a:ext cx="45435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</a:rPr>
              <a:t>Почти  посередине  океана проходит    Срединно-Атлантический    хреб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а  севере  океана  хребет   выходит на  поверхность –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стров  Исланд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</a:rPr>
              <a:t>Ложе     океана      занято   океаническими равнинами,  подводными  подняти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Шельф занимает  около  1/3  подводных  окраин  матер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3-04-30T02:55:56Z</dcterms:modified>
  <cp:revision>126</cp:revision>
  <dc:subject/>
  <dc:title>PowerPoint Presentation</dc:title>
</cp:coreProperties>
</file>