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585-8B7E-40E4-8C20-3F7622D5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8491-D870-43FF-B6C4-D5196C10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F0E4-320A-4F75-A503-DA9EA456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32ED-0BA8-4D1A-BCEB-28729DFC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387B-6375-417E-8D4A-FDA9D6E8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C493-D160-4FC5-9DF6-C11C1DF2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885-EA35-41FE-A770-0D208D09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FD6-CCC6-494A-8FB6-AFE3324E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CAE-5523-4CBD-8950-F50EE16C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8EF-A801-46AA-9262-32E8E2A3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3D3-BE75-4A5F-AB05-DCCEAFA6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2A31-708C-4359-82E3-200FD9AA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EE0D-0788-4B5F-B5C1-D08EC137AE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85560"/>
            <a:ext cx="9144000" cy="27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b7e7ff"/>
                </a:solidFill>
                <a:latin typeface="Arial"/>
              </a:rPr>
              <a:t>Восточная Европа</a:t>
            </a:r>
            <a:endParaRPr b="0" lang="en-US" sz="8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72120" y="5000760"/>
            <a:ext cx="2857680" cy="15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выполне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хомовым Сергее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гуровым Артём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воваровым Дим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92720" y="2852640"/>
            <a:ext cx="3254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Наиболее однородным национальным составом отличаются Польша, Венгрия, Албания. Литва. Восточная Европа всегда была ареной национальных и этнических конфликтов. После распада социалистической системы положение осложнилось, особенно на территории самой многонациональной страны региона - Югославии, где конфликт перерос в межнациональную войну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0" name="Picture 4" descr="__________"/>
          <p:cNvPicPr/>
          <p:nvPr/>
        </p:nvPicPr>
        <p:blipFill>
          <a:blip r:embed="rId1"/>
          <a:stretch/>
        </p:blipFill>
        <p:spPr>
          <a:xfrm>
            <a:off x="0" y="115920"/>
            <a:ext cx="464328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88000" y="2565360"/>
            <a:ext cx="3952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траны Восточной Европы сегодня не характеризуются ярко выраженным социально-экономическим единством. Но в целом можно сказать, что _. во 2-й половине XX в. в экономике стран В. Европы произошли большие изменения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4" descr="450px-St"/>
          <p:cNvPicPr/>
          <p:nvPr/>
        </p:nvPicPr>
        <p:blipFill>
          <a:blip r:embed="rId1"/>
          <a:stretch/>
        </p:blipFill>
        <p:spPr>
          <a:xfrm>
            <a:off x="0" y="115920"/>
            <a:ext cx="4500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97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о-первых, более высокими темпами развивались отрасли промышленности - к 80-м гадам В. Европа превратилась в один из самых промышленных регионов мира, во-вторых, ранее очень отсталые регионы также стали развиваться в промышленном отношении (Например, Словакия в бывшей ЧСФР, Молдова в Румынии, северо-восток Польши)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4" name="Picture 4" descr="6394051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971640" y="186840"/>
            <a:ext cx="72072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ие результаты стали возможны благодаря проведению региональной политики. Сельское хозяйство региона В основном обеспечивает потребности населения в продовольствии. В структуре хозяйства стран Восточной Европы произошли, под воздействием НТР, значительные изменения: возникли АПК, происходила специализация с/х производства. Наиболее отчетливо она проявилась в зерновом хозяйстве и в производстве овощей, фруктов, винограда. Структура хозяйства региона неоднородна: в Чехии, Словакии, Венгрии, Польше, странах Балтии доля животноводства превышает долю растениеводства, в остальных - соотношение пока обратное Вследствие разнообразия почвенно-климатических условий можно выделить несколько зон растениеводства: повсеместно выращивается пшеница, но на севере (Польша, Эстония, Латвия, Литва) важную роль играют рожь и картофель, в центральной части субрегиона культивируются овощеводство и садоводство, а «южные» страны специализируются на субтропических культур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вные культуры, выращиваемые в регионе, - пшеница, кукуруза, овощи, фрукты Основные пшенично-кукурузные районы В. Европы сформировались в пределах Средне- и Нижнедунайской низменностей и Дунайской холмистой равнины (Венгрия, Румыния, Югославия, Болгария). Наибольших успехов в зерноводстве добилась Венгрия .Овощи, фрукты, виноград возделываются в субрегионе почти повсеместно, но есть районы, где они в первую очередь определяют специализацию сельского хозяйства. Свою специализацию эти страны и районы имеют также по ассортименту продукции. Например, Венгрия славится зимними сортами яблок, виноградом, луком; Болгария - масличными культурами; Чехия - хмелем и т.д. Животноводство. Северные и центральные страны региона специализируются на молочном и мясо-молочном скотоводстве и на свиноводстве, а южные - на горно-пастбищном мясном и шерстяном животноводст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592607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4797360"/>
            <a:ext cx="78483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траны В. Европы представляют собой единый природно-территориальный массив, протянувшийся от Балтики до Черного и Адриатического морей. В основе региона и примыкающих к нему стран - древняя докембрийская платформа, перекрытая чехлом осадочных пород, а также область аль-пийской складчатости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4" name="Picture 4" descr="bulgary_sozopol"/>
          <p:cNvPicPr/>
          <p:nvPr/>
        </p:nvPicPr>
        <p:blipFill>
          <a:blip r:embed="rId1"/>
          <a:stretch/>
        </p:blipFill>
        <p:spPr>
          <a:xfrm>
            <a:off x="755640" y="260280"/>
            <a:ext cx="72723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94136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ажной особенностью всех стран региона является их транзитное положение между странами Западной Европы и СНГ. </a:t>
            </a:r>
            <a:br>
              <a:rPr sz="2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траны В. Европы отличаются друг от друга по географическому положению, конфигурации, размерам территории, богатству природными ресурсами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6" name="Picture 4" descr="402_225"/>
          <p:cNvPicPr/>
          <p:nvPr/>
        </p:nvPicPr>
        <p:blipFill>
          <a:blip r:embed="rId1"/>
          <a:stretch/>
        </p:blipFill>
        <p:spPr>
          <a:xfrm>
            <a:off x="755640" y="333360"/>
            <a:ext cx="7561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24000" y="2349000"/>
            <a:ext cx="23893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Из запасов природных ресурсов выделяются: уголь (Польша, Чехия), нефть и природный газ (Румыния), железные руды (страны бывшей Югославии, Румыния, Словакия), бокситы (Венгрия), хромиты (Албания)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8" name="Picture 4" descr="HR_Buday_krepost"/>
          <p:cNvPicPr/>
          <p:nvPr/>
        </p:nvPicPr>
        <p:blipFill>
          <a:blip r:embed="rId1"/>
          <a:stretch/>
        </p:blipFill>
        <p:spPr>
          <a:xfrm>
            <a:off x="0" y="189000"/>
            <a:ext cx="4284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5013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 целом нужно сказать, что регион испытывает дефицит в ресурсах, а кроме того, он является ярким примером "некомплектности" набора полезных ископаемых. Так, в Польше велики запасы каменного угля, медных руд, серы, но почти нет нефти, газа, железной руды. В Болгарии, наоборот, нет каменного угля, хотя значительны запасы лигнитоа, медных руд, полиметаллов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" name="Picture 4" descr="f_17516161"/>
          <p:cNvPicPr/>
          <p:nvPr/>
        </p:nvPicPr>
        <p:blipFill>
          <a:blip r:embed="rId1"/>
          <a:stretch/>
        </p:blipFill>
        <p:spPr>
          <a:xfrm>
            <a:off x="684360" y="115920"/>
            <a:ext cx="7775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следствие дефицита запасов нефти эта область ориентирована на уголь, большая часть электроэнергии вырабатывается на ТЭС (более 60%), но важное место также принадлежит ГЭС и АЭС. В регионе построена одна из крупнейших АЭС - «Козлодуй» в Болгарии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Picture 4" descr="639417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508464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Численность населения региона - около 130 млн. чел., но демографическая ситуация, непростая во всей Европе, в Восточной Европе самая тревожная. Несмотря на проводимую а течение нескольких десятилетий активную демографическую политику, естественный прирост населения очень маленький (менее 2%) и продолжает уменьшаться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4" name="Picture 8" descr="alushta339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 Болгарии и Венгрии даже наблюдается естественная убыль населения. Главной причиной этого является нарушение половозрастной структуры населения в результате Второй Мировой войны. </a:t>
            </a:r>
            <a:br>
              <a:rPr sz="2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 некоторых странах естественный прирост выше, чем в среднем по региону (Босния и Герцеговина, Македония), и самый большой он в Албании - 20%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6" name="Picture 4" descr="IMG_0481-web"/>
          <p:cNvPicPr/>
          <p:nvPr/>
        </p:nvPicPr>
        <p:blipFill>
          <a:blip r:embed="rId1"/>
          <a:stretch/>
        </p:blipFill>
        <p:spPr>
          <a:xfrm>
            <a:off x="395280" y="115920"/>
            <a:ext cx="8280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амая большая страна региона - Польша (около 40 млн. чел.), самая маленькая - Эстония (около 1,5 млн. чел.). Население Восточной Европы отличается сложным этническим составом, но можно отметить преобладание славянских народов. Из других народов наиболее многочисленны румыны, албанцы, венгры, литовцы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8" name="Picture 4" descr="3534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2:11:09Z</dcterms:created>
  <dc:creator>Admin</dc:creator>
  <dc:description/>
  <dc:language>en-US</dc:language>
  <cp:lastModifiedBy>Лена</cp:lastModifiedBy>
  <dcterms:modified xsi:type="dcterms:W3CDTF">2010-04-30T12:32:53Z</dcterms:modified>
  <cp:revision>6</cp:revision>
  <dc:subject/>
  <dc:title>Украина</dc:title>
</cp:coreProperties>
</file>