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6C1-ADAC-49AB-8817-6458FFF5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213-41E0-4F2E-B1EF-9AB68838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6BC-7117-42B4-B3B9-42339961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405-5887-4456-AE65-0E0AA0B4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940-2A57-46A5-8285-866E1691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22B-5D68-4A34-B918-F8AACC50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01B-382A-4FCB-9C80-9B0D94F0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643-59D1-48C5-A548-047806D3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19B-2C8C-4BE6-9936-76CB54B0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706-3E5D-45C9-AD8F-E34EAA8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006-3151-4BD9-9FBE-5AFC4E5B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F21-6992-4437-BCCB-19BD13B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06FE-C004-41D7-9F79-F5B64D7B3D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27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7e7ff"/>
                </a:solidFill>
                <a:latin typeface="Arial"/>
              </a:rPr>
              <a:t>Восточная Европа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72120" y="5000760"/>
            <a:ext cx="285768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выполне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хомовым Серге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гуровым Артём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воваровым Ди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2720" y="2852640"/>
            <a:ext cx="3254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аиболее однородным национальным составом отличаются Польша, Венгрия, Албания. Литва. Восточная Европа всегда была ареной национальных и этнических конфликтов. После распада социалистической системы положение осложнилось, особенно на территории самой многонациональной страны региона - Югославии, где конфликт перерос в межнациональную войну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4" descr="__________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88000" y="2565360"/>
            <a:ext cx="3952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осточной Европы сегодня не характеризуются ярко выраженным социально-экономическим единством. Но в целом можно сказать, что _. во 2-й половине XX в. в экономике стран В. Европы произошли большие изменени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450px-St"/>
          <p:cNvPicPr/>
          <p:nvPr/>
        </p:nvPicPr>
        <p:blipFill>
          <a:blip r:embed="rId1"/>
          <a:stretch/>
        </p:blipFill>
        <p:spPr>
          <a:xfrm>
            <a:off x="0" y="115920"/>
            <a:ext cx="450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97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о-первых, более высокими темпами развивались отрасли промышленности - к 80-м гадам В. Европа превратилась в один из самых промышленных регионов мира, во-вторых, ранее очень отсталые регионы также стали развиваться в промышленном отношении (Например, Словакия в бывшей ЧСФР, Молдова в Румынии, северо-восток Польши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" name="Picture 4" descr="6394051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971640" y="186840"/>
            <a:ext cx="7207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е результаты стали возможны благодаря проведению региональной политики. Сельское хозяйство региона В основном обеспечивает потребности населения в продовольствии. В структуре хозяйства стран Восточной Европы произошли, под воздействием НТР, значительные изменения: возникли АПК, происходила специализация с/х производства. Наиболее отчетливо она проявилась в зерновом хозяйстве и в производстве овощей, фруктов, винограда. Структура хозяйства региона неоднородна: в Чехии, Словакии, Венгрии, Польше, странах Балтии доля животноводства превышает долю растениеводства, в остальных - соотношение пока обратное Вследствие разнообразия почвенно-климатических условий можно выделить несколько зон растениеводства: повсеместно выращивается пшеница, но на севере (Польша, Эстония, Латвия, Литва) важную роль играют рожь и картофель, в центральной части субрегиона культивируются овощеводство и садоводство, а «южные» страны специализируются на субтропических культур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е культуры, выращиваемые в регионе, - пшеница, кукуруза, овощи, фрукты Основные пшенично-кукурузные районы В. Европы сформировались в пределах Средне- и Нижнедунайской низменностей и Дунайской холмистой равнины (Венгрия, Румыния, Югославия, Болгария). Наибольших успехов в зерноводстве добилась Венгрия .Овощи, фрукты, виноград возделываются в субрегионе почти повсеместно, но есть районы, где они в первую очередь определяют специализацию сельского хозяйства. Свою специализацию эти страны и районы имеют также по ассортименту продукции. Например, Венгрия славится зимними сортами яблок, виноградом, луком; Болгария - масличными культурами; Чехия - хмелем и т.д. Животноводство. Северные и центральные страны региона специализируются на молочном и мясо-молочном скотоводстве и на свиноводстве, а южные - на горно-пастбищном мясном и шерстяном животновод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59260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4797360"/>
            <a:ext cx="7848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представляют собой единый природно-территориальный массив, протянувшийся от Балтики до Черного и Адриатического морей. В основе региона и примыкающих к нему стран - древняя докембрийская платформа, перекрытая чехлом осадочных пород, а также область аль-пийской складчатост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bulgary_sozopol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ажной особенностью всех стран региона является их транзитное положение между странами Западной Европы и СНГ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отличаются друг от друга по географическому положению, конфигурации, размерам территории, богатству природными ресурсам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402_225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00" y="2349000"/>
            <a:ext cx="23893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Из запасов природных ресурсов выделяются: уголь (Польша, Чехия), нефть и природный газ (Румыния), железные руды (страны бывшей Югославии, Румыния, Словакия), бокситы (Венгрия), хромиты (Албания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_Buday_krepost"/>
          <p:cNvPicPr/>
          <p:nvPr/>
        </p:nvPicPr>
        <p:blipFill>
          <a:blip r:embed="rId1"/>
          <a:stretch/>
        </p:blipFill>
        <p:spPr>
          <a:xfrm>
            <a:off x="0" y="189000"/>
            <a:ext cx="42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501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целом нужно сказать, что регион испытывает дефицит в ресурсах, а кроме того, он является ярким примером "некомплектности" набора полезных ископаемых. Так, в Польше велики запасы каменного угля, медных руд, серы, но почти нет нефти, газа, железной руды. В Болгарии, наоборот, нет каменного угля, хотя значительны запасы лигнитоа, медных руд, полиметаллов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f_17516161"/>
          <p:cNvPicPr/>
          <p:nvPr/>
        </p:nvPicPr>
        <p:blipFill>
          <a:blip r:embed="rId1"/>
          <a:stretch/>
        </p:blipFill>
        <p:spPr>
          <a:xfrm>
            <a:off x="684360" y="11592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следствие дефицита запасов нефти эта область ориентирована на уголь, большая часть электроэнергии вырабатывается на ТЭС (более 60%), но важное место также принадлежит ГЭС и АЭС. В регионе построена одна из крупнейших АЭС - «Козлодуй» в Болгари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639417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5084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Численность населения региона - около 130 млн. чел., но демографическая ситуация, непростая во всей Европе, в Восточной Европе самая тревожная. Несмотря на проводимую а течение нескольких десятилетий активную демографическую политику, естественный прирост населения очень маленький (менее 2%) и продолжает уменьшатьс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8" descr="alushta33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Болгарии и Венгрии даже наблюдается естественная убыль населения. Главной причиной этого является нарушение половозрастной структуры населения в результате Второй Мировой войны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некоторых странах естественный прирост выше, чем в среднем по региону (Босния и Герцеговина, Македония), и самый большой он в Албании - 20%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4" descr="IMG_0481-web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амая большая страна региона - Польша (около 40 млн. чел.), самая маленькая - Эстония (около 1,5 млн. чел.). Население Восточной Европы отличается сложным этническим составом, но можно отметить преобладание славянских народов. Из других народов наиболее многочисленны румыны, албанцы, венгры, литовцы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Picture 4" descr="3534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2:11:09Z</dcterms:created>
  <dc:creator>Admin</dc:creator>
  <dc:description/>
  <dc:language>en-US</dc:language>
  <cp:lastModifiedBy>Лена</cp:lastModifiedBy>
  <dcterms:modified xsi:type="dcterms:W3CDTF">2010-04-30T12:32:53Z</dcterms:modified>
  <cp:revision>6</cp:revision>
  <dc:subject/>
  <dc:title>Украина</dc:title>
</cp:coreProperties>
</file>