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DAD-8056-46E9-B0E7-00D14DD3EF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CD4-63BC-4E7A-B919-6B4D98186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7D-1DEC-42C3-B8CA-16661228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73B-4E15-4C90-94A2-10C81FA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C16-3D8D-43F9-BA84-2ABCF774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C26-419D-4FB2-AFE6-9FF62581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9D6-0866-4B6C-BEE2-BB3E0B4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644-1304-4B57-BA62-15324023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41B-1C5D-41A2-922C-DAE1B00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0C3-5610-4FDE-9463-94C6BB6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A64-E759-472D-9835-4516E442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1EA-C92D-4950-8AF3-2C0ACCC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2D2-23A1-43EF-9F9B-7382BDD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7DA-AE62-402B-A086-DF9A520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0BA-3069-45E9-A298-2A9E2957FA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1"/>
          <p:cNvGrpSpPr/>
          <p:nvPr/>
        </p:nvGrpSpPr>
        <p:grpSpPr>
          <a:xfrm>
            <a:off x="684360" y="365040"/>
            <a:ext cx="3878280" cy="6492960"/>
            <a:chOff x="684360" y="365040"/>
            <a:chExt cx="3878280" cy="6492960"/>
          </a:xfrm>
        </p:grpSpPr>
        <p:pic>
          <p:nvPicPr>
            <p:cNvPr id="49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743760" y="723960"/>
              <a:ext cx="3818880" cy="61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84360" y="403200"/>
              <a:ext cx="3858480" cy="64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рямая соединительная линия 17"/>
            <p:cNvSpPr/>
            <p:nvPr/>
          </p:nvSpPr>
          <p:spPr>
            <a:xfrm>
              <a:off x="1712160" y="6437880"/>
              <a:ext cx="65160" cy="375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684360" y="365040"/>
              <a:ext cx="3818880" cy="613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Заголовок 7" descr=""/>
          <p:cNvPicPr/>
          <p:nvPr/>
        </p:nvPicPr>
        <p:blipFill>
          <a:blip r:embed="rId4"/>
          <a:stretch/>
        </p:blipFill>
        <p:spPr>
          <a:xfrm>
            <a:off x="3560760" y="128520"/>
            <a:ext cx="558972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Подзаголовок 8" descr=""/>
          <p:cNvPicPr/>
          <p:nvPr/>
        </p:nvPicPr>
        <p:blipFill>
          <a:blip r:embed="rId5"/>
          <a:stretch/>
        </p:blipFill>
        <p:spPr>
          <a:xfrm>
            <a:off x="4705200" y="2743200"/>
            <a:ext cx="444528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Группа 9" descr=""/>
          <p:cNvPicPr/>
          <p:nvPr/>
        </p:nvPicPr>
        <p:blipFill>
          <a:blip r:embed="rId6"/>
          <a:stretch/>
        </p:blipFill>
        <p:spPr>
          <a:xfrm>
            <a:off x="7132680" y="3114720"/>
            <a:ext cx="2663640" cy="17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Солнышко\Desktop\ШКОЛА\Кюхельбекер\kyuhelbeker2.jpg"/>
          <p:cNvPicPr/>
          <p:nvPr/>
        </p:nvPicPr>
        <p:blipFill>
          <a:blip r:embed="rId7"/>
          <a:stretch/>
        </p:blipFill>
        <p:spPr>
          <a:xfrm rot="20669400">
            <a:off x="1109160" y="1680840"/>
            <a:ext cx="2487600" cy="3525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0"/>
          <p:cNvSpPr/>
          <p:nvPr/>
        </p:nvSpPr>
        <p:spPr>
          <a:xfrm>
            <a:off x="5357880" y="47149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итель: Цепелева С.Н., учитель русского языка и литературы школы № 3 г. Камышлова 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2"/>
          <a:stretch/>
        </p:blipFill>
        <p:spPr>
          <a:xfrm>
            <a:off x="4578480" y="579600"/>
            <a:ext cx="4327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17"/>
          <p:cNvGrpSpPr/>
          <p:nvPr/>
        </p:nvGrpSpPr>
        <p:grpSpPr>
          <a:xfrm>
            <a:off x="179280" y="428760"/>
            <a:ext cx="8715600" cy="6429240"/>
            <a:chOff x="179280" y="428760"/>
            <a:chExt cx="8715600" cy="6429240"/>
          </a:xfrm>
        </p:grpSpPr>
        <p:sp>
          <p:nvSpPr>
            <p:cNvPr id="59" name="Скругленный прямоугольник 8"/>
            <p:cNvSpPr/>
            <p:nvPr/>
          </p:nvSpPr>
          <p:spPr>
            <a:xfrm>
              <a:off x="179280" y="428760"/>
              <a:ext cx="8715600" cy="64292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3"/>
            <p:cNvSpPr/>
            <p:nvPr/>
          </p:nvSpPr>
          <p:spPr>
            <a:xfrm>
              <a:off x="291960" y="541440"/>
              <a:ext cx="42516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4"/>
            <p:cNvSpPr/>
            <p:nvPr/>
          </p:nvSpPr>
          <p:spPr>
            <a:xfrm>
              <a:off x="4543560" y="541440"/>
              <a:ext cx="42498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олилиния 10"/>
          <p:cNvSpPr/>
          <p:nvPr/>
        </p:nvSpPr>
        <p:spPr>
          <a:xfrm>
            <a:off x="8599320" y="417600"/>
            <a:ext cx="26064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12"/>
          <p:cNvSpPr/>
          <p:nvPr/>
        </p:nvSpPr>
        <p:spPr>
          <a:xfrm flipH="1">
            <a:off x="357120" y="417600"/>
            <a:ext cx="26208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27" descr=""/>
          <p:cNvPicPr/>
          <p:nvPr/>
        </p:nvPicPr>
        <p:blipFill>
          <a:blip r:embed="rId1"/>
          <a:stretch/>
        </p:blipFill>
        <p:spPr>
          <a:xfrm>
            <a:off x="4363920" y="536400"/>
            <a:ext cx="4676760" cy="5913720"/>
          </a:xfrm>
          <a:prstGeom prst="rect">
            <a:avLst/>
          </a:prstGeom>
          <a:ln w="0">
            <a:noFill/>
          </a:ln>
        </p:spPr>
      </p:pic>
      <p:grpSp>
        <p:nvGrpSpPr>
          <p:cNvPr id="65" name="Прямоугольник с двумя скругленными соседними углами 20"/>
          <p:cNvGrpSpPr/>
          <p:nvPr/>
        </p:nvGrpSpPr>
        <p:grpSpPr>
          <a:xfrm>
            <a:off x="3981600" y="195120"/>
            <a:ext cx="529920" cy="243000"/>
            <a:chOff x="3981600" y="195120"/>
            <a:chExt cx="529920" cy="243000"/>
          </a:xfrm>
        </p:grpSpPr>
        <p:pic>
          <p:nvPicPr>
            <p:cNvPr id="66" name="Прямоугольник с двумя скругленными соседними углами 20" descr=""/>
            <p:cNvPicPr/>
            <p:nvPr/>
          </p:nvPicPr>
          <p:blipFill>
            <a:blip r:embed="rId2"/>
            <a:stretch/>
          </p:blipFill>
          <p:spPr>
            <a:xfrm>
              <a:off x="39816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01148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с двумя скругленными соседними углами 21"/>
          <p:cNvGrpSpPr/>
          <p:nvPr/>
        </p:nvGrpSpPr>
        <p:grpSpPr>
          <a:xfrm>
            <a:off x="3481560" y="195120"/>
            <a:ext cx="529920" cy="243000"/>
            <a:chOff x="3481560" y="195120"/>
            <a:chExt cx="529920" cy="243000"/>
          </a:xfrm>
        </p:grpSpPr>
        <p:pic>
          <p:nvPicPr>
            <p:cNvPr id="69" name="Прямоугольник с двумя скругленными соседними углами 2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48156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51144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с двумя скругленными соседними углами 22"/>
          <p:cNvGrpSpPr/>
          <p:nvPr/>
        </p:nvGrpSpPr>
        <p:grpSpPr>
          <a:xfrm>
            <a:off x="2981160" y="195120"/>
            <a:ext cx="530280" cy="243000"/>
            <a:chOff x="2981160" y="195120"/>
            <a:chExt cx="530280" cy="243000"/>
          </a:xfrm>
        </p:grpSpPr>
        <p:pic>
          <p:nvPicPr>
            <p:cNvPr id="72" name="Прямоугольник с двумя скругленными соседними углами 22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2981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01140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с двумя скругленными соседними углами 23"/>
          <p:cNvGrpSpPr/>
          <p:nvPr/>
        </p:nvGrpSpPr>
        <p:grpSpPr>
          <a:xfrm>
            <a:off x="4694400" y="195120"/>
            <a:ext cx="529920" cy="243000"/>
            <a:chOff x="4694400" y="195120"/>
            <a:chExt cx="529920" cy="243000"/>
          </a:xfrm>
        </p:grpSpPr>
        <p:pic>
          <p:nvPicPr>
            <p:cNvPr id="75" name="Прямоугольник с двумя скругленными соседними углами 23" descr=""/>
            <p:cNvPicPr/>
            <p:nvPr/>
          </p:nvPicPr>
          <p:blipFill>
            <a:blip r:embed="rId6"/>
            <a:stretch/>
          </p:blipFill>
          <p:spPr>
            <a:xfrm>
              <a:off x="46944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72608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соседними углами 24"/>
          <p:cNvGrpSpPr/>
          <p:nvPr/>
        </p:nvGrpSpPr>
        <p:grpSpPr>
          <a:xfrm>
            <a:off x="5194440" y="195120"/>
            <a:ext cx="536400" cy="243000"/>
            <a:chOff x="5194440" y="195120"/>
            <a:chExt cx="536400" cy="243000"/>
          </a:xfrm>
        </p:grpSpPr>
        <p:pic>
          <p:nvPicPr>
            <p:cNvPr id="78" name="Прямоугольник с двумя скругленными соседними углами 24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5194440" y="195120"/>
              <a:ext cx="5364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22612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с двумя скругленными соседними углами 25"/>
          <p:cNvGrpSpPr/>
          <p:nvPr/>
        </p:nvGrpSpPr>
        <p:grpSpPr>
          <a:xfrm>
            <a:off x="5699160" y="195120"/>
            <a:ext cx="530280" cy="243000"/>
            <a:chOff x="5699160" y="195120"/>
            <a:chExt cx="530280" cy="243000"/>
          </a:xfrm>
        </p:grpSpPr>
        <p:pic>
          <p:nvPicPr>
            <p:cNvPr id="81" name="Прямоугольник с двумя скругленными соседними углами 25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5699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72616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олилиния 5">
            <a:hlinkClick r:id="" action="ppaction://hlinkshowjump?jump=nextslide"/>
          </p:cNvPr>
          <p:cNvSpPr/>
          <p:nvPr/>
        </p:nvSpPr>
        <p:spPr>
          <a:xfrm>
            <a:off x="8366040" y="41760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лилиния 11">
            <a:hlinkClick r:id="" action="ppaction://hlinkshowjump?jump=previousslide"/>
          </p:cNvPr>
          <p:cNvSpPr/>
          <p:nvPr/>
        </p:nvSpPr>
        <p:spPr>
          <a:xfrm flipH="1">
            <a:off x="353160" y="41436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Солнышко\Desktop\ШКОЛА\Кюхельбекер\kyuhelbeker.jpg"/>
          <p:cNvPicPr/>
          <p:nvPr/>
        </p:nvPicPr>
        <p:blipFill>
          <a:blip r:embed="rId9"/>
          <a:stretch/>
        </p:blipFill>
        <p:spPr>
          <a:xfrm>
            <a:off x="539640" y="992160"/>
            <a:ext cx="3816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7"/>
          <p:cNvGrpSpPr/>
          <p:nvPr/>
        </p:nvGrpSpPr>
        <p:grpSpPr>
          <a:xfrm>
            <a:off x="395280" y="189000"/>
            <a:ext cx="8424720" cy="6408720"/>
            <a:chOff x="395280" y="189000"/>
            <a:chExt cx="8424720" cy="6408720"/>
          </a:xfrm>
        </p:grpSpPr>
        <p:sp>
          <p:nvSpPr>
            <p:cNvPr id="87" name="Скругленный прямоугольник 5"/>
            <p:cNvSpPr/>
            <p:nvPr/>
          </p:nvSpPr>
          <p:spPr>
            <a:xfrm>
              <a:off x="395280" y="189000"/>
              <a:ext cx="842472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6"/>
            <p:cNvSpPr/>
            <p:nvPr/>
          </p:nvSpPr>
          <p:spPr>
            <a:xfrm>
              <a:off x="504720" y="301680"/>
              <a:ext cx="41036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254061"/>
                  </a:solidFill>
                  <a:latin typeface="Calibri"/>
                </a:rPr>
                <a:t>"Кюхельбекер (Вильгельм), лютеранского исповедания, 15-ти лет. Способен и весьма прилежен; беспрестанно занимаясь чтением и сочинениями, он не радеет о прочем, оттого мало в вещах его порядка и опрятности. Впрочем, он добродушен, искренен с некоторою осторожностью, усерден, склонен ко всегдашнему упражнению, избирает себе предметы важные, плавно выражается и странен в обращении. Во всех словах и поступках, особенно в сочинениях его, приметны напряжение и высокопарность, часто без приличия. Неуместное внимание происходит, может быть, от глухоты на одно ухо. Раздраженность нервов его требует, чтобы он не слишком занимался, особенно сочинением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7"/>
            <p:cNvSpPr/>
            <p:nvPr/>
          </p:nvSpPr>
          <p:spPr>
            <a:xfrm>
              <a:off x="4613040" y="301680"/>
              <a:ext cx="4110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6" descr="C:\Users\Солнышко\Desktop\ШКОЛА\Кюхельбекер\kyuhelbeker5.jpg"/>
          <p:cNvPicPr/>
          <p:nvPr/>
        </p:nvPicPr>
        <p:blipFill>
          <a:blip r:embed="rId1"/>
          <a:stretch/>
        </p:blipFill>
        <p:spPr>
          <a:xfrm>
            <a:off x="4859280" y="907920"/>
            <a:ext cx="374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9" descr=""/>
          <p:cNvPicPr/>
          <p:nvPr/>
        </p:nvPicPr>
        <p:blipFill>
          <a:blip r:embed="rId1"/>
          <a:stretch/>
        </p:blipFill>
        <p:spPr>
          <a:xfrm>
            <a:off x="390600" y="1225440"/>
            <a:ext cx="8435880" cy="5473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8" descr=""/>
          <p:cNvPicPr/>
          <p:nvPr/>
        </p:nvPicPr>
        <p:blipFill>
          <a:blip r:embed="rId2"/>
          <a:stretch/>
        </p:blipFill>
        <p:spPr>
          <a:xfrm>
            <a:off x="1170000" y="158760"/>
            <a:ext cx="6662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7"/>
          <p:cNvGrpSpPr/>
          <p:nvPr/>
        </p:nvGrpSpPr>
        <p:grpSpPr>
          <a:xfrm>
            <a:off x="468360" y="549360"/>
            <a:ext cx="8207280" cy="6048360"/>
            <a:chOff x="468360" y="549360"/>
            <a:chExt cx="8207280" cy="6048360"/>
          </a:xfrm>
        </p:grpSpPr>
        <p:sp>
          <p:nvSpPr>
            <p:cNvPr id="94" name="Скругленный прямоугольник 5"/>
            <p:cNvSpPr/>
            <p:nvPr/>
          </p:nvSpPr>
          <p:spPr>
            <a:xfrm>
              <a:off x="468360" y="549360"/>
              <a:ext cx="8207280" cy="604836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>
              <a:off x="574560" y="655560"/>
              <a:ext cx="399744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. А. Корф в "Записках о Лицее" пишет о Вильгельме: "Он принадлежал к числу самых плодовитых наших стихотворцев, и хотя в стихах его было всегда странное направление и отчасти странный даже язык, но при всем том, как поэт, он едва ли не стоял выше Дельвига и должен был занять место непосредственно за Пушкиным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>
              <a:off x="4578480" y="655560"/>
              <a:ext cx="400212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C:\Users\Солнышко\Desktop\ШКОЛА\Кюхельбекер\i.jpeg"/>
          <p:cNvPicPr/>
          <p:nvPr/>
        </p:nvPicPr>
        <p:blipFill>
          <a:blip r:embed="rId1"/>
          <a:stretch/>
        </p:blipFill>
        <p:spPr>
          <a:xfrm>
            <a:off x="4638600" y="1047600"/>
            <a:ext cx="3853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Солнышко\Desktop\ШКОЛА\Кюхельбекер\220px-Daugavpils_fortress15.JPG"/>
          <p:cNvPicPr/>
          <p:nvPr/>
        </p:nvPicPr>
        <p:blipFill>
          <a:blip r:embed="rId1"/>
          <a:stretch/>
        </p:blipFill>
        <p:spPr>
          <a:xfrm>
            <a:off x="250920" y="260280"/>
            <a:ext cx="5279760" cy="352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Солнышко\Desktop\ШКОЛА\Кюхельбекер\300px-Küchelbecker's_museum_Kurgan.jpg"/>
          <p:cNvPicPr/>
          <p:nvPr/>
        </p:nvPicPr>
        <p:blipFill>
          <a:blip r:embed="rId2"/>
          <a:stretch/>
        </p:blipFill>
        <p:spPr>
          <a:xfrm>
            <a:off x="4067280" y="3933720"/>
            <a:ext cx="39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Солнышко\Desktop\ШКОЛА\Кюхельбекер\ллл.jpeg"/>
          <p:cNvPicPr/>
          <p:nvPr/>
        </p:nvPicPr>
        <p:blipFill>
          <a:blip r:embed="rId3"/>
          <a:stretch/>
        </p:blipFill>
        <p:spPr>
          <a:xfrm>
            <a:off x="900000" y="3943440"/>
            <a:ext cx="2303640" cy="29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Солнышко\Desktop\ШКОЛА\Кюхельбекер\олоо.jpeg"/>
          <p:cNvPicPr/>
          <p:nvPr/>
        </p:nvPicPr>
        <p:blipFill>
          <a:blip r:embed="rId4"/>
          <a:stretch/>
        </p:blipFill>
        <p:spPr>
          <a:xfrm>
            <a:off x="6012000" y="260280"/>
            <a:ext cx="291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7"/>
          <p:cNvGrpSpPr/>
          <p:nvPr/>
        </p:nvGrpSpPr>
        <p:grpSpPr>
          <a:xfrm>
            <a:off x="468360" y="189000"/>
            <a:ext cx="8207280" cy="6408720"/>
            <a:chOff x="468360" y="189000"/>
            <a:chExt cx="8207280" cy="6408720"/>
          </a:xfrm>
        </p:grpSpPr>
        <p:sp>
          <p:nvSpPr>
            <p:cNvPr id="103" name="Скругленный прямоугольник 6"/>
            <p:cNvSpPr/>
            <p:nvPr/>
          </p:nvSpPr>
          <p:spPr>
            <a:xfrm>
              <a:off x="468360" y="189000"/>
              <a:ext cx="820728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7"/>
            <p:cNvSpPr/>
            <p:nvPr/>
          </p:nvSpPr>
          <p:spPr>
            <a:xfrm>
              <a:off x="574560" y="301680"/>
              <a:ext cx="39974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«…человек дельный с пером в руках, хоть и сумасброд…"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8"/>
            <p:cNvSpPr/>
            <p:nvPr/>
          </p:nvSpPr>
          <p:spPr>
            <a:xfrm>
              <a:off x="4578480" y="301680"/>
              <a:ext cx="4002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6" descr="C:\Users\Солнышко\Desktop\i.jpeg"/>
          <p:cNvPicPr/>
          <p:nvPr/>
        </p:nvPicPr>
        <p:blipFill>
          <a:blip r:embed="rId1"/>
          <a:stretch/>
        </p:blipFill>
        <p:spPr>
          <a:xfrm>
            <a:off x="4716360" y="2924280"/>
            <a:ext cx="259236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Солнышко\Desktop\ШКОЛА\Кюхельбекер\kyuhelbeker.jpg"/>
          <p:cNvPicPr/>
          <p:nvPr/>
        </p:nvPicPr>
        <p:blipFill>
          <a:blip r:embed="rId2"/>
          <a:stretch/>
        </p:blipFill>
        <p:spPr>
          <a:xfrm>
            <a:off x="6291360" y="476280"/>
            <a:ext cx="2047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4824720" cy="3585960"/>
          </a:xfrm>
          <a:prstGeom prst="rect">
            <a:avLst/>
          </a:prstGeom>
          <a:ln w="0">
            <a:noFill/>
          </a:ln>
        </p:spPr>
      </p:pic>
      <p:sp>
        <p:nvSpPr>
          <p:cNvPr id="109" name="Выноска-облако 6"/>
          <p:cNvSpPr/>
          <p:nvPr/>
        </p:nvSpPr>
        <p:spPr>
          <a:xfrm>
            <a:off x="1943280" y="404640"/>
            <a:ext cx="7200720" cy="2400120"/>
          </a:xfrm>
          <a:prstGeom prst="cloudCallout">
            <a:avLst>
              <a:gd name="adj1" fmla="val -20837"/>
              <a:gd name="adj2" fmla="val 6198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 ужином объелся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Яков запер дверь опло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ло мне, мои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юхельбекерно и тош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6089760"/>
            <a:ext cx="2584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17"/>
          <p:cNvGrpSpPr/>
          <p:nvPr/>
        </p:nvGrpSpPr>
        <p:grpSpPr>
          <a:xfrm>
            <a:off x="468360" y="260280"/>
            <a:ext cx="8136000" cy="6337440"/>
            <a:chOff x="468360" y="260280"/>
            <a:chExt cx="8136000" cy="6337440"/>
          </a:xfrm>
        </p:grpSpPr>
        <p:sp>
          <p:nvSpPr>
            <p:cNvPr id="112" name="Скругленный прямоугольник 5"/>
            <p:cNvSpPr/>
            <p:nvPr/>
          </p:nvSpPr>
          <p:spPr>
            <a:xfrm>
              <a:off x="468360" y="260280"/>
              <a:ext cx="8136000" cy="63374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оугольник 6"/>
            <p:cNvSpPr/>
            <p:nvPr/>
          </p:nvSpPr>
          <p:spPr>
            <a:xfrm>
              <a:off x="574560" y="371160"/>
              <a:ext cx="396252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поэма "Смерть Байрона«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тяжеловесная шутка "Шекспировы духи"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истерия «Ижорский»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несколько десятков его пьес помещены в "Собрании стихотворений декабристов" 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"Избранные стихотворения В.К. Кюхельбекера" изданы в Шо-де-фон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в "Русской Старине" были напечатаны его дневник и поэма "Вечный Жид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оугольник 7"/>
            <p:cNvSpPr/>
            <p:nvPr/>
          </p:nvSpPr>
          <p:spPr>
            <a:xfrm>
              <a:off x="4541760" y="371160"/>
              <a:ext cx="396864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4" descr="C:\Users\Солнышко\Desktop\ШКОЛА\Кюхельбекер\kyuhelbeker2.jpg"/>
          <p:cNvPicPr/>
          <p:nvPr/>
        </p:nvPicPr>
        <p:blipFill>
          <a:blip r:embed="rId1"/>
          <a:stretch/>
        </p:blipFill>
        <p:spPr>
          <a:xfrm>
            <a:off x="6156360" y="404640"/>
            <a:ext cx="2127240" cy="301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2881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5:08:59Z</dcterms:created>
  <dc:creator>Солнышко</dc:creator>
  <dc:description/>
  <dc:language>en-US</dc:language>
  <cp:lastModifiedBy>КарМаН</cp:lastModifiedBy>
  <dcterms:modified xsi:type="dcterms:W3CDTF">2012-03-22T07:52:27Z</dcterms:modified>
  <cp:revision>13</cp:revision>
  <dc:subject/>
  <dc:title>Кюхельбекер Вильгельм Карло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6281049</vt:lpwstr>
  </property>
</Properties>
</file>