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7.png" ContentType="image/png"/>
  <Override PartName="/ppt/media/image4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06F8-508A-4190-9904-6249A4E587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4EAC-0AD3-450B-89D0-2D8953041F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323-B020-45FE-B5BD-626327C2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5271-9371-44E1-9911-1C2F72F8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EB8-8EF7-4DFD-A9FD-6646C2BC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E808-5D0D-4E7F-9CD1-1C1A234B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EFB-4ECB-4F6B-81AB-88B64671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E912-030C-436F-8EBF-975A1C6D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BBC-9627-4DC8-B466-1A65EF2A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2A14-8056-4109-977D-D2F202A6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3B9-2ACE-4376-A5C2-E981FC11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B5B-F1DC-4429-AF2F-3CB1AE63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DA8-C5C8-41F2-A608-729875BA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914-A503-44B9-9197-7FE8266C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08F4-E4AA-440C-A60F-6FF55593EC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21"/>
          <p:cNvGrpSpPr/>
          <p:nvPr/>
        </p:nvGrpSpPr>
        <p:grpSpPr>
          <a:xfrm>
            <a:off x="684360" y="365040"/>
            <a:ext cx="3878280" cy="6492960"/>
            <a:chOff x="684360" y="365040"/>
            <a:chExt cx="3878280" cy="6492960"/>
          </a:xfrm>
        </p:grpSpPr>
        <p:pic>
          <p:nvPicPr>
            <p:cNvPr id="49" name="Прямоугольник 13" descr=""/>
            <p:cNvPicPr/>
            <p:nvPr/>
          </p:nvPicPr>
          <p:blipFill>
            <a:blip r:embed="rId1"/>
            <a:stretch/>
          </p:blipFill>
          <p:spPr>
            <a:xfrm>
              <a:off x="743760" y="723960"/>
              <a:ext cx="3818880" cy="613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84360" y="403200"/>
              <a:ext cx="3858480" cy="64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Прямая соединительная линия 17"/>
            <p:cNvSpPr/>
            <p:nvPr/>
          </p:nvSpPr>
          <p:spPr>
            <a:xfrm>
              <a:off x="1712160" y="6437880"/>
              <a:ext cx="65160" cy="37548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684360" y="365040"/>
              <a:ext cx="3818880" cy="613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Заголовок 7" descr=""/>
          <p:cNvPicPr/>
          <p:nvPr/>
        </p:nvPicPr>
        <p:blipFill>
          <a:blip r:embed="rId4"/>
          <a:stretch/>
        </p:blipFill>
        <p:spPr>
          <a:xfrm>
            <a:off x="3560760" y="128520"/>
            <a:ext cx="5589720" cy="2711520"/>
          </a:xfrm>
          <a:prstGeom prst="rect">
            <a:avLst/>
          </a:prstGeom>
          <a:ln w="0">
            <a:noFill/>
          </a:ln>
        </p:spPr>
      </p:pic>
      <p:pic>
        <p:nvPicPr>
          <p:cNvPr id="54" name="Подзаголовок 8" descr=""/>
          <p:cNvPicPr/>
          <p:nvPr/>
        </p:nvPicPr>
        <p:blipFill>
          <a:blip r:embed="rId5"/>
          <a:stretch/>
        </p:blipFill>
        <p:spPr>
          <a:xfrm>
            <a:off x="4705200" y="2743200"/>
            <a:ext cx="4445280" cy="907920"/>
          </a:xfrm>
          <a:prstGeom prst="rect">
            <a:avLst/>
          </a:prstGeom>
          <a:ln w="0">
            <a:noFill/>
          </a:ln>
        </p:spPr>
      </p:pic>
      <p:pic>
        <p:nvPicPr>
          <p:cNvPr id="55" name="Группа 9" descr=""/>
          <p:cNvPicPr/>
          <p:nvPr/>
        </p:nvPicPr>
        <p:blipFill>
          <a:blip r:embed="rId6"/>
          <a:stretch/>
        </p:blipFill>
        <p:spPr>
          <a:xfrm>
            <a:off x="7132680" y="3114720"/>
            <a:ext cx="2663640" cy="176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Солнышко\Desktop\ШКОЛА\Кюхельбекер\kyuhelbeker2.jpg"/>
          <p:cNvPicPr/>
          <p:nvPr/>
        </p:nvPicPr>
        <p:blipFill>
          <a:blip r:embed="rId7"/>
          <a:stretch/>
        </p:blipFill>
        <p:spPr>
          <a:xfrm rot="20669400">
            <a:off x="1109160" y="1680840"/>
            <a:ext cx="2487600" cy="3525840"/>
          </a:xfrm>
          <a:prstGeom prst="rect">
            <a:avLst/>
          </a:prstGeom>
          <a:ln w="0">
            <a:noFill/>
          </a:ln>
        </p:spPr>
      </p:pic>
      <p:sp>
        <p:nvSpPr>
          <p:cNvPr id="57" name="TextBox 20"/>
          <p:cNvSpPr/>
          <p:nvPr/>
        </p:nvSpPr>
        <p:spPr>
          <a:xfrm>
            <a:off x="5357880" y="4714920"/>
            <a:ext cx="307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итель: Цепелева С.Н., учитель русского языка и литературы школы № 3 г. Камышлова с углубленным изучением отдельных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4" descr=""/>
          <p:cNvPicPr/>
          <p:nvPr/>
        </p:nvPicPr>
        <p:blipFill>
          <a:blip r:embed="rId2"/>
          <a:stretch/>
        </p:blipFill>
        <p:spPr>
          <a:xfrm>
            <a:off x="4578480" y="579600"/>
            <a:ext cx="43275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Группа 17"/>
          <p:cNvGrpSpPr/>
          <p:nvPr/>
        </p:nvGrpSpPr>
        <p:grpSpPr>
          <a:xfrm>
            <a:off x="179280" y="428760"/>
            <a:ext cx="8715600" cy="6429240"/>
            <a:chOff x="179280" y="428760"/>
            <a:chExt cx="8715600" cy="6429240"/>
          </a:xfrm>
        </p:grpSpPr>
        <p:sp>
          <p:nvSpPr>
            <p:cNvPr id="59" name="Скругленный прямоугольник 8"/>
            <p:cNvSpPr/>
            <p:nvPr/>
          </p:nvSpPr>
          <p:spPr>
            <a:xfrm>
              <a:off x="179280" y="428760"/>
              <a:ext cx="8715600" cy="6429240"/>
            </a:xfrm>
            <a:prstGeom prst="roundRect">
              <a:avLst>
                <a:gd name="adj" fmla="val 2116"/>
              </a:avLst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оугольник 3"/>
            <p:cNvSpPr/>
            <p:nvPr/>
          </p:nvSpPr>
          <p:spPr>
            <a:xfrm>
              <a:off x="291960" y="541440"/>
              <a:ext cx="4251600" cy="621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оугольник 4"/>
            <p:cNvSpPr/>
            <p:nvPr/>
          </p:nvSpPr>
          <p:spPr>
            <a:xfrm>
              <a:off x="4543560" y="541440"/>
              <a:ext cx="4249800" cy="621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1080000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Полилиния 10"/>
          <p:cNvSpPr/>
          <p:nvPr/>
        </p:nvSpPr>
        <p:spPr>
          <a:xfrm>
            <a:off x="8599320" y="417600"/>
            <a:ext cx="260640" cy="55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64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илиния 12"/>
          <p:cNvSpPr/>
          <p:nvPr/>
        </p:nvSpPr>
        <p:spPr>
          <a:xfrm flipH="1">
            <a:off x="357120" y="417600"/>
            <a:ext cx="262080" cy="55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64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27" descr=""/>
          <p:cNvPicPr/>
          <p:nvPr/>
        </p:nvPicPr>
        <p:blipFill>
          <a:blip r:embed="rId1"/>
          <a:stretch/>
        </p:blipFill>
        <p:spPr>
          <a:xfrm>
            <a:off x="4363920" y="536400"/>
            <a:ext cx="4676760" cy="5913720"/>
          </a:xfrm>
          <a:prstGeom prst="rect">
            <a:avLst/>
          </a:prstGeom>
          <a:ln w="0">
            <a:noFill/>
          </a:ln>
        </p:spPr>
      </p:pic>
      <p:grpSp>
        <p:nvGrpSpPr>
          <p:cNvPr id="65" name="Прямоугольник с двумя скругленными соседними углами 20"/>
          <p:cNvGrpSpPr/>
          <p:nvPr/>
        </p:nvGrpSpPr>
        <p:grpSpPr>
          <a:xfrm>
            <a:off x="3981600" y="195120"/>
            <a:ext cx="529920" cy="243000"/>
            <a:chOff x="3981600" y="195120"/>
            <a:chExt cx="529920" cy="243000"/>
          </a:xfrm>
        </p:grpSpPr>
        <p:pic>
          <p:nvPicPr>
            <p:cNvPr id="66" name="Прямоугольник с двумя скругленными соседними углами 20" descr=""/>
            <p:cNvPicPr/>
            <p:nvPr/>
          </p:nvPicPr>
          <p:blipFill>
            <a:blip r:embed="rId2"/>
            <a:stretch/>
          </p:blipFill>
          <p:spPr>
            <a:xfrm>
              <a:off x="3981600" y="195120"/>
              <a:ext cx="52992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011480" y="225360"/>
              <a:ext cx="4780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Прямоугольник с двумя скругленными соседними углами 21"/>
          <p:cNvGrpSpPr/>
          <p:nvPr/>
        </p:nvGrpSpPr>
        <p:grpSpPr>
          <a:xfrm>
            <a:off x="3481560" y="195120"/>
            <a:ext cx="529920" cy="243000"/>
            <a:chOff x="3481560" y="195120"/>
            <a:chExt cx="529920" cy="243000"/>
          </a:xfrm>
        </p:grpSpPr>
        <p:pic>
          <p:nvPicPr>
            <p:cNvPr id="69" name="Прямоугольник с двумя скругленными соседними углами 21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481560" y="195120"/>
              <a:ext cx="52992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511440" y="225360"/>
              <a:ext cx="4780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Прямоугольник с двумя скругленными соседними углами 22"/>
          <p:cNvGrpSpPr/>
          <p:nvPr/>
        </p:nvGrpSpPr>
        <p:grpSpPr>
          <a:xfrm>
            <a:off x="2981160" y="195120"/>
            <a:ext cx="530280" cy="243000"/>
            <a:chOff x="2981160" y="195120"/>
            <a:chExt cx="530280" cy="243000"/>
          </a:xfrm>
        </p:grpSpPr>
        <p:pic>
          <p:nvPicPr>
            <p:cNvPr id="72" name="Прямоугольник с двумя скругленными соседними углами 22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2981160" y="195120"/>
              <a:ext cx="53028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011400" y="225360"/>
              <a:ext cx="4780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Прямоугольник с двумя скругленными соседними углами 23"/>
          <p:cNvGrpSpPr/>
          <p:nvPr/>
        </p:nvGrpSpPr>
        <p:grpSpPr>
          <a:xfrm>
            <a:off x="4694400" y="195120"/>
            <a:ext cx="529920" cy="243000"/>
            <a:chOff x="4694400" y="195120"/>
            <a:chExt cx="529920" cy="243000"/>
          </a:xfrm>
        </p:grpSpPr>
        <p:pic>
          <p:nvPicPr>
            <p:cNvPr id="75" name="Прямоугольник с двумя скругленными соседними углами 23" descr=""/>
            <p:cNvPicPr/>
            <p:nvPr/>
          </p:nvPicPr>
          <p:blipFill>
            <a:blip r:embed="rId6"/>
            <a:stretch/>
          </p:blipFill>
          <p:spPr>
            <a:xfrm>
              <a:off x="4694400" y="195120"/>
              <a:ext cx="52992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726080" y="225360"/>
              <a:ext cx="4777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Прямоугольник с двумя скругленными соседними углами 24"/>
          <p:cNvGrpSpPr/>
          <p:nvPr/>
        </p:nvGrpSpPr>
        <p:grpSpPr>
          <a:xfrm>
            <a:off x="5194440" y="195120"/>
            <a:ext cx="536400" cy="243000"/>
            <a:chOff x="5194440" y="195120"/>
            <a:chExt cx="536400" cy="243000"/>
          </a:xfrm>
        </p:grpSpPr>
        <p:pic>
          <p:nvPicPr>
            <p:cNvPr id="78" name="Прямоугольник с двумя скругленными соседними углами 24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5194440" y="195120"/>
              <a:ext cx="53640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226120" y="225360"/>
              <a:ext cx="4777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Прямоугольник с двумя скругленными соседними углами 25"/>
          <p:cNvGrpSpPr/>
          <p:nvPr/>
        </p:nvGrpSpPr>
        <p:grpSpPr>
          <a:xfrm>
            <a:off x="5699160" y="195120"/>
            <a:ext cx="530280" cy="243000"/>
            <a:chOff x="5699160" y="195120"/>
            <a:chExt cx="530280" cy="243000"/>
          </a:xfrm>
        </p:grpSpPr>
        <p:pic>
          <p:nvPicPr>
            <p:cNvPr id="81" name="Прямоугольник с двумя скругленными соседними углами 25" descr="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5699160" y="195120"/>
              <a:ext cx="53028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726160" y="225360"/>
              <a:ext cx="4777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Полилиния 5">
            <a:hlinkClick r:id="" action="ppaction://hlinkshowjump?jump=nextslide"/>
          </p:cNvPr>
          <p:cNvSpPr/>
          <p:nvPr/>
        </p:nvSpPr>
        <p:spPr>
          <a:xfrm>
            <a:off x="8366040" y="417600"/>
            <a:ext cx="500040" cy="571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олилиния 11">
            <a:hlinkClick r:id="" action="ppaction://hlinkshowjump?jump=previousslide"/>
          </p:cNvPr>
          <p:cNvSpPr/>
          <p:nvPr/>
        </p:nvSpPr>
        <p:spPr>
          <a:xfrm flipH="1">
            <a:off x="353160" y="414360"/>
            <a:ext cx="500040" cy="571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Солнышко\Desktop\ШКОЛА\Кюхельбекер\kyuhelbeker.jpg"/>
          <p:cNvPicPr/>
          <p:nvPr/>
        </p:nvPicPr>
        <p:blipFill>
          <a:blip r:embed="rId9"/>
          <a:stretch/>
        </p:blipFill>
        <p:spPr>
          <a:xfrm>
            <a:off x="539640" y="992160"/>
            <a:ext cx="381636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Группа 17"/>
          <p:cNvGrpSpPr/>
          <p:nvPr/>
        </p:nvGrpSpPr>
        <p:grpSpPr>
          <a:xfrm>
            <a:off x="395280" y="189000"/>
            <a:ext cx="8424720" cy="6408720"/>
            <a:chOff x="395280" y="189000"/>
            <a:chExt cx="8424720" cy="6408720"/>
          </a:xfrm>
        </p:grpSpPr>
        <p:sp>
          <p:nvSpPr>
            <p:cNvPr id="87" name="Скругленный прямоугольник 5"/>
            <p:cNvSpPr/>
            <p:nvPr/>
          </p:nvSpPr>
          <p:spPr>
            <a:xfrm>
              <a:off x="395280" y="189000"/>
              <a:ext cx="8424720" cy="6408720"/>
            </a:xfrm>
            <a:prstGeom prst="roundRect">
              <a:avLst>
                <a:gd name="adj" fmla="val 2116"/>
              </a:avLst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Прямоугольник 6"/>
            <p:cNvSpPr/>
            <p:nvPr/>
          </p:nvSpPr>
          <p:spPr>
            <a:xfrm>
              <a:off x="504720" y="301680"/>
              <a:ext cx="4103640" cy="619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254061"/>
                  </a:solidFill>
                  <a:latin typeface="Calibri"/>
                </a:rPr>
                <a:t>"Кюхельбекер (Вильгельм), лютеранского исповедания, 15-ти лет. Способен и весьма прилежен; беспрестанно занимаясь чтением и сочинениями, он не радеет о прочем, оттого мало в вещах его порядка и опрятности. Впрочем, он добродушен, искренен с некоторою осторожностью, усерден, склонен ко всегдашнему упражнению, избирает себе предметы важные, плавно выражается и странен в обращении. Во всех словах и поступках, особенно в сочинениях его, приметны напряжение и высокопарность, часто без приличия. Неуместное внимание происходит, может быть, от глухоты на одно ухо. Раздраженность нервов его требует, чтобы он не слишком занимался, особенно сочинением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оугольник 7"/>
            <p:cNvSpPr/>
            <p:nvPr/>
          </p:nvSpPr>
          <p:spPr>
            <a:xfrm>
              <a:off x="4613040" y="301680"/>
              <a:ext cx="4110120" cy="619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1080000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6" descr="C:\Users\Солнышко\Desktop\ШКОЛА\Кюхельбекер\kyuhelbeker5.jpg"/>
          <p:cNvPicPr/>
          <p:nvPr/>
        </p:nvPicPr>
        <p:blipFill>
          <a:blip r:embed="rId1"/>
          <a:stretch/>
        </p:blipFill>
        <p:spPr>
          <a:xfrm>
            <a:off x="4859280" y="907920"/>
            <a:ext cx="3745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9" descr=""/>
          <p:cNvPicPr/>
          <p:nvPr/>
        </p:nvPicPr>
        <p:blipFill>
          <a:blip r:embed="rId1"/>
          <a:stretch/>
        </p:blipFill>
        <p:spPr>
          <a:xfrm>
            <a:off x="390600" y="1225440"/>
            <a:ext cx="8435880" cy="547380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8" descr=""/>
          <p:cNvPicPr/>
          <p:nvPr/>
        </p:nvPicPr>
        <p:blipFill>
          <a:blip r:embed="rId2"/>
          <a:stretch/>
        </p:blipFill>
        <p:spPr>
          <a:xfrm>
            <a:off x="1170000" y="158760"/>
            <a:ext cx="66628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Группа 17"/>
          <p:cNvGrpSpPr/>
          <p:nvPr/>
        </p:nvGrpSpPr>
        <p:grpSpPr>
          <a:xfrm>
            <a:off x="468360" y="549360"/>
            <a:ext cx="8207280" cy="6048360"/>
            <a:chOff x="468360" y="549360"/>
            <a:chExt cx="8207280" cy="6048360"/>
          </a:xfrm>
        </p:grpSpPr>
        <p:sp>
          <p:nvSpPr>
            <p:cNvPr id="94" name="Скругленный прямоугольник 5"/>
            <p:cNvSpPr/>
            <p:nvPr/>
          </p:nvSpPr>
          <p:spPr>
            <a:xfrm>
              <a:off x="468360" y="549360"/>
              <a:ext cx="8207280" cy="6048360"/>
            </a:xfrm>
            <a:prstGeom prst="roundRect">
              <a:avLst>
                <a:gd name="adj" fmla="val 2116"/>
              </a:avLst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оугольник 6"/>
            <p:cNvSpPr/>
            <p:nvPr/>
          </p:nvSpPr>
          <p:spPr>
            <a:xfrm>
              <a:off x="574560" y="655560"/>
              <a:ext cx="3997440" cy="584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М. А. Корф в "Записках о Лицее" пишет о Вильгельме: "Он принадлежал к числу самых плодовитых наших стихотворцев, и хотя в стихах его было всегда странное направление и отчасти странный даже язык, но при всем том, как поэт, он едва ли не стоял выше Дельвига и должен был занять место непосредственно за Пушкиным"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оугольник 7"/>
            <p:cNvSpPr/>
            <p:nvPr/>
          </p:nvSpPr>
          <p:spPr>
            <a:xfrm>
              <a:off x="4578480" y="655560"/>
              <a:ext cx="4002120" cy="584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1080000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5" descr="C:\Users\Солнышко\Desktop\ШКОЛА\Кюхельбекер\i.jpeg"/>
          <p:cNvPicPr/>
          <p:nvPr/>
        </p:nvPicPr>
        <p:blipFill>
          <a:blip r:embed="rId1"/>
          <a:stretch/>
        </p:blipFill>
        <p:spPr>
          <a:xfrm>
            <a:off x="4638600" y="1047600"/>
            <a:ext cx="385308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Солнышко\Desktop\ШКОЛА\Кюхельбекер\220px-Daugavpils_fortress15.JPG"/>
          <p:cNvPicPr/>
          <p:nvPr/>
        </p:nvPicPr>
        <p:blipFill>
          <a:blip r:embed="rId1"/>
          <a:stretch/>
        </p:blipFill>
        <p:spPr>
          <a:xfrm>
            <a:off x="250920" y="260280"/>
            <a:ext cx="5279760" cy="352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Солнышко\Desktop\ШКОЛА\Кюхельбекер\300px-Küchelbecker's_museum_Kurgan.jpg"/>
          <p:cNvPicPr/>
          <p:nvPr/>
        </p:nvPicPr>
        <p:blipFill>
          <a:blip r:embed="rId2"/>
          <a:stretch/>
        </p:blipFill>
        <p:spPr>
          <a:xfrm>
            <a:off x="4067280" y="3933720"/>
            <a:ext cx="3900240" cy="2924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Солнышко\Desktop\ШКОЛА\Кюхельбекер\ллл.jpeg"/>
          <p:cNvPicPr/>
          <p:nvPr/>
        </p:nvPicPr>
        <p:blipFill>
          <a:blip r:embed="rId3"/>
          <a:stretch/>
        </p:blipFill>
        <p:spPr>
          <a:xfrm>
            <a:off x="900000" y="3943440"/>
            <a:ext cx="2303640" cy="2914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Users\Солнышко\Desktop\ШКОЛА\Кюхельбекер\олоо.jpeg"/>
          <p:cNvPicPr/>
          <p:nvPr/>
        </p:nvPicPr>
        <p:blipFill>
          <a:blip r:embed="rId4"/>
          <a:stretch/>
        </p:blipFill>
        <p:spPr>
          <a:xfrm>
            <a:off x="6012000" y="260280"/>
            <a:ext cx="2916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Группа 17"/>
          <p:cNvGrpSpPr/>
          <p:nvPr/>
        </p:nvGrpSpPr>
        <p:grpSpPr>
          <a:xfrm>
            <a:off x="468360" y="189000"/>
            <a:ext cx="8207280" cy="6408720"/>
            <a:chOff x="468360" y="189000"/>
            <a:chExt cx="8207280" cy="6408720"/>
          </a:xfrm>
        </p:grpSpPr>
        <p:sp>
          <p:nvSpPr>
            <p:cNvPr id="103" name="Скругленный прямоугольник 6"/>
            <p:cNvSpPr/>
            <p:nvPr/>
          </p:nvSpPr>
          <p:spPr>
            <a:xfrm>
              <a:off x="468360" y="189000"/>
              <a:ext cx="8207280" cy="6408720"/>
            </a:xfrm>
            <a:prstGeom prst="roundRect">
              <a:avLst>
                <a:gd name="adj" fmla="val 2116"/>
              </a:avLst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оугольник 7"/>
            <p:cNvSpPr/>
            <p:nvPr/>
          </p:nvSpPr>
          <p:spPr>
            <a:xfrm>
              <a:off x="574560" y="301680"/>
              <a:ext cx="3997440" cy="619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«…человек дельный с пером в руках, хоть и сумасброд…"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оугольник 8"/>
            <p:cNvSpPr/>
            <p:nvPr/>
          </p:nvSpPr>
          <p:spPr>
            <a:xfrm>
              <a:off x="4578480" y="301680"/>
              <a:ext cx="4002120" cy="619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1080000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6" descr="C:\Users\Солнышко\Desktop\i.jpeg"/>
          <p:cNvPicPr/>
          <p:nvPr/>
        </p:nvPicPr>
        <p:blipFill>
          <a:blip r:embed="rId1"/>
          <a:stretch/>
        </p:blipFill>
        <p:spPr>
          <a:xfrm>
            <a:off x="4716360" y="2924280"/>
            <a:ext cx="2592360" cy="3192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:\Users\Солнышко\Desktop\ШКОЛА\Кюхельбекер\kyuhelbeker.jpg"/>
          <p:cNvPicPr/>
          <p:nvPr/>
        </p:nvPicPr>
        <p:blipFill>
          <a:blip r:embed="rId2"/>
          <a:stretch/>
        </p:blipFill>
        <p:spPr>
          <a:xfrm>
            <a:off x="6291360" y="476280"/>
            <a:ext cx="20476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4824720" cy="3585960"/>
          </a:xfrm>
          <a:prstGeom prst="rect">
            <a:avLst/>
          </a:prstGeom>
          <a:ln w="0">
            <a:noFill/>
          </a:ln>
        </p:spPr>
      </p:pic>
      <p:sp>
        <p:nvSpPr>
          <p:cNvPr id="109" name="Выноска-облако 6"/>
          <p:cNvSpPr/>
          <p:nvPr/>
        </p:nvSpPr>
        <p:spPr>
          <a:xfrm>
            <a:off x="1943280" y="404640"/>
            <a:ext cx="7200720" cy="2400120"/>
          </a:xfrm>
          <a:prstGeom prst="cloudCallout">
            <a:avLst>
              <a:gd name="adj1" fmla="val -20837"/>
              <a:gd name="adj2" fmla="val 61981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 ужином объелся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Яков запер дверь оплош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было мне, мои дру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юхельбекерно и тошн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Прямоугольник 3" descr=""/>
          <p:cNvPicPr/>
          <p:nvPr/>
        </p:nvPicPr>
        <p:blipFill>
          <a:blip r:embed="rId2"/>
          <a:stretch/>
        </p:blipFill>
        <p:spPr>
          <a:xfrm>
            <a:off x="781200" y="6089760"/>
            <a:ext cx="258444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Группа 17"/>
          <p:cNvGrpSpPr/>
          <p:nvPr/>
        </p:nvGrpSpPr>
        <p:grpSpPr>
          <a:xfrm>
            <a:off x="468360" y="260280"/>
            <a:ext cx="8136000" cy="6337440"/>
            <a:chOff x="468360" y="260280"/>
            <a:chExt cx="8136000" cy="6337440"/>
          </a:xfrm>
        </p:grpSpPr>
        <p:sp>
          <p:nvSpPr>
            <p:cNvPr id="112" name="Скругленный прямоугольник 5"/>
            <p:cNvSpPr/>
            <p:nvPr/>
          </p:nvSpPr>
          <p:spPr>
            <a:xfrm>
              <a:off x="468360" y="260280"/>
              <a:ext cx="8136000" cy="6337440"/>
            </a:xfrm>
            <a:prstGeom prst="roundRect">
              <a:avLst>
                <a:gd name="adj" fmla="val 2116"/>
              </a:avLst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рямоугольник 6"/>
            <p:cNvSpPr/>
            <p:nvPr/>
          </p:nvSpPr>
          <p:spPr>
            <a:xfrm>
              <a:off x="574560" y="371160"/>
              <a:ext cx="3962520" cy="6126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поэма "Смерть Байрона«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тяжеловесная шутка "Шекспировы духи"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мистерия «Ижорский»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несколько десятков его пьес помещены в "Собрании стихотворений декабристов" 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"Избранные стихотворения В.К. Кюхельбекера" изданы в Шо-де-фон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54061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254061"/>
                  </a:solidFill>
                  <a:latin typeface="Times New Roman"/>
                  <a:ea typeface="Times New Roman"/>
                </a:rPr>
                <a:t>в "Русской Старине" были напечатаны его дневник и поэма "Вечный Жид"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061"/>
                  </a:solidFill>
                  <a:latin typeface="Calibri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Прямоугольник 7"/>
            <p:cNvSpPr/>
            <p:nvPr/>
          </p:nvSpPr>
          <p:spPr>
            <a:xfrm>
              <a:off x="4541760" y="371160"/>
              <a:ext cx="3968640" cy="6126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ebe0"/>
                </a:gs>
              </a:gsLst>
              <a:lin ang="10800000"/>
            </a:gradFill>
            <a:ln w="64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4" descr="C:\Users\Солнышко\Desktop\ШКОЛА\Кюхельбекер\kyuhelbeker2.jpg"/>
          <p:cNvPicPr/>
          <p:nvPr/>
        </p:nvPicPr>
        <p:blipFill>
          <a:blip r:embed="rId1"/>
          <a:stretch/>
        </p:blipFill>
        <p:spPr>
          <a:xfrm>
            <a:off x="6156360" y="404640"/>
            <a:ext cx="2127240" cy="3015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28814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5:08:59Z</dcterms:created>
  <dc:creator>Солнышко</dc:creator>
  <dc:description/>
  <dc:language>en-US</dc:language>
  <cp:lastModifiedBy>КарМаН</cp:lastModifiedBy>
  <dcterms:modified xsi:type="dcterms:W3CDTF">2012-03-22T07:52:27Z</dcterms:modified>
  <cp:revision>13</cp:revision>
  <dc:subject/>
  <dc:title>Кюхельбекер Вильгельм Карлови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6281049</vt:lpwstr>
  </property>
</Properties>
</file>