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wmf" ContentType="image/x-wmf"/>
  <Override PartName="/ppt/media/driveby.wav" ContentType="audio/x-wav"/>
  <Override PartName="/ppt/media/image4.gif" ContentType="image/gif"/>
  <Override PartName="/ppt/media/image7.wmf" ContentType="image/x-wm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AF4B-8F0A-44EA-9494-9791090B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DC7-C4C6-4E50-8A12-4707E99E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448-DB14-414F-BAD5-E1314CB5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B71-5CC8-4DDB-A672-FA5658BD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6321-A22E-48BA-A26A-E36AE70F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193A-90ED-4BD2-8BA6-CF0B3246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8D73-D246-4D80-A7BF-08CFE5DC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7A11-D3F8-4646-B0F1-DB27F769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5204-5FF4-43A1-AE5C-8C9E9AED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FAE8-67A6-4057-AC48-4E40AC67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2EE7-FC4B-492F-B6A0-39A4B8C7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5CDE-2EA1-4086-A528-7B94E5DB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F324-77A1-4271-A06B-564AEBF4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EB96-9DF3-4A74-A54E-D6268E74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EF21-DD95-43A8-8551-E81F89BC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903D-BE29-4992-B3B3-BE47768C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88F9-E87C-45E3-B506-3B0F9E4A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A280-1E7F-4CED-8A4D-69A4D5C6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8AF8-EDFE-4FC5-8216-778127BA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BA7A-117C-42F9-89A4-86E23B31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B0F-F73E-45EB-B99E-EDB2A1E1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1F1C-DE25-4DB4-9F0D-AAE9013F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284-9ADF-49E6-B433-F593DBFD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8E7-CD14-464F-8C33-AF4AFACF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B113-E722-44AD-8218-392F8F3997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59EF-BB1F-429A-B579-BEFF86AFF2B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Тема урока: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крытие скобок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5" descr="удивленный мышонок"/>
          <p:cNvPicPr/>
          <p:nvPr/>
        </p:nvPicPr>
        <p:blipFill>
          <a:blip r:embed="rId1"/>
          <a:stretch/>
        </p:blipFill>
        <p:spPr>
          <a:xfrm>
            <a:off x="539640" y="3716280"/>
            <a:ext cx="1746360" cy="2755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j0196200"/>
          <p:cNvPicPr/>
          <p:nvPr/>
        </p:nvPicPr>
        <p:blipFill>
          <a:blip r:embed="rId2"/>
          <a:stretch/>
        </p:blipFill>
        <p:spPr>
          <a:xfrm>
            <a:off x="6012000" y="404640"/>
            <a:ext cx="2736720" cy="21654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3100320" y="4292640"/>
            <a:ext cx="38275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тор: учитель математик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офимова Елена Иозас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Абаза, 2013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3 + 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55" name="Rectangle 38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39" descr="crayon1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3 + 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33" descr="crayon1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х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63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33" descr="crayon1"/>
          <p:cNvPicPr/>
          <p:nvPr/>
        </p:nvPicPr>
        <p:blipFill>
          <a:blip r:embed="rId1"/>
          <a:stretch/>
        </p:blipFill>
        <p:spPr>
          <a:xfrm>
            <a:off x="7093080" y="0"/>
            <a:ext cx="178092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х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33" descr="crayon1"/>
          <p:cNvPicPr/>
          <p:nvPr/>
        </p:nvPicPr>
        <p:blipFill>
          <a:blip r:embed="rId1"/>
          <a:stretch/>
        </p:blipFill>
        <p:spPr>
          <a:xfrm>
            <a:off x="7093080" y="0"/>
            <a:ext cx="17301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по учебник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97400" cy="4506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. 121 №52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2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7308720" y="404640"/>
            <a:ext cx="1100160" cy="1125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мышонок читает"/>
          <p:cNvPicPr/>
          <p:nvPr/>
        </p:nvPicPr>
        <p:blipFill>
          <a:blip r:embed="rId2"/>
          <a:stretch/>
        </p:blipFill>
        <p:spPr>
          <a:xfrm>
            <a:off x="6804000" y="2924280"/>
            <a:ext cx="168444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58560" y="2205000"/>
            <a:ext cx="6342120" cy="36432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. 120 №521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2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4716360" y="2637000"/>
            <a:ext cx="2519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바탕"/>
              </a:rPr>
              <a:t>Выполните действия:</a:t>
            </a:r>
            <a:r>
              <a:rPr b="1" i="1" lang="ru-RU" sz="44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58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70 : 10  =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60 : (-2) 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160 + 40 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300 : (-100)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(-90)+(- 909)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150 + 400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90 + 125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8. (- 400)+(- 111)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859280" y="1268280"/>
            <a:ext cx="1112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932360" y="1844640"/>
            <a:ext cx="13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5076720" y="2421000"/>
            <a:ext cx="144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12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5435640" y="306864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5219640" y="364500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219640" y="4221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25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5148360" y="479736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5219640" y="537372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5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바탕"/>
              </a:rPr>
              <a:t>Выполните умнож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858000" y="914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467480" y="227664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6,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596360" y="36450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468360" y="981000"/>
            <a:ext cx="748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0,3  · (-0,5)  ·  2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1)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0,2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1) · (- 6,3) · (-4)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(-2,5) · (0,4) · 50 · (-0,02)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+(а – в + с)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еред скобками стоит знак +, это значит, что все слагаемые в скобках надо умножить на 1, т.е., РАСКРЫВАЯ СКОБКИ , ОСТАВИТЬ ИХ БЕЗ ИЗМЕН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971640" y="486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+1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(а – в + с)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rc 9"/>
          <p:cNvSpPr/>
          <p:nvPr/>
        </p:nvSpPr>
        <p:spPr>
          <a:xfrm>
            <a:off x="2268360" y="4724280"/>
            <a:ext cx="1417680" cy="542880"/>
          </a:xfrm>
          <a:custGeom>
            <a:avLst/>
            <a:gdLst/>
            <a:ahLst/>
            <a:rect l="l" t="t" r="r" b="b"/>
            <a:pathLst>
              <a:path fill="none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rc 11"/>
          <p:cNvSpPr/>
          <p:nvPr/>
        </p:nvSpPr>
        <p:spPr>
          <a:xfrm>
            <a:off x="2268360" y="4654440"/>
            <a:ext cx="3095640" cy="567000"/>
          </a:xfrm>
          <a:custGeom>
            <a:avLst/>
            <a:gdLst/>
            <a:ahLst/>
            <a:rect l="l" t="t" r="r" b="b"/>
            <a:pathLst>
              <a:path fill="none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</a:path>
              <a:path stroke="0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rc 12"/>
          <p:cNvSpPr/>
          <p:nvPr/>
        </p:nvSpPr>
        <p:spPr>
          <a:xfrm>
            <a:off x="2341440" y="4586400"/>
            <a:ext cx="5051520" cy="569880"/>
          </a:xfrm>
          <a:custGeom>
            <a:avLst/>
            <a:gdLst/>
            <a:ahLst/>
            <a:rect l="l" t="t" r="r" b="b"/>
            <a:pathLst>
              <a:path fill="none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</a:path>
              <a:path stroke="0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356400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15"/>
          <p:cNvSpPr/>
          <p:nvPr/>
        </p:nvSpPr>
        <p:spPr>
          <a:xfrm flipH="1">
            <a:off x="3708000" y="508464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6"/>
          <p:cNvSpPr/>
          <p:nvPr/>
        </p:nvSpPr>
        <p:spPr>
          <a:xfrm>
            <a:off x="521964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17"/>
          <p:cNvSpPr/>
          <p:nvPr/>
        </p:nvSpPr>
        <p:spPr>
          <a:xfrm flipH="1">
            <a:off x="5364000" y="508464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7236000" y="5084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20"/>
          <p:cNvSpPr/>
          <p:nvPr/>
        </p:nvSpPr>
        <p:spPr>
          <a:xfrm flipH="1">
            <a:off x="7380000" y="5013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-(а – в + с)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4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еред скобками стоит знак -, это значит, что все слагаемые в скобках надо умножить на - 1, т.е., РАСКРЫВАЯ СКОБКИ , ИЗМЕНИТЬ ЗНАКИ СЛАГАЕМЫХ НА ПРОТИВОПОЛОЖНЫ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486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-1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(а – в + с)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rc 5"/>
          <p:cNvSpPr/>
          <p:nvPr/>
        </p:nvSpPr>
        <p:spPr>
          <a:xfrm>
            <a:off x="2268360" y="4724280"/>
            <a:ext cx="1417680" cy="542880"/>
          </a:xfrm>
          <a:custGeom>
            <a:avLst/>
            <a:gdLst/>
            <a:ahLst/>
            <a:rect l="l" t="t" r="r" b="b"/>
            <a:pathLst>
              <a:path fill="none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Arc 6"/>
          <p:cNvSpPr/>
          <p:nvPr/>
        </p:nvSpPr>
        <p:spPr>
          <a:xfrm>
            <a:off x="2268360" y="4654440"/>
            <a:ext cx="3095640" cy="567000"/>
          </a:xfrm>
          <a:custGeom>
            <a:avLst/>
            <a:gdLst/>
            <a:ahLst/>
            <a:rect l="l" t="t" r="r" b="b"/>
            <a:pathLst>
              <a:path fill="none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</a:path>
              <a:path stroke="0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rc 7"/>
          <p:cNvSpPr/>
          <p:nvPr/>
        </p:nvSpPr>
        <p:spPr>
          <a:xfrm>
            <a:off x="2341440" y="4586400"/>
            <a:ext cx="5051520" cy="569880"/>
          </a:xfrm>
          <a:custGeom>
            <a:avLst/>
            <a:gdLst/>
            <a:ahLst/>
            <a:rect l="l" t="t" r="r" b="b"/>
            <a:pathLst>
              <a:path fill="none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</a:path>
              <a:path stroke="0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356400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9"/>
          <p:cNvSpPr/>
          <p:nvPr/>
        </p:nvSpPr>
        <p:spPr>
          <a:xfrm flipH="1">
            <a:off x="3708000" y="508464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521964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364000" y="508464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7236000" y="5084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13"/>
          <p:cNvSpPr/>
          <p:nvPr/>
        </p:nvSpPr>
        <p:spPr>
          <a:xfrm flipH="1">
            <a:off x="7380000" y="5013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должить запис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58920" y="2349000"/>
            <a:ext cx="6485040" cy="2706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= …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должить запись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7280" y="2636640"/>
            <a:ext cx="6485040" cy="2850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= …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кройте скоб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41(2 – ху – у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71( а + в – с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(- 20 + а – 3в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2(в - 100 – 4а) =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33(2х – ху + 3у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8(- а + в + с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(65 + а – 98в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1(в – 2с – 3а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45007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Раскрой скобки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600360" cy="518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4(5 – х – 6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81(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25 + а – 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1(- в - 5 – 6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9(8 + х – 4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8(- а - в +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5 - а + 5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0(в + 9 – 3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03280" y="1412640"/>
            <a:ext cx="3961080" cy="518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3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+ ху – 6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1(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(21 - а – 66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(- с - 49 + 3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6(9 – а – 5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7(-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85 - а – 40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1(в - 10 + 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332000" y="907920"/>
            <a:ext cx="22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5867280" y="907920"/>
            <a:ext cx="22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0:42:51Z</dcterms:created>
  <dc:creator>Трофимов</dc:creator>
  <dc:description/>
  <dc:language>en-US</dc:language>
  <cp:lastModifiedBy>Пользователь</cp:lastModifiedBy>
  <dcterms:modified xsi:type="dcterms:W3CDTF">2013-01-28T18:03:57Z</dcterms:modified>
  <cp:revision>4</cp:revision>
  <dc:subject/>
  <dc:title>Тема урока:  Раскрытие скобок.</dc:title>
</cp:coreProperties>
</file>