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wmf" ContentType="image/x-wmf"/>
  <Override PartName="/ppt/media/driveby.wav" ContentType="audio/x-wav"/>
  <Override PartName="/ppt/media/image4.gif" ContentType="image/gif"/>
  <Override PartName="/ppt/media/image7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FBC-1545-455D-BBA6-6502D766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85F-353F-4694-9C11-275F10B0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197-964B-4223-8C99-A7CF718A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2506-86B3-4EBE-8883-1F29D6B9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A05B-8A7A-4EA0-AC99-FA0E2A08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B5E0-6754-4756-8FBB-75CFEB24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4B9D-5ED3-4D4B-833A-955C8D54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6FB2-B836-4F55-9616-9EFE0781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8952-AD72-4DBC-B70E-C7037EB7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C005-08B0-4C46-952A-10361C80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A8BC-38CC-4995-BC5B-10B0052C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BCD-3B90-4483-82D8-F6033174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A702-3FB3-4443-A41A-C7F7AF8D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387D-2F61-47DD-8A1E-1C66DD23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25EC-E592-47C3-8B0E-ABC281CC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DC57-542C-42FF-A887-7BFD42B5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2B3E-3FB2-4A22-820A-019D09F9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E7C-1095-458A-A650-A5221F61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7C2-8247-4F9F-B107-5DB55B15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19F-AC63-4020-B7D9-1948DC0E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6DF-854E-4D6C-B461-11099123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6E2-1A09-4E8D-A7D7-650CEB10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8E9-4952-48F4-BBE7-43624FF2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B0C-1732-47DC-9DA1-09163637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DC6E-479F-43BA-B3CE-F693872F43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E28D-B555-47B2-A265-40933F2D381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Тема урока: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ытие скобок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5" descr="удивленный мышонок"/>
          <p:cNvPicPr/>
          <p:nvPr/>
        </p:nvPicPr>
        <p:blipFill>
          <a:blip r:embed="rId1"/>
          <a:stretch/>
        </p:blipFill>
        <p:spPr>
          <a:xfrm>
            <a:off x="539640" y="3716280"/>
            <a:ext cx="1746360" cy="275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j0196200"/>
          <p:cNvPicPr/>
          <p:nvPr/>
        </p:nvPicPr>
        <p:blipFill>
          <a:blip r:embed="rId2"/>
          <a:stretch/>
        </p:blipFill>
        <p:spPr>
          <a:xfrm>
            <a:off x="6012000" y="404640"/>
            <a:ext cx="2736720" cy="2165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3100320" y="4292640"/>
            <a:ext cx="38275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учитель математик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офимова Елена Иозас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Абаза, 2013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55" name="Rectangle 38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39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33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63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809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301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по учебник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97400" cy="45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1 №5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308720" y="404640"/>
            <a:ext cx="1100160" cy="1125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мышонок читает"/>
          <p:cNvPicPr/>
          <p:nvPr/>
        </p:nvPicPr>
        <p:blipFill>
          <a:blip r:embed="rId2"/>
          <a:stretch/>
        </p:blipFill>
        <p:spPr>
          <a:xfrm>
            <a:off x="6804000" y="2924280"/>
            <a:ext cx="168444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6342120" cy="36432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0 №52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2519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действия:</a:t>
            </a:r>
            <a:r>
              <a:rPr b="1" i="1" lang="ru-RU" sz="4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859280" y="1268280"/>
            <a:ext cx="1112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932360" y="1844640"/>
            <a:ext cx="13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5076720" y="2421000"/>
            <a:ext cx="144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1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5435640" y="306864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219640" y="364500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219640" y="4221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5148360" y="479736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219640" y="537372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5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умнож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85800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467480" y="227664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6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596360" y="36450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68360" y="98100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0,3  · (-0,5)  ·  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0,2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 · (- 6,3) · (-4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(-2,5) · (0,4) · 50 · (-0,02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rc 9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rc 11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rc 12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5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17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20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4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rc 5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Arc 6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rc 7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13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6485040" cy="27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7280" y="2636640"/>
            <a:ext cx="6485040" cy="2850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ойте скоб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45007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аскрой скобк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60036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03280" y="1412640"/>
            <a:ext cx="396108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33200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86728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42:51Z</dcterms:created>
  <dc:creator>Трофимов</dc:creator>
  <dc:description/>
  <dc:language>en-US</dc:language>
  <cp:lastModifiedBy>Пользователь</cp:lastModifiedBy>
  <dcterms:modified xsi:type="dcterms:W3CDTF">2013-01-28T18:03:57Z</dcterms:modified>
  <cp:revision>4</cp:revision>
  <dc:subject/>
  <dc:title>Тема урока:  Раскрытие скобок.</dc:title>
</cp:coreProperties>
</file>