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5.wmf" ContentType="image/x-wmf"/>
  <Override PartName="/ppt/media/image3.wmf" ContentType="image/x-wmf"/>
  <Override PartName="/ppt/media/driveby.wav" ContentType="audio/x-wav"/>
  <Override PartName="/ppt/media/image4.gif" ContentType="image/gif"/>
  <Override PartName="/ppt/media/image7.wmf" ContentType="image/x-wmf"/>
  <Override PartName="/ppt/media/image6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D54E-02B4-445D-B9A0-3BD069CAA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3B93-70F3-489A-B21F-E3BD93247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778A-4CE0-4678-AFDD-80848C830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A140-BE87-424B-B3C0-60F92412C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475EB-857A-4D69-BC9D-E2F12F684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659CD-A665-445F-A1D3-96ABDAC5A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35B03-014A-432A-A382-D0447CA45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FD1BB-89C7-4F05-8D50-B8C8AE071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A8F7B-4616-45F7-AEB4-1DCF33002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429B1-D115-46E8-BDB5-65A14C46A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12051-2E33-4D96-84C8-A10324F5E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20AF-67E5-42DD-BF36-CDEB0BBAD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2A17B-AE7B-4EE2-8681-0C4604E54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80CA1-2B5D-46C2-9530-AD06A12CF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1220F-B5D1-4CDC-B1D6-71F1C605F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8731E-3894-4A1A-8195-F04310F7F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826AB-7CA9-4EA7-A6BC-BA490B54C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2234-734D-484A-B9B2-5DF34C147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DA00-C3DF-435C-AE3B-16D6E2266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75FC-B6CD-4BF0-8658-739E959A7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69C0-2D75-4DB6-B2FC-7CAD1B384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DD7D-614D-47E0-AF1A-897EC78CB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0278-E32A-45AF-A479-EDDDC1CBD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2EA8-FC64-4677-9FAE-4AB85753E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E09D2-192E-4EC2-9044-F9BDF228E63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DD114-4A12-42C3-953B-78ED5EE6D76D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wmf"/><Relationship Id="rId3" Type="http://schemas.openxmlformats.org/officeDocument/2006/relationships/audio" Target="../media/driveby.wav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gif"/><Relationship Id="rId3" Type="http://schemas.openxmlformats.org/officeDocument/2006/relationships/audio" Target="../media/driveby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71640" y="134136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333399"/>
                </a:solidFill>
                <a:uFillTx/>
                <a:latin typeface="Tahoma"/>
              </a:rPr>
              <a:t>Тема урока: </a:t>
            </a:r>
            <a:br>
              <a:rPr sz="4400"/>
            </a:b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Раскрытие скобок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0" name="Picture 5" descr="удивленный мышонок"/>
          <p:cNvPicPr/>
          <p:nvPr/>
        </p:nvPicPr>
        <p:blipFill>
          <a:blip r:embed="rId1"/>
          <a:stretch/>
        </p:blipFill>
        <p:spPr>
          <a:xfrm>
            <a:off x="539640" y="3716280"/>
            <a:ext cx="1746360" cy="27558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j0196200"/>
          <p:cNvPicPr/>
          <p:nvPr/>
        </p:nvPicPr>
        <p:blipFill>
          <a:blip r:embed="rId2"/>
          <a:stretch/>
        </p:blipFill>
        <p:spPr>
          <a:xfrm>
            <a:off x="6012000" y="404640"/>
            <a:ext cx="2736720" cy="2165400"/>
          </a:xfrm>
          <a:prstGeom prst="rect">
            <a:avLst/>
          </a:prstGeom>
          <a:ln w="0">
            <a:noFill/>
          </a:ln>
        </p:spPr>
      </p:pic>
      <p:sp>
        <p:nvSpPr>
          <p:cNvPr id="102" name="TextBox 1"/>
          <p:cNvSpPr/>
          <p:nvPr/>
        </p:nvSpPr>
        <p:spPr>
          <a:xfrm>
            <a:off x="3100320" y="4292640"/>
            <a:ext cx="3827520" cy="20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Автор: учитель математики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Трофимова Елена Иозасовн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г. Абаза, 2013 год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" dur="3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Заполнить таблицу, </a:t>
            </a:r>
            <a:br>
              <a:rPr sz="4400"/>
            </a:b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если </a:t>
            </a: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у = - 3 + х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684360" y="2421000"/>
          <a:ext cx="7772400" cy="1614600"/>
        </p:xfrm>
        <a:graphic>
          <a:graphicData uri="http://schemas.openxmlformats.org/drawingml/2006/table">
            <a:tbl>
              <a:tblPr/>
              <a:tblGrid>
                <a:gridCol w="971280"/>
                <a:gridCol w="971640"/>
                <a:gridCol w="971640"/>
                <a:gridCol w="971640"/>
                <a:gridCol w="971280"/>
                <a:gridCol w="971640"/>
                <a:gridCol w="971640"/>
                <a:gridCol w="971640"/>
              </a:tblGrid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 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 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 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750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</a:tbl>
          </a:graphicData>
        </a:graphic>
      </p:graphicFrame>
      <p:sp>
        <p:nvSpPr>
          <p:cNvPr id="155" name="Rectangle 38"/>
          <p:cNvSpPr/>
          <p:nvPr/>
        </p:nvSpPr>
        <p:spPr>
          <a:xfrm>
            <a:off x="755640" y="472428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Отметьте на координатной плоскости точки с координатами (х;у), взятыми из полученной таблицы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6" name="Picture 39" descr="crayon1"/>
          <p:cNvPicPr/>
          <p:nvPr/>
        </p:nvPicPr>
        <p:blipFill>
          <a:blip r:embed="rId1"/>
          <a:stretch/>
        </p:blipFill>
        <p:spPr>
          <a:xfrm>
            <a:off x="7264440" y="0"/>
            <a:ext cx="1879560" cy="27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Заполнить таблицу, </a:t>
            </a:r>
            <a:br>
              <a:rPr sz="4400"/>
            </a:b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если </a:t>
            </a: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у = - 3 + х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684360" y="2421000"/>
          <a:ext cx="7772400" cy="1614600"/>
        </p:xfrm>
        <a:graphic>
          <a:graphicData uri="http://schemas.openxmlformats.org/drawingml/2006/table">
            <a:tbl>
              <a:tblPr/>
              <a:tblGrid>
                <a:gridCol w="971280"/>
                <a:gridCol w="971640"/>
                <a:gridCol w="971640"/>
                <a:gridCol w="971640"/>
                <a:gridCol w="971280"/>
                <a:gridCol w="971640"/>
                <a:gridCol w="971640"/>
                <a:gridCol w="971640"/>
              </a:tblGrid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 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 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 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750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 8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 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 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 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</a:tbl>
          </a:graphicData>
        </a:graphic>
      </p:graphicFrame>
      <p:sp>
        <p:nvSpPr>
          <p:cNvPr id="159" name="Rectangle 32"/>
          <p:cNvSpPr/>
          <p:nvPr/>
        </p:nvSpPr>
        <p:spPr>
          <a:xfrm>
            <a:off x="755640" y="472428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Отметьте на координатной плоскости точки с координатами (х;у), взятыми из полученной таблицы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0" name="Picture 33" descr="crayon1"/>
          <p:cNvPicPr/>
          <p:nvPr/>
        </p:nvPicPr>
        <p:blipFill>
          <a:blip r:embed="rId1"/>
          <a:stretch/>
        </p:blipFill>
        <p:spPr>
          <a:xfrm>
            <a:off x="7264440" y="0"/>
            <a:ext cx="1879560" cy="27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Заполнить таблицу, </a:t>
            </a:r>
            <a:br>
              <a:rPr sz="4400"/>
            </a:b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если </a:t>
            </a: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у = - х + 7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684360" y="2421000"/>
          <a:ext cx="7772400" cy="1614600"/>
        </p:xfrm>
        <a:graphic>
          <a:graphicData uri="http://schemas.openxmlformats.org/drawingml/2006/table">
            <a:tbl>
              <a:tblPr/>
              <a:tblGrid>
                <a:gridCol w="971280"/>
                <a:gridCol w="971640"/>
                <a:gridCol w="971640"/>
                <a:gridCol w="971640"/>
                <a:gridCol w="971280"/>
                <a:gridCol w="971640"/>
                <a:gridCol w="971640"/>
                <a:gridCol w="971640"/>
              </a:tblGrid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 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 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750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</a:tbl>
          </a:graphicData>
        </a:graphic>
      </p:graphicFrame>
      <p:sp>
        <p:nvSpPr>
          <p:cNvPr id="163" name="Rectangle 32"/>
          <p:cNvSpPr/>
          <p:nvPr/>
        </p:nvSpPr>
        <p:spPr>
          <a:xfrm>
            <a:off x="755640" y="472428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Отметьте на координатной плоскости точки с координатами (х;у), взятыми из полученной таблицы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Picture 33" descr="crayon1"/>
          <p:cNvPicPr/>
          <p:nvPr/>
        </p:nvPicPr>
        <p:blipFill>
          <a:blip r:embed="rId1"/>
          <a:stretch/>
        </p:blipFill>
        <p:spPr>
          <a:xfrm>
            <a:off x="7093080" y="0"/>
            <a:ext cx="1780920" cy="26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Заполнить таблицу, </a:t>
            </a:r>
            <a:br>
              <a:rPr sz="4400"/>
            </a:b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если </a:t>
            </a: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у = - х + 7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684360" y="2421000"/>
          <a:ext cx="7772400" cy="1614600"/>
        </p:xfrm>
        <a:graphic>
          <a:graphicData uri="http://schemas.openxmlformats.org/drawingml/2006/table">
            <a:tbl>
              <a:tblPr/>
              <a:tblGrid>
                <a:gridCol w="971280"/>
                <a:gridCol w="971640"/>
                <a:gridCol w="971640"/>
                <a:gridCol w="971640"/>
                <a:gridCol w="971280"/>
                <a:gridCol w="971640"/>
                <a:gridCol w="971640"/>
                <a:gridCol w="971640"/>
              </a:tblGrid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 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 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750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</a:tbl>
          </a:graphicData>
        </a:graphic>
      </p:graphicFrame>
      <p:sp>
        <p:nvSpPr>
          <p:cNvPr id="167" name="Rectangle 32"/>
          <p:cNvSpPr/>
          <p:nvPr/>
        </p:nvSpPr>
        <p:spPr>
          <a:xfrm>
            <a:off x="755640" y="472428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Отметьте на координатной плоскости точки с координатами (х;у), взятыми из полученной таблицы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8" name="Picture 33" descr="crayon1"/>
          <p:cNvPicPr/>
          <p:nvPr/>
        </p:nvPicPr>
        <p:blipFill>
          <a:blip r:embed="rId1"/>
          <a:stretch/>
        </p:blipFill>
        <p:spPr>
          <a:xfrm>
            <a:off x="7093080" y="0"/>
            <a:ext cx="1730160" cy="25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Работа по учебнику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4397400" cy="4506840"/>
          </a:xfrm>
          <a:prstGeom prst="rect">
            <a:avLst/>
          </a:prstGeom>
          <a:solidFill>
            <a:srgbClr val="ffccff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тр. 121 №528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   №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529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   №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53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   №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53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   №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53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   №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53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1" name="Picture 4" descr=""/>
          <p:cNvPicPr/>
          <p:nvPr/>
        </p:nvPicPr>
        <p:blipFill>
          <a:blip r:embed="rId1"/>
          <a:stretch/>
        </p:blipFill>
        <p:spPr>
          <a:xfrm>
            <a:off x="7308720" y="404640"/>
            <a:ext cx="1100160" cy="11257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мышонок читает"/>
          <p:cNvPicPr/>
          <p:nvPr/>
        </p:nvPicPr>
        <p:blipFill>
          <a:blip r:embed="rId2"/>
          <a:stretch/>
        </p:blipFill>
        <p:spPr>
          <a:xfrm>
            <a:off x="6804000" y="2924280"/>
            <a:ext cx="1684440" cy="259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ДОМА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258560" y="2205000"/>
            <a:ext cx="6342120" cy="3643200"/>
          </a:xfrm>
          <a:prstGeom prst="rect">
            <a:avLst/>
          </a:prstGeom>
          <a:solidFill>
            <a:srgbClr val="ffccff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тр. 120 №521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   №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52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5" name="Picture 4" descr=""/>
          <p:cNvPicPr/>
          <p:nvPr/>
        </p:nvPicPr>
        <p:blipFill>
          <a:blip r:embed="rId1"/>
          <a:stretch/>
        </p:blipFill>
        <p:spPr>
          <a:xfrm>
            <a:off x="4716360" y="2637000"/>
            <a:ext cx="251964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79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바탕"/>
              </a:rPr>
              <a:t>Выполните действия:</a:t>
            </a:r>
            <a:r>
              <a:rPr b="1" i="1" lang="ru-RU" sz="4400" spc="-1" strike="noStrike">
                <a:solidFill>
                  <a:srgbClr val="000000"/>
                </a:solidFill>
                <a:latin typeface="바탕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52120" y="1294920"/>
            <a:ext cx="35816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Bata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바탕"/>
              </a:rPr>
              <a:t>- 70 : 10  =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Bata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바탕"/>
              </a:rPr>
              <a:t>60 : (-2)  =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Bata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바탕"/>
              </a:rPr>
              <a:t>- 160 + 40  =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Bata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바탕"/>
              </a:rPr>
              <a:t>- 300 : (-100) =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Bata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바탕"/>
              </a:rPr>
              <a:t>(-90)+(- 909)=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Bata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바탕"/>
              </a:rPr>
              <a:t>- 150 + 400 =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Bata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바탕"/>
              </a:rPr>
              <a:t>- 90 + 125 =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바탕"/>
              </a:rPr>
              <a:t>8. (- 400)+(- 111)=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4859280" y="1268280"/>
            <a:ext cx="1112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바탕"/>
                <a:ea typeface="Times New Roman"/>
              </a:rPr>
              <a:t>- 7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4932360" y="1844640"/>
            <a:ext cx="1309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바탕"/>
                <a:ea typeface="Times New Roman"/>
              </a:rPr>
              <a:t>- 3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5076720" y="2421000"/>
            <a:ext cx="1440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바탕"/>
                <a:ea typeface="Times New Roman"/>
              </a:rPr>
              <a:t>- 12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7"/>
          <p:cNvSpPr/>
          <p:nvPr/>
        </p:nvSpPr>
        <p:spPr>
          <a:xfrm>
            <a:off x="5435640" y="3068640"/>
            <a:ext cx="762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8"/>
          <p:cNvSpPr/>
          <p:nvPr/>
        </p:nvSpPr>
        <p:spPr>
          <a:xfrm>
            <a:off x="5219640" y="3645000"/>
            <a:ext cx="1752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바탕"/>
                <a:ea typeface="Times New Roman"/>
              </a:rPr>
              <a:t>- 999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9"/>
          <p:cNvSpPr/>
          <p:nvPr/>
        </p:nvSpPr>
        <p:spPr>
          <a:xfrm>
            <a:off x="5219640" y="4221000"/>
            <a:ext cx="1600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바탕"/>
                <a:ea typeface="Times New Roman"/>
              </a:rPr>
              <a:t>25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0"/>
          <p:cNvSpPr/>
          <p:nvPr/>
        </p:nvSpPr>
        <p:spPr>
          <a:xfrm>
            <a:off x="5148360" y="4797360"/>
            <a:ext cx="1676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바탕"/>
                <a:ea typeface="Times New Roman"/>
              </a:rPr>
              <a:t>3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1"/>
          <p:cNvSpPr/>
          <p:nvPr/>
        </p:nvSpPr>
        <p:spPr>
          <a:xfrm>
            <a:off x="5219640" y="5373720"/>
            <a:ext cx="1371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바탕"/>
                <a:ea typeface="Times New Roman"/>
              </a:rPr>
              <a:t>- 51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바탕"/>
              </a:rPr>
              <a:t>Выполните умножение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6858000" y="914400"/>
            <a:ext cx="1523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3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7467480" y="227664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6,3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7596360" y="3645000"/>
            <a:ext cx="1066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Rectangle 6"/>
          <p:cNvSpPr/>
          <p:nvPr/>
        </p:nvSpPr>
        <p:spPr>
          <a:xfrm>
            <a:off x="468360" y="981000"/>
            <a:ext cx="748836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5760" indent="-45576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0,3  · (-0,5)  ·  2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-1)=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455760" indent="-45576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455760" indent="-45576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0,25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-1) · (- 6,3) · (-4) =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455760" indent="-45576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455760" indent="-45576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(-2,5) · (0,4) · 50 · (-0,02) =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455760" indent="-45576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455760" indent="-45576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600" spc="-1" strike="noStrike">
                <a:solidFill>
                  <a:srgbClr val="333399"/>
                </a:solidFill>
                <a:latin typeface="Times New Roman"/>
              </a:rPr>
              <a:t>+(а – в + с)</a:t>
            </a:r>
            <a:endParaRPr b="0" lang="en-US" sz="9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Если перед скобками стоит знак +, это значит, что все слагаемые в скобках надо умножить на 1, т.е., РАСКРЫВАЯ СКОБКИ , ОСТАВИТЬ ИХ БЕЗ ИЗМЕНЕН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971640" y="4869000"/>
            <a:ext cx="779292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600" spc="-1" strike="noStrike">
                <a:solidFill>
                  <a:srgbClr val="333399"/>
                </a:solidFill>
                <a:latin typeface="Times New Roman"/>
              </a:rPr>
              <a:t>+1</a:t>
            </a:r>
            <a:r>
              <a:rPr b="0" i="1" lang="en-US" sz="9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·</a:t>
            </a:r>
            <a:r>
              <a:rPr b="0" i="1" lang="ru-RU" sz="9600" spc="-1" strike="noStrike">
                <a:solidFill>
                  <a:srgbClr val="333399"/>
                </a:solidFill>
                <a:latin typeface="Times New Roman"/>
              </a:rPr>
              <a:t>(а – в + с)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Arc 9"/>
          <p:cNvSpPr/>
          <p:nvPr/>
        </p:nvSpPr>
        <p:spPr>
          <a:xfrm>
            <a:off x="2268360" y="4724280"/>
            <a:ext cx="1417680" cy="542880"/>
          </a:xfrm>
          <a:custGeom>
            <a:avLst/>
            <a:gdLst/>
            <a:ahLst/>
            <a:rect l="l" t="t" r="r" b="b"/>
            <a:pathLst>
              <a:path fill="none" w="43200" h="23016">
                <a:moveTo>
                  <a:pt x="46" y="23015"/>
                </a:moveTo>
                <a:cubicBezTo>
                  <a:pt x="15" y="22544"/>
                  <a:pt x="0" y="2207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</a:path>
              <a:path stroke="0" w="43200" h="23016">
                <a:moveTo>
                  <a:pt x="46" y="23015"/>
                </a:moveTo>
                <a:cubicBezTo>
                  <a:pt x="15" y="22544"/>
                  <a:pt x="0" y="2207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  <a:lnTo>
                  <a:pt x="21600" y="21600"/>
                </a:lnTo>
                <a:lnTo>
                  <a:pt x="46" y="23015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Arc 11"/>
          <p:cNvSpPr/>
          <p:nvPr/>
        </p:nvSpPr>
        <p:spPr>
          <a:xfrm>
            <a:off x="2268360" y="4654440"/>
            <a:ext cx="3095640" cy="567000"/>
          </a:xfrm>
          <a:custGeom>
            <a:avLst/>
            <a:gdLst/>
            <a:ahLst/>
            <a:rect l="l" t="t" r="r" b="b"/>
            <a:pathLst>
              <a:path fill="none" w="43200" h="24055">
                <a:moveTo>
                  <a:pt x="46" y="23015"/>
                </a:moveTo>
                <a:cubicBezTo>
                  <a:pt x="15" y="22544"/>
                  <a:pt x="0" y="2207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2420"/>
                  <a:pt x="-22383" y="23239"/>
                  <a:pt x="-22476" y="24055"/>
                </a:cubicBezTo>
              </a:path>
              <a:path stroke="0" w="43200" h="24055">
                <a:moveTo>
                  <a:pt x="46" y="23015"/>
                </a:moveTo>
                <a:cubicBezTo>
                  <a:pt x="15" y="22544"/>
                  <a:pt x="0" y="2207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2420"/>
                  <a:pt x="-22383" y="23239"/>
                  <a:pt x="-22476" y="24055"/>
                </a:cubicBezTo>
                <a:lnTo>
                  <a:pt x="21600" y="21600"/>
                </a:lnTo>
                <a:lnTo>
                  <a:pt x="46" y="23015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Arc 12"/>
          <p:cNvSpPr/>
          <p:nvPr/>
        </p:nvSpPr>
        <p:spPr>
          <a:xfrm>
            <a:off x="2341440" y="4586400"/>
            <a:ext cx="5051520" cy="569880"/>
          </a:xfrm>
          <a:custGeom>
            <a:avLst/>
            <a:gdLst/>
            <a:ahLst/>
            <a:rect l="l" t="t" r="r" b="b"/>
            <a:pathLst>
              <a:path fill="none" w="43200" h="24185">
                <a:moveTo>
                  <a:pt x="46" y="23015"/>
                </a:moveTo>
                <a:cubicBezTo>
                  <a:pt x="15" y="22544"/>
                  <a:pt x="0" y="2207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2463"/>
                  <a:pt x="-22388" y="23327"/>
                  <a:pt x="-22492" y="24184"/>
                </a:cubicBezTo>
              </a:path>
              <a:path stroke="0" w="43200" h="24185">
                <a:moveTo>
                  <a:pt x="46" y="23015"/>
                </a:moveTo>
                <a:cubicBezTo>
                  <a:pt x="15" y="22544"/>
                  <a:pt x="0" y="2207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2463"/>
                  <a:pt x="-22388" y="23327"/>
                  <a:pt x="-22492" y="24184"/>
                </a:cubicBezTo>
                <a:lnTo>
                  <a:pt x="21600" y="21600"/>
                </a:lnTo>
                <a:lnTo>
                  <a:pt x="46" y="23015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Line 14"/>
          <p:cNvSpPr/>
          <p:nvPr/>
        </p:nvSpPr>
        <p:spPr>
          <a:xfrm>
            <a:off x="3564000" y="5084640"/>
            <a:ext cx="144360" cy="14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Line 15"/>
          <p:cNvSpPr/>
          <p:nvPr/>
        </p:nvSpPr>
        <p:spPr>
          <a:xfrm flipH="1">
            <a:off x="3708000" y="5084640"/>
            <a:ext cx="71640" cy="14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6"/>
          <p:cNvSpPr/>
          <p:nvPr/>
        </p:nvSpPr>
        <p:spPr>
          <a:xfrm>
            <a:off x="5219640" y="5084640"/>
            <a:ext cx="144360" cy="14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Line 17"/>
          <p:cNvSpPr/>
          <p:nvPr/>
        </p:nvSpPr>
        <p:spPr>
          <a:xfrm flipH="1">
            <a:off x="5364000" y="5084640"/>
            <a:ext cx="144720" cy="14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9"/>
          <p:cNvSpPr/>
          <p:nvPr/>
        </p:nvSpPr>
        <p:spPr>
          <a:xfrm>
            <a:off x="7236000" y="5084640"/>
            <a:ext cx="144360" cy="73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Line 20"/>
          <p:cNvSpPr/>
          <p:nvPr/>
        </p:nvSpPr>
        <p:spPr>
          <a:xfrm flipH="1">
            <a:off x="7380000" y="5013360"/>
            <a:ext cx="14436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600" spc="-1" strike="noStrike">
                <a:solidFill>
                  <a:srgbClr val="333399"/>
                </a:solidFill>
                <a:latin typeface="Times New Roman"/>
              </a:rPr>
              <a:t>-(а – в + с)</a:t>
            </a:r>
            <a:endParaRPr b="0" lang="en-US" sz="9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346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Если перед скобками стоит знак -, это значит, что все слагаемые в скобках надо умножить на - 1, т.е., РАСКРЫВАЯ СКОБКИ , ИЗМЕНИТЬ ЗНАКИ СЛАГАЕМЫХ НА ПРОТИВОПОЛОЖНЫЕ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971640" y="4869000"/>
            <a:ext cx="779292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600" spc="-1" strike="noStrike">
                <a:solidFill>
                  <a:srgbClr val="333399"/>
                </a:solidFill>
                <a:latin typeface="Times New Roman"/>
              </a:rPr>
              <a:t>-1</a:t>
            </a:r>
            <a:r>
              <a:rPr b="0" i="1" lang="en-US" sz="9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·</a:t>
            </a:r>
            <a:r>
              <a:rPr b="0" i="1" lang="ru-RU" sz="9600" spc="-1" strike="noStrike">
                <a:solidFill>
                  <a:srgbClr val="333399"/>
                </a:solidFill>
                <a:latin typeface="Times New Roman"/>
              </a:rPr>
              <a:t>(а – в + с)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Arc 5"/>
          <p:cNvSpPr/>
          <p:nvPr/>
        </p:nvSpPr>
        <p:spPr>
          <a:xfrm>
            <a:off x="2268360" y="4724280"/>
            <a:ext cx="1417680" cy="542880"/>
          </a:xfrm>
          <a:custGeom>
            <a:avLst/>
            <a:gdLst/>
            <a:ahLst/>
            <a:rect l="l" t="t" r="r" b="b"/>
            <a:pathLst>
              <a:path fill="none" w="43200" h="23016">
                <a:moveTo>
                  <a:pt x="46" y="23015"/>
                </a:moveTo>
                <a:cubicBezTo>
                  <a:pt x="15" y="22544"/>
                  <a:pt x="0" y="2207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</a:path>
              <a:path stroke="0" w="43200" h="23016">
                <a:moveTo>
                  <a:pt x="46" y="23015"/>
                </a:moveTo>
                <a:cubicBezTo>
                  <a:pt x="15" y="22544"/>
                  <a:pt x="0" y="2207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  <a:lnTo>
                  <a:pt x="21600" y="21600"/>
                </a:lnTo>
                <a:lnTo>
                  <a:pt x="46" y="23015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Arc 6"/>
          <p:cNvSpPr/>
          <p:nvPr/>
        </p:nvSpPr>
        <p:spPr>
          <a:xfrm>
            <a:off x="2268360" y="4654440"/>
            <a:ext cx="3095640" cy="567000"/>
          </a:xfrm>
          <a:custGeom>
            <a:avLst/>
            <a:gdLst/>
            <a:ahLst/>
            <a:rect l="l" t="t" r="r" b="b"/>
            <a:pathLst>
              <a:path fill="none" w="43200" h="24055">
                <a:moveTo>
                  <a:pt x="46" y="23015"/>
                </a:moveTo>
                <a:cubicBezTo>
                  <a:pt x="15" y="22544"/>
                  <a:pt x="0" y="2207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2420"/>
                  <a:pt x="-22383" y="23239"/>
                  <a:pt x="-22476" y="24055"/>
                </a:cubicBezTo>
              </a:path>
              <a:path stroke="0" w="43200" h="24055">
                <a:moveTo>
                  <a:pt x="46" y="23015"/>
                </a:moveTo>
                <a:cubicBezTo>
                  <a:pt x="15" y="22544"/>
                  <a:pt x="0" y="2207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2420"/>
                  <a:pt x="-22383" y="23239"/>
                  <a:pt x="-22476" y="24055"/>
                </a:cubicBezTo>
                <a:lnTo>
                  <a:pt x="21600" y="21600"/>
                </a:lnTo>
                <a:lnTo>
                  <a:pt x="46" y="23015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Arc 7"/>
          <p:cNvSpPr/>
          <p:nvPr/>
        </p:nvSpPr>
        <p:spPr>
          <a:xfrm>
            <a:off x="2341440" y="4586400"/>
            <a:ext cx="5051520" cy="569880"/>
          </a:xfrm>
          <a:custGeom>
            <a:avLst/>
            <a:gdLst/>
            <a:ahLst/>
            <a:rect l="l" t="t" r="r" b="b"/>
            <a:pathLst>
              <a:path fill="none" w="43200" h="24185">
                <a:moveTo>
                  <a:pt x="46" y="23015"/>
                </a:moveTo>
                <a:cubicBezTo>
                  <a:pt x="15" y="22544"/>
                  <a:pt x="0" y="2207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2463"/>
                  <a:pt x="-22388" y="23327"/>
                  <a:pt x="-22492" y="24184"/>
                </a:cubicBezTo>
              </a:path>
              <a:path stroke="0" w="43200" h="24185">
                <a:moveTo>
                  <a:pt x="46" y="23015"/>
                </a:moveTo>
                <a:cubicBezTo>
                  <a:pt x="15" y="22544"/>
                  <a:pt x="0" y="2207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2463"/>
                  <a:pt x="-22388" y="23327"/>
                  <a:pt x="-22492" y="24184"/>
                </a:cubicBezTo>
                <a:lnTo>
                  <a:pt x="21600" y="21600"/>
                </a:lnTo>
                <a:lnTo>
                  <a:pt x="46" y="23015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Line 8"/>
          <p:cNvSpPr/>
          <p:nvPr/>
        </p:nvSpPr>
        <p:spPr>
          <a:xfrm>
            <a:off x="3564000" y="5084640"/>
            <a:ext cx="144360" cy="14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9"/>
          <p:cNvSpPr/>
          <p:nvPr/>
        </p:nvSpPr>
        <p:spPr>
          <a:xfrm flipH="1">
            <a:off x="3708000" y="5084640"/>
            <a:ext cx="71640" cy="14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Line 10"/>
          <p:cNvSpPr/>
          <p:nvPr/>
        </p:nvSpPr>
        <p:spPr>
          <a:xfrm>
            <a:off x="5219640" y="5084640"/>
            <a:ext cx="144360" cy="14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Line 11"/>
          <p:cNvSpPr/>
          <p:nvPr/>
        </p:nvSpPr>
        <p:spPr>
          <a:xfrm flipH="1">
            <a:off x="5364000" y="5084640"/>
            <a:ext cx="144720" cy="14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12"/>
          <p:cNvSpPr/>
          <p:nvPr/>
        </p:nvSpPr>
        <p:spPr>
          <a:xfrm>
            <a:off x="7236000" y="5084640"/>
            <a:ext cx="144360" cy="73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Line 13"/>
          <p:cNvSpPr/>
          <p:nvPr/>
        </p:nvSpPr>
        <p:spPr>
          <a:xfrm flipH="1">
            <a:off x="7380000" y="5013360"/>
            <a:ext cx="14436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Продолжить запись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258920" y="2349000"/>
            <a:ext cx="6485040" cy="2706840"/>
          </a:xfrm>
          <a:prstGeom prst="rect">
            <a:avLst/>
          </a:prstGeom>
          <a:solidFill>
            <a:srgbClr val="ffccff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000000"/>
                </a:solidFill>
                <a:latin typeface="Times New Roman"/>
              </a:rPr>
              <a:t>+1</a:t>
            </a:r>
            <a:r>
              <a:rPr b="1" i="1" lang="en-US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i="1" lang="ru-RU" sz="7200" spc="-1" strike="noStrike">
                <a:solidFill>
                  <a:srgbClr val="000000"/>
                </a:solidFill>
                <a:latin typeface="Times New Roman"/>
              </a:rPr>
              <a:t>(а – в + с) =</a:t>
            </a: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000000"/>
                </a:solidFill>
                <a:latin typeface="Times New Roman"/>
              </a:rPr>
              <a:t>= … </a:t>
            </a: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Продолжить запись: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7280" y="2636640"/>
            <a:ext cx="6485040" cy="2850840"/>
          </a:xfrm>
          <a:prstGeom prst="rect">
            <a:avLst/>
          </a:prstGeom>
          <a:solidFill>
            <a:srgbClr val="ffccff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000000"/>
                </a:solidFill>
                <a:latin typeface="Times New Roman"/>
              </a:rPr>
              <a:t>-1</a:t>
            </a:r>
            <a:r>
              <a:rPr b="1" i="1" lang="en-US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i="1" lang="ru-RU" sz="7200" spc="-1" strike="noStrike">
                <a:solidFill>
                  <a:srgbClr val="000000"/>
                </a:solidFill>
                <a:latin typeface="Times New Roman"/>
              </a:rPr>
              <a:t>(а – в + с) =</a:t>
            </a: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000000"/>
                </a:solidFill>
                <a:latin typeface="Times New Roman"/>
              </a:rPr>
              <a:t>= …</a:t>
            </a: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Раскройте скобки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42920" y="2017800"/>
            <a:ext cx="7912080" cy="46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- 41(2 – ху – у) =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71( а + в – с) =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- (- 20 + а – 3в) =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22(в - 100 – 4а) =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- 33(2х – ху + 3у) =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18(- а + в + с) =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- (65 + а – 98в) =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31(в – 2с – 3а) =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700360" y="333360"/>
            <a:ext cx="4500720" cy="550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Раскрой скобки: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4000" y="1412640"/>
            <a:ext cx="3600360" cy="51829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- 4(5 – х – 6у) =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81( а + в – с) =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- (25 + а – 4в) =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11(- в - 5 – 6а) =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- 9(8 + х – 4у) =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18(- а - в + с) =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- (5 - а + 54в) =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100(в + 9 – 3а) =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003280" y="1412640"/>
            <a:ext cx="3961080" cy="51829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- 3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+ ху – 6у) =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- 1( а + в – с) =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2 (21 - а – 66в) =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10(- с - 49 + 3а) =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- 6(9 – а – 5в) =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57(- а + в – с) =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- (85 - а – 404в) =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51(в - 10 + а) =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Rectangle 5"/>
          <p:cNvSpPr/>
          <p:nvPr/>
        </p:nvSpPr>
        <p:spPr>
          <a:xfrm>
            <a:off x="1332000" y="907920"/>
            <a:ext cx="223200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 вариан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Rectangle 6"/>
          <p:cNvSpPr/>
          <p:nvPr/>
        </p:nvSpPr>
        <p:spPr>
          <a:xfrm>
            <a:off x="5867280" y="907920"/>
            <a:ext cx="223200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 вариан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10:42:51Z</dcterms:created>
  <dc:creator>Трофимов</dc:creator>
  <dc:description/>
  <dc:language>en-US</dc:language>
  <cp:lastModifiedBy>Пользователь</cp:lastModifiedBy>
  <dcterms:modified xsi:type="dcterms:W3CDTF">2013-01-28T18:03:57Z</dcterms:modified>
  <cp:revision>4</cp:revision>
  <dc:subject/>
  <dc:title>Тема урока:  Раскрытие скобок.</dc:title>
</cp:coreProperties>
</file>