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F83D-E48F-4135-BE75-7D79E31FE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14A6-DD20-4D1E-BADE-503691C3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D989-340A-4C91-901E-0F862FD72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9FAB-BEF9-4F20-A782-4FFE2E432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8ACC8-675F-4019-BE6D-1F62C9EF6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4BFB2-7FAE-4CBA-ADCD-70888D1F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D11C-EB31-4569-9C89-5A22A31E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4BEF-EEA0-4EED-85C4-1FE30CAA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3DE4-4694-49B6-876A-3FE91076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8B19-3B9F-4AFD-9732-E2E23953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ED25-F529-44B1-9212-59A4D014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87D9-C608-41BE-B5C8-C2C6F1A6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9DC0-D1BB-4E0C-BADC-E4B63CE7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7FCC-8B3D-4451-AF28-14DAB46A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EBC0-E346-43E9-85B6-D155ABDF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2E49-D6AF-4990-934A-A4D51ABDD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0DC2-40D1-4EDD-BCA9-4949C4C03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851F-9CC3-4EA5-BCF5-2804152D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F75E-3175-4045-B021-145325D9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F968-FEC7-4870-9A2A-B75A7EA9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BC27-2911-442B-B15A-A2934C61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F59E-2AE0-4016-91B3-B6BEADFA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FF49-09D5-47F4-A1B2-1E1B6E2B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9CD5-4072-422C-A1D3-B986E2D7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5968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2159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9BBC-0AAC-4887-86C2-72609DC41C0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5968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2159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96A4-8C9E-4A7E-939F-CE8520EA984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Corbel"/>
              </a:rPr>
              <a:t>Зимующие птицы</a:t>
            </a:r>
            <a:endParaRPr b="0" lang="en-US" sz="60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1128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mbria"/>
              </a:rPr>
              <a:t>Автор презентации: Калмычкова Е.В., учитель начальных классов ГБОУ СОШ </a:t>
            </a:r>
            <a:endParaRPr b="0" lang="en-US" sz="2400" spc="-1" strike="noStrike">
              <a:solidFill>
                <a:srgbClr val="215968"/>
              </a:solidFill>
              <a:latin typeface="Cambr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mbria"/>
              </a:rPr>
              <a:t>1980 города Москвы.</a:t>
            </a:r>
            <a:endParaRPr b="0" lang="en-US" sz="2400" spc="-1" strike="noStrike">
              <a:solidFill>
                <a:srgbClr val="215968"/>
              </a:solidFill>
              <a:latin typeface="Cambr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84" name="Изображение 1" descr=""/>
          <p:cNvPicPr/>
          <p:nvPr/>
        </p:nvPicPr>
        <p:blipFill>
          <a:blip r:embed="rId1"/>
          <a:stretch/>
        </p:blipFill>
        <p:spPr>
          <a:xfrm>
            <a:off x="3290760" y="1916280"/>
            <a:ext cx="390204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ambria"/>
              </a:rPr>
              <a:t>Игра «Третий лишний»</a:t>
            </a:r>
            <a:endParaRPr b="0" lang="en-US" sz="40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mbria"/>
              </a:rPr>
              <a:t>ЗИМУЮЩИЕ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ГРАЧ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СОЙКА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ВОРОНА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mbria"/>
              </a:rPr>
              <a:t>ПЕРЕЛЁТНЫЕ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ЦАПЛЯ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ЛАСТОЧКА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ПОПОЛЗЕНЬ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ambria"/>
              </a:rPr>
              <a:t>Игра «Третий лишний»</a:t>
            </a:r>
            <a:endParaRPr b="0" lang="en-US" sz="40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mbria"/>
              </a:rPr>
              <a:t>ЗИМУЮЩИЕ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СТРИЖ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ДЯТЕЛ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СИНИЦА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mbria"/>
              </a:rPr>
              <a:t>ПЕРЕЛЁТНЫЕ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УТКА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СКВОРЕЦ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ВОРОБЕЙ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5968"/>
                </a:solidFill>
                <a:latin typeface="Cambria"/>
              </a:rPr>
              <a:t>КАКИЕ ПТИЧЬИ СЕКРЕТЫ  ВЫ УЗНАЛИ?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24840" y="1484280"/>
            <a:ext cx="441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1.   Почему птицы улетают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3440160" y="2133720"/>
            <a:ext cx="5673240" cy="520560"/>
          </a:xfrm>
          <a:prstGeom prst="rect">
            <a:avLst/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Зимой  не смогли бы прокормить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35640" y="2852640"/>
            <a:ext cx="692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2.   Как птицы узнают о приближении зимы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2157840" y="3429000"/>
            <a:ext cx="6948720" cy="52056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Птицы замечают, что дни становятся короч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0" y="4149720"/>
            <a:ext cx="56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d30ff"/>
                </a:solidFill>
                <a:latin typeface="Calibri"/>
              </a:rPr>
              <a:t>3.  Почему некоторые птицы не улетают зимой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3203640" y="5229360"/>
            <a:ext cx="5940360" cy="137376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Они могут и зимой найти себе кор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Некоторые птицы делают запасы с осе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504d"/>
                </a:solidFill>
                <a:latin typeface="Cambria"/>
              </a:rPr>
              <a:t>Список используемых источников:</a:t>
            </a:r>
            <a:br>
              <a:rPr sz="3200"/>
            </a:b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324000" y="1268280"/>
            <a:ext cx="80643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http://www.artap.ru/animal/animal26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http://www.artap.ru/animal/animal26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http://www.bio.vsu.ru/oriolus/ris43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http://ru.wikipedia.org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http://puzzles.amparlius.ru/new/rdl_child.asp?id=183&amp;a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http://www.kinder-sad.ru/zagadki/o-ptichka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.http://www.xrest.ru/images/collection/00616/981/original.jp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Sinitsa_bolshaya_-_Penie_(get-tune.net).mp3" descr=""/>
          <p:cNvPicPr/>
          <p:nvPr/>
        </p:nvPicPr>
        <p:blipFill>
          <a:blip r:embed="rId1"/>
          <a:stretch/>
        </p:blipFill>
        <p:spPr>
          <a:xfrm>
            <a:off x="7812000" y="54936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86" name="Изображение 5" descr=""/>
          <p:cNvPicPr/>
          <p:nvPr/>
        </p:nvPicPr>
        <p:blipFill>
          <a:blip r:embed="rId2"/>
          <a:stretch/>
        </p:blipFill>
        <p:spPr>
          <a:xfrm>
            <a:off x="1258920" y="1052640"/>
            <a:ext cx="65134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3"/>
          <p:cNvSpPr/>
          <p:nvPr/>
        </p:nvSpPr>
        <p:spPr>
          <a:xfrm>
            <a:off x="1476360" y="2967120"/>
            <a:ext cx="6983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Прямоугольник 4" descr=""/>
          <p:cNvPicPr/>
          <p:nvPr/>
        </p:nvPicPr>
        <p:blipFill>
          <a:blip r:embed="rId1"/>
          <a:stretch/>
        </p:blipFill>
        <p:spPr>
          <a:xfrm>
            <a:off x="835200" y="585720"/>
            <a:ext cx="73152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5373360"/>
            <a:ext cx="8220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504d"/>
                </a:solidFill>
                <a:latin typeface="Cambria"/>
              </a:rPr>
              <a:t>ВОРОБЕЙ</a:t>
            </a:r>
            <a:r>
              <a:rPr b="0" lang="ru-RU" sz="4400" spc="-1" strike="noStrike">
                <a:solidFill>
                  <a:srgbClr val="c0504d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c0504d"/>
                </a:solidFill>
                <a:latin typeface="Cambria"/>
              </a:rPr>
              <a:t>живёт повсюду, кроме Севера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90" name="Изображение 1" descr=""/>
          <p:cNvPicPr/>
          <p:nvPr/>
        </p:nvPicPr>
        <p:blipFill>
          <a:blip r:embed="rId1"/>
          <a:stretch/>
        </p:blipFill>
        <p:spPr>
          <a:xfrm>
            <a:off x="4057560" y="264960"/>
            <a:ext cx="5086440" cy="337356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>
            <a:off x="19080" y="1484280"/>
            <a:ext cx="4535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Маленький мальчиш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В сером ярмячишк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По дворам шныряе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Крошки собира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Изображение 1" descr=""/>
          <p:cNvPicPr/>
          <p:nvPr/>
        </p:nvPicPr>
        <p:blipFill>
          <a:blip r:embed="rId1"/>
          <a:stretch/>
        </p:blipFill>
        <p:spPr>
          <a:xfrm>
            <a:off x="5626080" y="428760"/>
            <a:ext cx="3141720" cy="3724200"/>
          </a:xfrm>
          <a:prstGeom prst="rect">
            <a:avLst/>
          </a:prstGeom>
          <a:ln w="0">
            <a:noFill/>
          </a:ln>
        </p:spPr>
      </p:pic>
      <p:sp>
        <p:nvSpPr>
          <p:cNvPr id="93" name="TextBox 3"/>
          <p:cNvSpPr/>
          <p:nvPr/>
        </p:nvSpPr>
        <p:spPr>
          <a:xfrm>
            <a:off x="706320" y="765000"/>
            <a:ext cx="4892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Тащит в дупла лип упор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Жёлуди, орехи, зёр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Как заправский кладовщ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Бойкий…………………..ямщик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468360" y="3645000"/>
            <a:ext cx="91504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504d"/>
                </a:solidFill>
                <a:latin typeface="Calibri"/>
              </a:rPr>
              <a:t>ПОПОЛЗЕНЬ </a:t>
            </a: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умеет передвигаться по стволам вниз головой. Осенью запасает корм</a:t>
            </a:r>
            <a:r>
              <a:rPr b="0" lang="ru-RU" sz="4400" spc="-1" strike="noStrike">
                <a:solidFill>
                  <a:srgbClr val="c0504d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560" y="4653000"/>
            <a:ext cx="830268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504d"/>
                </a:solidFill>
                <a:latin typeface="Cambria"/>
              </a:rPr>
              <a:t>ДЯТЕЛ  </a:t>
            </a:r>
            <a:r>
              <a:rPr b="0" lang="ru-RU" sz="2900" spc="-1" strike="noStrike">
                <a:solidFill>
                  <a:srgbClr val="c0504d"/>
                </a:solidFill>
                <a:latin typeface="Cambria"/>
              </a:rPr>
              <a:t>питается насекомыми , которых с помощью клюва добывает из-под коры деревьев</a:t>
            </a:r>
            <a:r>
              <a:rPr b="0" i="1" lang="ru-RU" sz="2900" spc="-1" strike="noStrike">
                <a:solidFill>
                  <a:srgbClr val="215968"/>
                </a:solidFill>
                <a:latin typeface="Cambria"/>
              </a:rPr>
              <a:t>.</a:t>
            </a:r>
            <a:endParaRPr b="0" lang="en-US" sz="29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96" name="Изображение 2" descr="Снимок экрана 2012-10-21 в 22.31.57.png"/>
          <p:cNvPicPr/>
          <p:nvPr/>
        </p:nvPicPr>
        <p:blipFill>
          <a:blip r:embed="rId1"/>
          <a:stretch/>
        </p:blipFill>
        <p:spPr>
          <a:xfrm>
            <a:off x="250920" y="333360"/>
            <a:ext cx="3325680" cy="4199040"/>
          </a:xfrm>
          <a:prstGeom prst="rect">
            <a:avLst/>
          </a:prstGeom>
          <a:ln w="0">
            <a:noFill/>
          </a:ln>
        </p:spPr>
      </p:pic>
      <p:sp>
        <p:nvSpPr>
          <p:cNvPr id="97" name="TextBox 3"/>
          <p:cNvSpPr/>
          <p:nvPr/>
        </p:nvSpPr>
        <p:spPr>
          <a:xfrm>
            <a:off x="3619080" y="189000"/>
            <a:ext cx="5491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В лесу под щебет, звон и сви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Стучит лесной Телеграфис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«Здорово, дрозд приятель!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И ставит подпись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800" y="3573000"/>
            <a:ext cx="837252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504d"/>
                </a:solidFill>
                <a:latin typeface="Cambria"/>
              </a:rPr>
              <a:t>СИНИЦА</a:t>
            </a:r>
            <a:r>
              <a:rPr b="0" lang="ru-RU" sz="3200" spc="-1" strike="noStrike">
                <a:solidFill>
                  <a:srgbClr val="c0504d"/>
                </a:solidFill>
                <a:latin typeface="Cambria"/>
              </a:rPr>
              <a:t>-ловкая птичка, уничтожает вредителей не только летом, но и зимой</a:t>
            </a:r>
            <a:r>
              <a:rPr b="0" lang="ru-RU" sz="3600" spc="-1" strike="noStrike">
                <a:solidFill>
                  <a:srgbClr val="660066"/>
                </a:solidFill>
                <a:latin typeface="Cambria"/>
              </a:rPr>
              <a:t>.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99" name="Изображение 1" descr=""/>
          <p:cNvPicPr/>
          <p:nvPr/>
        </p:nvPicPr>
        <p:blipFill>
          <a:blip r:embed="rId1"/>
          <a:stretch/>
        </p:blipFill>
        <p:spPr>
          <a:xfrm>
            <a:off x="4572000" y="620640"/>
            <a:ext cx="4365720" cy="32749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3"/>
          <p:cNvSpPr/>
          <p:nvPr/>
        </p:nvSpPr>
        <p:spPr>
          <a:xfrm>
            <a:off x="270360" y="692280"/>
            <a:ext cx="408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Спинкою зеленоват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Животиком желтова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Шапочка чёрненькая 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И полоской  шарфи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8920" y="3141360"/>
            <a:ext cx="8301240" cy="26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504d"/>
                </a:solidFill>
                <a:latin typeface="Cambria"/>
              </a:rPr>
              <a:t>СОЙКА</a:t>
            </a:r>
            <a:r>
              <a:rPr b="0" lang="ru-RU" sz="3200" spc="-1" strike="noStrike">
                <a:solidFill>
                  <a:srgbClr val="215968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c0504d"/>
                </a:solidFill>
                <a:latin typeface="Cambria"/>
              </a:rPr>
              <a:t>–очень нарядная птица. У встревоженной сойки на голове поднимается хохолок. Питается желудями и орехами, спрятанными с осени</a:t>
            </a:r>
            <a:r>
              <a:rPr b="0" i="1" lang="ru-RU" sz="3200" spc="-1" strike="noStrike">
                <a:solidFill>
                  <a:srgbClr val="c0504d"/>
                </a:solidFill>
                <a:latin typeface="Cambria"/>
              </a:rPr>
              <a:t>.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102" name="Изображение 1" descr=""/>
          <p:cNvPicPr/>
          <p:nvPr/>
        </p:nvPicPr>
        <p:blipFill>
          <a:blip r:embed="rId1"/>
          <a:stretch/>
        </p:blipFill>
        <p:spPr>
          <a:xfrm>
            <a:off x="4716360" y="189000"/>
            <a:ext cx="4222800" cy="316872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22680" y="549360"/>
            <a:ext cx="4923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Синих крылышек кра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Разглядеть нельзя в лес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По сучкам порхает бойк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С резким хриплым крик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Кто же эт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47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504d"/>
                </a:solidFill>
                <a:latin typeface="Cambria"/>
              </a:rPr>
              <a:t>ВОРОНА</a:t>
            </a:r>
            <a:r>
              <a:rPr b="0" lang="ru-RU" sz="2900" spc="-1" strike="noStrike">
                <a:solidFill>
                  <a:srgbClr val="215968"/>
                </a:solidFill>
                <a:latin typeface="Cambria"/>
              </a:rPr>
              <a:t>-</a:t>
            </a:r>
            <a:r>
              <a:rPr b="0" lang="ru-RU" sz="2900" spc="-1" strike="noStrike">
                <a:solidFill>
                  <a:srgbClr val="c0504d"/>
                </a:solidFill>
                <a:latin typeface="Cambria"/>
              </a:rPr>
              <a:t>крупная птица. Если вороны сидят на верхушках деревьев- будет мороз</a:t>
            </a:r>
            <a:r>
              <a:rPr b="0" i="1" lang="ru-RU" sz="2900" spc="-1" strike="noStrike">
                <a:solidFill>
                  <a:srgbClr val="c0504d"/>
                </a:solidFill>
                <a:latin typeface="Cambria"/>
              </a:rPr>
              <a:t>.</a:t>
            </a:r>
            <a:endParaRPr b="0" lang="en-US" sz="29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105" name="Изображение 1" descr=""/>
          <p:cNvPicPr/>
          <p:nvPr/>
        </p:nvPicPr>
        <p:blipFill>
          <a:blip r:embed="rId1"/>
          <a:stretch/>
        </p:blipFill>
        <p:spPr>
          <a:xfrm>
            <a:off x="5651640" y="476280"/>
            <a:ext cx="3276360" cy="36828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774360" y="549360"/>
            <a:ext cx="4509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Кар! Кар! Кар!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Кричит плутов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Ну и ловкая воровк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Все блестящие вещиц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Очень любит эта птиц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И она вам всем знаком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Как зовут её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dmin</cp:lastModifiedBy>
  <dcterms:modified xsi:type="dcterms:W3CDTF">2012-11-03T07:19:15Z</dcterms:modified>
  <cp:revision>28</cp:revision>
  <dc:subject/>
  <dc:title>Зимующие птиц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899579990</vt:lpwstr>
  </property>
</Properties>
</file>