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53C-F7A7-4E7E-9B2D-EF0B1E5A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8AAB-DFAC-46D3-B769-11AF1F82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EF7-C271-465D-ADE2-ACAE78F9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391-C494-4121-A221-5422F5AE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BDB8-F2DD-478A-9119-F153C5BB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C488-D4BA-4DF4-8B5A-6591FA1E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4A84-7126-46B8-8281-2C1BB69D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C536-F1AC-47BF-98A7-DB842442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1567-BCE3-4C2F-9AA1-D411785E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2A04-6178-4795-B158-A7C8EFE4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1E7B-EC75-4DFB-BE50-A4A78B57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E96F-D9D7-42A3-8BE2-271F6F08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4E2E-08AD-4FFD-AB2E-4C6626DA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A6EA-7A8E-4E7F-99A1-B9DCF87F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A989-D7C8-4073-9F20-3EFE77D7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C728-2894-4189-97F1-3E42951E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57C0-8E7D-4FE5-8E9C-53B3A351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9EC-1C0F-47D8-A443-96C12629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DE2-E7EB-4D7A-BF57-3B55A9DE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5E0-AE32-465E-9A2E-B65975E2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9D9-6558-418D-875D-2C4D8B53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1F9-C2F0-4B76-9D50-4990FE46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157-0412-4099-8D68-AD8CC47D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EA7-7B20-469C-A40C-0FA3654F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EDB4-7E1C-4436-88C1-EC46DC65EB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6DDB-E0FE-4902-BA60-1CDAAAC907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Corbel"/>
              </a:rPr>
              <a:t>Зимующие птицы</a:t>
            </a:r>
            <a:endParaRPr b="0" lang="en-US" sz="6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11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mbria"/>
              </a:rPr>
              <a:t>Автор презентации: Калмычкова Е.В., учитель начальных классов ГБОУ СОШ 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mbria"/>
              </a:rPr>
              <a:t>1980 города Москвы.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84" name="Изображение 1" descr=""/>
          <p:cNvPicPr/>
          <p:nvPr/>
        </p:nvPicPr>
        <p:blipFill>
          <a:blip r:embed="rId1"/>
          <a:stretch/>
        </p:blipFill>
        <p:spPr>
          <a:xfrm>
            <a:off x="3290760" y="1916280"/>
            <a:ext cx="390204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mbria"/>
              </a:rPr>
              <a:t>Игра «Третий лишний»</a:t>
            </a:r>
            <a:endParaRPr b="0" lang="en-US" sz="4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ЗИМУЮЩИ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ГРАЧ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ОЙ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ВОРОН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ПЕРЕЛЁТНЫ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ЦАПЛЯ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ЛАСТОЧ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ПОПОЛЗЕНЬ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mbria"/>
              </a:rPr>
              <a:t>Игра «Третий лишний»</a:t>
            </a:r>
            <a:endParaRPr b="0" lang="en-US" sz="4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ЗИМУЮЩИ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ТРИЖ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ДЯТЕЛ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ИНИЦ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ПЕРЕЛЁТНЫ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УТ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КВОРЕЦ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ВОРОБЕЙ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КАКИЕ ПТИЧЬИ СЕКРЕТЫ  ВЫ УЗНАЛИ?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840" y="1484280"/>
            <a:ext cx="44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.   Почему птицы улетают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440160" y="2133720"/>
            <a:ext cx="5673240" cy="52056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Зимой  не смогли бы прокорм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35640" y="2852640"/>
            <a:ext cx="69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.   Как птицы узнают о приближении зим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2157840" y="3429000"/>
            <a:ext cx="6948720" cy="520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Птицы замечают, что дни становятся короч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0" y="4149720"/>
            <a:ext cx="56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d30ff"/>
                </a:solidFill>
                <a:latin typeface="Calibri"/>
              </a:rPr>
              <a:t>3.  Почему некоторые птицы не улетают зимо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3203640" y="5229360"/>
            <a:ext cx="5940360" cy="13737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Они могут и зимой найти себе кор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Некоторые птицы делают запасы с ос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Список используемых источников:</a:t>
            </a:r>
            <a:br>
              <a:rPr sz="3200"/>
            </a:b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24000" y="1268280"/>
            <a:ext cx="8064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http://www.artap.ru/animal/animal26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http://www.artap.ru/animal/animal26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http://www.bio.vsu.ru/oriolus/ris4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ru.wikipedia.or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puzzles.amparlius.ru/new/rdl_child.asp?id=183&amp;a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www.kinder-sad.ru/zagadki/o-ptichk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http://www.xrest.ru/images/collection/00616/981/original.jp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initsa_bolshaya_-_Penie_(get-tune.net).mp3" descr=""/>
          <p:cNvPicPr/>
          <p:nvPr/>
        </p:nvPicPr>
        <p:blipFill>
          <a:blip r:embed="rId1"/>
          <a:stretch/>
        </p:blipFill>
        <p:spPr>
          <a:xfrm>
            <a:off x="7812000" y="54936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86" name="Изображение 5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6513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1476360" y="2967120"/>
            <a:ext cx="698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835200" y="585720"/>
            <a:ext cx="73152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0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ВОРОБЕЙ</a:t>
            </a:r>
            <a:r>
              <a:rPr b="0" lang="ru-RU" sz="4400" spc="-1" strike="noStrike">
                <a:solidFill>
                  <a:srgbClr val="c0504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живёт повсюду, кроме Севера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0" name="Изображение 1" descr=""/>
          <p:cNvPicPr/>
          <p:nvPr/>
        </p:nvPicPr>
        <p:blipFill>
          <a:blip r:embed="rId1"/>
          <a:stretch/>
        </p:blipFill>
        <p:spPr>
          <a:xfrm>
            <a:off x="4057560" y="264960"/>
            <a:ext cx="5086440" cy="33735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19080" y="1484280"/>
            <a:ext cx="453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аленький мальчи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сером ярмячиш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о дворам шныря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рошки собир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Изображение 1" descr=""/>
          <p:cNvPicPr/>
          <p:nvPr/>
        </p:nvPicPr>
        <p:blipFill>
          <a:blip r:embed="rId1"/>
          <a:stretch/>
        </p:blipFill>
        <p:spPr>
          <a:xfrm>
            <a:off x="5626080" y="428760"/>
            <a:ext cx="3141720" cy="3724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706320" y="765000"/>
            <a:ext cx="489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ащит в дупла лип упор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Жёлуди, орехи, зёр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к заправский кладов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Бойкий…………………..ямщ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468360" y="3645000"/>
            <a:ext cx="9150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libri"/>
              </a:rPr>
              <a:t>ПОПОЛЗЕНЬ 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умеет передвигаться по стволам вниз головой. Осенью запасает корм</a:t>
            </a: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4653000"/>
            <a:ext cx="830268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504d"/>
                </a:solidFill>
                <a:latin typeface="Cambria"/>
              </a:rPr>
              <a:t>ДЯТЕЛ  </a:t>
            </a:r>
            <a:r>
              <a:rPr b="0" lang="ru-RU" sz="2900" spc="-1" strike="noStrike">
                <a:solidFill>
                  <a:srgbClr val="c0504d"/>
                </a:solidFill>
                <a:latin typeface="Cambria"/>
              </a:rPr>
              <a:t>питается насекомыми , которых с помощью клюва добывает из-под коры деревьев</a:t>
            </a:r>
            <a:r>
              <a:rPr b="0" i="1" lang="ru-RU" sz="2900" spc="-1" strike="noStrike">
                <a:solidFill>
                  <a:srgbClr val="215968"/>
                </a:solidFill>
                <a:latin typeface="Cambria"/>
              </a:rPr>
              <a:t>.</a:t>
            </a:r>
            <a:endParaRPr b="0" lang="en-US" sz="29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6" name="Изображение 2" descr="Снимок экрана 2012-10-21 в 22.31.57.png"/>
          <p:cNvPicPr/>
          <p:nvPr/>
        </p:nvPicPr>
        <p:blipFill>
          <a:blip r:embed="rId1"/>
          <a:stretch/>
        </p:blipFill>
        <p:spPr>
          <a:xfrm>
            <a:off x="250920" y="333360"/>
            <a:ext cx="3325680" cy="419904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619080" y="189000"/>
            <a:ext cx="54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лесу под щебет, звон и св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тучит лесной Телеграфис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«Здорово, дрозд приятель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ставит подпись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" y="3573000"/>
            <a:ext cx="837252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СИНИЦА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-ловкая птичка, уничтожает вредителей не только летом, но и зимой</a:t>
            </a:r>
            <a:r>
              <a:rPr b="0" lang="ru-RU" sz="36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9" name="Изображение 1" descr=""/>
          <p:cNvPicPr/>
          <p:nvPr/>
        </p:nvPicPr>
        <p:blipFill>
          <a:blip r:embed="rId1"/>
          <a:stretch/>
        </p:blipFill>
        <p:spPr>
          <a:xfrm>
            <a:off x="4572000" y="620640"/>
            <a:ext cx="4365720" cy="32749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270360" y="692280"/>
            <a:ext cx="40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пинкою зеленова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Животиком желтов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Шапочка чёрненькая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полоской  шарф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3141360"/>
            <a:ext cx="830124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СОЙКА</a:t>
            </a: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–очень нарядная птица. У встревоженной сойки на голове поднимается хохолок. Питается желудями и орехами, спрятанными с осени</a:t>
            </a:r>
            <a:r>
              <a:rPr b="0" i="1" lang="ru-RU" sz="3200" spc="-1" strike="noStrike">
                <a:solidFill>
                  <a:srgbClr val="c0504d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2" name="Изображение 1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4222800" cy="31687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2680" y="549360"/>
            <a:ext cx="4923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иних крылышек кра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Разглядеть нельзя в лес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о сучкам порхает бой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 резким хриплым кр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то же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504d"/>
                </a:solidFill>
                <a:latin typeface="Cambria"/>
              </a:rPr>
              <a:t>ВОРОНА</a:t>
            </a:r>
            <a:r>
              <a:rPr b="0" lang="ru-RU" sz="2900" spc="-1" strike="noStrike">
                <a:solidFill>
                  <a:srgbClr val="215968"/>
                </a:solidFill>
                <a:latin typeface="Cambria"/>
              </a:rPr>
              <a:t>-</a:t>
            </a:r>
            <a:r>
              <a:rPr b="0" lang="ru-RU" sz="2900" spc="-1" strike="noStrike">
                <a:solidFill>
                  <a:srgbClr val="c0504d"/>
                </a:solidFill>
                <a:latin typeface="Cambria"/>
              </a:rPr>
              <a:t>крупная птица. Если вороны сидят на верхушках деревьев- будет мороз</a:t>
            </a:r>
            <a:r>
              <a:rPr b="0" i="1" lang="ru-RU" sz="2900" spc="-1" strike="noStrike">
                <a:solidFill>
                  <a:srgbClr val="c0504d"/>
                </a:solidFill>
                <a:latin typeface="Cambria"/>
              </a:rPr>
              <a:t>.</a:t>
            </a:r>
            <a:endParaRPr b="0" lang="en-US" sz="29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5" name="Изображение 1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3276360" cy="3682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774360" y="549360"/>
            <a:ext cx="450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р! Кар! Кар!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ричит плутов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у и ловкая воров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се блестящие вещ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чень любит эта птиц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она вам всем знаком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к зовут её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</cp:lastModifiedBy>
  <dcterms:modified xsi:type="dcterms:W3CDTF">2012-11-03T07:19:15Z</dcterms:modified>
  <cp:revision>28</cp:revision>
  <dc:subject/>
  <dc:title>Зимующие птиц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579990</vt:lpwstr>
  </property>
</Properties>
</file>