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556-5D51-4A30-9DDD-D34CD0A4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AA3-7172-4BC0-AE9A-935288AF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503-C536-463B-A834-C61E2A80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9CD-C86F-4F8A-A5F7-364A19DE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C42-BBDD-4F41-87F8-E983AF4D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347-BDBE-496D-BD4E-A8668569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4C2-F955-4B96-80B2-5C549F36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DE2-B2A7-4150-978A-D5AAE1E7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3CB-4564-4D3D-8AC6-0006EF42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D9D-EAAE-4940-9CBE-137881AF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8A6-BE79-40FD-81CD-7B8844F3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EFD-729D-440F-8D00-41155333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0EA0-1679-405D-926A-912D6034D3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Times New Roman"/>
              </a:rPr>
              <a:t>Поэты об осени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меститель директора по ВР Андриевская Н. 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2012-2013 уч.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403280" y="190512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тало все кругом: устал и цвет небес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ветер, и река, и месяц, что родил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ночь, и в зелени потусклой спящий лес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желтый тот листок, что наконец свалил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http://ai-cdr.ucoz.ru/kartinki_6/list_klena.gif"/>
          <p:cNvPicPr/>
          <p:nvPr/>
        </p:nvPicPr>
        <p:blipFill>
          <a:blip r:embed="rId1"/>
          <a:stretch/>
        </p:blipFill>
        <p:spPr>
          <a:xfrm>
            <a:off x="3635280" y="3860640"/>
            <a:ext cx="176076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User\Рабочий стол\63508.jpg"/>
          <p:cNvPicPr/>
          <p:nvPr/>
        </p:nvPicPr>
        <p:blipFill>
          <a:blip r:embed="rId1"/>
          <a:stretch/>
        </p:blipFill>
        <p:spPr>
          <a:xfrm>
            <a:off x="2771640" y="1916280"/>
            <a:ext cx="3468960" cy="3340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онстантин Дмитриевич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Бальмо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286000" y="7970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спевает брусни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ли дни холодне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от птичьего к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сердце стало грустн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и птиц улет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чь, за синее мо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се деревья блист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разноцветном убо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лнце реже смеет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т в цветах благовон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оро Осень просн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заплачет спросон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Documents and Settings\User\Рабочий стол\0820-01_med.jpg"/>
          <p:cNvPicPr/>
          <p:nvPr/>
        </p:nvPicPr>
        <p:blipFill>
          <a:blip r:embed="rId1"/>
          <a:stretch/>
        </p:blipFill>
        <p:spPr>
          <a:xfrm>
            <a:off x="6588000" y="2492280"/>
            <a:ext cx="1855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http://www.detym.ru/uploads/posts/2010-03/1268030510_s.a.-esenin.jpg"/>
          <p:cNvPicPr/>
          <p:nvPr/>
        </p:nvPicPr>
        <p:blipFill>
          <a:blip r:embed="rId1"/>
          <a:srcRect l="0" t="6864" r="12234" b="0"/>
          <a:stretch/>
        </p:blipFill>
        <p:spPr>
          <a:xfrm>
            <a:off x="3059280" y="1844640"/>
            <a:ext cx="2751120" cy="4219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ергей Александрович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Есен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286000" y="112536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ивы сжаты, рощи гол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воды туман и сыр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лесом за сини г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лнце тихое скати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емлет взрытая доро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й сегодня примечталос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то совсем-совсем нем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дать зимы седой оста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857680" y="2000160"/>
            <a:ext cx="3252600" cy="387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350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Как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стихотворен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об осени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знаете Вы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Documents and Settings\User\Рабочий стол\723658795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4427640" y="6027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сточники: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ru.wikipedia.org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ttp://www.animashka.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7e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:\Documents and Settings\User\Рабочий стол\48331497_os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1280" y="24379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лександр  Сергеевич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ушк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C:\Documents and Settings\User\Рабочий стол\pushkin-1.png"/>
          <p:cNvPicPr/>
          <p:nvPr/>
        </p:nvPicPr>
        <p:blipFill>
          <a:blip r:embed="rId1"/>
          <a:stretch/>
        </p:blipFill>
        <p:spPr>
          <a:xfrm>
            <a:off x="2830680" y="1554120"/>
            <a:ext cx="32540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286000" y="9828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ж небо осенью дышало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Уж реже солнышко блистало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ороче становился де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Лесов таинственная сен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 печальным шумом обнажалас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Ложился на поля туман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Гусей крикливых караван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Тянулся к югу: приближалас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Довольно скучная пора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тоял ноябрь уж у двор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      </a:t>
            </a:r>
            <a:br>
              <a:rPr sz="28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Алексей Константинович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олст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http://www.smtt.syzran.ru/imeging3/tolstoi3.jpg"/>
          <p:cNvPicPr/>
          <p:nvPr/>
        </p:nvPicPr>
        <p:blipFill>
          <a:blip r:embed="rId1"/>
          <a:srcRect l="10551" t="540" r="13222" b="17901"/>
          <a:stretch/>
        </p:blipFill>
        <p:spPr>
          <a:xfrm>
            <a:off x="3203640" y="1989000"/>
            <a:ext cx="273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692360" y="620640"/>
            <a:ext cx="6781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ень. Обсыпает весь наш бедный са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стья пожелтевшие по ветру летя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шь вдали красуют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ам, на дне дол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исти ярко – красные  вянущих рябин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C:\Documents and Settings\User\Рабочий стол\Рябина.jpg"/>
          <p:cNvPicPr/>
          <p:nvPr/>
        </p:nvPicPr>
        <p:blipFill>
          <a:blip r:embed="rId1"/>
          <a:stretch/>
        </p:blipFill>
        <p:spPr>
          <a:xfrm>
            <a:off x="3635280" y="3789360"/>
            <a:ext cx="1873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User\Рабочий стол\6149_1307529992.jpg"/>
          <p:cNvPicPr/>
          <p:nvPr/>
        </p:nvPicPr>
        <p:blipFill>
          <a:blip r:embed="rId1"/>
          <a:stretch/>
        </p:blipFill>
        <p:spPr>
          <a:xfrm>
            <a:off x="3132000" y="1844640"/>
            <a:ext cx="2740320" cy="396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иколай Алексеевич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екра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340000" y="8366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ед дожд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унывный ветер гон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ю туч на край неб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ль надломленная стоне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лухо шепчет темный л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ручей, рябой и пестры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листком летит лист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струей, сухой и остр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бегает холод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фанасий Афанасьевич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Ф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Documents and Settings\User\Рабочий стол\fet.jpg"/>
          <p:cNvPicPr/>
          <p:nvPr/>
        </p:nvPicPr>
        <p:blipFill>
          <a:blip r:embed="rId1"/>
          <a:stretch/>
        </p:blipFill>
        <p:spPr>
          <a:xfrm>
            <a:off x="2900520" y="1600200"/>
            <a:ext cx="30002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6:29:41Z</dcterms:created>
  <dc:creator>user</dc:creator>
  <dc:description/>
  <dc:language>en-US</dc:language>
  <cp:lastModifiedBy>Николай</cp:lastModifiedBy>
  <dcterms:modified xsi:type="dcterms:W3CDTF">2013-03-01T07:49:24Z</dcterms:modified>
  <cp:revision>28</cp:revision>
  <dc:subject/>
  <dc:title>поэты об осени</dc:title>
</cp:coreProperties>
</file>