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4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83B-6060-4F92-AB44-63E8AA0E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E3C-86FE-4959-8438-7F0C3466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809-C8AA-4690-A8F5-505B71EF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327-B041-4162-B01B-7F3F767A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82E7-CE4A-47E2-AC58-61DC760B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35431-617B-4975-A163-459D1792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3BD14-D6E6-4EA5-A8E3-1FC3DA37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D1BB7-F531-4522-9C20-5A43D46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A4526-785F-4E2B-AEBF-5BF9F364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462B8-E1A3-4C02-9343-2E314853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BCEF7-7D01-466D-BFC7-9CA0B66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63E-3397-4E71-9A97-6BC1A62B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9C5D3-66FB-492D-8AF9-03737ED8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001B2-5EE6-4039-A520-3CEAFA9F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82607-230E-4DE2-AEF2-194238AA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624AE-65EE-442C-B482-B455E050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E8E01-750F-409C-B823-9423F692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17B-110E-46AF-9860-43B44A37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D58-1102-48AE-9FD0-EDF139FE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5DA-6056-4492-B11E-6F759C7A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1EA-63E5-4B81-A45B-5CD02164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DA2-CA95-44F6-A834-30952E7D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70F-8481-47EA-93CB-E368F3CE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472-44F1-44C7-BF59-C44923FE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BDDF-DE9C-4070-AB9E-FE07E1836C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A29E-542E-4533-8D3C-8D12F2C9A2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учение технике ударов по мячу в футб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92360" y="19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9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дар пятк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стать позади мяча так, чтобы левая нога стояла с левой стороны от мяч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равая нога примерно на длину стопы за мячом; носки обеих ног направлены впере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Замахнуться и пронести ногу над мячом или справа от него; резким движением назад ударить пяткой в нижнюю часть мяча посередин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пециальные упраж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Пяткой в ворота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Ты – мне, я – тебе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С двух сторон маленьких ворот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Разводящий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озможные ошиб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верное положение опорной ног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порная нога мешает бьюще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попал пяткой в середину мяча – «срезка» в сторон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2159280" cy="187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659640" y="1268280"/>
            <a:ext cx="2281320" cy="187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643280" y="5589720"/>
            <a:ext cx="936720" cy="12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156360" y="5589720"/>
            <a:ext cx="863640" cy="1268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7956720" y="5516640"/>
            <a:ext cx="792000" cy="1341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6659640" y="3500280"/>
            <a:ext cx="2243160" cy="1791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4356000" y="3500280"/>
            <a:ext cx="219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бучение технике ударов по мячу ногой в футбол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чи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обучить ударам с места, с разбега, на точность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устранить возможные ошибки в технике выполн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дар  носк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твести ногу назад (замах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аправить ногу носком вперед, в сторо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порная нога чуть сзади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ьющая нога резко выпрямляет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бьющей ноги должен попасть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пециальные упражн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Коснись носком центра мяча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Удар с места по неподвижному мячу в стенку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Удар с разбега по неподвижному мячу в стенку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«Удар с места или с разбега в паре, в тройке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в момент удара далеко от мяча, и бьющая нога едва дотягивается до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опорной ноги развернут наружу или внутрь. Носок бьющей ноги не попал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16360" y="5589720"/>
            <a:ext cx="115272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732720" y="1700280"/>
            <a:ext cx="2282760" cy="171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732720" y="3573360"/>
            <a:ext cx="2259000" cy="1695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284720" y="3573360"/>
            <a:ext cx="2303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дар серединой подъем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ставится рядом с мяч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ьющая нога выполняет зам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Резкое движение ноги впер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Левая рука выносится вперед-ввер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дар бьющей ноги в середину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Специальные упражн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ерединой в середину (имитация удара по мяч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 стенки (нанесение несильного удара в стенк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 неподвижному мячу (удар с разбега в стенку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едмет перед стенкой [постараться попасть в предмет (стойка) с места, с разбега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 маленькие ворота (попасть в мини-ворота с места, с разбег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пади в квадрат (попасть в квадрат, нарисованный на стене, сетк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далеко от мяча – бьющая нога еле дотягивает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кользнул по мячу – и мяч срезался в сторон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бьющей ноги в момент удара не должен быть повернут внутрь (к опорной ног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Носок цепляет земл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а же ошибка, но носок повернут наруж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95640" y="1197000"/>
            <a:ext cx="2448000" cy="158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197000"/>
            <a:ext cx="2411640" cy="1582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067280" y="299736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067280" y="5373720"/>
            <a:ext cx="1066680" cy="102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292720" y="5373720"/>
            <a:ext cx="914400" cy="105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372360" y="5373720"/>
            <a:ext cx="64764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164360" y="5373720"/>
            <a:ext cx="838080" cy="1041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8172360" y="5373720"/>
            <a:ext cx="733680" cy="104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6659640" y="2997360"/>
            <a:ext cx="22813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дар внутренней частью подъем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ыполняется так же, как удар прямым подъемом, но в последний момент перед ударом надо развернуть носок наруж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пециальные упраж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«Как подходить к мячу» (имитация удар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«Точность удар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дары через скамейку.   Забей за линию.      Из круга в кру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126828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88000" y="1268280"/>
            <a:ext cx="2376720" cy="180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95640" y="4292640"/>
            <a:ext cx="2448000" cy="180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659640" y="4292640"/>
            <a:ext cx="2305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дар внешней частью подъем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ставить опорную ногу сбоку и сзади от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ьющую ногу повернуть носком внутр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осле замаха бьющая нога соприкасается с нижней частью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В момент удара нога закреплена в голеностопном суста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Туловище немного наклонено впере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Возможные ошиб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слишком близко к мяч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Срезка мяча вправ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мешает бьющей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Опорная нога слишком далеко от мяч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659640" y="1628640"/>
            <a:ext cx="2281320" cy="17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284720" y="450864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012000" y="4508640"/>
            <a:ext cx="100800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451640" y="4508640"/>
            <a:ext cx="10810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дар внутренней стороной стопы («щечкой»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т удар применяется главным образом как точная передача на небольшое расстояние. Но когда игрок оказывается в непосредственной близости от ворот, можно точно пробить по ворота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порная нога должна быть сбоку-сзад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лено опорной ноги чуть согнут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опа бьющей ноги разворачивается так, чтобы быть к мячу внутренней стороно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омент удара можно наклонить туловище над мяч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Специальные упражне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Сыграй точно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Попади в квадрат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«Мяч в круге»          «Вышибай из круг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67280" y="1484280"/>
            <a:ext cx="2376360" cy="198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588000" y="1557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588000" y="443700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140360" y="4437000"/>
            <a:ext cx="23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дар внешней стороной стоп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Чаще всего внешней стороной стопы бьют по мячу, катящемуся навстречу или сбоку, с внешней стороны бьющей ног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ехника уд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Опорную ногу поставить примерно в полушаге слева от мяча и чуть за н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амахнуться в сторону опорной ноги чуть сперед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дарить обратным движением серединой внешней стороны стоп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259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7:13:59Z</dcterms:created>
  <dc:creator>Админ</dc:creator>
  <dc:description/>
  <dc:language>en-US</dc:language>
  <cp:lastModifiedBy>User</cp:lastModifiedBy>
  <dcterms:modified xsi:type="dcterms:W3CDTF">2013-12-09T14:53:52Z</dcterms:modified>
  <cp:revision>12</cp:revision>
  <dc:subject/>
  <dc:title>Александр  Михайлович  Ноздрин учитель  физической  культуры  МОУ   «Чубаевская  ООШ»  Урмарского  района  Чувашской  Республики</dc:title>
</cp:coreProperties>
</file>