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4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8A0-2408-426C-AD17-556F6609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4C6-0D9C-4D5F-9071-22EF6105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9D7-DF62-4D92-A78F-772C44A8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4AE-AB44-42A8-866E-F8DBB813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039E7-6EF9-43E8-AD55-C97BCE1E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BE12F-58E2-4C3C-8458-1D46EB8F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912E5-4AEB-47B2-BD55-ABA22D68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033B5-32C8-4A6D-ACDD-C209A44B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C0B3-2FAB-4F4D-9261-A1FB7BF2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0C112-2060-4131-902C-6C586AE5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F3C91-E4B6-4BD3-A619-96F1F9DE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FCB-E25B-4B13-B42A-6380B42D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7F157-9CD1-4191-8BDD-BE7AD61B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5A426-1323-401D-A337-59ABEED0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20783-6726-4CBB-BD98-9B21FBA7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33BC1-BBE5-46D4-8BB4-1155666B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C0570-32A5-4AF2-AF92-A1E5B943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B52-86F0-4752-A8F2-8D8173CA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3D0-5453-40AE-A279-7ED1055F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354-F741-4512-90C2-B2644A2D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E96-79B8-45E4-A0CB-2A70C764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047-6A4E-4D0D-97AD-B7D419C9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805-D61F-48DD-A2BE-7A3A3260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C94-99FE-4910-B528-66532BBD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8A47-F126-4741-90A2-AD4CE2EE65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758C-079C-4615-91D9-931AE43464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учение технике ударов по мячу в футб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дар пят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стать позади мяча так, чтобы левая нога стояла с левой стороны от мяч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авая нога примерно на длину стопы за мячом; носки обеих ног направлены впере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Замахнуться и пронести ногу над мячом или справа от него; резким движением назад ударить пяткой в нижнюю часть мяча посередин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пециальные упраж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Пяткой в ворота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Ты – мне, я – тебе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С двух сторон маленьких ворот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Разводящий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озможные ошиб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верное положение опорной ног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порная нога мешает бьющ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попал пяткой в середину мяча – «срезка» в сторон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2159280" cy="187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659640" y="1268280"/>
            <a:ext cx="2281320" cy="187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3280" y="5589720"/>
            <a:ext cx="936720" cy="12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156360" y="5589720"/>
            <a:ext cx="863640" cy="1268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7956720" y="5516640"/>
            <a:ext cx="792000" cy="1341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6659640" y="3500280"/>
            <a:ext cx="2243160" cy="1791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4356000" y="3500280"/>
            <a:ext cx="219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учение технике ударов по мячу ногой в футб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обучить ударам с места, с разбега, на точность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устранить возможные ошибки в технике выполн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дар  носк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твести ногу назад (замах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править ногу носком вперед, в сторо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порная нога чуть сзади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ьющая нога резко выпрямляет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бьющей ноги должен попасть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пециальные упражн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Коснись носком центра мяч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Удар с места по неподвижному мячу в стенку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Удар с разбега по неподвижному мячу в стенку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Удар с места или с разбега в паре, в тройке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в момент удара далеко от мяча, и бьющая нога едва дотягивается до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опорной ноги развернут наружу или внутрь. Носок бьющей ноги не попал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16360" y="5589720"/>
            <a:ext cx="115272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32720" y="1700280"/>
            <a:ext cx="2282760" cy="171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732720" y="3573360"/>
            <a:ext cx="2259000" cy="1695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284720" y="3573360"/>
            <a:ext cx="2303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дар серединой подъем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ставится рядом с мяч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ьющая нога выполняет зам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Резкое движение ноги впер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Левая рука выносится вперед-ввер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дар бьющей ноги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пециальные упражн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ерединой в середину (имитация удара по мяч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 стенки (нанесение несильного удара в стенк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 неподвижному мячу (удар с разбега в стенк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едмет перед стенкой [постараться попасть в предмет (стойка) с места, с разбега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 маленькие ворота (попасть в мини-ворота с места, с разбег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пади в квадрат (попасть в квадрат, нарисованный на стене, сетк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далеко от мяча – бьющая нога еле дотягивает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кользнул по мячу – и мяч срезался в сторо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бьющей ноги в момент удара не должен быть повернут внутрь (к опорной ног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цепляет земл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а же ошибка, но носок повернут наруж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2448000" cy="158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197000"/>
            <a:ext cx="2411640" cy="1582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067280" y="299736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067280" y="5373720"/>
            <a:ext cx="1066680" cy="102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292720" y="5373720"/>
            <a:ext cx="914400" cy="105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372360" y="5373720"/>
            <a:ext cx="64764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164360" y="5373720"/>
            <a:ext cx="838080" cy="1041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8172360" y="5373720"/>
            <a:ext cx="733680" cy="104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6659640" y="2997360"/>
            <a:ext cx="22813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дар внутренней частью подъем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ыполняется так же, как удар прямым подъемом, но в последний момент перед ударом надо развернуть носок наруж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пециальные упраж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Как подходить к мячу» (имитация удар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«Точность удар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ары через скамейку.   Забей за линию.      Из круга в кру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126828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88000" y="1268280"/>
            <a:ext cx="2376720" cy="180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95640" y="4292640"/>
            <a:ext cx="2448000" cy="180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659640" y="4292640"/>
            <a:ext cx="2305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дар внешней частью подъем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ставить опорную ногу сбоку и сзади от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ьющую ногу повернуть носком внутр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сле замаха бьющая нога соприкасается с нижней частью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 момент удара нога закреплена в голеностопном суста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уловище немного наклонено впер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слишком близко к мяч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резка мяча вправ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мешает бьющей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слишком далеко от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281320" cy="17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284720" y="450864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012000" y="4508640"/>
            <a:ext cx="100800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451640" y="4508640"/>
            <a:ext cx="1081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дар внутренней стороной стопы («щечкой»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т удар применяется главным образом как точная передача на небольшое расстояние. Но когда игрок оказывается в непосредственной близости от ворот, можно точно пробить по ворота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орная нога должна быть сбоку-сзад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лено опорной ноги чуть согнут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опа бьющей ноги разворачивается так, чтобы быть к мячу внутренней стороно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омент удара можно наклонить туловище над мяч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ециальные упражне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Сыграй точно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Попади в квадрат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Мяч в круге»          «Вышибай из круг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67280" y="1484280"/>
            <a:ext cx="2376360" cy="198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588000" y="1557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588000" y="443700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140360" y="4437000"/>
            <a:ext cx="23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дар внешней стороной стоп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Чаще всего внешней стороной стопы бьют по мячу, катящемуся навстречу или сбоку, с внешней стороны бьющей ног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порную ногу поставить примерно в полушаге слева от мяча и чуть за н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амахнуться в сторону опорной ноги чуть сперед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дарить обратным движением серединой внешней стороны стоп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259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13:59Z</dcterms:created>
  <dc:creator>Админ</dc:creator>
  <dc:description/>
  <dc:language>en-US</dc:language>
  <cp:lastModifiedBy>User</cp:lastModifiedBy>
  <dcterms:modified xsi:type="dcterms:W3CDTF">2013-12-09T14:53:52Z</dcterms:modified>
  <cp:revision>12</cp:revision>
  <dc:subject/>
  <dc:title>Александр  Михайлович  Ноздрин учитель  физической  культуры  МОУ   «Чубаевская  ООШ»  Урмарского  района  Чувашской  Республики</dc:title>
</cp:coreProperties>
</file>