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4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92E-AA90-4827-ACC0-ED60428B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9E5-4F8F-4FC1-B176-BDB59CEC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F3F-3940-4D60-BB66-45E70029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A24-D273-4A64-977B-517737D6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A9683-800A-43F8-96E1-11B8A679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6AFC7-BA5A-4488-A614-89C90AC1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37F56-1904-4C0B-854B-480BF8BD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6196A-CFD0-4F73-BC05-F976F642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6D8BF-CCEE-4712-B22B-448919C4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8F068-3C1C-4C15-9CBD-99FBF4AB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4E9E0-E167-487B-A05B-DB1487B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2B9-4F10-4CCF-8762-AA5C13F4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CFFAE-2F5B-4611-BD23-C68338D9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64128-B249-47A6-93D3-E118BA93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AF875-EA82-4319-B903-56599565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5A66F-FCB6-4F30-9B1E-7C2A0B27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F0E04-5D1F-4B80-8770-4034DA2B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230-0A04-41B4-8A72-206216C0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7B3-97F9-406D-A71A-7387A36A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149-8A65-4612-9231-6F4D61FB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359-36D6-4A07-A8FB-D634EFE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F25-6FF7-4B38-8CCC-7C5A716B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659-1C2C-45BC-9591-F5F58D4C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173-AB8C-4DDC-969D-30271C98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FFA0-8206-442B-A937-36A0BF1B39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76C-72B3-47DE-8BF7-6A09BCFAC9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учение технике ударов по мячу в футб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дар пят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стать позади мяча так, чтобы левая нога стояла с левой стороны от мяч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авая нога примерно на длину стопы за мячом; носки обеих ног направлены впере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Замахнуться и пронести ногу над мячом или справа от него; резким движением назад ударить пяткой в нижнюю часть мяча посередин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пециальные упраж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Пяткой в ворота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Ты – мне, я – тебе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С двух сторон маленьких ворот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Разводящий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озможные ошиб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верное положение опорной ног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порная нога мешает бьющ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попал пяткой в середину мяча – «срезка» в сторон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2159280" cy="187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659640" y="1268280"/>
            <a:ext cx="2281320" cy="187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3280" y="5589720"/>
            <a:ext cx="936720" cy="12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156360" y="5589720"/>
            <a:ext cx="863640" cy="1268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7956720" y="5516640"/>
            <a:ext cx="792000" cy="1341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6659640" y="3500280"/>
            <a:ext cx="2243160" cy="1791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4356000" y="3500280"/>
            <a:ext cx="219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учение технике ударов по мячу ногой в футб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обучить ударам с места, с разбега, на точность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устранить возможные ошибки в технике выполн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дар  носк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твести ногу назад (замах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править ногу носком вперед, в сторо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порная нога чуть сзади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ьющая нога резко выпрямляет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бьющей ноги должен попасть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пециальные упражн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Коснись носком центра мяч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Удар с места по неподвижному мячу в стенку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Удар с разбега по неподвижному мячу в стенку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Удар с места или с разбега в паре, в тройке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в момент удара далеко от мяча, и бьющая нога едва дотягивается до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опорной ноги развернут наружу или внутрь. Носок бьющей ноги не попал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16360" y="5589720"/>
            <a:ext cx="115272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32720" y="1700280"/>
            <a:ext cx="2282760" cy="171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732720" y="3573360"/>
            <a:ext cx="2259000" cy="1695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284720" y="3573360"/>
            <a:ext cx="2303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дар серединой подъем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ставится рядом с мяч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ьющая нога выполняет зам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Резкое движение ноги впер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Левая рука выносится вперед-ввер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дар бьющей ноги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пециальные упражн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ерединой в середину (имитация удара по мяч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 стенки (нанесение несильного удара в стенк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 неподвижному мячу (удар с разбега в стенк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едмет перед стенкой [постараться попасть в предмет (стойка) с места, с разбега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 маленькие ворота (попасть в мини-ворота с места, с разбег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пади в квадрат (попасть в квадрат, нарисованный на стене, сетк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далеко от мяча – бьющая нога еле дотягивает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кользнул по мячу – и мяч срезался в сторо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бьющей ноги в момент удара не должен быть повернут внутрь (к опорной ног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цепляет земл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а же ошибка, но носок повернут наруж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2448000" cy="158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197000"/>
            <a:ext cx="2411640" cy="1582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067280" y="299736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067280" y="5373720"/>
            <a:ext cx="1066680" cy="102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292720" y="5373720"/>
            <a:ext cx="914400" cy="105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372360" y="5373720"/>
            <a:ext cx="64764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164360" y="5373720"/>
            <a:ext cx="838080" cy="1041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8172360" y="5373720"/>
            <a:ext cx="733680" cy="104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6659640" y="2997360"/>
            <a:ext cx="22813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дар внутренней частью подъем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ыполняется так же, как удар прямым подъемом, но в последний момент перед ударом надо развернуть носок наруж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пециальные упраж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Как подходить к мячу» (имитация удар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«Точность удар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ары через скамейку.   Забей за линию.      Из круга в кру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126828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88000" y="1268280"/>
            <a:ext cx="2376720" cy="180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95640" y="4292640"/>
            <a:ext cx="2448000" cy="180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659640" y="4292640"/>
            <a:ext cx="2305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дар внешней частью подъем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ставить опорную ногу сбоку и сзади от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ьющую ногу повернуть носком внутр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сле замаха бьющая нога соприкасается с нижней частью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 момент удара нога закреплена в голеностопном суста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уловище немного наклонено впер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слишком близко к мяч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резка мяча вправ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мешает бьющей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слишком далеко от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281320" cy="17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284720" y="450864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012000" y="4508640"/>
            <a:ext cx="100800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451640" y="4508640"/>
            <a:ext cx="1081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дар внутренней стороной стопы («щечкой»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т удар применяется главным образом как точная передача на небольшое расстояние. Но когда игрок оказывается в непосредственной близости от ворот, можно точно пробить по ворота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орная нога должна быть сбоку-сзад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лено опорной ноги чуть согнут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опа бьющей ноги разворачивается так, чтобы быть к мячу внутренней стороно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омент удара можно наклонить туловище над мяч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ециальные упражне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Сыграй точно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Попади в квадрат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Мяч в круге»          «Вышибай из круг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67280" y="1484280"/>
            <a:ext cx="2376360" cy="198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588000" y="1557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588000" y="443700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140360" y="4437000"/>
            <a:ext cx="23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дар внешней стороной стоп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Чаще всего внешней стороной стопы бьют по мячу, катящемуся навстречу или сбоку, с внешней стороны бьющей ног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порную ногу поставить примерно в полушаге слева от мяча и чуть за н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амахнуться в сторону опорной ноги чуть сперед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дарить обратным движением серединой внешней стороны стоп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259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13:59Z</dcterms:created>
  <dc:creator>Админ</dc:creator>
  <dc:description/>
  <dc:language>en-US</dc:language>
  <cp:lastModifiedBy>User</cp:lastModifiedBy>
  <dcterms:modified xsi:type="dcterms:W3CDTF">2013-12-09T14:53:52Z</dcterms:modified>
  <cp:revision>12</cp:revision>
  <dc:subject/>
  <dc:title>Александр  Михайлович  Ноздрин учитель  физической  культуры  МОУ   «Чубаевская  ООШ»  Урмарского  района  Чувашской  Республики</dc:title>
</cp:coreProperties>
</file>