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2288-B7C3-4B14-890E-F6CC2E73ED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998E-A2CF-4CA5-BC8A-EAD76A64F403}" type="slidenum">
              <a:rPr b="0" lang="ru-RU" sz="12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BEE-F49F-4098-AE9C-2D928EBA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A1D-F687-46BC-B75D-ED2969F2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0A7-9084-492C-ADD3-88F8554B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49F-B867-4DE9-8856-123EF0D6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68EB-AFBD-44AD-B440-81519C61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1A41-DE17-4CB2-8136-A62B3E53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DF4E-7108-4BB9-A249-5E6F8085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E733-9B06-41D9-B31C-AAB96A41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0510-98BC-4E49-AF42-62ED916F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E95F-A8D6-4187-B013-5DC20632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2478-0DCA-440B-B1B1-5F64D87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81D-DBC7-4C62-88C8-F95BEB38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6DD7-E0EB-478C-B342-05F7AB51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3E01-919B-4A36-9537-24316E8F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B7AF-849C-4EC2-95BE-536493AD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4FF-B9AC-49B1-A825-B9A010FA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1054-F9FB-4F77-A2C9-84A19B65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840-B056-41EB-A8D8-599EE95F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5F1-68DB-4BF6-9EC2-86533722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E9F-3173-42B9-9266-1D5F5134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42C-E194-4F9E-9625-16709A4A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929-7DDD-4BA7-9AA8-DAA990E3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025-1EAB-4191-823A-91BC67D9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198-4C69-4B38-A248-3CD8E82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5DF6-E48B-48AC-8E70-210A300FC21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8AE3-E19C-4EE0-83BC-2EADFFF53D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1663560" y="3327480"/>
            <a:ext cx="7480440" cy="3087720"/>
          </a:xfrm>
          <a:custGeom>
            <a:avLst/>
            <a:gdLst/>
            <a:ahLst/>
            <a:rect l="l" t="t" r="r" b="b"/>
            <a:pathLst>
              <a:path w="4712" h="1945">
                <a:moveTo>
                  <a:pt x="104" y="1944"/>
                </a:moveTo>
                <a:lnTo>
                  <a:pt x="144" y="1912"/>
                </a:lnTo>
                <a:lnTo>
                  <a:pt x="1320" y="1568"/>
                </a:lnTo>
                <a:lnTo>
                  <a:pt x="2000" y="1264"/>
                </a:lnTo>
                <a:lnTo>
                  <a:pt x="2104" y="1208"/>
                </a:lnTo>
                <a:lnTo>
                  <a:pt x="2312" y="1056"/>
                </a:lnTo>
                <a:lnTo>
                  <a:pt x="2416" y="936"/>
                </a:lnTo>
                <a:lnTo>
                  <a:pt x="2464" y="824"/>
                </a:lnTo>
                <a:lnTo>
                  <a:pt x="3376" y="504"/>
                </a:lnTo>
                <a:lnTo>
                  <a:pt x="3648" y="496"/>
                </a:lnTo>
                <a:lnTo>
                  <a:pt x="4160" y="400"/>
                </a:lnTo>
                <a:lnTo>
                  <a:pt x="4416" y="304"/>
                </a:lnTo>
                <a:lnTo>
                  <a:pt x="4472" y="296"/>
                </a:lnTo>
                <a:lnTo>
                  <a:pt x="4711" y="224"/>
                </a:lnTo>
                <a:lnTo>
                  <a:pt x="4711" y="0"/>
                </a:lnTo>
                <a:lnTo>
                  <a:pt x="2440" y="768"/>
                </a:lnTo>
                <a:lnTo>
                  <a:pt x="2232" y="760"/>
                </a:lnTo>
                <a:lnTo>
                  <a:pt x="1784" y="808"/>
                </a:lnTo>
                <a:lnTo>
                  <a:pt x="1600" y="848"/>
                </a:lnTo>
                <a:lnTo>
                  <a:pt x="760" y="1056"/>
                </a:lnTo>
                <a:lnTo>
                  <a:pt x="0" y="1288"/>
                </a:lnTo>
                <a:lnTo>
                  <a:pt x="104" y="1384"/>
                </a:lnTo>
                <a:lnTo>
                  <a:pt x="104" y="1944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43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custGeom>
                <a:avLst/>
                <a:gdLst>
                  <a:gd name="textAreaLeft" fmla="*/ 360360 w 1728720"/>
                  <a:gd name="textAreaRight" fmla="*/ 1368360 w 1728720"/>
                  <a:gd name="textAreaTop" fmla="*/ 84240 h 405000"/>
                  <a:gd name="textAreaBottom" fmla="*/ 3207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custGeom>
                <a:avLst/>
                <a:gdLst/>
                <a:ahLst/>
                <a:rect l="l" t="t" r="r" b="b"/>
                <a:pathLst>
                  <a:path w="281" h="863">
                    <a:moveTo>
                      <a:pt x="171" y="0"/>
                    </a:moveTo>
                    <a:lnTo>
                      <a:pt x="0" y="241"/>
                    </a:lnTo>
                    <a:lnTo>
                      <a:pt x="0" y="818"/>
                    </a:lnTo>
                    <a:lnTo>
                      <a:pt x="90" y="844"/>
                    </a:lnTo>
                    <a:lnTo>
                      <a:pt x="153" y="853"/>
                    </a:lnTo>
                    <a:lnTo>
                      <a:pt x="230" y="862"/>
                    </a:lnTo>
                    <a:lnTo>
                      <a:pt x="230" y="294"/>
                    </a:lnTo>
                    <a:lnTo>
                      <a:pt x="280" y="21"/>
                    </a:lnTo>
                    <a:lnTo>
                      <a:pt x="256" y="21"/>
                    </a:lnTo>
                    <a:lnTo>
                      <a:pt x="204" y="13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003300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custGeom>
                <a:avLst/>
                <a:gdLst/>
                <a:ahLst/>
                <a:rect l="l" t="t" r="r" b="b"/>
                <a:pathLst>
                  <a:path w="132" h="801">
                    <a:moveTo>
                      <a:pt x="0" y="254"/>
                    </a:moveTo>
                    <a:lnTo>
                      <a:pt x="0" y="795"/>
                    </a:lnTo>
                    <a:lnTo>
                      <a:pt x="40" y="800"/>
                    </a:lnTo>
                    <a:lnTo>
                      <a:pt x="40" y="263"/>
                    </a:lnTo>
                    <a:lnTo>
                      <a:pt x="131" y="8"/>
                    </a:lnTo>
                    <a:lnTo>
                      <a:pt x="114" y="0"/>
                    </a:lnTo>
                    <a:lnTo>
                      <a:pt x="0" y="254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custGeom>
                <a:avLst/>
                <a:gdLst/>
                <a:ahLst/>
                <a:rect l="l" t="t" r="r" b="b"/>
                <a:pathLst>
                  <a:path w="245" h="797">
                    <a:moveTo>
                      <a:pt x="244" y="224"/>
                    </a:moveTo>
                    <a:lnTo>
                      <a:pt x="244" y="765"/>
                    </a:lnTo>
                    <a:lnTo>
                      <a:pt x="203" y="796"/>
                    </a:lnTo>
                    <a:lnTo>
                      <a:pt x="203" y="23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44" y="224"/>
                    </a:lnTo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52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0033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0033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0033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custGeom>
                <a:avLst/>
                <a:gdLst/>
                <a:ahLst/>
                <a:rect l="l" t="t" r="r" b="b"/>
                <a:pathLst>
                  <a:path w="322" h="76">
                    <a:moveTo>
                      <a:pt x="0" y="0"/>
                    </a:moveTo>
                    <a:lnTo>
                      <a:pt x="49" y="30"/>
                    </a:lnTo>
                    <a:lnTo>
                      <a:pt x="85" y="44"/>
                    </a:lnTo>
                    <a:lnTo>
                      <a:pt x="153" y="61"/>
                    </a:lnTo>
                    <a:lnTo>
                      <a:pt x="212" y="70"/>
                    </a:lnTo>
                    <a:lnTo>
                      <a:pt x="275" y="75"/>
                    </a:lnTo>
                    <a:lnTo>
                      <a:pt x="321" y="70"/>
                    </a:lnTo>
                    <a:lnTo>
                      <a:pt x="248" y="61"/>
                    </a:lnTo>
                    <a:lnTo>
                      <a:pt x="171" y="44"/>
                    </a:lnTo>
                    <a:lnTo>
                      <a:pt x="94" y="22"/>
                    </a:lnTo>
                    <a:lnTo>
                      <a:pt x="31" y="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>
                <a:off x="511200" y="504036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180" y="48"/>
                    </a:moveTo>
                    <a:lnTo>
                      <a:pt x="94" y="39"/>
                    </a:lnTo>
                    <a:lnTo>
                      <a:pt x="40" y="26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54" y="17"/>
                    </a:lnTo>
                    <a:lnTo>
                      <a:pt x="112" y="30"/>
                    </a:lnTo>
                    <a:lnTo>
                      <a:pt x="171" y="30"/>
                    </a:lnTo>
                    <a:lnTo>
                      <a:pt x="180" y="48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custGeom>
                <a:avLst/>
                <a:gdLst/>
                <a:ahLst/>
                <a:rect l="l" t="t" r="r" b="b"/>
                <a:pathLst>
                  <a:path w="200" h="230">
                    <a:moveTo>
                      <a:pt x="104" y="4"/>
                    </a:moveTo>
                    <a:lnTo>
                      <a:pt x="199" y="0"/>
                    </a:lnTo>
                    <a:lnTo>
                      <a:pt x="162" y="79"/>
                    </a:lnTo>
                    <a:lnTo>
                      <a:pt x="144" y="127"/>
                    </a:lnTo>
                    <a:lnTo>
                      <a:pt x="117" y="171"/>
                    </a:lnTo>
                    <a:lnTo>
                      <a:pt x="104" y="229"/>
                    </a:lnTo>
                    <a:lnTo>
                      <a:pt x="0" y="229"/>
                    </a:lnTo>
                    <a:lnTo>
                      <a:pt x="18" y="176"/>
                    </a:lnTo>
                    <a:lnTo>
                      <a:pt x="63" y="123"/>
                    </a:lnTo>
                    <a:lnTo>
                      <a:pt x="72" y="79"/>
                    </a:lnTo>
                    <a:lnTo>
                      <a:pt x="90" y="35"/>
                    </a:lnTo>
                    <a:lnTo>
                      <a:pt x="104" y="4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62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custGeom>
                <a:avLst/>
                <a:gdLst/>
                <a:ahLst/>
                <a:rect l="l" t="t" r="r" b="b"/>
                <a:pathLst>
                  <a:path w="762" h="2316">
                    <a:moveTo>
                      <a:pt x="598" y="140"/>
                    </a:moveTo>
                    <a:lnTo>
                      <a:pt x="523" y="358"/>
                    </a:lnTo>
                    <a:lnTo>
                      <a:pt x="440" y="644"/>
                    </a:lnTo>
                    <a:lnTo>
                      <a:pt x="354" y="916"/>
                    </a:lnTo>
                    <a:lnTo>
                      <a:pt x="257" y="1286"/>
                    </a:lnTo>
                    <a:lnTo>
                      <a:pt x="130" y="1703"/>
                    </a:lnTo>
                    <a:lnTo>
                      <a:pt x="51" y="2079"/>
                    </a:lnTo>
                    <a:lnTo>
                      <a:pt x="15" y="2224"/>
                    </a:lnTo>
                    <a:lnTo>
                      <a:pt x="0" y="2315"/>
                    </a:lnTo>
                    <a:lnTo>
                      <a:pt x="63" y="2264"/>
                    </a:lnTo>
                    <a:lnTo>
                      <a:pt x="268" y="2103"/>
                    </a:lnTo>
                    <a:lnTo>
                      <a:pt x="124" y="2084"/>
                    </a:lnTo>
                    <a:lnTo>
                      <a:pt x="286" y="2088"/>
                    </a:lnTo>
                    <a:lnTo>
                      <a:pt x="313" y="2040"/>
                    </a:lnTo>
                    <a:lnTo>
                      <a:pt x="135" y="2042"/>
                    </a:lnTo>
                    <a:lnTo>
                      <a:pt x="322" y="2022"/>
                    </a:lnTo>
                    <a:lnTo>
                      <a:pt x="372" y="1941"/>
                    </a:lnTo>
                    <a:lnTo>
                      <a:pt x="162" y="1945"/>
                    </a:lnTo>
                    <a:lnTo>
                      <a:pt x="379" y="1923"/>
                    </a:lnTo>
                    <a:lnTo>
                      <a:pt x="426" y="1837"/>
                    </a:lnTo>
                    <a:lnTo>
                      <a:pt x="480" y="1712"/>
                    </a:lnTo>
                    <a:lnTo>
                      <a:pt x="526" y="1569"/>
                    </a:lnTo>
                    <a:lnTo>
                      <a:pt x="246" y="1587"/>
                    </a:lnTo>
                    <a:lnTo>
                      <a:pt x="530" y="1545"/>
                    </a:lnTo>
                    <a:lnTo>
                      <a:pt x="546" y="1497"/>
                    </a:lnTo>
                    <a:lnTo>
                      <a:pt x="284" y="1530"/>
                    </a:lnTo>
                    <a:lnTo>
                      <a:pt x="557" y="1475"/>
                    </a:lnTo>
                    <a:lnTo>
                      <a:pt x="602" y="1308"/>
                    </a:lnTo>
                    <a:lnTo>
                      <a:pt x="372" y="1358"/>
                    </a:lnTo>
                    <a:lnTo>
                      <a:pt x="611" y="1277"/>
                    </a:lnTo>
                    <a:lnTo>
                      <a:pt x="636" y="1204"/>
                    </a:lnTo>
                    <a:lnTo>
                      <a:pt x="381" y="1283"/>
                    </a:lnTo>
                    <a:lnTo>
                      <a:pt x="639" y="1182"/>
                    </a:lnTo>
                    <a:lnTo>
                      <a:pt x="654" y="1127"/>
                    </a:lnTo>
                    <a:lnTo>
                      <a:pt x="695" y="958"/>
                    </a:lnTo>
                    <a:lnTo>
                      <a:pt x="503" y="1042"/>
                    </a:lnTo>
                    <a:lnTo>
                      <a:pt x="700" y="923"/>
                    </a:lnTo>
                    <a:lnTo>
                      <a:pt x="758" y="679"/>
                    </a:lnTo>
                    <a:lnTo>
                      <a:pt x="541" y="743"/>
                    </a:lnTo>
                    <a:lnTo>
                      <a:pt x="758" y="655"/>
                    </a:lnTo>
                    <a:lnTo>
                      <a:pt x="758" y="479"/>
                    </a:lnTo>
                    <a:lnTo>
                      <a:pt x="575" y="560"/>
                    </a:lnTo>
                    <a:lnTo>
                      <a:pt x="761" y="433"/>
                    </a:lnTo>
                    <a:lnTo>
                      <a:pt x="761" y="261"/>
                    </a:lnTo>
                    <a:lnTo>
                      <a:pt x="727" y="149"/>
                    </a:lnTo>
                    <a:lnTo>
                      <a:pt x="661" y="0"/>
                    </a:lnTo>
                    <a:lnTo>
                      <a:pt x="598" y="140"/>
                    </a:lnTo>
                  </a:path>
                </a:pathLst>
              </a:custGeom>
              <a:gradFill rotWithShape="0">
                <a:gsLst>
                  <a:gs pos="0">
                    <a:srgbClr val="a64c4c"/>
                  </a:gs>
                  <a:gs pos="100000">
                    <a:srgbClr val="00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custGeom>
                <a:avLst/>
                <a:gdLst/>
                <a:ahLst/>
                <a:rect l="l" t="t" r="r" b="b"/>
                <a:pathLst>
                  <a:path w="915" h="3071">
                    <a:moveTo>
                      <a:pt x="0" y="3070"/>
                    </a:moveTo>
                    <a:lnTo>
                      <a:pt x="372" y="1696"/>
                    </a:lnTo>
                    <a:lnTo>
                      <a:pt x="432" y="1458"/>
                    </a:lnTo>
                    <a:lnTo>
                      <a:pt x="484" y="1276"/>
                    </a:lnTo>
                    <a:lnTo>
                      <a:pt x="570" y="982"/>
                    </a:lnTo>
                    <a:lnTo>
                      <a:pt x="670" y="658"/>
                    </a:lnTo>
                    <a:lnTo>
                      <a:pt x="782" y="316"/>
                    </a:lnTo>
                    <a:lnTo>
                      <a:pt x="844" y="144"/>
                    </a:lnTo>
                    <a:lnTo>
                      <a:pt x="888" y="42"/>
                    </a:lnTo>
                    <a:lnTo>
                      <a:pt x="914" y="0"/>
                    </a:lnTo>
                    <a:lnTo>
                      <a:pt x="866" y="116"/>
                    </a:lnTo>
                    <a:lnTo>
                      <a:pt x="806" y="296"/>
                    </a:lnTo>
                    <a:lnTo>
                      <a:pt x="520" y="1230"/>
                    </a:lnTo>
                    <a:lnTo>
                      <a:pt x="442" y="1518"/>
                    </a:lnTo>
                    <a:lnTo>
                      <a:pt x="378" y="1774"/>
                    </a:lnTo>
                    <a:lnTo>
                      <a:pt x="314" y="2028"/>
                    </a:lnTo>
                    <a:lnTo>
                      <a:pt x="266" y="2238"/>
                    </a:lnTo>
                    <a:lnTo>
                      <a:pt x="258" y="2294"/>
                    </a:lnTo>
                    <a:lnTo>
                      <a:pt x="186" y="2558"/>
                    </a:lnTo>
                    <a:lnTo>
                      <a:pt x="50" y="3070"/>
                    </a:lnTo>
                    <a:lnTo>
                      <a:pt x="0" y="30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1622-4B75-4984-9191-FC6E466AB9D4}" type="datetime"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B52A-D66E-4D5C-BF30-8B07DC18FC2D}" type="slidenum"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63280" y="18900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МОУ «Средняя общеобразовательная школа №42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с углубленным изучением английского языка и математики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г. Петрозаводск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Республика Карелия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123640" y="3500280"/>
            <a:ext cx="671508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Математические задачи </a:t>
            </a: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от русских, советских и зарубежных писател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16000" y="17280"/>
            <a:ext cx="622764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Г. Белых, Л. Пантелеев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«Республика ШКИД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35280" y="4149360"/>
            <a:ext cx="7308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Чтобы привести ее к разрешимому виду, придется сделать два уточнения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Во-первых, будем считать, что одно из трех данных чисел задано неверно.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Второе уточнение почуднее: третий член прогрессии в точности равен сумме в рублях, которую автор заплатил недавно на рынке за картошку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Решение:            (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) – геометрическая прогрессия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28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9/2 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3/2 ·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?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ru-RU" sz="1600" spc="-1" strike="noStrike" baseline="-25000">
                <a:solidFill>
                  <a:srgbClr val="ffff99"/>
                </a:solidFill>
                <a:latin typeface="Times New Roman"/>
              </a:rPr>
              <a:t>+1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·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формула для нахождения члена геометрической прогрессии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6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·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3/2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· 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= 3/2 · 81/4 = 243/8 = 30,375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1763640" y="1504800"/>
            <a:ext cx="70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Сумма первых трех членов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геометрической прогрессии равна 28,  знаменатель равен 9/2, третий член в 3/2 раза  больше знаменателя. Найти четвертый член прогрессии»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Нижний колонтитул 2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2988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Илья Ильф и Евгений Петров </a:t>
            </a:r>
            <a:br>
              <a:rPr sz="3200"/>
            </a:b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«Двенадцать стульев»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0560" y="1268280"/>
            <a:ext cx="69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отом отец Федор подошел к комоду и вынул из конфетной коробки 50 рублей трехрублевками и пятирублевками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В коробке оставалось еще 20 рублей»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95280" y="328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Для единственности решения, добавим условие: отец Федор взял с собой большую часть трехрублевок и большую часть пятирублевок. Найдите решение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а) Пусть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взято трехрублевок, а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 взято пятирублевок. Тогда составим уравнение: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5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=50. Найдем пары решений: (5 и 7), (10 и 4), (15 и 1)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б) Пусть а – осталось трехрублевок, и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осталось пятирублевок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Составим уравнение: 3а+5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=20. Найдем пары решений: (5 и 1), (0 и 4)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Путем анализа результатов получаем:</a:t>
            </a: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5 трехрублевок и 7 пятирублевок или 10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трехрублевок и 4 пятирублевок взял отец Федор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8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5167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М .Е. Салтыков-Щедрин «Господа Головлевы»</a:t>
            </a:r>
            <a:r>
              <a:rPr b="0" i="1" lang="ru-RU" sz="4000" spc="-1" strike="noStrike">
                <a:solidFill>
                  <a:srgbClr val="ffcc6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Задача № 1</a:t>
            </a:r>
            <a:r>
              <a:rPr b="0" i="1" lang="ru-RU" sz="2000" spc="-1" strike="noStrike">
                <a:solidFill>
                  <a:srgbClr val="ffcc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                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Сын Порфирия Владимировича Петя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проиграл в карты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казенные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300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рублей и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попросил у бабушки эту сумму взаймы. Он говорил: «Я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бы хороший процент дал. Пять процентов в месяц»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Простые проценты начисляются только на начальный вклад.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=P (1+n* (r/100)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но: 3000 руб. - 100%, Х  руб. -  5%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Решение: Х = 3000:100*5 = 150 (руб.).   S=3000+150*12 = 4800 (руб.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Сложные проценты начисляется на наращенный капитал.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=P (1+r/100)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но: Р=3000 рублей, r = 5% в месяц, n = 12 мес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S=3000 (1+5/100)</a:t>
            </a:r>
            <a:r>
              <a:rPr b="0" lang="ru-RU" sz="2000" spc="-1" strike="noStrike" baseline="30000">
                <a:solidFill>
                  <a:srgbClr val="ffff99"/>
                </a:solidFill>
                <a:latin typeface="Times New Roman"/>
              </a:rPr>
              <a:t>12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=3000 (21/20)</a:t>
            </a:r>
            <a:r>
              <a:rPr b="0" lang="ru-RU" sz="2000" spc="-1" strike="noStrike" baseline="30000">
                <a:solidFill>
                  <a:srgbClr val="ffff99"/>
                </a:solidFill>
                <a:latin typeface="Times New Roman"/>
              </a:rPr>
              <a:t>12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=3000 (1,05)</a:t>
            </a:r>
            <a:r>
              <a:rPr b="0" lang="ru-RU" sz="2000" spc="-1" strike="noStrike" baseline="30000">
                <a:solidFill>
                  <a:srgbClr val="ffff99"/>
                </a:solidFill>
                <a:latin typeface="Times New Roman"/>
              </a:rPr>
              <a:t>12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=5387,57≈5400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руб.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65440" y="0"/>
            <a:ext cx="629928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Оноре де Бальзак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Гобсек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28640"/>
            <a:ext cx="7596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Господин Дервиль взял у ростовщик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Гобсека сумму в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0000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франков сроком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на 10 лет под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5%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годовых»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690560" y="3645000"/>
            <a:ext cx="727416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Если бы он выплачивал сложные проценты от исходной суммы: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 = 150 000 × (1 + 0,01 × 15)</a:t>
            </a:r>
            <a:r>
              <a:rPr b="0" lang="ru-RU" sz="2400" spc="-1" strike="noStrike" baseline="30000">
                <a:solidFill>
                  <a:srgbClr val="ffff99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 ≈ 606 834 франка.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Если бы расчёты велись по формуле простых процентов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= 150 000 × (1 + 0,01 × 15 × 10) = 375 000 франков.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Разница  более 230 тысяч франков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5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9280" y="31680"/>
            <a:ext cx="752472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Николай Носов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«Витя Малеев в школе и дома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1. «Мальчик и девочка рвали в лесу орехи.  Они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сорвали всего 120 штук. Девочка сорвала в  два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раза меньше мальчика. Сколько орехов собрал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каждый из них?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твет: девочка собрала 40, а мальчик – 80 ор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2. «В магазине было 8 пил, а  топоров  в три раза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больше. Одной бригаде плотников продали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оловину топоров и три пилы за 84 рубля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ставшиеся топоры и пилы продали другой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бригаде плотников за 100 рублей.  Сколько стоит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дин топор и одна пила?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твет:  топор стоит 5 руб. и пила стоит 8 руб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916956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Ярослав Гашек </a:t>
            </a:r>
            <a:br>
              <a:rPr sz="4000"/>
            </a:b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Похождения бравого солдата Швейка»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0920" y="4436640"/>
            <a:ext cx="698688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Швейк рассказал свою задачу в 1914 году. Год кончины бабушки равен произведению общего числа окон этого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дома на число труб и на возраст (в 1914 году) одного из квартирантов, лично присутствовавшего на похоронах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0" i="1" lang="ru-RU" sz="2000" spc="-1" strike="noStrike">
                <a:solidFill>
                  <a:srgbClr val="ffff99"/>
                </a:solidFill>
                <a:latin typeface="Times New Roman"/>
              </a:rPr>
              <a:t>В каком же году умерла у швейцара бабушка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2400480" y="1413000"/>
            <a:ext cx="674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Стоит четырехэтажный дом, в каждом этаже по восьми окон, на крыше - два слуховых окна и две трубы, в каждом этаже по два квартиранта. А теперь скажите, господа, в каком году умерла  у швейцара его бабушка?»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Нижний колонтитул 2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3680" y="-3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. А. Крылов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ЛЕБЕДЬ, ЩУКА И РАК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1549440"/>
            <a:ext cx="5256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Когда в товарищах согласья нет,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На лад их дело не пойдет,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 выйдет из него не дело, только мука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днажды Лебедь, Рак да Щук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Везти с поклажей воз взялись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 вместе трое все в него впряглись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з кожи лезут вон, а возу все нет ходу!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Поклажа бы для них казалась и легка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 Лебедь рвется в облака,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Рак пятится назад, а Щука тянет в воду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Кто виноват из них, кто прав - судить не нам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а только воз и ныне та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Содержимое 4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826920" y="5229360"/>
            <a:ext cx="831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ложение векторов движения лебедя и щуки выполним по правилу параллелограмма. Диагональ параллелограмма будет суммой двух векторов. Вектор  движения рака будет направлен в противоположную сторону, значит, сумма этих векторов будет равна 0. 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оэтому воз не двинется с места.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7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5640" y="-11520"/>
            <a:ext cx="6481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Жюль Верн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Таинственный остров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9" name="Picture 3" descr="Image"/>
          <p:cNvPicPr/>
          <p:nvPr/>
        </p:nvPicPr>
        <p:blipFill>
          <a:blip r:embed="rId1"/>
          <a:srcRect l="4725" t="0" r="0" b="0"/>
          <a:stretch/>
        </p:blipFill>
        <p:spPr>
          <a:xfrm>
            <a:off x="6904080" y="2316240"/>
            <a:ext cx="2108160" cy="1617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108000" y="2565360"/>
            <a:ext cx="684216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Герои Жюля Верна измеряли высоту скалы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Расстояние от колышка до шеста так относится к расстоянию от колышка до основания стены, как высота шеста к высоте стены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104840" y="4149720"/>
            <a:ext cx="80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«- если мы измерим два первых расстояния, то, зная высоту шеста, сможем вычислить четвертый, неизвестный член пропорции, т. е. высоту стены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«0ба горизонтальных расстояния были измерены: меньшее равнялось 15 футам, большее - 500 футам. По окончании  измерений инженер  составил  следующую запись:   15:500 = 10:х,                500×10 = 5000,                   5000:15 = 333,3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Значит, высота  гранитной  стены равнялась   333 футам». 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2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50560" y="1773000"/>
            <a:ext cx="889164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Отрывок из текста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Я связал вместе два удилища, что дало мне шесть футов, и мы с  моим клиентом отправились обратно к тому месту, где рос (когда-то) вяз... Я воткнул свой шест в землю, отметил направление тени и измерил ее. В ней было девять футов. Дальнейшие мои вычисления были совсем уж несложны. Если палка высотой шесть футов отбрасывает тень в девять футов, то дерево (вяз)  высотой (64 фута)  отбросит тень в  (96 футов), и направление той и другой, разумеется, будет совпадать»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507760" y="0"/>
            <a:ext cx="64436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  <a:ea typeface="Calibri"/>
              </a:rPr>
              <a:t>Артур Конан-Дойль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  <a:ea typeface="Calibri"/>
              </a:rPr>
              <a:t>«Обряд дома Месгрейвов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3505320" y="5400720"/>
            <a:ext cx="4392360" cy="961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6" name="Прямоугольный треугольник 6"/>
          <p:cNvSpPr/>
          <p:nvPr/>
        </p:nvSpPr>
        <p:spPr>
          <a:xfrm>
            <a:off x="3805200" y="5657760"/>
            <a:ext cx="1600200" cy="590760"/>
          </a:xfrm>
          <a:prstGeom prst="rtTriangl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Прямоугольный треугольник 7"/>
          <p:cNvSpPr/>
          <p:nvPr/>
        </p:nvSpPr>
        <p:spPr>
          <a:xfrm>
            <a:off x="6086520" y="5654520"/>
            <a:ext cx="1600200" cy="590760"/>
          </a:xfrm>
          <a:prstGeom prst="rtTriangl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Овал 8"/>
          <p:cNvSpPr/>
          <p:nvPr/>
        </p:nvSpPr>
        <p:spPr>
          <a:xfrm>
            <a:off x="3530520" y="5433840"/>
            <a:ext cx="30492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cxnSp>
        <p:nvCxnSpPr>
          <p:cNvPr id="189" name="Прямая со стрелкой 9"/>
          <p:cNvCxnSpPr/>
          <p:nvPr/>
        </p:nvCxnSpPr>
        <p:spPr>
          <a:xfrm>
            <a:off x="3898800" y="5576400"/>
            <a:ext cx="619920" cy="258120"/>
          </a:xfrm>
          <a:prstGeom prst="straightConnector1">
            <a:avLst/>
          </a:prstGeom>
          <a:ln w="936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90" name="Прямая со стрелкой 10"/>
          <p:cNvCxnSpPr/>
          <p:nvPr/>
        </p:nvCxnSpPr>
        <p:spPr>
          <a:xfrm>
            <a:off x="6267240" y="5502240"/>
            <a:ext cx="619560" cy="257760"/>
          </a:xfrm>
          <a:prstGeom prst="straightConnector1">
            <a:avLst/>
          </a:prstGeom>
          <a:ln w="9360">
            <a:solidFill>
              <a:srgbClr val="ffff99"/>
            </a:solidFill>
            <a:miter/>
            <a:tailEnd len="med" type="arrow" w="med"/>
          </a:ln>
        </p:spPr>
      </p:cxnSp>
      <p:sp>
        <p:nvSpPr>
          <p:cNvPr id="191" name="Арка 11"/>
          <p:cNvSpPr/>
          <p:nvPr/>
        </p:nvSpPr>
        <p:spPr>
          <a:xfrm>
            <a:off x="5977080" y="5630760"/>
            <a:ext cx="228600" cy="428760"/>
          </a:xfrm>
          <a:custGeom>
            <a:avLst/>
            <a:gdLst/>
            <a:ahLst/>
            <a:rect l="l" t="t" r="r" b="b"/>
            <a:pathLst>
              <a:path w="228600" h="428625">
                <a:moveTo>
                  <a:pt x="28184" y="355231"/>
                </a:moveTo>
                <a:cubicBezTo>
                  <a:pt x="5340" y="306152"/>
                  <a:pt x="-4359" y="240256"/>
                  <a:pt x="1827" y="176156"/>
                </a:cubicBezTo>
                <a:cubicBezTo>
                  <a:pt x="13203" y="58269"/>
                  <a:pt x="73910" y="-19240"/>
                  <a:pt x="136578" y="4110"/>
                </a:cubicBezTo>
                <a:cubicBezTo>
                  <a:pt x="187470" y="23072"/>
                  <a:pt x="225165" y="103931"/>
                  <a:pt x="228381" y="201032"/>
                </a:cubicBezTo>
                <a:cubicBezTo>
                  <a:pt x="230921" y="277744"/>
                  <a:pt x="211358" y="351132"/>
                  <a:pt x="177110" y="393368"/>
                </a:cubicBezTo>
                <a:lnTo>
                  <a:pt x="135886" y="275848"/>
                </a:lnTo>
                <a:cubicBezTo>
                  <a:pt x="138095" y="256230"/>
                  <a:pt x="139207" y="233967"/>
                  <a:pt x="139104" y="211425"/>
                </a:cubicBezTo>
                <a:cubicBezTo>
                  <a:pt x="138897" y="166369"/>
                  <a:pt x="133878" y="125374"/>
                  <a:pt x="125974" y="104169"/>
                </a:cubicBezTo>
                <a:cubicBezTo>
                  <a:pt x="110091" y="61560"/>
                  <a:pt x="90758" y="115559"/>
                  <a:pt x="89547" y="205914"/>
                </a:cubicBezTo>
                <a:cubicBezTo>
                  <a:pt x="89334" y="221811"/>
                  <a:pt x="89728" y="237767"/>
                  <a:pt x="90707" y="252919"/>
                </a:cubicBezTo>
                <a:lnTo>
                  <a:pt x="28184" y="355231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2169720" y="47340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3098880" y="486576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Прямоугольник 15"/>
          <p:cNvSpPr/>
          <p:nvPr/>
        </p:nvSpPr>
        <p:spPr>
          <a:xfrm>
            <a:off x="5731920" y="5846760"/>
            <a:ext cx="384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64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Прямоугольник 16"/>
          <p:cNvSpPr/>
          <p:nvPr/>
        </p:nvSpPr>
        <p:spPr>
          <a:xfrm>
            <a:off x="6549480" y="5888160"/>
            <a:ext cx="384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9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6" name="Прямоугольник 17"/>
          <p:cNvSpPr/>
          <p:nvPr/>
        </p:nvSpPr>
        <p:spPr>
          <a:xfrm>
            <a:off x="3520080" y="5846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6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7" name="Прямоугольник 18"/>
          <p:cNvSpPr/>
          <p:nvPr/>
        </p:nvSpPr>
        <p:spPr>
          <a:xfrm>
            <a:off x="4320000" y="5907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  <a:ea typeface="Calibri"/>
              </a:rPr>
              <a:t>9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8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4167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Художественная литератур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26920" y="836280"/>
            <a:ext cx="6372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Аверченко А. Экзаменационная задача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Бальзак  О.  Гобсе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Белых Г. и Пантелеев А.  Республика Шкид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Гашек Я. Похождения бравого солдата Швейка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Гераскина Л. В стране невыученных уроков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Достоевский Ф. М. Преступление и наказание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Ильф И. и Петров Е.  Двенадцать стульев,  Золотой телено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Жюль Верн Таинственный остров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Кассиль Л.  Кондуит и Швамбрания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  <a:ea typeface="Calibri"/>
              </a:rPr>
              <a:t>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  <a:ea typeface="Calibri"/>
              </a:rPr>
              <a:t>Конан- Дойль А. Обряд дома Месгрейвов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Крылов И.А. Лебедь, Щука и Ра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Некрасов Н.А.  Дедушка Мазай и зайцы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Носов Н.  Витя Малеев в школе и дома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Остер Г. Задачник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Пушкин А.С. Скупой рыцарь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Салтыков-Щедрин М.Е.  Господа Головлевы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Толстой Л.Н. Арифметика, Много ли человеку надо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Тургенев И.С. Муму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Чехов А.В. Каникулярные работы институтки Наденьки Н., Репетитор.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340000" y="189000"/>
            <a:ext cx="64087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жно ли изучать математику в школе, используя произведения русских, советских и зарубежных писателей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«Гуманитарные науки... только тогда будут удовлетворять человеческую мысль, когда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в движении своём они встретятся с точными науками и пойдут с ними рядом...»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А. П. Чех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7280" y="115560"/>
            <a:ext cx="303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бзор литературы показал, что знания по математике нужны и писателя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В художественных произведениях содержится много загадок, а иногда автор дает и отгадку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Авторы, используя математические данные, предлагают читателю подумать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Любая книга откроет свои тайны тому человеку, кто умеет сам добывать знания и отвечать на интересующие его вопросы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Грамотное использование математических фактов делает художественное произведение достоверным и реальны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5" name="Прямоугольник 1"/>
          <p:cNvSpPr/>
          <p:nvPr/>
        </p:nvSpPr>
        <p:spPr>
          <a:xfrm>
            <a:off x="244440" y="34956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спользованные Интернет-ресурсы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1790640" y="4292640"/>
            <a:ext cx="7380360" cy="21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1.БакиеваА., Саитова Р.А. «Математика в художественной литературе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2.Барташевич Н. «Алгеброй гармонию измерим. Математика в художественной литературе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3.Береговой Е. «Литературная математика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4.Карпушина Н.М. «Любимые книги глазами математика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5.Куликова Е., Куликова Е.В. «Математика и литература – два крыла одной культуры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6.Латыпова С.В. «Математические задачи в литературных произведениях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7.Митрофанова Н.В., Шохалова Н.П. «Мировоззрение и творчество  А. С. Пушкина в свете 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математических законов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8.Мухачева А., Куприянович М.О. «Математические задачи в литературных произведениях»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564000" y="318600"/>
            <a:ext cx="5400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Математические задач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ставят перед читателями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авторы  романов, повестей,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рассказов, как правило –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между делом, зачастую сами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не обращая на это внимания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8" name="Picture 4" descr="schitaem"/>
          <p:cNvPicPr/>
          <p:nvPr/>
        </p:nvPicPr>
        <p:blipFill>
          <a:blip r:embed="rId1"/>
          <a:stretch/>
        </p:blipFill>
        <p:spPr>
          <a:xfrm>
            <a:off x="179280" y="115920"/>
            <a:ext cx="2952720" cy="42703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87280" y="377820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Н. П. Богданов-Бельский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«Устный счет»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908000" y="4389480"/>
            <a:ext cx="723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Если читатель любит математику, то от него такая задача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не ускользнет!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Он не упустит случая разобраться, что это там предложил автор: разрешима задача или нет, и сколько она имеет решений?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ногда автор вместе с условием приводит и решение задачи.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0920" y="1371600"/>
            <a:ext cx="6443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Задача про артель косцов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Артели косцов надо было скосить два луга, один вдвое больше другого. Половину дня артель косила большой луг. После этого артель разделилась пополам: первая половина осталась на большом лугу и докосила его к вечеру до конца; вторая же половина косила малый луг, на котором к вечеру еще остался участок, скошенный на другой день одним косцом за один день работы. Сколько косцов было в артели?»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шение: Пусть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число косцов в артели, а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– размер участка, скашиваемого одним косцом в один день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Площадь большого луга: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2+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 =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.   Площадь малого луга: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 = 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)/4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Но первый луг больше второго в 2 раза, значит: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4 : 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)/4 =2 или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)=2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/(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4) = 2        3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= 2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+8         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= 8                    Ответ: было 8 косцов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3059280" y="115920"/>
            <a:ext cx="60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Л. Н. Толстой 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Арифметика»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75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Л. Н. Толстой</a:t>
            </a:r>
            <a:br>
              <a:rPr sz="4000"/>
            </a:b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Много ли человеку земли нужно?»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60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99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«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А цена, какая будет?- говорит Пахом.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Цена у нас одна: 1000 рублей за день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Не понял Пахом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Какая же это мера – день? Сколько в ней десятин будет?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Мы этого, - говорит, - не умеем считать. А мы за день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продаем; сколько обойдешь в день, то и твое, а цена 1000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ублей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Удивился Пахом.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Да ведь это, - говорит,- в день обойти земли много будет»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Наутро он пустился по степи наперегонки с солнцем. Пришло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время возвращаться, солнце приблизилось к закату, Пахом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пешит вернуться, «в груди как мехи кузнечные раздуваются, а в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ердце молотком бьёт»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Солнце зашло, у Пахома подкосились ноги и он упал замертво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еред хохочущим пузатым башкиром.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«Ай, молодец!» — закричал старшина. 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—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«Много земли завладел!». Поднял работник скребку, выкопал 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ахому могилу, ровно насколько он от ног до головы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захватил 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 три аршина, и закопал его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56360" y="1341360"/>
            <a:ext cx="2844720" cy="4636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Фигура, которая получилась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у Пахома, имеет вид:  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Найдем площадь участка: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= 15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-8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; х≈13 вёрст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= (2+10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·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13=78 кв. вёрст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1верста = 1,0668 км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78 кв. верст ≈ 78 кв.км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78 кв. км = 7800га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9" name="Picture 4" descr="Изображение 003"/>
          <p:cNvPicPr/>
          <p:nvPr/>
        </p:nvPicPr>
        <p:blipFill>
          <a:blip r:embed="rId1"/>
          <a:srcRect l="2280" t="10641" r="2280" b="13301"/>
          <a:stretch/>
        </p:blipFill>
        <p:spPr>
          <a:xfrm>
            <a:off x="6372360" y="2349360"/>
            <a:ext cx="2232000" cy="19130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А.П. Чехов «Каникулярные работы 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нститутки Наденьки Н.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30560" y="1341360"/>
            <a:ext cx="691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«Три купца внесли для одного торгового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едприятия капитал, на который через год было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лучено 8000 рублей прибыли. Спрашивается: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сколько получил каждый из них, если первый внес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35000 рублей, второй 50000 рублей и третий 70000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рублей?».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Ответ: 1750 руб., 2500 руб. и 3750 руб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3492360" y="355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Репетитор»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1403280" y="4292640"/>
            <a:ext cx="774072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«Купец купил 138 аршин черного и синего сукна   за 540 руб. Спрашивается, сколько аршин купил     он того и другого, если синее стоило 5 руб. за аршин, а черное 3 руб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?»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.    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1 аршин ≈ 71 см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  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Ответ: 75 аршин черного сукна и 63 аршин синего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2916360" y="0"/>
            <a:ext cx="52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А.С. Пушкин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Скупой рыцарь»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50920" y="1628640"/>
            <a:ext cx="8713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И царь мог с высоты с весельем озирать       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И дол, покрытый белыми шатрами,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И море, где бежали корабли…»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Даже полчища Атиллы не могли бы воздвигнуть холм выше 4,5м. Глаз наблюдателя, поместившегося на вершине холма, возвышался бы над почвой на 4,5 + 1,5, т.е. на 6 м, и, следовательно, дальность  горизонта равна была бы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Это всего </a:t>
            </a:r>
            <a:r>
              <a:rPr b="1" lang="ru-RU" sz="2400" spc="-1" strike="noStrike" u="sng">
                <a:solidFill>
                  <a:srgbClr val="ffff99"/>
                </a:solidFill>
                <a:uFillTx/>
                <a:latin typeface="Times New Roman"/>
              </a:rPr>
              <a:t>на 4 км больше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ого, что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можно видеть, стоя на ровной земле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771640" y="4672080"/>
            <a:ext cx="2791080" cy="42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rcRect l="2360" t="0" r="4720" b="0"/>
          <a:stretch/>
        </p:blipFill>
        <p:spPr>
          <a:xfrm>
            <a:off x="6588000" y="4521240"/>
            <a:ext cx="2459160" cy="1738440"/>
          </a:xfrm>
          <a:prstGeom prst="rect">
            <a:avLst/>
          </a:prstGeom>
          <a:ln w="0">
            <a:noFill/>
          </a:ln>
        </p:spPr>
      </p:pic>
      <p:sp>
        <p:nvSpPr>
          <p:cNvPr id="140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8480" y="74520"/>
            <a:ext cx="690552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Н.А. Некрасов </a:t>
            </a:r>
            <a:br>
              <a:rPr sz="3600"/>
            </a:b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 Дедушка Мазай и зайцы»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36640" y="4220640"/>
            <a:ext cx="729936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Размеры островка в современных единицах длины и площади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= а*в,     а = 1 аршин =72см,    в = 1 сажень =216см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= 0,72 *2,16 =1,5552 м</a:t>
            </a:r>
            <a:r>
              <a:rPr b="0" i="1" lang="ru-RU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99"/>
                </a:solidFill>
                <a:latin typeface="Times New Roman"/>
              </a:rPr>
              <a:t>Ответ: островок был небольшим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2700360" y="1628640"/>
            <a:ext cx="61736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« Вижу один островок небольшой-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айцы на нем собралися гурьбой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 каждой минутой вода подбиралась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 бедным зверькам; уж под ними осталось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еньше аршина земли в ширину,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еньше сажени в длину»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6659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Лев Кассиль</a:t>
            </a:r>
            <a:br>
              <a:rPr sz="4000"/>
            </a:b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«Кондуит и Швамбрания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8000" y="1413000"/>
            <a:ext cx="72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«Задача с путешественниками»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Из двух городов выезжают по одному направлению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два путешественника, первый позади второго. Проехав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число дней, равное сумме чисел верст, проезжаемых ими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в день, они съезжаются и узнают, что второй проехал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525 верст. Расстояние между городами –175 верст.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Сколько верст в день проезжает каждый?»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Times New Roman"/>
              </a:rPr>
              <a:t>Пусть п число дней длилось путешествие, х верст в день проезжает первый путешественник, у верст в день проезжает второй путешественник, по условию (х &gt; у) задачи имеем систему: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</a:t>
            </a: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endParaRPr b="0" lang="en-US" sz="1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0" i="1" lang="ru-RU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35 дней длилось путешествие, значит, 35х =700, х = 20. 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20 верст  проезжал первый и 15 верст проезжал второй путешественник.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                                             </a:t>
            </a:r>
            <a:r>
              <a:rPr b="0" i="1" lang="ru-RU" sz="1400" spc="-1" strike="noStrike">
                <a:solidFill>
                  <a:srgbClr val="ffff99"/>
                </a:solidFill>
                <a:latin typeface="Times New Roman"/>
              </a:rPr>
              <a:t>Ответ: 20 верст = 21,34 км; 15 верст = 16,005 км.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7" name="Рисунок 90" descr=""/>
          <p:cNvPicPr/>
          <p:nvPr/>
        </p:nvPicPr>
        <p:blipFill>
          <a:blip r:embed="rId1"/>
          <a:srcRect l="0" t="5291" r="0" b="0"/>
          <a:stretch/>
        </p:blipFill>
        <p:spPr>
          <a:xfrm>
            <a:off x="4121280" y="3292560"/>
            <a:ext cx="2827080" cy="58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rcRect l="0" t="0" r="7877" b="0"/>
          <a:stretch/>
        </p:blipFill>
        <p:spPr>
          <a:xfrm>
            <a:off x="3633840" y="4583160"/>
            <a:ext cx="1368360" cy="777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rcRect l="0" t="0" r="8897" b="0"/>
          <a:stretch/>
        </p:blipFill>
        <p:spPr>
          <a:xfrm>
            <a:off x="5867280" y="4843440"/>
            <a:ext cx="1224000" cy="4921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1"/>
          <p:cNvSpPr/>
          <p:nvPr/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Рулева Т.Г.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33:27Z</dcterms:created>
  <dc:creator>Рулева Т.Г.</dc:creator>
  <dc:description/>
  <cp:keywords>Математика + литература</cp:keywords>
  <dc:language>en-US</dc:language>
  <cp:lastModifiedBy>Admin</cp:lastModifiedBy>
  <dcterms:modified xsi:type="dcterms:W3CDTF">2013-11-02T18:49:41Z</dcterms:modified>
  <cp:revision>231</cp:revision>
  <dc:subject>Открытый урок</dc:subject>
  <dc:title>Математические задачи от русских, советских и зарубежных пис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  <property fmtid="{D5CDD505-2E9C-101B-9397-08002B2CF9AE}" pid="3" name="Математические задачи от русских, советских и зарубежных писателей">
    <vt:lpwstr>Открытый урок</vt:lpwstr>
  </property>
</Properties>
</file>