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B73F-C276-40F3-A7CC-4646C9CA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841-0559-48A6-8341-874A5D13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AAA-A7A7-453D-A16E-CBBE7E8D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1A2D-96C4-4E60-8F67-A4D5BEBF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3476-E317-4B49-9D3B-B7F89C90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A446-B9D5-4DFD-8800-386F971E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0476-191A-4619-B3A1-EEC3D6FA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FD0E-CAF6-4728-825F-F6627EC2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AD9B-0854-455F-8246-FA26CD63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A23C-3B17-453E-AFF6-9FA67091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3094-8F9F-4EEE-8BE0-C8A2B7DD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502A-73DF-45B0-8995-9400F895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B0B5-C41A-4B9D-83FF-A8C3DF0B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32B7-D8EA-4996-9DE1-5D4E3154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87DA-049D-4A71-8636-51898534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72AC-EC12-4C94-A7E9-54CED353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175F-0482-441D-81E9-4C41D301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80270-A1DD-4DA1-8274-61C9518E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557E2-AF46-4619-A031-1A57BDE7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42CED-80ED-486D-A1F4-B10E5387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2FAB0-7613-44A4-B73A-C69DBB11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9F2D6-72C6-4917-8C9E-CEC18B92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BD6-76A3-46F0-B641-E176FB40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6716F-0CF4-42D2-A1D3-A78533F3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B3C15-F514-43E2-AFD7-482A7314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90820-5E1A-41F5-99DA-EA5222C6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0B518-69FB-4FB6-BB1B-4999FAF2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FD10B-15BC-499F-9B94-2D27EB18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C99FC-EBE5-43E6-9F46-3B5D3FFD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16196-4B29-4F85-BA7A-7FE81301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B7950-134C-482B-B92D-F38E9945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336C-D8A1-4EC4-ACE0-BADA8AEB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4262E-3745-4C1F-B38E-5376E50E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3BA-6AAD-4011-AA27-E3726B71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A029F-5798-492F-989F-92D4A47E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092D6-1AF2-400A-ABD6-8C2233D5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DACFB-FB35-40D1-B83F-E6B2270B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8635B-DBA8-46CA-BB51-C604497A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1EAA6-AD20-439E-BCE9-F3CFD471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00B01-47DA-4291-B718-23FFF7A3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43E41-64E0-473A-B66A-053953EE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E69BA-D7D3-4DFB-9FAA-924DDE08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E7F1E-2B87-48CB-804F-FE569DF9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B16-F512-4FBB-AE5E-AAB50C1C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113-E234-4B8A-BCCE-7F7E7254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FEC-128D-4127-862A-C6E2B71B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CE5-15A1-4D4A-A642-8A138D3C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555-08F8-495C-84D8-33CE2C55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64D4-D18C-4C25-8453-8A778C763BC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E21D-8F69-459E-B50C-83927D4E102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38A0-15CA-4428-A9F6-8660B8A685A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E39E-8F46-4D15-A435-EFA4F1C9118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43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р Булычёв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857760" y="1499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34 – 2003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401760" y="2919240"/>
            <a:ext cx="2927160" cy="75358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1680">
            <a:solidFill>
              <a:srgbClr val="dbdbe9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Биограф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499840" y="1197000"/>
            <a:ext cx="6186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орь Всеволодович Можейко (1934 – 2003), читателям более известный как Кир Булычёв, родился 18 октября 1934 года. Окончил переводческий факультет Института иностранных языков. Всю жизнь работал в отделе Юго-Восточной Азии Института востоковедения РАН. Серьезный ученый, Игорь Можейко, стал одним из любимейших детских авторов конца XX век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-6480" y="4334040"/>
            <a:ext cx="26704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14200" y="642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фантастических произведений публиковались под псевдонимом «Кирилл Булычёв» — псевдоним был скомпонован из имени жены и девичьей фамилии матери писателя. Впоследствии имя «Кирилл» на обложках книг стали писать сокращённо — «Кир.», а потом сократили и точку, так и получился известный сейчас «Кир Булычёв». Встречалось и сочетание Кирилл Всеволодович Булычёв. Своё настоящее имя писатель сохранял в тайне до 1982 года, поскольку полагал, что руководство Института Востоковедения не посчитает фантастику серьёзным занятием, и боялся, что после раскрытия псевдонима будет уволен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2835360" y="4883040"/>
            <a:ext cx="2870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ворчество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Девочка с Земли»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Сто лет тому вперед»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Миллион приключений»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Непоседа»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Пленники астероида»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6066000" y="493560"/>
            <a:ext cx="2449440" cy="4048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3714840" y="57168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3"/>
          <a:stretch/>
        </p:blipFill>
        <p:spPr>
          <a:xfrm>
            <a:off x="500040" y="4929120"/>
            <a:ext cx="895320" cy="1428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4"/>
          <a:stretch/>
        </p:blipFill>
        <p:spPr>
          <a:xfrm>
            <a:off x="1928880" y="4714920"/>
            <a:ext cx="914400" cy="1428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5"/>
          <a:stretch/>
        </p:blipFill>
        <p:spPr>
          <a:xfrm>
            <a:off x="3571920" y="4857840"/>
            <a:ext cx="1057320" cy="1428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6"/>
          <a:stretch/>
        </p:blipFill>
        <p:spPr>
          <a:xfrm>
            <a:off x="5072040" y="4286160"/>
            <a:ext cx="866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0" y="357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фантастические и научно-популярные произведения, детективы, сценарии вошли в собрание его сочинений. Во многих жанрах работал писатель, прокладывая собственную литературную дорогу. По произведениям Кира Булычёва сняты художественные фильмы «Гостья из будущего», «Через тернии к звёздам», «Слёзы капали», «Подземелье ведьм», «Шанс», мультфильмы «Тайна третьей планеты», «Два билета в Индию» и други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438800" y="3846600"/>
            <a:ext cx="42116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0" y="642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с четкой нравственной позицией, Кир Булычёв не давал готовых рецептов, выстраивая такую художественную систему, которая давала право последнего выбора читателя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01760" y="2494080"/>
            <a:ext cx="2549520" cy="6289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5956200" y="3975120"/>
            <a:ext cx="25909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1071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 Булычёв был членом Творческих Советов журналов фантастики «Полдень. XXI век» и «Если». Журнал «Если» был даже спасён Булычёвым в середине 90-х, когда оказался под угрозой финансового крах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341280" y="3597120"/>
            <a:ext cx="2901960" cy="3426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5138640" y="2852640"/>
            <a:ext cx="35845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07:21:47Z</dcterms:created>
  <dc:creator>1</dc:creator>
  <dc:description/>
  <dc:language>en-US</dc:language>
  <cp:lastModifiedBy>Admin</cp:lastModifiedBy>
  <dcterms:modified xsi:type="dcterms:W3CDTF">2012-07-18T08:34:07Z</dcterms:modified>
  <cp:revision>6</cp:revision>
  <dc:subject/>
  <dc:title>Слайд 1</dc:title>
</cp:coreProperties>
</file>