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998-6F52-495A-99AB-DAB3B979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6B4-A07D-4673-B64A-C0CBDBEE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864-48B1-4F1A-956F-115D6DB9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8EA-1822-4C43-8BFE-B87B8601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3472-8C3E-4CC2-A727-661F38E1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5276-55D4-47E1-B129-8EFF09AE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E5D9-6CAF-46CF-9D2E-3C9D7EAF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D1A5-9F23-4AAE-B8CA-0B4AB8D3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1847-E3CD-42CB-A069-A4CEC1AE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CD20-FD1A-45EF-9CA1-0CC5F084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B03B-87C4-4F4B-BDC9-E2D7C8D8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4F9-3F1A-4CB0-9F8B-F331065B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AA64-B78C-4B97-BEB3-33742007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6BF7-BD40-42D2-8F08-5F3A28BC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E9E4-733B-4BF5-8D2B-929224E1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23FD-F37F-4CC3-9642-BC7BB7E9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71BB-EA65-4D0C-B5E1-419CECC1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9FDCE-B49F-4324-8160-5A7E6DF3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635A6-43F7-4068-A64D-863751F5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1572C-FE2A-4C36-AD18-2F4D7B84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F25D1-AE85-4F82-BD2B-ABF39776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B77C5-1778-48DE-8EE3-1BF3DFDA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CC7-22F9-409A-957A-794B25EF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5EB9A-E673-4484-8D8B-A971F2F4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19483-922C-4FDD-87FE-05602483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036AA-F26F-40E9-AE7A-C92C8924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B7430-73A6-4031-BC5E-452B5F35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FCCCC-39CC-442F-B5CF-D3E880F8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EAE60-B29B-4A3B-98AC-585948B9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D2693-D4A0-45E1-9FA2-9E91DB75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FAA6C-882F-4FB3-8832-C606E47F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900A1-9845-443B-818E-082FDAD6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6D64D-8C6A-4C9E-A441-0A20EDB1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8F5-A5E1-40F0-ABB0-F9704590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44F2C-7F48-4EC3-AB5E-B8EE08C5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A82C5-EF29-445C-97B6-7A3E4369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22548-DED5-4C76-BBDE-9402BB06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9B6D1-47A9-4EB4-A9C5-CA3A88CF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67561-DC81-4BF6-A492-87E37D2B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1B7DC-2163-4BB4-8E85-50FC4126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66AE-B8BB-4EAF-8F2D-D0E8D7F7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28DC9-576A-4164-A687-B3A2A6DE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AD482-438F-4AF3-9FB0-39E9BEF4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E9C-00B6-432C-B701-5686663F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6AC-6F3D-4B32-ACE6-D4C0A605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D14-AD57-406E-A78D-2FB31C7F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507-1E9E-4F07-998B-ED04BA21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674-88A5-4126-AD62-D12626E7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53A9-DB46-4DEA-872E-5EFBDF9AF28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EE36-B199-420D-80C6-312ABA31C7A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9D75-B05C-4E73-8ADD-7508F88BF5C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CB45-4889-4C2E-B4EC-ABB8F77A799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43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р Булычёв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857760" y="1499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34 – 2003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401760" y="2919240"/>
            <a:ext cx="2927160" cy="75358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1680">
            <a:solidFill>
              <a:srgbClr val="dbdbe9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Биограф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499840" y="1197000"/>
            <a:ext cx="6186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орь Всеволодович Можейко (1934 – 2003), читателям более известный как Кир Булычёв, родился 18 октября 1934 года. Окончил переводческий факультет Института иностранных языков. Всю жизнь работал в отделе Юго-Восточной Азии Института востоковедения РАН. Серьезный ученый, Игорь Можейко, стал одним из любимейших детских авторов конца XX век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-6480" y="4334040"/>
            <a:ext cx="26704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14200" y="642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фантастических произведений публиковались под псевдонимом «Кирилл Булычёв» — псевдоним был скомпонован из имени жены и девичьей фамилии матери писателя. Впоследствии имя «Кирилл» на обложках книг стали писать сокращённо — «Кир.», а потом сократили и точку, так и получился известный сейчас «Кир Булычёв». Встречалось и сочетание Кирилл Всеволодович Булычёв. Своё настоящее имя писатель сохранял в тайне до 1982 года, поскольку полагал, что руководство Института Востоковедения не посчитает фантастику серьёзным занятием, и боялся, что после раскрытия псевдонима будет уволен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2835360" y="4883040"/>
            <a:ext cx="2870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ворчество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Девочка с Земли»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Сто лет тому вперед»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Миллион приключений»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Непоседа»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Пленники астероида»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6066000" y="493560"/>
            <a:ext cx="2449440" cy="4048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3714840" y="57168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3"/>
          <a:stretch/>
        </p:blipFill>
        <p:spPr>
          <a:xfrm>
            <a:off x="500040" y="4929120"/>
            <a:ext cx="895320" cy="1428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4"/>
          <a:stretch/>
        </p:blipFill>
        <p:spPr>
          <a:xfrm>
            <a:off x="1928880" y="4714920"/>
            <a:ext cx="914400" cy="1428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5"/>
          <a:stretch/>
        </p:blipFill>
        <p:spPr>
          <a:xfrm>
            <a:off x="3571920" y="4857840"/>
            <a:ext cx="1057320" cy="1428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6"/>
          <a:stretch/>
        </p:blipFill>
        <p:spPr>
          <a:xfrm>
            <a:off x="5072040" y="4286160"/>
            <a:ext cx="866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0" y="357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фантастические и научно-популярные произведения, детективы, сценарии вошли в собрание его сочинений. Во многих жанрах работал писатель, прокладывая собственную литературную дорогу. По произведениям Кира Булычёва сняты художественные фильмы «Гостья из будущего», «Через тернии к звёздам», «Слёзы капали», «Подземелье ведьм», «Шанс», мультфильмы «Тайна третьей планеты», «Два билета в Индию» и други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438800" y="3846600"/>
            <a:ext cx="42116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0" y="642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с четкой нравственной позицией, Кир Булычёв не давал готовых рецептов, выстраивая такую художественную систему, которая давала право последнего выбора читателя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01760" y="2494080"/>
            <a:ext cx="2549520" cy="6289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5956200" y="3975120"/>
            <a:ext cx="25909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10717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 Булычёв был членом Творческих Советов журналов фантастики «Полдень. XXI век» и «Если». Журнал «Если» был даже спасён Булычёвым в середине 90-х, когда оказался под угрозой финансового крах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341280" y="3597120"/>
            <a:ext cx="2901960" cy="3426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5138640" y="2852640"/>
            <a:ext cx="35845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07:21:47Z</dcterms:created>
  <dc:creator>1</dc:creator>
  <dc:description/>
  <dc:language>en-US</dc:language>
  <cp:lastModifiedBy>Admin</cp:lastModifiedBy>
  <dcterms:modified xsi:type="dcterms:W3CDTF">2012-07-18T08:34:07Z</dcterms:modified>
  <cp:revision>6</cp:revision>
  <dc:subject/>
  <dc:title>Слайд 1</dc:title>
</cp:coreProperties>
</file>