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0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A51C5-4EA8-4F7D-BC50-B29EF3C66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64952-0652-44F8-B33B-0ACEA23B1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6E481-4191-4BBF-A1A1-178278F08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52BE0-FFB0-496D-B365-31A67D6A7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4EE54-A0CE-4E99-A12F-2B3BAABDB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E2438-4CCA-4BAF-9CD1-9E2181BF8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431E5-37D4-4211-8CB7-FDF2B0BA9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6C3F4-0215-4429-A584-E164A404A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B0A17-0919-4473-83DD-DC5E5D251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6F34D-1AD1-438F-89CC-7DCE2F663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BDDEF-6348-4C1B-BA55-3001DBD7F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5AA10-F505-442F-B2BC-FAFDFBB31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AEBFD-C8ED-4D24-8858-A3E6CBC63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D6642-DFE4-4EA7-A32B-32D18C150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5512C-93CA-4E91-860A-714A345D2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17907-14A3-42C1-B423-A66A56B18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83C83-4FB3-44F4-9FFA-A654AE02C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5E6729E-EB2F-493F-BB21-A3278DC7B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4AB6E2A-E73D-4D27-9148-BB3E754C2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943A33-7DDB-4624-9842-9D2A3A1F7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5D4EC2F-8F60-4F6D-945A-1A1E1A714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286BB38-172C-41C8-A6AD-0E4743172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F4C8F-C050-47E8-88FF-1B2F64465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CE3A231-A12C-4AA2-9798-0D8720AC2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A17C13F-E446-4F70-898B-FCC706730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8DA6695-2BB0-4BA2-A573-20D97AA6D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ACAE635-BA13-48BB-A63F-9BAC1DB8C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C317B48-62F0-47EA-96FC-B9E80EF7B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B491BFF-BC6D-4F27-8292-91ACD119C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8205767-F851-406D-AF06-B356DE2B3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90C6BE-1E2E-402C-95E8-FFDF45C5B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0837D6-E3F2-4EAD-8280-F9EE95D0B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5B7639-2E49-4FA8-ACB9-6DF424887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5EDDB-A683-4049-A393-44CA66EDF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F41B61-3F5F-4F56-A312-16D550D45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4DD595-E7E1-436E-9FB1-B747D1D09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A137BF-2BF0-4975-89EE-FC60B3733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6639AA-DC12-48F5-A2DA-872D0E1A3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B831BA-381E-4487-9276-75686C198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DC9787-3219-4F6F-A218-CC20BA0D0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4BDF66-B63E-46AF-ACD4-E9F473B53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D27721-5881-4D1E-B390-90ED3D3C7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7D4967-DA85-4C2A-8C43-46E77ABB5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85506-C826-4787-BB7D-19A252C54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FE2EB-E7F8-4FA7-A719-3BFDBB787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65D75-5BD2-4CF5-83FC-CFE0FD85C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32CAF-D5AE-4C79-B5C5-A7E349EB6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4684F-90BC-4AC8-87FE-1976B0295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8906D-F38A-494B-AC6B-7263BD179FB4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Прямоугольник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оугольник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рямоугольник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оугольник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оугольник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Скругленный прямоугольник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Скругленный прямоугольник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оугольник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Прямоугольник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рямоугольник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Прямоугольник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A5CD2-C99E-4219-86B6-4885B08CC66A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C2CC8-DBEE-45FD-8E14-8C39415F937C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03D98-AD87-4383-9B01-386780D4EAC4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prezentacii.com/" TargetMode="External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1430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ир Булычёв</a:t>
            </a:r>
            <a:endParaRPr b="0" lang="en-US" sz="72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3857760" y="149976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934 – 2003)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29" name="Picture 2" descr=""/>
          <p:cNvPicPr/>
          <p:nvPr/>
        </p:nvPicPr>
        <p:blipFill>
          <a:blip r:embed="rId1"/>
          <a:stretch/>
        </p:blipFill>
        <p:spPr>
          <a:xfrm>
            <a:off x="401760" y="2919240"/>
            <a:ext cx="2927160" cy="7535880"/>
          </a:xfrm>
          <a:prstGeom prst="rect">
            <a:avLst/>
          </a:prstGeom>
          <a:ln w="0">
            <a:noFill/>
          </a:ln>
        </p:spPr>
      </p:pic>
      <p:sp>
        <p:nvSpPr>
          <p:cNvPr id="230" name="Прямоугольник 4"/>
          <p:cNvSpPr/>
          <p:nvPr/>
        </p:nvSpPr>
        <p:spPr>
          <a:xfrm>
            <a:off x="3786120" y="0"/>
            <a:ext cx="2214720" cy="428760"/>
          </a:xfrm>
          <a:prstGeom prst="rect">
            <a:avLst/>
          </a:prstGeom>
          <a:solidFill>
            <a:srgbClr val="bfbfbf"/>
          </a:solidFill>
          <a:ln w="31680">
            <a:solidFill>
              <a:srgbClr val="dbdbe9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7afbd"/>
                </a:solidFill>
                <a:uFillTx/>
                <a:latin typeface="Times New Roman"/>
                <a:hlinkClick r:id="rId2"/>
              </a:rPr>
              <a:t>Prezentacii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142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Биография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2499840" y="1197000"/>
            <a:ext cx="6186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орь Всеволодович Можейко (1934 – 2003), читателям более известный как Кир Булычёв, родился 18 октября 1934 года. Окончил переводческий факультет Института иностранных языков. Всю жизнь работал в отделе Юго-Восточной Азии Института востоковедения РАН. Серьезный ученый, Игорь Можейко, стал одним из любимейших детских авторов конца XX века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33" name="Picture 2" descr=""/>
          <p:cNvPicPr/>
          <p:nvPr/>
        </p:nvPicPr>
        <p:blipFill>
          <a:blip r:embed="rId1"/>
          <a:stretch/>
        </p:blipFill>
        <p:spPr>
          <a:xfrm>
            <a:off x="-6480" y="4334040"/>
            <a:ext cx="2670480" cy="25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214200" y="64296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ьшинство фантастических произведений публиковались под псевдонимом «Кирилл Булычёв» — псевдоним был скомпонован из имени жены и девичьей фамилии матери писателя. Впоследствии имя «Кирилл» на обложках книг стали писать сокращённо — «Кир.», а потом сократили и точку, так и получился известный сейчас «Кир Булычёв». Встречалось и сочетание Кирилл Всеволодович Булычёв. Своё настоящее имя писатель сохранял в тайне до 1982 года, поскольку полагал, что руководство Института Востоковедения не посчитает фантастику серьёзным занятием, и боялся, что после раскрытия псевдонима будет уволен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35" name="Picture 2" descr=""/>
          <p:cNvPicPr/>
          <p:nvPr/>
        </p:nvPicPr>
        <p:blipFill>
          <a:blip r:embed="rId1"/>
          <a:stretch/>
        </p:blipFill>
        <p:spPr>
          <a:xfrm>
            <a:off x="2835360" y="4883040"/>
            <a:ext cx="2870280" cy="19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Творчество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«Девочка с Земли»,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«Сто лет тому вперед»,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«Миллион приключений»,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«Непоседа»,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«Пленники астероида»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38" name="Picture 3" descr=""/>
          <p:cNvPicPr/>
          <p:nvPr/>
        </p:nvPicPr>
        <p:blipFill>
          <a:blip r:embed="rId1"/>
          <a:stretch/>
        </p:blipFill>
        <p:spPr>
          <a:xfrm>
            <a:off x="6066000" y="493560"/>
            <a:ext cx="2449440" cy="404820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2" descr=""/>
          <p:cNvPicPr/>
          <p:nvPr/>
        </p:nvPicPr>
        <p:blipFill>
          <a:blip r:embed="rId2"/>
          <a:stretch/>
        </p:blipFill>
        <p:spPr>
          <a:xfrm>
            <a:off x="3714840" y="571680"/>
            <a:ext cx="1428840" cy="142848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3" descr=""/>
          <p:cNvPicPr/>
          <p:nvPr/>
        </p:nvPicPr>
        <p:blipFill>
          <a:blip r:embed="rId3"/>
          <a:stretch/>
        </p:blipFill>
        <p:spPr>
          <a:xfrm>
            <a:off x="500040" y="4929120"/>
            <a:ext cx="895320" cy="142884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4" descr=""/>
          <p:cNvPicPr/>
          <p:nvPr/>
        </p:nvPicPr>
        <p:blipFill>
          <a:blip r:embed="rId4"/>
          <a:stretch/>
        </p:blipFill>
        <p:spPr>
          <a:xfrm>
            <a:off x="1928880" y="4714920"/>
            <a:ext cx="914400" cy="142884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5" descr=""/>
          <p:cNvPicPr/>
          <p:nvPr/>
        </p:nvPicPr>
        <p:blipFill>
          <a:blip r:embed="rId5"/>
          <a:stretch/>
        </p:blipFill>
        <p:spPr>
          <a:xfrm>
            <a:off x="3571920" y="4857840"/>
            <a:ext cx="1057320" cy="142884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6" descr=""/>
          <p:cNvPicPr/>
          <p:nvPr/>
        </p:nvPicPr>
        <p:blipFill>
          <a:blip r:embed="rId6"/>
          <a:stretch/>
        </p:blipFill>
        <p:spPr>
          <a:xfrm>
            <a:off x="5072040" y="4286160"/>
            <a:ext cx="86688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 txBox="1"/>
          <p:nvPr/>
        </p:nvSpPr>
        <p:spPr>
          <a:xfrm>
            <a:off x="0" y="35712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учно-фантастические и научно-популярные произведения, детективы, сценарии вошли в собрание его сочинений. Во многих жанрах работал писатель, прокладывая собственную литературную дорогу. По произведениям Кира Булычёва сняты художественные фильмы «Гостья из будущего», «Через тернии к звёздам», «Слёзы капали», «Подземелье ведьм», «Шанс», мультфильмы «Тайна третьей планеты», «Два билета в Индию» и другие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45" name="Picture 2" descr=""/>
          <p:cNvPicPr/>
          <p:nvPr/>
        </p:nvPicPr>
        <p:blipFill>
          <a:blip r:embed="rId1"/>
          <a:stretch/>
        </p:blipFill>
        <p:spPr>
          <a:xfrm>
            <a:off x="4438800" y="3846600"/>
            <a:ext cx="4211640" cy="27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 txBox="1"/>
          <p:nvPr/>
        </p:nvSpPr>
        <p:spPr>
          <a:xfrm>
            <a:off x="0" y="64296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сатель с четкой нравственной позицией, Кир Булычёв не давал готовых рецептов, выстраивая такую художественную систему, которая давала право последнего выбора читателям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47" name="Picture 2" descr=""/>
          <p:cNvPicPr/>
          <p:nvPr/>
        </p:nvPicPr>
        <p:blipFill>
          <a:blip r:embed="rId1"/>
          <a:stretch/>
        </p:blipFill>
        <p:spPr>
          <a:xfrm>
            <a:off x="401760" y="2494080"/>
            <a:ext cx="2549520" cy="628956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3" descr=""/>
          <p:cNvPicPr/>
          <p:nvPr/>
        </p:nvPicPr>
        <p:blipFill>
          <a:blip r:embed="rId2"/>
          <a:stretch/>
        </p:blipFill>
        <p:spPr>
          <a:xfrm>
            <a:off x="5956200" y="3975120"/>
            <a:ext cx="2590920" cy="24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0" y="107172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р Булычёв был членом Творческих Советов журналов фантастики «Полдень. XXI век» и «Если». Журнал «Если» был даже спасён Булычёвым в середине 90-х, когда оказался под угрозой финансового краха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50" name="Picture 3" descr=""/>
          <p:cNvPicPr/>
          <p:nvPr/>
        </p:nvPicPr>
        <p:blipFill>
          <a:blip r:embed="rId1"/>
          <a:stretch/>
        </p:blipFill>
        <p:spPr>
          <a:xfrm>
            <a:off x="341280" y="3597120"/>
            <a:ext cx="2901960" cy="342612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4" descr=""/>
          <p:cNvPicPr/>
          <p:nvPr/>
        </p:nvPicPr>
        <p:blipFill>
          <a:blip r:embed="rId2"/>
          <a:stretch/>
        </p:blipFill>
        <p:spPr>
          <a:xfrm>
            <a:off x="5138640" y="2852640"/>
            <a:ext cx="3584520" cy="35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4T07:21:47Z</dcterms:created>
  <dc:creator>1</dc:creator>
  <dc:description/>
  <dc:language>en-US</dc:language>
  <cp:lastModifiedBy>Admin</cp:lastModifiedBy>
  <dcterms:modified xsi:type="dcterms:W3CDTF">2012-07-18T08:34:07Z</dcterms:modified>
  <cp:revision>6</cp:revision>
  <dc:subject/>
  <dc:title>Слайд 1</dc:title>
</cp:coreProperties>
</file>