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0A1C-E4A9-4C1A-9350-FDEC735B5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C84B-A276-42EF-B0FC-AEFBD57D5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9A38-2963-4AF9-9B17-804F65ECBE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4DEB-FCD8-49C0-A6D7-F7EE6FCA8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9916-19DA-477C-ACA5-BBBD805503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39E-BC3E-4A83-9246-986B5E87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552-9433-4EB0-8BFB-E27B16A5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662-5305-4BC1-A3E9-FA1291CB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834-5A0E-46FB-AF6E-966B9257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EEF3-CAAB-4A3A-8FDB-B5DE8BC7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FFB3-C452-4084-AAC7-A1FC8398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4950-B29C-468C-B75E-1517116F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B1C2-FDD2-4CE7-A3F7-B5412391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56A4-B392-40C3-9606-089F938B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A9E4-E448-4FEB-8416-6F54BA4C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BF2A-16D7-40AF-B43E-E3A0BC7C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C4B-A33F-4DDE-B7E5-4A08D744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DBAD-D0A5-48C5-9F54-DC34D147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CBB2-45AD-4E0B-A672-64EEB178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3C32-5B87-4886-88C3-476202AE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D9F9-3BAF-4F3D-B088-611F3C0F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EC06-3215-4CEA-BFC0-03D0CA34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18B4-AD01-4CA4-916C-E7800CD1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12FA-AF0B-45E4-9E15-6182F533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13C2-4967-4626-A459-26F66A76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7929-A25D-44E3-B4A9-C1AF6887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C086C-5171-4A58-A970-DF6F3059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D64-9EBB-4718-8618-392CC363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8BFC-269A-495D-B30A-04D877FB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C430-0CBB-48EA-BA6C-FD140F39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8A75-92AC-4A77-A24D-2D741ED3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72AE-9167-4DEF-9892-3746B54A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CA97-A9F0-4E58-B8AF-82CFCC31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96E94-53A3-4988-A652-9EDAFFD1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8FB3-26BC-453D-82F5-36EF782D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178-CD7E-495F-B751-7ADEF41F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83D-4FC3-4827-96C2-94B18077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EC2-501C-4DF7-A7DB-DCE3F8EF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D05-4D11-4557-BFED-DC1FB196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AD8-0E76-46E8-AAD0-1E1B2FB3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2AF-ECA4-463F-81A2-0A4E1A47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F064-04A3-407C-9F1C-D63E6FA4C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94C7-701E-4E60-B32C-50E91E08ECE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012-924A-4E0F-A00A-2194BA35B27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еографическая оболочка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4" descr="Альбатросы"/>
          <p:cNvPicPr/>
          <p:nvPr/>
        </p:nvPicPr>
        <p:blipFill>
          <a:blip r:embed="rId1"/>
          <a:stretch/>
        </p:blipFill>
        <p:spPr>
          <a:xfrm>
            <a:off x="4427640" y="1916280"/>
            <a:ext cx="4716360" cy="453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Красная белка"/>
          <p:cNvPicPr/>
          <p:nvPr/>
        </p:nvPicPr>
        <p:blipFill>
          <a:blip r:embed="rId2"/>
          <a:stretch/>
        </p:blipFill>
        <p:spPr>
          <a:xfrm>
            <a:off x="0" y="1916280"/>
            <a:ext cx="4356000" cy="4537080"/>
          </a:xfrm>
          <a:prstGeom prst="rect">
            <a:avLst/>
          </a:prstGeom>
          <a:ln w="0">
            <a:noFill/>
          </a:ln>
        </p:spPr>
      </p:pic>
      <p:sp>
        <p:nvSpPr>
          <p:cNvPr id="165" name="Рамка 4"/>
          <p:cNvSpPr/>
          <p:nvPr/>
        </p:nvSpPr>
        <p:spPr>
          <a:xfrm>
            <a:off x="3571920" y="6429240"/>
            <a:ext cx="2786040" cy="428760"/>
          </a:xfrm>
          <a:prstGeom prst="pie">
            <a:avLst/>
          </a:prstGeom>
          <a:solidFill>
            <a:srgbClr val="eaeaea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ГО повсюду живут организмы, зеленые растения усваивают солнечную энергию, образуют органические вещества из неорганически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7" descr="Картинка 14 из 19864"/>
          <p:cNvPicPr/>
          <p:nvPr/>
        </p:nvPicPr>
        <p:blipFill>
          <a:blip r:embed="rId1"/>
          <a:stretch/>
        </p:blipFill>
        <p:spPr>
          <a:xfrm>
            <a:off x="4643280" y="1557360"/>
            <a:ext cx="4229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840" y="57168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(от греч. «сфера жизни») – оболочка Земли, которая населена живыми организмами и преобразуется ими. Впервые в науке термин «биосфера» появился в 1875 г. благодаря австрийскому учёному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Эдуарду Зюссу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(1831-1914). </a:t>
            </a:r>
            <a:br>
              <a:rPr sz="28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2" descr="G:\Элктронные учебники\Geo6-10\RES\Class6\Биосфера Земли.jpg"/>
          <p:cNvPicPr/>
          <p:nvPr/>
        </p:nvPicPr>
        <p:blipFill>
          <a:blip r:embed="rId1"/>
          <a:stretch/>
        </p:blipFill>
        <p:spPr>
          <a:xfrm>
            <a:off x="857160" y="2071800"/>
            <a:ext cx="664380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ладимир Иванович Вернадски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20-е гг. ХХ века выдающийся русский учёный, академик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ладимир Иванович Вернад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1853-1945) разработал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«Учение о биосфере»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– оболочке Земли, населённой живыми организмами. В.И. Вернадский распространил понятие биосферы не только на организмы, но и на среду обит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Содержимое 6" descr="untitled9.bmp"/>
          <p:cNvPicPr/>
          <p:nvPr/>
        </p:nvPicPr>
        <p:blipFill>
          <a:blip r:embed="rId1"/>
          <a:stretch/>
        </p:blipFill>
        <p:spPr>
          <a:xfrm>
            <a:off x="4875120" y="1484280"/>
            <a:ext cx="37404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000400" y="1285560"/>
            <a:ext cx="41432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Биосферу составляет живое вещество планеты, представленное: </a:t>
            </a:r>
            <a:r>
              <a:rPr b="1" i="1" lang="ru-RU" sz="2800" spc="-1" strike="noStrike">
                <a:solidFill>
                  <a:srgbClr val="4c376b"/>
                </a:solidFill>
                <a:latin typeface="Verdana"/>
              </a:rPr>
              <a:t>микроорганизмами, растениями, животными и человеко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6" name="Содержимое 4" descr="untitled10.bmp"/>
          <p:cNvPicPr/>
          <p:nvPr/>
        </p:nvPicPr>
        <p:blipFill>
          <a:blip r:embed="rId1"/>
          <a:stretch/>
        </p:blipFill>
        <p:spPr>
          <a:xfrm>
            <a:off x="500040" y="1285920"/>
            <a:ext cx="4530600" cy="392904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4" descr="untitled11.bmp"/>
          <p:cNvPicPr/>
          <p:nvPr/>
        </p:nvPicPr>
        <p:blipFill>
          <a:blip r:embed="rId2"/>
          <a:stretch/>
        </p:blipFill>
        <p:spPr>
          <a:xfrm>
            <a:off x="428760" y="1000080"/>
            <a:ext cx="4572000" cy="435780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5" descr="untitled12.bmp"/>
          <p:cNvPicPr/>
          <p:nvPr/>
        </p:nvPicPr>
        <p:blipFill>
          <a:blip r:embed="rId3"/>
          <a:stretch/>
        </p:blipFill>
        <p:spPr>
          <a:xfrm>
            <a:off x="357120" y="1000080"/>
            <a:ext cx="4714920" cy="41436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928800" y="5715000"/>
            <a:ext cx="27144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кроорганиз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ст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Содержимое 4" descr="untitled13.bmp"/>
          <p:cNvPicPr/>
          <p:nvPr/>
        </p:nvPicPr>
        <p:blipFill>
          <a:blip r:embed="rId4"/>
          <a:stretch/>
        </p:blipFill>
        <p:spPr>
          <a:xfrm>
            <a:off x="357120" y="285840"/>
            <a:ext cx="4714920" cy="61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28400" y="642600"/>
            <a:ext cx="84294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изнь на Земле зародилась более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3 миллиардов лет наза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водоёма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выми организмами считаются сине-зелёные водоросл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мерно 400 миллионов лет назад жизнь из воды распространилась на сушу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дни формы жизни дожили до сегодняшних дней. Такие виды называют реликтовы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Релик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(от лат. «остатки») – виды животных и растений, сохранившиеся от широко распространённых в прошлом, а в настоящее время исчезнувших фаун и флор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иологический круговорот веществ на суш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4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00000" y="155736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руговорот воды обеспечивает взаимодействие Мирового океана с атмосферой. Атмосфера защищает воды Мирового океана от сильного испарения и принимает испаряющуюся с поверхности Мирового океана влагу. Морские воздушные  массы переносят тепло и влагу с океана на сушу. На побережьях океанов, где происходит постоянный  перенос  морской  воздушной массы на сушу, формируется океанический (морской) клима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За всю историю жизни на Земле в биосфере существовало около полумиллиарда видов! Сегодня учёные-биологи насчитывают на планете порядка 2 миллионов видов живых существ. Формирование биосферы продолжается и сейчас. </a:t>
            </a:r>
            <a:br>
              <a:rPr sz="2500"/>
            </a:br>
            <a:br>
              <a:rPr sz="3600"/>
            </a:b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Содержимое 5" descr="untitled14.bmp"/>
          <p:cNvPicPr/>
          <p:nvPr/>
        </p:nvPicPr>
        <p:blipFill>
          <a:blip r:embed="rId1"/>
          <a:stretch/>
        </p:blipFill>
        <p:spPr>
          <a:xfrm>
            <a:off x="214200" y="228600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200" name="Содержимое 7" descr="untitled15.bmp"/>
          <p:cNvPicPr/>
          <p:nvPr/>
        </p:nvPicPr>
        <p:blipFill>
          <a:blip r:embed="rId2"/>
          <a:stretch/>
        </p:blipFill>
        <p:spPr>
          <a:xfrm>
            <a:off x="5072040" y="2071800"/>
            <a:ext cx="3143160" cy="38098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285840" y="5500800"/>
            <a:ext cx="392904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не-зелёные водоросли дожили до сегодняшнего д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286160" y="6000840"/>
            <a:ext cx="457200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аконово дерево с Канарских островов – реликт прошлых эпо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,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7" descr="Картинка 3 из 2200"/>
          <p:cNvPicPr/>
          <p:nvPr/>
        </p:nvPicPr>
        <p:blipFill>
          <a:blip r:embed="rId1"/>
          <a:stretch/>
        </p:blipFill>
        <p:spPr>
          <a:xfrm>
            <a:off x="4716360" y="476280"/>
            <a:ext cx="4273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400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заимодействие биосферы с другими оболочками Земли 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785960"/>
            <a:ext cx="42098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иосфера связана с атмосферой круговоротом газ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Содержимое 4" descr="untitled16.bmp"/>
          <p:cNvPicPr/>
          <p:nvPr/>
        </p:nvPicPr>
        <p:blipFill>
          <a:blip r:embed="rId1"/>
          <a:stretch/>
        </p:blipFill>
        <p:spPr>
          <a:xfrm>
            <a:off x="1071720" y="2162160"/>
            <a:ext cx="2000160" cy="3154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142920" y="5929200"/>
            <a:ext cx="3643200" cy="7333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парение с листьев растений обогащае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тмосферу вла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4643280" y="1785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моочи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Содержимое 5" descr="untitled18.bmp"/>
          <p:cNvPicPr/>
          <p:nvPr/>
        </p:nvPicPr>
        <p:blipFill>
          <a:blip r:embed="rId2"/>
          <a:stretch/>
        </p:blipFill>
        <p:spPr>
          <a:xfrm>
            <a:off x="4429080" y="2857680"/>
            <a:ext cx="4038480" cy="2662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истально чистая байкальская в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Содержимое 4" descr="untitled17.bmp"/>
          <p:cNvPicPr/>
          <p:nvPr/>
        </p:nvPicPr>
        <p:blipFill>
          <a:blip r:embed="rId3"/>
          <a:stretch/>
        </p:blipFill>
        <p:spPr>
          <a:xfrm>
            <a:off x="4429080" y="2786040"/>
            <a:ext cx="4038480" cy="28558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0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 раб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чка-эпиш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Верхний слой земной коры (части литосферы) создаётся при активном участии живых организмов. Окаменелые растения или останки животных участвуют как в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формировании горных пород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, так и в их разрушении –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органическом выветривании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Содержимое 8" descr="untitled19.bmp"/>
          <p:cNvPicPr/>
          <p:nvPr/>
        </p:nvPicPr>
        <p:blipFill>
          <a:blip r:embed="rId1"/>
          <a:stretch/>
        </p:blipFill>
        <p:spPr>
          <a:xfrm>
            <a:off x="857160" y="2013120"/>
            <a:ext cx="2714760" cy="282708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9" descr="untitled20.bmp"/>
          <p:cNvPicPr/>
          <p:nvPr/>
        </p:nvPicPr>
        <p:blipFill>
          <a:blip r:embed="rId2"/>
          <a:stretch/>
        </p:blipFill>
        <p:spPr>
          <a:xfrm>
            <a:off x="4714920" y="2928960"/>
            <a:ext cx="4167000" cy="23572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0"/>
          <p:cNvSpPr/>
          <p:nvPr/>
        </p:nvSpPr>
        <p:spPr>
          <a:xfrm>
            <a:off x="214200" y="5500800"/>
            <a:ext cx="4000680" cy="1159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Янтарь – горная порода, образованна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из вещества биосферы: это окаменевшая смола древних хвойных деревьев,иногда в ней присутствую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«останки» живот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4857840" y="5715000"/>
            <a:ext cx="392904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рганическое выветри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5" descr="Картинка 3 из 1149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дяной пар конденсируется в верхних слоях воздуха и выпадает на землю в виде снег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11" descr="3105981_large"/>
          <p:cNvPicPr/>
          <p:nvPr/>
        </p:nvPicPr>
        <p:blipFill>
          <a:blip r:embed="rId1"/>
          <a:stretch/>
        </p:blipFill>
        <p:spPr>
          <a:xfrm>
            <a:off x="324000" y="1620720"/>
            <a:ext cx="84247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5" descr="Картинка 2 из 2200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7840" y="461520"/>
            <a:ext cx="7853400" cy="668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войства 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ажнейшими свойствами ГО являются - наличие жизни, целостность оболочки и наличие в ГО вещества  в  трех состояниях (жидком, твердом и газообразном). Характерная черта развития ГО - ритмичность. Это периодичность и повторяемость одних и тех же процессов и явлений во времен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руговорот веществ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земной коре тоже происходит круговорот вещества. Важнейшую роль в жизни ГО играет биологический  круговоро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33:58Z</dcterms:created>
  <dc:creator>1</dc:creator>
  <dc:description/>
  <dc:language>en-US</dc:language>
  <cp:lastModifiedBy>Admin</cp:lastModifiedBy>
  <dcterms:modified xsi:type="dcterms:W3CDTF">2012-05-12T12:10:13Z</dcterms:modified>
  <cp:revision>12</cp:revision>
  <dc:subject/>
  <dc:title>Географическая оболочка -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