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5E8A-F7F9-4084-BEC4-6C08085AC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CFCD-C78B-4820-929A-58AE37D02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C15F-BB38-49A3-8ED0-E5C9F616CA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D9EB-BE26-4187-8E18-36DE8169F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1176-C66C-490E-ADE7-104464A387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558-90A8-4FC7-9086-C1033BFF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C6F-21DE-4E5E-8808-E597E1C8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E1C-172D-498B-A365-1FE9BC43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08D-F17B-4C4E-8228-735523D1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ED0D-EB0F-4201-B53B-6DB68800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27DC-F1D5-418D-9CB7-60D53B9A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379E-12AD-4A2B-8526-FE725DFC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5228-BEE8-4761-8A33-DA514A93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55FA-6FB5-473B-90C6-9882F1B4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0FDA-37E1-40FE-A821-A0462E2E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5EE2-1572-4992-B981-3018EB71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D5B-9245-42D9-A6D8-62FFFDEC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8C45-721E-44F1-B531-5E779DD8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8D9F-8E2E-42B4-B29F-23369317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ED10-E901-49CD-B411-51DA09C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6F64-1987-446A-B910-00C55ECB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1693-EFDE-4F60-A6E6-1A7407BE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CECA-0C91-48DE-AFF3-6EB31C3D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6E77-249B-4D0B-BBD7-95579959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38DC-FB1E-48DB-9318-4A7E0240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A155-ECEA-4EFD-BEC0-5C7AC88A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33E5-6F55-41EE-813A-71B88D53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116-A3AD-4CB9-8F2B-08103C6F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0F39F-F810-4B90-83F5-250CB76F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EE86-F8B0-4872-A295-D674C62D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8712-A826-417C-9CDC-FA856E4F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B75D-C4BF-490E-B534-DBD1B44D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F146-A54C-4075-8735-D464BBCB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45A7-D138-4DB4-A0C6-7E23468B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F90C-BD0B-49E6-B7E2-2674EE5F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BB3-53BC-41FD-991A-B66FCB29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33C-8FF9-4792-8DB3-B0F0E562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641-CC08-49B4-924F-FA28120C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3D8-8A03-44A6-8A0A-BAAE1EC2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C1C-B8DF-4756-A7EB-AC08FD6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201-A418-42A6-9085-6D7D7C28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DF90-2AAF-4608-B40C-D9C6DE5E0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1E73-FB45-42EE-8FB2-8D78C0245F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D8D8-DD51-4EEE-A2BC-6BBA5372E99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еографическая оболочка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4" descr="Альбатросы"/>
          <p:cNvPicPr/>
          <p:nvPr/>
        </p:nvPicPr>
        <p:blipFill>
          <a:blip r:embed="rId1"/>
          <a:stretch/>
        </p:blipFill>
        <p:spPr>
          <a:xfrm>
            <a:off x="4427640" y="1916280"/>
            <a:ext cx="4716360" cy="453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Красная белка"/>
          <p:cNvPicPr/>
          <p:nvPr/>
        </p:nvPicPr>
        <p:blipFill>
          <a:blip r:embed="rId2"/>
          <a:stretch/>
        </p:blipFill>
        <p:spPr>
          <a:xfrm>
            <a:off x="0" y="1916280"/>
            <a:ext cx="4356000" cy="4537080"/>
          </a:xfrm>
          <a:prstGeom prst="rect">
            <a:avLst/>
          </a:prstGeom>
          <a:ln w="0">
            <a:noFill/>
          </a:ln>
        </p:spPr>
      </p:pic>
      <p:sp>
        <p:nvSpPr>
          <p:cNvPr id="165" name="Рамка 4"/>
          <p:cNvSpPr/>
          <p:nvPr/>
        </p:nvSpPr>
        <p:spPr>
          <a:xfrm>
            <a:off x="3571920" y="6429240"/>
            <a:ext cx="2786040" cy="428760"/>
          </a:xfrm>
          <a:prstGeom prst="pie">
            <a:avLst/>
          </a:prstGeom>
          <a:solidFill>
            <a:srgbClr val="eaeaea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ГО повсюду живут организмы, зеленые растения усваивают солнечную энергию, образуют органические вещества из неорганически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7" descr="Картинка 14 из 19864"/>
          <p:cNvPicPr/>
          <p:nvPr/>
        </p:nvPicPr>
        <p:blipFill>
          <a:blip r:embed="rId1"/>
          <a:stretch/>
        </p:blipFill>
        <p:spPr>
          <a:xfrm>
            <a:off x="4643280" y="1557360"/>
            <a:ext cx="4229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840" y="57168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(от греч. «сфера жизни») – оболочка Земли, которая населена живыми организмами и преобразуется ими. Впервые в науке термин «биосфера» появился в 1875 г. благодаря австрийскому учёному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Эдуарду Зюссу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(1831-1914). </a:t>
            </a:r>
            <a:br>
              <a:rPr sz="28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2" descr="G:\Элктронные учебники\Geo6-10\RES\Class6\Биосфера Земли.jpg"/>
          <p:cNvPicPr/>
          <p:nvPr/>
        </p:nvPicPr>
        <p:blipFill>
          <a:blip r:embed="rId1"/>
          <a:stretch/>
        </p:blipFill>
        <p:spPr>
          <a:xfrm>
            <a:off x="857160" y="2071800"/>
            <a:ext cx="664380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ладимир Иванович Вернадски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20-е гг. ХХ века выдающийся русский учёный, академик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ладимир Иванович Вернад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1853-1945) разработал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«Учение о биосфере»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– оболочке Земли, населённой живыми организмами. В.И. Вернадский распространил понятие биосферы не только на организмы, но и на среду обит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Содержимое 6" descr="untitled9.bmp"/>
          <p:cNvPicPr/>
          <p:nvPr/>
        </p:nvPicPr>
        <p:blipFill>
          <a:blip r:embed="rId1"/>
          <a:stretch/>
        </p:blipFill>
        <p:spPr>
          <a:xfrm>
            <a:off x="4875120" y="1484280"/>
            <a:ext cx="37404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000400" y="1285560"/>
            <a:ext cx="41432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Биосферу составляет живое вещество планеты, представленное: </a:t>
            </a:r>
            <a:r>
              <a:rPr b="1" i="1" lang="ru-RU" sz="2800" spc="-1" strike="noStrike">
                <a:solidFill>
                  <a:srgbClr val="4c376b"/>
                </a:solidFill>
                <a:latin typeface="Verdana"/>
              </a:rPr>
              <a:t>микроорганизмами, растениями, животными и человеко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6" name="Содержимое 4" descr="untitled10.bmp"/>
          <p:cNvPicPr/>
          <p:nvPr/>
        </p:nvPicPr>
        <p:blipFill>
          <a:blip r:embed="rId1"/>
          <a:stretch/>
        </p:blipFill>
        <p:spPr>
          <a:xfrm>
            <a:off x="500040" y="1285920"/>
            <a:ext cx="4530600" cy="392904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4" descr="untitled11.bmp"/>
          <p:cNvPicPr/>
          <p:nvPr/>
        </p:nvPicPr>
        <p:blipFill>
          <a:blip r:embed="rId2"/>
          <a:stretch/>
        </p:blipFill>
        <p:spPr>
          <a:xfrm>
            <a:off x="428760" y="1000080"/>
            <a:ext cx="4572000" cy="435780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5" descr="untitled12.bmp"/>
          <p:cNvPicPr/>
          <p:nvPr/>
        </p:nvPicPr>
        <p:blipFill>
          <a:blip r:embed="rId3"/>
          <a:stretch/>
        </p:blipFill>
        <p:spPr>
          <a:xfrm>
            <a:off x="357120" y="1000080"/>
            <a:ext cx="4714920" cy="41436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928800" y="5715000"/>
            <a:ext cx="27144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кроорганиз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ст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Содержимое 4" descr="untitled13.bmp"/>
          <p:cNvPicPr/>
          <p:nvPr/>
        </p:nvPicPr>
        <p:blipFill>
          <a:blip r:embed="rId4"/>
          <a:stretch/>
        </p:blipFill>
        <p:spPr>
          <a:xfrm>
            <a:off x="357120" y="285840"/>
            <a:ext cx="4714920" cy="61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28400" y="642600"/>
            <a:ext cx="84294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изнь на Земле зародилась более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3 миллиардов лет наза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водоёма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выми организмами считаются сине-зелёные водоросл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мерно 400 миллионов лет назад жизнь из воды распространилась на сушу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дни формы жизни дожили до сегодняшних дней. Такие виды называют реликтовы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Релик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(от лат. «остатки») – виды животных и растений, сохранившиеся от широко распространённых в прошлом, а в настоящее время исчезнувших фаун и флор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иологический круговорот веществ на суш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4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00000" y="155736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руговорот воды обеспечивает взаимодействие Мирового океана с атмосферой. Атмосфера защищает воды Мирового океана от сильного испарения и принимает испаряющуюся с поверхности Мирового океана влагу. Морские воздушные  массы переносят тепло и влагу с океана на сушу. На побережьях океанов, где происходит постоянный  перенос  морской  воздушной массы на сушу, формируется океанический (морской) клима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За всю историю жизни на Земле в биосфере существовало около полумиллиарда видов! Сегодня учёные-биологи насчитывают на планете порядка 2 миллионов видов живых существ. Формирование биосферы продолжается и сейчас. </a:t>
            </a:r>
            <a:br>
              <a:rPr sz="2500"/>
            </a:br>
            <a:br>
              <a:rPr sz="3600"/>
            </a:b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Содержимое 5" descr="untitled14.bmp"/>
          <p:cNvPicPr/>
          <p:nvPr/>
        </p:nvPicPr>
        <p:blipFill>
          <a:blip r:embed="rId1"/>
          <a:stretch/>
        </p:blipFill>
        <p:spPr>
          <a:xfrm>
            <a:off x="214200" y="228600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200" name="Содержимое 7" descr="untitled15.bmp"/>
          <p:cNvPicPr/>
          <p:nvPr/>
        </p:nvPicPr>
        <p:blipFill>
          <a:blip r:embed="rId2"/>
          <a:stretch/>
        </p:blipFill>
        <p:spPr>
          <a:xfrm>
            <a:off x="5072040" y="2071800"/>
            <a:ext cx="3143160" cy="38098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285840" y="5500800"/>
            <a:ext cx="392904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не-зелёные водоросли дожили до сегодняшнего д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286160" y="6000840"/>
            <a:ext cx="457200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аконово дерево с Канарских островов – реликт прошлых эпо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,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7" descr="Картинка 3 из 2200"/>
          <p:cNvPicPr/>
          <p:nvPr/>
        </p:nvPicPr>
        <p:blipFill>
          <a:blip r:embed="rId1"/>
          <a:stretch/>
        </p:blipFill>
        <p:spPr>
          <a:xfrm>
            <a:off x="4716360" y="476280"/>
            <a:ext cx="4273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400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заимодействие биосферы с другими оболочками Земли 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785960"/>
            <a:ext cx="42098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иосфера связана с атмосферой круговоротом газ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Содержимое 4" descr="untitled16.bmp"/>
          <p:cNvPicPr/>
          <p:nvPr/>
        </p:nvPicPr>
        <p:blipFill>
          <a:blip r:embed="rId1"/>
          <a:stretch/>
        </p:blipFill>
        <p:spPr>
          <a:xfrm>
            <a:off x="1071720" y="2162160"/>
            <a:ext cx="2000160" cy="3154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142920" y="5929200"/>
            <a:ext cx="3643200" cy="7333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парение с листьев растений обогащае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тмосферу вла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4643280" y="1785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моочи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Содержимое 5" descr="untitled18.bmp"/>
          <p:cNvPicPr/>
          <p:nvPr/>
        </p:nvPicPr>
        <p:blipFill>
          <a:blip r:embed="rId2"/>
          <a:stretch/>
        </p:blipFill>
        <p:spPr>
          <a:xfrm>
            <a:off x="4429080" y="2857680"/>
            <a:ext cx="4038480" cy="2662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истально чистая байкальская в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Содержимое 4" descr="untitled17.bmp"/>
          <p:cNvPicPr/>
          <p:nvPr/>
        </p:nvPicPr>
        <p:blipFill>
          <a:blip r:embed="rId3"/>
          <a:stretch/>
        </p:blipFill>
        <p:spPr>
          <a:xfrm>
            <a:off x="4429080" y="2786040"/>
            <a:ext cx="4038480" cy="28558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0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 раб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чка-эпиш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Верхний слой земной коры (части литосферы) создаётся при активном участии живых организмов. Окаменелые растения или останки животных участвуют как в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формировании горных пород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, так и в их разрушении –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органическом выветривании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Содержимое 8" descr="untitled19.bmp"/>
          <p:cNvPicPr/>
          <p:nvPr/>
        </p:nvPicPr>
        <p:blipFill>
          <a:blip r:embed="rId1"/>
          <a:stretch/>
        </p:blipFill>
        <p:spPr>
          <a:xfrm>
            <a:off x="857160" y="2013120"/>
            <a:ext cx="2714760" cy="282708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9" descr="untitled20.bmp"/>
          <p:cNvPicPr/>
          <p:nvPr/>
        </p:nvPicPr>
        <p:blipFill>
          <a:blip r:embed="rId2"/>
          <a:stretch/>
        </p:blipFill>
        <p:spPr>
          <a:xfrm>
            <a:off x="4714920" y="2928960"/>
            <a:ext cx="4167000" cy="23572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0"/>
          <p:cNvSpPr/>
          <p:nvPr/>
        </p:nvSpPr>
        <p:spPr>
          <a:xfrm>
            <a:off x="214200" y="5500800"/>
            <a:ext cx="4000680" cy="1159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Янтарь – горная порода, образованна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из вещества биосферы: это окаменевшая смола древних хвойных деревьев,иногда в ней присутствую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«останки» живот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4857840" y="5715000"/>
            <a:ext cx="392904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рганическое выветри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5" descr="Картинка 3 из 1149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дяной пар конденсируется в верхних слоях воздуха и выпадает на землю в виде снег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11" descr="3105981_large"/>
          <p:cNvPicPr/>
          <p:nvPr/>
        </p:nvPicPr>
        <p:blipFill>
          <a:blip r:embed="rId1"/>
          <a:stretch/>
        </p:blipFill>
        <p:spPr>
          <a:xfrm>
            <a:off x="324000" y="1620720"/>
            <a:ext cx="84247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5" descr="Картинка 2 из 2200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7840" y="461520"/>
            <a:ext cx="7853400" cy="668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войства 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ажнейшими свойствами ГО являются - наличие жизни, целостность оболочки и наличие в ГО вещества  в  трех состояниях (жидком, твердом и газообразном). Характерная черта развития ГО - ритмичность. Это периодичность и повторяемость одних и тех же процессов и явлений во времен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руговорот веществ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земной коре тоже происходит круговорот вещества. Важнейшую роль в жизни ГО играет биологический  круговоро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33:58Z</dcterms:created>
  <dc:creator>1</dc:creator>
  <dc:description/>
  <dc:language>en-US</dc:language>
  <cp:lastModifiedBy>Admin</cp:lastModifiedBy>
  <dcterms:modified xsi:type="dcterms:W3CDTF">2012-05-12T12:10:13Z</dcterms:modified>
  <cp:revision>12</cp:revision>
  <dc:subject/>
  <dc:title>Географическая оболочка -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