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3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3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7.jpeg" ContentType="image/jpeg"/>
  <Override PartName="/ppt/media/image14.png" ContentType="image/pn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C00F-9D48-4AD3-943A-3A760226E1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EBAC-3D6E-4B09-8CD2-144E653048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075F-A6EE-4503-89F4-90E4A687E7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C0B6-44FA-4462-B78C-5CA75C26A7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2048-6ABC-4267-A5B5-C5DD69A8D3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2CB3-32BB-442B-8924-91FBAA7E6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1150-5353-4618-8FF6-003A553D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B304-4A06-45CD-9C72-A3C61ECF9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379D-0EFB-4EF8-9E87-24D842DFB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D7E4F-2AF3-4051-9973-D5E1FBEDF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44115-25A8-4F8E-9E24-D826F908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A4CE-0B4E-4C31-BEC1-852BE6CB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9485-FFAD-4FE4-B3D5-F844C840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84758-AFDC-413F-A2C1-2643A1B7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0006-14E0-414E-AC93-E192CC19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2757-877C-43F5-B7C5-589F4F0B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6ECC-8137-4493-A767-DAE99963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AD58F-2151-472E-B641-C4D07949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E94A9-AE6F-4B71-B925-36EC1519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C033-3719-419F-9511-F68F5158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168D-1B08-4079-A87F-904547950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A4F6-E30B-42AC-A58A-E4C3DF1B1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90EE0-C208-4E58-BCA8-D08DE5E1B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04680-F212-42C5-A346-958BD455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9B8A2-8B39-4E80-9B60-F910D869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84713-2EC4-44F7-A8EB-725682DF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D4DB4-C314-4699-B130-13642ED9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E934-ADF0-409A-86E8-D348AC79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061F4-99C6-4150-9AAE-A9A8450B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C14D6-7EDF-44AC-970B-A1A91974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A5DB9-92CE-4266-A938-79954254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64AAB-4C93-40F4-AC8C-1E436272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25FA9-9EB2-49A1-8E31-DFDA34A0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8AA1A-7448-4D1A-924C-054F39D3E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E8C48-1EFF-48DA-8EE3-23F183A1E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E7BA-13A5-48C1-857D-B0B97D57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4DB8-5FAC-4351-8C53-A1EFBBB8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76DA-4451-4921-9FBD-7D7728DD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89F3-035A-4BE1-8BA2-9EF61AAD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B8D5-1C71-4347-9476-128D572C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99E7-CB58-4509-857C-A55AC7EB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9C40-5AD1-4B70-A6CE-402ED75D57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2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29B0-BA59-4890-9748-3027CAFE554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99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E9BB-80F6-47E9-B5D5-B9E895794DFC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571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Географическая оболочка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3" name="Picture 4" descr="Альбатросы"/>
          <p:cNvPicPr/>
          <p:nvPr/>
        </p:nvPicPr>
        <p:blipFill>
          <a:blip r:embed="rId1"/>
          <a:stretch/>
        </p:blipFill>
        <p:spPr>
          <a:xfrm>
            <a:off x="4427640" y="1916280"/>
            <a:ext cx="4716360" cy="453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Красная белка"/>
          <p:cNvPicPr/>
          <p:nvPr/>
        </p:nvPicPr>
        <p:blipFill>
          <a:blip r:embed="rId2"/>
          <a:stretch/>
        </p:blipFill>
        <p:spPr>
          <a:xfrm>
            <a:off x="0" y="1916280"/>
            <a:ext cx="4356000" cy="4537080"/>
          </a:xfrm>
          <a:prstGeom prst="rect">
            <a:avLst/>
          </a:prstGeom>
          <a:ln w="0">
            <a:noFill/>
          </a:ln>
        </p:spPr>
      </p:pic>
      <p:sp>
        <p:nvSpPr>
          <p:cNvPr id="165" name="Рамка 4"/>
          <p:cNvSpPr/>
          <p:nvPr/>
        </p:nvSpPr>
        <p:spPr>
          <a:xfrm>
            <a:off x="3571920" y="6429240"/>
            <a:ext cx="2786040" cy="428760"/>
          </a:xfrm>
          <a:prstGeom prst="pie">
            <a:avLst/>
          </a:prstGeom>
          <a:solidFill>
            <a:srgbClr val="eaeaea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БИОСФЕР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 ГО повсюду живут организмы, зеленые растения усваивают солнечную энергию, образуют органические вещества из неорганических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9" name="Picture 7" descr="Картинка 14 из 19864"/>
          <p:cNvPicPr/>
          <p:nvPr/>
        </p:nvPicPr>
        <p:blipFill>
          <a:blip r:embed="rId1"/>
          <a:stretch/>
        </p:blipFill>
        <p:spPr>
          <a:xfrm>
            <a:off x="4643280" y="1557360"/>
            <a:ext cx="42292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3840" y="571680"/>
            <a:ext cx="89298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Биосфера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(от греч. «сфера жизни») – оболочка Земли, которая населена живыми организмами и преобразуется ими. Впервые в науке термин «биосфера» появился в 1875 г. благодаря австрийскому учёному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Эдуарду Зюссу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(1831-1914). </a:t>
            </a:r>
            <a:br>
              <a:rPr sz="28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1" name="Picture 2" descr="G:\Элктронные учебники\Geo6-10\RES\Class6\Биосфера Земли.jpg"/>
          <p:cNvPicPr/>
          <p:nvPr/>
        </p:nvPicPr>
        <p:blipFill>
          <a:blip r:embed="rId1"/>
          <a:stretch/>
        </p:blipFill>
        <p:spPr>
          <a:xfrm>
            <a:off x="857160" y="2071800"/>
            <a:ext cx="6643800" cy="44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Владимир Иванович Вернадский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 20-е гг. ХХ века выдающийся русский учёный, академик 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Владимир Иванович Вернадский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(1853-1945) разработал 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«Учение о биосфере»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– оболочке Земли, населённой живыми организмами. В.И. Вернадский распространил понятие биосферы не только на организмы, но и на среду обитания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4" name="Содержимое 6" descr="untitled9.bmp"/>
          <p:cNvPicPr/>
          <p:nvPr/>
        </p:nvPicPr>
        <p:blipFill>
          <a:blip r:embed="rId1"/>
          <a:stretch/>
        </p:blipFill>
        <p:spPr>
          <a:xfrm>
            <a:off x="4875120" y="1484280"/>
            <a:ext cx="3740400" cy="496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5000400" y="1285560"/>
            <a:ext cx="414324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aeaea"/>
                </a:solidFill>
                <a:latin typeface="Verdana"/>
              </a:rPr>
              <a:t>Биосферу составляет живое вещество планеты, представленное: </a:t>
            </a:r>
            <a:r>
              <a:rPr b="1" i="1" lang="ru-RU" sz="2800" spc="-1" strike="noStrike">
                <a:solidFill>
                  <a:srgbClr val="4c376b"/>
                </a:solidFill>
                <a:latin typeface="Verdana"/>
              </a:rPr>
              <a:t>микроорганизмами, растениями, животными и человеком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6" name="Содержимое 4" descr="untitled10.bmp"/>
          <p:cNvPicPr/>
          <p:nvPr/>
        </p:nvPicPr>
        <p:blipFill>
          <a:blip r:embed="rId1"/>
          <a:stretch/>
        </p:blipFill>
        <p:spPr>
          <a:xfrm>
            <a:off x="500040" y="1285920"/>
            <a:ext cx="4530600" cy="3929040"/>
          </a:xfrm>
          <a:prstGeom prst="rect">
            <a:avLst/>
          </a:prstGeom>
          <a:ln w="0">
            <a:noFill/>
          </a:ln>
        </p:spPr>
      </p:pic>
      <p:pic>
        <p:nvPicPr>
          <p:cNvPr id="187" name="Содержимое 4" descr="untitled11.bmp"/>
          <p:cNvPicPr/>
          <p:nvPr/>
        </p:nvPicPr>
        <p:blipFill>
          <a:blip r:embed="rId2"/>
          <a:stretch/>
        </p:blipFill>
        <p:spPr>
          <a:xfrm>
            <a:off x="428760" y="1000080"/>
            <a:ext cx="4572000" cy="4357800"/>
          </a:xfrm>
          <a:prstGeom prst="rect">
            <a:avLst/>
          </a:prstGeom>
          <a:ln w="0">
            <a:noFill/>
          </a:ln>
        </p:spPr>
      </p:pic>
      <p:pic>
        <p:nvPicPr>
          <p:cNvPr id="188" name="Содержимое 5" descr="untitled12.bmp"/>
          <p:cNvPicPr/>
          <p:nvPr/>
        </p:nvPicPr>
        <p:blipFill>
          <a:blip r:embed="rId3"/>
          <a:stretch/>
        </p:blipFill>
        <p:spPr>
          <a:xfrm>
            <a:off x="357120" y="1000080"/>
            <a:ext cx="4714920" cy="4143600"/>
          </a:xfrm>
          <a:prstGeom prst="rect">
            <a:avLst/>
          </a:prstGeom>
          <a:ln w="0">
            <a:noFill/>
          </a:ln>
        </p:spPr>
      </p:pic>
      <p:sp>
        <p:nvSpPr>
          <p:cNvPr id="189" name="TextBox 7"/>
          <p:cNvSpPr/>
          <p:nvPr/>
        </p:nvSpPr>
        <p:spPr>
          <a:xfrm>
            <a:off x="928800" y="5715000"/>
            <a:ext cx="2714400" cy="368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икроорганиз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Box 8"/>
          <p:cNvSpPr/>
          <p:nvPr/>
        </p:nvSpPr>
        <p:spPr>
          <a:xfrm>
            <a:off x="928800" y="5715000"/>
            <a:ext cx="2786040" cy="368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Раст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Box 9"/>
          <p:cNvSpPr/>
          <p:nvPr/>
        </p:nvSpPr>
        <p:spPr>
          <a:xfrm>
            <a:off x="928800" y="5715000"/>
            <a:ext cx="2786040" cy="368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Живот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Содержимое 4" descr="untitled13.bmp"/>
          <p:cNvPicPr/>
          <p:nvPr/>
        </p:nvPicPr>
        <p:blipFill>
          <a:blip r:embed="rId4"/>
          <a:stretch/>
        </p:blipFill>
        <p:spPr>
          <a:xfrm>
            <a:off x="357120" y="285840"/>
            <a:ext cx="4714920" cy="61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28400" y="642600"/>
            <a:ext cx="8429400" cy="59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Жизнь на Земле зародилась более 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3 миллиардов лет назад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в водоёмах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ервыми организмами считаются сине-зелёные водоросли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римерно 400 миллионов лет назад жизнь из воды распространилась на сушу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дни формы жизни дожили до сегодняшних дней. Такие виды называют реликтовыми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Реликты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(от лат. «остатки») – виды животных и растений, сохранившиеся от широко распространённых в прошлом, а в настоящее время исчезнувших фаун и флор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Биологический круговорот веществ на суше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6" name="Picture 4" descr="Биологический круговорот на суше"/>
          <p:cNvPicPr/>
          <p:nvPr/>
        </p:nvPicPr>
        <p:blipFill>
          <a:blip r:embed="rId1"/>
          <a:stretch/>
        </p:blipFill>
        <p:spPr>
          <a:xfrm>
            <a:off x="900000" y="1557360"/>
            <a:ext cx="762012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475920"/>
            <a:ext cx="777240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руговорот воды обеспечивает взаимодействие Мирового океана с атмосферой. Атмосфера защищает воды Мирового океана от сильного испарения и принимает испаряющуюся с поверхности Мирового океана влагу. Морские воздушные  массы переносят тепло и влагу с океана на сушу. На побережьях океанов, где происходит постоянный  перенос  морской  воздушной массы на сушу, формируется океанический (морской) климат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3840" y="1143000"/>
            <a:ext cx="89298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cc"/>
                </a:solidFill>
                <a:latin typeface="Arial"/>
              </a:rPr>
              <a:t>За всю историю жизни на Земле в биосфере существовало около полумиллиарда видов! Сегодня учёные-биологи насчитывают на планете порядка 2 миллионов видов живых существ. Формирование биосферы продолжается и сейчас. </a:t>
            </a:r>
            <a:br>
              <a:rPr sz="2500"/>
            </a:br>
            <a:br>
              <a:rPr sz="3600"/>
            </a:b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9" name="Содержимое 5" descr="untitled14.bmp"/>
          <p:cNvPicPr/>
          <p:nvPr/>
        </p:nvPicPr>
        <p:blipFill>
          <a:blip r:embed="rId1"/>
          <a:stretch/>
        </p:blipFill>
        <p:spPr>
          <a:xfrm>
            <a:off x="214200" y="2286000"/>
            <a:ext cx="4214880" cy="3000240"/>
          </a:xfrm>
          <a:prstGeom prst="rect">
            <a:avLst/>
          </a:prstGeom>
          <a:ln w="0">
            <a:noFill/>
          </a:ln>
        </p:spPr>
      </p:pic>
      <p:pic>
        <p:nvPicPr>
          <p:cNvPr id="200" name="Содержимое 7" descr="untitled15.bmp"/>
          <p:cNvPicPr/>
          <p:nvPr/>
        </p:nvPicPr>
        <p:blipFill>
          <a:blip r:embed="rId2"/>
          <a:stretch/>
        </p:blipFill>
        <p:spPr>
          <a:xfrm>
            <a:off x="5072040" y="2071800"/>
            <a:ext cx="3143160" cy="3809880"/>
          </a:xfrm>
          <a:prstGeom prst="rect">
            <a:avLst/>
          </a:prstGeom>
          <a:ln w="0">
            <a:noFill/>
          </a:ln>
        </p:spPr>
      </p:pic>
      <p:sp>
        <p:nvSpPr>
          <p:cNvPr id="201" name="TextBox 6"/>
          <p:cNvSpPr/>
          <p:nvPr/>
        </p:nvSpPr>
        <p:spPr>
          <a:xfrm>
            <a:off x="285840" y="5500800"/>
            <a:ext cx="3929040" cy="6426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ине-зелёные водоросли дожили до сегодняшнего дн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8"/>
          <p:cNvSpPr/>
          <p:nvPr/>
        </p:nvSpPr>
        <p:spPr>
          <a:xfrm>
            <a:off x="4286160" y="6000840"/>
            <a:ext cx="4572000" cy="6426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раконово дерево с Канарских островов – реликт прошлых эпо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46432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Наша планета состоит из нескольких оболочек. Вещества, из которых состоит литосфера, гидросфера, атмосфера перемещаются, проникают друг в друга. Оболочка живых организмов - биосфера также взаимодействует со всеми  другими оболочками. Так, в литосфере просачиваются и накапливаются подземные воды, в нее проникает воздух, а живые организмы рыхлят верхний слой литосферы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7" name="Picture 7" descr="Картинка 3 из 2200"/>
          <p:cNvPicPr/>
          <p:nvPr/>
        </p:nvPicPr>
        <p:blipFill>
          <a:blip r:embed="rId1"/>
          <a:stretch/>
        </p:blipFill>
        <p:spPr>
          <a:xfrm>
            <a:off x="4716360" y="476280"/>
            <a:ext cx="42735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5840" y="928800"/>
            <a:ext cx="840096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Взаимодействие биосферы с другими оболочками Земли 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85840" y="1785960"/>
            <a:ext cx="42098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Биосфера связана с атмосферой круговоротом газов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65040" indent="-25560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5" name="Содержимое 4" descr="untitled16.bmp"/>
          <p:cNvPicPr/>
          <p:nvPr/>
        </p:nvPicPr>
        <p:blipFill>
          <a:blip r:embed="rId1"/>
          <a:stretch/>
        </p:blipFill>
        <p:spPr>
          <a:xfrm>
            <a:off x="1071720" y="2162160"/>
            <a:ext cx="2000160" cy="3154320"/>
          </a:xfrm>
          <a:prstGeom prst="rect">
            <a:avLst/>
          </a:prstGeom>
          <a:ln w="0">
            <a:noFill/>
          </a:ln>
        </p:spPr>
      </p:pic>
      <p:sp>
        <p:nvSpPr>
          <p:cNvPr id="206" name="TextBox 5"/>
          <p:cNvSpPr/>
          <p:nvPr/>
        </p:nvSpPr>
        <p:spPr>
          <a:xfrm>
            <a:off x="142920" y="5929200"/>
            <a:ext cx="3643200" cy="7333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спарение с листьев растений обогащает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тмосферу влаг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Box 6"/>
          <p:cNvSpPr/>
          <p:nvPr/>
        </p:nvSpPr>
        <p:spPr>
          <a:xfrm>
            <a:off x="4643280" y="178596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амоочищ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Содержимое 5" descr="untitled18.bmp"/>
          <p:cNvPicPr/>
          <p:nvPr/>
        </p:nvPicPr>
        <p:blipFill>
          <a:blip r:embed="rId2"/>
          <a:stretch/>
        </p:blipFill>
        <p:spPr>
          <a:xfrm>
            <a:off x="4429080" y="2857680"/>
            <a:ext cx="4038480" cy="2662200"/>
          </a:xfrm>
          <a:prstGeom prst="rect">
            <a:avLst/>
          </a:prstGeom>
          <a:ln w="0">
            <a:noFill/>
          </a:ln>
        </p:spPr>
      </p:pic>
      <p:sp>
        <p:nvSpPr>
          <p:cNvPr id="209" name="TextBox 8"/>
          <p:cNvSpPr/>
          <p:nvPr/>
        </p:nvSpPr>
        <p:spPr>
          <a:xfrm>
            <a:off x="4643280" y="5929200"/>
            <a:ext cx="3857760" cy="6426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ристально чистая байкальская вод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Содержимое 4" descr="untitled17.bmp"/>
          <p:cNvPicPr/>
          <p:nvPr/>
        </p:nvPicPr>
        <p:blipFill>
          <a:blip r:embed="rId3"/>
          <a:stretch/>
        </p:blipFill>
        <p:spPr>
          <a:xfrm>
            <a:off x="4429080" y="2786040"/>
            <a:ext cx="4038480" cy="28558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10"/>
          <p:cNvSpPr/>
          <p:nvPr/>
        </p:nvSpPr>
        <p:spPr>
          <a:xfrm>
            <a:off x="4643280" y="5929200"/>
            <a:ext cx="3857760" cy="6426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зультат рабо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чка-эпишу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Верхний слой земной коры (части литосферы) создаётся при активном участии живых организмов. Окаменелые растения или останки животных участвуют как в </a:t>
            </a:r>
            <a:r>
              <a:rPr b="1" lang="ru-RU" sz="2200" spc="-1" strike="noStrike">
                <a:solidFill>
                  <a:srgbClr val="ffffcc"/>
                </a:solidFill>
                <a:latin typeface="Arial"/>
              </a:rPr>
              <a:t>формировании горных пород</a:t>
            </a: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, так и в их разрушении – </a:t>
            </a:r>
            <a:r>
              <a:rPr b="1" lang="ru-RU" sz="2200" spc="-1" strike="noStrike">
                <a:solidFill>
                  <a:srgbClr val="ffffcc"/>
                </a:solidFill>
                <a:latin typeface="Arial"/>
              </a:rPr>
              <a:t>органическом выветривании</a:t>
            </a: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3" name="Содержимое 8" descr="untitled19.bmp"/>
          <p:cNvPicPr/>
          <p:nvPr/>
        </p:nvPicPr>
        <p:blipFill>
          <a:blip r:embed="rId1"/>
          <a:stretch/>
        </p:blipFill>
        <p:spPr>
          <a:xfrm>
            <a:off x="857160" y="2013120"/>
            <a:ext cx="2714760" cy="2827080"/>
          </a:xfrm>
          <a:prstGeom prst="rect">
            <a:avLst/>
          </a:prstGeom>
          <a:ln w="0">
            <a:noFill/>
          </a:ln>
        </p:spPr>
      </p:pic>
      <p:pic>
        <p:nvPicPr>
          <p:cNvPr id="214" name="Содержимое 9" descr="untitled20.bmp"/>
          <p:cNvPicPr/>
          <p:nvPr/>
        </p:nvPicPr>
        <p:blipFill>
          <a:blip r:embed="rId2"/>
          <a:stretch/>
        </p:blipFill>
        <p:spPr>
          <a:xfrm>
            <a:off x="4714920" y="2928960"/>
            <a:ext cx="4167000" cy="2357280"/>
          </a:xfrm>
          <a:prstGeom prst="rect">
            <a:avLst/>
          </a:prstGeom>
          <a:ln w="0">
            <a:noFill/>
          </a:ln>
        </p:spPr>
      </p:pic>
      <p:sp>
        <p:nvSpPr>
          <p:cNvPr id="215" name="TextBox 10"/>
          <p:cNvSpPr/>
          <p:nvPr/>
        </p:nvSpPr>
        <p:spPr>
          <a:xfrm>
            <a:off x="214200" y="5500800"/>
            <a:ext cx="4000680" cy="115956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Янтарь – горная порода, образованная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из вещества биосферы: это окаменевшая смола древних хвойных деревьев,иногда в ней присутствуют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«останки» животных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Box 11"/>
          <p:cNvSpPr/>
          <p:nvPr/>
        </p:nvSpPr>
        <p:spPr>
          <a:xfrm>
            <a:off x="4857840" y="5715000"/>
            <a:ext cx="3929040" cy="7038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Органическое выветрива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9" name="Picture 5" descr="Картинка 3 из 1149"/>
          <p:cNvPicPr/>
          <p:nvPr/>
        </p:nvPicPr>
        <p:blipFill>
          <a:blip r:embed="rId1"/>
          <a:stretch/>
        </p:blipFill>
        <p:spPr>
          <a:xfrm>
            <a:off x="0" y="0"/>
            <a:ext cx="9144000" cy="67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одяной пар конденсируется в верхних слоях воздуха и выпадает на землю в виде снег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1" name="Picture 11" descr="3105981_large"/>
          <p:cNvPicPr/>
          <p:nvPr/>
        </p:nvPicPr>
        <p:blipFill>
          <a:blip r:embed="rId1"/>
          <a:stretch/>
        </p:blipFill>
        <p:spPr>
          <a:xfrm>
            <a:off x="324000" y="1620720"/>
            <a:ext cx="842472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аша планета состоит из нескольких оболочек. Вещества, из которых состоит литосфера, гидросфера, атмосфера перемещаются, проникают друг в друга. Оболочка живых организмов - биосфера также взаимодействует со всеми  другими оболочками. Так в литосфере просачиваются и накапливаются подземные воды, в нее проникает воздух, а живые организмы рыхлят верхний слой литосферы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1" name="Picture 5" descr="Картинка 2 из 2200"/>
          <p:cNvPicPr/>
          <p:nvPr/>
        </p:nvPicPr>
        <p:blipFill>
          <a:blip r:embed="rId1"/>
          <a:stretch/>
        </p:blipFill>
        <p:spPr>
          <a:xfrm>
            <a:off x="0" y="150840"/>
            <a:ext cx="9144000" cy="67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7840" y="461520"/>
            <a:ext cx="7853400" cy="668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войства Г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ажнейшими свойствами ГО являются - наличие жизни, целостность оболочки и наличие в ГО вещества  в  трех состояниях (жидком, твердом и газообразном). Характерная черта развития ГО - ритмичность. Это периодичность и повторяемость одних и тех же процессов и явлений во времен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руговорот веществ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 земной коре тоже происходит круговорот вещества. Важнейшую роль в жизни ГО играет биологический  круговорот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21:33:58Z</dcterms:created>
  <dc:creator>1</dc:creator>
  <dc:description/>
  <dc:language>en-US</dc:language>
  <cp:lastModifiedBy>Admin</cp:lastModifiedBy>
  <dcterms:modified xsi:type="dcterms:W3CDTF">2012-05-12T12:10:13Z</dcterms:modified>
  <cp:revision>12</cp:revision>
  <dc:subject/>
  <dc:title>Географическая оболочка -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