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4.wmf" ContentType="image/x-wmf"/>
  <Override PartName="/ppt/media/image5.png" ContentType="image/png"/>
  <Override PartName="/ppt/media/image6.png" ContentType="image/png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F56B2-7889-44A3-BB72-05B91376C9D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50DFC-1339-49A8-A17D-1AE78DAF54F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5C939-5503-440F-9E88-A20FB49B38E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24E0-3996-4022-8ECD-8B5A549F7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4E9F-4D47-4FCB-BAF7-4B29834FA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CA1A-5C14-45F7-B557-256E7A6C1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170C-95AA-44C2-9A96-9AB167D43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CC7E-6DE6-49D2-875E-0307139AE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E9E4-A1F5-4AC2-B769-A886F3A5F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5B88-5520-4D67-A6E7-8F3D1E006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B327-2F07-4C28-921C-149423781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4D79-1DE0-4E2E-9152-06208BC42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8988-6C43-405D-94EA-D9777065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EDF5-0558-4E68-A48D-58B9BB91A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53A1-0ABC-4F27-BE8B-2CC1DF8A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BFCC9-D7CB-4604-BC93-138220A6B37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wmf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3"/>
          <p:cNvSpPr/>
          <p:nvPr/>
        </p:nvSpPr>
        <p:spPr>
          <a:xfrm>
            <a:off x="2571840" y="242892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Эвакуация </a:t>
            </a:r>
            <a:br>
              <a:rPr sz="6000"/>
            </a:b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населения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a9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990720" y="304920"/>
            <a:ext cx="1854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249120" y="622440"/>
            <a:ext cx="8670960" cy="58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imes New Roman"/>
              </a:rPr>
              <a:t>Эвакуация населения</a:t>
            </a:r>
            <a:r>
              <a:rPr b="0" lang="ru-RU" sz="3600" spc="-1" strike="noStrike">
                <a:solidFill>
                  <a:srgbClr val="ff5050"/>
                </a:solidFill>
                <a:latin typeface="Times New Roman"/>
              </a:rPr>
              <a:t> 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то комплекс мероприятий по организованному вывозу всеми видами   имеющегося транспорта и выводу пешим   порядком населения из категорированных   городов и размещению его в загородной   зон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a9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990720" y="304920"/>
            <a:ext cx="1854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Object 3"/>
          <p:cNvGraphicFramePr/>
          <p:nvPr/>
        </p:nvGraphicFramePr>
        <p:xfrm>
          <a:off x="2438280" y="1828800"/>
          <a:ext cx="387684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828800"/>
                    <a:ext cx="387684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Text Box 4"/>
          <p:cNvSpPr/>
          <p:nvPr/>
        </p:nvSpPr>
        <p:spPr>
          <a:xfrm>
            <a:off x="206640" y="304920"/>
            <a:ext cx="8390520" cy="57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3200" spc="-1" strike="noStrike">
                <a:solidFill>
                  <a:srgbClr val="ff0066"/>
                </a:solidFill>
                <a:latin typeface="Times New Roman"/>
              </a:rPr>
              <a:t>Эвакуации подлежат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бочие и служащие с неработающими члена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емей объектов экономики, деятельност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торых продолжается на новой базе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сположенной в загородной зон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бочие и служащие с неработающими члена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емей объектов экономики, прекращающи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вою деятельность в военное врем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трудоспособное и не занятое в производств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сел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5">
            <a:hlinkClick r:id="" action="ppaction://hlinkshowjump?jump=previousslide"/>
          </p:cNvPr>
          <p:cNvSpPr/>
          <p:nvPr/>
        </p:nvSpPr>
        <p:spPr>
          <a:xfrm>
            <a:off x="8483760" y="6350040"/>
            <a:ext cx="484200" cy="342720"/>
          </a:xfrm>
          <a:custGeom>
            <a:avLst/>
            <a:gdLst>
              <a:gd name="textAreaLeft" fmla="*/ 21960 w 484200"/>
              <a:gd name="textAreaRight" fmla="*/ 462240 w 484200"/>
              <a:gd name="textAreaTop" fmla="*/ 21960 h 342720"/>
              <a:gd name="textAreaBottom" fmla="*/ 320760 h 342720"/>
            </a:gdLst>
            <a:ahLst/>
            <a:rect l="textAreaLeft" t="textAreaTop" r="textAreaRight" b="textAreaBottom"/>
            <a:pathLst>
              <a:path w="30507" h="21600">
                <a:moveTo>
                  <a:pt x="0" y="0"/>
                </a:moveTo>
                <a:lnTo>
                  <a:pt x="30507" y="0"/>
                </a:lnTo>
                <a:lnTo>
                  <a:pt x="30507" y="21600"/>
                </a:lnTo>
                <a:lnTo>
                  <a:pt x="0" y="21600"/>
                </a:lnTo>
                <a:close/>
              </a:path>
              <a:path fill="lightenLess" w="30507" h="21600">
                <a:moveTo>
                  <a:pt x="0" y="0"/>
                </a:moveTo>
                <a:lnTo>
                  <a:pt x="30507" y="0"/>
                </a:lnTo>
                <a:lnTo>
                  <a:pt x="29107" y="1400"/>
                </a:lnTo>
                <a:lnTo>
                  <a:pt x="1400" y="1400"/>
                </a:lnTo>
                <a:close/>
              </a:path>
              <a:path fill="darken" w="30507" h="21600">
                <a:moveTo>
                  <a:pt x="30507" y="0"/>
                </a:moveTo>
                <a:lnTo>
                  <a:pt x="30507" y="21600"/>
                </a:lnTo>
                <a:lnTo>
                  <a:pt x="29107" y="20200"/>
                </a:lnTo>
                <a:lnTo>
                  <a:pt x="29107" y="1400"/>
                </a:lnTo>
                <a:close/>
              </a:path>
              <a:path fill="darkenLess" w="30507" h="21600">
                <a:moveTo>
                  <a:pt x="30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07" y="20200"/>
                </a:lnTo>
                <a:close/>
              </a:path>
              <a:path fill="lighten" w="30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07" h="21600">
                <a:moveTo>
                  <a:pt x="8247" y="10800"/>
                </a:moveTo>
                <a:lnTo>
                  <a:pt x="22260" y="3794"/>
                </a:lnTo>
                <a:lnTo>
                  <a:pt x="22260" y="17806"/>
                </a:lnTo>
                <a:close/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a9a9"/>
            </a:gs>
            <a:gs pos="100000">
              <a:srgbClr val="66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152280" y="380880"/>
            <a:ext cx="876312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3600" spc="-1" strike="noStrike">
                <a:solidFill>
                  <a:srgbClr val="ff0066"/>
                </a:solidFill>
                <a:latin typeface="Times New Roman"/>
              </a:rPr>
              <a:t>Рассредоточение</a:t>
            </a: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 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то комплекс мероприятий по организованному вывозу (выводу) из категорированных городов и размещение в загородной зоне для проживания и отдыха рабочих и служащих объектов экономики, производственная деятельность которых в военное время будет продолжаться в этих города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a9a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152280" y="304920"/>
            <a:ext cx="883944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Общая эвакуац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водится на территории всей страны или на территории отдельного региона и предполагает вывоз (вывод) всех категорий населения,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за исключением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транспортабельных больных и        обслуживающего их персонала 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иц, имеющих мобилизационные   предпис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a9a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152280" y="-98280"/>
            <a:ext cx="8898120" cy="64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Частичная эвакуация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ожет проводиться до начала общей эвакуаци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едполагает вывоз нетрудоспособного и не занятого в производстве и в сфере обслуживания населени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удентов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чащихся школ-интернатов  и  профессионально             - технических училищ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спитанников детских домов, ведомственных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етских садов и других детских учрежде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вместно с преподавателями, обслуживающим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рсоналом и членами их семей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нсионеров, содержащиеся в домах инвалидо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престарелых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79ca9"/>
            </a:gs>
            <a:gs pos="50000">
              <a:srgbClr val="ccecff"/>
            </a:gs>
            <a:gs pos="100000">
              <a:srgbClr val="879c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37800" y="181080"/>
            <a:ext cx="9222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Эвакуационные мероприятия  осуществляютс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по  решению</a:t>
            </a: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зидента Российской Федерации ил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чальника Гражданской обороны Российско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едерации - Председателя Правительства РФ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Times New Roman"/>
              </a:rPr>
              <a:t>и в отдельных случаях, требующих приня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Times New Roman"/>
              </a:rPr>
              <a:t>немедленного решения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Times New Roman"/>
              </a:rPr>
              <a:t>по решению</a:t>
            </a:r>
            <a:r>
              <a:rPr b="1" i="1" lang="ru-RU" sz="3200" spc="-1" strike="noStrike">
                <a:solidFill>
                  <a:srgbClr val="ff5050"/>
                </a:solidFill>
                <a:latin typeface="Times New Roman"/>
              </a:rPr>
              <a:t>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чальников ГО субъектов Российско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едерации с последующим докладом п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чиненнос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4"/>
          <p:cNvSpPr/>
          <p:nvPr/>
        </p:nvSpPr>
        <p:spPr>
          <a:xfrm>
            <a:off x="2514600" y="304920"/>
            <a:ext cx="4114800" cy="609480"/>
          </a:xfrm>
          <a:prstGeom prst="rect">
            <a:avLst/>
          </a:prstGeom>
          <a:gradFill rotWithShape="0">
            <a:gsLst>
              <a:gs pos="0">
                <a:srgbClr val="5e5e76"/>
              </a:gs>
              <a:gs pos="50000">
                <a:srgbClr val="ccccff"/>
              </a:gs>
              <a:gs pos="100000">
                <a:srgbClr val="5e5e76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Принцип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1828800" y="1828800"/>
            <a:ext cx="5562720" cy="838080"/>
          </a:xfrm>
          <a:prstGeom prst="rect">
            <a:avLst/>
          </a:prstGeom>
          <a:gradFill rotWithShape="0">
            <a:gsLst>
              <a:gs pos="0">
                <a:srgbClr val="00765e"/>
              </a:gs>
              <a:gs pos="50000">
                <a:srgbClr val="00ffcc"/>
              </a:gs>
              <a:gs pos="100000">
                <a:srgbClr val="00765e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обходимой достаточ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1600200" y="3505320"/>
            <a:ext cx="6019920" cy="914400"/>
          </a:xfrm>
          <a:prstGeom prst="rect">
            <a:avLst/>
          </a:prstGeom>
          <a:gradFill rotWithShape="0">
            <a:gsLst>
              <a:gs pos="0">
                <a:srgbClr val="00765e"/>
              </a:gs>
              <a:gs pos="50000">
                <a:srgbClr val="00ffcc"/>
              </a:gs>
              <a:gs pos="100000">
                <a:srgbClr val="00765e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ксимально возможного использо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меющихся собственных сил  и средст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1219320" y="5257800"/>
            <a:ext cx="6781680" cy="838080"/>
          </a:xfrm>
          <a:prstGeom prst="rect">
            <a:avLst/>
          </a:prstGeom>
          <a:gradFill rotWithShape="0">
            <a:gsLst>
              <a:gs pos="0">
                <a:srgbClr val="00765e"/>
              </a:gs>
              <a:gs pos="50000">
                <a:srgbClr val="00ffcc"/>
              </a:gs>
              <a:gs pos="100000">
                <a:srgbClr val="00765e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территориально-производственн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309240" y="457200"/>
            <a:ext cx="85734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Times New Roman"/>
              </a:rPr>
              <a:t>Производственно-территориальны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Times New Roman"/>
              </a:rPr>
              <a:t>                                                            </a:t>
            </a:r>
            <a:r>
              <a:rPr b="1" i="1" lang="ru-RU" sz="3200" spc="-1" strike="noStrike">
                <a:solidFill>
                  <a:srgbClr val="009900"/>
                </a:solidFill>
                <a:latin typeface="Times New Roman"/>
              </a:rPr>
              <a:t>принцип</a:t>
            </a:r>
            <a:r>
              <a:rPr b="0" i="1" lang="ru-RU" sz="32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ссредоточение  и эвакуация рабочих,   слу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ащих  и  неработающих   членов   их    семе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рганизуется   и   проводится   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по     объекта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экономик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вакуация остального населения, не занятог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производстве, - по месту жительства  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через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жилищно-эксплутационные  органы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по  терр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ториальному принцип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0" y="1447920"/>
            <a:ext cx="9144000" cy="2745360"/>
          </a:xfrm>
          <a:prstGeom prst="rect">
            <a:avLst/>
          </a:prstGeom>
          <a:gradFill rotWithShape="0">
            <a:gsLst>
              <a:gs pos="0">
                <a:srgbClr val="76762f"/>
              </a:gs>
              <a:gs pos="50000">
                <a:srgbClr val="ffff66"/>
              </a:gs>
              <a:gs pos="100000">
                <a:srgbClr val="7676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4762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ключается в вывозе в загородную зону  части эваконаселения всеми видами    имеющегося транспорта с  одновременным   выводом остальной его части пешим порядк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4762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3">
            <a:hlinkClick r:id="" action="ppaction://hlinkshowjump?jump=previousslide"/>
          </p:cNvPr>
          <p:cNvSpPr/>
          <p:nvPr/>
        </p:nvSpPr>
        <p:spPr>
          <a:xfrm>
            <a:off x="8483760" y="6350040"/>
            <a:ext cx="484200" cy="342720"/>
          </a:xfrm>
          <a:custGeom>
            <a:avLst/>
            <a:gdLst>
              <a:gd name="textAreaLeft" fmla="*/ 21960 w 484200"/>
              <a:gd name="textAreaRight" fmla="*/ 462240 w 484200"/>
              <a:gd name="textAreaTop" fmla="*/ 21960 h 342720"/>
              <a:gd name="textAreaBottom" fmla="*/ 320760 h 342720"/>
            </a:gdLst>
            <a:ahLst/>
            <a:rect l="textAreaLeft" t="textAreaTop" r="textAreaRight" b="textAreaBottom"/>
            <a:pathLst>
              <a:path w="30507" h="21600">
                <a:moveTo>
                  <a:pt x="0" y="0"/>
                </a:moveTo>
                <a:lnTo>
                  <a:pt x="30507" y="0"/>
                </a:lnTo>
                <a:lnTo>
                  <a:pt x="30507" y="21600"/>
                </a:lnTo>
                <a:lnTo>
                  <a:pt x="0" y="21600"/>
                </a:lnTo>
                <a:close/>
              </a:path>
              <a:path fill="lightenLess" w="30507" h="21600">
                <a:moveTo>
                  <a:pt x="0" y="0"/>
                </a:moveTo>
                <a:lnTo>
                  <a:pt x="30507" y="0"/>
                </a:lnTo>
                <a:lnTo>
                  <a:pt x="29107" y="1400"/>
                </a:lnTo>
                <a:lnTo>
                  <a:pt x="1400" y="1400"/>
                </a:lnTo>
                <a:close/>
              </a:path>
              <a:path fill="darken" w="30507" h="21600">
                <a:moveTo>
                  <a:pt x="30507" y="0"/>
                </a:moveTo>
                <a:lnTo>
                  <a:pt x="30507" y="21600"/>
                </a:lnTo>
                <a:lnTo>
                  <a:pt x="29107" y="20200"/>
                </a:lnTo>
                <a:lnTo>
                  <a:pt x="29107" y="1400"/>
                </a:lnTo>
                <a:close/>
              </a:path>
              <a:path fill="darkenLess" w="30507" h="21600">
                <a:moveTo>
                  <a:pt x="30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07" y="20200"/>
                </a:lnTo>
                <a:close/>
              </a:path>
              <a:path fill="lighten" w="30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07" h="21600">
                <a:moveTo>
                  <a:pt x="8247" y="10800"/>
                </a:moveTo>
                <a:lnTo>
                  <a:pt x="22260" y="3794"/>
                </a:lnTo>
                <a:lnTo>
                  <a:pt x="22260" y="17806"/>
                </a:lnTo>
                <a:close/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380880" y="4724280"/>
            <a:ext cx="8458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( Транспорт - не занятый воинскими и   другими особо важными перевозками по     мобилизационным  планам, независимо  от     форм собственности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1143000" y="380880"/>
            <a:ext cx="7162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66"/>
                </a:solidFill>
                <a:latin typeface="Times New Roman"/>
              </a:rPr>
              <a:t>Комбинированный способ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5400" y="0"/>
            <a:ext cx="9117000" cy="64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3000" spc="-1" strike="noStrike">
                <a:solidFill>
                  <a:srgbClr val="ff6600"/>
                </a:solidFill>
                <a:latin typeface="Times New Roman"/>
              </a:rPr>
              <a:t>В первую очередь транспортом вывозятся</a:t>
            </a:r>
            <a:r>
              <a:rPr b="0" lang="ru-RU" sz="3000" spc="-1" strike="noStrike">
                <a:solidFill>
                  <a:srgbClr val="ff6600"/>
                </a:solidFill>
                <a:latin typeface="Times New Roman"/>
              </a:rPr>
              <a:t>: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медицинские учрежд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население, которое не может передвигаться пешим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порядком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беременные женщины, женщины  с  детьми  до    14 лет, больные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ходящиеся на амбулаторном  лечении,    мужчины старше 65 лет и женщин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арше 60 лет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рабочие и служащие свободных смен объектов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продолжающих работу в военное время в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категорированных города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сотрудники органов государственного  управления,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важнейших научно- исследовательски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учреждений (НИУ)  и конструкторских бюро (КБ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стальное население планируется выводить    пешим порядко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00a900"/>
            </a:gs>
            <a:gs pos="100000">
              <a:srgbClr val="00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380880" y="990720"/>
            <a:ext cx="839628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ffff"/>
                </a:solidFill>
                <a:uFillTx/>
                <a:latin typeface="Arial"/>
              </a:rPr>
              <a:t>Учебные вопрос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buClr>
                <a:srgbClr val="00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Arial"/>
              </a:rPr>
              <a:t>Общие положения по организации и проведению эвакомероприят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buClr>
                <a:srgbClr val="00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buClr>
                <a:srgbClr val="00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Arial"/>
              </a:rPr>
              <a:t>Задачи и структура эвакуационных орган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a944"/>
            </a:gs>
            <a:gs pos="100000">
              <a:srgbClr val="66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990720" y="304920"/>
            <a:ext cx="1854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152280" y="0"/>
            <a:ext cx="883944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Загородная зон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то территория в пределах административных   границ субъектов Российской Федерации,   расположенная вне зон возможных разрушений (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ЗВР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), возможного опасного радиоактивного   загрязнения (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ЗВОРЗ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), возможного опасного   химического заражения (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ЗВОХЗ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), возможного   катастрофического затопления (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ЗВКЗ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),   вне приграничных районов, заблаговременно   подготовленная для размещения эвакуируемого   населения по условиям его первоочередного   жизнеобеспеч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Oval 63"/>
          <p:cNvSpPr/>
          <p:nvPr/>
        </p:nvSpPr>
        <p:spPr>
          <a:xfrm>
            <a:off x="6324480" y="3809880"/>
            <a:ext cx="1828800" cy="1752840"/>
          </a:xfrm>
          <a:prstGeom prst="ellipse">
            <a:avLst/>
          </a:prstGeom>
          <a:solidFill>
            <a:srgbClr val="ffff66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Oval 43"/>
          <p:cNvSpPr/>
          <p:nvPr/>
        </p:nvSpPr>
        <p:spPr>
          <a:xfrm>
            <a:off x="2438280" y="-304920"/>
            <a:ext cx="1752840" cy="1295640"/>
          </a:xfrm>
          <a:prstGeom prst="ellipse">
            <a:avLst/>
          </a:prstGeom>
          <a:solidFill>
            <a:srgbClr val="ffff66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29"/>
          <p:cNvSpPr/>
          <p:nvPr/>
        </p:nvSpPr>
        <p:spPr>
          <a:xfrm>
            <a:off x="6781680" y="990720"/>
            <a:ext cx="2532240" cy="1892160"/>
          </a:xfrm>
          <a:custGeom>
            <a:avLst/>
            <a:gdLst>
              <a:gd name="textAreaLeft" fmla="*/ 0 w 2532240"/>
              <a:gd name="textAreaRight" fmla="*/ 2532600 w 25322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595" h="1192">
                <a:moveTo>
                  <a:pt x="77" y="161"/>
                </a:moveTo>
                <a:cubicBezTo>
                  <a:pt x="156" y="78"/>
                  <a:pt x="25" y="210"/>
                  <a:pt x="120" y="135"/>
                </a:cubicBezTo>
                <a:cubicBezTo>
                  <a:pt x="128" y="129"/>
                  <a:pt x="129" y="116"/>
                  <a:pt x="137" y="109"/>
                </a:cubicBezTo>
                <a:cubicBezTo>
                  <a:pt x="231" y="33"/>
                  <a:pt x="378" y="95"/>
                  <a:pt x="499" y="92"/>
                </a:cubicBezTo>
                <a:cubicBezTo>
                  <a:pt x="550" y="74"/>
                  <a:pt x="602" y="58"/>
                  <a:pt x="653" y="40"/>
                </a:cubicBezTo>
                <a:cubicBezTo>
                  <a:pt x="699" y="24"/>
                  <a:pt x="750" y="34"/>
                  <a:pt x="799" y="32"/>
                </a:cubicBezTo>
                <a:cubicBezTo>
                  <a:pt x="862" y="29"/>
                  <a:pt x="926" y="26"/>
                  <a:pt x="989" y="23"/>
                </a:cubicBezTo>
                <a:cubicBezTo>
                  <a:pt x="1052" y="0"/>
                  <a:pt x="1058" y="7"/>
                  <a:pt x="1143" y="14"/>
                </a:cubicBezTo>
                <a:cubicBezTo>
                  <a:pt x="1204" y="35"/>
                  <a:pt x="1177" y="27"/>
                  <a:pt x="1221" y="40"/>
                </a:cubicBezTo>
                <a:cubicBezTo>
                  <a:pt x="1316" y="104"/>
                  <a:pt x="1180" y="15"/>
                  <a:pt x="1272" y="66"/>
                </a:cubicBezTo>
                <a:cubicBezTo>
                  <a:pt x="1320" y="92"/>
                  <a:pt x="1356" y="121"/>
                  <a:pt x="1410" y="135"/>
                </a:cubicBezTo>
                <a:cubicBezTo>
                  <a:pt x="1468" y="174"/>
                  <a:pt x="1446" y="155"/>
                  <a:pt x="1479" y="186"/>
                </a:cubicBezTo>
                <a:cubicBezTo>
                  <a:pt x="1501" y="257"/>
                  <a:pt x="1521" y="329"/>
                  <a:pt x="1539" y="401"/>
                </a:cubicBezTo>
                <a:cubicBezTo>
                  <a:pt x="1550" y="447"/>
                  <a:pt x="1553" y="493"/>
                  <a:pt x="1565" y="539"/>
                </a:cubicBezTo>
                <a:cubicBezTo>
                  <a:pt x="1563" y="600"/>
                  <a:pt x="1595" y="829"/>
                  <a:pt x="1513" y="908"/>
                </a:cubicBezTo>
                <a:cubicBezTo>
                  <a:pt x="1503" y="936"/>
                  <a:pt x="1488" y="958"/>
                  <a:pt x="1479" y="986"/>
                </a:cubicBezTo>
                <a:cubicBezTo>
                  <a:pt x="1491" y="1035"/>
                  <a:pt x="1496" y="1040"/>
                  <a:pt x="1479" y="1106"/>
                </a:cubicBezTo>
                <a:cubicBezTo>
                  <a:pt x="1477" y="1114"/>
                  <a:pt x="1467" y="1117"/>
                  <a:pt x="1461" y="1123"/>
                </a:cubicBezTo>
                <a:cubicBezTo>
                  <a:pt x="1423" y="1161"/>
                  <a:pt x="1390" y="1177"/>
                  <a:pt x="1341" y="1192"/>
                </a:cubicBezTo>
                <a:cubicBezTo>
                  <a:pt x="1307" y="1189"/>
                  <a:pt x="1272" y="1186"/>
                  <a:pt x="1238" y="1184"/>
                </a:cubicBezTo>
                <a:cubicBezTo>
                  <a:pt x="1169" y="1180"/>
                  <a:pt x="1101" y="1180"/>
                  <a:pt x="1032" y="1175"/>
                </a:cubicBezTo>
                <a:cubicBezTo>
                  <a:pt x="971" y="1170"/>
                  <a:pt x="864" y="1118"/>
                  <a:pt x="799" y="1098"/>
                </a:cubicBezTo>
                <a:cubicBezTo>
                  <a:pt x="778" y="1076"/>
                  <a:pt x="759" y="1073"/>
                  <a:pt x="731" y="1063"/>
                </a:cubicBezTo>
                <a:cubicBezTo>
                  <a:pt x="689" y="1024"/>
                  <a:pt x="614" y="1021"/>
                  <a:pt x="559" y="1003"/>
                </a:cubicBezTo>
                <a:cubicBezTo>
                  <a:pt x="456" y="968"/>
                  <a:pt x="610" y="1019"/>
                  <a:pt x="507" y="986"/>
                </a:cubicBezTo>
                <a:cubicBezTo>
                  <a:pt x="490" y="980"/>
                  <a:pt x="456" y="969"/>
                  <a:pt x="456" y="969"/>
                </a:cubicBezTo>
                <a:cubicBezTo>
                  <a:pt x="437" y="950"/>
                  <a:pt x="396" y="926"/>
                  <a:pt x="370" y="917"/>
                </a:cubicBezTo>
                <a:cubicBezTo>
                  <a:pt x="342" y="891"/>
                  <a:pt x="306" y="879"/>
                  <a:pt x="275" y="857"/>
                </a:cubicBezTo>
                <a:cubicBezTo>
                  <a:pt x="265" y="850"/>
                  <a:pt x="259" y="839"/>
                  <a:pt x="249" y="831"/>
                </a:cubicBezTo>
                <a:cubicBezTo>
                  <a:pt x="233" y="818"/>
                  <a:pt x="198" y="797"/>
                  <a:pt x="198" y="797"/>
                </a:cubicBezTo>
                <a:cubicBezTo>
                  <a:pt x="166" y="750"/>
                  <a:pt x="198" y="786"/>
                  <a:pt x="155" y="762"/>
                </a:cubicBezTo>
                <a:cubicBezTo>
                  <a:pt x="137" y="752"/>
                  <a:pt x="103" y="728"/>
                  <a:pt x="103" y="728"/>
                </a:cubicBezTo>
                <a:cubicBezTo>
                  <a:pt x="97" y="719"/>
                  <a:pt x="93" y="709"/>
                  <a:pt x="86" y="702"/>
                </a:cubicBezTo>
                <a:cubicBezTo>
                  <a:pt x="79" y="695"/>
                  <a:pt x="67" y="693"/>
                  <a:pt x="60" y="685"/>
                </a:cubicBezTo>
                <a:cubicBezTo>
                  <a:pt x="30" y="651"/>
                  <a:pt x="11" y="608"/>
                  <a:pt x="0" y="565"/>
                </a:cubicBezTo>
                <a:cubicBezTo>
                  <a:pt x="3" y="508"/>
                  <a:pt x="4" y="450"/>
                  <a:pt x="9" y="393"/>
                </a:cubicBezTo>
                <a:cubicBezTo>
                  <a:pt x="12" y="361"/>
                  <a:pt x="26" y="341"/>
                  <a:pt x="26" y="307"/>
                </a:cubicBezTo>
              </a:path>
            </a:pathLst>
          </a:custGeom>
          <a:solidFill>
            <a:srgbClr val="ffff66"/>
          </a:solidFill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Oval 19"/>
          <p:cNvSpPr/>
          <p:nvPr/>
        </p:nvSpPr>
        <p:spPr>
          <a:xfrm>
            <a:off x="-838080" y="4495680"/>
            <a:ext cx="3429000" cy="3048120"/>
          </a:xfrm>
          <a:prstGeom prst="ellipse">
            <a:avLst/>
          </a:prstGeom>
          <a:solidFill>
            <a:srgbClr val="ffff66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Oval 18"/>
          <p:cNvSpPr/>
          <p:nvPr/>
        </p:nvSpPr>
        <p:spPr>
          <a:xfrm>
            <a:off x="-228600" y="5105520"/>
            <a:ext cx="2057400" cy="1904760"/>
          </a:xfrm>
          <a:prstGeom prst="ellipse">
            <a:avLst/>
          </a:prstGeom>
          <a:solidFill>
            <a:srgbClr val="ffff66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Oval 17"/>
          <p:cNvSpPr/>
          <p:nvPr/>
        </p:nvSpPr>
        <p:spPr>
          <a:xfrm>
            <a:off x="152280" y="5486400"/>
            <a:ext cx="1295640" cy="1143000"/>
          </a:xfrm>
          <a:prstGeom prst="ellipse">
            <a:avLst/>
          </a:prstGeom>
          <a:solidFill>
            <a:srgbClr val="ffcc00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Oval 7"/>
          <p:cNvSpPr/>
          <p:nvPr/>
        </p:nvSpPr>
        <p:spPr>
          <a:xfrm>
            <a:off x="-1447920" y="380880"/>
            <a:ext cx="3733920" cy="3733920"/>
          </a:xfrm>
          <a:prstGeom prst="ellipse">
            <a:avLst/>
          </a:prstGeom>
          <a:solidFill>
            <a:srgbClr val="ffff66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Oval 6"/>
          <p:cNvSpPr/>
          <p:nvPr/>
        </p:nvSpPr>
        <p:spPr>
          <a:xfrm>
            <a:off x="-762120" y="1143000"/>
            <a:ext cx="2210040" cy="2286000"/>
          </a:xfrm>
          <a:prstGeom prst="ellipse">
            <a:avLst/>
          </a:prstGeom>
          <a:solidFill>
            <a:srgbClr val="ffff66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5"/>
          <p:cNvSpPr/>
          <p:nvPr/>
        </p:nvSpPr>
        <p:spPr>
          <a:xfrm>
            <a:off x="-304920" y="1676520"/>
            <a:ext cx="1295640" cy="1295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оро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гр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О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3279600" y="2666880"/>
            <a:ext cx="301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00"/>
                </a:solidFill>
                <a:latin typeface="Arial"/>
              </a:rPr>
              <a:t>Загородна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00"/>
                </a:solidFill>
                <a:latin typeface="Arial"/>
              </a:rPr>
              <a:t>зон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1219320" y="2057400"/>
            <a:ext cx="457200" cy="228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ЗВ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1981080" y="2057400"/>
            <a:ext cx="533520" cy="228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ЗВОР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15"/>
          <p:cNvSpPr/>
          <p:nvPr/>
        </p:nvSpPr>
        <p:spPr>
          <a:xfrm>
            <a:off x="380880" y="5715000"/>
            <a:ext cx="838440" cy="685800"/>
          </a:xfrm>
          <a:prstGeom prst="hexagon">
            <a:avLst>
              <a:gd name="adj" fmla="val 30564"/>
              <a:gd name="vf" fmla="val 115470"/>
            </a:avLst>
          </a:prstGeom>
          <a:solidFill>
            <a:srgbClr val="ffcc00"/>
          </a:solidFill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20"/>
          <p:cNvSpPr/>
          <p:nvPr/>
        </p:nvSpPr>
        <p:spPr>
          <a:xfrm>
            <a:off x="1066680" y="5638680"/>
            <a:ext cx="533520" cy="228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ЗВС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23"/>
          <p:cNvSpPr/>
          <p:nvPr/>
        </p:nvSpPr>
        <p:spPr>
          <a:xfrm>
            <a:off x="1523880" y="5943600"/>
            <a:ext cx="533520" cy="228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ЗВ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26"/>
          <p:cNvSpPr/>
          <p:nvPr/>
        </p:nvSpPr>
        <p:spPr>
          <a:xfrm>
            <a:off x="2209680" y="6248520"/>
            <a:ext cx="685800" cy="228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ЗВОР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0" name="Object 28"/>
          <p:cNvGraphicFramePr/>
          <p:nvPr/>
        </p:nvGraphicFramePr>
        <p:xfrm>
          <a:off x="5027760" y="225360"/>
          <a:ext cx="4073400" cy="187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7760" y="225360"/>
                    <a:ext cx="4073400" cy="18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238520" y="1980720"/>
            <a:ext cx="16002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ЗВК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31"/>
          <p:cNvSpPr/>
          <p:nvPr/>
        </p:nvSpPr>
        <p:spPr>
          <a:xfrm rot="17809800">
            <a:off x="6476760" y="1295280"/>
            <a:ext cx="83808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Freeform 32"/>
          <p:cNvSpPr/>
          <p:nvPr/>
        </p:nvSpPr>
        <p:spPr>
          <a:xfrm>
            <a:off x="7238880" y="5791320"/>
            <a:ext cx="2237040" cy="1363680"/>
          </a:xfrm>
          <a:custGeom>
            <a:avLst/>
            <a:gdLst>
              <a:gd name="textAreaLeft" fmla="*/ 0 w 2237040"/>
              <a:gd name="textAreaRight" fmla="*/ 2237400 w 2237040"/>
              <a:gd name="textAreaTop" fmla="*/ 0 h 1363680"/>
              <a:gd name="textAreaBottom" fmla="*/ 1364040 h 1363680"/>
            </a:gdLst>
            <a:ahLst/>
            <a:rect l="textAreaLeft" t="textAreaTop" r="textAreaRight" b="textAreaBottom"/>
            <a:pathLst>
              <a:path w="1409" h="859">
                <a:moveTo>
                  <a:pt x="0" y="859"/>
                </a:moveTo>
                <a:cubicBezTo>
                  <a:pt x="19" y="805"/>
                  <a:pt x="51" y="763"/>
                  <a:pt x="106" y="744"/>
                </a:cubicBezTo>
                <a:cubicBezTo>
                  <a:pt x="131" y="707"/>
                  <a:pt x="162" y="687"/>
                  <a:pt x="204" y="673"/>
                </a:cubicBezTo>
                <a:cubicBezTo>
                  <a:pt x="241" y="647"/>
                  <a:pt x="272" y="619"/>
                  <a:pt x="310" y="593"/>
                </a:cubicBezTo>
                <a:cubicBezTo>
                  <a:pt x="333" y="577"/>
                  <a:pt x="388" y="568"/>
                  <a:pt x="417" y="558"/>
                </a:cubicBezTo>
                <a:cubicBezTo>
                  <a:pt x="472" y="539"/>
                  <a:pt x="522" y="514"/>
                  <a:pt x="576" y="496"/>
                </a:cubicBezTo>
                <a:cubicBezTo>
                  <a:pt x="625" y="479"/>
                  <a:pt x="671" y="463"/>
                  <a:pt x="718" y="443"/>
                </a:cubicBezTo>
                <a:cubicBezTo>
                  <a:pt x="735" y="436"/>
                  <a:pt x="771" y="425"/>
                  <a:pt x="771" y="425"/>
                </a:cubicBezTo>
                <a:cubicBezTo>
                  <a:pt x="826" y="383"/>
                  <a:pt x="879" y="357"/>
                  <a:pt x="939" y="327"/>
                </a:cubicBezTo>
                <a:cubicBezTo>
                  <a:pt x="949" y="322"/>
                  <a:pt x="956" y="314"/>
                  <a:pt x="966" y="310"/>
                </a:cubicBezTo>
                <a:cubicBezTo>
                  <a:pt x="983" y="303"/>
                  <a:pt x="1019" y="292"/>
                  <a:pt x="1019" y="292"/>
                </a:cubicBezTo>
                <a:cubicBezTo>
                  <a:pt x="1063" y="225"/>
                  <a:pt x="999" y="310"/>
                  <a:pt x="1090" y="248"/>
                </a:cubicBezTo>
                <a:cubicBezTo>
                  <a:pt x="1118" y="229"/>
                  <a:pt x="1142" y="205"/>
                  <a:pt x="1170" y="186"/>
                </a:cubicBezTo>
                <a:cubicBezTo>
                  <a:pt x="1178" y="181"/>
                  <a:pt x="1188" y="181"/>
                  <a:pt x="1196" y="177"/>
                </a:cubicBezTo>
                <a:cubicBezTo>
                  <a:pt x="1301" y="118"/>
                  <a:pt x="1212" y="165"/>
                  <a:pt x="1276" y="115"/>
                </a:cubicBezTo>
                <a:cubicBezTo>
                  <a:pt x="1293" y="102"/>
                  <a:pt x="1329" y="79"/>
                  <a:pt x="1329" y="79"/>
                </a:cubicBezTo>
                <a:cubicBezTo>
                  <a:pt x="1352" y="45"/>
                  <a:pt x="1390" y="35"/>
                  <a:pt x="1409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Freeform 35"/>
          <p:cNvSpPr/>
          <p:nvPr/>
        </p:nvSpPr>
        <p:spPr>
          <a:xfrm>
            <a:off x="6781680" y="5334120"/>
            <a:ext cx="2237040" cy="1363680"/>
          </a:xfrm>
          <a:custGeom>
            <a:avLst/>
            <a:gdLst>
              <a:gd name="textAreaLeft" fmla="*/ 0 w 2237040"/>
              <a:gd name="textAreaRight" fmla="*/ 2237400 w 2237040"/>
              <a:gd name="textAreaTop" fmla="*/ 0 h 1363680"/>
              <a:gd name="textAreaBottom" fmla="*/ 1364040 h 1363680"/>
            </a:gdLst>
            <a:ahLst/>
            <a:rect l="textAreaLeft" t="textAreaTop" r="textAreaRight" b="textAreaBottom"/>
            <a:pathLst>
              <a:path w="1409" h="859">
                <a:moveTo>
                  <a:pt x="0" y="859"/>
                </a:moveTo>
                <a:cubicBezTo>
                  <a:pt x="19" y="805"/>
                  <a:pt x="51" y="763"/>
                  <a:pt x="106" y="744"/>
                </a:cubicBezTo>
                <a:cubicBezTo>
                  <a:pt x="131" y="707"/>
                  <a:pt x="162" y="687"/>
                  <a:pt x="204" y="673"/>
                </a:cubicBezTo>
                <a:cubicBezTo>
                  <a:pt x="241" y="647"/>
                  <a:pt x="272" y="619"/>
                  <a:pt x="310" y="593"/>
                </a:cubicBezTo>
                <a:cubicBezTo>
                  <a:pt x="333" y="577"/>
                  <a:pt x="388" y="568"/>
                  <a:pt x="417" y="558"/>
                </a:cubicBezTo>
                <a:cubicBezTo>
                  <a:pt x="472" y="539"/>
                  <a:pt x="522" y="514"/>
                  <a:pt x="576" y="496"/>
                </a:cubicBezTo>
                <a:cubicBezTo>
                  <a:pt x="625" y="479"/>
                  <a:pt x="671" y="463"/>
                  <a:pt x="718" y="443"/>
                </a:cubicBezTo>
                <a:cubicBezTo>
                  <a:pt x="735" y="436"/>
                  <a:pt x="771" y="425"/>
                  <a:pt x="771" y="425"/>
                </a:cubicBezTo>
                <a:cubicBezTo>
                  <a:pt x="826" y="383"/>
                  <a:pt x="879" y="357"/>
                  <a:pt x="939" y="327"/>
                </a:cubicBezTo>
                <a:cubicBezTo>
                  <a:pt x="949" y="322"/>
                  <a:pt x="956" y="314"/>
                  <a:pt x="966" y="310"/>
                </a:cubicBezTo>
                <a:cubicBezTo>
                  <a:pt x="983" y="303"/>
                  <a:pt x="1019" y="292"/>
                  <a:pt x="1019" y="292"/>
                </a:cubicBezTo>
                <a:cubicBezTo>
                  <a:pt x="1063" y="225"/>
                  <a:pt x="999" y="310"/>
                  <a:pt x="1090" y="248"/>
                </a:cubicBezTo>
                <a:cubicBezTo>
                  <a:pt x="1118" y="229"/>
                  <a:pt x="1142" y="205"/>
                  <a:pt x="1170" y="186"/>
                </a:cubicBezTo>
                <a:cubicBezTo>
                  <a:pt x="1178" y="181"/>
                  <a:pt x="1188" y="181"/>
                  <a:pt x="1196" y="177"/>
                </a:cubicBezTo>
                <a:cubicBezTo>
                  <a:pt x="1301" y="118"/>
                  <a:pt x="1212" y="165"/>
                  <a:pt x="1276" y="115"/>
                </a:cubicBezTo>
                <a:cubicBezTo>
                  <a:pt x="1293" y="102"/>
                  <a:pt x="1329" y="79"/>
                  <a:pt x="1329" y="79"/>
                </a:cubicBezTo>
                <a:cubicBezTo>
                  <a:pt x="1352" y="45"/>
                  <a:pt x="1390" y="35"/>
                  <a:pt x="1409" y="0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Freeform 36"/>
          <p:cNvSpPr/>
          <p:nvPr/>
        </p:nvSpPr>
        <p:spPr>
          <a:xfrm>
            <a:off x="6683400" y="5303880"/>
            <a:ext cx="2700360" cy="1673280"/>
          </a:xfrm>
          <a:custGeom>
            <a:avLst/>
            <a:gdLst>
              <a:gd name="textAreaLeft" fmla="*/ 0 w 2700360"/>
              <a:gd name="textAreaRight" fmla="*/ 2700720 w 2700360"/>
              <a:gd name="textAreaTop" fmla="*/ 0 h 1673280"/>
              <a:gd name="textAreaBottom" fmla="*/ 1673640 h 1673280"/>
            </a:gdLst>
            <a:ahLst/>
            <a:rect l="textAreaLeft" t="textAreaTop" r="textAreaRight" b="textAreaBottom"/>
            <a:pathLst>
              <a:path w="1701" h="1054">
                <a:moveTo>
                  <a:pt x="17" y="975"/>
                </a:moveTo>
                <a:cubicBezTo>
                  <a:pt x="64" y="959"/>
                  <a:pt x="30" y="979"/>
                  <a:pt x="52" y="939"/>
                </a:cubicBezTo>
                <a:cubicBezTo>
                  <a:pt x="80" y="888"/>
                  <a:pt x="119" y="821"/>
                  <a:pt x="168" y="788"/>
                </a:cubicBezTo>
                <a:cubicBezTo>
                  <a:pt x="192" y="751"/>
                  <a:pt x="223" y="730"/>
                  <a:pt x="265" y="718"/>
                </a:cubicBezTo>
                <a:cubicBezTo>
                  <a:pt x="274" y="712"/>
                  <a:pt x="282" y="704"/>
                  <a:pt x="292" y="700"/>
                </a:cubicBezTo>
                <a:cubicBezTo>
                  <a:pt x="309" y="692"/>
                  <a:pt x="345" y="682"/>
                  <a:pt x="345" y="682"/>
                </a:cubicBezTo>
                <a:cubicBezTo>
                  <a:pt x="372" y="663"/>
                  <a:pt x="394" y="657"/>
                  <a:pt x="425" y="647"/>
                </a:cubicBezTo>
                <a:cubicBezTo>
                  <a:pt x="449" y="610"/>
                  <a:pt x="484" y="604"/>
                  <a:pt x="522" y="585"/>
                </a:cubicBezTo>
                <a:cubicBezTo>
                  <a:pt x="608" y="542"/>
                  <a:pt x="703" y="519"/>
                  <a:pt x="797" y="496"/>
                </a:cubicBezTo>
                <a:cubicBezTo>
                  <a:pt x="821" y="479"/>
                  <a:pt x="850" y="464"/>
                  <a:pt x="877" y="452"/>
                </a:cubicBezTo>
                <a:cubicBezTo>
                  <a:pt x="894" y="445"/>
                  <a:pt x="930" y="434"/>
                  <a:pt x="930" y="434"/>
                </a:cubicBezTo>
                <a:cubicBezTo>
                  <a:pt x="992" y="393"/>
                  <a:pt x="966" y="411"/>
                  <a:pt x="1009" y="381"/>
                </a:cubicBezTo>
                <a:cubicBezTo>
                  <a:pt x="1025" y="370"/>
                  <a:pt x="1063" y="363"/>
                  <a:pt x="1063" y="363"/>
                </a:cubicBezTo>
                <a:cubicBezTo>
                  <a:pt x="1107" y="319"/>
                  <a:pt x="1169" y="296"/>
                  <a:pt x="1222" y="266"/>
                </a:cubicBezTo>
                <a:cubicBezTo>
                  <a:pt x="1250" y="250"/>
                  <a:pt x="1275" y="230"/>
                  <a:pt x="1302" y="212"/>
                </a:cubicBezTo>
                <a:cubicBezTo>
                  <a:pt x="1311" y="206"/>
                  <a:pt x="1318" y="198"/>
                  <a:pt x="1328" y="195"/>
                </a:cubicBezTo>
                <a:cubicBezTo>
                  <a:pt x="1337" y="192"/>
                  <a:pt x="1347" y="191"/>
                  <a:pt x="1355" y="186"/>
                </a:cubicBezTo>
                <a:cubicBezTo>
                  <a:pt x="1374" y="176"/>
                  <a:pt x="1408" y="150"/>
                  <a:pt x="1408" y="150"/>
                </a:cubicBezTo>
                <a:cubicBezTo>
                  <a:pt x="1463" y="70"/>
                  <a:pt x="1387" y="169"/>
                  <a:pt x="1453" y="115"/>
                </a:cubicBezTo>
                <a:cubicBezTo>
                  <a:pt x="1461" y="108"/>
                  <a:pt x="1463" y="96"/>
                  <a:pt x="1470" y="88"/>
                </a:cubicBezTo>
                <a:cubicBezTo>
                  <a:pt x="1488" y="66"/>
                  <a:pt x="1500" y="60"/>
                  <a:pt x="1523" y="44"/>
                </a:cubicBezTo>
                <a:cubicBezTo>
                  <a:pt x="1553" y="0"/>
                  <a:pt x="1567" y="9"/>
                  <a:pt x="1621" y="18"/>
                </a:cubicBezTo>
                <a:cubicBezTo>
                  <a:pt x="1634" y="160"/>
                  <a:pt x="1701" y="351"/>
                  <a:pt x="1568" y="443"/>
                </a:cubicBezTo>
                <a:cubicBezTo>
                  <a:pt x="1562" y="452"/>
                  <a:pt x="1558" y="462"/>
                  <a:pt x="1550" y="469"/>
                </a:cubicBezTo>
                <a:cubicBezTo>
                  <a:pt x="1534" y="483"/>
                  <a:pt x="1497" y="505"/>
                  <a:pt x="1497" y="505"/>
                </a:cubicBezTo>
                <a:cubicBezTo>
                  <a:pt x="1468" y="546"/>
                  <a:pt x="1489" y="528"/>
                  <a:pt x="1426" y="549"/>
                </a:cubicBezTo>
                <a:cubicBezTo>
                  <a:pt x="1416" y="552"/>
                  <a:pt x="1409" y="563"/>
                  <a:pt x="1399" y="567"/>
                </a:cubicBezTo>
                <a:cubicBezTo>
                  <a:pt x="1382" y="575"/>
                  <a:pt x="1362" y="575"/>
                  <a:pt x="1346" y="585"/>
                </a:cubicBezTo>
                <a:cubicBezTo>
                  <a:pt x="1337" y="591"/>
                  <a:pt x="1329" y="598"/>
                  <a:pt x="1320" y="602"/>
                </a:cubicBezTo>
                <a:cubicBezTo>
                  <a:pt x="1303" y="610"/>
                  <a:pt x="1266" y="620"/>
                  <a:pt x="1266" y="620"/>
                </a:cubicBezTo>
                <a:cubicBezTo>
                  <a:pt x="1250" y="631"/>
                  <a:pt x="1229" y="635"/>
                  <a:pt x="1213" y="647"/>
                </a:cubicBezTo>
                <a:cubicBezTo>
                  <a:pt x="1205" y="653"/>
                  <a:pt x="1204" y="667"/>
                  <a:pt x="1196" y="673"/>
                </a:cubicBezTo>
                <a:cubicBezTo>
                  <a:pt x="1189" y="679"/>
                  <a:pt x="1177" y="677"/>
                  <a:pt x="1169" y="682"/>
                </a:cubicBezTo>
                <a:cubicBezTo>
                  <a:pt x="1082" y="731"/>
                  <a:pt x="1148" y="708"/>
                  <a:pt x="1089" y="726"/>
                </a:cubicBezTo>
                <a:cubicBezTo>
                  <a:pt x="1029" y="768"/>
                  <a:pt x="916" y="793"/>
                  <a:pt x="841" y="806"/>
                </a:cubicBezTo>
                <a:cubicBezTo>
                  <a:pt x="808" y="828"/>
                  <a:pt x="747" y="855"/>
                  <a:pt x="708" y="868"/>
                </a:cubicBezTo>
                <a:cubicBezTo>
                  <a:pt x="680" y="887"/>
                  <a:pt x="611" y="918"/>
                  <a:pt x="575" y="930"/>
                </a:cubicBezTo>
                <a:cubicBezTo>
                  <a:pt x="506" y="978"/>
                  <a:pt x="591" y="922"/>
                  <a:pt x="522" y="957"/>
                </a:cubicBezTo>
                <a:cubicBezTo>
                  <a:pt x="490" y="973"/>
                  <a:pt x="477" y="998"/>
                  <a:pt x="442" y="1010"/>
                </a:cubicBezTo>
                <a:cubicBezTo>
                  <a:pt x="403" y="1050"/>
                  <a:pt x="385" y="1046"/>
                  <a:pt x="327" y="1054"/>
                </a:cubicBezTo>
                <a:cubicBezTo>
                  <a:pt x="233" y="1051"/>
                  <a:pt x="138" y="1050"/>
                  <a:pt x="44" y="1045"/>
                </a:cubicBezTo>
                <a:cubicBezTo>
                  <a:pt x="35" y="1044"/>
                  <a:pt x="19" y="1046"/>
                  <a:pt x="17" y="1037"/>
                </a:cubicBezTo>
                <a:cubicBezTo>
                  <a:pt x="0" y="972"/>
                  <a:pt x="51" y="975"/>
                  <a:pt x="17" y="975"/>
                </a:cubicBez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37"/>
          <p:cNvSpPr/>
          <p:nvPr/>
        </p:nvSpPr>
        <p:spPr>
          <a:xfrm>
            <a:off x="5181480" y="685800"/>
            <a:ext cx="1600200" cy="228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cc"/>
                </a:solidFill>
                <a:latin typeface="Times New Roman"/>
              </a:rPr>
              <a:t>водохранилищ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Oval 39"/>
          <p:cNvSpPr/>
          <p:nvPr/>
        </p:nvSpPr>
        <p:spPr>
          <a:xfrm>
            <a:off x="3733920" y="5257800"/>
            <a:ext cx="1295280" cy="99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объект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М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41"/>
          <p:cNvSpPr/>
          <p:nvPr/>
        </p:nvSpPr>
        <p:spPr>
          <a:xfrm>
            <a:off x="2895480" y="0"/>
            <a:ext cx="838440" cy="533520"/>
          </a:xfrm>
          <a:prstGeom prst="hexagon">
            <a:avLst>
              <a:gd name="adj" fmla="val 39288"/>
              <a:gd name="vf" fmla="val 115470"/>
            </a:avLst>
          </a:prstGeom>
          <a:solidFill>
            <a:srgbClr val="ffcc00"/>
          </a:solidFill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ХО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44"/>
          <p:cNvSpPr/>
          <p:nvPr/>
        </p:nvSpPr>
        <p:spPr>
          <a:xfrm>
            <a:off x="3048120" y="685800"/>
            <a:ext cx="685800" cy="228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ЗВОХ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47"/>
          <p:cNvSpPr/>
          <p:nvPr/>
        </p:nvSpPr>
        <p:spPr>
          <a:xfrm>
            <a:off x="838080" y="2819520"/>
            <a:ext cx="304920" cy="3045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49"/>
          <p:cNvSpPr/>
          <p:nvPr/>
        </p:nvSpPr>
        <p:spPr>
          <a:xfrm>
            <a:off x="1295280" y="3200400"/>
            <a:ext cx="381240" cy="380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50"/>
          <p:cNvSpPr/>
          <p:nvPr/>
        </p:nvSpPr>
        <p:spPr>
          <a:xfrm>
            <a:off x="1066680" y="6172200"/>
            <a:ext cx="228600" cy="304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52"/>
          <p:cNvSpPr/>
          <p:nvPr/>
        </p:nvSpPr>
        <p:spPr>
          <a:xfrm>
            <a:off x="1371600" y="6324480"/>
            <a:ext cx="228600" cy="304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54"/>
          <p:cNvSpPr/>
          <p:nvPr/>
        </p:nvSpPr>
        <p:spPr>
          <a:xfrm>
            <a:off x="1828800" y="6553080"/>
            <a:ext cx="304920" cy="304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ree"/>
          <p:cNvSpPr/>
          <p:nvPr/>
        </p:nvSpPr>
        <p:spPr>
          <a:xfrm>
            <a:off x="3733920" y="4876920"/>
            <a:ext cx="304560" cy="371520"/>
          </a:xfrm>
          <a:custGeom>
            <a:avLst/>
            <a:gdLst>
              <a:gd name="textAreaLeft" fmla="*/ 10440 w 304560"/>
              <a:gd name="textAreaRight" fmla="*/ 297360 w 304560"/>
              <a:gd name="textAreaTop" fmla="*/ 386280 h 371520"/>
              <a:gd name="textAreaBottom" fmla="*/ 486720 h 3715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ree"/>
          <p:cNvSpPr/>
          <p:nvPr/>
        </p:nvSpPr>
        <p:spPr>
          <a:xfrm>
            <a:off x="4648320" y="4191120"/>
            <a:ext cx="304560" cy="371520"/>
          </a:xfrm>
          <a:custGeom>
            <a:avLst/>
            <a:gdLst>
              <a:gd name="textAreaLeft" fmla="*/ 10440 w 304560"/>
              <a:gd name="textAreaRight" fmla="*/ 297360 w 304560"/>
              <a:gd name="textAreaTop" fmla="*/ 386280 h 371520"/>
              <a:gd name="textAreaBottom" fmla="*/ 486720 h 3715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ree"/>
          <p:cNvSpPr/>
          <p:nvPr/>
        </p:nvSpPr>
        <p:spPr>
          <a:xfrm>
            <a:off x="6248520" y="3962520"/>
            <a:ext cx="304560" cy="371520"/>
          </a:xfrm>
          <a:custGeom>
            <a:avLst/>
            <a:gdLst>
              <a:gd name="textAreaLeft" fmla="*/ 10440 w 304560"/>
              <a:gd name="textAreaRight" fmla="*/ 297360 w 304560"/>
              <a:gd name="textAreaTop" fmla="*/ 386280 h 371520"/>
              <a:gd name="textAreaBottom" fmla="*/ 486720 h 3715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ree"/>
          <p:cNvSpPr/>
          <p:nvPr/>
        </p:nvSpPr>
        <p:spPr>
          <a:xfrm>
            <a:off x="7467480" y="3429000"/>
            <a:ext cx="304920" cy="371520"/>
          </a:xfrm>
          <a:custGeom>
            <a:avLst/>
            <a:gdLst>
              <a:gd name="textAreaLeft" fmla="*/ 10440 w 304920"/>
              <a:gd name="textAreaRight" fmla="*/ 297720 w 304920"/>
              <a:gd name="textAreaTop" fmla="*/ 386280 h 371520"/>
              <a:gd name="textAreaBottom" fmla="*/ 486720 h 3715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AutoShape 60"/>
          <p:cNvSpPr/>
          <p:nvPr/>
        </p:nvSpPr>
        <p:spPr>
          <a:xfrm>
            <a:off x="6858000" y="4419720"/>
            <a:ext cx="838080" cy="533160"/>
          </a:xfrm>
          <a:prstGeom prst="hexagon">
            <a:avLst>
              <a:gd name="adj" fmla="val 39298"/>
              <a:gd name="vf" fmla="val 115470"/>
            </a:avLst>
          </a:prstGeom>
          <a:solidFill>
            <a:srgbClr val="ffcc00"/>
          </a:solidFill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О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62"/>
          <p:cNvSpPr/>
          <p:nvPr/>
        </p:nvSpPr>
        <p:spPr>
          <a:xfrm>
            <a:off x="7391520" y="5181480"/>
            <a:ext cx="685800" cy="228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ЗВОР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50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50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500"/>
                            </p:stCondLst>
                            <p:childTnLst>
                              <p:par>
                                <p:cTn id="7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650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8000"/>
                            </p:stCondLst>
                            <p:childTnLst>
                              <p:par>
                                <p:cTn id="9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9500"/>
                            </p:stCondLst>
                            <p:childTnLst>
                              <p:par>
                                <p:cTn id="9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228600" y="137160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Times New Roman"/>
              </a:rPr>
              <a:t>в зависимости от времени и сроков провед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2438280" y="4572000"/>
            <a:ext cx="4191120" cy="5205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66ff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кстренн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2362320" y="2895480"/>
            <a:ext cx="4343400" cy="5205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66ff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преждающ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7315200" y="304920"/>
            <a:ext cx="1447920" cy="368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ЧС  ПТ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609480" y="609480"/>
            <a:ext cx="792504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Times New Roman"/>
              </a:rPr>
              <a:t>в зависимости от развития ЧС и численности выводимого насел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304920" y="1828800"/>
            <a:ext cx="8610480" cy="1076760"/>
          </a:xfrm>
          <a:prstGeom prst="rect">
            <a:avLst/>
          </a:prstGeom>
          <a:gradFill rotWithShape="0">
            <a:gsLst>
              <a:gs pos="0">
                <a:srgbClr val="a9a944"/>
              </a:gs>
              <a:gs pos="50000">
                <a:srgbClr val="ffff66"/>
              </a:gs>
              <a:gs pos="100000">
                <a:srgbClr val="a9a94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Локальна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она Ч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отд. гор. м/районы, сельские Н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исленность э/насел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до неск. дес. тыс. че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304920" y="3429000"/>
            <a:ext cx="8610480" cy="1210320"/>
          </a:xfrm>
          <a:prstGeom prst="rect">
            <a:avLst/>
          </a:prstGeom>
          <a:gradFill rotWithShape="0">
            <a:gsLst>
              <a:gs pos="0">
                <a:srgbClr val="8f8f39"/>
              </a:gs>
              <a:gs pos="50000">
                <a:srgbClr val="ffff66"/>
              </a:gs>
              <a:gs pos="100000">
                <a:srgbClr val="8f8f3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1000" indent="-152100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Местна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она Ч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средние города, р-ны крупных город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521000" indent="-152100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исленность э/насел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от неск. тыс  до десятков      тыс. че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304920" y="5257800"/>
            <a:ext cx="8686800" cy="1044720"/>
          </a:xfrm>
          <a:prstGeom prst="rect">
            <a:avLst/>
          </a:prstGeom>
          <a:gradFill rotWithShape="0">
            <a:gsLst>
              <a:gs pos="0">
                <a:srgbClr val="8f8f39"/>
              </a:gs>
              <a:gs pos="50000">
                <a:srgbClr val="ffff66"/>
              </a:gs>
              <a:gs pos="100000">
                <a:srgbClr val="8f8f3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1000" indent="-15210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Региональна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она Ч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территория одного или нескольких регионов с высокой плотностью насе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8"/>
          <p:cNvSpPr/>
          <p:nvPr/>
        </p:nvSpPr>
        <p:spPr>
          <a:xfrm>
            <a:off x="7162920" y="152280"/>
            <a:ext cx="1600200" cy="368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ЧС  ПТ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7391520" y="304920"/>
            <a:ext cx="1447560" cy="368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ЧС  ПТ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457200" y="914400"/>
            <a:ext cx="83059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Times New Roman"/>
              </a:rPr>
              <a:t>в  зависимости от охвата эвакуационными мероприятиями насел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380880" y="2666880"/>
            <a:ext cx="8458200" cy="1404360"/>
          </a:xfrm>
          <a:prstGeom prst="rect">
            <a:avLst/>
          </a:prstGeom>
          <a:gradFill rotWithShape="0">
            <a:gsLst>
              <a:gs pos="0">
                <a:srgbClr val="00a900"/>
              </a:gs>
              <a:gs pos="50000">
                <a:srgbClr val="00ff00"/>
              </a:gs>
              <a:gs pos="100000">
                <a:srgbClr val="00a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Обща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вод из зоны ЧС всего насе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380880" y="4495680"/>
            <a:ext cx="8458200" cy="965160"/>
          </a:xfrm>
          <a:prstGeom prst="rect">
            <a:avLst/>
          </a:prstGeom>
          <a:gradFill rotWithShape="0">
            <a:gsLst>
              <a:gs pos="0">
                <a:srgbClr val="00a900"/>
              </a:gs>
              <a:gs pos="50000">
                <a:srgbClr val="00ff00"/>
              </a:gs>
              <a:gs pos="100000">
                <a:srgbClr val="00a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473200" indent="-247320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Частична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вод из зоны ЧС населения, наиболее подверженного воздействию ПФ Ч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380880" y="1295280"/>
            <a:ext cx="8458200" cy="39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Times New Roman"/>
              </a:rPr>
              <a:t>Право принятия  решения на эвакуаци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3333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руководители  ОИВ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субъектов Р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3333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руководители органов местного самоуправ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3333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3333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9900"/>
                </a:solidFill>
                <a:uFillTx/>
                <a:latin typeface="Times New Roman"/>
              </a:rPr>
              <a:t>ДДС  ПО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- экстренная эвакуация локального характера         (при необходимости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7238880" y="41400"/>
            <a:ext cx="1654200" cy="368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ЧС  ПТ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6840" y="-149400"/>
            <a:ext cx="906084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imes New Roman"/>
              </a:rPr>
              <a:t>Эвакуационные орган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непосредственно организуют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и обеспечиваю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дготовку и проведение эвакуации насел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работают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под непосредственным руководством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оответствующих начальников Г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создаются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заблаговременно (в мирное время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административно-территориальны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бразованиях, проводящих эвакуаци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AutoShape 3">
            <a:hlinkClick r:id="" action="ppaction://hlinkshowjump?jump=previousslide"/>
          </p:cNvPr>
          <p:cNvSpPr/>
          <p:nvPr/>
        </p:nvSpPr>
        <p:spPr>
          <a:xfrm>
            <a:off x="8483760" y="6350040"/>
            <a:ext cx="484200" cy="342720"/>
          </a:xfrm>
          <a:custGeom>
            <a:avLst/>
            <a:gdLst>
              <a:gd name="textAreaLeft" fmla="*/ 21960 w 484200"/>
              <a:gd name="textAreaRight" fmla="*/ 462240 w 484200"/>
              <a:gd name="textAreaTop" fmla="*/ 21960 h 342720"/>
              <a:gd name="textAreaBottom" fmla="*/ 320760 h 342720"/>
            </a:gdLst>
            <a:ahLst/>
            <a:rect l="textAreaLeft" t="textAreaTop" r="textAreaRight" b="textAreaBottom"/>
            <a:pathLst>
              <a:path w="30507" h="21600">
                <a:moveTo>
                  <a:pt x="0" y="0"/>
                </a:moveTo>
                <a:lnTo>
                  <a:pt x="30507" y="0"/>
                </a:lnTo>
                <a:lnTo>
                  <a:pt x="30507" y="21600"/>
                </a:lnTo>
                <a:lnTo>
                  <a:pt x="0" y="21600"/>
                </a:lnTo>
                <a:close/>
              </a:path>
              <a:path fill="lightenLess" w="30507" h="21600">
                <a:moveTo>
                  <a:pt x="0" y="0"/>
                </a:moveTo>
                <a:lnTo>
                  <a:pt x="30507" y="0"/>
                </a:lnTo>
                <a:lnTo>
                  <a:pt x="29107" y="1400"/>
                </a:lnTo>
                <a:lnTo>
                  <a:pt x="1400" y="1400"/>
                </a:lnTo>
                <a:close/>
              </a:path>
              <a:path fill="darken" w="30507" h="21600">
                <a:moveTo>
                  <a:pt x="30507" y="0"/>
                </a:moveTo>
                <a:lnTo>
                  <a:pt x="30507" y="21600"/>
                </a:lnTo>
                <a:lnTo>
                  <a:pt x="29107" y="20200"/>
                </a:lnTo>
                <a:lnTo>
                  <a:pt x="29107" y="1400"/>
                </a:lnTo>
                <a:close/>
              </a:path>
              <a:path fill="darkenLess" w="30507" h="21600">
                <a:moveTo>
                  <a:pt x="30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07" y="20200"/>
                </a:lnTo>
                <a:close/>
              </a:path>
              <a:path fill="lighten" w="30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07" h="21600">
                <a:moveTo>
                  <a:pt x="8247" y="10800"/>
                </a:moveTo>
                <a:lnTo>
                  <a:pt x="22260" y="3794"/>
                </a:lnTo>
                <a:lnTo>
                  <a:pt x="22260" y="17806"/>
                </a:lnTo>
                <a:close/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411120" y="2308320"/>
            <a:ext cx="3462480" cy="1120680"/>
          </a:xfrm>
          <a:prstGeom prst="rect">
            <a:avLst/>
          </a:prstGeom>
          <a:solidFill>
            <a:srgbClr val="ff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еративные групп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 вывозу насе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5218200" y="2308320"/>
            <a:ext cx="3519360" cy="1120680"/>
          </a:xfrm>
          <a:prstGeom prst="rect">
            <a:avLst/>
          </a:prstGeom>
          <a:solidFill>
            <a:srgbClr val="ff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Группы управления на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еших маршрутах эвакуаци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5272200" y="3797280"/>
            <a:ext cx="3403440" cy="1120680"/>
          </a:xfrm>
          <a:prstGeom prst="rect">
            <a:avLst/>
          </a:prstGeom>
          <a:solidFill>
            <a:srgbClr val="ff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Э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емные эвакуацион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унк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414360" y="3797280"/>
            <a:ext cx="3405240" cy="1120680"/>
          </a:xfrm>
          <a:prstGeom prst="rect">
            <a:avLst/>
          </a:prstGeom>
          <a:solidFill>
            <a:srgbClr val="ff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П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вакоприемны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мисс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374760" y="720720"/>
            <a:ext cx="3547800" cy="1120680"/>
          </a:xfrm>
          <a:prstGeom prst="rect">
            <a:avLst/>
          </a:prstGeom>
          <a:solidFill>
            <a:srgbClr val="ff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вакуационны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мисс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5197320" y="720720"/>
            <a:ext cx="3490920" cy="1120680"/>
          </a:xfrm>
          <a:prstGeom prst="rect">
            <a:avLst/>
          </a:prstGeom>
          <a:solidFill>
            <a:srgbClr val="ff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Э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борные эвакуацион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унк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3078000" y="5276880"/>
            <a:ext cx="2971800" cy="1120680"/>
          </a:xfrm>
          <a:prstGeom prst="rect">
            <a:avLst/>
          </a:prstGeom>
          <a:solidFill>
            <a:srgbClr val="ff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П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межуточны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ункты эваку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9"/>
          <p:cNvSpPr/>
          <p:nvPr/>
        </p:nvSpPr>
        <p:spPr>
          <a:xfrm>
            <a:off x="1181160" y="0"/>
            <a:ext cx="68198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Эвакуационные орган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AutoShape 10">
            <a:hlinkClick r:id="" action="ppaction://hlinkshowjump?jump=previousslide"/>
          </p:cNvPr>
          <p:cNvSpPr/>
          <p:nvPr/>
        </p:nvSpPr>
        <p:spPr>
          <a:xfrm>
            <a:off x="8483760" y="6350040"/>
            <a:ext cx="484200" cy="342720"/>
          </a:xfrm>
          <a:custGeom>
            <a:avLst/>
            <a:gdLst>
              <a:gd name="textAreaLeft" fmla="*/ 21960 w 484200"/>
              <a:gd name="textAreaRight" fmla="*/ 462240 w 484200"/>
              <a:gd name="textAreaTop" fmla="*/ 21960 h 342720"/>
              <a:gd name="textAreaBottom" fmla="*/ 320760 h 342720"/>
            </a:gdLst>
            <a:ahLst/>
            <a:rect l="textAreaLeft" t="textAreaTop" r="textAreaRight" b="textAreaBottom"/>
            <a:pathLst>
              <a:path w="30507" h="21600">
                <a:moveTo>
                  <a:pt x="0" y="0"/>
                </a:moveTo>
                <a:lnTo>
                  <a:pt x="30507" y="0"/>
                </a:lnTo>
                <a:lnTo>
                  <a:pt x="30507" y="21600"/>
                </a:lnTo>
                <a:lnTo>
                  <a:pt x="0" y="21600"/>
                </a:lnTo>
                <a:close/>
              </a:path>
              <a:path fill="lightenLess" w="30507" h="21600">
                <a:moveTo>
                  <a:pt x="0" y="0"/>
                </a:moveTo>
                <a:lnTo>
                  <a:pt x="30507" y="0"/>
                </a:lnTo>
                <a:lnTo>
                  <a:pt x="29107" y="1400"/>
                </a:lnTo>
                <a:lnTo>
                  <a:pt x="1400" y="1400"/>
                </a:lnTo>
                <a:close/>
              </a:path>
              <a:path fill="darken" w="30507" h="21600">
                <a:moveTo>
                  <a:pt x="30507" y="0"/>
                </a:moveTo>
                <a:lnTo>
                  <a:pt x="30507" y="21600"/>
                </a:lnTo>
                <a:lnTo>
                  <a:pt x="29107" y="20200"/>
                </a:lnTo>
                <a:lnTo>
                  <a:pt x="29107" y="1400"/>
                </a:lnTo>
                <a:close/>
              </a:path>
              <a:path fill="darkenLess" w="30507" h="21600">
                <a:moveTo>
                  <a:pt x="30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07" y="20200"/>
                </a:lnTo>
                <a:close/>
              </a:path>
              <a:path fill="lighten" w="30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07" h="21600">
                <a:moveTo>
                  <a:pt x="8247" y="10800"/>
                </a:moveTo>
                <a:lnTo>
                  <a:pt x="22260" y="3794"/>
                </a:lnTo>
                <a:lnTo>
                  <a:pt x="22260" y="17806"/>
                </a:lnTo>
                <a:close/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>
            <a:off x="0" y="911160"/>
            <a:ext cx="923616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66"/>
                </a:solidFill>
                <a:latin typeface="Times New Roman"/>
              </a:rPr>
              <a:t>эвакуационные  комисс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территориальные, объектовые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министерств  (ведомств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общее руководство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оведением эвакомероприятий из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атегорированных городов, подведомственны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рганизаций и учрежден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2"/>
          <p:cNvSpPr/>
          <p:nvPr/>
        </p:nvSpPr>
        <p:spPr>
          <a:xfrm>
            <a:off x="290880" y="100080"/>
            <a:ext cx="854460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Times New Roman"/>
              </a:rPr>
              <a:t>СЭ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(сборные эвакуационные пункты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дназначаются для сбора, учета эвакуируемог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селения и организованной отправки его в ЗЗ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сполагаются -  вблизи пунктов посадки на транспор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в начале маршрутов пешей эвакуации, как правило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зданиях общественного назначения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ждый СЭП обеспечивается связью  с  районной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К, пунктом  посадки (станцией,  пристанью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сходным пунктом на маршруте пешей эвакуаци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вакоорганами в загородной зоне.  Ему  присваивает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омер  и  за  ним закрепляются автомобильный транспорт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сположенные вблизи защитные сооружения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ответствующие объекты экономики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писка населения к СЭП не более </a:t>
            </a: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4000-500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челове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итератур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едеральный закон РФ «О защите населения и территорий от чрезвычайных ситуаций природного и техногенного характера» от 21.12.94 № 68-ФЗ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Положение о единой государственной системе по предупреждению и ликвидации чрезвычайных ситуаций (РСЧС)». Пост. Пр. Р Фот 5.11.1995 г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111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едеральный Закон РФ «О гражданской обороне» от 12.02.98 № 28-ФЗ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ректива Начальника ГО РФ 1997 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уководство по эвакуации населения в чрезвычайных ситуациях природного и техногенного характера, ВНИИ ГОЧС, 1996 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уководство по организации планирования, обеспечения и проведения эвакуации населения в военное время, ВНИИ ГОЧС, 1997 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a965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464760" y="0"/>
            <a:ext cx="8425440" cy="66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ff0066"/>
                </a:solidFill>
                <a:latin typeface="Times New Roman"/>
              </a:rPr>
              <a:t>Начальники маршрутов пешей эвакуации 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1" i="1" lang="ru-RU" sz="2800" spc="-1" strike="noStrike">
                <a:solidFill>
                  <a:srgbClr val="ff0066"/>
                </a:solidFill>
                <a:latin typeface="Times New Roman"/>
              </a:rPr>
              <a:t>группы управл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ля обеспечения управления движением пеших колонн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ддержания порядка на маршрутах назначают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бязанност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 подготовке и поддержанию маршрутов в исправн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стоянии, ведению радиационной, химической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нженерной разведки, оказанию медицинской помощ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болевшим.В состав группы управления входя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дставители предприятий и организаций, персона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торых выводится по данному маршруту, представите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рганов местного самоупраления районов загородно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оны, по территориям которых проходят маршрут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чальники маршрутов размещаются   на исходны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унктах маршрутов и организуют   выполнение зада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етодом патрулирования по маршрут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304920" y="1006560"/>
            <a:ext cx="8534160" cy="4360680"/>
          </a:xfrm>
          <a:prstGeom prst="rect">
            <a:avLst/>
          </a:prstGeom>
          <a:gradFill rotWithShape="0">
            <a:gsLst>
              <a:gs pos="0">
                <a:srgbClr val="00a9a9"/>
              </a:gs>
              <a:gs pos="50000">
                <a:srgbClr val="00ffff"/>
              </a:gs>
              <a:gs pos="100000">
                <a:srgbClr val="00a9a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Times New Roman"/>
              </a:rPr>
              <a:t>ПЭП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(приемные эвакуационные  пункты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дназначаются для приема,учета и  размеще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бывающего  эваконаселения.  Они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сполагаются вблизи пунктов высадки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д ПЭП отводятся общественные и  администра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ивные здания. Местным транспортом ил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шими колоннами эваконасе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возится (выводится) с ПЭП в мест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стоянного размещ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228600" y="-34920"/>
            <a:ext cx="8686800" cy="63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Times New Roman"/>
              </a:rPr>
              <a:t>ОГ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(оперативные группы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здаются  с целью  ускорения вывоз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ражданского населения из  населенных пункт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граничной зон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Г формируются из представителей орган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стного самоуправления, офицеров ОУ ГОЧ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органов военного управл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Г выполняют комплексную задач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овещение, транспортное обеспечение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пределение эваконаселения по транспортны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редствам и организация посадк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провождение эвакоколонн  по маршрутам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ганизация размещения и первоочередног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изнеобеспечения эвакуированны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885240" y="701640"/>
            <a:ext cx="735876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0066"/>
                </a:solidFill>
                <a:latin typeface="Times New Roman"/>
              </a:rPr>
              <a:t>Эвакоприемные комисси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уществляют прием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мещение и организацию первоочередно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жизнеобеспечения эваконасел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вакокомиссии и эвакоприемные комисс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зглавляются заместителями соответствующи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чальников гражданской оборон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ни же (начальники ГО) определяют числен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состав комиссий в зависимости от объем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злагаемых задач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790920" y="-4680"/>
            <a:ext cx="717156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Times New Roman"/>
              </a:rPr>
              <a:t>ППЭ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(промежуточные пункты  эвакуации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здаются  при проведении эвакуации в два этап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предназначаются для кратковременног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мещения эваконаселения за пределам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пасных зон и отправки его в места постоянно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мещения в загородной зон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ПЭ размещаются вблизи железнодорожных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втомобильных и водных путей сообщени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 них производится перерегистрац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ваконаселения, а при необходимости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озиметрический и химический контроль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анитарная обработка, а также обмен ил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пециальная обработка одежды и обув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0" y="-63360"/>
            <a:ext cx="8991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Планирование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обеспечение и провед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эвакуационных мероприятий осуществляют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во взаимодействии с органами военног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управления по вопросам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. Выделения транспортных средств для обеспечения эвакоперевозок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 Совместного использования транспортных коммуникаций (железнодорожных, автомобильных, воздушных и водных путе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общения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. Выделения сил и средств для совместного регулирования движения на маршрутах эвакуации и обеспечения охраны общественного порядк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.   Ведения всех видов разведк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5.   Выделения сил и средств для инженерного  обеспечения эвакуации, противорадиационной    и противохимической защиты населения, санитарно-противоэпидемических и лечебно-   профилактических мероприятий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6.   Возможности использования военных городков и оставляемого войсками имущества (оборудования) для размещения и    первоочередного жизнеобеспечения эваконаселения в загородной зоне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7.   Согласования районов размещения эваконаселения в загородной зон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f8f39"/>
            </a:gs>
            <a:gs pos="50000">
              <a:srgbClr val="ffff66"/>
            </a:gs>
            <a:gs pos="100000">
              <a:srgbClr val="8f8f3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0" y="594360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3">
            <a:hlinkClick r:id="" action="ppaction://hlinkshowjump?jump=previousslide"/>
          </p:cNvPr>
          <p:cNvSpPr/>
          <p:nvPr/>
        </p:nvSpPr>
        <p:spPr>
          <a:xfrm>
            <a:off x="8483760" y="6350040"/>
            <a:ext cx="484200" cy="342720"/>
          </a:xfrm>
          <a:custGeom>
            <a:avLst/>
            <a:gdLst>
              <a:gd name="textAreaLeft" fmla="*/ 21960 w 484200"/>
              <a:gd name="textAreaRight" fmla="*/ 462240 w 484200"/>
              <a:gd name="textAreaTop" fmla="*/ 21960 h 342720"/>
              <a:gd name="textAreaBottom" fmla="*/ 320760 h 342720"/>
            </a:gdLst>
            <a:ahLst/>
            <a:rect l="textAreaLeft" t="textAreaTop" r="textAreaRight" b="textAreaBottom"/>
            <a:pathLst>
              <a:path w="30507" h="21600">
                <a:moveTo>
                  <a:pt x="0" y="0"/>
                </a:moveTo>
                <a:lnTo>
                  <a:pt x="30507" y="0"/>
                </a:lnTo>
                <a:lnTo>
                  <a:pt x="30507" y="21600"/>
                </a:lnTo>
                <a:lnTo>
                  <a:pt x="0" y="21600"/>
                </a:lnTo>
                <a:close/>
              </a:path>
              <a:path fill="lightenLess" w="30507" h="21600">
                <a:moveTo>
                  <a:pt x="0" y="0"/>
                </a:moveTo>
                <a:lnTo>
                  <a:pt x="30507" y="0"/>
                </a:lnTo>
                <a:lnTo>
                  <a:pt x="29107" y="1400"/>
                </a:lnTo>
                <a:lnTo>
                  <a:pt x="1400" y="1400"/>
                </a:lnTo>
                <a:close/>
              </a:path>
              <a:path fill="darken" w="30507" h="21600">
                <a:moveTo>
                  <a:pt x="30507" y="0"/>
                </a:moveTo>
                <a:lnTo>
                  <a:pt x="30507" y="21600"/>
                </a:lnTo>
                <a:lnTo>
                  <a:pt x="29107" y="20200"/>
                </a:lnTo>
                <a:lnTo>
                  <a:pt x="29107" y="1400"/>
                </a:lnTo>
                <a:close/>
              </a:path>
              <a:path fill="darkenLess" w="30507" h="21600">
                <a:moveTo>
                  <a:pt x="30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07" y="20200"/>
                </a:lnTo>
                <a:close/>
              </a:path>
              <a:path fill="lighten" w="30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07" h="21600">
                <a:moveTo>
                  <a:pt x="8247" y="10800"/>
                </a:moveTo>
                <a:lnTo>
                  <a:pt x="22260" y="3794"/>
                </a:lnTo>
                <a:lnTo>
                  <a:pt x="22260" y="17806"/>
                </a:lnTo>
                <a:close/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2286000" y="228600"/>
            <a:ext cx="4648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способы защиты населен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457200" y="1143000"/>
            <a:ext cx="8229600" cy="15238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крытие в ЗС ГО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 также  в метрополитенах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рных выработках и других приспособленны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д укрытия  для людей защитных сооружения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457200" y="3200400"/>
            <a:ext cx="8229600" cy="1219320"/>
          </a:xfrm>
          <a:prstGeom prst="rect">
            <a:avLst/>
          </a:prstGeom>
          <a:solidFill>
            <a:srgbClr val="00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Эвакуация населения из опасных зон и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размещение его в загородной зон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457200" y="4952880"/>
            <a:ext cx="8229600" cy="1143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пользование средств индивидуальной защит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медицинских средств индивидуальной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щи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f8f39"/>
            </a:gs>
            <a:gs pos="50000">
              <a:srgbClr val="ffff66"/>
            </a:gs>
            <a:gs pos="100000">
              <a:srgbClr val="8f8f3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3">
            <a:hlinkClick r:id="" action="ppaction://hlinkshowjump?jump=previousslide"/>
          </p:cNvPr>
          <p:cNvSpPr/>
          <p:nvPr/>
        </p:nvSpPr>
        <p:spPr>
          <a:xfrm>
            <a:off x="8483760" y="6350040"/>
            <a:ext cx="484200" cy="342720"/>
          </a:xfrm>
          <a:custGeom>
            <a:avLst/>
            <a:gdLst>
              <a:gd name="textAreaLeft" fmla="*/ 21960 w 484200"/>
              <a:gd name="textAreaRight" fmla="*/ 462240 w 484200"/>
              <a:gd name="textAreaTop" fmla="*/ 21960 h 342720"/>
              <a:gd name="textAreaBottom" fmla="*/ 320760 h 342720"/>
            </a:gdLst>
            <a:ahLst/>
            <a:rect l="textAreaLeft" t="textAreaTop" r="textAreaRight" b="textAreaBottom"/>
            <a:pathLst>
              <a:path w="30507" h="21600">
                <a:moveTo>
                  <a:pt x="0" y="0"/>
                </a:moveTo>
                <a:lnTo>
                  <a:pt x="30507" y="0"/>
                </a:lnTo>
                <a:lnTo>
                  <a:pt x="30507" y="21600"/>
                </a:lnTo>
                <a:lnTo>
                  <a:pt x="0" y="21600"/>
                </a:lnTo>
                <a:close/>
              </a:path>
              <a:path fill="lightenLess" w="30507" h="21600">
                <a:moveTo>
                  <a:pt x="0" y="0"/>
                </a:moveTo>
                <a:lnTo>
                  <a:pt x="30507" y="0"/>
                </a:lnTo>
                <a:lnTo>
                  <a:pt x="29107" y="1400"/>
                </a:lnTo>
                <a:lnTo>
                  <a:pt x="1400" y="1400"/>
                </a:lnTo>
                <a:close/>
              </a:path>
              <a:path fill="darken" w="30507" h="21600">
                <a:moveTo>
                  <a:pt x="30507" y="0"/>
                </a:moveTo>
                <a:lnTo>
                  <a:pt x="30507" y="21600"/>
                </a:lnTo>
                <a:lnTo>
                  <a:pt x="29107" y="20200"/>
                </a:lnTo>
                <a:lnTo>
                  <a:pt x="29107" y="1400"/>
                </a:lnTo>
                <a:close/>
              </a:path>
              <a:path fill="darkenLess" w="30507" h="21600">
                <a:moveTo>
                  <a:pt x="30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07" y="20200"/>
                </a:lnTo>
                <a:close/>
              </a:path>
              <a:path fill="lighten" w="30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07" h="21600">
                <a:moveTo>
                  <a:pt x="8247" y="10800"/>
                </a:moveTo>
                <a:lnTo>
                  <a:pt x="22260" y="3794"/>
                </a:lnTo>
                <a:lnTo>
                  <a:pt x="22260" y="17806"/>
                </a:lnTo>
                <a:close/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2286000" y="228600"/>
            <a:ext cx="4648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цели проведения эвакомероприятий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4403880" y="1336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152280" y="1495440"/>
            <a:ext cx="87631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нижение вероятных потерь населения категорированных городов и сохранение квалифицированных кадров специалистов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еспечение устойчивого функционирования объектов экономики, продолжающих свою производственную деятельность в военное время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еспечение условий создания группировок сил  и средств гражданской обороны в загородной зон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a944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5"/>
          <p:cNvSpPr/>
          <p:nvPr/>
        </p:nvSpPr>
        <p:spPr>
          <a:xfrm>
            <a:off x="152280" y="304920"/>
            <a:ext cx="8839440" cy="64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эвакомероприятия планируются из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33cc"/>
                </a:solidFill>
                <a:latin typeface="Times New Roman"/>
              </a:rPr>
              <a:t>Городов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, отнесенных к группам по гражданской оборон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33cc"/>
                </a:solidFill>
                <a:latin typeface="Times New Roman"/>
              </a:rPr>
              <a:t>Населенных пунктов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Times New Roman"/>
              </a:rPr>
              <a:t>имеющих: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- объекты особой важности (ООВ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- железнодорожные станции 1-й категории по ГО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Times New Roman"/>
              </a:rPr>
              <a:t>расположенных: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- в зонах возможных сильных разрушений (ЗВСР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- в приграничных  зонах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- в зонах возможного катастрофического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затопления    (ЗВКЗ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Oval 48"/>
          <p:cNvSpPr/>
          <p:nvPr/>
        </p:nvSpPr>
        <p:spPr>
          <a:xfrm>
            <a:off x="304920" y="3124080"/>
            <a:ext cx="1523880" cy="1676520"/>
          </a:xfrm>
          <a:prstGeom prst="ellipse">
            <a:avLst/>
          </a:prstGeom>
          <a:solidFill>
            <a:srgbClr val="99ff99"/>
          </a:solidFill>
          <a:ln w="93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ree"/>
          <p:cNvSpPr/>
          <p:nvPr/>
        </p:nvSpPr>
        <p:spPr>
          <a:xfrm>
            <a:off x="3352680" y="4572000"/>
            <a:ext cx="304920" cy="371520"/>
          </a:xfrm>
          <a:custGeom>
            <a:avLst/>
            <a:gdLst>
              <a:gd name="textAreaLeft" fmla="*/ 10440 w 304920"/>
              <a:gd name="textAreaRight" fmla="*/ 297720 w 304920"/>
              <a:gd name="textAreaTop" fmla="*/ 386280 h 371520"/>
              <a:gd name="textAreaBottom" fmla="*/ 486720 h 3715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4"/>
          <p:cNvSpPr/>
          <p:nvPr/>
        </p:nvSpPr>
        <p:spPr>
          <a:xfrm>
            <a:off x="-304920" y="990720"/>
            <a:ext cx="1524240" cy="1447560"/>
          </a:xfrm>
          <a:prstGeom prst="octagon">
            <a:avLst>
              <a:gd name="adj" fmla="val 2928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Город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тнесенны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 группе по Г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838080" y="3657600"/>
            <a:ext cx="533520" cy="53352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8"/>
          <p:cNvSpPr/>
          <p:nvPr/>
        </p:nvSpPr>
        <p:spPr>
          <a:xfrm rot="20888400">
            <a:off x="380520" y="4114800"/>
            <a:ext cx="838440" cy="152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9"/>
          <p:cNvSpPr/>
          <p:nvPr/>
        </p:nvSpPr>
        <p:spPr>
          <a:xfrm rot="20802600">
            <a:off x="380880" y="4343040"/>
            <a:ext cx="838440" cy="152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Freeform 22"/>
          <p:cNvSpPr/>
          <p:nvPr/>
        </p:nvSpPr>
        <p:spPr>
          <a:xfrm>
            <a:off x="5029200" y="4724280"/>
            <a:ext cx="4191120" cy="2286000"/>
          </a:xfrm>
          <a:custGeom>
            <a:avLst/>
            <a:gdLst>
              <a:gd name="textAreaLeft" fmla="*/ 0 w 4191120"/>
              <a:gd name="textAreaRight" fmla="*/ 4191480 w 4191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592" h="1536">
                <a:moveTo>
                  <a:pt x="0" y="1536"/>
                </a:moveTo>
                <a:cubicBezTo>
                  <a:pt x="9" y="1523"/>
                  <a:pt x="15" y="1508"/>
                  <a:pt x="27" y="1497"/>
                </a:cubicBezTo>
                <a:cubicBezTo>
                  <a:pt x="42" y="1483"/>
                  <a:pt x="78" y="1493"/>
                  <a:pt x="78" y="1463"/>
                </a:cubicBezTo>
                <a:lnTo>
                  <a:pt x="1393" y="1067"/>
                </a:lnTo>
                <a:lnTo>
                  <a:pt x="2160" y="528"/>
                </a:lnTo>
                <a:lnTo>
                  <a:pt x="2592" y="0"/>
                </a:lnTo>
              </a:path>
            </a:pathLst>
          </a:custGeom>
          <a:noFill/>
          <a:ln w="792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Freeform 23"/>
          <p:cNvSpPr/>
          <p:nvPr/>
        </p:nvSpPr>
        <p:spPr>
          <a:xfrm>
            <a:off x="5105520" y="4572000"/>
            <a:ext cx="4179600" cy="2438280"/>
          </a:xfrm>
          <a:custGeom>
            <a:avLst/>
            <a:gdLst>
              <a:gd name="textAreaLeft" fmla="*/ 0 w 4179600"/>
              <a:gd name="textAreaRight" fmla="*/ 4179960 w 4179600"/>
              <a:gd name="textAreaTop" fmla="*/ 0 h 2438280"/>
              <a:gd name="textAreaBottom" fmla="*/ 2438640 h 2438280"/>
            </a:gdLst>
            <a:ahLst/>
            <a:rect l="textAreaLeft" t="textAreaTop" r="textAreaRight" b="textAreaBottom"/>
            <a:pathLst>
              <a:path w="2633" h="1536">
                <a:moveTo>
                  <a:pt x="41" y="1536"/>
                </a:moveTo>
                <a:cubicBezTo>
                  <a:pt x="43" y="1530"/>
                  <a:pt x="0" y="1494"/>
                  <a:pt x="6" y="1475"/>
                </a:cubicBezTo>
                <a:cubicBezTo>
                  <a:pt x="12" y="1456"/>
                  <a:pt x="56" y="1426"/>
                  <a:pt x="75" y="1424"/>
                </a:cubicBezTo>
                <a:cubicBezTo>
                  <a:pt x="90" y="1410"/>
                  <a:pt x="119" y="1493"/>
                  <a:pt x="119" y="1463"/>
                </a:cubicBezTo>
                <a:lnTo>
                  <a:pt x="358" y="1381"/>
                </a:lnTo>
                <a:lnTo>
                  <a:pt x="1434" y="1067"/>
                </a:lnTo>
                <a:lnTo>
                  <a:pt x="1966" y="701"/>
                </a:lnTo>
                <a:lnTo>
                  <a:pt x="2138" y="572"/>
                </a:lnTo>
                <a:lnTo>
                  <a:pt x="2201" y="528"/>
                </a:lnTo>
                <a:lnTo>
                  <a:pt x="2535" y="143"/>
                </a:lnTo>
                <a:lnTo>
                  <a:pt x="2633" y="0"/>
                </a:lnTo>
              </a:path>
            </a:pathLst>
          </a:custGeom>
          <a:noFill/>
          <a:ln w="507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Freeform 25"/>
          <p:cNvSpPr/>
          <p:nvPr/>
        </p:nvSpPr>
        <p:spPr>
          <a:xfrm>
            <a:off x="7792920" y="6032520"/>
            <a:ext cx="1365480" cy="490680"/>
          </a:xfrm>
          <a:custGeom>
            <a:avLst/>
            <a:gdLst>
              <a:gd name="textAreaLeft" fmla="*/ 0 w 1365480"/>
              <a:gd name="textAreaRight" fmla="*/ 1365840 w 1365480"/>
              <a:gd name="textAreaTop" fmla="*/ 0 h 490680"/>
              <a:gd name="textAreaBottom" fmla="*/ 491040 h 490680"/>
            </a:gdLst>
            <a:ahLst/>
            <a:rect l="textAreaLeft" t="textAreaTop" r="textAreaRight" b="textAreaBottom"/>
            <a:pathLst>
              <a:path w="860" h="309">
                <a:moveTo>
                  <a:pt x="0" y="0"/>
                </a:moveTo>
                <a:cubicBezTo>
                  <a:pt x="43" y="13"/>
                  <a:pt x="17" y="5"/>
                  <a:pt x="77" y="26"/>
                </a:cubicBezTo>
                <a:cubicBezTo>
                  <a:pt x="97" y="33"/>
                  <a:pt x="109" y="53"/>
                  <a:pt x="129" y="60"/>
                </a:cubicBezTo>
                <a:cubicBezTo>
                  <a:pt x="146" y="66"/>
                  <a:pt x="180" y="77"/>
                  <a:pt x="180" y="77"/>
                </a:cubicBezTo>
                <a:cubicBezTo>
                  <a:pt x="241" y="117"/>
                  <a:pt x="318" y="116"/>
                  <a:pt x="387" y="137"/>
                </a:cubicBezTo>
                <a:cubicBezTo>
                  <a:pt x="500" y="171"/>
                  <a:pt x="393" y="138"/>
                  <a:pt x="464" y="172"/>
                </a:cubicBezTo>
                <a:cubicBezTo>
                  <a:pt x="499" y="189"/>
                  <a:pt x="546" y="197"/>
                  <a:pt x="584" y="206"/>
                </a:cubicBezTo>
                <a:cubicBezTo>
                  <a:pt x="619" y="239"/>
                  <a:pt x="676" y="246"/>
                  <a:pt x="722" y="258"/>
                </a:cubicBezTo>
                <a:cubicBezTo>
                  <a:pt x="745" y="264"/>
                  <a:pt x="768" y="269"/>
                  <a:pt x="791" y="275"/>
                </a:cubicBezTo>
                <a:cubicBezTo>
                  <a:pt x="808" y="279"/>
                  <a:pt x="842" y="292"/>
                  <a:pt x="842" y="292"/>
                </a:cubicBezTo>
                <a:cubicBezTo>
                  <a:pt x="848" y="298"/>
                  <a:pt x="860" y="309"/>
                  <a:pt x="860" y="309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Freeform 26"/>
          <p:cNvSpPr/>
          <p:nvPr/>
        </p:nvSpPr>
        <p:spPr>
          <a:xfrm>
            <a:off x="7772400" y="6019920"/>
            <a:ext cx="1365120" cy="490320"/>
          </a:xfrm>
          <a:custGeom>
            <a:avLst/>
            <a:gdLst>
              <a:gd name="textAreaLeft" fmla="*/ 0 w 1365120"/>
              <a:gd name="textAreaRight" fmla="*/ 1365120 w 1365120"/>
              <a:gd name="textAreaTop" fmla="*/ 0 h 490320"/>
              <a:gd name="textAreaBottom" fmla="*/ 490680 h 490320"/>
            </a:gdLst>
            <a:ahLst/>
            <a:rect l="textAreaLeft" t="textAreaTop" r="textAreaRight" b="textAreaBottom"/>
            <a:pathLst>
              <a:path w="860" h="309">
                <a:moveTo>
                  <a:pt x="0" y="0"/>
                </a:moveTo>
                <a:cubicBezTo>
                  <a:pt x="43" y="13"/>
                  <a:pt x="17" y="5"/>
                  <a:pt x="77" y="26"/>
                </a:cubicBezTo>
                <a:cubicBezTo>
                  <a:pt x="97" y="33"/>
                  <a:pt x="109" y="53"/>
                  <a:pt x="129" y="60"/>
                </a:cubicBezTo>
                <a:cubicBezTo>
                  <a:pt x="146" y="66"/>
                  <a:pt x="180" y="77"/>
                  <a:pt x="180" y="77"/>
                </a:cubicBezTo>
                <a:cubicBezTo>
                  <a:pt x="241" y="117"/>
                  <a:pt x="318" y="116"/>
                  <a:pt x="387" y="137"/>
                </a:cubicBezTo>
                <a:cubicBezTo>
                  <a:pt x="500" y="171"/>
                  <a:pt x="393" y="138"/>
                  <a:pt x="464" y="172"/>
                </a:cubicBezTo>
                <a:cubicBezTo>
                  <a:pt x="499" y="189"/>
                  <a:pt x="546" y="197"/>
                  <a:pt x="584" y="206"/>
                </a:cubicBezTo>
                <a:cubicBezTo>
                  <a:pt x="619" y="239"/>
                  <a:pt x="676" y="246"/>
                  <a:pt x="722" y="258"/>
                </a:cubicBezTo>
                <a:cubicBezTo>
                  <a:pt x="745" y="264"/>
                  <a:pt x="768" y="269"/>
                  <a:pt x="791" y="275"/>
                </a:cubicBezTo>
                <a:cubicBezTo>
                  <a:pt x="808" y="279"/>
                  <a:pt x="842" y="292"/>
                  <a:pt x="842" y="292"/>
                </a:cubicBezTo>
                <a:cubicBezTo>
                  <a:pt x="848" y="298"/>
                  <a:pt x="860" y="309"/>
                  <a:pt x="860" y="309"/>
                </a:cubicBezTo>
              </a:path>
            </a:pathLst>
          </a:custGeom>
          <a:noFill/>
          <a:ln w="381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27"/>
          <p:cNvSpPr/>
          <p:nvPr/>
        </p:nvSpPr>
        <p:spPr>
          <a:xfrm rot="19861800">
            <a:off x="7180200" y="6013080"/>
            <a:ext cx="53352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28"/>
          <p:cNvSpPr/>
          <p:nvPr/>
        </p:nvSpPr>
        <p:spPr>
          <a:xfrm>
            <a:off x="7469640" y="6172200"/>
            <a:ext cx="7430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ж.д. ст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кат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Freeform 31"/>
          <p:cNvSpPr/>
          <p:nvPr/>
        </p:nvSpPr>
        <p:spPr>
          <a:xfrm>
            <a:off x="-304920" y="5562720"/>
            <a:ext cx="2170080" cy="1663560"/>
          </a:xfrm>
          <a:custGeom>
            <a:avLst/>
            <a:gdLst>
              <a:gd name="textAreaLeft" fmla="*/ 0 w 2170080"/>
              <a:gd name="textAreaRight" fmla="*/ 2170440 w 2170080"/>
              <a:gd name="textAreaTop" fmla="*/ 0 h 1663560"/>
              <a:gd name="textAreaBottom" fmla="*/ 1663920 h 1663560"/>
            </a:gdLst>
            <a:ahLst/>
            <a:rect l="textAreaLeft" t="textAreaTop" r="textAreaRight" b="textAreaBottom"/>
            <a:pathLst>
              <a:path w="1367" h="1048">
                <a:moveTo>
                  <a:pt x="0" y="0"/>
                </a:moveTo>
                <a:cubicBezTo>
                  <a:pt x="2" y="1"/>
                  <a:pt x="50" y="15"/>
                  <a:pt x="52" y="17"/>
                </a:cubicBezTo>
                <a:cubicBezTo>
                  <a:pt x="58" y="24"/>
                  <a:pt x="54" y="36"/>
                  <a:pt x="60" y="43"/>
                </a:cubicBezTo>
                <a:cubicBezTo>
                  <a:pt x="66" y="51"/>
                  <a:pt x="78" y="53"/>
                  <a:pt x="86" y="60"/>
                </a:cubicBezTo>
                <a:cubicBezTo>
                  <a:pt x="157" y="122"/>
                  <a:pt x="111" y="101"/>
                  <a:pt x="163" y="120"/>
                </a:cubicBezTo>
                <a:cubicBezTo>
                  <a:pt x="188" y="144"/>
                  <a:pt x="216" y="169"/>
                  <a:pt x="249" y="180"/>
                </a:cubicBezTo>
                <a:cubicBezTo>
                  <a:pt x="297" y="225"/>
                  <a:pt x="331" y="282"/>
                  <a:pt x="387" y="318"/>
                </a:cubicBezTo>
                <a:cubicBezTo>
                  <a:pt x="408" y="350"/>
                  <a:pt x="421" y="349"/>
                  <a:pt x="456" y="361"/>
                </a:cubicBezTo>
                <a:cubicBezTo>
                  <a:pt x="479" y="385"/>
                  <a:pt x="503" y="398"/>
                  <a:pt x="533" y="412"/>
                </a:cubicBezTo>
                <a:cubicBezTo>
                  <a:pt x="550" y="420"/>
                  <a:pt x="585" y="430"/>
                  <a:pt x="585" y="430"/>
                </a:cubicBezTo>
                <a:cubicBezTo>
                  <a:pt x="629" y="473"/>
                  <a:pt x="663" y="516"/>
                  <a:pt x="714" y="550"/>
                </a:cubicBezTo>
                <a:cubicBezTo>
                  <a:pt x="752" y="576"/>
                  <a:pt x="763" y="612"/>
                  <a:pt x="800" y="636"/>
                </a:cubicBezTo>
                <a:cubicBezTo>
                  <a:pt x="821" y="668"/>
                  <a:pt x="855" y="698"/>
                  <a:pt x="885" y="722"/>
                </a:cubicBezTo>
                <a:cubicBezTo>
                  <a:pt x="915" y="745"/>
                  <a:pt x="906" y="761"/>
                  <a:pt x="946" y="773"/>
                </a:cubicBezTo>
                <a:cubicBezTo>
                  <a:pt x="967" y="795"/>
                  <a:pt x="986" y="798"/>
                  <a:pt x="1014" y="808"/>
                </a:cubicBezTo>
                <a:cubicBezTo>
                  <a:pt x="1051" y="843"/>
                  <a:pt x="1094" y="886"/>
                  <a:pt x="1143" y="902"/>
                </a:cubicBezTo>
                <a:cubicBezTo>
                  <a:pt x="1211" y="949"/>
                  <a:pt x="1129" y="896"/>
                  <a:pt x="1195" y="928"/>
                </a:cubicBezTo>
                <a:cubicBezTo>
                  <a:pt x="1224" y="942"/>
                  <a:pt x="1233" y="961"/>
                  <a:pt x="1264" y="971"/>
                </a:cubicBezTo>
                <a:cubicBezTo>
                  <a:pt x="1290" y="988"/>
                  <a:pt x="1303" y="1005"/>
                  <a:pt x="1333" y="1014"/>
                </a:cubicBezTo>
                <a:cubicBezTo>
                  <a:pt x="1353" y="1045"/>
                  <a:pt x="1341" y="1036"/>
                  <a:pt x="1367" y="1048"/>
                </a:cubicBezTo>
              </a:path>
            </a:pathLst>
          </a:custGeom>
          <a:noFill/>
          <a:ln w="38160">
            <a:solidFill>
              <a:srgbClr val="ff66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Freeform 32"/>
          <p:cNvSpPr/>
          <p:nvPr/>
        </p:nvSpPr>
        <p:spPr>
          <a:xfrm>
            <a:off x="0" y="5200560"/>
            <a:ext cx="2170080" cy="1663920"/>
          </a:xfrm>
          <a:custGeom>
            <a:avLst/>
            <a:gdLst>
              <a:gd name="textAreaLeft" fmla="*/ 0 w 2170080"/>
              <a:gd name="textAreaRight" fmla="*/ 2170440 w 2170080"/>
              <a:gd name="textAreaTop" fmla="*/ 0 h 1663920"/>
              <a:gd name="textAreaBottom" fmla="*/ 1664280 h 1663920"/>
            </a:gdLst>
            <a:ahLst/>
            <a:rect l="textAreaLeft" t="textAreaTop" r="textAreaRight" b="textAreaBottom"/>
            <a:pathLst>
              <a:path w="1367" h="1048">
                <a:moveTo>
                  <a:pt x="0" y="0"/>
                </a:moveTo>
                <a:cubicBezTo>
                  <a:pt x="2" y="1"/>
                  <a:pt x="50" y="15"/>
                  <a:pt x="52" y="17"/>
                </a:cubicBezTo>
                <a:cubicBezTo>
                  <a:pt x="58" y="24"/>
                  <a:pt x="54" y="36"/>
                  <a:pt x="60" y="43"/>
                </a:cubicBezTo>
                <a:cubicBezTo>
                  <a:pt x="66" y="51"/>
                  <a:pt x="78" y="53"/>
                  <a:pt x="86" y="60"/>
                </a:cubicBezTo>
                <a:cubicBezTo>
                  <a:pt x="157" y="122"/>
                  <a:pt x="111" y="101"/>
                  <a:pt x="163" y="120"/>
                </a:cubicBezTo>
                <a:cubicBezTo>
                  <a:pt x="188" y="144"/>
                  <a:pt x="216" y="169"/>
                  <a:pt x="249" y="180"/>
                </a:cubicBezTo>
                <a:cubicBezTo>
                  <a:pt x="297" y="225"/>
                  <a:pt x="331" y="282"/>
                  <a:pt x="387" y="318"/>
                </a:cubicBezTo>
                <a:cubicBezTo>
                  <a:pt x="408" y="350"/>
                  <a:pt x="421" y="349"/>
                  <a:pt x="456" y="361"/>
                </a:cubicBezTo>
                <a:cubicBezTo>
                  <a:pt x="479" y="385"/>
                  <a:pt x="503" y="398"/>
                  <a:pt x="533" y="412"/>
                </a:cubicBezTo>
                <a:cubicBezTo>
                  <a:pt x="550" y="420"/>
                  <a:pt x="585" y="430"/>
                  <a:pt x="585" y="430"/>
                </a:cubicBezTo>
                <a:cubicBezTo>
                  <a:pt x="629" y="473"/>
                  <a:pt x="663" y="516"/>
                  <a:pt x="714" y="550"/>
                </a:cubicBezTo>
                <a:cubicBezTo>
                  <a:pt x="752" y="576"/>
                  <a:pt x="763" y="612"/>
                  <a:pt x="800" y="636"/>
                </a:cubicBezTo>
                <a:cubicBezTo>
                  <a:pt x="821" y="668"/>
                  <a:pt x="855" y="698"/>
                  <a:pt x="885" y="722"/>
                </a:cubicBezTo>
                <a:cubicBezTo>
                  <a:pt x="915" y="745"/>
                  <a:pt x="906" y="761"/>
                  <a:pt x="946" y="773"/>
                </a:cubicBezTo>
                <a:cubicBezTo>
                  <a:pt x="967" y="795"/>
                  <a:pt x="986" y="798"/>
                  <a:pt x="1014" y="808"/>
                </a:cubicBezTo>
                <a:cubicBezTo>
                  <a:pt x="1051" y="843"/>
                  <a:pt x="1094" y="886"/>
                  <a:pt x="1143" y="902"/>
                </a:cubicBezTo>
                <a:cubicBezTo>
                  <a:pt x="1211" y="949"/>
                  <a:pt x="1129" y="896"/>
                  <a:pt x="1195" y="928"/>
                </a:cubicBezTo>
                <a:cubicBezTo>
                  <a:pt x="1224" y="942"/>
                  <a:pt x="1233" y="961"/>
                  <a:pt x="1264" y="971"/>
                </a:cubicBezTo>
                <a:cubicBezTo>
                  <a:pt x="1290" y="988"/>
                  <a:pt x="1303" y="1005"/>
                  <a:pt x="1333" y="1014"/>
                </a:cubicBezTo>
                <a:cubicBezTo>
                  <a:pt x="1353" y="1045"/>
                  <a:pt x="1341" y="1036"/>
                  <a:pt x="1367" y="1048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457200" y="5943600"/>
            <a:ext cx="304920" cy="763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609480" y="6019920"/>
            <a:ext cx="304920" cy="759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Object 36"/>
          <p:cNvGraphicFramePr/>
          <p:nvPr/>
        </p:nvGraphicFramePr>
        <p:xfrm>
          <a:off x="5027760" y="225360"/>
          <a:ext cx="4073400" cy="187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3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7760" y="225360"/>
                    <a:ext cx="4073400" cy="18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Freeform 37"/>
          <p:cNvSpPr/>
          <p:nvPr/>
        </p:nvSpPr>
        <p:spPr>
          <a:xfrm>
            <a:off x="6810480" y="1014480"/>
            <a:ext cx="2531880" cy="1892160"/>
          </a:xfrm>
          <a:custGeom>
            <a:avLst/>
            <a:gdLst>
              <a:gd name="textAreaLeft" fmla="*/ 0 w 2531880"/>
              <a:gd name="textAreaRight" fmla="*/ 2532240 w 253188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595" h="1192">
                <a:moveTo>
                  <a:pt x="77" y="161"/>
                </a:moveTo>
                <a:cubicBezTo>
                  <a:pt x="156" y="78"/>
                  <a:pt x="25" y="210"/>
                  <a:pt x="120" y="135"/>
                </a:cubicBezTo>
                <a:cubicBezTo>
                  <a:pt x="128" y="129"/>
                  <a:pt x="129" y="116"/>
                  <a:pt x="137" y="109"/>
                </a:cubicBezTo>
                <a:cubicBezTo>
                  <a:pt x="231" y="33"/>
                  <a:pt x="378" y="95"/>
                  <a:pt x="499" y="92"/>
                </a:cubicBezTo>
                <a:cubicBezTo>
                  <a:pt x="550" y="74"/>
                  <a:pt x="602" y="58"/>
                  <a:pt x="653" y="40"/>
                </a:cubicBezTo>
                <a:cubicBezTo>
                  <a:pt x="699" y="24"/>
                  <a:pt x="750" y="34"/>
                  <a:pt x="799" y="32"/>
                </a:cubicBezTo>
                <a:cubicBezTo>
                  <a:pt x="862" y="29"/>
                  <a:pt x="926" y="26"/>
                  <a:pt x="989" y="23"/>
                </a:cubicBezTo>
                <a:cubicBezTo>
                  <a:pt x="1052" y="0"/>
                  <a:pt x="1058" y="7"/>
                  <a:pt x="1143" y="14"/>
                </a:cubicBezTo>
                <a:cubicBezTo>
                  <a:pt x="1204" y="35"/>
                  <a:pt x="1177" y="27"/>
                  <a:pt x="1221" y="40"/>
                </a:cubicBezTo>
                <a:cubicBezTo>
                  <a:pt x="1316" y="104"/>
                  <a:pt x="1180" y="15"/>
                  <a:pt x="1272" y="66"/>
                </a:cubicBezTo>
                <a:cubicBezTo>
                  <a:pt x="1320" y="92"/>
                  <a:pt x="1356" y="121"/>
                  <a:pt x="1410" y="135"/>
                </a:cubicBezTo>
                <a:cubicBezTo>
                  <a:pt x="1468" y="174"/>
                  <a:pt x="1446" y="155"/>
                  <a:pt x="1479" y="186"/>
                </a:cubicBezTo>
                <a:cubicBezTo>
                  <a:pt x="1501" y="257"/>
                  <a:pt x="1521" y="329"/>
                  <a:pt x="1539" y="401"/>
                </a:cubicBezTo>
                <a:cubicBezTo>
                  <a:pt x="1550" y="447"/>
                  <a:pt x="1553" y="493"/>
                  <a:pt x="1565" y="539"/>
                </a:cubicBezTo>
                <a:cubicBezTo>
                  <a:pt x="1563" y="600"/>
                  <a:pt x="1595" y="829"/>
                  <a:pt x="1513" y="908"/>
                </a:cubicBezTo>
                <a:cubicBezTo>
                  <a:pt x="1503" y="936"/>
                  <a:pt x="1488" y="958"/>
                  <a:pt x="1479" y="986"/>
                </a:cubicBezTo>
                <a:cubicBezTo>
                  <a:pt x="1491" y="1035"/>
                  <a:pt x="1496" y="1040"/>
                  <a:pt x="1479" y="1106"/>
                </a:cubicBezTo>
                <a:cubicBezTo>
                  <a:pt x="1477" y="1114"/>
                  <a:pt x="1467" y="1117"/>
                  <a:pt x="1461" y="1123"/>
                </a:cubicBezTo>
                <a:cubicBezTo>
                  <a:pt x="1423" y="1161"/>
                  <a:pt x="1390" y="1177"/>
                  <a:pt x="1341" y="1192"/>
                </a:cubicBezTo>
                <a:cubicBezTo>
                  <a:pt x="1307" y="1189"/>
                  <a:pt x="1272" y="1186"/>
                  <a:pt x="1238" y="1184"/>
                </a:cubicBezTo>
                <a:cubicBezTo>
                  <a:pt x="1169" y="1180"/>
                  <a:pt x="1101" y="1180"/>
                  <a:pt x="1032" y="1175"/>
                </a:cubicBezTo>
                <a:cubicBezTo>
                  <a:pt x="971" y="1170"/>
                  <a:pt x="864" y="1118"/>
                  <a:pt x="799" y="1098"/>
                </a:cubicBezTo>
                <a:cubicBezTo>
                  <a:pt x="778" y="1076"/>
                  <a:pt x="759" y="1073"/>
                  <a:pt x="731" y="1063"/>
                </a:cubicBezTo>
                <a:cubicBezTo>
                  <a:pt x="689" y="1024"/>
                  <a:pt x="614" y="1021"/>
                  <a:pt x="559" y="1003"/>
                </a:cubicBezTo>
                <a:cubicBezTo>
                  <a:pt x="456" y="968"/>
                  <a:pt x="610" y="1019"/>
                  <a:pt x="507" y="986"/>
                </a:cubicBezTo>
                <a:cubicBezTo>
                  <a:pt x="490" y="980"/>
                  <a:pt x="456" y="969"/>
                  <a:pt x="456" y="969"/>
                </a:cubicBezTo>
                <a:cubicBezTo>
                  <a:pt x="437" y="950"/>
                  <a:pt x="396" y="926"/>
                  <a:pt x="370" y="917"/>
                </a:cubicBezTo>
                <a:cubicBezTo>
                  <a:pt x="342" y="891"/>
                  <a:pt x="306" y="879"/>
                  <a:pt x="275" y="857"/>
                </a:cubicBezTo>
                <a:cubicBezTo>
                  <a:pt x="265" y="850"/>
                  <a:pt x="259" y="839"/>
                  <a:pt x="249" y="831"/>
                </a:cubicBezTo>
                <a:cubicBezTo>
                  <a:pt x="233" y="818"/>
                  <a:pt x="198" y="797"/>
                  <a:pt x="198" y="797"/>
                </a:cubicBezTo>
                <a:cubicBezTo>
                  <a:pt x="166" y="750"/>
                  <a:pt x="198" y="786"/>
                  <a:pt x="155" y="762"/>
                </a:cubicBezTo>
                <a:cubicBezTo>
                  <a:pt x="137" y="752"/>
                  <a:pt x="103" y="728"/>
                  <a:pt x="103" y="728"/>
                </a:cubicBezTo>
                <a:cubicBezTo>
                  <a:pt x="97" y="719"/>
                  <a:pt x="93" y="709"/>
                  <a:pt x="86" y="702"/>
                </a:cubicBezTo>
                <a:cubicBezTo>
                  <a:pt x="79" y="695"/>
                  <a:pt x="67" y="693"/>
                  <a:pt x="60" y="685"/>
                </a:cubicBezTo>
                <a:cubicBezTo>
                  <a:pt x="30" y="651"/>
                  <a:pt x="11" y="608"/>
                  <a:pt x="0" y="565"/>
                </a:cubicBezTo>
                <a:cubicBezTo>
                  <a:pt x="3" y="508"/>
                  <a:pt x="4" y="450"/>
                  <a:pt x="9" y="393"/>
                </a:cubicBezTo>
                <a:cubicBezTo>
                  <a:pt x="12" y="361"/>
                  <a:pt x="26" y="341"/>
                  <a:pt x="26" y="307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38"/>
          <p:cNvSpPr/>
          <p:nvPr/>
        </p:nvSpPr>
        <p:spPr>
          <a:xfrm rot="17860200">
            <a:off x="6441840" y="1389960"/>
            <a:ext cx="7621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9"/>
          <p:cNvSpPr/>
          <p:nvPr/>
        </p:nvSpPr>
        <p:spPr>
          <a:xfrm>
            <a:off x="8001000" y="2209680"/>
            <a:ext cx="304920" cy="763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40"/>
          <p:cNvSpPr/>
          <p:nvPr/>
        </p:nvSpPr>
        <p:spPr>
          <a:xfrm>
            <a:off x="8153280" y="2133720"/>
            <a:ext cx="304920" cy="759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41"/>
          <p:cNvSpPr/>
          <p:nvPr/>
        </p:nvSpPr>
        <p:spPr>
          <a:xfrm>
            <a:off x="7772400" y="1752480"/>
            <a:ext cx="457200" cy="763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42"/>
          <p:cNvSpPr/>
          <p:nvPr/>
        </p:nvSpPr>
        <p:spPr>
          <a:xfrm>
            <a:off x="5090040" y="620640"/>
            <a:ext cx="14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cc"/>
                </a:solidFill>
                <a:latin typeface="Times New Roman"/>
              </a:rPr>
              <a:t>водохранилищ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3"/>
          <p:cNvSpPr/>
          <p:nvPr/>
        </p:nvSpPr>
        <p:spPr>
          <a:xfrm>
            <a:off x="7148160" y="179064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ЗВК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44"/>
          <p:cNvSpPr/>
          <p:nvPr/>
        </p:nvSpPr>
        <p:spPr>
          <a:xfrm>
            <a:off x="823680" y="6210360"/>
            <a:ext cx="4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Times New Roman"/>
              </a:rPr>
              <a:t>П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45"/>
          <p:cNvSpPr/>
          <p:nvPr/>
        </p:nvSpPr>
        <p:spPr>
          <a:xfrm>
            <a:off x="6781680" y="6019920"/>
            <a:ext cx="304920" cy="759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46"/>
          <p:cNvSpPr/>
          <p:nvPr/>
        </p:nvSpPr>
        <p:spPr>
          <a:xfrm>
            <a:off x="6629400" y="6248520"/>
            <a:ext cx="304920" cy="759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47"/>
          <p:cNvSpPr/>
          <p:nvPr/>
        </p:nvSpPr>
        <p:spPr>
          <a:xfrm>
            <a:off x="7086600" y="5867280"/>
            <a:ext cx="304920" cy="763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0"/>
          <p:cNvSpPr/>
          <p:nvPr/>
        </p:nvSpPr>
        <p:spPr>
          <a:xfrm>
            <a:off x="1449720" y="3733920"/>
            <a:ext cx="7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ЗВС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1"/>
          <p:cNvSpPr/>
          <p:nvPr/>
        </p:nvSpPr>
        <p:spPr>
          <a:xfrm>
            <a:off x="3719160" y="3089160"/>
            <a:ext cx="164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00"/>
                </a:solidFill>
                <a:latin typeface="Times New Roman"/>
              </a:rPr>
              <a:t>Загород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00"/>
                </a:solidFill>
                <a:latin typeface="Times New Roman"/>
              </a:rPr>
              <a:t>зо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ree"/>
          <p:cNvSpPr/>
          <p:nvPr/>
        </p:nvSpPr>
        <p:spPr>
          <a:xfrm>
            <a:off x="3733920" y="4876920"/>
            <a:ext cx="304560" cy="371520"/>
          </a:xfrm>
          <a:custGeom>
            <a:avLst/>
            <a:gdLst>
              <a:gd name="textAreaLeft" fmla="*/ 10440 w 304560"/>
              <a:gd name="textAreaRight" fmla="*/ 297360 w 304560"/>
              <a:gd name="textAreaTop" fmla="*/ 386280 h 371520"/>
              <a:gd name="textAreaBottom" fmla="*/ 486720 h 3715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ree"/>
          <p:cNvSpPr/>
          <p:nvPr/>
        </p:nvSpPr>
        <p:spPr>
          <a:xfrm>
            <a:off x="6172200" y="3200400"/>
            <a:ext cx="304920" cy="371520"/>
          </a:xfrm>
          <a:custGeom>
            <a:avLst/>
            <a:gdLst>
              <a:gd name="textAreaLeft" fmla="*/ 10440 w 304920"/>
              <a:gd name="textAreaRight" fmla="*/ 297720 w 304920"/>
              <a:gd name="textAreaTop" fmla="*/ 386280 h 371520"/>
              <a:gd name="textAreaBottom" fmla="*/ 486720 h 3715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Object 54"/>
          <p:cNvGraphicFramePr/>
          <p:nvPr/>
        </p:nvGraphicFramePr>
        <p:xfrm>
          <a:off x="5105520" y="5105520"/>
          <a:ext cx="304560" cy="45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Object 5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5105520"/>
                    <a:ext cx="30456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Object 55"/>
          <p:cNvGraphicFramePr/>
          <p:nvPr/>
        </p:nvGraphicFramePr>
        <p:xfrm>
          <a:off x="5715000" y="2590920"/>
          <a:ext cx="304920" cy="452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9" name="Object 5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5000" y="2590920"/>
                    <a:ext cx="3049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Object 56"/>
          <p:cNvGraphicFramePr/>
          <p:nvPr/>
        </p:nvGraphicFramePr>
        <p:xfrm>
          <a:off x="5638680" y="4191120"/>
          <a:ext cx="304920" cy="452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1" name="Object 5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638680" y="4191120"/>
                    <a:ext cx="3049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Object 57"/>
          <p:cNvGraphicFramePr/>
          <p:nvPr/>
        </p:nvGraphicFramePr>
        <p:xfrm>
          <a:off x="5867280" y="4800600"/>
          <a:ext cx="304920" cy="452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3" name="Object 5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867280" y="4800600"/>
                    <a:ext cx="30492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Text Box 58"/>
          <p:cNvSpPr/>
          <p:nvPr/>
        </p:nvSpPr>
        <p:spPr>
          <a:xfrm>
            <a:off x="522360" y="41400"/>
            <a:ext cx="38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66"/>
                </a:solidFill>
                <a:uFillTx/>
                <a:latin typeface="Times New Roman"/>
              </a:rPr>
              <a:t>Эвакуация проводится из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61"/>
          <p:cNvSpPr/>
          <p:nvPr/>
        </p:nvSpPr>
        <p:spPr>
          <a:xfrm rot="7141800">
            <a:off x="7467120" y="2590560"/>
            <a:ext cx="838080" cy="228600"/>
          </a:xfrm>
          <a:custGeom>
            <a:avLst/>
            <a:gdLst>
              <a:gd name="textAreaLeft" fmla="*/ 130680 w 838080"/>
              <a:gd name="textAreaRight" fmla="*/ 733320 w 8380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64"/>
          <p:cNvSpPr/>
          <p:nvPr/>
        </p:nvSpPr>
        <p:spPr>
          <a:xfrm rot="14042400">
            <a:off x="6324120" y="5485680"/>
            <a:ext cx="838440" cy="228600"/>
          </a:xfrm>
          <a:custGeom>
            <a:avLst/>
            <a:gdLst>
              <a:gd name="textAreaLeft" fmla="*/ 131040 w 838440"/>
              <a:gd name="textAreaRight" fmla="*/ 733680 w 83844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65"/>
          <p:cNvSpPr/>
          <p:nvPr/>
        </p:nvSpPr>
        <p:spPr>
          <a:xfrm rot="18906000">
            <a:off x="685800" y="5562360"/>
            <a:ext cx="838080" cy="228600"/>
          </a:xfrm>
          <a:custGeom>
            <a:avLst/>
            <a:gdLst>
              <a:gd name="textAreaLeft" fmla="*/ 130680 w 838080"/>
              <a:gd name="textAreaRight" fmla="*/ 733320 w 8380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66"/>
          <p:cNvSpPr/>
          <p:nvPr/>
        </p:nvSpPr>
        <p:spPr>
          <a:xfrm rot="4610400">
            <a:off x="685080" y="4647960"/>
            <a:ext cx="533520" cy="228600"/>
          </a:xfrm>
          <a:custGeom>
            <a:avLst/>
            <a:gdLst>
              <a:gd name="textAreaLeft" fmla="*/ 83160 w 533520"/>
              <a:gd name="textAreaRight" fmla="*/ 466920 w 5335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67"/>
          <p:cNvSpPr/>
          <p:nvPr/>
        </p:nvSpPr>
        <p:spPr>
          <a:xfrm rot="21595200">
            <a:off x="1066680" y="1600200"/>
            <a:ext cx="838440" cy="228600"/>
          </a:xfrm>
          <a:custGeom>
            <a:avLst/>
            <a:gdLst>
              <a:gd name="textAreaLeft" fmla="*/ 131040 w 838440"/>
              <a:gd name="textAreaRight" fmla="*/ 733680 w 83844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343080" y="266760"/>
            <a:ext cx="84834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3"/>
          <p:cNvSpPr/>
          <p:nvPr/>
        </p:nvSpPr>
        <p:spPr>
          <a:xfrm>
            <a:off x="3314880" y="1320840"/>
            <a:ext cx="2463480" cy="1434960"/>
          </a:xfrm>
          <a:prstGeom prst="octagon">
            <a:avLst>
              <a:gd name="adj" fmla="val 29287"/>
            </a:avLst>
          </a:prstGeom>
          <a:blipFill rotWithShape="0">
            <a:blip r:embed="rId1"/>
            <a:srcRect/>
            <a:tile tx="0" ty="0" sx="100000" sy="100000" algn="ctr"/>
          </a:blipFill>
          <a:ln cap="sq" w="57240">
            <a:solidFill>
              <a:srgbClr val="000000"/>
            </a:solidFill>
            <a:miter/>
          </a:ln>
          <a:effectLst>
            <a:outerShdw dist="233089" dir="1764935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Города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отнесенны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к группам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по Г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5397480" y="2336760"/>
            <a:ext cx="762120" cy="343080"/>
          </a:xfrm>
          <a:prstGeom prst="rect">
            <a:avLst/>
          </a:prstGeom>
          <a:solidFill>
            <a:srgbClr val="cc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ВС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5"/>
          <p:cNvSpPr/>
          <p:nvPr/>
        </p:nvSpPr>
        <p:spPr>
          <a:xfrm>
            <a:off x="5905440" y="1003320"/>
            <a:ext cx="2679840" cy="647640"/>
          </a:xfrm>
          <a:prstGeom prst="wedgeRectCallout">
            <a:avLst>
              <a:gd name="adj1" fmla="val -53967"/>
              <a:gd name="adj2" fmla="val 85782"/>
            </a:avLst>
          </a:prstGeom>
          <a:solidFill>
            <a:srgbClr val="cc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2625840" y="971640"/>
            <a:ext cx="1834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5986440" y="979560"/>
            <a:ext cx="246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раница проектн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строй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8"/>
          <p:cNvSpPr/>
          <p:nvPr/>
        </p:nvSpPr>
        <p:spPr>
          <a:xfrm>
            <a:off x="851040" y="4572000"/>
            <a:ext cx="1498320" cy="1320840"/>
          </a:xfrm>
          <a:prstGeom prst="hexagon">
            <a:avLst>
              <a:gd name="adj" fmla="val 28359"/>
              <a:gd name="vf" fmla="val 115470"/>
            </a:avLst>
          </a:prstGeom>
          <a:blipFill rotWithShape="0">
            <a:blip r:embed="rId2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  <a:effectLst>
            <a:outerShdw dist="261781" dir="2348383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val 9"/>
          <p:cNvSpPr/>
          <p:nvPr/>
        </p:nvSpPr>
        <p:spPr>
          <a:xfrm>
            <a:off x="254160" y="3886200"/>
            <a:ext cx="2603520" cy="2717640"/>
          </a:xfrm>
          <a:prstGeom prst="ellipse">
            <a:avLst/>
          </a:prstGeom>
          <a:noFill/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2502000" y="5651640"/>
            <a:ext cx="761760" cy="342720"/>
          </a:xfrm>
          <a:prstGeom prst="rect">
            <a:avLst/>
          </a:prstGeom>
          <a:solidFill>
            <a:srgbClr val="cc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ВС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1"/>
          <p:cNvSpPr/>
          <p:nvPr/>
        </p:nvSpPr>
        <p:spPr>
          <a:xfrm flipV="1">
            <a:off x="2197080" y="4673520"/>
            <a:ext cx="533520" cy="29232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12"/>
          <p:cNvSpPr/>
          <p:nvPr/>
        </p:nvSpPr>
        <p:spPr>
          <a:xfrm>
            <a:off x="3035160" y="3606840"/>
            <a:ext cx="965520" cy="342720"/>
          </a:xfrm>
          <a:prstGeom prst="wedgeRectCallout">
            <a:avLst>
              <a:gd name="adj1" fmla="val -118092"/>
              <a:gd name="adj2" fmla="val 306944"/>
            </a:avLst>
          </a:prstGeom>
          <a:solidFill>
            <a:srgbClr val="cc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3172320" y="355752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 к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14"/>
          <p:cNvSpPr/>
          <p:nvPr/>
        </p:nvSpPr>
        <p:spPr>
          <a:xfrm>
            <a:off x="1181160" y="5041800"/>
            <a:ext cx="914400" cy="444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ccff"/>
                </a:solidFill>
                <a:latin typeface="Times New Roman"/>
              </a:rPr>
              <a:t>О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5"/>
          <p:cNvSpPr/>
          <p:nvPr/>
        </p:nvSpPr>
        <p:spPr>
          <a:xfrm>
            <a:off x="3549600" y="133200"/>
            <a:ext cx="151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З В С 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reeform 2"/>
          <p:cNvSpPr/>
          <p:nvPr/>
        </p:nvSpPr>
        <p:spPr>
          <a:xfrm>
            <a:off x="-30240" y="1587600"/>
            <a:ext cx="9186840" cy="1904760"/>
          </a:xfrm>
          <a:custGeom>
            <a:avLst/>
            <a:gdLst>
              <a:gd name="textAreaLeft" fmla="*/ 0 w 9186840"/>
              <a:gd name="textAreaRight" fmla="*/ 9187200 w 9186840"/>
              <a:gd name="textAreaTop" fmla="*/ 0 h 1904760"/>
              <a:gd name="textAreaBottom" fmla="*/ 1905120 h 1904760"/>
            </a:gdLst>
            <a:ahLst/>
            <a:rect l="textAreaLeft" t="textAreaTop" r="textAreaRight" b="textAreaBottom"/>
            <a:pathLst>
              <a:path w="5787" h="1200">
                <a:moveTo>
                  <a:pt x="211" y="384"/>
                </a:moveTo>
                <a:cubicBezTo>
                  <a:pt x="327" y="389"/>
                  <a:pt x="439" y="399"/>
                  <a:pt x="555" y="408"/>
                </a:cubicBezTo>
                <a:cubicBezTo>
                  <a:pt x="642" y="451"/>
                  <a:pt x="731" y="465"/>
                  <a:pt x="827" y="472"/>
                </a:cubicBezTo>
                <a:cubicBezTo>
                  <a:pt x="905" y="466"/>
                  <a:pt x="970" y="464"/>
                  <a:pt x="1043" y="440"/>
                </a:cubicBezTo>
                <a:cubicBezTo>
                  <a:pt x="1069" y="431"/>
                  <a:pt x="1115" y="400"/>
                  <a:pt x="1115" y="400"/>
                </a:cubicBezTo>
                <a:cubicBezTo>
                  <a:pt x="1179" y="304"/>
                  <a:pt x="1080" y="445"/>
                  <a:pt x="1155" y="360"/>
                </a:cubicBezTo>
                <a:cubicBezTo>
                  <a:pt x="1189" y="321"/>
                  <a:pt x="1200" y="271"/>
                  <a:pt x="1235" y="232"/>
                </a:cubicBezTo>
                <a:cubicBezTo>
                  <a:pt x="1250" y="215"/>
                  <a:pt x="1264" y="197"/>
                  <a:pt x="1283" y="184"/>
                </a:cubicBezTo>
                <a:cubicBezTo>
                  <a:pt x="1299" y="173"/>
                  <a:pt x="1331" y="152"/>
                  <a:pt x="1331" y="152"/>
                </a:cubicBezTo>
                <a:cubicBezTo>
                  <a:pt x="1369" y="94"/>
                  <a:pt x="1315" y="165"/>
                  <a:pt x="1395" y="112"/>
                </a:cubicBezTo>
                <a:cubicBezTo>
                  <a:pt x="1466" y="65"/>
                  <a:pt x="1567" y="52"/>
                  <a:pt x="1651" y="40"/>
                </a:cubicBezTo>
                <a:cubicBezTo>
                  <a:pt x="1709" y="21"/>
                  <a:pt x="1767" y="12"/>
                  <a:pt x="1827" y="0"/>
                </a:cubicBezTo>
                <a:cubicBezTo>
                  <a:pt x="1960" y="3"/>
                  <a:pt x="2094" y="3"/>
                  <a:pt x="2227" y="8"/>
                </a:cubicBezTo>
                <a:cubicBezTo>
                  <a:pt x="2325" y="12"/>
                  <a:pt x="2403" y="83"/>
                  <a:pt x="2491" y="112"/>
                </a:cubicBezTo>
                <a:cubicBezTo>
                  <a:pt x="2519" y="154"/>
                  <a:pt x="2509" y="182"/>
                  <a:pt x="2523" y="232"/>
                </a:cubicBezTo>
                <a:cubicBezTo>
                  <a:pt x="2526" y="241"/>
                  <a:pt x="2535" y="247"/>
                  <a:pt x="2539" y="256"/>
                </a:cubicBezTo>
                <a:cubicBezTo>
                  <a:pt x="2561" y="305"/>
                  <a:pt x="2564" y="361"/>
                  <a:pt x="2611" y="392"/>
                </a:cubicBezTo>
                <a:cubicBezTo>
                  <a:pt x="2616" y="400"/>
                  <a:pt x="2620" y="409"/>
                  <a:pt x="2627" y="416"/>
                </a:cubicBezTo>
                <a:cubicBezTo>
                  <a:pt x="2634" y="423"/>
                  <a:pt x="2645" y="424"/>
                  <a:pt x="2651" y="432"/>
                </a:cubicBezTo>
                <a:cubicBezTo>
                  <a:pt x="2656" y="439"/>
                  <a:pt x="2653" y="450"/>
                  <a:pt x="2659" y="456"/>
                </a:cubicBezTo>
                <a:cubicBezTo>
                  <a:pt x="2691" y="488"/>
                  <a:pt x="2703" y="487"/>
                  <a:pt x="2739" y="496"/>
                </a:cubicBezTo>
                <a:cubicBezTo>
                  <a:pt x="2967" y="489"/>
                  <a:pt x="3191" y="466"/>
                  <a:pt x="3419" y="456"/>
                </a:cubicBezTo>
                <a:cubicBezTo>
                  <a:pt x="3510" y="441"/>
                  <a:pt x="3603" y="445"/>
                  <a:pt x="3691" y="416"/>
                </a:cubicBezTo>
                <a:cubicBezTo>
                  <a:pt x="3848" y="419"/>
                  <a:pt x="4006" y="417"/>
                  <a:pt x="4163" y="424"/>
                </a:cubicBezTo>
                <a:cubicBezTo>
                  <a:pt x="4206" y="426"/>
                  <a:pt x="4260" y="457"/>
                  <a:pt x="4299" y="472"/>
                </a:cubicBezTo>
                <a:cubicBezTo>
                  <a:pt x="4374" y="500"/>
                  <a:pt x="4497" y="508"/>
                  <a:pt x="4579" y="520"/>
                </a:cubicBezTo>
                <a:cubicBezTo>
                  <a:pt x="4765" y="516"/>
                  <a:pt x="4904" y="515"/>
                  <a:pt x="5075" y="496"/>
                </a:cubicBezTo>
                <a:cubicBezTo>
                  <a:pt x="5283" y="427"/>
                  <a:pt x="5469" y="422"/>
                  <a:pt x="5691" y="408"/>
                </a:cubicBezTo>
                <a:cubicBezTo>
                  <a:pt x="5732" y="398"/>
                  <a:pt x="5770" y="381"/>
                  <a:pt x="5787" y="432"/>
                </a:cubicBezTo>
                <a:cubicBezTo>
                  <a:pt x="5784" y="472"/>
                  <a:pt x="5786" y="512"/>
                  <a:pt x="5779" y="552"/>
                </a:cubicBezTo>
                <a:cubicBezTo>
                  <a:pt x="5777" y="561"/>
                  <a:pt x="5767" y="585"/>
                  <a:pt x="5763" y="576"/>
                </a:cubicBezTo>
                <a:cubicBezTo>
                  <a:pt x="5757" y="564"/>
                  <a:pt x="5768" y="549"/>
                  <a:pt x="5771" y="536"/>
                </a:cubicBezTo>
                <a:cubicBezTo>
                  <a:pt x="5713" y="517"/>
                  <a:pt x="5737" y="566"/>
                  <a:pt x="5691" y="568"/>
                </a:cubicBezTo>
                <a:cubicBezTo>
                  <a:pt x="5558" y="573"/>
                  <a:pt x="5424" y="573"/>
                  <a:pt x="5291" y="576"/>
                </a:cubicBezTo>
                <a:cubicBezTo>
                  <a:pt x="5283" y="584"/>
                  <a:pt x="5277" y="595"/>
                  <a:pt x="5267" y="600"/>
                </a:cubicBezTo>
                <a:cubicBezTo>
                  <a:pt x="5247" y="611"/>
                  <a:pt x="5210" y="617"/>
                  <a:pt x="5187" y="624"/>
                </a:cubicBezTo>
                <a:cubicBezTo>
                  <a:pt x="5146" y="636"/>
                  <a:pt x="5139" y="648"/>
                  <a:pt x="5091" y="656"/>
                </a:cubicBezTo>
                <a:cubicBezTo>
                  <a:pt x="4833" y="651"/>
                  <a:pt x="4586" y="642"/>
                  <a:pt x="4331" y="624"/>
                </a:cubicBezTo>
                <a:cubicBezTo>
                  <a:pt x="4122" y="520"/>
                  <a:pt x="3792" y="571"/>
                  <a:pt x="3611" y="568"/>
                </a:cubicBezTo>
                <a:cubicBezTo>
                  <a:pt x="3323" y="573"/>
                  <a:pt x="3003" y="566"/>
                  <a:pt x="2715" y="624"/>
                </a:cubicBezTo>
                <a:cubicBezTo>
                  <a:pt x="2698" y="650"/>
                  <a:pt x="2687" y="681"/>
                  <a:pt x="2667" y="704"/>
                </a:cubicBezTo>
                <a:cubicBezTo>
                  <a:pt x="2652" y="721"/>
                  <a:pt x="2619" y="752"/>
                  <a:pt x="2619" y="752"/>
                </a:cubicBezTo>
                <a:cubicBezTo>
                  <a:pt x="2609" y="782"/>
                  <a:pt x="2591" y="804"/>
                  <a:pt x="2579" y="832"/>
                </a:cubicBezTo>
                <a:cubicBezTo>
                  <a:pt x="2569" y="855"/>
                  <a:pt x="2563" y="880"/>
                  <a:pt x="2555" y="904"/>
                </a:cubicBezTo>
                <a:cubicBezTo>
                  <a:pt x="2540" y="948"/>
                  <a:pt x="2461" y="1002"/>
                  <a:pt x="2419" y="1016"/>
                </a:cubicBezTo>
                <a:cubicBezTo>
                  <a:pt x="2342" y="1093"/>
                  <a:pt x="2440" y="1002"/>
                  <a:pt x="2371" y="1048"/>
                </a:cubicBezTo>
                <a:cubicBezTo>
                  <a:pt x="2323" y="1080"/>
                  <a:pt x="2373" y="1067"/>
                  <a:pt x="2315" y="1096"/>
                </a:cubicBezTo>
                <a:cubicBezTo>
                  <a:pt x="2217" y="1145"/>
                  <a:pt x="2097" y="1117"/>
                  <a:pt x="1987" y="1120"/>
                </a:cubicBezTo>
                <a:cubicBezTo>
                  <a:pt x="1929" y="1178"/>
                  <a:pt x="1864" y="1170"/>
                  <a:pt x="1787" y="1184"/>
                </a:cubicBezTo>
                <a:cubicBezTo>
                  <a:pt x="1765" y="1188"/>
                  <a:pt x="1723" y="1200"/>
                  <a:pt x="1723" y="1200"/>
                </a:cubicBezTo>
                <a:cubicBezTo>
                  <a:pt x="1582" y="1192"/>
                  <a:pt x="1497" y="1198"/>
                  <a:pt x="1379" y="1168"/>
                </a:cubicBezTo>
                <a:cubicBezTo>
                  <a:pt x="1357" y="1153"/>
                  <a:pt x="1331" y="1139"/>
                  <a:pt x="1307" y="1128"/>
                </a:cubicBezTo>
                <a:cubicBezTo>
                  <a:pt x="1292" y="1121"/>
                  <a:pt x="1259" y="1112"/>
                  <a:pt x="1259" y="1112"/>
                </a:cubicBezTo>
                <a:cubicBezTo>
                  <a:pt x="1223" y="1058"/>
                  <a:pt x="1265" y="1111"/>
                  <a:pt x="1219" y="1080"/>
                </a:cubicBezTo>
                <a:cubicBezTo>
                  <a:pt x="1210" y="1074"/>
                  <a:pt x="1205" y="1062"/>
                  <a:pt x="1195" y="1056"/>
                </a:cubicBezTo>
                <a:cubicBezTo>
                  <a:pt x="1147" y="1026"/>
                  <a:pt x="1103" y="1017"/>
                  <a:pt x="1051" y="1000"/>
                </a:cubicBezTo>
                <a:cubicBezTo>
                  <a:pt x="977" y="975"/>
                  <a:pt x="943" y="888"/>
                  <a:pt x="883" y="848"/>
                </a:cubicBezTo>
                <a:cubicBezTo>
                  <a:pt x="878" y="840"/>
                  <a:pt x="871" y="833"/>
                  <a:pt x="867" y="824"/>
                </a:cubicBezTo>
                <a:cubicBezTo>
                  <a:pt x="863" y="816"/>
                  <a:pt x="865" y="806"/>
                  <a:pt x="859" y="800"/>
                </a:cubicBezTo>
                <a:cubicBezTo>
                  <a:pt x="839" y="780"/>
                  <a:pt x="811" y="768"/>
                  <a:pt x="787" y="752"/>
                </a:cubicBezTo>
                <a:cubicBezTo>
                  <a:pt x="773" y="743"/>
                  <a:pt x="755" y="741"/>
                  <a:pt x="739" y="736"/>
                </a:cubicBezTo>
                <a:cubicBezTo>
                  <a:pt x="721" y="730"/>
                  <a:pt x="691" y="704"/>
                  <a:pt x="691" y="704"/>
                </a:cubicBezTo>
                <a:cubicBezTo>
                  <a:pt x="678" y="684"/>
                  <a:pt x="655" y="615"/>
                  <a:pt x="635" y="608"/>
                </a:cubicBezTo>
                <a:cubicBezTo>
                  <a:pt x="584" y="591"/>
                  <a:pt x="529" y="550"/>
                  <a:pt x="475" y="544"/>
                </a:cubicBezTo>
                <a:cubicBezTo>
                  <a:pt x="419" y="538"/>
                  <a:pt x="363" y="539"/>
                  <a:pt x="307" y="536"/>
                </a:cubicBezTo>
                <a:cubicBezTo>
                  <a:pt x="208" y="519"/>
                  <a:pt x="118" y="484"/>
                  <a:pt x="19" y="464"/>
                </a:cubicBezTo>
                <a:cubicBezTo>
                  <a:pt x="13" y="445"/>
                  <a:pt x="0" y="419"/>
                  <a:pt x="19" y="400"/>
                </a:cubicBezTo>
                <a:cubicBezTo>
                  <a:pt x="31" y="388"/>
                  <a:pt x="67" y="384"/>
                  <a:pt x="67" y="384"/>
                </a:cubicBezTo>
                <a:cubicBezTo>
                  <a:pt x="51" y="381"/>
                  <a:pt x="32" y="385"/>
                  <a:pt x="19" y="376"/>
                </a:cubicBezTo>
                <a:cubicBezTo>
                  <a:pt x="12" y="371"/>
                  <a:pt x="35" y="368"/>
                  <a:pt x="43" y="368"/>
                </a:cubicBezTo>
                <a:cubicBezTo>
                  <a:pt x="62" y="368"/>
                  <a:pt x="80" y="373"/>
                  <a:pt x="99" y="376"/>
                </a:cubicBezTo>
                <a:cubicBezTo>
                  <a:pt x="171" y="400"/>
                  <a:pt x="238" y="408"/>
                  <a:pt x="315" y="408"/>
                </a:cubicBezTo>
                <a:lnTo>
                  <a:pt x="211" y="384"/>
                </a:lnTo>
                <a:close/>
              </a:path>
            </a:pathLst>
          </a:custGeom>
          <a:solidFill>
            <a:srgbClr val="33ccff"/>
          </a:solidFill>
          <a:ln cap="sq"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Freeform 3"/>
          <p:cNvSpPr/>
          <p:nvPr/>
        </p:nvSpPr>
        <p:spPr>
          <a:xfrm>
            <a:off x="4313160" y="1638360"/>
            <a:ext cx="4818240" cy="1727280"/>
          </a:xfrm>
          <a:custGeom>
            <a:avLst/>
            <a:gdLst>
              <a:gd name="textAreaLeft" fmla="*/ 0 w 4818240"/>
              <a:gd name="textAreaRight" fmla="*/ 4818600 w 4818240"/>
              <a:gd name="textAreaTop" fmla="*/ 0 h 1727280"/>
              <a:gd name="textAreaBottom" fmla="*/ 1727640 h 1727280"/>
            </a:gdLst>
            <a:ahLst/>
            <a:rect l="textAreaLeft" t="textAreaTop" r="textAreaRight" b="textAreaBottom"/>
            <a:pathLst>
              <a:path w="3035" h="1088">
                <a:moveTo>
                  <a:pt x="11" y="624"/>
                </a:moveTo>
                <a:cubicBezTo>
                  <a:pt x="68" y="662"/>
                  <a:pt x="13" y="616"/>
                  <a:pt x="43" y="736"/>
                </a:cubicBezTo>
                <a:cubicBezTo>
                  <a:pt x="47" y="753"/>
                  <a:pt x="114" y="815"/>
                  <a:pt x="115" y="816"/>
                </a:cubicBezTo>
                <a:cubicBezTo>
                  <a:pt x="147" y="848"/>
                  <a:pt x="228" y="854"/>
                  <a:pt x="259" y="864"/>
                </a:cubicBezTo>
                <a:cubicBezTo>
                  <a:pt x="347" y="893"/>
                  <a:pt x="442" y="898"/>
                  <a:pt x="531" y="928"/>
                </a:cubicBezTo>
                <a:cubicBezTo>
                  <a:pt x="542" y="936"/>
                  <a:pt x="554" y="943"/>
                  <a:pt x="563" y="952"/>
                </a:cubicBezTo>
                <a:cubicBezTo>
                  <a:pt x="570" y="959"/>
                  <a:pt x="572" y="970"/>
                  <a:pt x="579" y="976"/>
                </a:cubicBezTo>
                <a:cubicBezTo>
                  <a:pt x="637" y="1026"/>
                  <a:pt x="721" y="1059"/>
                  <a:pt x="795" y="1072"/>
                </a:cubicBezTo>
                <a:cubicBezTo>
                  <a:pt x="837" y="1080"/>
                  <a:pt x="923" y="1088"/>
                  <a:pt x="923" y="1088"/>
                </a:cubicBezTo>
                <a:cubicBezTo>
                  <a:pt x="1120" y="1085"/>
                  <a:pt x="1318" y="1085"/>
                  <a:pt x="1515" y="1080"/>
                </a:cubicBezTo>
                <a:cubicBezTo>
                  <a:pt x="1539" y="1079"/>
                  <a:pt x="1542" y="1065"/>
                  <a:pt x="1563" y="1056"/>
                </a:cubicBezTo>
                <a:cubicBezTo>
                  <a:pt x="1605" y="1038"/>
                  <a:pt x="1648" y="1024"/>
                  <a:pt x="1691" y="1008"/>
                </a:cubicBezTo>
                <a:cubicBezTo>
                  <a:pt x="1774" y="977"/>
                  <a:pt x="1877" y="981"/>
                  <a:pt x="1963" y="976"/>
                </a:cubicBezTo>
                <a:cubicBezTo>
                  <a:pt x="2055" y="953"/>
                  <a:pt x="2172" y="978"/>
                  <a:pt x="2267" y="984"/>
                </a:cubicBezTo>
                <a:cubicBezTo>
                  <a:pt x="2403" y="979"/>
                  <a:pt x="2539" y="976"/>
                  <a:pt x="2675" y="968"/>
                </a:cubicBezTo>
                <a:cubicBezTo>
                  <a:pt x="2722" y="965"/>
                  <a:pt x="2778" y="900"/>
                  <a:pt x="2811" y="872"/>
                </a:cubicBezTo>
                <a:cubicBezTo>
                  <a:pt x="2842" y="846"/>
                  <a:pt x="2873" y="842"/>
                  <a:pt x="2899" y="808"/>
                </a:cubicBezTo>
                <a:cubicBezTo>
                  <a:pt x="2913" y="789"/>
                  <a:pt x="2925" y="747"/>
                  <a:pt x="2931" y="728"/>
                </a:cubicBezTo>
                <a:cubicBezTo>
                  <a:pt x="2939" y="703"/>
                  <a:pt x="2979" y="648"/>
                  <a:pt x="2995" y="624"/>
                </a:cubicBezTo>
                <a:cubicBezTo>
                  <a:pt x="3008" y="533"/>
                  <a:pt x="3020" y="442"/>
                  <a:pt x="3035" y="352"/>
                </a:cubicBezTo>
                <a:cubicBezTo>
                  <a:pt x="3032" y="285"/>
                  <a:pt x="3034" y="218"/>
                  <a:pt x="3027" y="152"/>
                </a:cubicBezTo>
                <a:cubicBezTo>
                  <a:pt x="3022" y="106"/>
                  <a:pt x="2931" y="97"/>
                  <a:pt x="2899" y="96"/>
                </a:cubicBezTo>
                <a:cubicBezTo>
                  <a:pt x="2782" y="91"/>
                  <a:pt x="2664" y="91"/>
                  <a:pt x="2547" y="88"/>
                </a:cubicBezTo>
                <a:cubicBezTo>
                  <a:pt x="2477" y="78"/>
                  <a:pt x="2409" y="65"/>
                  <a:pt x="2339" y="56"/>
                </a:cubicBezTo>
                <a:cubicBezTo>
                  <a:pt x="2186" y="64"/>
                  <a:pt x="2141" y="71"/>
                  <a:pt x="1979" y="56"/>
                </a:cubicBezTo>
                <a:cubicBezTo>
                  <a:pt x="1895" y="48"/>
                  <a:pt x="1823" y="8"/>
                  <a:pt x="1739" y="0"/>
                </a:cubicBezTo>
                <a:cubicBezTo>
                  <a:pt x="1559" y="6"/>
                  <a:pt x="1391" y="25"/>
                  <a:pt x="1211" y="32"/>
                </a:cubicBezTo>
                <a:cubicBezTo>
                  <a:pt x="1200" y="37"/>
                  <a:pt x="1191" y="45"/>
                  <a:pt x="1179" y="48"/>
                </a:cubicBezTo>
                <a:cubicBezTo>
                  <a:pt x="1158" y="53"/>
                  <a:pt x="1134" y="46"/>
                  <a:pt x="1115" y="56"/>
                </a:cubicBezTo>
                <a:cubicBezTo>
                  <a:pt x="1092" y="68"/>
                  <a:pt x="1084" y="104"/>
                  <a:pt x="1059" y="112"/>
                </a:cubicBezTo>
                <a:cubicBezTo>
                  <a:pt x="987" y="136"/>
                  <a:pt x="927" y="150"/>
                  <a:pt x="851" y="160"/>
                </a:cubicBezTo>
                <a:cubicBezTo>
                  <a:pt x="644" y="229"/>
                  <a:pt x="394" y="209"/>
                  <a:pt x="179" y="216"/>
                </a:cubicBezTo>
                <a:cubicBezTo>
                  <a:pt x="160" y="219"/>
                  <a:pt x="138" y="213"/>
                  <a:pt x="123" y="224"/>
                </a:cubicBezTo>
                <a:cubicBezTo>
                  <a:pt x="112" y="232"/>
                  <a:pt x="125" y="255"/>
                  <a:pt x="115" y="264"/>
                </a:cubicBezTo>
                <a:cubicBezTo>
                  <a:pt x="103" y="275"/>
                  <a:pt x="83" y="269"/>
                  <a:pt x="67" y="272"/>
                </a:cubicBezTo>
                <a:cubicBezTo>
                  <a:pt x="20" y="303"/>
                  <a:pt x="42" y="331"/>
                  <a:pt x="19" y="376"/>
                </a:cubicBezTo>
                <a:cubicBezTo>
                  <a:pt x="0" y="414"/>
                  <a:pt x="3" y="385"/>
                  <a:pt x="3" y="416"/>
                </a:cubicBezTo>
              </a:path>
            </a:pathLst>
          </a:custGeom>
          <a:solidFill>
            <a:srgbClr val="66ffff"/>
          </a:solidFill>
          <a:ln cap="sq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Freeform 4"/>
          <p:cNvSpPr/>
          <p:nvPr/>
        </p:nvSpPr>
        <p:spPr>
          <a:xfrm>
            <a:off x="4251240" y="2222640"/>
            <a:ext cx="4888080" cy="438120"/>
          </a:xfrm>
          <a:custGeom>
            <a:avLst/>
            <a:gdLst>
              <a:gd name="textAreaLeft" fmla="*/ 0 w 4888080"/>
              <a:gd name="textAreaRight" fmla="*/ 4888440 w 4888080"/>
              <a:gd name="textAreaTop" fmla="*/ 0 h 438120"/>
              <a:gd name="textAreaBottom" fmla="*/ 438480 h 438120"/>
            </a:gdLst>
            <a:ahLst/>
            <a:rect l="textAreaLeft" t="textAreaTop" r="textAreaRight" b="textAreaBottom"/>
            <a:pathLst>
              <a:path w="3079" h="276">
                <a:moveTo>
                  <a:pt x="66" y="88"/>
                </a:moveTo>
                <a:cubicBezTo>
                  <a:pt x="197" y="73"/>
                  <a:pt x="183" y="73"/>
                  <a:pt x="362" y="80"/>
                </a:cubicBezTo>
                <a:cubicBezTo>
                  <a:pt x="461" y="105"/>
                  <a:pt x="564" y="117"/>
                  <a:pt x="666" y="128"/>
                </a:cubicBezTo>
                <a:cubicBezTo>
                  <a:pt x="935" y="122"/>
                  <a:pt x="1007" y="135"/>
                  <a:pt x="1218" y="72"/>
                </a:cubicBezTo>
                <a:cubicBezTo>
                  <a:pt x="1274" y="55"/>
                  <a:pt x="1329" y="39"/>
                  <a:pt x="1386" y="24"/>
                </a:cubicBezTo>
                <a:cubicBezTo>
                  <a:pt x="1418" y="16"/>
                  <a:pt x="1482" y="0"/>
                  <a:pt x="1482" y="0"/>
                </a:cubicBezTo>
                <a:cubicBezTo>
                  <a:pt x="1687" y="5"/>
                  <a:pt x="1886" y="17"/>
                  <a:pt x="2090" y="32"/>
                </a:cubicBezTo>
                <a:cubicBezTo>
                  <a:pt x="2262" y="63"/>
                  <a:pt x="2436" y="65"/>
                  <a:pt x="2610" y="72"/>
                </a:cubicBezTo>
                <a:cubicBezTo>
                  <a:pt x="2717" y="69"/>
                  <a:pt x="2823" y="69"/>
                  <a:pt x="2930" y="64"/>
                </a:cubicBezTo>
                <a:cubicBezTo>
                  <a:pt x="2963" y="62"/>
                  <a:pt x="3006" y="37"/>
                  <a:pt x="3050" y="32"/>
                </a:cubicBezTo>
                <a:cubicBezTo>
                  <a:pt x="3058" y="37"/>
                  <a:pt x="3073" y="38"/>
                  <a:pt x="3074" y="48"/>
                </a:cubicBezTo>
                <a:cubicBezTo>
                  <a:pt x="3079" y="90"/>
                  <a:pt x="3078" y="135"/>
                  <a:pt x="3066" y="176"/>
                </a:cubicBezTo>
                <a:cubicBezTo>
                  <a:pt x="3063" y="187"/>
                  <a:pt x="3045" y="181"/>
                  <a:pt x="3034" y="184"/>
                </a:cubicBezTo>
                <a:cubicBezTo>
                  <a:pt x="3005" y="192"/>
                  <a:pt x="2975" y="198"/>
                  <a:pt x="2946" y="208"/>
                </a:cubicBezTo>
                <a:cubicBezTo>
                  <a:pt x="2874" y="205"/>
                  <a:pt x="2802" y="204"/>
                  <a:pt x="2730" y="200"/>
                </a:cubicBezTo>
                <a:cubicBezTo>
                  <a:pt x="2681" y="197"/>
                  <a:pt x="2634" y="172"/>
                  <a:pt x="2586" y="160"/>
                </a:cubicBezTo>
                <a:cubicBezTo>
                  <a:pt x="2452" y="165"/>
                  <a:pt x="2362" y="176"/>
                  <a:pt x="2234" y="184"/>
                </a:cubicBezTo>
                <a:cubicBezTo>
                  <a:pt x="2153" y="197"/>
                  <a:pt x="2094" y="198"/>
                  <a:pt x="2010" y="192"/>
                </a:cubicBezTo>
                <a:cubicBezTo>
                  <a:pt x="1984" y="183"/>
                  <a:pt x="1955" y="179"/>
                  <a:pt x="1930" y="168"/>
                </a:cubicBezTo>
                <a:cubicBezTo>
                  <a:pt x="1840" y="127"/>
                  <a:pt x="1897" y="142"/>
                  <a:pt x="1826" y="128"/>
                </a:cubicBezTo>
                <a:cubicBezTo>
                  <a:pt x="1746" y="131"/>
                  <a:pt x="1666" y="129"/>
                  <a:pt x="1586" y="136"/>
                </a:cubicBezTo>
                <a:cubicBezTo>
                  <a:pt x="1530" y="141"/>
                  <a:pt x="1461" y="169"/>
                  <a:pt x="1402" y="176"/>
                </a:cubicBezTo>
                <a:cubicBezTo>
                  <a:pt x="1304" y="209"/>
                  <a:pt x="1192" y="219"/>
                  <a:pt x="1090" y="232"/>
                </a:cubicBezTo>
                <a:cubicBezTo>
                  <a:pt x="1060" y="236"/>
                  <a:pt x="1032" y="245"/>
                  <a:pt x="1002" y="248"/>
                </a:cubicBezTo>
                <a:cubicBezTo>
                  <a:pt x="967" y="252"/>
                  <a:pt x="863" y="256"/>
                  <a:pt x="898" y="256"/>
                </a:cubicBezTo>
                <a:cubicBezTo>
                  <a:pt x="957" y="256"/>
                  <a:pt x="1015" y="251"/>
                  <a:pt x="1074" y="248"/>
                </a:cubicBezTo>
                <a:cubicBezTo>
                  <a:pt x="962" y="245"/>
                  <a:pt x="779" y="276"/>
                  <a:pt x="666" y="200"/>
                </a:cubicBezTo>
                <a:cubicBezTo>
                  <a:pt x="483" y="205"/>
                  <a:pt x="322" y="208"/>
                  <a:pt x="146" y="240"/>
                </a:cubicBezTo>
                <a:cubicBezTo>
                  <a:pt x="101" y="237"/>
                  <a:pt x="53" y="246"/>
                  <a:pt x="10" y="232"/>
                </a:cubicBezTo>
                <a:cubicBezTo>
                  <a:pt x="0" y="229"/>
                  <a:pt x="16" y="211"/>
                  <a:pt x="18" y="200"/>
                </a:cubicBezTo>
                <a:cubicBezTo>
                  <a:pt x="26" y="162"/>
                  <a:pt x="19" y="133"/>
                  <a:pt x="58" y="120"/>
                </a:cubicBezTo>
                <a:cubicBezTo>
                  <a:pt x="67" y="93"/>
                  <a:pt x="66" y="104"/>
                  <a:pt x="66" y="88"/>
                </a:cubicBezTo>
                <a:close/>
              </a:path>
            </a:pathLst>
          </a:custGeom>
          <a:solidFill>
            <a:srgbClr val="33ccff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1987560" y="2387520"/>
            <a:ext cx="182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водохранилищ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6590160" y="1766880"/>
            <a:ext cx="99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З В К 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8"/>
          <p:cNvSpPr/>
          <p:nvPr/>
        </p:nvSpPr>
        <p:spPr>
          <a:xfrm>
            <a:off x="7264440" y="2362320"/>
            <a:ext cx="647640" cy="507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9"/>
          <p:cNvSpPr/>
          <p:nvPr/>
        </p:nvSpPr>
        <p:spPr>
          <a:xfrm>
            <a:off x="7074000" y="1486080"/>
            <a:ext cx="0" cy="28954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0"/>
          <p:cNvSpPr/>
          <p:nvPr/>
        </p:nvSpPr>
        <p:spPr>
          <a:xfrm>
            <a:off x="4280040" y="2997360"/>
            <a:ext cx="0" cy="1422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1"/>
          <p:cNvSpPr/>
          <p:nvPr/>
        </p:nvSpPr>
        <p:spPr>
          <a:xfrm>
            <a:off x="4292640" y="4140360"/>
            <a:ext cx="278136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2"/>
          <p:cNvSpPr/>
          <p:nvPr/>
        </p:nvSpPr>
        <p:spPr>
          <a:xfrm>
            <a:off x="4655160" y="4219560"/>
            <a:ext cx="199728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она 4-х часовог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бегания волн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ры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3934800" y="82440"/>
            <a:ext cx="117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ЗВК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4"/>
          <p:cNvSpPr/>
          <p:nvPr/>
        </p:nvSpPr>
        <p:spPr>
          <a:xfrm rot="669000">
            <a:off x="5359320" y="1879560"/>
            <a:ext cx="381240" cy="88920"/>
          </a:xfrm>
          <a:prstGeom prst="rect">
            <a:avLst/>
          </a:prstGeom>
          <a:solidFill>
            <a:srgbClr val="cc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15"/>
          <p:cNvSpPr/>
          <p:nvPr/>
        </p:nvSpPr>
        <p:spPr>
          <a:xfrm rot="609600">
            <a:off x="5320800" y="2082960"/>
            <a:ext cx="381240" cy="88920"/>
          </a:xfrm>
          <a:prstGeom prst="rect">
            <a:avLst/>
          </a:prstGeom>
          <a:solidFill>
            <a:srgbClr val="cc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16"/>
          <p:cNvSpPr/>
          <p:nvPr/>
        </p:nvSpPr>
        <p:spPr>
          <a:xfrm rot="6106800">
            <a:off x="5650920" y="2031840"/>
            <a:ext cx="380880" cy="88920"/>
          </a:xfrm>
          <a:prstGeom prst="rect">
            <a:avLst/>
          </a:prstGeom>
          <a:solidFill>
            <a:srgbClr val="cc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17"/>
          <p:cNvSpPr/>
          <p:nvPr/>
        </p:nvSpPr>
        <p:spPr>
          <a:xfrm rot="16824600">
            <a:off x="5371920" y="1383840"/>
            <a:ext cx="685800" cy="203040"/>
          </a:xfrm>
          <a:custGeom>
            <a:avLst/>
            <a:gdLst>
              <a:gd name="textAreaLeft" fmla="*/ 106920 w 685800"/>
              <a:gd name="textAreaRight" fmla="*/ 600120 w 685800"/>
              <a:gd name="textAreaTop" fmla="*/ 50760 h 203040"/>
              <a:gd name="textAreaBottom" fmla="*/ 152280 h 2030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00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18"/>
          <p:cNvSpPr/>
          <p:nvPr/>
        </p:nvSpPr>
        <p:spPr>
          <a:xfrm rot="669000">
            <a:off x="7759800" y="2831760"/>
            <a:ext cx="380880" cy="88920"/>
          </a:xfrm>
          <a:prstGeom prst="rect">
            <a:avLst/>
          </a:prstGeom>
          <a:solidFill>
            <a:srgbClr val="cc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19"/>
          <p:cNvSpPr/>
          <p:nvPr/>
        </p:nvSpPr>
        <p:spPr>
          <a:xfrm rot="669000">
            <a:off x="7683480" y="2997000"/>
            <a:ext cx="380880" cy="88920"/>
          </a:xfrm>
          <a:prstGeom prst="rect">
            <a:avLst/>
          </a:prstGeom>
          <a:solidFill>
            <a:srgbClr val="cc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20"/>
          <p:cNvSpPr/>
          <p:nvPr/>
        </p:nvSpPr>
        <p:spPr>
          <a:xfrm rot="4151400">
            <a:off x="7949520" y="3327480"/>
            <a:ext cx="685800" cy="2034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0760 h 203400"/>
              <a:gd name="textAreaBottom" fmla="*/ 152640 h 2034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0066"/>
          </a:solidFill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21"/>
          <p:cNvSpPr/>
          <p:nvPr/>
        </p:nvSpPr>
        <p:spPr>
          <a:xfrm>
            <a:off x="5943600" y="749160"/>
            <a:ext cx="1790640" cy="673200"/>
          </a:xfrm>
          <a:prstGeom prst="wedgeRoundRectCallout">
            <a:avLst>
              <a:gd name="adj1" fmla="val -57888"/>
              <a:gd name="adj2" fmla="val 77592"/>
              <a:gd name="adj3" fmla="val 16667"/>
            </a:avLst>
          </a:prstGeom>
          <a:solidFill>
            <a:srgbClr val="99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22"/>
          <p:cNvSpPr/>
          <p:nvPr/>
        </p:nvSpPr>
        <p:spPr>
          <a:xfrm>
            <a:off x="5838840" y="825480"/>
            <a:ext cx="19699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 объявлени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вакуации 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егион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23"/>
          <p:cNvSpPr/>
          <p:nvPr/>
        </p:nvSpPr>
        <p:spPr>
          <a:xfrm>
            <a:off x="6375240" y="4940280"/>
            <a:ext cx="2184480" cy="851040"/>
          </a:xfrm>
          <a:prstGeom prst="wedgeRoundRectCallout">
            <a:avLst>
              <a:gd name="adj1" fmla="val 34592"/>
              <a:gd name="adj2" fmla="val -219587"/>
              <a:gd name="adj3" fmla="val 16667"/>
            </a:avLst>
          </a:prstGeom>
          <a:solidFill>
            <a:srgbClr val="99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4"/>
          <p:cNvSpPr/>
          <p:nvPr/>
        </p:nvSpPr>
        <p:spPr>
          <a:xfrm>
            <a:off x="6354360" y="5079960"/>
            <a:ext cx="22611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 возникновен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епосредственно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гроз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25"/>
          <p:cNvSpPr/>
          <p:nvPr/>
        </p:nvSpPr>
        <p:spPr>
          <a:xfrm>
            <a:off x="4216320" y="2057400"/>
            <a:ext cx="88920" cy="9270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26"/>
          <p:cNvSpPr/>
          <p:nvPr/>
        </p:nvSpPr>
        <p:spPr>
          <a:xfrm>
            <a:off x="424080" y="4203720"/>
            <a:ext cx="284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вакуация планируетс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з всей ЗВКЗ, проводитс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этапн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ree"/>
          <p:cNvSpPr/>
          <p:nvPr/>
        </p:nvSpPr>
        <p:spPr>
          <a:xfrm>
            <a:off x="1066680" y="838080"/>
            <a:ext cx="304920" cy="371520"/>
          </a:xfrm>
          <a:custGeom>
            <a:avLst/>
            <a:gdLst>
              <a:gd name="textAreaLeft" fmla="*/ 10440 w 304920"/>
              <a:gd name="textAreaRight" fmla="*/ 297720 w 304920"/>
              <a:gd name="textAreaTop" fmla="*/ 386280 h 371520"/>
              <a:gd name="textAreaBottom" fmla="*/ 486720 h 3715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ree"/>
          <p:cNvSpPr/>
          <p:nvPr/>
        </p:nvSpPr>
        <p:spPr>
          <a:xfrm>
            <a:off x="1752480" y="1143000"/>
            <a:ext cx="304920" cy="371520"/>
          </a:xfrm>
          <a:custGeom>
            <a:avLst/>
            <a:gdLst>
              <a:gd name="textAreaLeft" fmla="*/ 10440 w 304920"/>
              <a:gd name="textAreaRight" fmla="*/ 297720 w 304920"/>
              <a:gd name="textAreaTop" fmla="*/ 386280 h 371520"/>
              <a:gd name="textAreaBottom" fmla="*/ 486720 h 3715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ree"/>
          <p:cNvSpPr/>
          <p:nvPr/>
        </p:nvSpPr>
        <p:spPr>
          <a:xfrm>
            <a:off x="5638680" y="5486400"/>
            <a:ext cx="304920" cy="371520"/>
          </a:xfrm>
          <a:custGeom>
            <a:avLst/>
            <a:gdLst>
              <a:gd name="textAreaLeft" fmla="*/ 10440 w 304920"/>
              <a:gd name="textAreaRight" fmla="*/ 297720 w 304920"/>
              <a:gd name="textAreaTop" fmla="*/ 386280 h 371520"/>
              <a:gd name="textAreaBottom" fmla="*/ 486720 h 3715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4T08:07:38Z</dcterms:created>
  <dc:creator>Кузьмин Александр</dc:creator>
  <dc:description/>
  <dc:language>en-US</dc:language>
  <cp:lastModifiedBy>Admin</cp:lastModifiedBy>
  <dcterms:modified xsi:type="dcterms:W3CDTF">2012-05-07T17:28:23Z</dcterms:modified>
  <cp:revision>70</cp:revision>
  <dc:subject/>
  <dc:title>Презентация PowerPoint</dc:title>
</cp:coreProperties>
</file>