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8614-7A9B-4E69-8DB2-9BC7735862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6118-DFE7-4BB8-B67D-1D096E7B9A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310C-F6A7-42CC-A6A5-F5246072EC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A62-7C4A-4006-A4BE-75CA1E20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4AE-14CE-4068-B0EC-7EDBAF0F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552-E380-47C0-843C-1D0A07A9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123-2879-4176-AD1C-FCFCB0EA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6E22-7C0C-4C79-B1B0-128485F9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1B27-0E2D-412D-A2B4-68598574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DDE-6784-4521-9380-41BB23E4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106-7100-40B7-86F8-8A46E6CC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C2A2-EB39-4265-904E-FC021965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2B7-040F-4319-B00A-2A785526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1C3D-F222-4D43-AFE8-F1947ACB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B966-AC81-4727-A0D7-2CBD2994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8ED6-A49F-4DDF-8BFA-1D4D80338B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2571840" y="2428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Эвакуация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населени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a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990720" y="304920"/>
            <a:ext cx="185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49120" y="622440"/>
            <a:ext cx="8670960" cy="58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Эвакуация населения</a:t>
            </a:r>
            <a:r>
              <a:rPr b="0" lang="ru-RU" sz="3600" spc="-1" strike="noStrike">
                <a:solidFill>
                  <a:srgbClr val="ff5050"/>
                </a:solidFill>
                <a:latin typeface="Times New Roman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комплекс мероприятий по организованному вывозу всеми видами   имеющегося транспорта и выводу пешим   порядком населения из категорированных   городов и размещению его в загородной   зо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a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990720" y="304920"/>
            <a:ext cx="185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2438280" y="1828800"/>
          <a:ext cx="38768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828800"/>
                    <a:ext cx="38768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4"/>
          <p:cNvSpPr/>
          <p:nvPr/>
        </p:nvSpPr>
        <p:spPr>
          <a:xfrm>
            <a:off x="206640" y="304920"/>
            <a:ext cx="839052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Эвакуации подлежа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чие и служащие с неработающими чле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ей объектов экономики, деятельн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торых продолжается на новой баз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положенной в загородной зо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чие и служащие с неработающими чле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ей объектов экономики, прекращающ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ю деятельность в военное врем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трудоспособное и не занятое в производ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се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5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a9a9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52280" y="380880"/>
            <a:ext cx="87631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Рассредоточение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комплекс мероприятий по организованному вывозу (выводу) из категорированных городов и размещение в загородной зоне для проживания и отдыха рабочих и служащих объектов экономики, производственная деятельность которых в военное время будет продолжаться в этих город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a9a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52280" y="304920"/>
            <a:ext cx="8839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Общая эваку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водится на территории всей страны или на территории отдельного региона и предполагает вывоз (вывод) всех категорий населения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 исключение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транспортабельных больных и        обслуживающего их персонала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ц, имеющих мобилизационные   предпис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a9a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52280" y="-98280"/>
            <a:ext cx="8898120" cy="64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Частичная эвакуац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жет проводиться до начала общей эваку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полагает вывоз нетрудоспособного и не занятого в производстве и в сфере обслуживания насел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уден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ащихся школ-интернатов  и  профессионально             - технических училищ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нников детских домов, ведомственны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ских садов и других детских учрежд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местно с преподавателями, обслуживающи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соналом и членами их сем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нсионеров, содержащиеся в домах инвалид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престарел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9ca9"/>
            </a:gs>
            <a:gs pos="50000">
              <a:srgbClr val="ccecff"/>
            </a:gs>
            <a:gs pos="100000">
              <a:srgbClr val="879c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7800" y="181080"/>
            <a:ext cx="9222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Эвакуационные мероприятия  осуществляю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о  решению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идента Российской Федерации и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а Гражданской обороны Российс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ции - Председателя Правительства Р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и в отдельных случаях, требующих при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немедленного реше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по решению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ов ГО субъектов Российс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ции с последующим докладом п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чинен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2514600" y="304920"/>
            <a:ext cx="4114800" cy="60948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ринци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828800" y="1828800"/>
            <a:ext cx="5562720" cy="838080"/>
          </a:xfrm>
          <a:prstGeom prst="rect">
            <a:avLst/>
          </a:pr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обходимой достато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600200" y="3505320"/>
            <a:ext cx="6019920" cy="914400"/>
          </a:xfrm>
          <a:prstGeom prst="rect">
            <a:avLst/>
          </a:pr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ксимально возможного исполь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еющихся собственных сил  и сред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1219320" y="5257800"/>
            <a:ext cx="6781680" cy="838080"/>
          </a:xfrm>
          <a:prstGeom prst="rect">
            <a:avLst/>
          </a:pr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ерриториально-производствен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09240" y="457200"/>
            <a:ext cx="8573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Производственно-территориальн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принцип</a:t>
            </a:r>
            <a:r>
              <a:rPr b="0" i="1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редоточение  и эвакуация рабочих,   слу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ащих  и  неработающих   членов   их    сем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уется   и   проводится 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о     объект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экономи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вакуация остального населения, не занят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оизводстве, - по месту жительства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чер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жилищно-эксплутационные  орган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  терр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ориальному принцип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0" y="1447920"/>
            <a:ext cx="9144000" cy="2745360"/>
          </a:xfrm>
          <a:prstGeom prst="rect">
            <a:avLst/>
          </a:pr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476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лючается в вывозе в загородную зону  части эваконаселения всеми видами    имеющегося транспорта с  одновременным   выводом остальной его части пешим поряд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476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80880" y="47242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 Транспорт - не занятый воинскими и   другими особо важными перевозками по     мобилизационным  планам, независимо  от     форм собственности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143000" y="380880"/>
            <a:ext cx="716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66"/>
                </a:solidFill>
                <a:latin typeface="Times New Roman"/>
              </a:rPr>
              <a:t>Комбинированный спосо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5400" y="0"/>
            <a:ext cx="9117000" cy="64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ff6600"/>
                </a:solidFill>
                <a:latin typeface="Times New Roman"/>
              </a:rPr>
              <a:t>В первую очередь транспортом вывозятся</a:t>
            </a:r>
            <a:r>
              <a:rPr b="0" lang="ru-RU" sz="3000" spc="-1" strike="noStrike">
                <a:solidFill>
                  <a:srgbClr val="ff6600"/>
                </a:solidFill>
                <a:latin typeface="Times New Roman"/>
              </a:rPr>
              <a:t>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едицинские учреж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селение, которое не может передвигаться пеши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орядком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беременные женщины, женщины  с  детьми  до    14 лет, больны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ходящиеся на амбулаторном  лечении,    мужчины старше 65 лет и женщи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рше 60 лет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рабочие и служащие свободных смен объект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одолжающих работу в военное время в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атегорированных город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отрудники органов государственного  управления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важнейших научно- исследовательск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учреждений (НИУ)  и конструкторских бюро (КБ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альное население планируется выводить    пешим порядк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a900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990720"/>
            <a:ext cx="839628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ffff"/>
                </a:solidFill>
                <a:uFillTx/>
                <a:latin typeface="Arial"/>
              </a:rPr>
              <a:t>Учебные вопрос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Общие положения по организации и проведению эвакомероприят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Задачи и структура эвакуационных орга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a944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990720" y="304920"/>
            <a:ext cx="185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52280" y="0"/>
            <a:ext cx="88394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агородная зо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территория в пределах административных   границ субъектов Российской Федерации,   расположенная вне зон возможных разрушений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возможного опасного радиоактивного   загрязнения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ОР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возможного опасного   химического заражения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ОХ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возможного   катастрофического затопления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К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  вне приграничных районов, заблаговременно   подготовленная для размещения эвакуируемого   населения по условиям его первоочередного   жизнеобеспеч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63"/>
          <p:cNvSpPr/>
          <p:nvPr/>
        </p:nvSpPr>
        <p:spPr>
          <a:xfrm>
            <a:off x="6324480" y="3809880"/>
            <a:ext cx="1828800" cy="17528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43"/>
          <p:cNvSpPr/>
          <p:nvPr/>
        </p:nvSpPr>
        <p:spPr>
          <a:xfrm>
            <a:off x="2438280" y="-304920"/>
            <a:ext cx="1752840" cy="12956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29"/>
          <p:cNvSpPr/>
          <p:nvPr/>
        </p:nvSpPr>
        <p:spPr>
          <a:xfrm>
            <a:off x="6781680" y="990720"/>
            <a:ext cx="2532240" cy="1892160"/>
          </a:xfrm>
          <a:custGeom>
            <a:avLst/>
            <a:gdLst>
              <a:gd name="textAreaLeft" fmla="*/ 0 w 2532240"/>
              <a:gd name="textAreaRight" fmla="*/ 2532600 w 25322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595" h="1192">
                <a:moveTo>
                  <a:pt x="77" y="161"/>
                </a:moveTo>
                <a:cubicBezTo>
                  <a:pt x="156" y="78"/>
                  <a:pt x="25" y="210"/>
                  <a:pt x="120" y="135"/>
                </a:cubicBezTo>
                <a:cubicBezTo>
                  <a:pt x="128" y="129"/>
                  <a:pt x="129" y="116"/>
                  <a:pt x="137" y="109"/>
                </a:cubicBezTo>
                <a:cubicBezTo>
                  <a:pt x="231" y="33"/>
                  <a:pt x="378" y="95"/>
                  <a:pt x="499" y="92"/>
                </a:cubicBezTo>
                <a:cubicBezTo>
                  <a:pt x="550" y="74"/>
                  <a:pt x="602" y="58"/>
                  <a:pt x="653" y="40"/>
                </a:cubicBezTo>
                <a:cubicBezTo>
                  <a:pt x="699" y="24"/>
                  <a:pt x="750" y="34"/>
                  <a:pt x="799" y="32"/>
                </a:cubicBezTo>
                <a:cubicBezTo>
                  <a:pt x="862" y="29"/>
                  <a:pt x="926" y="26"/>
                  <a:pt x="989" y="23"/>
                </a:cubicBezTo>
                <a:cubicBezTo>
                  <a:pt x="1052" y="0"/>
                  <a:pt x="1058" y="7"/>
                  <a:pt x="1143" y="14"/>
                </a:cubicBezTo>
                <a:cubicBezTo>
                  <a:pt x="1204" y="35"/>
                  <a:pt x="1177" y="27"/>
                  <a:pt x="1221" y="40"/>
                </a:cubicBezTo>
                <a:cubicBezTo>
                  <a:pt x="1316" y="104"/>
                  <a:pt x="1180" y="15"/>
                  <a:pt x="1272" y="66"/>
                </a:cubicBezTo>
                <a:cubicBezTo>
                  <a:pt x="1320" y="92"/>
                  <a:pt x="1356" y="121"/>
                  <a:pt x="1410" y="135"/>
                </a:cubicBezTo>
                <a:cubicBezTo>
                  <a:pt x="1468" y="174"/>
                  <a:pt x="1446" y="155"/>
                  <a:pt x="1479" y="186"/>
                </a:cubicBezTo>
                <a:cubicBezTo>
                  <a:pt x="1501" y="257"/>
                  <a:pt x="1521" y="329"/>
                  <a:pt x="1539" y="401"/>
                </a:cubicBezTo>
                <a:cubicBezTo>
                  <a:pt x="1550" y="447"/>
                  <a:pt x="1553" y="493"/>
                  <a:pt x="1565" y="539"/>
                </a:cubicBezTo>
                <a:cubicBezTo>
                  <a:pt x="1563" y="600"/>
                  <a:pt x="1595" y="829"/>
                  <a:pt x="1513" y="908"/>
                </a:cubicBezTo>
                <a:cubicBezTo>
                  <a:pt x="1503" y="936"/>
                  <a:pt x="1488" y="958"/>
                  <a:pt x="1479" y="986"/>
                </a:cubicBezTo>
                <a:cubicBezTo>
                  <a:pt x="1491" y="1035"/>
                  <a:pt x="1496" y="1040"/>
                  <a:pt x="1479" y="1106"/>
                </a:cubicBezTo>
                <a:cubicBezTo>
                  <a:pt x="1477" y="1114"/>
                  <a:pt x="1467" y="1117"/>
                  <a:pt x="1461" y="1123"/>
                </a:cubicBezTo>
                <a:cubicBezTo>
                  <a:pt x="1423" y="1161"/>
                  <a:pt x="1390" y="1177"/>
                  <a:pt x="1341" y="1192"/>
                </a:cubicBezTo>
                <a:cubicBezTo>
                  <a:pt x="1307" y="1189"/>
                  <a:pt x="1272" y="1186"/>
                  <a:pt x="1238" y="1184"/>
                </a:cubicBezTo>
                <a:cubicBezTo>
                  <a:pt x="1169" y="1180"/>
                  <a:pt x="1101" y="1180"/>
                  <a:pt x="1032" y="1175"/>
                </a:cubicBezTo>
                <a:cubicBezTo>
                  <a:pt x="971" y="1170"/>
                  <a:pt x="864" y="1118"/>
                  <a:pt x="799" y="1098"/>
                </a:cubicBezTo>
                <a:cubicBezTo>
                  <a:pt x="778" y="1076"/>
                  <a:pt x="759" y="1073"/>
                  <a:pt x="731" y="1063"/>
                </a:cubicBezTo>
                <a:cubicBezTo>
                  <a:pt x="689" y="1024"/>
                  <a:pt x="614" y="1021"/>
                  <a:pt x="559" y="1003"/>
                </a:cubicBezTo>
                <a:cubicBezTo>
                  <a:pt x="456" y="968"/>
                  <a:pt x="610" y="1019"/>
                  <a:pt x="507" y="986"/>
                </a:cubicBezTo>
                <a:cubicBezTo>
                  <a:pt x="490" y="980"/>
                  <a:pt x="456" y="969"/>
                  <a:pt x="456" y="969"/>
                </a:cubicBezTo>
                <a:cubicBezTo>
                  <a:pt x="437" y="950"/>
                  <a:pt x="396" y="926"/>
                  <a:pt x="370" y="917"/>
                </a:cubicBezTo>
                <a:cubicBezTo>
                  <a:pt x="342" y="891"/>
                  <a:pt x="306" y="879"/>
                  <a:pt x="275" y="857"/>
                </a:cubicBezTo>
                <a:cubicBezTo>
                  <a:pt x="265" y="850"/>
                  <a:pt x="259" y="839"/>
                  <a:pt x="249" y="831"/>
                </a:cubicBezTo>
                <a:cubicBezTo>
                  <a:pt x="233" y="818"/>
                  <a:pt x="198" y="797"/>
                  <a:pt x="198" y="797"/>
                </a:cubicBezTo>
                <a:cubicBezTo>
                  <a:pt x="166" y="750"/>
                  <a:pt x="198" y="786"/>
                  <a:pt x="155" y="762"/>
                </a:cubicBezTo>
                <a:cubicBezTo>
                  <a:pt x="137" y="752"/>
                  <a:pt x="103" y="728"/>
                  <a:pt x="103" y="728"/>
                </a:cubicBezTo>
                <a:cubicBezTo>
                  <a:pt x="97" y="719"/>
                  <a:pt x="93" y="709"/>
                  <a:pt x="86" y="702"/>
                </a:cubicBezTo>
                <a:cubicBezTo>
                  <a:pt x="79" y="695"/>
                  <a:pt x="67" y="693"/>
                  <a:pt x="60" y="685"/>
                </a:cubicBezTo>
                <a:cubicBezTo>
                  <a:pt x="30" y="651"/>
                  <a:pt x="11" y="608"/>
                  <a:pt x="0" y="565"/>
                </a:cubicBezTo>
                <a:cubicBezTo>
                  <a:pt x="3" y="508"/>
                  <a:pt x="4" y="450"/>
                  <a:pt x="9" y="393"/>
                </a:cubicBezTo>
                <a:cubicBezTo>
                  <a:pt x="12" y="361"/>
                  <a:pt x="26" y="341"/>
                  <a:pt x="26" y="307"/>
                </a:cubicBezTo>
              </a:path>
            </a:pathLst>
          </a:custGeom>
          <a:solidFill>
            <a:srgbClr val="ffff66"/>
          </a:solidFill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19"/>
          <p:cNvSpPr/>
          <p:nvPr/>
        </p:nvSpPr>
        <p:spPr>
          <a:xfrm>
            <a:off x="-838080" y="4495680"/>
            <a:ext cx="3429000" cy="304812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8"/>
          <p:cNvSpPr/>
          <p:nvPr/>
        </p:nvSpPr>
        <p:spPr>
          <a:xfrm>
            <a:off x="-228600" y="5105520"/>
            <a:ext cx="2057400" cy="190476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152280" y="5486400"/>
            <a:ext cx="1295640" cy="1143000"/>
          </a:xfrm>
          <a:prstGeom prst="ellipse">
            <a:avLst/>
          </a:prstGeom>
          <a:solidFill>
            <a:srgbClr val="ffcc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-1447920" y="380880"/>
            <a:ext cx="3733920" cy="373392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6"/>
          <p:cNvSpPr/>
          <p:nvPr/>
        </p:nvSpPr>
        <p:spPr>
          <a:xfrm>
            <a:off x="-762120" y="1143000"/>
            <a:ext cx="2210040" cy="228600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-304920" y="1676520"/>
            <a:ext cx="1295640" cy="1295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р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г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279600" y="2666880"/>
            <a:ext cx="301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Загородна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з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219320" y="2057400"/>
            <a:ext cx="4572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1080" y="2057400"/>
            <a:ext cx="53352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Р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380880" y="571500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1066680" y="5638680"/>
            <a:ext cx="53352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С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1523880" y="5943600"/>
            <a:ext cx="53352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2209680" y="6248520"/>
            <a:ext cx="6858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Р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Object 28"/>
          <p:cNvGraphicFramePr/>
          <p:nvPr/>
        </p:nvGraphicFramePr>
        <p:xfrm>
          <a:off x="5027760" y="225360"/>
          <a:ext cx="407340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7760" y="225360"/>
                    <a:ext cx="407340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38520" y="198072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К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1"/>
          <p:cNvSpPr/>
          <p:nvPr/>
        </p:nvSpPr>
        <p:spPr>
          <a:xfrm rot="17809800">
            <a:off x="6476760" y="1295280"/>
            <a:ext cx="8380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32"/>
          <p:cNvSpPr/>
          <p:nvPr/>
        </p:nvSpPr>
        <p:spPr>
          <a:xfrm>
            <a:off x="7238880" y="5791320"/>
            <a:ext cx="2237040" cy="1363680"/>
          </a:xfrm>
          <a:custGeom>
            <a:avLst/>
            <a:gdLst>
              <a:gd name="textAreaLeft" fmla="*/ 0 w 2237040"/>
              <a:gd name="textAreaRight" fmla="*/ 2237400 w 2237040"/>
              <a:gd name="textAreaTop" fmla="*/ 0 h 1363680"/>
              <a:gd name="textAreaBottom" fmla="*/ 1364040 h 1363680"/>
            </a:gdLst>
            <a:ahLst/>
            <a:rect l="textAreaLeft" t="textAreaTop" r="textAreaRight" b="textAreaBottom"/>
            <a:pathLst>
              <a:path w="1409" h="859">
                <a:moveTo>
                  <a:pt x="0" y="859"/>
                </a:moveTo>
                <a:cubicBezTo>
                  <a:pt x="19" y="805"/>
                  <a:pt x="51" y="763"/>
                  <a:pt x="106" y="744"/>
                </a:cubicBezTo>
                <a:cubicBezTo>
                  <a:pt x="131" y="707"/>
                  <a:pt x="162" y="687"/>
                  <a:pt x="204" y="673"/>
                </a:cubicBezTo>
                <a:cubicBezTo>
                  <a:pt x="241" y="647"/>
                  <a:pt x="272" y="619"/>
                  <a:pt x="310" y="593"/>
                </a:cubicBezTo>
                <a:cubicBezTo>
                  <a:pt x="333" y="577"/>
                  <a:pt x="388" y="568"/>
                  <a:pt x="417" y="558"/>
                </a:cubicBezTo>
                <a:cubicBezTo>
                  <a:pt x="472" y="539"/>
                  <a:pt x="522" y="514"/>
                  <a:pt x="576" y="496"/>
                </a:cubicBezTo>
                <a:cubicBezTo>
                  <a:pt x="625" y="479"/>
                  <a:pt x="671" y="463"/>
                  <a:pt x="718" y="443"/>
                </a:cubicBezTo>
                <a:cubicBezTo>
                  <a:pt x="735" y="436"/>
                  <a:pt x="771" y="425"/>
                  <a:pt x="771" y="425"/>
                </a:cubicBezTo>
                <a:cubicBezTo>
                  <a:pt x="826" y="383"/>
                  <a:pt x="879" y="357"/>
                  <a:pt x="939" y="327"/>
                </a:cubicBezTo>
                <a:cubicBezTo>
                  <a:pt x="949" y="322"/>
                  <a:pt x="956" y="314"/>
                  <a:pt x="966" y="310"/>
                </a:cubicBezTo>
                <a:cubicBezTo>
                  <a:pt x="983" y="303"/>
                  <a:pt x="1019" y="292"/>
                  <a:pt x="1019" y="292"/>
                </a:cubicBezTo>
                <a:cubicBezTo>
                  <a:pt x="1063" y="225"/>
                  <a:pt x="999" y="310"/>
                  <a:pt x="1090" y="248"/>
                </a:cubicBezTo>
                <a:cubicBezTo>
                  <a:pt x="1118" y="229"/>
                  <a:pt x="1142" y="205"/>
                  <a:pt x="1170" y="186"/>
                </a:cubicBezTo>
                <a:cubicBezTo>
                  <a:pt x="1178" y="181"/>
                  <a:pt x="1188" y="181"/>
                  <a:pt x="1196" y="177"/>
                </a:cubicBezTo>
                <a:cubicBezTo>
                  <a:pt x="1301" y="118"/>
                  <a:pt x="1212" y="165"/>
                  <a:pt x="1276" y="115"/>
                </a:cubicBezTo>
                <a:cubicBezTo>
                  <a:pt x="1293" y="102"/>
                  <a:pt x="1329" y="79"/>
                  <a:pt x="1329" y="79"/>
                </a:cubicBezTo>
                <a:cubicBezTo>
                  <a:pt x="1352" y="45"/>
                  <a:pt x="1390" y="35"/>
                  <a:pt x="1409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35"/>
          <p:cNvSpPr/>
          <p:nvPr/>
        </p:nvSpPr>
        <p:spPr>
          <a:xfrm>
            <a:off x="6781680" y="5334120"/>
            <a:ext cx="2237040" cy="1363680"/>
          </a:xfrm>
          <a:custGeom>
            <a:avLst/>
            <a:gdLst>
              <a:gd name="textAreaLeft" fmla="*/ 0 w 2237040"/>
              <a:gd name="textAreaRight" fmla="*/ 2237400 w 2237040"/>
              <a:gd name="textAreaTop" fmla="*/ 0 h 1363680"/>
              <a:gd name="textAreaBottom" fmla="*/ 1364040 h 1363680"/>
            </a:gdLst>
            <a:ahLst/>
            <a:rect l="textAreaLeft" t="textAreaTop" r="textAreaRight" b="textAreaBottom"/>
            <a:pathLst>
              <a:path w="1409" h="859">
                <a:moveTo>
                  <a:pt x="0" y="859"/>
                </a:moveTo>
                <a:cubicBezTo>
                  <a:pt x="19" y="805"/>
                  <a:pt x="51" y="763"/>
                  <a:pt x="106" y="744"/>
                </a:cubicBezTo>
                <a:cubicBezTo>
                  <a:pt x="131" y="707"/>
                  <a:pt x="162" y="687"/>
                  <a:pt x="204" y="673"/>
                </a:cubicBezTo>
                <a:cubicBezTo>
                  <a:pt x="241" y="647"/>
                  <a:pt x="272" y="619"/>
                  <a:pt x="310" y="593"/>
                </a:cubicBezTo>
                <a:cubicBezTo>
                  <a:pt x="333" y="577"/>
                  <a:pt x="388" y="568"/>
                  <a:pt x="417" y="558"/>
                </a:cubicBezTo>
                <a:cubicBezTo>
                  <a:pt x="472" y="539"/>
                  <a:pt x="522" y="514"/>
                  <a:pt x="576" y="496"/>
                </a:cubicBezTo>
                <a:cubicBezTo>
                  <a:pt x="625" y="479"/>
                  <a:pt x="671" y="463"/>
                  <a:pt x="718" y="443"/>
                </a:cubicBezTo>
                <a:cubicBezTo>
                  <a:pt x="735" y="436"/>
                  <a:pt x="771" y="425"/>
                  <a:pt x="771" y="425"/>
                </a:cubicBezTo>
                <a:cubicBezTo>
                  <a:pt x="826" y="383"/>
                  <a:pt x="879" y="357"/>
                  <a:pt x="939" y="327"/>
                </a:cubicBezTo>
                <a:cubicBezTo>
                  <a:pt x="949" y="322"/>
                  <a:pt x="956" y="314"/>
                  <a:pt x="966" y="310"/>
                </a:cubicBezTo>
                <a:cubicBezTo>
                  <a:pt x="983" y="303"/>
                  <a:pt x="1019" y="292"/>
                  <a:pt x="1019" y="292"/>
                </a:cubicBezTo>
                <a:cubicBezTo>
                  <a:pt x="1063" y="225"/>
                  <a:pt x="999" y="310"/>
                  <a:pt x="1090" y="248"/>
                </a:cubicBezTo>
                <a:cubicBezTo>
                  <a:pt x="1118" y="229"/>
                  <a:pt x="1142" y="205"/>
                  <a:pt x="1170" y="186"/>
                </a:cubicBezTo>
                <a:cubicBezTo>
                  <a:pt x="1178" y="181"/>
                  <a:pt x="1188" y="181"/>
                  <a:pt x="1196" y="177"/>
                </a:cubicBezTo>
                <a:cubicBezTo>
                  <a:pt x="1301" y="118"/>
                  <a:pt x="1212" y="165"/>
                  <a:pt x="1276" y="115"/>
                </a:cubicBezTo>
                <a:cubicBezTo>
                  <a:pt x="1293" y="102"/>
                  <a:pt x="1329" y="79"/>
                  <a:pt x="1329" y="79"/>
                </a:cubicBezTo>
                <a:cubicBezTo>
                  <a:pt x="1352" y="45"/>
                  <a:pt x="1390" y="35"/>
                  <a:pt x="140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36"/>
          <p:cNvSpPr/>
          <p:nvPr/>
        </p:nvSpPr>
        <p:spPr>
          <a:xfrm>
            <a:off x="6683400" y="5303880"/>
            <a:ext cx="2700360" cy="1673280"/>
          </a:xfrm>
          <a:custGeom>
            <a:avLst/>
            <a:gdLst>
              <a:gd name="textAreaLeft" fmla="*/ 0 w 2700360"/>
              <a:gd name="textAreaRight" fmla="*/ 2700720 w 2700360"/>
              <a:gd name="textAreaTop" fmla="*/ 0 h 1673280"/>
              <a:gd name="textAreaBottom" fmla="*/ 1673640 h 1673280"/>
            </a:gdLst>
            <a:ahLst/>
            <a:rect l="textAreaLeft" t="textAreaTop" r="textAreaRight" b="textAreaBottom"/>
            <a:pathLst>
              <a:path w="1701" h="1054">
                <a:moveTo>
                  <a:pt x="17" y="975"/>
                </a:moveTo>
                <a:cubicBezTo>
                  <a:pt x="64" y="959"/>
                  <a:pt x="30" y="979"/>
                  <a:pt x="52" y="939"/>
                </a:cubicBezTo>
                <a:cubicBezTo>
                  <a:pt x="80" y="888"/>
                  <a:pt x="119" y="821"/>
                  <a:pt x="168" y="788"/>
                </a:cubicBezTo>
                <a:cubicBezTo>
                  <a:pt x="192" y="751"/>
                  <a:pt x="223" y="730"/>
                  <a:pt x="265" y="718"/>
                </a:cubicBezTo>
                <a:cubicBezTo>
                  <a:pt x="274" y="712"/>
                  <a:pt x="282" y="704"/>
                  <a:pt x="292" y="700"/>
                </a:cubicBezTo>
                <a:cubicBezTo>
                  <a:pt x="309" y="692"/>
                  <a:pt x="345" y="682"/>
                  <a:pt x="345" y="682"/>
                </a:cubicBezTo>
                <a:cubicBezTo>
                  <a:pt x="372" y="663"/>
                  <a:pt x="394" y="657"/>
                  <a:pt x="425" y="647"/>
                </a:cubicBezTo>
                <a:cubicBezTo>
                  <a:pt x="449" y="610"/>
                  <a:pt x="484" y="604"/>
                  <a:pt x="522" y="585"/>
                </a:cubicBezTo>
                <a:cubicBezTo>
                  <a:pt x="608" y="542"/>
                  <a:pt x="703" y="519"/>
                  <a:pt x="797" y="496"/>
                </a:cubicBezTo>
                <a:cubicBezTo>
                  <a:pt x="821" y="479"/>
                  <a:pt x="850" y="464"/>
                  <a:pt x="877" y="452"/>
                </a:cubicBezTo>
                <a:cubicBezTo>
                  <a:pt x="894" y="445"/>
                  <a:pt x="930" y="434"/>
                  <a:pt x="930" y="434"/>
                </a:cubicBezTo>
                <a:cubicBezTo>
                  <a:pt x="992" y="393"/>
                  <a:pt x="966" y="411"/>
                  <a:pt x="1009" y="381"/>
                </a:cubicBezTo>
                <a:cubicBezTo>
                  <a:pt x="1025" y="370"/>
                  <a:pt x="1063" y="363"/>
                  <a:pt x="1063" y="363"/>
                </a:cubicBezTo>
                <a:cubicBezTo>
                  <a:pt x="1107" y="319"/>
                  <a:pt x="1169" y="296"/>
                  <a:pt x="1222" y="266"/>
                </a:cubicBezTo>
                <a:cubicBezTo>
                  <a:pt x="1250" y="250"/>
                  <a:pt x="1275" y="230"/>
                  <a:pt x="1302" y="212"/>
                </a:cubicBezTo>
                <a:cubicBezTo>
                  <a:pt x="1311" y="206"/>
                  <a:pt x="1318" y="198"/>
                  <a:pt x="1328" y="195"/>
                </a:cubicBezTo>
                <a:cubicBezTo>
                  <a:pt x="1337" y="192"/>
                  <a:pt x="1347" y="191"/>
                  <a:pt x="1355" y="186"/>
                </a:cubicBezTo>
                <a:cubicBezTo>
                  <a:pt x="1374" y="176"/>
                  <a:pt x="1408" y="150"/>
                  <a:pt x="1408" y="150"/>
                </a:cubicBezTo>
                <a:cubicBezTo>
                  <a:pt x="1463" y="70"/>
                  <a:pt x="1387" y="169"/>
                  <a:pt x="1453" y="115"/>
                </a:cubicBezTo>
                <a:cubicBezTo>
                  <a:pt x="1461" y="108"/>
                  <a:pt x="1463" y="96"/>
                  <a:pt x="1470" y="88"/>
                </a:cubicBezTo>
                <a:cubicBezTo>
                  <a:pt x="1488" y="66"/>
                  <a:pt x="1500" y="60"/>
                  <a:pt x="1523" y="44"/>
                </a:cubicBezTo>
                <a:cubicBezTo>
                  <a:pt x="1553" y="0"/>
                  <a:pt x="1567" y="9"/>
                  <a:pt x="1621" y="18"/>
                </a:cubicBezTo>
                <a:cubicBezTo>
                  <a:pt x="1634" y="160"/>
                  <a:pt x="1701" y="351"/>
                  <a:pt x="1568" y="443"/>
                </a:cubicBezTo>
                <a:cubicBezTo>
                  <a:pt x="1562" y="452"/>
                  <a:pt x="1558" y="462"/>
                  <a:pt x="1550" y="469"/>
                </a:cubicBezTo>
                <a:cubicBezTo>
                  <a:pt x="1534" y="483"/>
                  <a:pt x="1497" y="505"/>
                  <a:pt x="1497" y="505"/>
                </a:cubicBezTo>
                <a:cubicBezTo>
                  <a:pt x="1468" y="546"/>
                  <a:pt x="1489" y="528"/>
                  <a:pt x="1426" y="549"/>
                </a:cubicBezTo>
                <a:cubicBezTo>
                  <a:pt x="1416" y="552"/>
                  <a:pt x="1409" y="563"/>
                  <a:pt x="1399" y="567"/>
                </a:cubicBezTo>
                <a:cubicBezTo>
                  <a:pt x="1382" y="575"/>
                  <a:pt x="1362" y="575"/>
                  <a:pt x="1346" y="585"/>
                </a:cubicBezTo>
                <a:cubicBezTo>
                  <a:pt x="1337" y="591"/>
                  <a:pt x="1329" y="598"/>
                  <a:pt x="1320" y="602"/>
                </a:cubicBezTo>
                <a:cubicBezTo>
                  <a:pt x="1303" y="610"/>
                  <a:pt x="1266" y="620"/>
                  <a:pt x="1266" y="620"/>
                </a:cubicBezTo>
                <a:cubicBezTo>
                  <a:pt x="1250" y="631"/>
                  <a:pt x="1229" y="635"/>
                  <a:pt x="1213" y="647"/>
                </a:cubicBezTo>
                <a:cubicBezTo>
                  <a:pt x="1205" y="653"/>
                  <a:pt x="1204" y="667"/>
                  <a:pt x="1196" y="673"/>
                </a:cubicBezTo>
                <a:cubicBezTo>
                  <a:pt x="1189" y="679"/>
                  <a:pt x="1177" y="677"/>
                  <a:pt x="1169" y="682"/>
                </a:cubicBezTo>
                <a:cubicBezTo>
                  <a:pt x="1082" y="731"/>
                  <a:pt x="1148" y="708"/>
                  <a:pt x="1089" y="726"/>
                </a:cubicBezTo>
                <a:cubicBezTo>
                  <a:pt x="1029" y="768"/>
                  <a:pt x="916" y="793"/>
                  <a:pt x="841" y="806"/>
                </a:cubicBezTo>
                <a:cubicBezTo>
                  <a:pt x="808" y="828"/>
                  <a:pt x="747" y="855"/>
                  <a:pt x="708" y="868"/>
                </a:cubicBezTo>
                <a:cubicBezTo>
                  <a:pt x="680" y="887"/>
                  <a:pt x="611" y="918"/>
                  <a:pt x="575" y="930"/>
                </a:cubicBezTo>
                <a:cubicBezTo>
                  <a:pt x="506" y="978"/>
                  <a:pt x="591" y="922"/>
                  <a:pt x="522" y="957"/>
                </a:cubicBezTo>
                <a:cubicBezTo>
                  <a:pt x="490" y="973"/>
                  <a:pt x="477" y="998"/>
                  <a:pt x="442" y="1010"/>
                </a:cubicBezTo>
                <a:cubicBezTo>
                  <a:pt x="403" y="1050"/>
                  <a:pt x="385" y="1046"/>
                  <a:pt x="327" y="1054"/>
                </a:cubicBezTo>
                <a:cubicBezTo>
                  <a:pt x="233" y="1051"/>
                  <a:pt x="138" y="1050"/>
                  <a:pt x="44" y="1045"/>
                </a:cubicBezTo>
                <a:cubicBezTo>
                  <a:pt x="35" y="1044"/>
                  <a:pt x="19" y="1046"/>
                  <a:pt x="17" y="1037"/>
                </a:cubicBezTo>
                <a:cubicBezTo>
                  <a:pt x="0" y="972"/>
                  <a:pt x="51" y="975"/>
                  <a:pt x="17" y="975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7"/>
          <p:cNvSpPr/>
          <p:nvPr/>
        </p:nvSpPr>
        <p:spPr>
          <a:xfrm>
            <a:off x="5181480" y="685800"/>
            <a:ext cx="160020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водохранилищ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39"/>
          <p:cNvSpPr/>
          <p:nvPr/>
        </p:nvSpPr>
        <p:spPr>
          <a:xfrm>
            <a:off x="3733920" y="5257800"/>
            <a:ext cx="1295280" cy="99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41"/>
          <p:cNvSpPr/>
          <p:nvPr/>
        </p:nvSpPr>
        <p:spPr>
          <a:xfrm>
            <a:off x="2895480" y="0"/>
            <a:ext cx="838440" cy="533520"/>
          </a:xfrm>
          <a:prstGeom prst="hexagon">
            <a:avLst>
              <a:gd name="adj" fmla="val 39288"/>
              <a:gd name="vf" fmla="val 115470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4"/>
          <p:cNvSpPr/>
          <p:nvPr/>
        </p:nvSpPr>
        <p:spPr>
          <a:xfrm>
            <a:off x="3048120" y="685800"/>
            <a:ext cx="6858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Х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7"/>
          <p:cNvSpPr/>
          <p:nvPr/>
        </p:nvSpPr>
        <p:spPr>
          <a:xfrm>
            <a:off x="838080" y="2819520"/>
            <a:ext cx="304920" cy="304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49"/>
          <p:cNvSpPr/>
          <p:nvPr/>
        </p:nvSpPr>
        <p:spPr>
          <a:xfrm>
            <a:off x="1295280" y="3200400"/>
            <a:ext cx="381240" cy="380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0"/>
          <p:cNvSpPr/>
          <p:nvPr/>
        </p:nvSpPr>
        <p:spPr>
          <a:xfrm>
            <a:off x="1066680" y="6172200"/>
            <a:ext cx="228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2"/>
          <p:cNvSpPr/>
          <p:nvPr/>
        </p:nvSpPr>
        <p:spPr>
          <a:xfrm>
            <a:off x="1371600" y="6324480"/>
            <a:ext cx="228600" cy="304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4"/>
          <p:cNvSpPr/>
          <p:nvPr/>
        </p:nvSpPr>
        <p:spPr>
          <a:xfrm>
            <a:off x="1828800" y="6553080"/>
            <a:ext cx="304920" cy="304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ree"/>
          <p:cNvSpPr/>
          <p:nvPr/>
        </p:nvSpPr>
        <p:spPr>
          <a:xfrm>
            <a:off x="3733920" y="48769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ree"/>
          <p:cNvSpPr/>
          <p:nvPr/>
        </p:nvSpPr>
        <p:spPr>
          <a:xfrm>
            <a:off x="4648320" y="41911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ree"/>
          <p:cNvSpPr/>
          <p:nvPr/>
        </p:nvSpPr>
        <p:spPr>
          <a:xfrm>
            <a:off x="6248520" y="39625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ree"/>
          <p:cNvSpPr/>
          <p:nvPr/>
        </p:nvSpPr>
        <p:spPr>
          <a:xfrm>
            <a:off x="7467480" y="34290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60"/>
          <p:cNvSpPr/>
          <p:nvPr/>
        </p:nvSpPr>
        <p:spPr>
          <a:xfrm>
            <a:off x="6858000" y="4419720"/>
            <a:ext cx="838080" cy="533160"/>
          </a:xfrm>
          <a:prstGeom prst="hexagon">
            <a:avLst>
              <a:gd name="adj" fmla="val 39298"/>
              <a:gd name="vf" fmla="val 115470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2"/>
          <p:cNvSpPr/>
          <p:nvPr/>
        </p:nvSpPr>
        <p:spPr>
          <a:xfrm>
            <a:off x="7391520" y="5181480"/>
            <a:ext cx="6858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Р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28600" y="13716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в зависимости от времени и сроков прове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2438280" y="4572000"/>
            <a:ext cx="4191120" cy="5205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66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кстрен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362320" y="2895480"/>
            <a:ext cx="4343400" cy="5205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66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реждающ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315200" y="304920"/>
            <a:ext cx="144792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09480" y="609480"/>
            <a:ext cx="79250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в зависимости от развития ЧС и численности выводимого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920" y="1828800"/>
            <a:ext cx="8610480" cy="1076760"/>
          </a:xfrm>
          <a:prstGeom prst="rect">
            <a:avLst/>
          </a:prstGeom>
          <a:gradFill rotWithShape="0">
            <a:gsLst>
              <a:gs pos="0">
                <a:srgbClr val="a9a944"/>
              </a:gs>
              <a:gs pos="50000">
                <a:srgbClr val="ffff66"/>
              </a:gs>
              <a:gs pos="100000">
                <a:srgbClr val="a9a9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Локаль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а Ч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д. гор. м/районы, сельские Н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сленность э/насе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до неск. дес. тыс. ч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04920" y="3429000"/>
            <a:ext cx="8610480" cy="1210320"/>
          </a:xfrm>
          <a:prstGeom prst="rect">
            <a:avLst/>
          </a:prstGeom>
          <a:gradFill rotWithShape="0">
            <a:gsLst>
              <a:gs pos="0">
                <a:srgbClr val="8f8f39"/>
              </a:gs>
              <a:gs pos="50000">
                <a:srgbClr val="ffff66"/>
              </a:gs>
              <a:gs pos="100000">
                <a:srgbClr val="8f8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1000" indent="-15210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ест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а Ч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редние города, р-ны крупных гор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-15210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сленность э/насе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 неск. тыс  до десятков      тыс. ч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04920" y="5257800"/>
            <a:ext cx="8686800" cy="1044720"/>
          </a:xfrm>
          <a:prstGeom prst="rect">
            <a:avLst/>
          </a:prstGeom>
          <a:gradFill rotWithShape="0">
            <a:gsLst>
              <a:gs pos="0">
                <a:srgbClr val="8f8f39"/>
              </a:gs>
              <a:gs pos="50000">
                <a:srgbClr val="ffff66"/>
              </a:gs>
              <a:gs pos="100000">
                <a:srgbClr val="8f8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1000" indent="-15210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Региональ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а Ч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территория одного или нескольких регионов с высокой плотностью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7162920" y="152280"/>
            <a:ext cx="160020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7391520" y="304920"/>
            <a:ext cx="144756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457200" y="914400"/>
            <a:ext cx="8305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в  зависимости от охвата эвакуационными мероприятиями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80880" y="2666880"/>
            <a:ext cx="8458200" cy="1404360"/>
          </a:xfrm>
          <a:prstGeom prst="rect">
            <a:avLst/>
          </a:prstGeom>
          <a:gradFill rotWithShape="0">
            <a:gsLst>
              <a:gs pos="0">
                <a:srgbClr val="00a900"/>
              </a:gs>
              <a:gs pos="50000">
                <a:srgbClr val="00ff00"/>
              </a:gs>
              <a:gs pos="100000">
                <a:srgbClr val="00a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Общ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 из зоны ЧС всего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80880" y="4495680"/>
            <a:ext cx="8458200" cy="965160"/>
          </a:xfrm>
          <a:prstGeom prst="rect">
            <a:avLst/>
          </a:prstGeom>
          <a:gradFill rotWithShape="0">
            <a:gsLst>
              <a:gs pos="0">
                <a:srgbClr val="00a900"/>
              </a:gs>
              <a:gs pos="50000">
                <a:srgbClr val="00ff00"/>
              </a:gs>
              <a:gs pos="100000">
                <a:srgbClr val="00a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73200" indent="-2473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Частична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 из зоны ЧС населения, наиболее подверженного воздействию ПФ Ч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380880" y="1295280"/>
            <a:ext cx="84582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Право принятия  решения на эвакуац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руководители  ОИ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убъектов 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руководители органов местного само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ДДС  ПО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экстренная эвакуация локального характера         (при необходимости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238880" y="41400"/>
            <a:ext cx="165420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6840" y="-149400"/>
            <a:ext cx="90608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Эвакуационные орга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епосредственно организую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обеспечиваю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готовку и проведение эвакуации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ботаю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од непосредственным руководств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ответствующих начальников 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здаютс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заблаговременно (в мирное врем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административно-территориальны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разованиях, проводящих эвакуац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11120" y="2308320"/>
            <a:ext cx="346248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еративные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вывозу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5218200" y="2308320"/>
            <a:ext cx="351936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управления н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ших маршрутах эвакуа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272200" y="3797280"/>
            <a:ext cx="340344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Э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емные эвакуацио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14360" y="3797280"/>
            <a:ext cx="340524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П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вакоприем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и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74760" y="720720"/>
            <a:ext cx="354780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вакуацио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и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197320" y="720720"/>
            <a:ext cx="349092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Э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борные эвакуацио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3078000" y="5276880"/>
            <a:ext cx="297180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П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межуточ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ы эваку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1181160" y="0"/>
            <a:ext cx="68198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Эвакуационные орг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10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0" y="911160"/>
            <a:ext cx="92361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эвакуационные  комисс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рриториальные, объектовы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инистерств  (ведомств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общее руководств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ведением эвакомероприятий из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тегорированных городов, подведомственны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рганизаций и учрежд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90880" y="100080"/>
            <a:ext cx="85446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СЭ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сборные эвакуационные пункт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назначаются для сбора, учета эвакуируем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ления и организованной отправки его в З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олагаются -  вблизи пунктов посадки на тран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в начале маршрутов пешей эвакуации, как правило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зданиях общественного назначения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ждый СЭП обеспечивается связью  с  районной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, пунктом  посадки (станцией,  пристанью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ходным пунктом на маршруте пешей эвакуа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вакоорганами в загородной зоне.  Ему  присва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р  и  за  ним закрепляются автомобильный транспор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оложенные вблизи защитные сооружения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ответствующие объекты экономики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писка населения к СЭП не более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4000-500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закон РФ «О защите населения и территорий от чрезвычайных ситуаций природного и техногенного характера» от 21.12.94 № 68-Ф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Положение о единой государственной системе по предупреждению и ликвидации чрезвычайных ситуаций (РСЧС)». Пост. Пр. Р Фот 5.11.1995 г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11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Закон РФ «О гражданской обороне» от 12.02.98 № 28-Ф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ива Начальника ГО РФ 199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ство по эвакуации населения в чрезвычайных ситуациях природного и техногенного характера, ВНИИ ГОЧС, 1996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ство по организации планирования, обеспечения и проведения эвакуации населения в военное время, ВНИИ ГОЧС, 199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a965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64760" y="0"/>
            <a:ext cx="8425440" cy="66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Начальники маршрутов пешей эвакуации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группы 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обеспечения управления движением пеших колонн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держания порядка на маршрутах назнача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язаннос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подготовке и поддержанию маршрутов в исправ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оянии, ведению радиационной, химической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женерной разведки, оказанию медицинской помощ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болевшим.В состав группы управления входя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 предприятий и организаций, персона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торых выводится по данному маршруту, представ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ов местного самоупраления районов загород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ы, по территориям которых проходят маршру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ьники маршрутов размещаются   на исход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унктах маршрутов и организуют   выполнение зада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тодом патрулирования по маршрут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1006560"/>
            <a:ext cx="8534160" cy="4360680"/>
          </a:xfrm>
          <a:prstGeom prst="rect">
            <a:avLst/>
          </a:prstGeom>
          <a:gradFill rotWithShape="0">
            <a:gsLst>
              <a:gs pos="0">
                <a:srgbClr val="00a9a9"/>
              </a:gs>
              <a:gs pos="50000">
                <a:srgbClr val="00ffff"/>
              </a:gs>
              <a:gs pos="100000">
                <a:srgbClr val="00a9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ПЭП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приемные эвакуационные  пункт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назначаются для приема,учета и  разме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бывающего  эваконаселения.  Он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олагаются вблизи пунктов высадки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 ПЭП отводятся общественные и  администр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вные здания. Местным транспортом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шими колоннами эваконас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зится (выводится) с ПЭП в мес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оянного размещ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28600" y="-34920"/>
            <a:ext cx="868680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ОГ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оперативные групп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ются  с целью  ускорения выво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жданского населения из  населенных пун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граничной зо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 формируются из представителей орган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стного самоуправления, офицеров ОУ ГОЧ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органов военного управ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 выполняют комплексную задач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овещение, транспортное обеспечени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эваконаселения по транспорт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ствам и организация посад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провождение эвакоколонн  по маршрута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размещения и первоочеред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знеобеспечения эвакуирован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885240" y="701640"/>
            <a:ext cx="73587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Эвакоприемные комисс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уществляют прие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е и организацию первоочеред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еобеспечения эвако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вакокомиссии и эвакоприемные комисс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главляются заместителями соответствующ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ьников гражданской оборо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и же (начальники ГО) определяют числ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остав комиссий в зависимости от объ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лагаемых зада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790920" y="-4680"/>
            <a:ext cx="71715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ПП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ромежуточные пункты  эвакуации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ются  при проведении эвакуации в два эта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редназначаются для кратковреме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я эваконаселения за предел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асных зон и отправки его в места постоя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я в загородной зо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ПЭ размещаются вблизи железнодорожны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мобильных и водных путей сообщ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них производится перерегистр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ваконаселения, а при необходимости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зиметрический и химический контрол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нитарная обработка, а также обмен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альная обработка одежды и обув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-63360"/>
            <a:ext cx="8991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ланирован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беспечение и прове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вакуационных мероприятий осуществля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 взаимодействии с органами вое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правления по вопроса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Выделения транспортных средств для обеспечения эвакоперевоз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Совместного использования транспортных коммуникаций (железнодорожных, автомобильных, воздушных и водных пут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бщени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Выделения сил и средств для совместного регулирования движения на маршрутах эвакуации и обеспечения охраны общественного поряд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  Ведения всех видов развед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  Выделения сил и средств для инженерного  обеспечения эвакуации, противорадиационной    и противохимической защиты населения, санитарно-противоэпидемических и лечебно-   профилактических мероприят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  Возможности использования военных городков и оставляемого войсками имущества (оборудования) для размещения и    первоочередного жизнеобеспечения эваконаселения в загородной зон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  Согласования районов размещения эваконаселения в загородной зон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8f39"/>
            </a:gs>
            <a:gs pos="50000">
              <a:srgbClr val="ffff66"/>
            </a:gs>
            <a:gs pos="100000">
              <a:srgbClr val="8f8f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59436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86000" y="22860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пособы защиты насел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57200" y="1143000"/>
            <a:ext cx="8229600" cy="1523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рытие в ЗС ГО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также  в метрополитена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ных выработках и других приспособле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 укрытия  для людей защитных сооружен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457200" y="3200400"/>
            <a:ext cx="8229600" cy="1219320"/>
          </a:xfrm>
          <a:prstGeom prst="rect">
            <a:avLst/>
          </a:prstGeom>
          <a:solidFill>
            <a:srgbClr val="00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Эвакуация населения из опасных зон и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азмещение его в загородной зо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средств индивидуальной защит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медицинских средств индивидуальной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щи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8f39"/>
            </a:gs>
            <a:gs pos="50000">
              <a:srgbClr val="ffff66"/>
            </a:gs>
            <a:gs pos="100000">
              <a:srgbClr val="8f8f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286000" y="22860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цели проведения эвакомероприяти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4038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52280" y="149544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нижение вероятных потерь населения категорированных городов и сохранение квалифицированных кадров специалис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устойчивого функционирования объектов экономики, продолжающих свою производственную деятельность в военное врем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условий создания группировок сил  и средств гражданской обороны в загородной зо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a944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152280" y="304920"/>
            <a:ext cx="8839440" cy="64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эвакомероприятия планируются из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Городов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, отнесенных к группам по гражданской оборон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Населенных пунктов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имеющих: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объекты особой важности (ООВ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железнодорожные станции 1-й категории по ГО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расположенных: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в зонах возможных сильных разрушений (ЗВСР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в приграничных  зона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в зонах возможного катастрофического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атопления    (ЗВКЗ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val 48"/>
          <p:cNvSpPr/>
          <p:nvPr/>
        </p:nvSpPr>
        <p:spPr>
          <a:xfrm>
            <a:off x="304920" y="3124080"/>
            <a:ext cx="1523880" cy="16765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ree"/>
          <p:cNvSpPr/>
          <p:nvPr/>
        </p:nvSpPr>
        <p:spPr>
          <a:xfrm>
            <a:off x="3352680" y="45720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-304920" y="990720"/>
            <a:ext cx="1524240" cy="1447560"/>
          </a:xfrm>
          <a:prstGeom prst="octagon">
            <a:avLst>
              <a:gd name="adj" fmla="val 292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род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тнесен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 группе по 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838080" y="3657600"/>
            <a:ext cx="533520" cy="53352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 rot="20888400">
            <a:off x="380520" y="4114800"/>
            <a:ext cx="838440" cy="152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 rot="20802600">
            <a:off x="380880" y="4343040"/>
            <a:ext cx="838440" cy="152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22"/>
          <p:cNvSpPr/>
          <p:nvPr/>
        </p:nvSpPr>
        <p:spPr>
          <a:xfrm>
            <a:off x="5029200" y="4724280"/>
            <a:ext cx="4191120" cy="228600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592" h="1536">
                <a:moveTo>
                  <a:pt x="0" y="1536"/>
                </a:moveTo>
                <a:cubicBezTo>
                  <a:pt x="9" y="1523"/>
                  <a:pt x="15" y="1508"/>
                  <a:pt x="27" y="1497"/>
                </a:cubicBezTo>
                <a:cubicBezTo>
                  <a:pt x="42" y="1483"/>
                  <a:pt x="78" y="1493"/>
                  <a:pt x="78" y="1463"/>
                </a:cubicBezTo>
                <a:lnTo>
                  <a:pt x="1393" y="1067"/>
                </a:lnTo>
                <a:lnTo>
                  <a:pt x="2160" y="528"/>
                </a:lnTo>
                <a:lnTo>
                  <a:pt x="2592" y="0"/>
                </a:lnTo>
              </a:path>
            </a:pathLst>
          </a:custGeom>
          <a:noFill/>
          <a:ln w="79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23"/>
          <p:cNvSpPr/>
          <p:nvPr/>
        </p:nvSpPr>
        <p:spPr>
          <a:xfrm>
            <a:off x="5105520" y="4572000"/>
            <a:ext cx="4179600" cy="2438280"/>
          </a:xfrm>
          <a:custGeom>
            <a:avLst/>
            <a:gdLst>
              <a:gd name="textAreaLeft" fmla="*/ 0 w 4179600"/>
              <a:gd name="textAreaRight" fmla="*/ 4179960 w 417960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633" h="1536">
                <a:moveTo>
                  <a:pt x="41" y="1536"/>
                </a:moveTo>
                <a:cubicBezTo>
                  <a:pt x="43" y="1530"/>
                  <a:pt x="0" y="1494"/>
                  <a:pt x="6" y="1475"/>
                </a:cubicBezTo>
                <a:cubicBezTo>
                  <a:pt x="12" y="1456"/>
                  <a:pt x="56" y="1426"/>
                  <a:pt x="75" y="1424"/>
                </a:cubicBezTo>
                <a:cubicBezTo>
                  <a:pt x="90" y="1410"/>
                  <a:pt x="119" y="1493"/>
                  <a:pt x="119" y="1463"/>
                </a:cubicBezTo>
                <a:lnTo>
                  <a:pt x="358" y="1381"/>
                </a:lnTo>
                <a:lnTo>
                  <a:pt x="1434" y="1067"/>
                </a:lnTo>
                <a:lnTo>
                  <a:pt x="1966" y="701"/>
                </a:lnTo>
                <a:lnTo>
                  <a:pt x="2138" y="572"/>
                </a:lnTo>
                <a:lnTo>
                  <a:pt x="2201" y="528"/>
                </a:lnTo>
                <a:lnTo>
                  <a:pt x="2535" y="143"/>
                </a:lnTo>
                <a:lnTo>
                  <a:pt x="2633" y="0"/>
                </a:lnTo>
              </a:path>
            </a:pathLst>
          </a:custGeom>
          <a:noFill/>
          <a:ln w="50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25"/>
          <p:cNvSpPr/>
          <p:nvPr/>
        </p:nvSpPr>
        <p:spPr>
          <a:xfrm>
            <a:off x="7792920" y="6032520"/>
            <a:ext cx="1365480" cy="490680"/>
          </a:xfrm>
          <a:custGeom>
            <a:avLst/>
            <a:gdLst>
              <a:gd name="textAreaLeft" fmla="*/ 0 w 1365480"/>
              <a:gd name="textAreaRight" fmla="*/ 1365840 w 136548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860" h="309">
                <a:moveTo>
                  <a:pt x="0" y="0"/>
                </a:moveTo>
                <a:cubicBezTo>
                  <a:pt x="43" y="13"/>
                  <a:pt x="17" y="5"/>
                  <a:pt x="77" y="26"/>
                </a:cubicBezTo>
                <a:cubicBezTo>
                  <a:pt x="97" y="33"/>
                  <a:pt x="109" y="53"/>
                  <a:pt x="129" y="60"/>
                </a:cubicBezTo>
                <a:cubicBezTo>
                  <a:pt x="146" y="66"/>
                  <a:pt x="180" y="77"/>
                  <a:pt x="180" y="77"/>
                </a:cubicBezTo>
                <a:cubicBezTo>
                  <a:pt x="241" y="117"/>
                  <a:pt x="318" y="116"/>
                  <a:pt x="387" y="137"/>
                </a:cubicBezTo>
                <a:cubicBezTo>
                  <a:pt x="500" y="171"/>
                  <a:pt x="393" y="138"/>
                  <a:pt x="464" y="172"/>
                </a:cubicBezTo>
                <a:cubicBezTo>
                  <a:pt x="499" y="189"/>
                  <a:pt x="546" y="197"/>
                  <a:pt x="584" y="206"/>
                </a:cubicBezTo>
                <a:cubicBezTo>
                  <a:pt x="619" y="239"/>
                  <a:pt x="676" y="246"/>
                  <a:pt x="722" y="258"/>
                </a:cubicBezTo>
                <a:cubicBezTo>
                  <a:pt x="745" y="264"/>
                  <a:pt x="768" y="269"/>
                  <a:pt x="791" y="275"/>
                </a:cubicBezTo>
                <a:cubicBezTo>
                  <a:pt x="808" y="279"/>
                  <a:pt x="842" y="292"/>
                  <a:pt x="842" y="292"/>
                </a:cubicBezTo>
                <a:cubicBezTo>
                  <a:pt x="848" y="298"/>
                  <a:pt x="860" y="309"/>
                  <a:pt x="860" y="309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26"/>
          <p:cNvSpPr/>
          <p:nvPr/>
        </p:nvSpPr>
        <p:spPr>
          <a:xfrm>
            <a:off x="7772400" y="6019920"/>
            <a:ext cx="1365120" cy="490320"/>
          </a:xfrm>
          <a:custGeom>
            <a:avLst/>
            <a:gdLst>
              <a:gd name="textAreaLeft" fmla="*/ 0 w 1365120"/>
              <a:gd name="textAreaRight" fmla="*/ 1365120 w 136512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860" h="309">
                <a:moveTo>
                  <a:pt x="0" y="0"/>
                </a:moveTo>
                <a:cubicBezTo>
                  <a:pt x="43" y="13"/>
                  <a:pt x="17" y="5"/>
                  <a:pt x="77" y="26"/>
                </a:cubicBezTo>
                <a:cubicBezTo>
                  <a:pt x="97" y="33"/>
                  <a:pt x="109" y="53"/>
                  <a:pt x="129" y="60"/>
                </a:cubicBezTo>
                <a:cubicBezTo>
                  <a:pt x="146" y="66"/>
                  <a:pt x="180" y="77"/>
                  <a:pt x="180" y="77"/>
                </a:cubicBezTo>
                <a:cubicBezTo>
                  <a:pt x="241" y="117"/>
                  <a:pt x="318" y="116"/>
                  <a:pt x="387" y="137"/>
                </a:cubicBezTo>
                <a:cubicBezTo>
                  <a:pt x="500" y="171"/>
                  <a:pt x="393" y="138"/>
                  <a:pt x="464" y="172"/>
                </a:cubicBezTo>
                <a:cubicBezTo>
                  <a:pt x="499" y="189"/>
                  <a:pt x="546" y="197"/>
                  <a:pt x="584" y="206"/>
                </a:cubicBezTo>
                <a:cubicBezTo>
                  <a:pt x="619" y="239"/>
                  <a:pt x="676" y="246"/>
                  <a:pt x="722" y="258"/>
                </a:cubicBezTo>
                <a:cubicBezTo>
                  <a:pt x="745" y="264"/>
                  <a:pt x="768" y="269"/>
                  <a:pt x="791" y="275"/>
                </a:cubicBezTo>
                <a:cubicBezTo>
                  <a:pt x="808" y="279"/>
                  <a:pt x="842" y="292"/>
                  <a:pt x="842" y="292"/>
                </a:cubicBezTo>
                <a:cubicBezTo>
                  <a:pt x="848" y="298"/>
                  <a:pt x="860" y="309"/>
                  <a:pt x="860" y="309"/>
                </a:cubicBezTo>
              </a:path>
            </a:pathLst>
          </a:custGeom>
          <a:noFill/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7"/>
          <p:cNvSpPr/>
          <p:nvPr/>
        </p:nvSpPr>
        <p:spPr>
          <a:xfrm rot="19861800">
            <a:off x="7180200" y="6013080"/>
            <a:ext cx="5335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7469640" y="6172200"/>
            <a:ext cx="743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.д. с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ка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31"/>
          <p:cNvSpPr/>
          <p:nvPr/>
        </p:nvSpPr>
        <p:spPr>
          <a:xfrm>
            <a:off x="-304920" y="5562720"/>
            <a:ext cx="2170080" cy="166356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1663560"/>
              <a:gd name="textAreaBottom" fmla="*/ 1663920 h 1663560"/>
            </a:gdLst>
            <a:ahLst/>
            <a:rect l="textAreaLeft" t="textAreaTop" r="textAreaRight" b="textAreaBottom"/>
            <a:pathLst>
              <a:path w="1367" h="1048">
                <a:moveTo>
                  <a:pt x="0" y="0"/>
                </a:moveTo>
                <a:cubicBezTo>
                  <a:pt x="2" y="1"/>
                  <a:pt x="50" y="15"/>
                  <a:pt x="52" y="17"/>
                </a:cubicBezTo>
                <a:cubicBezTo>
                  <a:pt x="58" y="24"/>
                  <a:pt x="54" y="36"/>
                  <a:pt x="60" y="43"/>
                </a:cubicBezTo>
                <a:cubicBezTo>
                  <a:pt x="66" y="51"/>
                  <a:pt x="78" y="53"/>
                  <a:pt x="86" y="60"/>
                </a:cubicBezTo>
                <a:cubicBezTo>
                  <a:pt x="157" y="122"/>
                  <a:pt x="111" y="101"/>
                  <a:pt x="163" y="120"/>
                </a:cubicBezTo>
                <a:cubicBezTo>
                  <a:pt x="188" y="144"/>
                  <a:pt x="216" y="169"/>
                  <a:pt x="249" y="180"/>
                </a:cubicBezTo>
                <a:cubicBezTo>
                  <a:pt x="297" y="225"/>
                  <a:pt x="331" y="282"/>
                  <a:pt x="387" y="318"/>
                </a:cubicBezTo>
                <a:cubicBezTo>
                  <a:pt x="408" y="350"/>
                  <a:pt x="421" y="349"/>
                  <a:pt x="456" y="361"/>
                </a:cubicBezTo>
                <a:cubicBezTo>
                  <a:pt x="479" y="385"/>
                  <a:pt x="503" y="398"/>
                  <a:pt x="533" y="412"/>
                </a:cubicBezTo>
                <a:cubicBezTo>
                  <a:pt x="550" y="420"/>
                  <a:pt x="585" y="430"/>
                  <a:pt x="585" y="430"/>
                </a:cubicBezTo>
                <a:cubicBezTo>
                  <a:pt x="629" y="473"/>
                  <a:pt x="663" y="516"/>
                  <a:pt x="714" y="550"/>
                </a:cubicBezTo>
                <a:cubicBezTo>
                  <a:pt x="752" y="576"/>
                  <a:pt x="763" y="612"/>
                  <a:pt x="800" y="636"/>
                </a:cubicBezTo>
                <a:cubicBezTo>
                  <a:pt x="821" y="668"/>
                  <a:pt x="855" y="698"/>
                  <a:pt x="885" y="722"/>
                </a:cubicBezTo>
                <a:cubicBezTo>
                  <a:pt x="915" y="745"/>
                  <a:pt x="906" y="761"/>
                  <a:pt x="946" y="773"/>
                </a:cubicBezTo>
                <a:cubicBezTo>
                  <a:pt x="967" y="795"/>
                  <a:pt x="986" y="798"/>
                  <a:pt x="1014" y="808"/>
                </a:cubicBezTo>
                <a:cubicBezTo>
                  <a:pt x="1051" y="843"/>
                  <a:pt x="1094" y="886"/>
                  <a:pt x="1143" y="902"/>
                </a:cubicBezTo>
                <a:cubicBezTo>
                  <a:pt x="1211" y="949"/>
                  <a:pt x="1129" y="896"/>
                  <a:pt x="1195" y="928"/>
                </a:cubicBezTo>
                <a:cubicBezTo>
                  <a:pt x="1224" y="942"/>
                  <a:pt x="1233" y="961"/>
                  <a:pt x="1264" y="971"/>
                </a:cubicBezTo>
                <a:cubicBezTo>
                  <a:pt x="1290" y="988"/>
                  <a:pt x="1303" y="1005"/>
                  <a:pt x="1333" y="1014"/>
                </a:cubicBezTo>
                <a:cubicBezTo>
                  <a:pt x="1353" y="1045"/>
                  <a:pt x="1341" y="1036"/>
                  <a:pt x="1367" y="1048"/>
                </a:cubicBezTo>
              </a:path>
            </a:pathLst>
          </a:custGeom>
          <a:noFill/>
          <a:ln w="38160">
            <a:solidFill>
              <a:srgbClr val="ff66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32"/>
          <p:cNvSpPr/>
          <p:nvPr/>
        </p:nvSpPr>
        <p:spPr>
          <a:xfrm>
            <a:off x="0" y="5200560"/>
            <a:ext cx="2170080" cy="166392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1663920"/>
              <a:gd name="textAreaBottom" fmla="*/ 1664280 h 1663920"/>
            </a:gdLst>
            <a:ahLst/>
            <a:rect l="textAreaLeft" t="textAreaTop" r="textAreaRight" b="textAreaBottom"/>
            <a:pathLst>
              <a:path w="1367" h="1048">
                <a:moveTo>
                  <a:pt x="0" y="0"/>
                </a:moveTo>
                <a:cubicBezTo>
                  <a:pt x="2" y="1"/>
                  <a:pt x="50" y="15"/>
                  <a:pt x="52" y="17"/>
                </a:cubicBezTo>
                <a:cubicBezTo>
                  <a:pt x="58" y="24"/>
                  <a:pt x="54" y="36"/>
                  <a:pt x="60" y="43"/>
                </a:cubicBezTo>
                <a:cubicBezTo>
                  <a:pt x="66" y="51"/>
                  <a:pt x="78" y="53"/>
                  <a:pt x="86" y="60"/>
                </a:cubicBezTo>
                <a:cubicBezTo>
                  <a:pt x="157" y="122"/>
                  <a:pt x="111" y="101"/>
                  <a:pt x="163" y="120"/>
                </a:cubicBezTo>
                <a:cubicBezTo>
                  <a:pt x="188" y="144"/>
                  <a:pt x="216" y="169"/>
                  <a:pt x="249" y="180"/>
                </a:cubicBezTo>
                <a:cubicBezTo>
                  <a:pt x="297" y="225"/>
                  <a:pt x="331" y="282"/>
                  <a:pt x="387" y="318"/>
                </a:cubicBezTo>
                <a:cubicBezTo>
                  <a:pt x="408" y="350"/>
                  <a:pt x="421" y="349"/>
                  <a:pt x="456" y="361"/>
                </a:cubicBezTo>
                <a:cubicBezTo>
                  <a:pt x="479" y="385"/>
                  <a:pt x="503" y="398"/>
                  <a:pt x="533" y="412"/>
                </a:cubicBezTo>
                <a:cubicBezTo>
                  <a:pt x="550" y="420"/>
                  <a:pt x="585" y="430"/>
                  <a:pt x="585" y="430"/>
                </a:cubicBezTo>
                <a:cubicBezTo>
                  <a:pt x="629" y="473"/>
                  <a:pt x="663" y="516"/>
                  <a:pt x="714" y="550"/>
                </a:cubicBezTo>
                <a:cubicBezTo>
                  <a:pt x="752" y="576"/>
                  <a:pt x="763" y="612"/>
                  <a:pt x="800" y="636"/>
                </a:cubicBezTo>
                <a:cubicBezTo>
                  <a:pt x="821" y="668"/>
                  <a:pt x="855" y="698"/>
                  <a:pt x="885" y="722"/>
                </a:cubicBezTo>
                <a:cubicBezTo>
                  <a:pt x="915" y="745"/>
                  <a:pt x="906" y="761"/>
                  <a:pt x="946" y="773"/>
                </a:cubicBezTo>
                <a:cubicBezTo>
                  <a:pt x="967" y="795"/>
                  <a:pt x="986" y="798"/>
                  <a:pt x="1014" y="808"/>
                </a:cubicBezTo>
                <a:cubicBezTo>
                  <a:pt x="1051" y="843"/>
                  <a:pt x="1094" y="886"/>
                  <a:pt x="1143" y="902"/>
                </a:cubicBezTo>
                <a:cubicBezTo>
                  <a:pt x="1211" y="949"/>
                  <a:pt x="1129" y="896"/>
                  <a:pt x="1195" y="928"/>
                </a:cubicBezTo>
                <a:cubicBezTo>
                  <a:pt x="1224" y="942"/>
                  <a:pt x="1233" y="961"/>
                  <a:pt x="1264" y="971"/>
                </a:cubicBezTo>
                <a:cubicBezTo>
                  <a:pt x="1290" y="988"/>
                  <a:pt x="1303" y="1005"/>
                  <a:pt x="1333" y="1014"/>
                </a:cubicBezTo>
                <a:cubicBezTo>
                  <a:pt x="1353" y="1045"/>
                  <a:pt x="1341" y="1036"/>
                  <a:pt x="1367" y="104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457200" y="5943600"/>
            <a:ext cx="3049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609480" y="60199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36"/>
          <p:cNvGraphicFramePr/>
          <p:nvPr/>
        </p:nvGraphicFramePr>
        <p:xfrm>
          <a:off x="5027760" y="225360"/>
          <a:ext cx="407340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7760" y="225360"/>
                    <a:ext cx="407340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Freeform 37"/>
          <p:cNvSpPr/>
          <p:nvPr/>
        </p:nvSpPr>
        <p:spPr>
          <a:xfrm>
            <a:off x="6810480" y="1014480"/>
            <a:ext cx="2531880" cy="1892160"/>
          </a:xfrm>
          <a:custGeom>
            <a:avLst/>
            <a:gdLst>
              <a:gd name="textAreaLeft" fmla="*/ 0 w 2531880"/>
              <a:gd name="textAreaRight" fmla="*/ 2532240 w 253188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595" h="1192">
                <a:moveTo>
                  <a:pt x="77" y="161"/>
                </a:moveTo>
                <a:cubicBezTo>
                  <a:pt x="156" y="78"/>
                  <a:pt x="25" y="210"/>
                  <a:pt x="120" y="135"/>
                </a:cubicBezTo>
                <a:cubicBezTo>
                  <a:pt x="128" y="129"/>
                  <a:pt x="129" y="116"/>
                  <a:pt x="137" y="109"/>
                </a:cubicBezTo>
                <a:cubicBezTo>
                  <a:pt x="231" y="33"/>
                  <a:pt x="378" y="95"/>
                  <a:pt x="499" y="92"/>
                </a:cubicBezTo>
                <a:cubicBezTo>
                  <a:pt x="550" y="74"/>
                  <a:pt x="602" y="58"/>
                  <a:pt x="653" y="40"/>
                </a:cubicBezTo>
                <a:cubicBezTo>
                  <a:pt x="699" y="24"/>
                  <a:pt x="750" y="34"/>
                  <a:pt x="799" y="32"/>
                </a:cubicBezTo>
                <a:cubicBezTo>
                  <a:pt x="862" y="29"/>
                  <a:pt x="926" y="26"/>
                  <a:pt x="989" y="23"/>
                </a:cubicBezTo>
                <a:cubicBezTo>
                  <a:pt x="1052" y="0"/>
                  <a:pt x="1058" y="7"/>
                  <a:pt x="1143" y="14"/>
                </a:cubicBezTo>
                <a:cubicBezTo>
                  <a:pt x="1204" y="35"/>
                  <a:pt x="1177" y="27"/>
                  <a:pt x="1221" y="40"/>
                </a:cubicBezTo>
                <a:cubicBezTo>
                  <a:pt x="1316" y="104"/>
                  <a:pt x="1180" y="15"/>
                  <a:pt x="1272" y="66"/>
                </a:cubicBezTo>
                <a:cubicBezTo>
                  <a:pt x="1320" y="92"/>
                  <a:pt x="1356" y="121"/>
                  <a:pt x="1410" y="135"/>
                </a:cubicBezTo>
                <a:cubicBezTo>
                  <a:pt x="1468" y="174"/>
                  <a:pt x="1446" y="155"/>
                  <a:pt x="1479" y="186"/>
                </a:cubicBezTo>
                <a:cubicBezTo>
                  <a:pt x="1501" y="257"/>
                  <a:pt x="1521" y="329"/>
                  <a:pt x="1539" y="401"/>
                </a:cubicBezTo>
                <a:cubicBezTo>
                  <a:pt x="1550" y="447"/>
                  <a:pt x="1553" y="493"/>
                  <a:pt x="1565" y="539"/>
                </a:cubicBezTo>
                <a:cubicBezTo>
                  <a:pt x="1563" y="600"/>
                  <a:pt x="1595" y="829"/>
                  <a:pt x="1513" y="908"/>
                </a:cubicBezTo>
                <a:cubicBezTo>
                  <a:pt x="1503" y="936"/>
                  <a:pt x="1488" y="958"/>
                  <a:pt x="1479" y="986"/>
                </a:cubicBezTo>
                <a:cubicBezTo>
                  <a:pt x="1491" y="1035"/>
                  <a:pt x="1496" y="1040"/>
                  <a:pt x="1479" y="1106"/>
                </a:cubicBezTo>
                <a:cubicBezTo>
                  <a:pt x="1477" y="1114"/>
                  <a:pt x="1467" y="1117"/>
                  <a:pt x="1461" y="1123"/>
                </a:cubicBezTo>
                <a:cubicBezTo>
                  <a:pt x="1423" y="1161"/>
                  <a:pt x="1390" y="1177"/>
                  <a:pt x="1341" y="1192"/>
                </a:cubicBezTo>
                <a:cubicBezTo>
                  <a:pt x="1307" y="1189"/>
                  <a:pt x="1272" y="1186"/>
                  <a:pt x="1238" y="1184"/>
                </a:cubicBezTo>
                <a:cubicBezTo>
                  <a:pt x="1169" y="1180"/>
                  <a:pt x="1101" y="1180"/>
                  <a:pt x="1032" y="1175"/>
                </a:cubicBezTo>
                <a:cubicBezTo>
                  <a:pt x="971" y="1170"/>
                  <a:pt x="864" y="1118"/>
                  <a:pt x="799" y="1098"/>
                </a:cubicBezTo>
                <a:cubicBezTo>
                  <a:pt x="778" y="1076"/>
                  <a:pt x="759" y="1073"/>
                  <a:pt x="731" y="1063"/>
                </a:cubicBezTo>
                <a:cubicBezTo>
                  <a:pt x="689" y="1024"/>
                  <a:pt x="614" y="1021"/>
                  <a:pt x="559" y="1003"/>
                </a:cubicBezTo>
                <a:cubicBezTo>
                  <a:pt x="456" y="968"/>
                  <a:pt x="610" y="1019"/>
                  <a:pt x="507" y="986"/>
                </a:cubicBezTo>
                <a:cubicBezTo>
                  <a:pt x="490" y="980"/>
                  <a:pt x="456" y="969"/>
                  <a:pt x="456" y="969"/>
                </a:cubicBezTo>
                <a:cubicBezTo>
                  <a:pt x="437" y="950"/>
                  <a:pt x="396" y="926"/>
                  <a:pt x="370" y="917"/>
                </a:cubicBezTo>
                <a:cubicBezTo>
                  <a:pt x="342" y="891"/>
                  <a:pt x="306" y="879"/>
                  <a:pt x="275" y="857"/>
                </a:cubicBezTo>
                <a:cubicBezTo>
                  <a:pt x="265" y="850"/>
                  <a:pt x="259" y="839"/>
                  <a:pt x="249" y="831"/>
                </a:cubicBezTo>
                <a:cubicBezTo>
                  <a:pt x="233" y="818"/>
                  <a:pt x="198" y="797"/>
                  <a:pt x="198" y="797"/>
                </a:cubicBezTo>
                <a:cubicBezTo>
                  <a:pt x="166" y="750"/>
                  <a:pt x="198" y="786"/>
                  <a:pt x="155" y="762"/>
                </a:cubicBezTo>
                <a:cubicBezTo>
                  <a:pt x="137" y="752"/>
                  <a:pt x="103" y="728"/>
                  <a:pt x="103" y="728"/>
                </a:cubicBezTo>
                <a:cubicBezTo>
                  <a:pt x="97" y="719"/>
                  <a:pt x="93" y="709"/>
                  <a:pt x="86" y="702"/>
                </a:cubicBezTo>
                <a:cubicBezTo>
                  <a:pt x="79" y="695"/>
                  <a:pt x="67" y="693"/>
                  <a:pt x="60" y="685"/>
                </a:cubicBezTo>
                <a:cubicBezTo>
                  <a:pt x="30" y="651"/>
                  <a:pt x="11" y="608"/>
                  <a:pt x="0" y="565"/>
                </a:cubicBezTo>
                <a:cubicBezTo>
                  <a:pt x="3" y="508"/>
                  <a:pt x="4" y="450"/>
                  <a:pt x="9" y="393"/>
                </a:cubicBezTo>
                <a:cubicBezTo>
                  <a:pt x="12" y="361"/>
                  <a:pt x="26" y="341"/>
                  <a:pt x="26" y="307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8"/>
          <p:cNvSpPr/>
          <p:nvPr/>
        </p:nvSpPr>
        <p:spPr>
          <a:xfrm rot="17860200">
            <a:off x="6441840" y="1389960"/>
            <a:ext cx="7621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9"/>
          <p:cNvSpPr/>
          <p:nvPr/>
        </p:nvSpPr>
        <p:spPr>
          <a:xfrm>
            <a:off x="8001000" y="2209680"/>
            <a:ext cx="3049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0"/>
          <p:cNvSpPr/>
          <p:nvPr/>
        </p:nvSpPr>
        <p:spPr>
          <a:xfrm>
            <a:off x="8153280" y="21337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1"/>
          <p:cNvSpPr/>
          <p:nvPr/>
        </p:nvSpPr>
        <p:spPr>
          <a:xfrm>
            <a:off x="7772400" y="1752480"/>
            <a:ext cx="457200" cy="76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2"/>
          <p:cNvSpPr/>
          <p:nvPr/>
        </p:nvSpPr>
        <p:spPr>
          <a:xfrm>
            <a:off x="5090040" y="62064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водохранилищ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3"/>
          <p:cNvSpPr/>
          <p:nvPr/>
        </p:nvSpPr>
        <p:spPr>
          <a:xfrm>
            <a:off x="7148160" y="179064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К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823680" y="62103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</a:rPr>
              <a:t>П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5"/>
          <p:cNvSpPr/>
          <p:nvPr/>
        </p:nvSpPr>
        <p:spPr>
          <a:xfrm>
            <a:off x="6781680" y="60199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6"/>
          <p:cNvSpPr/>
          <p:nvPr/>
        </p:nvSpPr>
        <p:spPr>
          <a:xfrm>
            <a:off x="6629400" y="62485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7086600" y="5867280"/>
            <a:ext cx="3049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0"/>
          <p:cNvSpPr/>
          <p:nvPr/>
        </p:nvSpPr>
        <p:spPr>
          <a:xfrm>
            <a:off x="1449720" y="3733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С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3719160" y="3089160"/>
            <a:ext cx="164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Загород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з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ree"/>
          <p:cNvSpPr/>
          <p:nvPr/>
        </p:nvSpPr>
        <p:spPr>
          <a:xfrm>
            <a:off x="3733920" y="48769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ree"/>
          <p:cNvSpPr/>
          <p:nvPr/>
        </p:nvSpPr>
        <p:spPr>
          <a:xfrm>
            <a:off x="6172200" y="32004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54"/>
          <p:cNvGraphicFramePr/>
          <p:nvPr/>
        </p:nvGraphicFramePr>
        <p:xfrm>
          <a:off x="5105520" y="5105520"/>
          <a:ext cx="304560" cy="45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5105520"/>
                    <a:ext cx="30456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55"/>
          <p:cNvGraphicFramePr/>
          <p:nvPr/>
        </p:nvGraphicFramePr>
        <p:xfrm>
          <a:off x="5715000" y="2590920"/>
          <a:ext cx="304920" cy="45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Object 5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2590920"/>
                    <a:ext cx="3049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6"/>
          <p:cNvGraphicFramePr/>
          <p:nvPr/>
        </p:nvGraphicFramePr>
        <p:xfrm>
          <a:off x="5638680" y="4191120"/>
          <a:ext cx="304920" cy="45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Object 5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4191120"/>
                    <a:ext cx="3049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57"/>
          <p:cNvGraphicFramePr/>
          <p:nvPr/>
        </p:nvGraphicFramePr>
        <p:xfrm>
          <a:off x="5867280" y="4800600"/>
          <a:ext cx="304920" cy="452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Object 5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4800600"/>
                    <a:ext cx="3049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58"/>
          <p:cNvSpPr/>
          <p:nvPr/>
        </p:nvSpPr>
        <p:spPr>
          <a:xfrm>
            <a:off x="522360" y="4140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Эвакуация проводится и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1"/>
          <p:cNvSpPr/>
          <p:nvPr/>
        </p:nvSpPr>
        <p:spPr>
          <a:xfrm rot="7141800">
            <a:off x="7467120" y="259056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4"/>
          <p:cNvSpPr/>
          <p:nvPr/>
        </p:nvSpPr>
        <p:spPr>
          <a:xfrm rot="14042400">
            <a:off x="6324120" y="5485680"/>
            <a:ext cx="838440" cy="228600"/>
          </a:xfrm>
          <a:custGeom>
            <a:avLst/>
            <a:gdLst>
              <a:gd name="textAreaLeft" fmla="*/ 13104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5"/>
          <p:cNvSpPr/>
          <p:nvPr/>
        </p:nvSpPr>
        <p:spPr>
          <a:xfrm rot="18906000">
            <a:off x="685800" y="556236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6"/>
          <p:cNvSpPr/>
          <p:nvPr/>
        </p:nvSpPr>
        <p:spPr>
          <a:xfrm rot="4610400">
            <a:off x="685080" y="464796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7"/>
          <p:cNvSpPr/>
          <p:nvPr/>
        </p:nvSpPr>
        <p:spPr>
          <a:xfrm rot="21595200">
            <a:off x="1066680" y="1600200"/>
            <a:ext cx="838440" cy="228600"/>
          </a:xfrm>
          <a:custGeom>
            <a:avLst/>
            <a:gdLst>
              <a:gd name="textAreaLeft" fmla="*/ 13104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43080" y="266760"/>
            <a:ext cx="8483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3314880" y="1320840"/>
            <a:ext cx="2463480" cy="1434960"/>
          </a:xfrm>
          <a:prstGeom prst="octagon">
            <a:avLst>
              <a:gd name="adj" fmla="val 29287"/>
            </a:avLst>
          </a:prstGeom>
          <a:blipFill rotWithShape="0">
            <a:blip r:embed="rId1"/>
            <a:srcRect/>
            <a:tile tx="0" ty="0" sx="100000" sy="100000" algn="ctr"/>
          </a:blipFill>
          <a:ln cap="sq" w="57240">
            <a:solidFill>
              <a:srgbClr val="000000"/>
            </a:solidFill>
            <a:miter/>
          </a:ln>
          <a:effectLst>
            <a:outerShdw dist="233089" dir="1764935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Город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тнесен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 групп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о 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397480" y="2336760"/>
            <a:ext cx="762120" cy="3430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С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905440" y="1003320"/>
            <a:ext cx="2679840" cy="647640"/>
          </a:xfrm>
          <a:prstGeom prst="wedgeRectCallout">
            <a:avLst>
              <a:gd name="adj1" fmla="val -53967"/>
              <a:gd name="adj2" fmla="val 85782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625840" y="971640"/>
            <a:ext cx="183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986440" y="97956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аница проект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строй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851040" y="4572000"/>
            <a:ext cx="1498320" cy="1320840"/>
          </a:xfrm>
          <a:prstGeom prst="hexagon">
            <a:avLst>
              <a:gd name="adj" fmla="val 28359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  <a:effectLst>
            <a:outerShdw dist="261781" dir="2348383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9"/>
          <p:cNvSpPr/>
          <p:nvPr/>
        </p:nvSpPr>
        <p:spPr>
          <a:xfrm>
            <a:off x="254160" y="3886200"/>
            <a:ext cx="2603520" cy="2717640"/>
          </a:xfrm>
          <a:prstGeom prst="ellipse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2502000" y="5651640"/>
            <a:ext cx="761760" cy="3427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С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1"/>
          <p:cNvSpPr/>
          <p:nvPr/>
        </p:nvSpPr>
        <p:spPr>
          <a:xfrm flipV="1">
            <a:off x="2197080" y="4673520"/>
            <a:ext cx="533520" cy="292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3035160" y="3606840"/>
            <a:ext cx="965520" cy="342720"/>
          </a:xfrm>
          <a:prstGeom prst="wedgeRectCallout">
            <a:avLst>
              <a:gd name="adj1" fmla="val -118092"/>
              <a:gd name="adj2" fmla="val 306944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172320" y="35575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к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1181160" y="5041800"/>
            <a:ext cx="914400" cy="444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О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3549600" y="133200"/>
            <a:ext cx="1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 В С 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reeform 2"/>
          <p:cNvSpPr/>
          <p:nvPr/>
        </p:nvSpPr>
        <p:spPr>
          <a:xfrm>
            <a:off x="-30240" y="1587600"/>
            <a:ext cx="9186840" cy="1904760"/>
          </a:xfrm>
          <a:custGeom>
            <a:avLst/>
            <a:gdLst>
              <a:gd name="textAreaLeft" fmla="*/ 0 w 9186840"/>
              <a:gd name="textAreaRight" fmla="*/ 9187200 w 918684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5787" h="1200">
                <a:moveTo>
                  <a:pt x="211" y="384"/>
                </a:moveTo>
                <a:cubicBezTo>
                  <a:pt x="327" y="389"/>
                  <a:pt x="439" y="399"/>
                  <a:pt x="555" y="408"/>
                </a:cubicBezTo>
                <a:cubicBezTo>
                  <a:pt x="642" y="451"/>
                  <a:pt x="731" y="465"/>
                  <a:pt x="827" y="472"/>
                </a:cubicBezTo>
                <a:cubicBezTo>
                  <a:pt x="905" y="466"/>
                  <a:pt x="970" y="464"/>
                  <a:pt x="1043" y="440"/>
                </a:cubicBezTo>
                <a:cubicBezTo>
                  <a:pt x="1069" y="431"/>
                  <a:pt x="1115" y="400"/>
                  <a:pt x="1115" y="400"/>
                </a:cubicBezTo>
                <a:cubicBezTo>
                  <a:pt x="1179" y="304"/>
                  <a:pt x="1080" y="445"/>
                  <a:pt x="1155" y="360"/>
                </a:cubicBezTo>
                <a:cubicBezTo>
                  <a:pt x="1189" y="321"/>
                  <a:pt x="1200" y="271"/>
                  <a:pt x="1235" y="232"/>
                </a:cubicBezTo>
                <a:cubicBezTo>
                  <a:pt x="1250" y="215"/>
                  <a:pt x="1264" y="197"/>
                  <a:pt x="1283" y="184"/>
                </a:cubicBezTo>
                <a:cubicBezTo>
                  <a:pt x="1299" y="173"/>
                  <a:pt x="1331" y="152"/>
                  <a:pt x="1331" y="152"/>
                </a:cubicBezTo>
                <a:cubicBezTo>
                  <a:pt x="1369" y="94"/>
                  <a:pt x="1315" y="165"/>
                  <a:pt x="1395" y="112"/>
                </a:cubicBezTo>
                <a:cubicBezTo>
                  <a:pt x="1466" y="65"/>
                  <a:pt x="1567" y="52"/>
                  <a:pt x="1651" y="40"/>
                </a:cubicBezTo>
                <a:cubicBezTo>
                  <a:pt x="1709" y="21"/>
                  <a:pt x="1767" y="12"/>
                  <a:pt x="1827" y="0"/>
                </a:cubicBezTo>
                <a:cubicBezTo>
                  <a:pt x="1960" y="3"/>
                  <a:pt x="2094" y="3"/>
                  <a:pt x="2227" y="8"/>
                </a:cubicBezTo>
                <a:cubicBezTo>
                  <a:pt x="2325" y="12"/>
                  <a:pt x="2403" y="83"/>
                  <a:pt x="2491" y="112"/>
                </a:cubicBezTo>
                <a:cubicBezTo>
                  <a:pt x="2519" y="154"/>
                  <a:pt x="2509" y="182"/>
                  <a:pt x="2523" y="232"/>
                </a:cubicBezTo>
                <a:cubicBezTo>
                  <a:pt x="2526" y="241"/>
                  <a:pt x="2535" y="247"/>
                  <a:pt x="2539" y="256"/>
                </a:cubicBezTo>
                <a:cubicBezTo>
                  <a:pt x="2561" y="305"/>
                  <a:pt x="2564" y="361"/>
                  <a:pt x="2611" y="392"/>
                </a:cubicBezTo>
                <a:cubicBezTo>
                  <a:pt x="2616" y="400"/>
                  <a:pt x="2620" y="409"/>
                  <a:pt x="2627" y="416"/>
                </a:cubicBezTo>
                <a:cubicBezTo>
                  <a:pt x="2634" y="423"/>
                  <a:pt x="2645" y="424"/>
                  <a:pt x="2651" y="432"/>
                </a:cubicBezTo>
                <a:cubicBezTo>
                  <a:pt x="2656" y="439"/>
                  <a:pt x="2653" y="450"/>
                  <a:pt x="2659" y="456"/>
                </a:cubicBezTo>
                <a:cubicBezTo>
                  <a:pt x="2691" y="488"/>
                  <a:pt x="2703" y="487"/>
                  <a:pt x="2739" y="496"/>
                </a:cubicBezTo>
                <a:cubicBezTo>
                  <a:pt x="2967" y="489"/>
                  <a:pt x="3191" y="466"/>
                  <a:pt x="3419" y="456"/>
                </a:cubicBezTo>
                <a:cubicBezTo>
                  <a:pt x="3510" y="441"/>
                  <a:pt x="3603" y="445"/>
                  <a:pt x="3691" y="416"/>
                </a:cubicBezTo>
                <a:cubicBezTo>
                  <a:pt x="3848" y="419"/>
                  <a:pt x="4006" y="417"/>
                  <a:pt x="4163" y="424"/>
                </a:cubicBezTo>
                <a:cubicBezTo>
                  <a:pt x="4206" y="426"/>
                  <a:pt x="4260" y="457"/>
                  <a:pt x="4299" y="472"/>
                </a:cubicBezTo>
                <a:cubicBezTo>
                  <a:pt x="4374" y="500"/>
                  <a:pt x="4497" y="508"/>
                  <a:pt x="4579" y="520"/>
                </a:cubicBezTo>
                <a:cubicBezTo>
                  <a:pt x="4765" y="516"/>
                  <a:pt x="4904" y="515"/>
                  <a:pt x="5075" y="496"/>
                </a:cubicBezTo>
                <a:cubicBezTo>
                  <a:pt x="5283" y="427"/>
                  <a:pt x="5469" y="422"/>
                  <a:pt x="5691" y="408"/>
                </a:cubicBezTo>
                <a:cubicBezTo>
                  <a:pt x="5732" y="398"/>
                  <a:pt x="5770" y="381"/>
                  <a:pt x="5787" y="432"/>
                </a:cubicBezTo>
                <a:cubicBezTo>
                  <a:pt x="5784" y="472"/>
                  <a:pt x="5786" y="512"/>
                  <a:pt x="5779" y="552"/>
                </a:cubicBezTo>
                <a:cubicBezTo>
                  <a:pt x="5777" y="561"/>
                  <a:pt x="5767" y="585"/>
                  <a:pt x="5763" y="576"/>
                </a:cubicBezTo>
                <a:cubicBezTo>
                  <a:pt x="5757" y="564"/>
                  <a:pt x="5768" y="549"/>
                  <a:pt x="5771" y="536"/>
                </a:cubicBezTo>
                <a:cubicBezTo>
                  <a:pt x="5713" y="517"/>
                  <a:pt x="5737" y="566"/>
                  <a:pt x="5691" y="568"/>
                </a:cubicBezTo>
                <a:cubicBezTo>
                  <a:pt x="5558" y="573"/>
                  <a:pt x="5424" y="573"/>
                  <a:pt x="5291" y="576"/>
                </a:cubicBezTo>
                <a:cubicBezTo>
                  <a:pt x="5283" y="584"/>
                  <a:pt x="5277" y="595"/>
                  <a:pt x="5267" y="600"/>
                </a:cubicBezTo>
                <a:cubicBezTo>
                  <a:pt x="5247" y="611"/>
                  <a:pt x="5210" y="617"/>
                  <a:pt x="5187" y="624"/>
                </a:cubicBezTo>
                <a:cubicBezTo>
                  <a:pt x="5146" y="636"/>
                  <a:pt x="5139" y="648"/>
                  <a:pt x="5091" y="656"/>
                </a:cubicBezTo>
                <a:cubicBezTo>
                  <a:pt x="4833" y="651"/>
                  <a:pt x="4586" y="642"/>
                  <a:pt x="4331" y="624"/>
                </a:cubicBezTo>
                <a:cubicBezTo>
                  <a:pt x="4122" y="520"/>
                  <a:pt x="3792" y="571"/>
                  <a:pt x="3611" y="568"/>
                </a:cubicBezTo>
                <a:cubicBezTo>
                  <a:pt x="3323" y="573"/>
                  <a:pt x="3003" y="566"/>
                  <a:pt x="2715" y="624"/>
                </a:cubicBezTo>
                <a:cubicBezTo>
                  <a:pt x="2698" y="650"/>
                  <a:pt x="2687" y="681"/>
                  <a:pt x="2667" y="704"/>
                </a:cubicBezTo>
                <a:cubicBezTo>
                  <a:pt x="2652" y="721"/>
                  <a:pt x="2619" y="752"/>
                  <a:pt x="2619" y="752"/>
                </a:cubicBezTo>
                <a:cubicBezTo>
                  <a:pt x="2609" y="782"/>
                  <a:pt x="2591" y="804"/>
                  <a:pt x="2579" y="832"/>
                </a:cubicBezTo>
                <a:cubicBezTo>
                  <a:pt x="2569" y="855"/>
                  <a:pt x="2563" y="880"/>
                  <a:pt x="2555" y="904"/>
                </a:cubicBezTo>
                <a:cubicBezTo>
                  <a:pt x="2540" y="948"/>
                  <a:pt x="2461" y="1002"/>
                  <a:pt x="2419" y="1016"/>
                </a:cubicBezTo>
                <a:cubicBezTo>
                  <a:pt x="2342" y="1093"/>
                  <a:pt x="2440" y="1002"/>
                  <a:pt x="2371" y="1048"/>
                </a:cubicBezTo>
                <a:cubicBezTo>
                  <a:pt x="2323" y="1080"/>
                  <a:pt x="2373" y="1067"/>
                  <a:pt x="2315" y="1096"/>
                </a:cubicBezTo>
                <a:cubicBezTo>
                  <a:pt x="2217" y="1145"/>
                  <a:pt x="2097" y="1117"/>
                  <a:pt x="1987" y="1120"/>
                </a:cubicBezTo>
                <a:cubicBezTo>
                  <a:pt x="1929" y="1178"/>
                  <a:pt x="1864" y="1170"/>
                  <a:pt x="1787" y="1184"/>
                </a:cubicBezTo>
                <a:cubicBezTo>
                  <a:pt x="1765" y="1188"/>
                  <a:pt x="1723" y="1200"/>
                  <a:pt x="1723" y="1200"/>
                </a:cubicBezTo>
                <a:cubicBezTo>
                  <a:pt x="1582" y="1192"/>
                  <a:pt x="1497" y="1198"/>
                  <a:pt x="1379" y="1168"/>
                </a:cubicBezTo>
                <a:cubicBezTo>
                  <a:pt x="1357" y="1153"/>
                  <a:pt x="1331" y="1139"/>
                  <a:pt x="1307" y="1128"/>
                </a:cubicBezTo>
                <a:cubicBezTo>
                  <a:pt x="1292" y="1121"/>
                  <a:pt x="1259" y="1112"/>
                  <a:pt x="1259" y="1112"/>
                </a:cubicBezTo>
                <a:cubicBezTo>
                  <a:pt x="1223" y="1058"/>
                  <a:pt x="1265" y="1111"/>
                  <a:pt x="1219" y="1080"/>
                </a:cubicBezTo>
                <a:cubicBezTo>
                  <a:pt x="1210" y="1074"/>
                  <a:pt x="1205" y="1062"/>
                  <a:pt x="1195" y="1056"/>
                </a:cubicBezTo>
                <a:cubicBezTo>
                  <a:pt x="1147" y="1026"/>
                  <a:pt x="1103" y="1017"/>
                  <a:pt x="1051" y="1000"/>
                </a:cubicBezTo>
                <a:cubicBezTo>
                  <a:pt x="977" y="975"/>
                  <a:pt x="943" y="888"/>
                  <a:pt x="883" y="848"/>
                </a:cubicBezTo>
                <a:cubicBezTo>
                  <a:pt x="878" y="840"/>
                  <a:pt x="871" y="833"/>
                  <a:pt x="867" y="824"/>
                </a:cubicBezTo>
                <a:cubicBezTo>
                  <a:pt x="863" y="816"/>
                  <a:pt x="865" y="806"/>
                  <a:pt x="859" y="800"/>
                </a:cubicBezTo>
                <a:cubicBezTo>
                  <a:pt x="839" y="780"/>
                  <a:pt x="811" y="768"/>
                  <a:pt x="787" y="752"/>
                </a:cubicBezTo>
                <a:cubicBezTo>
                  <a:pt x="773" y="743"/>
                  <a:pt x="755" y="741"/>
                  <a:pt x="739" y="736"/>
                </a:cubicBezTo>
                <a:cubicBezTo>
                  <a:pt x="721" y="730"/>
                  <a:pt x="691" y="704"/>
                  <a:pt x="691" y="704"/>
                </a:cubicBezTo>
                <a:cubicBezTo>
                  <a:pt x="678" y="684"/>
                  <a:pt x="655" y="615"/>
                  <a:pt x="635" y="608"/>
                </a:cubicBezTo>
                <a:cubicBezTo>
                  <a:pt x="584" y="591"/>
                  <a:pt x="529" y="550"/>
                  <a:pt x="475" y="544"/>
                </a:cubicBezTo>
                <a:cubicBezTo>
                  <a:pt x="419" y="538"/>
                  <a:pt x="363" y="539"/>
                  <a:pt x="307" y="536"/>
                </a:cubicBezTo>
                <a:cubicBezTo>
                  <a:pt x="208" y="519"/>
                  <a:pt x="118" y="484"/>
                  <a:pt x="19" y="464"/>
                </a:cubicBezTo>
                <a:cubicBezTo>
                  <a:pt x="13" y="445"/>
                  <a:pt x="0" y="419"/>
                  <a:pt x="19" y="400"/>
                </a:cubicBezTo>
                <a:cubicBezTo>
                  <a:pt x="31" y="388"/>
                  <a:pt x="67" y="384"/>
                  <a:pt x="67" y="384"/>
                </a:cubicBezTo>
                <a:cubicBezTo>
                  <a:pt x="51" y="381"/>
                  <a:pt x="32" y="385"/>
                  <a:pt x="19" y="376"/>
                </a:cubicBezTo>
                <a:cubicBezTo>
                  <a:pt x="12" y="371"/>
                  <a:pt x="35" y="368"/>
                  <a:pt x="43" y="368"/>
                </a:cubicBezTo>
                <a:cubicBezTo>
                  <a:pt x="62" y="368"/>
                  <a:pt x="80" y="373"/>
                  <a:pt x="99" y="376"/>
                </a:cubicBezTo>
                <a:cubicBezTo>
                  <a:pt x="171" y="400"/>
                  <a:pt x="238" y="408"/>
                  <a:pt x="315" y="408"/>
                </a:cubicBezTo>
                <a:lnTo>
                  <a:pt x="211" y="384"/>
                </a:lnTo>
                <a:close/>
              </a:path>
            </a:pathLst>
          </a:custGeom>
          <a:solidFill>
            <a:srgbClr val="33ccff"/>
          </a:solidFill>
          <a:ln cap="sq"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4313160" y="1638360"/>
            <a:ext cx="4818240" cy="1727280"/>
          </a:xfrm>
          <a:custGeom>
            <a:avLst/>
            <a:gdLst>
              <a:gd name="textAreaLeft" fmla="*/ 0 w 4818240"/>
              <a:gd name="textAreaRight" fmla="*/ 4818600 w 481824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3035" h="1088">
                <a:moveTo>
                  <a:pt x="11" y="624"/>
                </a:moveTo>
                <a:cubicBezTo>
                  <a:pt x="68" y="662"/>
                  <a:pt x="13" y="616"/>
                  <a:pt x="43" y="736"/>
                </a:cubicBezTo>
                <a:cubicBezTo>
                  <a:pt x="47" y="753"/>
                  <a:pt x="114" y="815"/>
                  <a:pt x="115" y="816"/>
                </a:cubicBezTo>
                <a:cubicBezTo>
                  <a:pt x="147" y="848"/>
                  <a:pt x="228" y="854"/>
                  <a:pt x="259" y="864"/>
                </a:cubicBezTo>
                <a:cubicBezTo>
                  <a:pt x="347" y="893"/>
                  <a:pt x="442" y="898"/>
                  <a:pt x="531" y="928"/>
                </a:cubicBezTo>
                <a:cubicBezTo>
                  <a:pt x="542" y="936"/>
                  <a:pt x="554" y="943"/>
                  <a:pt x="563" y="952"/>
                </a:cubicBezTo>
                <a:cubicBezTo>
                  <a:pt x="570" y="959"/>
                  <a:pt x="572" y="970"/>
                  <a:pt x="579" y="976"/>
                </a:cubicBezTo>
                <a:cubicBezTo>
                  <a:pt x="637" y="1026"/>
                  <a:pt x="721" y="1059"/>
                  <a:pt x="795" y="1072"/>
                </a:cubicBezTo>
                <a:cubicBezTo>
                  <a:pt x="837" y="1080"/>
                  <a:pt x="923" y="1088"/>
                  <a:pt x="923" y="1088"/>
                </a:cubicBezTo>
                <a:cubicBezTo>
                  <a:pt x="1120" y="1085"/>
                  <a:pt x="1318" y="1085"/>
                  <a:pt x="1515" y="1080"/>
                </a:cubicBezTo>
                <a:cubicBezTo>
                  <a:pt x="1539" y="1079"/>
                  <a:pt x="1542" y="1065"/>
                  <a:pt x="1563" y="1056"/>
                </a:cubicBezTo>
                <a:cubicBezTo>
                  <a:pt x="1605" y="1038"/>
                  <a:pt x="1648" y="1024"/>
                  <a:pt x="1691" y="1008"/>
                </a:cubicBezTo>
                <a:cubicBezTo>
                  <a:pt x="1774" y="977"/>
                  <a:pt x="1877" y="981"/>
                  <a:pt x="1963" y="976"/>
                </a:cubicBezTo>
                <a:cubicBezTo>
                  <a:pt x="2055" y="953"/>
                  <a:pt x="2172" y="978"/>
                  <a:pt x="2267" y="984"/>
                </a:cubicBezTo>
                <a:cubicBezTo>
                  <a:pt x="2403" y="979"/>
                  <a:pt x="2539" y="976"/>
                  <a:pt x="2675" y="968"/>
                </a:cubicBezTo>
                <a:cubicBezTo>
                  <a:pt x="2722" y="965"/>
                  <a:pt x="2778" y="900"/>
                  <a:pt x="2811" y="872"/>
                </a:cubicBezTo>
                <a:cubicBezTo>
                  <a:pt x="2842" y="846"/>
                  <a:pt x="2873" y="842"/>
                  <a:pt x="2899" y="808"/>
                </a:cubicBezTo>
                <a:cubicBezTo>
                  <a:pt x="2913" y="789"/>
                  <a:pt x="2925" y="747"/>
                  <a:pt x="2931" y="728"/>
                </a:cubicBezTo>
                <a:cubicBezTo>
                  <a:pt x="2939" y="703"/>
                  <a:pt x="2979" y="648"/>
                  <a:pt x="2995" y="624"/>
                </a:cubicBezTo>
                <a:cubicBezTo>
                  <a:pt x="3008" y="533"/>
                  <a:pt x="3020" y="442"/>
                  <a:pt x="3035" y="352"/>
                </a:cubicBezTo>
                <a:cubicBezTo>
                  <a:pt x="3032" y="285"/>
                  <a:pt x="3034" y="218"/>
                  <a:pt x="3027" y="152"/>
                </a:cubicBezTo>
                <a:cubicBezTo>
                  <a:pt x="3022" y="106"/>
                  <a:pt x="2931" y="97"/>
                  <a:pt x="2899" y="96"/>
                </a:cubicBezTo>
                <a:cubicBezTo>
                  <a:pt x="2782" y="91"/>
                  <a:pt x="2664" y="91"/>
                  <a:pt x="2547" y="88"/>
                </a:cubicBezTo>
                <a:cubicBezTo>
                  <a:pt x="2477" y="78"/>
                  <a:pt x="2409" y="65"/>
                  <a:pt x="2339" y="56"/>
                </a:cubicBezTo>
                <a:cubicBezTo>
                  <a:pt x="2186" y="64"/>
                  <a:pt x="2141" y="71"/>
                  <a:pt x="1979" y="56"/>
                </a:cubicBezTo>
                <a:cubicBezTo>
                  <a:pt x="1895" y="48"/>
                  <a:pt x="1823" y="8"/>
                  <a:pt x="1739" y="0"/>
                </a:cubicBezTo>
                <a:cubicBezTo>
                  <a:pt x="1559" y="6"/>
                  <a:pt x="1391" y="25"/>
                  <a:pt x="1211" y="32"/>
                </a:cubicBezTo>
                <a:cubicBezTo>
                  <a:pt x="1200" y="37"/>
                  <a:pt x="1191" y="45"/>
                  <a:pt x="1179" y="48"/>
                </a:cubicBezTo>
                <a:cubicBezTo>
                  <a:pt x="1158" y="53"/>
                  <a:pt x="1134" y="46"/>
                  <a:pt x="1115" y="56"/>
                </a:cubicBezTo>
                <a:cubicBezTo>
                  <a:pt x="1092" y="68"/>
                  <a:pt x="1084" y="104"/>
                  <a:pt x="1059" y="112"/>
                </a:cubicBezTo>
                <a:cubicBezTo>
                  <a:pt x="987" y="136"/>
                  <a:pt x="927" y="150"/>
                  <a:pt x="851" y="160"/>
                </a:cubicBezTo>
                <a:cubicBezTo>
                  <a:pt x="644" y="229"/>
                  <a:pt x="394" y="209"/>
                  <a:pt x="179" y="216"/>
                </a:cubicBezTo>
                <a:cubicBezTo>
                  <a:pt x="160" y="219"/>
                  <a:pt x="138" y="213"/>
                  <a:pt x="123" y="224"/>
                </a:cubicBezTo>
                <a:cubicBezTo>
                  <a:pt x="112" y="232"/>
                  <a:pt x="125" y="255"/>
                  <a:pt x="115" y="264"/>
                </a:cubicBezTo>
                <a:cubicBezTo>
                  <a:pt x="103" y="275"/>
                  <a:pt x="83" y="269"/>
                  <a:pt x="67" y="272"/>
                </a:cubicBezTo>
                <a:cubicBezTo>
                  <a:pt x="20" y="303"/>
                  <a:pt x="42" y="331"/>
                  <a:pt x="19" y="376"/>
                </a:cubicBezTo>
                <a:cubicBezTo>
                  <a:pt x="0" y="414"/>
                  <a:pt x="3" y="385"/>
                  <a:pt x="3" y="416"/>
                </a:cubicBezTo>
              </a:path>
            </a:pathLst>
          </a:custGeom>
          <a:solidFill>
            <a:srgbClr val="66ffff"/>
          </a:solidFill>
          <a:ln cap="sq" w="1260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4"/>
          <p:cNvSpPr/>
          <p:nvPr/>
        </p:nvSpPr>
        <p:spPr>
          <a:xfrm>
            <a:off x="4251240" y="2222640"/>
            <a:ext cx="4888080" cy="438120"/>
          </a:xfrm>
          <a:custGeom>
            <a:avLst/>
            <a:gdLst>
              <a:gd name="textAreaLeft" fmla="*/ 0 w 4888080"/>
              <a:gd name="textAreaRight" fmla="*/ 4888440 w 488808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3079" h="276">
                <a:moveTo>
                  <a:pt x="66" y="88"/>
                </a:moveTo>
                <a:cubicBezTo>
                  <a:pt x="197" y="73"/>
                  <a:pt x="183" y="73"/>
                  <a:pt x="362" y="80"/>
                </a:cubicBezTo>
                <a:cubicBezTo>
                  <a:pt x="461" y="105"/>
                  <a:pt x="564" y="117"/>
                  <a:pt x="666" y="128"/>
                </a:cubicBezTo>
                <a:cubicBezTo>
                  <a:pt x="935" y="122"/>
                  <a:pt x="1007" y="135"/>
                  <a:pt x="1218" y="72"/>
                </a:cubicBezTo>
                <a:cubicBezTo>
                  <a:pt x="1274" y="55"/>
                  <a:pt x="1329" y="39"/>
                  <a:pt x="1386" y="24"/>
                </a:cubicBezTo>
                <a:cubicBezTo>
                  <a:pt x="1418" y="16"/>
                  <a:pt x="1482" y="0"/>
                  <a:pt x="1482" y="0"/>
                </a:cubicBezTo>
                <a:cubicBezTo>
                  <a:pt x="1687" y="5"/>
                  <a:pt x="1886" y="17"/>
                  <a:pt x="2090" y="32"/>
                </a:cubicBezTo>
                <a:cubicBezTo>
                  <a:pt x="2262" y="63"/>
                  <a:pt x="2436" y="65"/>
                  <a:pt x="2610" y="72"/>
                </a:cubicBezTo>
                <a:cubicBezTo>
                  <a:pt x="2717" y="69"/>
                  <a:pt x="2823" y="69"/>
                  <a:pt x="2930" y="64"/>
                </a:cubicBezTo>
                <a:cubicBezTo>
                  <a:pt x="2963" y="62"/>
                  <a:pt x="3006" y="37"/>
                  <a:pt x="3050" y="32"/>
                </a:cubicBezTo>
                <a:cubicBezTo>
                  <a:pt x="3058" y="37"/>
                  <a:pt x="3073" y="38"/>
                  <a:pt x="3074" y="48"/>
                </a:cubicBezTo>
                <a:cubicBezTo>
                  <a:pt x="3079" y="90"/>
                  <a:pt x="3078" y="135"/>
                  <a:pt x="3066" y="176"/>
                </a:cubicBezTo>
                <a:cubicBezTo>
                  <a:pt x="3063" y="187"/>
                  <a:pt x="3045" y="181"/>
                  <a:pt x="3034" y="184"/>
                </a:cubicBezTo>
                <a:cubicBezTo>
                  <a:pt x="3005" y="192"/>
                  <a:pt x="2975" y="198"/>
                  <a:pt x="2946" y="208"/>
                </a:cubicBezTo>
                <a:cubicBezTo>
                  <a:pt x="2874" y="205"/>
                  <a:pt x="2802" y="204"/>
                  <a:pt x="2730" y="200"/>
                </a:cubicBezTo>
                <a:cubicBezTo>
                  <a:pt x="2681" y="197"/>
                  <a:pt x="2634" y="172"/>
                  <a:pt x="2586" y="160"/>
                </a:cubicBezTo>
                <a:cubicBezTo>
                  <a:pt x="2452" y="165"/>
                  <a:pt x="2362" y="176"/>
                  <a:pt x="2234" y="184"/>
                </a:cubicBezTo>
                <a:cubicBezTo>
                  <a:pt x="2153" y="197"/>
                  <a:pt x="2094" y="198"/>
                  <a:pt x="2010" y="192"/>
                </a:cubicBezTo>
                <a:cubicBezTo>
                  <a:pt x="1984" y="183"/>
                  <a:pt x="1955" y="179"/>
                  <a:pt x="1930" y="168"/>
                </a:cubicBezTo>
                <a:cubicBezTo>
                  <a:pt x="1840" y="127"/>
                  <a:pt x="1897" y="142"/>
                  <a:pt x="1826" y="128"/>
                </a:cubicBezTo>
                <a:cubicBezTo>
                  <a:pt x="1746" y="131"/>
                  <a:pt x="1666" y="129"/>
                  <a:pt x="1586" y="136"/>
                </a:cubicBezTo>
                <a:cubicBezTo>
                  <a:pt x="1530" y="141"/>
                  <a:pt x="1461" y="169"/>
                  <a:pt x="1402" y="176"/>
                </a:cubicBezTo>
                <a:cubicBezTo>
                  <a:pt x="1304" y="209"/>
                  <a:pt x="1192" y="219"/>
                  <a:pt x="1090" y="232"/>
                </a:cubicBezTo>
                <a:cubicBezTo>
                  <a:pt x="1060" y="236"/>
                  <a:pt x="1032" y="245"/>
                  <a:pt x="1002" y="248"/>
                </a:cubicBezTo>
                <a:cubicBezTo>
                  <a:pt x="967" y="252"/>
                  <a:pt x="863" y="256"/>
                  <a:pt x="898" y="256"/>
                </a:cubicBezTo>
                <a:cubicBezTo>
                  <a:pt x="957" y="256"/>
                  <a:pt x="1015" y="251"/>
                  <a:pt x="1074" y="248"/>
                </a:cubicBezTo>
                <a:cubicBezTo>
                  <a:pt x="962" y="245"/>
                  <a:pt x="779" y="276"/>
                  <a:pt x="666" y="200"/>
                </a:cubicBezTo>
                <a:cubicBezTo>
                  <a:pt x="483" y="205"/>
                  <a:pt x="322" y="208"/>
                  <a:pt x="146" y="240"/>
                </a:cubicBezTo>
                <a:cubicBezTo>
                  <a:pt x="101" y="237"/>
                  <a:pt x="53" y="246"/>
                  <a:pt x="10" y="232"/>
                </a:cubicBezTo>
                <a:cubicBezTo>
                  <a:pt x="0" y="229"/>
                  <a:pt x="16" y="211"/>
                  <a:pt x="18" y="200"/>
                </a:cubicBezTo>
                <a:cubicBezTo>
                  <a:pt x="26" y="162"/>
                  <a:pt x="19" y="133"/>
                  <a:pt x="58" y="120"/>
                </a:cubicBezTo>
                <a:cubicBezTo>
                  <a:pt x="67" y="93"/>
                  <a:pt x="66" y="104"/>
                  <a:pt x="66" y="88"/>
                </a:cubicBezTo>
                <a:close/>
              </a:path>
            </a:pathLst>
          </a:custGeom>
          <a:solidFill>
            <a:srgbClr val="33cc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987560" y="238752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одохранилищ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590160" y="176688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З В К 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7264440" y="2362320"/>
            <a:ext cx="647640" cy="507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7074000" y="1486080"/>
            <a:ext cx="0" cy="2895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280040" y="2997360"/>
            <a:ext cx="0" cy="1422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292640" y="4140360"/>
            <a:ext cx="27813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655160" y="4219560"/>
            <a:ext cx="19972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она 4-х часов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бегания вол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ры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934800" y="8244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ВК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4"/>
          <p:cNvSpPr/>
          <p:nvPr/>
        </p:nvSpPr>
        <p:spPr>
          <a:xfrm rot="669000">
            <a:off x="5359320" y="1879560"/>
            <a:ext cx="38124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5"/>
          <p:cNvSpPr/>
          <p:nvPr/>
        </p:nvSpPr>
        <p:spPr>
          <a:xfrm rot="609600">
            <a:off x="5320800" y="2082960"/>
            <a:ext cx="38124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 rot="6106800">
            <a:off x="5650920" y="2031840"/>
            <a:ext cx="38088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7"/>
          <p:cNvSpPr/>
          <p:nvPr/>
        </p:nvSpPr>
        <p:spPr>
          <a:xfrm rot="16824600">
            <a:off x="5371920" y="1383840"/>
            <a:ext cx="685800" cy="203040"/>
          </a:xfrm>
          <a:custGeom>
            <a:avLst/>
            <a:gdLst>
              <a:gd name="textAreaLeft" fmla="*/ 106920 w 685800"/>
              <a:gd name="textAreaRight" fmla="*/ 600120 w 685800"/>
              <a:gd name="textAreaTop" fmla="*/ 50760 h 203040"/>
              <a:gd name="textAreaBottom" fmla="*/ 152280 h 203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8"/>
          <p:cNvSpPr/>
          <p:nvPr/>
        </p:nvSpPr>
        <p:spPr>
          <a:xfrm rot="669000">
            <a:off x="7759800" y="2831760"/>
            <a:ext cx="38088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9"/>
          <p:cNvSpPr/>
          <p:nvPr/>
        </p:nvSpPr>
        <p:spPr>
          <a:xfrm rot="669000">
            <a:off x="7683480" y="2997000"/>
            <a:ext cx="38088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20"/>
          <p:cNvSpPr/>
          <p:nvPr/>
        </p:nvSpPr>
        <p:spPr>
          <a:xfrm rot="4151400">
            <a:off x="7949520" y="3327480"/>
            <a:ext cx="685800" cy="2034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0760 h 203400"/>
              <a:gd name="textAreaBottom" fmla="*/ 152640 h 203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66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5943600" y="749160"/>
            <a:ext cx="1790640" cy="673200"/>
          </a:xfrm>
          <a:prstGeom prst="wedgeRoundRectCallout">
            <a:avLst>
              <a:gd name="adj1" fmla="val -57888"/>
              <a:gd name="adj2" fmla="val 77592"/>
              <a:gd name="adj3" fmla="val 16667"/>
            </a:avLst>
          </a:prstGeom>
          <a:solidFill>
            <a:srgbClr val="99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5838840" y="825480"/>
            <a:ext cx="1969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объявлен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вакуации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гио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3"/>
          <p:cNvSpPr/>
          <p:nvPr/>
        </p:nvSpPr>
        <p:spPr>
          <a:xfrm>
            <a:off x="6375240" y="4940280"/>
            <a:ext cx="2184480" cy="851040"/>
          </a:xfrm>
          <a:prstGeom prst="wedgeRoundRectCallout">
            <a:avLst>
              <a:gd name="adj1" fmla="val 34592"/>
              <a:gd name="adj2" fmla="val -219587"/>
              <a:gd name="adj3" fmla="val 16667"/>
            </a:avLst>
          </a:prstGeom>
          <a:solidFill>
            <a:srgbClr val="99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6354360" y="5079960"/>
            <a:ext cx="226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возникнове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посредствен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роз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4216320" y="2057400"/>
            <a:ext cx="88920" cy="927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424080" y="4203720"/>
            <a:ext cx="284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вакуация планируе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 всей ЗВКЗ, проводи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этап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ree"/>
          <p:cNvSpPr/>
          <p:nvPr/>
        </p:nvSpPr>
        <p:spPr>
          <a:xfrm>
            <a:off x="1066680" y="83808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ree"/>
          <p:cNvSpPr/>
          <p:nvPr/>
        </p:nvSpPr>
        <p:spPr>
          <a:xfrm>
            <a:off x="1752480" y="11430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ree"/>
          <p:cNvSpPr/>
          <p:nvPr/>
        </p:nvSpPr>
        <p:spPr>
          <a:xfrm>
            <a:off x="5638680" y="54864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4T08:07:38Z</dcterms:created>
  <dc:creator>Кузьмин Александр</dc:creator>
  <dc:description/>
  <dc:language>en-US</dc:language>
  <cp:lastModifiedBy>Admin</cp:lastModifiedBy>
  <dcterms:modified xsi:type="dcterms:W3CDTF">2012-05-07T17:28:23Z</dcterms:modified>
  <cp:revision>70</cp:revision>
  <dc:subject/>
  <dc:title>Презентация PowerPoint</dc:title>
</cp:coreProperties>
</file>