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4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31.wmf" ContentType="image/x-wmf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EDDC-79A6-400B-A74B-A661E3E325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../slides/slide31.xml"/><Relationship Id="rId8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званиеФоно-семантикаОриентация на кодированиеРитмич-ностьСр. длина словаДоля высоких звуковЦветовые ассоциацииЗолотое сечение1Шепот, робкое Зловещий, темныйЖесткаяВ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,2361,6%Черный - 11 Красный – 9Зеленый – 5Синий – 3Коричневый - 3Милого2Весна на двореЗначимых признаков нетСН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[2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1,9458,9%Зеленый  9Серый  3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иний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ает3Есть ночи зимней блескЗначимых признаков нетСНВ1,9664,1%Голубой –17Зеленый – 6Желтый – 4, серый – 3Безоблачных4Облаком волнистымЗначимых признаков нетСНВ1,8352,2Голубой – 19Черный – 6Красный, синий 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каче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тем господь могуч, непостижимМедлительныйСНВ1,9861,0  Голубой  16Черный 12Красный  8Зеленый 5Синий 4Мгновенный</a:t>
            </a:r>
            <a:br>
              <a:rPr sz="1000"/>
            </a:b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– высокая ритмичност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[2] СН – текст суггестивно-нейтральный№НазваниеФоно-семантикаОриентация на кодированиеРитмич-ностьСр. длина словаДоля высоких звуковЦветовые ассоциацииЗолотое сечение1Шепот, робкое Зловещий, темныйЖесткаяВ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,2361,6%Черный - 11 Красный – 9Зеленый – 5Синий – 3Коричневый - 3Милого2Весна на двореЗначимых признаков нетСН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[2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1,9458,9%Зеленый  9Серый  3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иний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ает3Есть ночи зимней блескЗначимых признаков нетСНВ1,9664,1%Голубой –17Зеленый – 6Желтый – 4, серый – 3Безоблачных4Облаком волнистымЗначимых признаков нетСНВ1,8352,2Голубой – 19Черный – 6Красный, синий 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каче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тем господь могуч, непостижимМедлительныйСНВ1,9861,0  Голубой  16Черный 12Красный  8Зеленый 5Синий 4Мгновенный</a:t>
            </a:r>
            <a:br>
              <a:rPr sz="1000"/>
            </a:b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– высокая ритмичност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[2] СН – текст суггестивно-нейтральн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05A-4370-4ACA-A7E3-CE13B970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6DE-A396-431A-A1B9-2B0BAA21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4C3-A0D7-4F30-9626-C6C1F94F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C8B-A80E-4266-B366-E687DF9E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C37-997E-43C5-8623-757C7833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EE5-6BEA-419C-8A44-1811A208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AC9-1F8B-467F-8736-86354CA2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E61-AA8A-405E-B0BB-1C2860C9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74E-4F3D-49A9-A279-A7E1651A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E16-D3B7-4BE5-8874-5B2DE51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D65-BF9C-4AF4-A655-43E423C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339-5C3D-4A10-BF00-1C668D3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18E3-30AC-4703-A5D6-4BCA67DC9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3960" y="549360"/>
            <a:ext cx="8420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фанасий Афанасьевич 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0960" y="1628640"/>
            <a:ext cx="3616560" cy="5064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924360" y="2060640"/>
            <a:ext cx="4645080" cy="21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т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80000" y="4653000"/>
            <a:ext cx="493236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1820-1892)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64000" y="1413000"/>
            <a:ext cx="37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21 апреля 1845г. Фет был приня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унтер-офице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в кавалерийский пол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307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0"/>
            <a:ext cx="7864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В 1850г. Выходит второй сборник стихов А.Фета, в который вошли оригинальные стихи, вызвавшие много споров, и переводы стихов немецких поэтов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2971800" cy="3581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80000" y="6021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Г. Гей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84880" y="609300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И.В. Г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0666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В 1853г. Фета переводят в гвардию. Гвардейский полк расквартирован вблизи Петербурга. Поэт знакомится с Н.А.Некрасовым, И.И.Панаевым, И.С.Тургеневым, А.В.Дружининым, В.П.Боткиным, И.А.Гончаровы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190760" cy="5111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И.С.Тургенев и Н.А.Некрасов редактировали 3-ий сборник стихов Фе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84320" y="1484280"/>
            <a:ext cx="4362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9996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В 1857г. А.А.Фет женился на Марии Петровне Боткиной , сестре своих друзей В.П.Боткина и С.П.Боткин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С.А.Толстая писала о не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«Это была женщина удивительно милая и симпатичная. Не будучи красивой, она была привлекательна своим добродушием и простотой. Характер у нее был прелестный. Мужа своего она очень</a:t>
            </a: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любила, ходила за ним, как нянька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685800"/>
            <a:ext cx="4419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В 1859г. произошел разрыв А.Фета с журналом «Современник» после резко критической статьи о фетовском переводе Шекспира. М.Е.Салтыков-Щедрин в 1863г.написал статью «Стихотворения А.А.Фе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6688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«Если при всей своей искренности, при всей легкости,с которой покоряет поэт сердца читателей, он все-таки должен довольствоваться долею второстепенного поэта, то причина этого заключается в том, что мир, поэтическому воспроизведению которого посвятил себя  г.Фет, довольно тесен, однообразен и ограничен.Для современного человека процесс любви  уже не представляет достаточного разнообразия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85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Д.И. Писарев ставит Фета рядом с Я.Полонским, Меем, Бенедиктовым, которых относит к поэтам «чистого искусства». Обращаясь к ним, Писарев писал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«Ведь нельзя, называя себя русским поэтом, не знать того, что наша эпоха занята интересами, идеями гораздо шире и поважнее ваших любовных похождений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60г. Фет осуществляет свою мечту и приобретает имение на юге Мценского уезда, а в 11877г. Покупает новое имение-Воробьевку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280" y="1484280"/>
            <a:ext cx="89647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11253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Рабочий каби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450864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Гостеприимный 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611960" cy="3387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9280" y="3068640"/>
            <a:ext cx="48243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9480"/>
            <a:ext cx="243828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фанасий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Фет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родился в Орловской губернии, недалеко от города Мценск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в родовом имении отца, Афанасия Неофитовича Шенш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84360" y="189000"/>
            <a:ext cx="65613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954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В последние годы жизни Фет был особенно дружен с Л.Н.Толст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1125360"/>
            <a:ext cx="60055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476280"/>
            <a:ext cx="46213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Последний сборник стихов Фета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«Вечерние огни» состоял из четырех выпусков. Первый вышел из печати в 1883г. Второй-в 1885г. Третий-в 1889г. Четвертый – за год до смерти, в 1891г. Редактором сборника был Владимир Сергеевич Соловьев, поэт-символист, сын философа Сергея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Соловьева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114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62120" y="1523880"/>
            <a:ext cx="77724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воеобразие лирики А.А.Фет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206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Encyclopedia"/>
              </a:rPr>
              <a:t>ИМПРЕССИОН</a:t>
            </a:r>
            <a:r>
              <a:rPr b="1" lang="ru-RU" sz="3200" spc="-1" strike="noStrike">
                <a:solidFill>
                  <a:srgbClr val="663300"/>
                </a:solidFill>
                <a:latin typeface="EncyclopediaAccented"/>
              </a:rPr>
              <a:t>И</a:t>
            </a:r>
            <a:r>
              <a:rPr b="1" lang="ru-RU" sz="3200" spc="-1" strike="noStrike">
                <a:solidFill>
                  <a:srgbClr val="663300"/>
                </a:solidFill>
                <a:latin typeface="Encyclopedia"/>
              </a:rPr>
              <a:t>ЗМ (от французского impression — впечатление), направление в искусстве последней трети 19 — начала 20 вв. Сложилось во французской живописи 1860-х — начала 70-х гг. (Э. Мане, К. Моне, Э. Дега, О. Ренуар, К. Писсарро, А. Сислей). Импрессионизм утверждал красоту повседневной действительности во всем богатстве ее красок и постоянной изменчивости, разработал законченную систему пленэра, добившись впечатления сверкающего солнечного света, вибрации световоздушной среды.</a:t>
            </a:r>
            <a:r>
              <a:rPr b="1" lang="ru-RU" sz="2400" spc="-1" strike="noStrike">
                <a:solidFill>
                  <a:srgbClr val="663300"/>
                </a:solidFill>
                <a:latin typeface="Encycloped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244440"/>
            <a:ext cx="8569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4259160" cy="284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914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«Завтрак в сад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43684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4487760" cy="299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66000" y="621360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«Вокзал Сен-Лаза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33520" y="3505320"/>
            <a:ext cx="3352680" cy="2747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04560" y="6289560"/>
            <a:ext cx="20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«Дама в сад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360" y="301320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Клод М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134136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Encyclopedia"/>
              </a:rPr>
              <a:t>Живописная система импрессионизма отличается разложением сложных тонов на чистые цвета, как бы смешивающиеся в глазу зрителя, богатством рефлексов и валеров, цветными тенями. Под влиянием импрессионизма развивалось творчество многих живописцев других стран (К.А. Коров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Encyclopedia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Encyclopedia"/>
              </a:rPr>
              <a:t>И.Э. Грабарь в России). В скульптуре импрессионизм наиболее ярко проявился в работах М. Россо в Италии, О. Родена во Франции, П.П. Трубецкого и А.С. Голубкиной в Росс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6000" y="54936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Констант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Коров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679480" cy="348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059280" y="189000"/>
            <a:ext cx="58924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4030560" cy="655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67080" y="164160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И. Граба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«Февральская лазур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404640"/>
            <a:ext cx="75740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Encyclopedia"/>
              </a:rPr>
              <a:t>В литературе черты импрессионистического стиля (предпочтение “впечатления” — непосредственного, мимолетного, изменчивого — как основного средства в передаче предмета, события, переживания) свойственны прозе братьев Ж. и Э. Гонкуров, К. Гамсуна, поэзи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Encyclopedia"/>
              </a:rPr>
              <a:t>И. Анненского и  К. Бальмон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69960" y="0"/>
            <a:ext cx="81691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Times New Roman"/>
              </a:rPr>
              <a:t>Афанасий Неофитович был военным, участвовал в войне с Наполеоном , ушел в отставку в звании ротмистра и стал служить на гражданском поприще ( избирался на должность мценского уездного предводителя дворянства)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23"/>
          <a:stretch/>
        </p:blipFill>
        <p:spPr>
          <a:xfrm>
            <a:off x="5292720" y="189000"/>
            <a:ext cx="3689280" cy="54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03640" y="5670720"/>
            <a:ext cx="39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БАЛЬМОН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онстантин Дмитриевич (1867 —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627440" cy="547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555480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ННЕНСКИЙ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ннокентий Федорович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(1855 — 19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981000"/>
          <a:ext cx="8916840" cy="4667040"/>
        </p:xfrm>
        <a:graphic>
          <a:graphicData uri="http://schemas.openxmlformats.org/drawingml/2006/table">
            <a:tbl>
              <a:tblPr/>
              <a:tblGrid>
                <a:gridCol w="279720"/>
                <a:gridCol w="1886760"/>
                <a:gridCol w="1523880"/>
                <a:gridCol w="1307160"/>
                <a:gridCol w="942840"/>
                <a:gridCol w="798480"/>
                <a:gridCol w="984240"/>
                <a:gridCol w="11937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Фоно-семан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риентация на код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итмич-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р. длина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оля высоких зву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олотое с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Шепот, роб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ловещий тем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Жест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1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л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есна на дв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8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Есть ночи зимней бле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4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обла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блаком волнис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е тем господь могуч, непостиж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дли-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гнов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5014800" y="60037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3320" y="5806080"/>
            <a:ext cx="35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– высокая ритмич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СН – текст суггестивно-нейтра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99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 ЗПН – значимых признаков 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821160" y="0"/>
            <a:ext cx="108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Monotype Corsiva"/>
              </a:rPr>
              <a:t>Анализ поэзии Фета средствами программы Диато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805360"/>
            <a:ext cx="2521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50920" y="1484280"/>
          <a:ext cx="8704080" cy="4719600"/>
        </p:xfrm>
        <a:graphic>
          <a:graphicData uri="http://schemas.openxmlformats.org/drawingml/2006/table">
            <a:tbl>
              <a:tblPr/>
              <a:tblGrid>
                <a:gridCol w="449280"/>
                <a:gridCol w="1423800"/>
                <a:gridCol w="1368360"/>
                <a:gridCol w="1366920"/>
                <a:gridCol w="1008000"/>
                <a:gridCol w="1009800"/>
                <a:gridCol w="1006560"/>
                <a:gridCol w="1071360"/>
              </a:tblGrid>
              <a:tr h="86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Фоно-семан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риентация на код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итмич-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р. длина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оля высоких зву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олотое с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Я  пришел к тебе с приве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ловещи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их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нЖК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3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рише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Alter 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1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ем свеж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ияла 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лы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но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Я  тебе ниче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ихи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ем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И 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л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ш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реет рож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0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ень объ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024520" y="49068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6308640"/>
            <a:ext cx="3017880" cy="9720"/>
          </a:xfrm>
          <a:prstGeom prst="rect">
            <a:avLst/>
          </a:prstGeom>
          <a:solidFill>
            <a:srgbClr val="000000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320" y="6308280"/>
            <a:ext cx="42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99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ОнЖК – ориентация на жесткое код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881640" y="250920"/>
            <a:ext cx="108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Monotype Corsiva"/>
              </a:rPr>
              <a:t>Анализ поэзии Фета средствами программы Диато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765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125360"/>
          <a:ext cx="8629560" cy="5324760"/>
        </p:xfrm>
        <a:graphic>
          <a:graphicData uri="http://schemas.openxmlformats.org/drawingml/2006/table">
            <a:tbl>
              <a:tblPr/>
              <a:tblGrid>
                <a:gridCol w="1657080"/>
                <a:gridCol w="1727280"/>
                <a:gridCol w="1656000"/>
                <a:gridCol w="1788840"/>
                <a:gridCol w="1800360"/>
              </a:tblGrid>
              <a:tr h="15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епот, робкое дыха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ияла 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есна на дв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реет рож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Есть ночи зимней бле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блаком волнис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Не тем господь могу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  пришел к тебе с приве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Alter 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  тебе ниче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1828800" cy="180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1873080" cy="18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564000" y="98100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219640" y="981000"/>
            <a:ext cx="197496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7020000" y="981000"/>
            <a:ext cx="195876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280" y="3573360"/>
            <a:ext cx="190512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1835280" y="3573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564000" y="3573360"/>
            <a:ext cx="183348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5219640" y="3573360"/>
            <a:ext cx="1981440" cy="1943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7020000" y="3573360"/>
            <a:ext cx="1958760" cy="194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71640" y="189000"/>
            <a:ext cx="714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Monotype Corsiva"/>
              </a:rPr>
              <a:t>Цветовые ассоциации поэзии А.А. Ф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45480" y="602136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Система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7621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5680" y="76212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Солнце встал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горячим све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по  лист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затрепет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960" y="2362320"/>
            <a:ext cx="350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Лес проснул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Каждой (веткой, птице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Весенней по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жажд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047600" y="0"/>
            <a:ext cx="112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Monotype Corsiva"/>
              </a:rPr>
              <a:t>Я пришел к тебе с приветом рассказать, чт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7840" y="3733920"/>
            <a:ext cx="274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 той же стра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уша сча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и т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лужить гот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30840" y="5257800"/>
            <a:ext cx="21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Отовсю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Весельем вее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Песня зр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06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29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628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35280" y="189000"/>
            <a:ext cx="57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Monotype Corsiva"/>
              </a:rPr>
              <a:t>Зреет рожь над жаркой нивой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762120"/>
          <a:ext cx="8839440" cy="4938480"/>
        </p:xfrm>
        <a:graphic>
          <a:graphicData uri="http://schemas.openxmlformats.org/drawingml/2006/table">
            <a:tbl>
              <a:tblPr/>
              <a:tblGrid>
                <a:gridCol w="460440"/>
                <a:gridCol w="1749600"/>
                <a:gridCol w="1565280"/>
                <a:gridCol w="2222280"/>
                <a:gridCol w="1263600"/>
                <a:gridCol w="1578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у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ла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ж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Ни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е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ерели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ре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он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рки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хотливы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олот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есяц, очи, день, ночь, область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бъ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мотри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инул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аскин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бк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иро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изум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тва, хлеб, закат, восток, миг, небо, ок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меж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Безбре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гнедыша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2400" y="0"/>
            <a:ext cx="83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Monotype Corsiva"/>
              </a:rPr>
              <a:t>Не тем, господь, могуч, непостижим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533520"/>
          <a:ext cx="8740800" cy="5975280"/>
        </p:xfrm>
        <a:graphic>
          <a:graphicData uri="http://schemas.openxmlformats.org/drawingml/2006/table">
            <a:tbl>
              <a:tblPr/>
              <a:tblGrid>
                <a:gridCol w="311400"/>
                <a:gridCol w="1876320"/>
                <a:gridCol w="1600200"/>
                <a:gridCol w="1905120"/>
                <a:gridCol w="1461960"/>
                <a:gridCol w="15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Существ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рила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ричаст</a:t>
                      </a: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дееприч</a:t>
                      </a: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есто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оспод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сознанье, день, серафим, шар, мирозда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заже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огуч, непостижим, звездный, светлый, громад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ятущим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ем, ты, моим, т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ертвец, лицо, законы, луч, пыл, столеть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овелел, блюсти, пробужд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жив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ылающим, хран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Он, твои, с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рудь, серафим, огонь, всел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нош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огуч , непостижим, бессильные мгновенный, сильней, ярч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ы, мне,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Добыча, суета, игралище, непостоянство, время, простр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Вечен, вездесущ,</a:t>
                      </a: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Я, её, мне, он, 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836640"/>
            <a:ext cx="8550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Мать Фета, в девичестве Шарлотта Беккер, принадлежала по рождению к немецкой зажиточной бюргерской семье. Шеншин был ее вторым мужем. До 1820г. жила в Дармштадте, в Герман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0255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038480" y="1143000"/>
            <a:ext cx="472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 доме отца Афанасий прожил до 14 лет. По совету В.А.Жуковского , друга отца, юношу отправили учиться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г. Вееро в пансион Крюммер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2" action="ppaction://hlinksldjump"/>
          </p:cNvPr>
          <p:cNvPicPr/>
          <p:nvPr/>
        </p:nvPicPr>
        <p:blipFill>
          <a:blip r:embed="rId3"/>
          <a:srcRect l="0" t="0" r="232" b="0"/>
          <a:stretch/>
        </p:blipFill>
        <p:spPr>
          <a:xfrm>
            <a:off x="152280" y="620640"/>
            <a:ext cx="3918240" cy="570384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00720" y="404640"/>
            <a:ext cx="4397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В 1837г. Афанасий Фет приезжает в Москву, учится в частном  пансионе Михаила Петровича Погодина, историка, журналиста, редактора журнала «Москвитянин». В доме Погодина жил тогда приехавший из-за границы Н. В. Гоголь. Именно ему показал Погодин тетрадь со стихами А.Фе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800600"/>
            <a:ext cx="357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Н.В. Гоголь сказал : «Это несомненное даровани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5200" y="189000"/>
            <a:ext cx="3752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2860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 1838г. по 1844г А.Фет учился на словесном факультете Московского университета. Однокурсниками и друзьями Афанасия Фета были будущие известные поэты Аполлон Григорьев, Яков Полонский, философ и историк Сергей Соловь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344760" cy="388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22880" y="2421000"/>
            <a:ext cx="30891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30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30040" y="616284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Аполлон Григорь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6172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Сергей Соловь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067280" y="620640"/>
            <a:ext cx="489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В 1840г. Вышел первый сборник стихов Афанасия Фе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«Лирический пантеон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В.Г.Белинский писал: «Из живущих в Москве поэтов всех даровитее Фет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733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260280"/>
            <a:ext cx="771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«Лирический пантеон»- книга во многом ученическая. В ней заметно влияние русских и западно-европейских поэтов: Пушкина, Жуковского, Гете, Шиллера, древнеримского поэта Горация.В сборнике предпочтение отдавалось двум жанрам: балладе и жанру антологических стихов(близких к античным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С середины 1842г. стихи Фета печатались в журналах «Москвитянин» и «Отечественные записки»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7:25:43Z</dcterms:created>
  <dc:creator>student4</dc:creator>
  <dc:description/>
  <dc:language>en-US</dc:language>
  <cp:lastModifiedBy>prepod</cp:lastModifiedBy>
  <dcterms:modified xsi:type="dcterms:W3CDTF">2010-12-11T12:16:17Z</dcterms:modified>
  <cp:revision>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c000000000001024140</vt:lpwstr>
  </property>
</Properties>
</file>