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F13C7-767E-4FE0-A13E-7B7D1530D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5523A-6313-4F82-9823-69394FF92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8CAB1-49F5-47AC-AD91-02CC9C215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95CC2-39A6-493A-B728-8DE82FB08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A2B88-3E42-4C1A-816C-8905AFBF9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4FE46-69F5-49FA-B331-18A7D2921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6A859-5519-40BB-9F76-E6EBA4949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B2667-D876-42A8-B234-3CFD002C8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29724-6F48-41E2-A119-A053644C0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04C3C-9AE5-4DA0-80EA-B6DB22E8D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81542-65E1-4E13-879D-7DF50B4E7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28AD7-CCE7-4B02-83F4-8039DB03C3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86A3A-8A21-4233-93EA-162D612E0E1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dic.academic.ru/pictures/enc_colier/arcocean.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786040"/>
            <a:ext cx="7772400" cy="350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Calibri"/>
              </a:rPr>
              <a:t>Северный Ледовитый океан</a:t>
            </a:r>
            <a:br>
              <a:rPr sz="4000"/>
            </a:br>
            <a:br>
              <a:rPr sz="4000"/>
            </a:br>
            <a:br>
              <a:rPr sz="4000"/>
            </a:br>
            <a:r>
              <a:rPr b="1" lang="ru-RU" sz="3200" spc="-1" strike="noStrike">
                <a:solidFill>
                  <a:srgbClr val="000000"/>
                </a:solidFill>
                <a:latin typeface="Calibri"/>
              </a:rPr>
              <a:t>Подготовили</a:t>
            </a:r>
            <a:br>
              <a:rPr sz="3200"/>
            </a:br>
            <a:r>
              <a:rPr b="1" lang="ru-RU" sz="3200" spc="-1" strike="noStrike">
                <a:solidFill>
                  <a:srgbClr val="000000"/>
                </a:solidFill>
                <a:latin typeface="Calibri"/>
              </a:rPr>
              <a:t>Евдокименко Анна</a:t>
            </a:r>
            <a:br>
              <a:rPr sz="3200"/>
            </a:br>
            <a:r>
              <a:rPr b="1" lang="ru-RU" sz="3200" spc="-1" strike="noStrike">
                <a:solidFill>
                  <a:srgbClr val="000000"/>
                </a:solidFill>
                <a:latin typeface="Calibri"/>
              </a:rPr>
              <a:t>Косенкова Алеся</a:t>
            </a:r>
            <a:br>
              <a:rPr sz="4000"/>
            </a:br>
            <a:br>
              <a:rPr sz="4000"/>
            </a:b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в Врангеля</a:t>
            </a:r>
            <a:endParaRPr b="0" lang="en-US" sz="4400" spc="-1" strike="noStrike">
              <a:solidFill>
                <a:srgbClr val="000000"/>
              </a:solidFill>
              <a:latin typeface="Calibri"/>
            </a:endParaRPr>
          </a:p>
        </p:txBody>
      </p:sp>
      <p:pic>
        <p:nvPicPr>
          <p:cNvPr id="58" name="Содержимое 3" descr="Ostrov_Vrangela.jpg"/>
          <p:cNvPicPr/>
          <p:nvPr/>
        </p:nvPicPr>
        <p:blipFill>
          <a:blip r:embed="rId1"/>
          <a:stretch/>
        </p:blipFill>
        <p:spPr>
          <a:xfrm>
            <a:off x="357120" y="1714680"/>
            <a:ext cx="8518680" cy="464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0" y="-360"/>
            <a:ext cx="9144000" cy="2428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1" lang="ru-RU" sz="2200" spc="-1" strike="noStrike">
                <a:solidFill>
                  <a:srgbClr val="000000"/>
                </a:solidFill>
                <a:latin typeface="Calibri"/>
              </a:rPr>
              <a:t>Рельеф дна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Северный Ледовитый океан принято делить на 3 обширные акватории: Арктический бассейн, включающий глубоководную центральную часть океана, Северо-Европейский бассейн (моря Гренландское, Норвежское, Баренцево и Белое) и моря, расположенные в пределах материковой отмели (Карское море, море Лаптевых, Восточно-Сибирское, Чукотское, Бофорта и Баффина), занимающие более 1/3 площади океана. </a:t>
            </a:r>
            <a:endParaRPr b="0" lang="en-US" sz="2200" spc="-1" strike="noStrike">
              <a:solidFill>
                <a:srgbClr val="000000"/>
              </a:solidFill>
              <a:latin typeface="Calibri"/>
            </a:endParaRPr>
          </a:p>
        </p:txBody>
      </p:sp>
      <p:pic>
        <p:nvPicPr>
          <p:cNvPr id="60" name="Picture 2" descr="D:\Документы\Курсачи, отчёты, лабы\гмо\ledovitiy1.jpg"/>
          <p:cNvPicPr/>
          <p:nvPr/>
        </p:nvPicPr>
        <p:blipFill>
          <a:blip r:embed="rId1"/>
          <a:stretch/>
        </p:blipFill>
        <p:spPr>
          <a:xfrm>
            <a:off x="1428840" y="2214720"/>
            <a:ext cx="6184800" cy="4643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0" y="0"/>
            <a:ext cx="9144000" cy="25718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Лёд</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Зимой 9/10 площади Северного Ледовитого океана покрыто дрейфующими льдами, преимущественно многолетними (толщина около 4,5 м), и припаем. В морях Баффина и Гренландском обычны айсберги. В Арктическом бассейне дрейфуют (по 6 и более лет) так называемые ледяные острова, образующиеся из шельфовых ледников Канадского Арктического архипелага; их толщина достигает 30—35 м, вследствие чего их удобно использовать для работы многолетних дрейфующих станций.</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2" name="Picture 2" descr="D:\Документы\Курсачи, отчёты, лабы\гмо\ledovitiy313.jpg"/>
          <p:cNvPicPr/>
          <p:nvPr/>
        </p:nvPicPr>
        <p:blipFill>
          <a:blip r:embed="rId1"/>
          <a:stretch/>
        </p:blipFill>
        <p:spPr>
          <a:xfrm>
            <a:off x="928800" y="2071800"/>
            <a:ext cx="7178400" cy="4786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0" y="-360"/>
            <a:ext cx="9144000" cy="34290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2000" spc="-1" strike="noStrike">
                <a:solidFill>
                  <a:srgbClr val="000000"/>
                </a:solidFill>
                <a:latin typeface="Calibri"/>
              </a:rPr>
              <a:t>       </a:t>
            </a:r>
            <a:r>
              <a:rPr b="1" lang="be-BY" sz="2000" spc="-1" strike="noStrike">
                <a:solidFill>
                  <a:srgbClr val="000000"/>
                </a:solidFill>
                <a:latin typeface="Calibri"/>
              </a:rPr>
              <a:t>Органический мир</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2000" spc="-1" strike="noStrike">
                <a:solidFill>
                  <a:srgbClr val="000000"/>
                </a:solidFill>
                <a:latin typeface="Calibri"/>
              </a:rPr>
              <a:t>        </a:t>
            </a:r>
            <a:r>
              <a:rPr b="0" lang="be-BY" sz="2000" spc="-1" strike="noStrike">
                <a:solidFill>
                  <a:srgbClr val="000000"/>
                </a:solidFill>
                <a:latin typeface="Calibri"/>
              </a:rPr>
              <a:t>Северный Ледовитый океан соответствует </a:t>
            </a:r>
            <a:r>
              <a:rPr b="1" lang="be-BY" sz="2000" spc="-1" strike="noStrike">
                <a:solidFill>
                  <a:srgbClr val="000000"/>
                </a:solidFill>
                <a:latin typeface="Calibri"/>
              </a:rPr>
              <a:t>Арктической биогеографической</a:t>
            </a:r>
            <a:r>
              <a:rPr b="0" lang="be-BY" sz="2000" spc="-1" strike="noStrike">
                <a:solidFill>
                  <a:srgbClr val="000000"/>
                </a:solidFill>
                <a:latin typeface="Calibri"/>
              </a:rPr>
              <a:t> области. </a:t>
            </a:r>
            <a:r>
              <a:rPr b="0" lang="ru-RU" sz="2000" spc="-1" strike="noStrike">
                <a:solidFill>
                  <a:srgbClr val="000000"/>
                </a:solidFill>
                <a:latin typeface="Calibri"/>
              </a:rPr>
              <a:t>Особенности органического мира.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уровые климатические условия определяют значительную бедность органического мира Северного Ледовитого океана как по видовому составу, так и по биомассе. По условиям жизни в океане резко различаются Арктический бассейн и окраинные моря, особенно те районы, в которые входят теплые воды. К таким морям относятся Белое, Баренцево, Норвежское и Гренландское, где биомасса вполне сопоставима с биомассой более южных морей. О</a:t>
            </a:r>
            <a:r>
              <a:rPr b="0" lang="be-BY" sz="2000" spc="-1" strike="noStrike">
                <a:solidFill>
                  <a:srgbClr val="000000"/>
                </a:solidFill>
                <a:latin typeface="Calibri"/>
              </a:rPr>
              <a:t>собенно беден органический мир </a:t>
            </a:r>
            <a:r>
              <a:rPr b="1" lang="be-BY" sz="2000" spc="-1" strike="noStrike">
                <a:solidFill>
                  <a:srgbClr val="000000"/>
                </a:solidFill>
                <a:latin typeface="Calibri"/>
              </a:rPr>
              <a:t>центральной части</a:t>
            </a:r>
            <a:r>
              <a:rPr b="0" lang="be-BY" sz="2000" spc="-1" strike="noStrike">
                <a:solidFill>
                  <a:srgbClr val="000000"/>
                </a:solidFill>
                <a:latin typeface="Calibri"/>
              </a:rPr>
              <a:t> Северного Ледовитого океана, включая море Бофорта, покрытое льдами весь год. </a:t>
            </a:r>
            <a:endParaRPr b="0" lang="en-US" sz="2000" spc="-1" strike="noStrike">
              <a:solidFill>
                <a:srgbClr val="000000"/>
              </a:solidFill>
              <a:latin typeface="Calibri"/>
            </a:endParaRPr>
          </a:p>
        </p:txBody>
      </p:sp>
      <p:pic>
        <p:nvPicPr>
          <p:cNvPr id="64" name="Picture 2" descr="D:\Документы\Курсачи, отчёты, лабы\гмо\giant-ocean-fish.jpg"/>
          <p:cNvPicPr/>
          <p:nvPr/>
        </p:nvPicPr>
        <p:blipFill>
          <a:blip r:embed="rId1"/>
          <a:stretch/>
        </p:blipFill>
        <p:spPr>
          <a:xfrm>
            <a:off x="1571760" y="2857680"/>
            <a:ext cx="6000480" cy="4000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0" y="-360"/>
            <a:ext cx="9144000" cy="27860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На периферии океана, особенно в более теплых водах, распространены более 150 видов рыб. Из промысловых рыб наиболее значимы треска, лосось, палтус, пикша. Семейства скорпеновых и сельдевых представлены морским окунем и океанической сельдью.</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Такие рыбы, как сайда, бельдюговые, не имеют большого промыслового значения, но являются важнейшим пищевым ресурсом для различных животных, в том числе и промысловых млекопитающих — нерпа и белуха.</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6" name="Picture 2" descr="D:\Документы\Курсачи, отчёты, лабы\гмо\northern-lights-f.jpg"/>
          <p:cNvPicPr/>
          <p:nvPr/>
        </p:nvPicPr>
        <p:blipFill>
          <a:blip r:embed="rId1"/>
          <a:stretch/>
        </p:blipFill>
        <p:spPr>
          <a:xfrm>
            <a:off x="642960" y="2357280"/>
            <a:ext cx="542916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0" y="-360"/>
            <a:ext cx="9144000" cy="15001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Из млекопитающих также широко распространены тюлень, морж, нарвал. Лежбища моржей находятся на галечных пляжах побережий материка и островов. Представителем фауны океана следует считать также белого медведя, жизнь которого связана главным образом с дрейфующими и припайными льдами.</a:t>
            </a:r>
            <a:endParaRPr b="0" lang="en-US" sz="2200" spc="-1" strike="noStrike">
              <a:solidFill>
                <a:srgbClr val="000000"/>
              </a:solidFill>
              <a:latin typeface="Calibri"/>
            </a:endParaRPr>
          </a:p>
        </p:txBody>
      </p:sp>
      <p:pic>
        <p:nvPicPr>
          <p:cNvPr id="68" name="Picture 2" descr="D:\Документы\Курсачи, отчёты, лабы\гмо\0_1d5ff_bae53d8a_XL.jpg"/>
          <p:cNvPicPr/>
          <p:nvPr/>
        </p:nvPicPr>
        <p:blipFill>
          <a:blip r:embed="rId1"/>
          <a:stretch/>
        </p:blipFill>
        <p:spPr>
          <a:xfrm>
            <a:off x="571680" y="1527120"/>
            <a:ext cx="8001000" cy="533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Содержимое 3" descr="233_big.jpg"/>
          <p:cNvPicPr/>
          <p:nvPr/>
        </p:nvPicPr>
        <p:blipFill>
          <a:blip r:embed="rId1"/>
          <a:stretch/>
        </p:blipFill>
        <p:spPr>
          <a:xfrm>
            <a:off x="642960" y="0"/>
            <a:ext cx="764388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Содержимое 3" descr="2d7dc51a5075.jpg"/>
          <p:cNvPicPr/>
          <p:nvPr/>
        </p:nvPicPr>
        <p:blipFill>
          <a:blip r:embed="rId1"/>
          <a:stretch/>
        </p:blipFill>
        <p:spPr>
          <a:xfrm>
            <a:off x="0" y="285840"/>
            <a:ext cx="9144000" cy="6100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Содержимое 3" descr="06397c83.jpg"/>
          <p:cNvPicPr/>
          <p:nvPr/>
        </p:nvPicPr>
        <p:blipFill>
          <a:blip r:embed="rId1"/>
          <a:stretch/>
        </p:blipFill>
        <p:spPr>
          <a:xfrm>
            <a:off x="0" y="214200"/>
            <a:ext cx="9144000" cy="620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Содержимое 3" descr="m6.jpg"/>
          <p:cNvPicPr/>
          <p:nvPr/>
        </p:nvPicPr>
        <p:blipFill>
          <a:blip r:embed="rId1"/>
          <a:stretch/>
        </p:blipFill>
        <p:spPr>
          <a:xfrm>
            <a:off x="0" y="357120"/>
            <a:ext cx="9148680" cy="628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0" y="213840"/>
            <a:ext cx="9144000" cy="21430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Calibri"/>
              </a:rPr>
              <a:t>    </a:t>
            </a:r>
            <a:r>
              <a:rPr b="1" lang="ru-RU" sz="2500" spc="-1" strike="noStrike">
                <a:solidFill>
                  <a:srgbClr val="000000"/>
                </a:solidFill>
                <a:latin typeface="Calibri"/>
              </a:rPr>
              <a:t>Се́верный Ледови́тый океа́н</a:t>
            </a:r>
            <a:r>
              <a:rPr b="0" lang="ru-RU" sz="2500" spc="-1" strike="noStrike">
                <a:solidFill>
                  <a:srgbClr val="000000"/>
                </a:solidFill>
                <a:latin typeface="Calibri"/>
              </a:rPr>
              <a:t> — наименьший по площади океан Земли, расположен между Евразией и Северной Америкой.</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Площадь 14,75 млн. км</a:t>
            </a:r>
            <a:r>
              <a:rPr b="0" lang="ru-RU" sz="2500" spc="-1" strike="noStrike" baseline="30000">
                <a:solidFill>
                  <a:srgbClr val="000000"/>
                </a:solidFill>
                <a:latin typeface="Calibri"/>
              </a:rPr>
              <a:t>2</a:t>
            </a:r>
            <a:r>
              <a:rPr b="1" lang="ru-RU" sz="2500" spc="-1" strike="noStrike">
                <a:solidFill>
                  <a:srgbClr val="000000"/>
                </a:solidFill>
                <a:latin typeface="Calibri"/>
              </a:rPr>
              <a:t> </a:t>
            </a:r>
            <a:r>
              <a:rPr b="0" lang="ru-RU" sz="2500" spc="-1" strike="noStrike">
                <a:solidFill>
                  <a:srgbClr val="000000"/>
                </a:solidFill>
                <a:latin typeface="Calibri"/>
              </a:rPr>
              <a:t>, средняя глубина 1225 м, наибольшая глубина 5527 м в </a:t>
            </a:r>
            <a:r>
              <a:rPr b="0" lang="ru-RU" sz="2500" spc="-1" strike="noStrike">
                <a:solidFill>
                  <a:srgbClr val="0d0d0d"/>
                </a:solidFill>
                <a:latin typeface="Calibri"/>
              </a:rPr>
              <a:t>Гренландском море. </a:t>
            </a:r>
            <a:r>
              <a:rPr b="0" lang="ru-RU" sz="2500" spc="-1" strike="noStrike">
                <a:solidFill>
                  <a:srgbClr val="000000"/>
                </a:solidFill>
                <a:latin typeface="Calibri"/>
              </a:rPr>
              <a:t>Объём воды 18,07 млн. км³.</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43" name="Picture 2" descr="D:\Документы\Курсачи, отчёты, лабы\гмо\image2.jpg"/>
          <p:cNvPicPr/>
          <p:nvPr/>
        </p:nvPicPr>
        <p:blipFill>
          <a:blip r:embed="rId1"/>
          <a:stretch/>
        </p:blipFill>
        <p:spPr>
          <a:xfrm>
            <a:off x="1571760" y="2214720"/>
            <a:ext cx="5905440" cy="4429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0" y="0"/>
            <a:ext cx="9144000" cy="22860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С обилием морской жизни в Арктике, особенно в Субарктике, связано исключительно большое количество птиц. Птицы питаются рыбой, моллюсками, рачками, насекомыми. Кайры, топорики, чайки, глупыши, тупики, гаги, люрики, чистики, бакланы образуют на малодоступных скалистых берегах массовые гнездовья, так называемые птичьи базары. </a:t>
            </a:r>
            <a:endParaRPr b="0" lang="en-US" sz="2500" spc="-1" strike="noStrike">
              <a:solidFill>
                <a:srgbClr val="000000"/>
              </a:solidFill>
              <a:latin typeface="Calibri"/>
            </a:endParaRPr>
          </a:p>
        </p:txBody>
      </p:sp>
      <p:pic>
        <p:nvPicPr>
          <p:cNvPr id="74" name="Picture 2" descr="D:\Документы\Курсачи, отчёты, лабы\гмо\__1_~1.JPG"/>
          <p:cNvPicPr/>
          <p:nvPr/>
        </p:nvPicPr>
        <p:blipFill>
          <a:blip r:embed="rId1"/>
          <a:stretch/>
        </p:blipFill>
        <p:spPr>
          <a:xfrm>
            <a:off x="857160" y="1857240"/>
            <a:ext cx="7510680" cy="500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Тупики</a:t>
            </a:r>
            <a:endParaRPr b="0" lang="en-US" sz="4400" spc="-1" strike="noStrike">
              <a:solidFill>
                <a:srgbClr val="000000"/>
              </a:solidFill>
              <a:latin typeface="Calibri"/>
            </a:endParaRPr>
          </a:p>
        </p:txBody>
      </p:sp>
      <p:pic>
        <p:nvPicPr>
          <p:cNvPr id="76" name="Содержимое 5" descr="bebf8a6c2ef98914fdce6a7b8f89aea9.jpg"/>
          <p:cNvPicPr/>
          <p:nvPr/>
        </p:nvPicPr>
        <p:blipFill>
          <a:blip r:embed="rId1"/>
          <a:stretch/>
        </p:blipFill>
        <p:spPr>
          <a:xfrm>
            <a:off x="428760" y="1347840"/>
            <a:ext cx="8286480" cy="5510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Чистик</a:t>
            </a:r>
            <a:endParaRPr b="0" lang="en-US" sz="4400" spc="-1" strike="noStrike">
              <a:solidFill>
                <a:srgbClr val="000000"/>
              </a:solidFill>
              <a:latin typeface="Calibri"/>
            </a:endParaRPr>
          </a:p>
        </p:txBody>
      </p:sp>
      <p:pic>
        <p:nvPicPr>
          <p:cNvPr id="78" name="Содержимое 3" descr="32.jpg"/>
          <p:cNvPicPr/>
          <p:nvPr/>
        </p:nvPicPr>
        <p:blipFill>
          <a:blip r:embed="rId1"/>
          <a:stretch/>
        </p:blipFill>
        <p:spPr>
          <a:xfrm>
            <a:off x="1500120" y="1162080"/>
            <a:ext cx="6286680" cy="569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Люрики</a:t>
            </a:r>
            <a:endParaRPr b="0" lang="en-US" sz="4400" spc="-1" strike="noStrike">
              <a:solidFill>
                <a:srgbClr val="000000"/>
              </a:solidFill>
              <a:latin typeface="Calibri"/>
            </a:endParaRPr>
          </a:p>
        </p:txBody>
      </p:sp>
      <p:pic>
        <p:nvPicPr>
          <p:cNvPr id="80" name="Содержимое 3" descr="2036842 люрик.jpg"/>
          <p:cNvPicPr/>
          <p:nvPr/>
        </p:nvPicPr>
        <p:blipFill>
          <a:blip r:embed="rId1"/>
          <a:stretch/>
        </p:blipFill>
        <p:spPr>
          <a:xfrm>
            <a:off x="0" y="1500120"/>
            <a:ext cx="9134640" cy="4872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60" y="0"/>
            <a:ext cx="6000840" cy="68580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Несмотря на небольшое богатство органической жизни, для Северного Ледовитого океана характерно явление гигантизма некоторых форм. Так, в водах океана обитает самая большая медуза — цианея, которая в поперечнике достигает 2 м, длина ее щупалец несколько десятков метров. Встречается крупнейшая офиура — "голова Горгоны". Известны также гигантские: одиночный восьмилучевой коралл умбеллула, морской паук. Многие морские организмы Арктики отличаются долголетием. В холодных арктических водах все жизненные процессы протекают замедленно. Поэтому, например, мидии в Черном море редко доживают до 5—6 лет, а в Баренцевом море их возраст может составлять 25 лет. </a:t>
            </a:r>
            <a:endParaRPr b="0" lang="en-US" sz="2500" spc="-1" strike="noStrike">
              <a:solidFill>
                <a:srgbClr val="000000"/>
              </a:solidFill>
              <a:latin typeface="Calibri"/>
            </a:endParaRPr>
          </a:p>
        </p:txBody>
      </p:sp>
      <p:pic>
        <p:nvPicPr>
          <p:cNvPr id="82" name="Picture 2" descr="D:\Документы\Курсачи, отчёты, лабы\гмо\img001.jpg"/>
          <p:cNvPicPr/>
          <p:nvPr/>
        </p:nvPicPr>
        <p:blipFill>
          <a:blip r:embed="rId1"/>
          <a:stretch/>
        </p:blipFill>
        <p:spPr>
          <a:xfrm>
            <a:off x="5962680" y="0"/>
            <a:ext cx="3181320" cy="4572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3828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Медуза цианея</a:t>
            </a:r>
            <a:endParaRPr b="0" lang="en-US" sz="4000" spc="-1" strike="noStrike">
              <a:solidFill>
                <a:srgbClr val="000000"/>
              </a:solidFill>
              <a:latin typeface="Calibri"/>
            </a:endParaRPr>
          </a:p>
        </p:txBody>
      </p:sp>
      <p:pic>
        <p:nvPicPr>
          <p:cNvPr id="84" name="Содержимое 3" descr="3081451429_b4b832e974.jpg"/>
          <p:cNvPicPr/>
          <p:nvPr/>
        </p:nvPicPr>
        <p:blipFill>
          <a:blip r:embed="rId1"/>
          <a:stretch/>
        </p:blipFill>
        <p:spPr>
          <a:xfrm>
            <a:off x="4500720" y="0"/>
            <a:ext cx="4643280" cy="6889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0" y="-360"/>
            <a:ext cx="9144000" cy="12142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Хозяйственное использование ресурсов Северного Ледовитого океана заключается не только в вылове рыбы и морских животных. Также через этот океан проходит северный морской путь вдоль побережья России и Канады.  Ведётся добыча нефти и природного газа.</a:t>
            </a:r>
            <a:endParaRPr b="0" lang="en-US" sz="2200" spc="-1" strike="noStrike">
              <a:solidFill>
                <a:srgbClr val="000000"/>
              </a:solidFill>
              <a:latin typeface="Calibri"/>
            </a:endParaRPr>
          </a:p>
        </p:txBody>
      </p:sp>
      <p:pic>
        <p:nvPicPr>
          <p:cNvPr id="86" name="Picture 2" descr="D:\Документы\Курсачи, отчёты, лабы\гмо\healyвоенный ледокол сша.jpg"/>
          <p:cNvPicPr/>
          <p:nvPr/>
        </p:nvPicPr>
        <p:blipFill>
          <a:blip r:embed="rId1"/>
          <a:stretch/>
        </p:blipFill>
        <p:spPr>
          <a:xfrm>
            <a:off x="0" y="3214800"/>
            <a:ext cx="5478480" cy="3643200"/>
          </a:xfrm>
          <a:prstGeom prst="rect">
            <a:avLst/>
          </a:prstGeom>
          <a:ln w="0">
            <a:noFill/>
          </a:ln>
        </p:spPr>
      </p:pic>
      <p:pic>
        <p:nvPicPr>
          <p:cNvPr id="87" name="Picture 3" descr="D:\Документы\Курсачи, отчёты, лабы\гмо\image003_2.jpg"/>
          <p:cNvPicPr/>
          <p:nvPr/>
        </p:nvPicPr>
        <p:blipFill>
          <a:blip r:embed="rId2"/>
          <a:stretch/>
        </p:blipFill>
        <p:spPr>
          <a:xfrm>
            <a:off x="4000680" y="1285920"/>
            <a:ext cx="5143320" cy="3857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Содержимое 3" descr="image_30366_thumbnail.jpg"/>
          <p:cNvPicPr/>
          <p:nvPr/>
        </p:nvPicPr>
        <p:blipFill>
          <a:blip r:embed="rId1"/>
          <a:stretch/>
        </p:blipFill>
        <p:spPr>
          <a:xfrm>
            <a:off x="1500120" y="0"/>
            <a:ext cx="61722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Содержимое 3" descr="Карта Северного Ледовитого океана">
            <a:hlinkClick r:id="rId1"/>
          </p:cNvPr>
          <p:cNvPicPr/>
          <p:nvPr/>
        </p:nvPicPr>
        <p:blipFill>
          <a:blip r:embed="rId2"/>
          <a:stretch/>
        </p:blipFill>
        <p:spPr>
          <a:xfrm>
            <a:off x="1785960" y="0"/>
            <a:ext cx="542916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0" y="-360"/>
            <a:ext cx="9144000" cy="2428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амая северная и наименее изученная часть Мирового океана. Почти вся его акватория, целиком расположенная к северу от Полярного круга, большую часть года покрыта льдом и потому непривлекательна для моряков и рыбаков. Своеобразие Северного Ледовитого океана состоит и в том, что он почти со всех сторон окружен массивами суши - Северной Америкой и Евразией. Этот океан имеет большое стратегическое значение, поскольку через него пролегает кратчайший путь из Северной Америки в Россию; именно поэтому в период после Второй мировой войны Арктика стала ареной интенсивных исследований в рамках научных и военных программ.</a:t>
            </a:r>
            <a:endParaRPr b="0" lang="en-US" sz="2000" spc="-1" strike="noStrike">
              <a:solidFill>
                <a:srgbClr val="000000"/>
              </a:solidFill>
              <a:latin typeface="Calibri"/>
            </a:endParaRPr>
          </a:p>
        </p:txBody>
      </p:sp>
      <p:pic>
        <p:nvPicPr>
          <p:cNvPr id="46" name="Picture 2" descr="D:\Документы\Курсачи, отчёты, лабы\гмо\6a00d8341bf7f753ef0120a6a65dab970c-800wi.jpg"/>
          <p:cNvPicPr/>
          <p:nvPr/>
        </p:nvPicPr>
        <p:blipFill>
          <a:blip r:embed="rId1"/>
          <a:stretch/>
        </p:blipFill>
        <p:spPr>
          <a:xfrm>
            <a:off x="1000080" y="2260440"/>
            <a:ext cx="7215120" cy="459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0" y="-360"/>
            <a:ext cx="9144000" cy="25002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       </a:t>
            </a:r>
            <a:r>
              <a:rPr b="1" lang="ru-RU" sz="2200" spc="-1" strike="noStrike">
                <a:solidFill>
                  <a:srgbClr val="000000"/>
                </a:solidFill>
                <a:latin typeface="Calibri"/>
              </a:rPr>
              <a:t>Побережье</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Берега на западе Евразии преимущественно высокие, фьордные, на востоке — дельтовидные и лагунные, в Канадском Арктическом архипелаге — преимущественно низкие, ровные. Берега Евразии омывают моря: Норвежское, Баренцево, Белое, Карское, Лаптевых, Восточно-Сибирское и Чукотское; Северной Америки — Гренландское, Бофорта, Баффина, Гудзонов залив, заливы и проливы Канадского Арктического архипелага.</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8" name="Picture 2" descr="D:\Документы\Курсачи, отчёты, лабы\гмо\186938697.jpg"/>
          <p:cNvPicPr/>
          <p:nvPr/>
        </p:nvPicPr>
        <p:blipFill>
          <a:blip r:embed="rId1"/>
          <a:stretch/>
        </p:blipFill>
        <p:spPr>
          <a:xfrm>
            <a:off x="714240" y="2486160"/>
            <a:ext cx="7715520" cy="437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Дельта Лены</a:t>
            </a:r>
            <a:endParaRPr b="0" lang="en-US" sz="4400" spc="-1" strike="noStrike">
              <a:solidFill>
                <a:srgbClr val="000000"/>
              </a:solidFill>
              <a:latin typeface="Calibri"/>
            </a:endParaRPr>
          </a:p>
        </p:txBody>
      </p:sp>
      <p:pic>
        <p:nvPicPr>
          <p:cNvPr id="50" name="Содержимое 3" descr="lena_hires лена.jpg"/>
          <p:cNvPicPr/>
          <p:nvPr/>
        </p:nvPicPr>
        <p:blipFill>
          <a:blip r:embed="rId1"/>
          <a:stretch/>
        </p:blipFill>
        <p:spPr>
          <a:xfrm>
            <a:off x="1928880" y="1428840"/>
            <a:ext cx="5286240" cy="528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0" y="0"/>
            <a:ext cx="9144000" cy="23572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Calibri"/>
              </a:rPr>
              <a:t>      </a:t>
            </a:r>
            <a:r>
              <a:rPr b="1" lang="ru-RU" sz="2500" spc="-1" strike="noStrike">
                <a:solidFill>
                  <a:srgbClr val="000000"/>
                </a:solidFill>
                <a:latin typeface="Calibri"/>
              </a:rPr>
              <a:t>Острова</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По количеству островов Северный Ледовитый океан занимает второе место после Тихого океана. Крупнейшие острова и архипелаги материкового происхождения: Канадский Арктический архипелаг, Бафинова Земля, Гренландия, Шпицберген, Земля Франца-Иосифа, Новая Земля, Северная Земля, Новосибирские острова, остров Врангеля.</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52" name="Picture 3" descr="D:\Документы\Курсачи, отчёты, лабы\гмо\big_np_196.jpg"/>
          <p:cNvPicPr/>
          <p:nvPr/>
        </p:nvPicPr>
        <p:blipFill>
          <a:blip r:embed="rId1"/>
          <a:stretch/>
        </p:blipFill>
        <p:spPr>
          <a:xfrm>
            <a:off x="1571760" y="2286000"/>
            <a:ext cx="578628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ва Шпицберген</a:t>
            </a:r>
            <a:endParaRPr b="0" lang="en-US" sz="4400" spc="-1" strike="noStrike">
              <a:solidFill>
                <a:srgbClr val="000000"/>
              </a:solidFill>
              <a:latin typeface="Calibri"/>
            </a:endParaRPr>
          </a:p>
        </p:txBody>
      </p:sp>
      <p:pic>
        <p:nvPicPr>
          <p:cNvPr id="54" name="Содержимое 3" descr="1253299268_6179249.jpg"/>
          <p:cNvPicPr/>
          <p:nvPr/>
        </p:nvPicPr>
        <p:blipFill>
          <a:blip r:embed="rId1"/>
          <a:stretch/>
        </p:blipFill>
        <p:spPr>
          <a:xfrm>
            <a:off x="1000080" y="1214280"/>
            <a:ext cx="7238880" cy="5429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Новосибирские о-ва</a:t>
            </a:r>
            <a:endParaRPr b="0" lang="en-US" sz="4400" spc="-1" strike="noStrike">
              <a:solidFill>
                <a:srgbClr val="000000"/>
              </a:solidFill>
              <a:latin typeface="Calibri"/>
            </a:endParaRPr>
          </a:p>
        </p:txBody>
      </p:sp>
      <p:pic>
        <p:nvPicPr>
          <p:cNvPr id="56" name="Содержимое 3" descr="new-siberian-islands1.jpg"/>
          <p:cNvPicPr/>
          <p:nvPr/>
        </p:nvPicPr>
        <p:blipFill>
          <a:blip r:embed="rId1"/>
          <a:stretch/>
        </p:blipFill>
        <p:spPr>
          <a:xfrm>
            <a:off x="642960" y="1500120"/>
            <a:ext cx="7786800" cy="511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7T16:03:42Z</dcterms:created>
  <dc:creator>Анютка</dc:creator>
  <dc:description/>
  <dc:language>en-US</dc:language>
  <cp:lastModifiedBy>Анютка</cp:lastModifiedBy>
  <dcterms:modified xsi:type="dcterms:W3CDTF">2010-12-07T17:34:10Z</dcterms:modified>
  <cp:revision>10</cp:revision>
  <dc:subject/>
  <dc:title>Северный Ледовитый океан   Подготовили Евдокименко Анна Косенкова Алеся</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Документ</vt:lpwstr>
  </property>
</Properties>
</file>